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221-CEDF-4653-BD6A-AEA8FCF8DA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314D-86B8-4346-B606-1305B63EB8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967-505F-4D15-96E3-367EE826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DBE-AE62-4318-B99A-FED03D4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B92-6A02-4524-A2FD-0D905EE6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613-3F58-4DB8-AA3E-DFEF0564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51B-6ECC-44DA-BC2E-E4A2D1B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0C0-93D7-4991-928A-EA16357B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BC6-6737-46C8-AAEE-8F26BDE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F40-CE25-4FD3-9140-1BACB66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801-47AC-47B9-AF3D-1BD9765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F84-9C67-4E09-862C-C4FC0B2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327-A8FA-4BB0-B21E-78285F4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F7D-5936-42B5-B782-B11B639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F35-8A8E-49E8-A767-F2D2CAB7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1019142_182300259186_2.jpg"/>
          <p:cNvPicPr/>
          <p:nvPr/>
        </p:nvPicPr>
        <p:blipFill>
          <a:blip r:embed="rId1"/>
          <a:stretch/>
        </p:blipFill>
        <p:spPr>
          <a:xfrm>
            <a:off x="285840" y="285840"/>
            <a:ext cx="414648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4190714_095334279166_2.jpg"/>
          <p:cNvPicPr/>
          <p:nvPr/>
        </p:nvPicPr>
        <p:blipFill>
          <a:blip r:embed="rId2"/>
          <a:stretch/>
        </p:blipFill>
        <p:spPr>
          <a:xfrm>
            <a:off x="4572000" y="4071960"/>
            <a:ext cx="42750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8371256_192140331002_2.jpg"/>
          <p:cNvPicPr/>
          <p:nvPr/>
        </p:nvPicPr>
        <p:blipFill>
          <a:blip r:embed="rId3"/>
          <a:stretch/>
        </p:blipFill>
        <p:spPr>
          <a:xfrm>
            <a:off x="500040" y="4286160"/>
            <a:ext cx="29764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u=835276217,1392444100&amp;fm=21&amp;gp=0.jpg"/>
          <p:cNvPicPr/>
          <p:nvPr/>
        </p:nvPicPr>
        <p:blipFill>
          <a:blip r:embed="rId4"/>
          <a:stretch/>
        </p:blipFill>
        <p:spPr>
          <a:xfrm>
            <a:off x="6000840" y="428760"/>
            <a:ext cx="2786040" cy="2211120"/>
          </a:xfrm>
          <a:prstGeom prst="rect">
            <a:avLst/>
          </a:prstGeom>
          <a:ln w="0">
            <a:noFill/>
          </a:ln>
        </p:spPr>
      </p:pic>
      <p:pic>
        <p:nvPicPr>
          <p:cNvPr id="52" name="矩形 7" descr=""/>
          <p:cNvPicPr/>
          <p:nvPr/>
        </p:nvPicPr>
        <p:blipFill>
          <a:blip r:embed="rId5"/>
          <a:stretch/>
        </p:blipFill>
        <p:spPr>
          <a:xfrm>
            <a:off x="927000" y="3144960"/>
            <a:ext cx="71438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520800" y="333000"/>
            <a:ext cx="13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第一种方案乘坐上等车的概率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786760" y="25948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种方案乘坐上等车的概率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76360" y="492840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采用第二种方案乘坐上等车的可能性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4140360" y="1270080"/>
                <a:ext cx="1062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4157640" y="3357720"/>
                <a:ext cx="1062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611280" y="5954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书店第一季度的营业额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元，第二季度的营业额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元。第二季度的营业额比第一季度增长了百分之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340000" y="28782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11280" y="2165400"/>
            <a:ext cx="62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季度的营业额比第一季度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43240" y="3621240"/>
            <a:ext cx="41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÷15×10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3560" y="45878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第二季度的营业额比第一季度增长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307800" y="260280"/>
            <a:ext cx="850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河南省郑州市至山东省菏泽市国道线长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km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一辆大巴车上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从郑州市出发，开往菏泽市，行驶的时间和路程如下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2200" y="2133720"/>
          <a:ext cx="8626680" cy="977760"/>
        </p:xfrm>
        <a:graphic>
          <a:graphicData uri="http://schemas.openxmlformats.org/drawingml/2006/table">
            <a:tbl>
              <a:tblPr/>
              <a:tblGrid>
                <a:gridCol w="1917720"/>
                <a:gridCol w="1343160"/>
                <a:gridCol w="1341360"/>
                <a:gridCol w="1341360"/>
                <a:gridCol w="1341360"/>
                <a:gridCol w="1341720"/>
              </a:tblGrid>
              <a:tr h="488880"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0600" rIns="120600" tIns="60120" bIns="60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0600" marR="120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矩形 2"/>
          <p:cNvSpPr/>
          <p:nvPr/>
        </p:nvSpPr>
        <p:spPr>
          <a:xfrm>
            <a:off x="395280" y="21448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间（时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路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125280" y="3933720"/>
            <a:ext cx="88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把表中所对应的点描在方格纸上，再顺次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1"/>
          <p:cNvSpPr/>
          <p:nvPr/>
        </p:nvSpPr>
        <p:spPr>
          <a:xfrm>
            <a:off x="57240" y="4849920"/>
            <a:ext cx="88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图像估计大巴车到达菏泽市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291960" y="4683240"/>
            <a:ext cx="88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根据图像估计大巴车到达菏泽市的时间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237960" y="4070520"/>
            <a:ext cx="52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图所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79640" y="1047600"/>
          <a:ext cx="6095880" cy="18543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组合 6"/>
          <p:cNvGrpSpPr/>
          <p:nvPr/>
        </p:nvGrpSpPr>
        <p:grpSpPr>
          <a:xfrm>
            <a:off x="-181080" y="374760"/>
            <a:ext cx="9396360" cy="3051720"/>
            <a:chOff x="-181080" y="374760"/>
            <a:chExt cx="9396360" cy="3051720"/>
          </a:xfrm>
        </p:grpSpPr>
        <p:sp>
          <p:nvSpPr>
            <p:cNvPr id="130" name="矩形 7"/>
            <p:cNvSpPr/>
            <p:nvPr/>
          </p:nvSpPr>
          <p:spPr>
            <a:xfrm>
              <a:off x="-181080" y="811440"/>
              <a:ext cx="1475640" cy="22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8"/>
            <p:cNvSpPr/>
            <p:nvPr/>
          </p:nvSpPr>
          <p:spPr>
            <a:xfrm>
              <a:off x="2014560" y="2905920"/>
              <a:ext cx="72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间（时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直接箭头连接符 9"/>
            <p:cNvCxnSpPr/>
            <p:nvPr/>
          </p:nvCxnSpPr>
          <p:spPr>
            <a:xfrm flipV="1">
              <a:off x="1077480" y="825120"/>
              <a:ext cx="1080" cy="218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3" name="直接箭头连接符 10"/>
            <p:cNvCxnSpPr/>
            <p:nvPr/>
          </p:nvCxnSpPr>
          <p:spPr>
            <a:xfrm>
              <a:off x="7054560" y="2904840"/>
              <a:ext cx="361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4" name="矩形 11"/>
            <p:cNvSpPr/>
            <p:nvPr/>
          </p:nvSpPr>
          <p:spPr>
            <a:xfrm>
              <a:off x="174240" y="374760"/>
              <a:ext cx="19486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路程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12"/>
          <p:cNvSpPr/>
          <p:nvPr/>
        </p:nvSpPr>
        <p:spPr>
          <a:xfrm>
            <a:off x="2158920" y="2050920"/>
            <a:ext cx="3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382920" y="1690560"/>
            <a:ext cx="3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4606920" y="1393920"/>
            <a:ext cx="3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5830920" y="984240"/>
            <a:ext cx="3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6"/>
          <p:cNvSpPr/>
          <p:nvPr/>
        </p:nvSpPr>
        <p:spPr>
          <a:xfrm flipV="1">
            <a:off x="2303640" y="2157120"/>
            <a:ext cx="1223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7"/>
          <p:cNvSpPr/>
          <p:nvPr/>
        </p:nvSpPr>
        <p:spPr>
          <a:xfrm flipV="1">
            <a:off x="3524400" y="1796760"/>
            <a:ext cx="1223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8"/>
          <p:cNvSpPr/>
          <p:nvPr/>
        </p:nvSpPr>
        <p:spPr>
          <a:xfrm flipV="1">
            <a:off x="4748040" y="1417320"/>
            <a:ext cx="12258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矩形 1" descr=""/>
          <p:cNvPicPr/>
          <p:nvPr/>
        </p:nvPicPr>
        <p:blipFill>
          <a:blip r:embed="rId1"/>
          <a:stretch/>
        </p:blipFill>
        <p:spPr>
          <a:xfrm>
            <a:off x="3071880" y="2712960"/>
            <a:ext cx="2658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6"/>
          <p:cNvGrpSpPr/>
          <p:nvPr/>
        </p:nvGrpSpPr>
        <p:grpSpPr>
          <a:xfrm>
            <a:off x="1143000" y="2928960"/>
            <a:ext cx="6143760" cy="928800"/>
            <a:chOff x="1143000" y="2928960"/>
            <a:chExt cx="6143760" cy="928800"/>
          </a:xfrm>
        </p:grpSpPr>
        <p:sp>
          <p:nvSpPr>
            <p:cNvPr id="54" name="椭圆 4"/>
            <p:cNvSpPr/>
            <p:nvPr/>
          </p:nvSpPr>
          <p:spPr>
            <a:xfrm>
              <a:off x="1143000" y="2928960"/>
              <a:ext cx="928440" cy="92880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5"/>
            <p:cNvSpPr/>
            <p:nvPr/>
          </p:nvSpPr>
          <p:spPr>
            <a:xfrm>
              <a:off x="2143080" y="3000240"/>
              <a:ext cx="514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</a:rPr>
                <a:t>旅游中的数学问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3"/>
          <p:cNvGrpSpPr/>
          <p:nvPr/>
        </p:nvGrpSpPr>
        <p:grpSpPr>
          <a:xfrm>
            <a:off x="0" y="65160"/>
            <a:ext cx="5572080" cy="1197720"/>
            <a:chOff x="0" y="65160"/>
            <a:chExt cx="5572080" cy="1197720"/>
          </a:xfrm>
        </p:grpSpPr>
        <p:pic>
          <p:nvPicPr>
            <p:cNvPr id="57" name="图片 1" descr="54 1.png"/>
            <p:cNvPicPr/>
            <p:nvPr/>
          </p:nvPicPr>
          <p:blipFill>
            <a:blip r:embed="rId1"/>
            <a:srcRect l="0" t="0" r="6070" b="0"/>
            <a:stretch/>
          </p:blipFill>
          <p:spPr>
            <a:xfrm>
              <a:off x="0" y="65160"/>
              <a:ext cx="1071360" cy="11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4"/>
            <p:cNvSpPr/>
            <p:nvPr/>
          </p:nvSpPr>
          <p:spPr>
            <a:xfrm>
              <a:off x="1000080" y="35064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强强和爸爸、妈妈一家三口自驾车从南苑去北高峰游玩。右图是行车路线图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图片 6" descr="58.png"/>
          <p:cNvPicPr/>
          <p:nvPr/>
        </p:nvPicPr>
        <p:blipFill>
          <a:blip r:embed="rId2"/>
          <a:stretch/>
        </p:blipFill>
        <p:spPr>
          <a:xfrm>
            <a:off x="5715000" y="214200"/>
            <a:ext cx="3106800" cy="2428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000080" y="157176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的问题与行程有关，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相关信息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1"/>
          <p:cNvGrpSpPr/>
          <p:nvPr/>
        </p:nvGrpSpPr>
        <p:grpSpPr>
          <a:xfrm>
            <a:off x="785880" y="2500200"/>
            <a:ext cx="8358120" cy="949320"/>
            <a:chOff x="785880" y="2500200"/>
            <a:chExt cx="8358120" cy="949320"/>
          </a:xfrm>
        </p:grpSpPr>
        <p:sp>
          <p:nvSpPr>
            <p:cNvPr id="62" name="Text Box 4"/>
            <p:cNvSpPr/>
            <p:nvPr/>
          </p:nvSpPr>
          <p:spPr>
            <a:xfrm>
              <a:off x="785880" y="250020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"/>
            <p:cNvSpPr/>
            <p:nvPr/>
          </p:nvSpPr>
          <p:spPr>
            <a:xfrm>
              <a:off x="1707840" y="2502360"/>
              <a:ext cx="743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从南苑到北高峰，某幅图上的距离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厘米，实际距离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。计算这幅图的比例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2"/>
          <p:cNvSpPr/>
          <p:nvPr/>
        </p:nvSpPr>
        <p:spPr>
          <a:xfrm>
            <a:off x="1143000" y="33577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千米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1214280" y="38336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0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:3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4"/>
          <p:cNvGrpSpPr/>
          <p:nvPr/>
        </p:nvGrpSpPr>
        <p:grpSpPr>
          <a:xfrm>
            <a:off x="785880" y="4330800"/>
            <a:ext cx="8358120" cy="949320"/>
            <a:chOff x="785880" y="4330800"/>
            <a:chExt cx="8358120" cy="949320"/>
          </a:xfrm>
        </p:grpSpPr>
        <p:sp>
          <p:nvSpPr>
            <p:cNvPr id="67" name="Text Box 4"/>
            <p:cNvSpPr/>
            <p:nvPr/>
          </p:nvSpPr>
          <p:spPr>
            <a:xfrm>
              <a:off x="785880" y="433080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4"/>
            <p:cNvSpPr/>
            <p:nvPr/>
          </p:nvSpPr>
          <p:spPr>
            <a:xfrm>
              <a:off x="1707840" y="4332960"/>
              <a:ext cx="743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如果行车的平均速度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，上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出发，中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前能到达北高峰景区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4"/>
          <p:cNvGrpSpPr/>
          <p:nvPr/>
        </p:nvGrpSpPr>
        <p:grpSpPr>
          <a:xfrm>
            <a:off x="1785960" y="5072040"/>
            <a:ext cx="4357800" cy="1020600"/>
            <a:chOff x="1785960" y="5072040"/>
            <a:chExt cx="4357800" cy="1020600"/>
          </a:xfrm>
        </p:grpSpPr>
        <p:sp>
          <p:nvSpPr>
            <p:cNvPr id="70" name="TextBox 14"/>
            <p:cNvSpPr/>
            <p:nvPr/>
          </p:nvSpPr>
          <p:spPr>
            <a:xfrm>
              <a:off x="1785960" y="535752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40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21"/>
            <p:cNvGrpSpPr/>
            <p:nvPr/>
          </p:nvGrpSpPr>
          <p:grpSpPr>
            <a:xfrm>
              <a:off x="3571920" y="5072040"/>
              <a:ext cx="1785960" cy="1020600"/>
              <a:chOff x="3571920" y="5072040"/>
              <a:chExt cx="1785960" cy="1020600"/>
            </a:xfrm>
          </p:grpSpPr>
          <p:grpSp>
            <p:nvGrpSpPr>
              <p:cNvPr id="72" name="组合 14"/>
              <p:cNvGrpSpPr/>
              <p:nvPr/>
            </p:nvGrpSpPr>
            <p:grpSpPr>
              <a:xfrm>
                <a:off x="3571920" y="5072040"/>
                <a:ext cx="1500480" cy="1020600"/>
                <a:chOff x="3571920" y="5072040"/>
                <a:chExt cx="1500480" cy="1020600"/>
              </a:xfrm>
            </p:grpSpPr>
            <p:sp>
              <p:nvSpPr>
                <p:cNvPr id="73" name="TextBox 20"/>
                <p:cNvSpPr/>
                <p:nvPr/>
              </p:nvSpPr>
              <p:spPr>
                <a:xfrm>
                  <a:off x="3571920" y="5072040"/>
                  <a:ext cx="150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TextBox 21"/>
                <p:cNvSpPr/>
                <p:nvPr/>
              </p:nvSpPr>
              <p:spPr>
                <a:xfrm>
                  <a:off x="3571920" y="5572080"/>
                  <a:ext cx="150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直接连接符 22"/>
                <p:cNvSpPr/>
                <p:nvPr/>
              </p:nvSpPr>
              <p:spPr>
                <a:xfrm>
                  <a:off x="3643200" y="5572080"/>
                  <a:ext cx="285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Box 19"/>
              <p:cNvSpPr/>
              <p:nvPr/>
            </p:nvSpPr>
            <p:spPr>
              <a:xfrm>
                <a:off x="3857400" y="5286240"/>
                <a:ext cx="150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（小时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Box 25"/>
          <p:cNvSpPr/>
          <p:nvPr/>
        </p:nvSpPr>
        <p:spPr>
          <a:xfrm>
            <a:off x="1714680" y="5857920"/>
            <a:ext cx="42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中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前能到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11"/>
          <p:cNvGrpSpPr/>
          <p:nvPr/>
        </p:nvGrpSpPr>
        <p:grpSpPr>
          <a:xfrm>
            <a:off x="-71280" y="450720"/>
            <a:ext cx="6286320" cy="1375920"/>
            <a:chOff x="-71280" y="450720"/>
            <a:chExt cx="6286320" cy="1375920"/>
          </a:xfrm>
        </p:grpSpPr>
        <p:sp>
          <p:nvSpPr>
            <p:cNvPr id="79" name="Text Box 4"/>
            <p:cNvSpPr/>
            <p:nvPr/>
          </p:nvSpPr>
          <p:spPr>
            <a:xfrm>
              <a:off x="-71280" y="45072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"/>
            <p:cNvSpPr/>
            <p:nvPr/>
          </p:nvSpPr>
          <p:spPr>
            <a:xfrm>
              <a:off x="850680" y="452880"/>
              <a:ext cx="5364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按平均耗油量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升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计算，汽车油箱的容量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升，出发时油表显示如右图，中途不加油能开到北高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图片 4" descr="58.jpg"/>
          <p:cNvPicPr/>
          <p:nvPr/>
        </p:nvPicPr>
        <p:blipFill>
          <a:blip r:embed="rId1"/>
          <a:stretch/>
        </p:blipFill>
        <p:spPr>
          <a:xfrm>
            <a:off x="6357960" y="593640"/>
            <a:ext cx="2500200" cy="142884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5"/>
          <p:cNvGrpSpPr/>
          <p:nvPr/>
        </p:nvGrpSpPr>
        <p:grpSpPr>
          <a:xfrm>
            <a:off x="857160" y="2236680"/>
            <a:ext cx="5357880" cy="544320"/>
            <a:chOff x="857160" y="2236680"/>
            <a:chExt cx="5357880" cy="544320"/>
          </a:xfrm>
        </p:grpSpPr>
        <p:sp>
          <p:nvSpPr>
            <p:cNvPr id="83" name="TextBox 6"/>
            <p:cNvSpPr/>
            <p:nvPr/>
          </p:nvSpPr>
          <p:spPr>
            <a:xfrm>
              <a:off x="857160" y="2260440"/>
              <a:ext cx="43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×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40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3286080" y="223668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1.6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3"/>
          <p:cNvSpPr/>
          <p:nvPr/>
        </p:nvSpPr>
        <p:spPr>
          <a:xfrm>
            <a:off x="857160" y="27367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中途不加油不能开到北高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21"/>
          <p:cNvGrpSpPr/>
          <p:nvPr/>
        </p:nvGrpSpPr>
        <p:grpSpPr>
          <a:xfrm>
            <a:off x="-71280" y="3022560"/>
            <a:ext cx="9215280" cy="3143160"/>
            <a:chOff x="-71280" y="3022560"/>
            <a:chExt cx="9215280" cy="3143160"/>
          </a:xfrm>
        </p:grpSpPr>
        <p:grpSp>
          <p:nvGrpSpPr>
            <p:cNvPr id="87" name="组合 11"/>
            <p:cNvGrpSpPr/>
            <p:nvPr/>
          </p:nvGrpSpPr>
          <p:grpSpPr>
            <a:xfrm>
              <a:off x="-71280" y="3665520"/>
              <a:ext cx="9215280" cy="949320"/>
              <a:chOff x="-71280" y="3665520"/>
              <a:chExt cx="9215280" cy="949320"/>
            </a:xfrm>
          </p:grpSpPr>
          <p:sp>
            <p:nvSpPr>
              <p:cNvPr id="88" name="Text Box 4"/>
              <p:cNvSpPr/>
              <p:nvPr/>
            </p:nvSpPr>
            <p:spPr>
              <a:xfrm>
                <a:off x="-71280" y="3665520"/>
                <a:ext cx="117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4"/>
              <p:cNvSpPr/>
              <p:nvPr/>
            </p:nvSpPr>
            <p:spPr>
              <a:xfrm>
                <a:off x="850680" y="3667680"/>
                <a:ext cx="8293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出发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.5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小时后车子在服务区停下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强强看到路牌如右图。他们已行多少千米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19"/>
            <p:cNvGrpSpPr/>
            <p:nvPr/>
          </p:nvGrpSpPr>
          <p:grpSpPr>
            <a:xfrm>
              <a:off x="6429600" y="3022560"/>
              <a:ext cx="2214360" cy="3143160"/>
              <a:chOff x="6429600" y="3022560"/>
              <a:chExt cx="2214360" cy="3143160"/>
            </a:xfrm>
          </p:grpSpPr>
          <p:sp>
            <p:nvSpPr>
              <p:cNvPr id="91" name="矩形 18"/>
              <p:cNvSpPr/>
              <p:nvPr/>
            </p:nvSpPr>
            <p:spPr>
              <a:xfrm>
                <a:off x="8501400" y="4022640"/>
                <a:ext cx="142560" cy="2143080"/>
              </a:xfrm>
              <a:prstGeom prst="rect">
                <a:avLst/>
              </a:prstGeom>
              <a:solidFill>
                <a:srgbClr val="f2f2f2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17"/>
              <p:cNvSpPr/>
              <p:nvPr/>
            </p:nvSpPr>
            <p:spPr>
              <a:xfrm>
                <a:off x="6429600" y="3022560"/>
                <a:ext cx="2214360" cy="10713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距北高峰景区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120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千米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TextBox 22"/>
          <p:cNvSpPr/>
          <p:nvPr/>
        </p:nvSpPr>
        <p:spPr>
          <a:xfrm>
            <a:off x="1000080" y="48798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答：他们已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1"/>
          <p:cNvGrpSpPr/>
          <p:nvPr/>
        </p:nvGrpSpPr>
        <p:grpSpPr>
          <a:xfrm>
            <a:off x="-71280" y="446040"/>
            <a:ext cx="8858160" cy="949320"/>
            <a:chOff x="-71280" y="446040"/>
            <a:chExt cx="8858160" cy="949320"/>
          </a:xfrm>
        </p:grpSpPr>
        <p:sp>
          <p:nvSpPr>
            <p:cNvPr id="95" name="Text Box 4"/>
            <p:cNvSpPr/>
            <p:nvPr/>
          </p:nvSpPr>
          <p:spPr>
            <a:xfrm>
              <a:off x="-71280" y="44604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"/>
            <p:cNvSpPr/>
            <p:nvPr/>
          </p:nvSpPr>
          <p:spPr>
            <a:xfrm>
              <a:off x="850680" y="448200"/>
              <a:ext cx="793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强强他们的汽车在服务区停留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钟，如果要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: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前到达风景区，后面一段路程的平均速度至少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5"/>
          <p:cNvSpPr/>
          <p:nvPr/>
        </p:nvSpPr>
        <p:spPr>
          <a:xfrm>
            <a:off x="1000080" y="17319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857160" y="216072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后面一段路程的平均速度至少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1"/>
          <p:cNvGrpSpPr/>
          <p:nvPr/>
        </p:nvGrpSpPr>
        <p:grpSpPr>
          <a:xfrm>
            <a:off x="-71280" y="2773440"/>
            <a:ext cx="8858160" cy="949320"/>
            <a:chOff x="-71280" y="2773440"/>
            <a:chExt cx="8858160" cy="949320"/>
          </a:xfrm>
        </p:grpSpPr>
        <p:sp>
          <p:nvSpPr>
            <p:cNvPr id="100" name="Text Box 4"/>
            <p:cNvSpPr/>
            <p:nvPr/>
          </p:nvSpPr>
          <p:spPr>
            <a:xfrm>
              <a:off x="-71280" y="2773440"/>
              <a:ext cx="11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850680" y="2775600"/>
              <a:ext cx="7936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汽车从南苑出发时，显示的数据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48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，到达风景区时，显示的数据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173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。实际行驶路程与地图标示的路程相差百分之几？你认为可能的原因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1"/>
          <p:cNvSpPr/>
          <p:nvPr/>
        </p:nvSpPr>
        <p:spPr>
          <a:xfrm>
            <a:off x="785880" y="44467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73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48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0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％ 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857160" y="51372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地图是直线距离，实际车不一定能直线行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24246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们要去某风景区游玩，每天某一时段开往风景区有三辆汽车（票价相同），但是我们不知道这些车的舒适程度，也不知道汽车开过来的顺序。下面是两种不同的乘车方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428760" y="500040"/>
            <a:ext cx="84247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无论如何总是上开过来的第一辆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：先观察后上车，当第一辆车开来时，不上车，而是仔细观察车的舒适状况，如果第二辆车的状况比第一辆好，就上第二辆车；如果第二辆不比第一辆好，就上第三辆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179280" y="249228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三辆车按出现的先后顺序共有哪几种不同的可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77840" y="41482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你认为应采用哪一种方案使自己乘坐上等车的可能性大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18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如果把这三辆车的舒适程度分为上、中、下三等，请尝试着解决下面的问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95280" y="115920"/>
            <a:ext cx="8207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因为三辆车的顺序不同，所以可以分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情况，如下表所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773360"/>
          <a:ext cx="7632720" cy="4039920"/>
        </p:xfrm>
        <a:graphic>
          <a:graphicData uri="http://schemas.openxmlformats.org/drawingml/2006/table">
            <a:tbl>
              <a:tblPr/>
              <a:tblGrid>
                <a:gridCol w="2544480"/>
                <a:gridCol w="2543400"/>
                <a:gridCol w="2544840"/>
              </a:tblGrid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顺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种方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种方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上，中，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上，下，中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，上，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中，下，上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下，上，中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下，中，上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b050"/>
                      </a:solidFill>
                    </a:lnL>
                    <a:lnR w="9360">
                      <a:solidFill>
                        <a:srgbClr val="00b050"/>
                      </a:solidFill>
                    </a:lnR>
                    <a:lnT w="9360">
                      <a:solidFill>
                        <a:srgbClr val="00b050"/>
                      </a:solidFill>
                    </a:lnT>
                    <a:lnB w="9360">
                      <a:solidFill>
                        <a:srgbClr val="00b05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4:34:01Z</dcterms:created>
  <dc:creator/>
  <dc:description/>
  <dc:language>en-US</dc:language>
  <cp:lastModifiedBy/>
  <dcterms:modified xsi:type="dcterms:W3CDTF">2015-03-24T04:34:08Z</dcterms:modified>
  <cp:revision>1</cp:revision>
  <dc:subject/>
  <dc:title/>
</cp:coreProperties>
</file>