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51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notesMasterIdLst>
    <p:notesMasterId r:id="rId52"/>
  </p:notesMasterIdLst>
  <p:sldIdLst>
    <p:sldId id="256" r:id="rId53"/>
    <p:sldId id="257" r:id="rId54"/>
    <p:sldId id="258" r:id="rId55"/>
    <p:sldId id="259" r:id="rId56"/>
    <p:sldId id="260" r:id="rId57"/>
    <p:sldId id="261" r:id="rId58"/>
    <p:sldId id="262" r:id="rId59"/>
    <p:sldId id="263" r:id="rId60"/>
    <p:sldId id="264" r:id="rId61"/>
    <p:sldId id="265" r:id="rId62"/>
    <p:sldId id="266" r:id="rId63"/>
    <p:sldId id="267" r:id="rId64"/>
    <p:sldId id="268" r:id="rId65"/>
    <p:sldId id="269" r:id="rId66"/>
    <p:sldId id="270" r:id="rId67"/>
    <p:sldId id="27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notesMaster" Target="notesMasters/notesMaster1.xml"/><Relationship Id="rId53" Type="http://schemas.openxmlformats.org/officeDocument/2006/relationships/slide" Target="slides/slide1.xml"/><Relationship Id="rId54" Type="http://schemas.openxmlformats.org/officeDocument/2006/relationships/slide" Target="slides/slide2.xml"/><Relationship Id="rId55" Type="http://schemas.openxmlformats.org/officeDocument/2006/relationships/slide" Target="slides/slide3.xml"/><Relationship Id="rId56" Type="http://schemas.openxmlformats.org/officeDocument/2006/relationships/slide" Target="slides/slide4.xml"/><Relationship Id="rId57" Type="http://schemas.openxmlformats.org/officeDocument/2006/relationships/slide" Target="slides/slide5.xml"/><Relationship Id="rId58" Type="http://schemas.openxmlformats.org/officeDocument/2006/relationships/slide" Target="slides/slide6.xml"/><Relationship Id="rId59" Type="http://schemas.openxmlformats.org/officeDocument/2006/relationships/slide" Target="slides/slide7.xml"/><Relationship Id="rId60" Type="http://schemas.openxmlformats.org/officeDocument/2006/relationships/slide" Target="slides/slide8.xml"/><Relationship Id="rId61" Type="http://schemas.openxmlformats.org/officeDocument/2006/relationships/slide" Target="slides/slide9.xml"/><Relationship Id="rId62" Type="http://schemas.openxmlformats.org/officeDocument/2006/relationships/slide" Target="slides/slide10.xml"/><Relationship Id="rId63" Type="http://schemas.openxmlformats.org/officeDocument/2006/relationships/slide" Target="slides/slide11.xml"/><Relationship Id="rId64" Type="http://schemas.openxmlformats.org/officeDocument/2006/relationships/slide" Target="slides/slide12.xml"/><Relationship Id="rId65" Type="http://schemas.openxmlformats.org/officeDocument/2006/relationships/slide" Target="slides/slide13.xml"/><Relationship Id="rId66" Type="http://schemas.openxmlformats.org/officeDocument/2006/relationships/slide" Target="slides/slide14.xml"/><Relationship Id="rId67" Type="http://schemas.openxmlformats.org/officeDocument/2006/relationships/slide" Target="slides/slide15.xml"/><Relationship Id="rId68" Type="http://schemas.openxmlformats.org/officeDocument/2006/relationships/slide" Target="slides/slide16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dt" idx="1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ftr" idx="1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 type="sldNum" idx="1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7CBE-CDAA-4F77-AF1D-BC0F77CFAC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B2C5-32FD-4D46-8A06-9749C5CA9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8C3F-3A53-4DC7-83E0-B97AA51A2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B99-8F00-45B6-95AD-D6A23268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A97-512B-4816-9C55-196DDD45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81B6B-B129-4102-AE37-B2329D87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55DDB-42C8-4E9F-BB77-DCED14CA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04A3E-DB57-47C3-A559-74FA8401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3F187-CD8D-4936-B0FA-257CBA09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FB974-749C-45E6-9091-C946969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3725C-49E9-46C8-8FD0-A209D625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AD6D1-37D4-403B-B362-5A9FC4B7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CB9A6-5648-4A32-8709-62FD9E86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D00D0-1C50-4A64-A1D4-C8B8DA95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C1A9C-634B-4A6C-A19A-CAD1E074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211-9C22-48C5-B1A4-50BF1ACB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8032C-D553-417D-8E95-D35ABD42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90502-0523-4D0E-84B2-6AC3AFD1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95B60-F149-4805-ACD7-48CD55FD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99BDE-4716-4BB8-8DAB-761DA5D2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9D63D-879B-4B1E-88BC-0A50FCA1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07322-6345-4DB0-95BE-FA14533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60530-8059-41B8-B47F-A1713470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D1B5B-9FA8-40E6-A17A-8D4C3715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297D8-00DA-46AF-861A-CC08C64C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97186-5685-4855-A435-03E29E94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82E-2366-4D76-977F-6419F977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6A60F-D16D-4FA3-A76F-BE135660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7E522-6347-4B44-97D5-46A8AA87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7A44B-F8B6-46AA-B48F-5F657040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75967-5EFC-4125-8AFE-73F4F889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B6644-F783-4D9A-B165-14CD0A36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3A0BD-2BEE-4312-B140-438F4D10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B234D-698B-4430-85CA-51D71CDE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0F868-1B91-48DF-885E-5C1B9A4E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AEBD8-3D08-4E97-A0FE-FF71C09A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6AA9F-53D8-4145-A9FA-C61A46CF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0BCA-BF60-4E3B-8ADA-D717B9E2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FE230-20DB-45A6-BCD1-634A53FB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01B1F-40EA-4A0D-9DFB-5B85BCE3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17521-4CEC-49CB-BCCE-22A7DF3C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764E1-45AB-4456-9053-177A9B46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D1268-AA49-44DB-B9F5-2DA17C6F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AEC26-EECC-4950-90E0-C650F48F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88507-24BD-4F85-AE61-C24C4255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66315-A5CD-453C-95BC-862B4336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91DD3-58AA-4471-8A71-084AA9F6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D55B9-4F99-4FD9-9A82-760B4C91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B5E9-29B3-4624-A460-A06CBD84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72693-DFB4-491E-854E-0845D26C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94193-A8FF-4941-BD80-C441B33D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BF153-7CC9-41D5-BFBD-FB548C7A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9D253-8E61-4308-ADD5-61BD680D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88AD2-DFC2-478D-8F32-80A3CFAB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C41C3-3AC7-4CB3-80E6-C9477066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4BFB5-719F-4E34-8432-A9C9E2D7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ED589-53A0-495E-94FD-E1945DD0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97F976-B221-4AD0-AD86-ABDEC346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78D3D-CEDB-47C2-A352-BB37BBAF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0F33-FFC8-474F-8D68-380C3847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2345CC-4A95-4A78-940A-B4493E00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B4F0B-092A-4A0A-B761-5F6E5A9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2EBB8-3CDE-4268-BA0A-BC2E7725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7A8B62-959A-48F3-B4BA-AFBED62D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B525B-F585-47E8-BC4C-ED2A0307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51990-55CE-4779-A3A5-2C3BC173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3EE15-B2AB-4A77-A031-18894116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93D22-F9D8-41E7-9C2A-CDB88766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C5F8E-47E2-4E0A-9E12-AD112A7D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A44DA-1D21-4A9B-9EDA-0F0F9CAE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03B9-437D-47BC-A9EF-2747127D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B76027-EC06-46C7-B243-91E65CBB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1C882-5828-4091-A8F8-FC21E3C7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D582B-BFA7-4B94-9DDF-9ACC1374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A28AE-2A44-4853-A315-E71FC786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F24462-0B82-4A80-B3F4-B471093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A7861-10BA-4381-8732-E54F5EBD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F05EFF-CDBE-41CB-ADC1-1E9D4974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66BD7-85B1-4066-B504-A5B00C69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D85A5-8F01-41B3-B0FA-47E47C1D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D21FAF-BCC9-42EE-A87C-2544F642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1517-8F0F-427F-8380-A1045BF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47CD1-1343-42C4-A193-50BE6025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B2643-FA16-4217-93BB-C86CF00C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D9CC7-1C08-43C9-9DE3-A677F7B0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045FB5-6F33-4523-AA7B-97439272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DB5BD3-7316-46B8-A5C4-17065CE1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213D8-3C20-48CF-BA3D-297544BD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23061-892E-4A72-9BBA-32EA0039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12418-CBD7-4D84-AA80-DD11C5C7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77F23-8D85-4583-B1AE-084F67A5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4665DD-B86D-4E45-91CD-D2FB4F37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BACD-D6D6-4D11-A82C-630A56CE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53078-501A-4B08-84F8-D122D401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75B0B-7F68-4AB3-AC00-11AAA55E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24F14-79FC-4A65-91C5-D97D81A7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64157-9510-430E-A8EE-EFE0B62E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6B5E6-7578-474D-868D-6757B0C3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D098B6-C2C0-443E-AF66-9CADE4B1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97E20-3B99-4A0B-8AE0-62209DC1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0DE48-AD8A-41D0-8143-3EBC97DF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77871-EB26-4C5D-A324-AE1592F3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8EC20-154E-4ED3-8841-992AE072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3F8D-6865-4ABF-88DE-45BDD1C9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7AF54E-0E51-4C42-AD02-B819D5B0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3363BE-755E-471F-9DCB-3F06903F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C1139-DE74-4737-9635-8D3BD988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539A9-CE66-493A-9194-10B17881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566CB-0A8D-483F-800B-640044DD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C782F-A778-42A5-B736-AF8271BD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3BC63-6A96-420F-AC3E-1925A5B1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75E312-FBDD-4CDF-BEB6-73DE4372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635B4-6494-45DE-9B6F-041DAE70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9D162-EA1F-49D5-8E68-5CFA914F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801-0DAC-4250-85CD-2D0C0022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1DF4-049A-4A7E-B225-A5C271E1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27097-EF3E-45B2-82BA-AC307616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ED5693-B116-4A3E-A3BB-BEED65D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A3181C-C6D6-4829-B86E-A50100DF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16E22-F8E0-4A1E-A1FE-F139B3FF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DA6F4-9389-4DD3-A70D-0148B519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326897-0E98-44B7-AE26-00E0BC88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8E08D8-49E4-4D49-823F-1B2590B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5C182-D1D5-444F-A7E7-28F0ABF7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A2683-71E8-4D2D-A756-69B0EBEB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92A62-A25B-46AB-A1DC-FB286ACB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C060-8DF2-405C-867B-28B88F1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E8C39-431A-4FCB-A563-14044F37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3E9D6E-3D96-45BF-9075-FD33B342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8AF5B-EC92-46A6-B194-5D2D3F6B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083DD2-FB66-40FC-A62B-85B142A7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78B0F-6E6E-471A-938F-7F28E298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0E17F-07AC-4318-9A77-1395F1AE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6659A-9F5B-42AD-8BE4-B5868376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3BD91-DB8B-4D92-A2EA-2A48DB77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CF4DD5-DA68-4D60-BC91-CF043392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6691BB-A21F-47B7-99A9-2D1FFD7A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3012-98D0-4818-B029-FE876B0A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B61F9-E8FA-4FD6-9671-4DF6F365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7AFF0-5BDD-4F64-BD97-17B79C2C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AE9FC-2D10-477C-BC8F-1DF108CA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AD73A9-C376-4A3C-9612-2565A14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40279-B479-4897-8411-EB85818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4CC3FE-96FC-401F-BB3D-F5FAE4E7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474E0-693C-4400-838C-B39A951F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0D9D7A-83E9-4F1F-9C15-8B136C91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07A9BC-E553-4C26-8816-53C87048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88BB1B-2FDF-4521-AAB3-6F213EDA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69D1-C70D-4475-8EFD-FFC682F3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31CFD6-A767-4828-92AB-71D0B358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057136-7821-45D0-9165-0DEA93DF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23320E-7F26-4099-A477-3F3B5F83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1128F9-03CE-404A-A451-33EAA6CA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35E659-52C0-4134-91F9-A4D8A676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A604D-1654-4A58-92B0-D0F35810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5027F-7A15-48CC-9CB8-E2852D31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19351D-3BE5-4CEF-AF50-AC621089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209B37-4E03-4221-BC7D-DA384472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09BC5-F099-49CD-B426-B3DFF4D9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BB3B-A8EA-443A-887B-9ED8031F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8F4E10-EED6-43DF-AA7B-E6AC80D7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93B05A-EC4F-4F19-8213-FADC456A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0639DA-7086-4661-B3DC-B3AC73C8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16A893-C1CA-428D-8A66-E763AD02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40FC85-587B-4199-9664-3EA0248E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3D9811-8D55-431F-84F9-91A91014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5BFC99-3656-409B-9FF9-9274535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8C80A4-A348-40F4-BF50-6EEAD47F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4FFA2D-0281-49B8-A669-3B9A7DC6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EF3BF-FACE-4B7E-91C9-7978B0ED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0B0B0-972B-4C36-9D3F-4500DA92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AAEA65-0EBB-4D9E-9493-238544C8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AADA79-9416-422A-8CDC-88F361BE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0E9FB3-C243-4A27-BBD7-804A47E7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9F4658-69F4-4805-A0E5-D760FA31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5B9539-6293-4849-84F6-18CE87E1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46291C-CA67-4952-8996-F252486D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17BDC4-2B5E-48A0-9137-79CAA191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1C6A15-4E60-4D81-84D7-4198108D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D2451C-04CB-440E-BCFC-10550EC0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464719-71F2-456F-8D3B-0B722EA9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1F8C-B2DA-4A5F-AFBA-2DF55E04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AA3DC6-E1E7-4529-B71B-A307C40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93AB91-AF89-448B-9D39-29A9F70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77161B-9B78-432E-938B-C775E8F0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A7B788-3829-488D-BC43-674D301B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6F4EF8-A16F-4C8E-89CB-8C538209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E37DCB-877C-4F6A-94E8-A5296C59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BE347F-1521-430E-947C-D7866E92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3ECF9D-64D8-4C71-8B1B-9AAAA06C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577712-108A-4DAF-A98D-99288181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AE18C1-91B8-4EB1-A050-E3752660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8A96-E9F4-40F9-B2D4-D90C343A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0B8AE4-19E8-4766-8F3E-13FD0D7F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151D4B-CD0B-47AE-8D5E-71252195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8C6106-E21B-416E-8412-F0696B09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026D21-CEE4-4361-BC20-D835E9C5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1A65F5-7056-495D-9DB5-181C2F25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19EA1B-34D7-4A7B-8FEB-AD78B48C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2F2708-8BDC-4228-8314-66CE1207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CC829E-B104-481A-A57A-C4D3DCC1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3501D8-6E10-4B08-8B87-60F3A0C5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5E298A-5A27-472F-AEDC-739FC8BC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80F6A-3357-4079-8CF1-5BD8CFD3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41C3A5-EF7E-44F3-942E-0B3C9622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1925C9-62A3-455C-95A6-A8F528F4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279C1B-6650-4CC7-B4F0-E848BCE0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2ECAD2-A74B-4FA9-9875-6F808613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77F723-06B5-4E57-B027-38CEA9BE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182F36-CEB4-4DC3-854D-0A247B7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8C0F3E-7953-4E6F-BFF6-AC0FAFC2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9AD602-32FE-48BB-926B-66D7366C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696062-5898-4476-936F-6284F38F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15DF7F-AE71-4B10-A67D-5A784179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10FFB-D79A-46C0-B45C-5DFD7A01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C73ECE-2B47-4652-9BA2-6E1982D8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271059-D0CC-4DA0-825F-142DE03A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DCD5D7-DD47-4F79-9188-DE4A59AE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81DBF0-B774-4325-806C-10FC361B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DEF417-E054-474C-82C6-5EC7D428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F61F75-5B50-4289-A658-8B58809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592B05-46C1-4A1F-AAB7-C77AC1BA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40ED33-4A54-4318-B429-C7EFC34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1FD632-7E3D-4C60-A7C5-3FF701DA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88F4D9-5C08-40DC-AFEC-85B00D25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476-5D91-4A2A-ACF3-52C91F19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B12B-2859-4857-8608-1A9AD31C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D769B3-6B4A-41A6-AD20-0901FADF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669DB3-0E1E-4F84-B789-730CE210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CDE931-DFB2-4316-A916-F48A1975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2BD1DC-1A68-4EBC-98E2-76C441D9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77B1DB-4D9E-498C-A4B1-3BBC0519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4F2103-9A53-4A6A-8193-1089B3E2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25D2EE-93EC-4443-92B6-72B0EEAB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5C602F-FB66-4B23-AC24-989AC74A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7EAA4B-22E2-40B9-B728-3495F64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E49FDE-8E03-475F-B6A9-58A699B4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87C7-D9DE-4E59-8B7C-88F75576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E2B410-D6AF-4427-8B2B-349BDF68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8FC2BB-246F-431D-8F08-1BBC2F36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C16A40-8F68-42C7-8C73-018722A6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679E05-695D-4533-815B-A3B4BD9C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B9F9DE-CA2D-44FE-BF0F-F44789EA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1C581A-3ABF-4E88-9380-98A0A945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805106-507A-4A0A-9ABD-F440AF68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CAAC03-0BA3-4A49-B68C-F641DA74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A1F04B-8024-428C-9355-132A1558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B14E9A-AE65-4FC5-AECB-57C5221F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7CD5-9356-4F58-8773-E51DF07D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675D6F-2263-41F6-9375-C1624D3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11E3D1-0BFD-4581-A040-3F93AB6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05601C-C851-434D-9C9D-83EBBE9E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5B3A72-6285-414B-8C8D-48E979D7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4FE436-2C95-4F4B-B106-817EFD24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5261AD4-A9FF-4E20-ADB0-5A323CD8370A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78F038D-39F2-4C5B-A89B-8B919F42D45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96D9D7A-B4DF-4A6D-A014-1360FB98FFE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95FE654-BB2D-4D91-A173-739A6FD23EEE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D49C324-0634-4C72-BB25-892AFC45EC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2B82-7BAB-4E0E-9B42-8AA8611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D5BF69B-F4A7-4EF9-AA80-14E41984B789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B6FBFF9-56B9-438F-9620-3AB70E7C979A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2042957-E768-4B11-87D9-7B11A9C44802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770F153-510C-478A-B0E3-340A28EA9D6C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0C00CB9-3693-4DC6-8BFE-AC049AAEEBFA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F8FE848-1D5E-42CF-AA7F-B198E68D9FD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87089CF-BAD5-4225-8D9E-9C3189E0221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F2DA489-01E4-4B1E-9FC8-83EF3367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A7830C7-2D84-4139-9B1E-2F2DA944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45A81CF-9B23-4BEA-A6AC-01DCF5D5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7A06-2A8D-42AE-94F3-01EAD296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3849995-2041-4847-8C71-C23B1D66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3F9F782-FA6D-4691-913F-098ED148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9ACF879-6C68-4797-8990-79E1DC80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D723240-E63D-4ED7-A0B0-F40DE977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C0F0224-9D12-47F2-8736-0E2B335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01D39D8-5F9A-4ACF-A032-1C9D85C8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CADE235-13CF-403B-A06C-FA554A65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678B3A4-EE3B-4031-936A-5CC4F4EC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08CB323-A3AE-4324-A842-EF6B9E7B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B0ED2C5-23AF-440B-B01E-20230723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84AC-216B-4B49-BAD4-7B246803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464A39D-A38E-4FBD-8FC4-BCC51C7E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F7949BF-2099-47B4-AA6B-08862B70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0B7F2AD-4866-49EA-B85A-B19CD4B7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CA12D79-A526-4C99-B808-997DCC1D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CC71672-A8B4-4CA5-A7C4-C4C48080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369DB9E-EFD7-4948-9DCF-C2D4BCE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FD6D7E1-B451-4728-B885-0C97A3C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5BF82BA-3978-4509-9C54-07D071A1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40E761C-AF31-41EB-9266-98846671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ACC8A1E-0EDE-4332-AF6C-DC92CF03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B4494-10FF-4816-AE22-C27CD26E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5A5778F-20F9-4AEF-9E45-73233DE7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B8C80B8-CD36-4BB8-8542-7D3CC6F6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C6412AB-13F4-4061-877B-EEE66724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24D5CFF-0726-4A2B-84B8-2A1203EA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EC730BB-0ED3-4D46-A149-F55E9F2E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3578E9B-277A-488B-BED5-16E4FB9A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0AE5B08-39EB-4B84-8770-94335237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0AC2792-D032-4769-A78D-9B53C39C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1A7F548-17FF-4520-B394-ED38EC2F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B4C035B-C49A-4788-8797-96F502D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C6679-8D6C-4B9C-854E-C64AA08B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046A1AC-1208-4C9F-9267-CD8EE747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8816165-105B-423A-95FD-5EFE1895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23868B2-ECD8-499F-9D7D-F8340E12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26039E1-8954-4B53-A651-10AA1E0C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D978C56-AC07-4816-BDE9-D55A280F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4AF98E9-319B-429B-AF96-869DE3E1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C3C6358-3701-4A0D-9BA0-F84DA87E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A9D3BCF-A6EE-4F08-A4A2-D73C3753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8DAA618-34AA-4289-99E5-05EB20A1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51F4032-8C73-4B60-982E-06272C80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FF6B5-B9C2-44AC-995C-CF5C2D87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EBE524F-5FD9-4E0F-9510-93AF17EA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BA39134-B3E4-4DBE-A72E-0389819C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C06A899-8231-42CA-BBEB-8F550BA1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57859A8-0F0D-44C8-815A-6B84AE25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FBCC65E-D95D-4864-A750-49F48F85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D168ADE-9AFF-42D9-B31C-C231E14F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CD22133-065B-42A6-8995-DEDB99D9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D104BE8-1CDA-43A1-B27D-8C700FB5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1CCD7DE-54DF-45C1-AA72-1175B9B9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9D845EA-E8D8-4F8B-A29F-2404BFB8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1E168-11A7-4197-8365-C8C53C13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5C69203-A473-465E-9EAF-999C4C43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EC2A78D-1EDD-4717-8535-342928E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1B90BDB-BC2F-49C5-9683-B1A6D1C2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EFAB122-1E9D-4C40-8F5C-D8C96B0E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2D1889A-04C1-4A6E-9F6E-A7ACF9FC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0BA7D3D-0597-4AAB-91AA-56371276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7AB71C1-B57D-4E18-AC9F-37017EEC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6F66EC9-5BC2-496C-8EA0-3D5800E0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D98A635-4A3C-44FB-8143-1C899E48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0818032-A7FE-40FD-96DA-8051334B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FB9-93F7-4409-9C5C-B0CB3C16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99DB1-F6BD-41FC-B7A0-93720C39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87B0B97-B339-4598-A5A1-F2675BD1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ED9E166-4F76-43ED-851E-B1906DA6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2FAD9EC-0D40-49BD-8690-E49A289E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CCB706D-18E9-4A3B-97A3-1AD695D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A2DADB2-B11E-45E2-AF8F-5F620FB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E76FB85-6DD1-4369-BCDE-DFD0087A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7F7846F-8AA1-4ECE-919A-4DD3CC3F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24BC9A5-E608-45B4-9AE7-A9586129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04D7E80-BE20-41C2-8874-FD8D7BB6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E16AB53-9F11-4DAB-BBCB-8F539AE2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06716-C118-4FF7-99AE-47797B82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686FF79-4690-4CCC-B802-9BE8F016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FF85B6A-6C59-4BFD-BBF1-BA55BCFE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0C271AC-000F-4506-9A53-BF8AEFE3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6BD99FF-8352-4628-A06E-9B3CB6D8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C407B28-1C50-47E1-9E5B-83D363AB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BBBF2C9-F5EF-475E-A302-68E8FDA4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C26CD20-8054-40B9-9582-F16D9CAF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BE7B4A4-BDD9-4A2A-A169-8AA55460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566A5C7-01E7-406F-928E-4C0AAC85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693C7A5-94A3-4BCF-BF7D-F654692B8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459F0-79BB-426A-92D2-6ADD6DAF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A3BD46A-0844-4B8C-88D3-F20EA478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93CFC6C-9AF6-4B73-9837-124EC04A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CAC8531-378F-4F63-ADC4-EDBD0784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C3F845F-1BC9-4143-8B3D-F04D04FC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CB5867A-AC3E-433D-85AB-53D8C59B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16E835B-BFC1-4B39-AE0B-B78DE2B0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AA08E21-B7F3-4D72-A8D6-0FB516EA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552AFEA-C74D-416B-80AC-5D49E48A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E19DA5B-9247-4FFC-BEDC-96DB344C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2CFA0CD-F1CA-4604-BD3E-E617DD8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DE5C-ACF2-4DF0-BC2C-E2096D80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2928044-3280-42D6-901E-F5A1B0AF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E3571D4-B901-49AD-8AD9-BC98EAEE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8183329-2ED9-4E80-82D2-6FD85050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19F56F3-8CDF-42F1-BAC7-8E3F8123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C268385-D4F0-4366-BA63-F04C57F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7B59C4A-2C0E-4E63-80EC-A1BA0974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CDFA048-D171-47A6-AC90-E0E5B08B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0833E26-FF90-464D-AC4E-87A2E563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881BCFD-2228-40E8-8B86-5A3E690B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8F37098-970D-47AA-A7C6-A6CBF3A5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412AA-CFB0-4B1F-8E76-8A01937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8169AD2-5446-4731-AB0D-C1A51768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E13DE27-6C9E-4B2E-B610-EF16FA77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792413B-8659-43EC-BA06-77F70BCA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DE70982-2D09-4CF2-9890-0FC3F010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4ECA2AA-14C0-4341-A082-8E4C312A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B496CB9-BEFE-43FA-B341-07ED3951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0E8E3C5-E494-4A28-ADCF-DC2B6122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BC4E114-234E-442D-BF26-45D02889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D66A563-F7A5-4200-BA27-2040062F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97D0E2C-DBCB-4548-87A4-51C5485A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ADF1-EB68-4F9E-9355-E088CA22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BF871CA-1B38-4DBA-A2E7-57E50650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F2C2E08-7F08-4DE2-A07A-B45DAE57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3B7092E-3FE9-4A2A-A653-D45EC40C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8170CA5-6704-4F3C-A158-64B2746D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DFA33FB-911B-4EF7-940F-3EAF6681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15060B0-3BDF-495B-9AD6-E71A002A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FF780B0-193C-4E77-8262-512F025D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9216D6A-482B-41A4-9918-7400CEDD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3D63A68-1A66-429E-B80E-E699B6D3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EB6F80B-3602-4ECA-B076-9C512B77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413DE-6956-4C89-90F3-1B9E685B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2650C21-EB3F-468A-BAB9-B3FE997C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4907EFA-5F5E-4279-85D7-01E3E977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A0A6C5E-BA39-4D69-83CC-EF3E6770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5217C81F-8C27-40C1-BE4B-6C681A03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DD5D030-8136-4345-AF5C-E77E8CB0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15CF2DE-FD95-44AB-8A47-E034C91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AF5E579-6E2A-4A6B-A4C4-6326FAB2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A3F023A-4391-469D-8169-37607269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0E73129-D234-4907-BAA9-1352B722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0A19B00-874C-42EE-9934-AF885D08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D4FF6-03FA-47BD-A02C-7619C775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1D71D16-2D9C-4802-9AD2-E110FCA9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F0258A0-DA08-4259-9BFD-FEE0EC9E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C218B44-530E-43A6-82D2-95AED8FD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A29E3F6-3B81-453D-97E1-E496696F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02FF648-0B3F-440C-8D21-AAFA248B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7DBB765-5D0E-4759-823D-A20790D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E63C237-8D30-45C4-AACC-EAD05893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FF5C3533-258E-4FB2-86C3-DB9F7F4D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F0F4623-3650-4296-BC91-C6A409AC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8EF2541-D9D2-4E62-855B-CB0BFE93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B3CB-D857-4C10-B520-0D9CE6B3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FA6C513-D2B3-4B29-8F66-07B8C7E6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C66617B-94AE-48FA-895C-4582DA0C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2E3D386-F503-4C48-95AB-5C665B15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D2B6126-6053-40DE-A2EF-D6FDB8D2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1314FB6-B6D2-4971-86D5-5320B737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6563D68-6956-48A8-9629-5F654FA9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BC9A820-B401-45FA-92E2-DF0F788A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1302CF5-2047-4AF1-A572-8C5972F4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7EEC584-79AB-4BE6-8518-0B232BD7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BF059FB-EC57-42BE-9746-6464C48C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31BD7-D100-4A5D-8CE7-3DA94FD3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4E6AEDC-7AFB-41E7-AEA7-EF040B4F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628D3A4-1E0B-4DE7-9257-78E79751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85B3420-DD4C-4141-8901-5A58971A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E59FB23-6476-43E1-A080-C1E5C9F1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E405BB6-4F33-4133-8C1D-F257922C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BF957DA-F933-4490-B0FE-F2D5557A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8DE6287-CACA-4AB4-BE74-2F0F06D3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9309DC3-C4E3-47DF-8D61-DFE08127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8E4D5C6-B63B-438E-B096-5F1A1D3A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8AABAD3-0B07-4F27-9BCB-880189E1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510-70B1-472A-9FBC-DED1FCBE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ECCD3-F708-409D-BBD1-EB9F9F96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CA865FA-D067-43A1-9F2D-CF4D8686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BB02B11-5B64-4DC5-9015-75932DB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FEB60DC-4429-45F9-85A2-87C0507C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4978D58-BD59-4B5B-BEDD-5FECB092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A399649-AE7C-466A-B2C6-AA72599F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1B63E2F-12CF-454C-ABCE-BAF2F7E4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6B1D869-6606-4AFA-98C6-0084951B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D2ED0FA-DF82-4642-99C6-F452C376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70F65D9-2330-440F-8285-1D447B11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2E1F2D1-4A71-42AA-A2E3-DDCB8371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63823-4152-4C4F-A852-427E5EDC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3F377C1-9408-4430-ABFA-03A2EBEE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D7949C1-4CA2-45A0-BB4F-8095E2D7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D32A0C6-FB43-4F66-94F5-CEBBCDA8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E568AFE-9AD0-4B70-8844-CA201E3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B64ADFA-BD0C-46BD-AD6F-00A6FCF4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E13DFBB-E12C-435D-B16A-550789AC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9F4ACF5-AECE-448B-BE3C-2CA892B8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0FD59D4-FFDA-4721-9241-3C59EC52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FF9E780-9BB6-4591-9050-991AAA85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9FCC566-2D98-47B2-A856-304C9AB3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FCBFA-01A0-4327-A1AE-003D7516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3E900FD-87DA-46EF-B70A-35FF0E7F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EE8449E-DCB7-4E0E-93A4-5561A173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A3048F4-165C-46E1-AAA1-32E6BDD6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82787DE-5993-4D13-B5C1-D9985516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E178DCE-7BF5-4324-BD5B-8C8F271E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5DA3CB1-EAC0-48FA-8544-389085BC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EE334C3-647E-4DD5-A5A7-555EC65A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889DD67-7DA1-43A5-9805-FE1D1F66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11B135D-09BF-408E-B295-97E0B327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49FD1DD-D782-4497-8874-D25FF248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08484-624F-4DCF-B5E8-9F9C6C99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1A3FDA2-762E-4262-8D31-DA64E197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CDE093A-DE7F-4C75-92C4-7C5A69FD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F05DF95-6A07-478E-929B-6ECA2AFD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923CB33-F53D-4C35-AC51-A2FA72A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62D00EF-6088-401D-911A-1F7355E8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183CC9B-2C02-4DF0-B555-2BABC112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8EB3B2D-D9B9-4D5C-9BE4-602D3D4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4BBF459-BFE9-4C94-91E4-A831768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02BC3DF-96B5-47C0-A887-2796E0E2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F69D73E-552A-4ADA-9FA0-47C15115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65BF5-F51D-4E1C-A718-98BEBB70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83232A1-8A6B-4AB2-B1DD-B15FF565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73E46A8-4440-46F9-A28C-603D7071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B40AC76-C6AD-45B2-867E-2DBB4A76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0BEFAE9-686E-4914-AB91-2CFA4625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D03ECD9-F2B5-419C-B1AE-31100F63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DDC1C82-A610-4A0E-BE13-BBED9765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C8BA787-A550-445B-8EE4-AB54F3D4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EEBC428-BC26-49F1-82F5-40DE1CE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1EFAF3E-63EF-4251-8D84-F119E524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5986669-FAF0-4B7D-A88B-6234FD39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ACC64-385B-4725-AD09-6BAE192D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2EDA203-73B6-48C4-8157-FC286DA9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D98FF67-14CC-4FE0-A68A-8CD12108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79191EE-A06F-4B76-A76A-951C049E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47176CD2-809F-47BC-8869-1FB53579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FFD51CA-EEE1-4FFE-A486-0A43D98F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DC4B8D6-2E33-4803-9906-22C7FC15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0F7B8A8-F6D9-4ED3-AB8B-178B61DF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AD8C499-3931-444A-89C8-E32DFB6A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5A83FF7B-C1C3-4CD6-8DCB-E5F46B90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BB50FC4-0290-4000-B5F8-E351695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E3614-3DE9-4B31-9C82-CA39AC2A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9A59937-239E-4515-A28E-C5C9F1D8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AA0BCB4-5C44-4544-B94E-F3C3094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F973D0C-D9D8-42D3-93BE-0945AB2C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DAC300F-6F92-4FA4-81B6-6FB1B229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62CA992-364F-4920-B8D1-8FAEF28E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AA8BFEB-94B8-44A0-8899-DD2DE78F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85E5F14-9E03-4D6F-A72F-048FB653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12C9C65-955D-44D2-9B9F-82549A00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6D6EA92-630D-49F0-A37F-678EA397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11E2109-54B4-45D7-980E-3EEACEA9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F921E-32C7-476B-9C1E-2BD30308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29B88E1-C572-4B30-9A4D-DF684416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92F3928-99E9-49C2-91FC-20906721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1372C05-7C92-457A-BF98-2CD488FD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CEA9641-2AEB-4BEB-B5C7-46B5A566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3A1F5E8-68D3-4256-AB04-98BC7B08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58EBDB9-44E1-4C2D-A017-42533A56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A52788A-B09A-40AD-807A-FD9A759C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D17468A-6691-41AB-A543-8386E3EF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3476B77-360F-4C49-8A56-F17BE671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C6C1E05-A73E-4421-921C-598F687F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04E56-BD6D-4195-854B-FA172C13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1F9C5810-6C70-411C-8AF2-B68A355D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033478F-E460-4983-851E-BB74B7C1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F651189A-7C87-4637-8766-B39B3707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BDBC295-192C-4A9A-99AC-DD945653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AF2B551-E247-480C-BE14-D1DE7DEA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FD7F692-402D-4E52-A084-CFC7FD07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A9FD9C7-B306-4B53-8D37-42BC472C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A6883D4-DA21-4004-B497-1B9C9789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30C1C4F-A1DA-4E8C-B92C-FE0059DB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AC1BC1F-9C3B-40E2-8122-8657ECF6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A89DC-0370-4A85-8BE8-E8A70639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33D3B47-7B71-48D0-BBAF-718B3F9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5D27735-CC03-4EDE-B68E-8F8666BF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0F4EAB1-5EDA-4687-8C15-F7CF8D43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0B19F97-DEDA-4482-9161-79E5AFFC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1282C36-0B7F-4939-B90C-9CE6111F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5184448-B472-44CE-AC8C-4A78BCBA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DE8DA42-9A06-4F36-AB29-860F03F5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B01CD1C-3FD5-4773-AF3D-6B89629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750E047-1169-4E30-A10B-FCD71CBD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41874F1-E066-4940-8B4F-F6D9047A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382-5C70-4885-9690-DF829B66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FACB5-76A0-4213-9E3A-881B3605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1F4527B-E29A-46CF-A921-07B99ED7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FC35B-0113-43F6-9851-98569B52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D8AC2-FD23-4E06-B6DE-6784E37C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49F75-0C2E-4E08-AFC2-54355381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5FC00-2A9F-457F-9C80-E03E9E5C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F5C2D-4522-44B3-A4DD-8985022A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A0FF-D0AF-40D2-90FD-788A5B83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0656-0BF6-4F20-88D9-BFAFD30E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0D71A-7006-4543-86FD-C345076E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3370C-28B6-4B68-B375-E3DE4678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756-C247-46C2-9094-FE286D0F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B1685-A3BA-44AB-B24B-87A9C7DA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CCCD6-9B75-41E0-90B5-04E0CB8E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0EEC1-33E2-44DF-9DE8-035D4D38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18234-8E35-4D64-9E8A-56267973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81A77-00DD-4616-8AA6-10956126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43368-BB72-4ADB-8737-8B37E089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EF0AB-3555-43F0-9381-17A5ADF0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96FAE-A2AA-4382-A932-6C6CA3B8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11C1F-B2E3-44E4-9877-AA58B94E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7AA71-A893-44BC-9DB1-0C254627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9E1-EDE2-40D9-A1EB-6F8DFCB2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A0FB-7A3B-403A-9CE4-EC649D47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663A2-44E2-48B1-A6DA-0CA540A6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E9423-0B89-49E1-ACE4-F9F9BED9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9EDD7-F5DC-4E79-B43C-F0E2A18A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CFA22-F6E7-4085-9EB7-11E20C3D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A1494-052F-43BB-B547-DB00B320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B1F9B-5937-4545-B798-1D035C96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6A37D-C825-49F9-8FCE-8554B9AC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27EA1-1325-4371-826D-806C2580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3C68-67AC-4005-A4B0-4D16A0A3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EC5-099C-4B92-91F2-AD19131E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95D32-CDFE-467A-85B7-AF18F0EB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A204E-8361-464A-9623-BA442E0F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BD1A9-5BE8-4FD2-B369-9C0D81D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6640E-AFDF-49D1-90E5-C22840C7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A86E1-09B7-4A1F-8516-1DE7D361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8D4E9-8B6D-4F4B-A20F-5B01EA03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3C0B2-9862-46A1-811A-2AB7AEE3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6C696-5E21-4BC8-842A-9F5E6839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0F033-CFFF-40C5-985D-ED45AD8D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41D18-CE3C-43F6-B1DC-2C2AE94A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B1BA-8B54-4149-B74D-F6CB8E769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2BBA-096C-4744-AB4A-01C26B5E6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DFCD-1B6D-4698-8C78-38454B972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BCDD-606C-41CF-A7F6-ACDD6461C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529D-AA47-4523-BFE2-6862DB65E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9A52-E9CB-4BB0-B9EC-B1EA09E24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CF5-738D-4A5C-811A-B0F7748D3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51C7-3679-4B1E-9472-5316F98EF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FB67-ECE9-4A5C-B35B-C5848041B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0F9F-2009-43A2-8267-E665E23C7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F863-9BA8-4E86-B98E-14C533566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6558-F209-4369-BA06-1358FED4E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FC67-6C9E-4106-86EE-71BB7BBF6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AD29-566F-412C-8B37-2FCF8560A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FFCB-7948-4610-AD60-2248E65D4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75A6-7F85-4789-A3D6-6A25AA982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1DC3-EFC9-4347-91DF-8BE653A01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EC3C-9DE8-4CEC-A030-847F1F91D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1F69-4EA4-4919-A970-20115EB04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78ED-D54F-4F95-BFFA-00111DC86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Num" idx="82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797D36B-AA2E-4132-9415-D71FCB5D1E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300E-8B11-452C-B77D-975D94DE5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9693-E349-4AC1-A49B-C7D65757F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1CD-E064-43CD-BE60-AB9DA9580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FB34-1D6F-4C9C-B3F7-0C021AB25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74A7-6D1F-4BFF-994B-25CAEFB4D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AC55-503B-4668-8562-0BE087050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10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593E-B53F-48DB-973E-A5CE53EAA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1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1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10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6D67-CF51-4C82-B584-53213653A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47FA-D365-4D19-BD55-3B93D060F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B64D-7DB3-4B42-B209-7FFBFCBC2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5CA5-1DFA-48DF-8771-FCAFF189D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1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1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1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7DF2-6295-42F0-9634-419A4EDD0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8FCF-4BF1-4264-ADD4-90AE3FCFD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E9C6-715F-4B11-BC09-FFE3E3999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dt" idx="1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 type="ftr" idx="1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 type="sldNum" idx="1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82BE-BF17-4D02-AE33-F8422F2AD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dt" idx="1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 type="ftr" idx="1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 type="sldNum" idx="1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4F47-37AC-4EB8-81F9-191D8FC84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dt" idx="1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ftr" idx="1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sldNum" idx="1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2A5C-AA7E-4214-831B-EEFFF54A6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1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1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1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CC79-0041-4373-885D-6D853A91A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1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1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1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C497-F5E6-4209-9EC4-62638F4BE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 type="dt" idx="1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 type="ftr" idx="1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 type="sldNum" idx="1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F4A5-9FFE-40C6-A915-97932ED84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 type="dt" idx="1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 type="ftr" idx="1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 type="sldNum" idx="1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5B4D-636B-467B-A0B6-FDAFFFEAD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dt" idx="1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ftr" idx="1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sldNum" idx="1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139D-4CC0-49E9-86D5-FC052628A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F4AB-2DBA-4156-9F9E-6CBF8C766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5860-0CF8-4D99-B410-8E726753A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 type="dt" idx="1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 type="ftr" idx="1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 type="sldNum" idx="1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4379-FB6B-4F8E-97A7-D09395833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AF9A-C544-499D-ADBB-578A7E344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BFE2-D89A-49B0-9592-A3D983D9D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9C1D-7F03-4E94-A3B1-B4222194C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d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C915-7D99-4CFC-9A6F-F51847867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0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平面图形（十二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Text Box 4"/>
          <p:cNvSpPr/>
          <p:nvPr/>
        </p:nvSpPr>
        <p:spPr>
          <a:xfrm>
            <a:off x="2987640" y="1303200"/>
            <a:ext cx="511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1" name="Object 2"/>
              <p:cNvSpPr txBox="1"/>
              <p:nvPr/>
            </p:nvSpPr>
            <p:spPr>
              <a:xfrm>
                <a:off x="3492360" y="1698480"/>
                <a:ext cx="395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Object 3"/>
              <p:cNvSpPr txBox="1"/>
              <p:nvPr/>
            </p:nvSpPr>
            <p:spPr>
              <a:xfrm>
                <a:off x="3492360" y="2670120"/>
                <a:ext cx="395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Text Box 7"/>
          <p:cNvSpPr/>
          <p:nvPr/>
        </p:nvSpPr>
        <p:spPr>
          <a:xfrm>
            <a:off x="3060720" y="3030480"/>
            <a:ext cx="446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  ×10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2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 Box 8"/>
          <p:cNvSpPr/>
          <p:nvPr/>
        </p:nvSpPr>
        <p:spPr>
          <a:xfrm>
            <a:off x="1042920" y="50468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三角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面积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方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 Box 9"/>
          <p:cNvSpPr/>
          <p:nvPr/>
        </p:nvSpPr>
        <p:spPr>
          <a:xfrm>
            <a:off x="1258920" y="7621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面积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2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5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2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500"/>
                                        <p:tgtEl>
                                          <p:spTgt spid="2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Text Box 2"/>
          <p:cNvSpPr/>
          <p:nvPr/>
        </p:nvSpPr>
        <p:spPr>
          <a:xfrm>
            <a:off x="380880" y="30492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求下列各图形的周长和面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7" name="Group 3"/>
          <p:cNvGrpSpPr/>
          <p:nvPr/>
        </p:nvGrpSpPr>
        <p:grpSpPr>
          <a:xfrm>
            <a:off x="179280" y="1268280"/>
            <a:ext cx="9144360" cy="4202640"/>
            <a:chOff x="179280" y="1268280"/>
            <a:chExt cx="9144360" cy="4202640"/>
          </a:xfrm>
        </p:grpSpPr>
        <p:grpSp>
          <p:nvGrpSpPr>
            <p:cNvPr id="2178" name="Group 4"/>
            <p:cNvGrpSpPr/>
            <p:nvPr/>
          </p:nvGrpSpPr>
          <p:grpSpPr>
            <a:xfrm>
              <a:off x="6503760" y="1346040"/>
              <a:ext cx="2819880" cy="1492920"/>
              <a:chOff x="6503760" y="1346040"/>
              <a:chExt cx="2819880" cy="1492920"/>
            </a:xfrm>
          </p:grpSpPr>
          <p:sp>
            <p:nvSpPr>
              <p:cNvPr id="2179" name="Line 5"/>
              <p:cNvSpPr/>
              <p:nvPr/>
            </p:nvSpPr>
            <p:spPr>
              <a:xfrm>
                <a:off x="7021080" y="1346040"/>
                <a:ext cx="0" cy="99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Line 6"/>
              <p:cNvSpPr/>
              <p:nvPr/>
            </p:nvSpPr>
            <p:spPr>
              <a:xfrm>
                <a:off x="7021080" y="2187360"/>
                <a:ext cx="14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1" name="Group 7"/>
              <p:cNvGrpSpPr/>
              <p:nvPr/>
            </p:nvGrpSpPr>
            <p:grpSpPr>
              <a:xfrm>
                <a:off x="6503760" y="1346040"/>
                <a:ext cx="2819880" cy="1492920"/>
                <a:chOff x="6503760" y="1346040"/>
                <a:chExt cx="2819880" cy="1492920"/>
              </a:xfrm>
            </p:grpSpPr>
            <p:grpSp>
              <p:nvGrpSpPr>
                <p:cNvPr id="2182" name="Group 8"/>
                <p:cNvGrpSpPr/>
                <p:nvPr/>
              </p:nvGrpSpPr>
              <p:grpSpPr>
                <a:xfrm>
                  <a:off x="6503760" y="1346040"/>
                  <a:ext cx="2819880" cy="1492920"/>
                  <a:chOff x="6503760" y="1346040"/>
                  <a:chExt cx="2819880" cy="1492920"/>
                </a:xfrm>
              </p:grpSpPr>
              <p:grpSp>
                <p:nvGrpSpPr>
                  <p:cNvPr id="2183" name="Group 9"/>
                  <p:cNvGrpSpPr/>
                  <p:nvPr/>
                </p:nvGrpSpPr>
                <p:grpSpPr>
                  <a:xfrm>
                    <a:off x="6503760" y="1346040"/>
                    <a:ext cx="2114640" cy="1492920"/>
                    <a:chOff x="6503760" y="1346040"/>
                    <a:chExt cx="2114640" cy="1492920"/>
                  </a:xfrm>
                </p:grpSpPr>
                <p:sp>
                  <p:nvSpPr>
                    <p:cNvPr id="2184" name="AutoShape 10"/>
                    <p:cNvSpPr/>
                    <p:nvPr/>
                  </p:nvSpPr>
                  <p:spPr>
                    <a:xfrm>
                      <a:off x="6503760" y="1346040"/>
                      <a:ext cx="2114640" cy="972360"/>
                    </a:xfrm>
                    <a:prstGeom prst="parallelogram">
                      <a:avLst>
                        <a:gd name="adj" fmla="val 54369"/>
                      </a:avLst>
                    </a:prstGeom>
                    <a:noFill/>
                    <a:ln w="2844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5" name="Text Box 11"/>
                    <p:cNvSpPr/>
                    <p:nvPr/>
                  </p:nvSpPr>
                  <p:spPr>
                    <a:xfrm>
                      <a:off x="6816960" y="2318400"/>
                      <a:ext cx="1252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6" name="Text Box 12"/>
                  <p:cNvSpPr/>
                  <p:nvPr/>
                </p:nvSpPr>
                <p:spPr>
                  <a:xfrm>
                    <a:off x="8383680" y="1670400"/>
                    <a:ext cx="9399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cm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7" name="Text Box 13"/>
                <p:cNvSpPr/>
                <p:nvPr/>
              </p:nvSpPr>
              <p:spPr>
                <a:xfrm>
                  <a:off x="7080120" y="1523160"/>
                  <a:ext cx="81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6c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8" name="Group 14"/>
            <p:cNvGrpSpPr/>
            <p:nvPr/>
          </p:nvGrpSpPr>
          <p:grpSpPr>
            <a:xfrm>
              <a:off x="179280" y="1268280"/>
              <a:ext cx="8440920" cy="4202640"/>
              <a:chOff x="179280" y="1268280"/>
              <a:chExt cx="8440920" cy="4202640"/>
            </a:xfrm>
          </p:grpSpPr>
          <p:grpSp>
            <p:nvGrpSpPr>
              <p:cNvPr id="2189" name="Group 15"/>
              <p:cNvGrpSpPr/>
              <p:nvPr/>
            </p:nvGrpSpPr>
            <p:grpSpPr>
              <a:xfrm>
                <a:off x="179280" y="1268280"/>
                <a:ext cx="2518560" cy="1571760"/>
                <a:chOff x="179280" y="1268280"/>
                <a:chExt cx="2518560" cy="1571760"/>
              </a:xfrm>
            </p:grpSpPr>
            <p:sp>
              <p:nvSpPr>
                <p:cNvPr id="2190" name="Rectangle 16"/>
                <p:cNvSpPr/>
                <p:nvPr/>
              </p:nvSpPr>
              <p:spPr>
                <a:xfrm>
                  <a:off x="179280" y="1268280"/>
                  <a:ext cx="1618920" cy="1051200"/>
                </a:xfrm>
                <a:prstGeom prst="rect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Text Box 17"/>
                <p:cNvSpPr/>
                <p:nvPr/>
              </p:nvSpPr>
              <p:spPr>
                <a:xfrm>
                  <a:off x="1798200" y="1591560"/>
                  <a:ext cx="899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c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Text Box 18"/>
                <p:cNvSpPr/>
                <p:nvPr/>
              </p:nvSpPr>
              <p:spPr>
                <a:xfrm>
                  <a:off x="538920" y="2319480"/>
                  <a:ext cx="89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6c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3" name="Group 19"/>
              <p:cNvGrpSpPr/>
              <p:nvPr/>
            </p:nvGrpSpPr>
            <p:grpSpPr>
              <a:xfrm>
                <a:off x="3586320" y="1268280"/>
                <a:ext cx="1331640" cy="1763280"/>
                <a:chOff x="3586320" y="1268280"/>
                <a:chExt cx="1331640" cy="1763280"/>
              </a:xfrm>
            </p:grpSpPr>
            <p:sp>
              <p:nvSpPr>
                <p:cNvPr id="2194" name="Rectangle 20"/>
                <p:cNvSpPr/>
                <p:nvPr/>
              </p:nvSpPr>
              <p:spPr>
                <a:xfrm>
                  <a:off x="3586320" y="1268280"/>
                  <a:ext cx="1331640" cy="1224360"/>
                </a:xfrm>
                <a:prstGeom prst="rect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Text Box 21"/>
                <p:cNvSpPr/>
                <p:nvPr/>
              </p:nvSpPr>
              <p:spPr>
                <a:xfrm>
                  <a:off x="3871440" y="2511000"/>
                  <a:ext cx="951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5c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6" name="Group 22"/>
              <p:cNvGrpSpPr/>
              <p:nvPr/>
            </p:nvGrpSpPr>
            <p:grpSpPr>
              <a:xfrm>
                <a:off x="6769800" y="3722040"/>
                <a:ext cx="1850400" cy="1608480"/>
                <a:chOff x="6769800" y="3722040"/>
                <a:chExt cx="1850400" cy="1608480"/>
              </a:xfrm>
            </p:grpSpPr>
            <p:sp>
              <p:nvSpPr>
                <p:cNvPr id="2197" name="Oval 23"/>
                <p:cNvSpPr/>
                <p:nvPr/>
              </p:nvSpPr>
              <p:spPr>
                <a:xfrm>
                  <a:off x="6769800" y="3722040"/>
                  <a:ext cx="1609200" cy="160848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Line 24"/>
                <p:cNvSpPr/>
                <p:nvPr/>
              </p:nvSpPr>
              <p:spPr>
                <a:xfrm>
                  <a:off x="6894720" y="4071240"/>
                  <a:ext cx="1359360" cy="861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Text Box 25"/>
                <p:cNvSpPr/>
                <p:nvPr/>
              </p:nvSpPr>
              <p:spPr>
                <a:xfrm>
                  <a:off x="7451280" y="4014000"/>
                  <a:ext cx="116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c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0" name="Group 26"/>
              <p:cNvGrpSpPr/>
              <p:nvPr/>
            </p:nvGrpSpPr>
            <p:grpSpPr>
              <a:xfrm>
                <a:off x="2970360" y="3568320"/>
                <a:ext cx="3277800" cy="1882080"/>
                <a:chOff x="2970360" y="3568320"/>
                <a:chExt cx="3277800" cy="1882080"/>
              </a:xfrm>
            </p:grpSpPr>
            <p:sp>
              <p:nvSpPr>
                <p:cNvPr id="2201" name="Line 27"/>
                <p:cNvSpPr/>
                <p:nvPr/>
              </p:nvSpPr>
              <p:spPr>
                <a:xfrm>
                  <a:off x="3940560" y="3973680"/>
                  <a:ext cx="96660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Line 28"/>
                <p:cNvSpPr/>
                <p:nvPr/>
              </p:nvSpPr>
              <p:spPr>
                <a:xfrm>
                  <a:off x="3940560" y="3973680"/>
                  <a:ext cx="0" cy="9730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Line 29"/>
                <p:cNvSpPr/>
                <p:nvPr/>
              </p:nvSpPr>
              <p:spPr>
                <a:xfrm>
                  <a:off x="3940560" y="4946760"/>
                  <a:ext cx="153072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Line 30"/>
                <p:cNvSpPr/>
                <p:nvPr/>
              </p:nvSpPr>
              <p:spPr>
                <a:xfrm>
                  <a:off x="4907160" y="3973680"/>
                  <a:ext cx="564120" cy="97308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5" name="Group 31"/>
                <p:cNvGrpSpPr/>
                <p:nvPr/>
              </p:nvGrpSpPr>
              <p:grpSpPr>
                <a:xfrm>
                  <a:off x="3940560" y="4784760"/>
                  <a:ext cx="160920" cy="162000"/>
                  <a:chOff x="3940560" y="4784760"/>
                  <a:chExt cx="160920" cy="162000"/>
                </a:xfrm>
              </p:grpSpPr>
              <p:sp>
                <p:nvSpPr>
                  <p:cNvPr id="2206" name="Line 32"/>
                  <p:cNvSpPr/>
                  <p:nvPr/>
                </p:nvSpPr>
                <p:spPr>
                  <a:xfrm>
                    <a:off x="3940560" y="4784760"/>
                    <a:ext cx="160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7" name="Line 33"/>
                  <p:cNvSpPr/>
                  <p:nvPr/>
                </p:nvSpPr>
                <p:spPr>
                  <a:xfrm>
                    <a:off x="4101480" y="4784760"/>
                    <a:ext cx="0" cy="162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08" name="Text Box 34"/>
                <p:cNvSpPr/>
                <p:nvPr/>
              </p:nvSpPr>
              <p:spPr>
                <a:xfrm>
                  <a:off x="4262760" y="4929840"/>
                  <a:ext cx="1374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8c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Text Box 35"/>
                <p:cNvSpPr/>
                <p:nvPr/>
              </p:nvSpPr>
              <p:spPr>
                <a:xfrm>
                  <a:off x="2970360" y="4298040"/>
                  <a:ext cx="968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c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Text Box 36"/>
                <p:cNvSpPr/>
                <p:nvPr/>
              </p:nvSpPr>
              <p:spPr>
                <a:xfrm>
                  <a:off x="4101480" y="3568320"/>
                  <a:ext cx="1307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7c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Text Box 37"/>
                <p:cNvSpPr/>
                <p:nvPr/>
              </p:nvSpPr>
              <p:spPr>
                <a:xfrm>
                  <a:off x="5229720" y="4217040"/>
                  <a:ext cx="101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5c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2" name="Group 38"/>
              <p:cNvGrpSpPr/>
              <p:nvPr/>
            </p:nvGrpSpPr>
            <p:grpSpPr>
              <a:xfrm>
                <a:off x="179280" y="3465360"/>
                <a:ext cx="2665080" cy="2005560"/>
                <a:chOff x="179280" y="3465360"/>
                <a:chExt cx="2665080" cy="2005560"/>
              </a:xfrm>
            </p:grpSpPr>
            <p:grpSp>
              <p:nvGrpSpPr>
                <p:cNvPr id="2213" name="Group 39"/>
                <p:cNvGrpSpPr/>
                <p:nvPr/>
              </p:nvGrpSpPr>
              <p:grpSpPr>
                <a:xfrm>
                  <a:off x="179280" y="3465360"/>
                  <a:ext cx="2665080" cy="2005560"/>
                  <a:chOff x="179280" y="3465360"/>
                  <a:chExt cx="2665080" cy="2005560"/>
                </a:xfrm>
              </p:grpSpPr>
              <p:sp>
                <p:nvSpPr>
                  <p:cNvPr id="2214" name="AutoShape 40"/>
                  <p:cNvSpPr/>
                  <p:nvPr/>
                </p:nvSpPr>
                <p:spPr>
                  <a:xfrm>
                    <a:off x="179280" y="3792960"/>
                    <a:ext cx="2063160" cy="1150920"/>
                  </a:xfrm>
                  <a:prstGeom prst="triangle">
                    <a:avLst>
                      <a:gd name="adj" fmla="val 78301"/>
                    </a:avLst>
                  </a:prstGeom>
                  <a:noFill/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5" name="Line 41"/>
                  <p:cNvSpPr/>
                  <p:nvPr/>
                </p:nvSpPr>
                <p:spPr>
                  <a:xfrm>
                    <a:off x="1812960" y="3792960"/>
                    <a:ext cx="0" cy="1150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6" name="Group 42"/>
                  <p:cNvGrpSpPr/>
                  <p:nvPr/>
                </p:nvGrpSpPr>
                <p:grpSpPr>
                  <a:xfrm>
                    <a:off x="1812960" y="4752360"/>
                    <a:ext cx="171720" cy="191520"/>
                    <a:chOff x="1812960" y="4752360"/>
                    <a:chExt cx="171720" cy="191520"/>
                  </a:xfrm>
                </p:grpSpPr>
                <p:sp>
                  <p:nvSpPr>
                    <p:cNvPr id="2217" name="Line 43"/>
                    <p:cNvSpPr/>
                    <p:nvPr/>
                  </p:nvSpPr>
                  <p:spPr>
                    <a:xfrm>
                      <a:off x="1812960" y="4752360"/>
                      <a:ext cx="17172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8" name="Line 44"/>
                    <p:cNvSpPr/>
                    <p:nvPr/>
                  </p:nvSpPr>
                  <p:spPr>
                    <a:xfrm>
                      <a:off x="1984680" y="4752360"/>
                      <a:ext cx="0" cy="1915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19" name="Text Box 45"/>
                  <p:cNvSpPr/>
                  <p:nvPr/>
                </p:nvSpPr>
                <p:spPr>
                  <a:xfrm rot="19776000">
                    <a:off x="293040" y="3781080"/>
                    <a:ext cx="13899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cm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0" name="Text Box 46"/>
                  <p:cNvSpPr/>
                  <p:nvPr/>
                </p:nvSpPr>
                <p:spPr>
                  <a:xfrm>
                    <a:off x="1984680" y="3988800"/>
                    <a:ext cx="859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cm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Text Box 47"/>
                  <p:cNvSpPr/>
                  <p:nvPr/>
                </p:nvSpPr>
                <p:spPr>
                  <a:xfrm>
                    <a:off x="781200" y="4950360"/>
                    <a:ext cx="1117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cm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2" name="Text Box 48"/>
                <p:cNvSpPr/>
                <p:nvPr/>
              </p:nvSpPr>
              <p:spPr>
                <a:xfrm>
                  <a:off x="1000440" y="4245480"/>
                  <a:ext cx="1078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.8c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3" name="Line 49"/>
              <p:cNvSpPr/>
              <p:nvPr/>
            </p:nvSpPr>
            <p:spPr>
              <a:xfrm>
                <a:off x="7215480" y="2187360"/>
                <a:ext cx="0" cy="15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24" name="AutoShape 50"/>
          <p:cNvSpPr/>
          <p:nvPr/>
        </p:nvSpPr>
        <p:spPr>
          <a:xfrm>
            <a:off x="8352000" y="4508640"/>
            <a:ext cx="792000" cy="1412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AutoShape 51">
            <a:hlinkClick r:id="" action="ppaction://hlinkshowjump?jump=previousslide"/>
          </p:cNvPr>
          <p:cNvSpPr/>
          <p:nvPr/>
        </p:nvSpPr>
        <p:spPr>
          <a:xfrm>
            <a:off x="6732720" y="5950080"/>
            <a:ext cx="1204920" cy="66492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AutoShape 52">
            <a:hlinkClick r:id="" action="ppaction://hlinkshowjump?jump=nextslide"/>
          </p:cNvPr>
          <p:cNvSpPr/>
          <p:nvPr/>
        </p:nvSpPr>
        <p:spPr>
          <a:xfrm>
            <a:off x="7818480" y="5489640"/>
            <a:ext cx="1125360" cy="116352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3966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Text Box 4"/>
          <p:cNvSpPr/>
          <p:nvPr/>
        </p:nvSpPr>
        <p:spPr>
          <a:xfrm>
            <a:off x="324000" y="1159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，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厘米的长方形中，要求画一个最大的圆和半圆，面积分别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Text Box 5"/>
          <p:cNvSpPr/>
          <p:nvPr/>
        </p:nvSpPr>
        <p:spPr>
          <a:xfrm>
            <a:off x="468360" y="198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Text Box 6"/>
          <p:cNvSpPr/>
          <p:nvPr/>
        </p:nvSpPr>
        <p:spPr>
          <a:xfrm>
            <a:off x="1403280" y="19954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一个最大的圆，如图所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1" name="Group 9"/>
          <p:cNvGrpSpPr/>
          <p:nvPr/>
        </p:nvGrpSpPr>
        <p:grpSpPr>
          <a:xfrm>
            <a:off x="6012000" y="2924280"/>
            <a:ext cx="3024000" cy="1726920"/>
            <a:chOff x="6012000" y="2924280"/>
            <a:chExt cx="3024000" cy="1726920"/>
          </a:xfrm>
        </p:grpSpPr>
        <p:sp>
          <p:nvSpPr>
            <p:cNvPr id="2232" name="Rectangle 7"/>
            <p:cNvSpPr/>
            <p:nvPr/>
          </p:nvSpPr>
          <p:spPr>
            <a:xfrm>
              <a:off x="6012000" y="2924280"/>
              <a:ext cx="3024000" cy="172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Oval 8"/>
            <p:cNvSpPr/>
            <p:nvPr/>
          </p:nvSpPr>
          <p:spPr>
            <a:xfrm>
              <a:off x="6804000" y="2924280"/>
              <a:ext cx="1584000" cy="1726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4" name="Text Box 10"/>
          <p:cNvSpPr/>
          <p:nvPr/>
        </p:nvSpPr>
        <p:spPr>
          <a:xfrm>
            <a:off x="1476360" y="2924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图可得，最大的圆的直径等于长方形的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Text Box 11"/>
          <p:cNvSpPr/>
          <p:nvPr/>
        </p:nvSpPr>
        <p:spPr>
          <a:xfrm>
            <a:off x="1476360" y="400536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的面积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Text Box 12"/>
          <p:cNvSpPr/>
          <p:nvPr/>
        </p:nvSpPr>
        <p:spPr>
          <a:xfrm>
            <a:off x="1547640" y="4653000"/>
            <a:ext cx="518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4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÷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.14×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28.2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5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Text Box 4"/>
          <p:cNvSpPr/>
          <p:nvPr/>
        </p:nvSpPr>
        <p:spPr>
          <a:xfrm>
            <a:off x="395280" y="51444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一个最大的半圆，如图所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8" name="组合 11"/>
          <p:cNvGrpSpPr/>
          <p:nvPr/>
        </p:nvGrpSpPr>
        <p:grpSpPr>
          <a:xfrm>
            <a:off x="6156360" y="1447920"/>
            <a:ext cx="2450880" cy="1441440"/>
            <a:chOff x="6156360" y="1447920"/>
            <a:chExt cx="2450880" cy="1441440"/>
          </a:xfrm>
        </p:grpSpPr>
        <p:sp>
          <p:nvSpPr>
            <p:cNvPr id="2239" name="Rectangle 6"/>
            <p:cNvSpPr/>
            <p:nvPr/>
          </p:nvSpPr>
          <p:spPr>
            <a:xfrm>
              <a:off x="6156360" y="1447920"/>
              <a:ext cx="2448360" cy="1352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Arc 13"/>
            <p:cNvSpPr/>
            <p:nvPr/>
          </p:nvSpPr>
          <p:spPr>
            <a:xfrm flipV="1" rot="10800000">
              <a:off x="6160320" y="1625760"/>
              <a:ext cx="2446920" cy="1263600"/>
            </a:xfrm>
            <a:custGeom>
              <a:avLst/>
              <a:gdLst>
                <a:gd name="textAreaLeft" fmla="*/ 0 w 2446920"/>
                <a:gd name="textAreaRight" fmla="*/ 2447280 w 2446920"/>
                <a:gd name="textAreaTop" fmla="*/ 360 h 1263600"/>
                <a:gd name="textAreaBottom" fmla="*/ 1264320 h 1263600"/>
              </a:gdLst>
              <a:ahLst/>
              <a:rect l="textAreaLeft" t="textAreaTop" r="textAreaRight" b="textAreaBottom"/>
              <a:pathLst>
                <a:path fill="none" w="43100" h="21600">
                  <a:moveTo>
                    <a:pt x="-1" y="20178"/>
                  </a:moveTo>
                  <a:cubicBezTo>
                    <a:pt x="748" y="8825"/>
                    <a:pt x="10175" y="-1"/>
                    <a:pt x="21553" y="0"/>
                  </a:cubicBezTo>
                  <a:cubicBezTo>
                    <a:pt x="32898" y="0"/>
                    <a:pt x="42309" y="8777"/>
                    <a:pt x="43100" y="20094"/>
                  </a:cubicBezTo>
                </a:path>
                <a:path stroke="0" w="43100" h="21600">
                  <a:moveTo>
                    <a:pt x="-1" y="20178"/>
                  </a:moveTo>
                  <a:cubicBezTo>
                    <a:pt x="748" y="8825"/>
                    <a:pt x="10175" y="-1"/>
                    <a:pt x="21553" y="0"/>
                  </a:cubicBezTo>
                  <a:cubicBezTo>
                    <a:pt x="32898" y="0"/>
                    <a:pt x="42309" y="8777"/>
                    <a:pt x="43100" y="20094"/>
                  </a:cubicBezTo>
                  <a:lnTo>
                    <a:pt x="21553" y="21600"/>
                  </a:lnTo>
                  <a:lnTo>
                    <a:pt x="-1" y="2017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1" name="Text Box 15"/>
          <p:cNvSpPr/>
          <p:nvPr/>
        </p:nvSpPr>
        <p:spPr>
          <a:xfrm>
            <a:off x="611280" y="14749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由图可得，最大的半圆的直径等于长方形的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6"/>
          <p:cNvSpPr/>
          <p:nvPr/>
        </p:nvSpPr>
        <p:spPr>
          <a:xfrm>
            <a:off x="539640" y="26431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半圆的面积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Text Box 17"/>
          <p:cNvSpPr/>
          <p:nvPr/>
        </p:nvSpPr>
        <p:spPr>
          <a:xfrm>
            <a:off x="2700360" y="3357720"/>
            <a:ext cx="424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14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÷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.14×16÷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25.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8"/>
          <p:cNvSpPr/>
          <p:nvPr/>
        </p:nvSpPr>
        <p:spPr>
          <a:xfrm>
            <a:off x="826920" y="544500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最大的圆的面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.2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方厘米，最大的半圆的面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.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方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10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Text Box 2"/>
          <p:cNvSpPr/>
          <p:nvPr/>
        </p:nvSpPr>
        <p:spPr>
          <a:xfrm>
            <a:off x="762120" y="4572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两个等腰直角三角形拼成一个四边形，它有可能是什么图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6" name="Group 4"/>
          <p:cNvGrpSpPr/>
          <p:nvPr/>
        </p:nvGrpSpPr>
        <p:grpSpPr>
          <a:xfrm>
            <a:off x="3922560" y="4076640"/>
            <a:ext cx="1800360" cy="1800360"/>
            <a:chOff x="3922560" y="4076640"/>
            <a:chExt cx="1800360" cy="1800360"/>
          </a:xfrm>
        </p:grpSpPr>
        <p:sp>
          <p:nvSpPr>
            <p:cNvPr id="2247" name="AutoShape 5"/>
            <p:cNvSpPr/>
            <p:nvPr/>
          </p:nvSpPr>
          <p:spPr>
            <a:xfrm>
              <a:off x="3922560" y="4076640"/>
              <a:ext cx="1800360" cy="1800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6"/>
            <p:cNvSpPr/>
            <p:nvPr/>
          </p:nvSpPr>
          <p:spPr>
            <a:xfrm>
              <a:off x="3922560" y="5661000"/>
              <a:ext cx="217440" cy="21600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7"/>
          <p:cNvGrpSpPr/>
          <p:nvPr/>
        </p:nvGrpSpPr>
        <p:grpSpPr>
          <a:xfrm>
            <a:off x="3922200" y="4076280"/>
            <a:ext cx="1800720" cy="1800360"/>
            <a:chOff x="3922200" y="4076280"/>
            <a:chExt cx="1800720" cy="1800360"/>
          </a:xfrm>
        </p:grpSpPr>
        <p:sp>
          <p:nvSpPr>
            <p:cNvPr id="2250" name="AutoShape 8"/>
            <p:cNvSpPr/>
            <p:nvPr/>
          </p:nvSpPr>
          <p:spPr>
            <a:xfrm rot="10800000">
              <a:off x="3922200" y="4076280"/>
              <a:ext cx="1800360" cy="180036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9"/>
            <p:cNvSpPr/>
            <p:nvPr/>
          </p:nvSpPr>
          <p:spPr>
            <a:xfrm>
              <a:off x="5505120" y="4076640"/>
              <a:ext cx="217800" cy="21600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2" name="Group 10"/>
          <p:cNvGrpSpPr/>
          <p:nvPr/>
        </p:nvGrpSpPr>
        <p:grpSpPr>
          <a:xfrm>
            <a:off x="5434920" y="2060640"/>
            <a:ext cx="1800360" cy="1800000"/>
            <a:chOff x="5434920" y="2060640"/>
            <a:chExt cx="1800360" cy="1800000"/>
          </a:xfrm>
        </p:grpSpPr>
        <p:sp>
          <p:nvSpPr>
            <p:cNvPr id="2253" name="AutoShape 11"/>
            <p:cNvSpPr/>
            <p:nvPr/>
          </p:nvSpPr>
          <p:spPr>
            <a:xfrm flipH="1" rot="10800000">
              <a:off x="5434560" y="2060640"/>
              <a:ext cx="1800360" cy="1800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12"/>
            <p:cNvSpPr/>
            <p:nvPr/>
          </p:nvSpPr>
          <p:spPr>
            <a:xfrm>
              <a:off x="5457960" y="2060640"/>
              <a:ext cx="217440" cy="21564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5" name="Group 13"/>
          <p:cNvGrpSpPr/>
          <p:nvPr/>
        </p:nvGrpSpPr>
        <p:grpSpPr>
          <a:xfrm>
            <a:off x="108000" y="2060640"/>
            <a:ext cx="1800000" cy="1800000"/>
            <a:chOff x="108000" y="2060640"/>
            <a:chExt cx="1800000" cy="1800000"/>
          </a:xfrm>
        </p:grpSpPr>
        <p:sp>
          <p:nvSpPr>
            <p:cNvPr id="2256" name="AutoShape 14"/>
            <p:cNvSpPr/>
            <p:nvPr/>
          </p:nvSpPr>
          <p:spPr>
            <a:xfrm flipH="1" flipV="1">
              <a:off x="107640" y="2060640"/>
              <a:ext cx="1800000" cy="1800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15"/>
            <p:cNvSpPr/>
            <p:nvPr/>
          </p:nvSpPr>
          <p:spPr>
            <a:xfrm flipV="1">
              <a:off x="1690200" y="2060640"/>
              <a:ext cx="217440" cy="21564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8" name="Group 16"/>
          <p:cNvGrpSpPr/>
          <p:nvPr/>
        </p:nvGrpSpPr>
        <p:grpSpPr>
          <a:xfrm>
            <a:off x="1908000" y="2060640"/>
            <a:ext cx="1800360" cy="1800000"/>
            <a:chOff x="1908000" y="2060640"/>
            <a:chExt cx="1800360" cy="1800000"/>
          </a:xfrm>
        </p:grpSpPr>
        <p:sp>
          <p:nvSpPr>
            <p:cNvPr id="2259" name="AutoShape 17"/>
            <p:cNvSpPr/>
            <p:nvPr/>
          </p:nvSpPr>
          <p:spPr>
            <a:xfrm>
              <a:off x="1908000" y="2060640"/>
              <a:ext cx="1800360" cy="180000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18"/>
            <p:cNvSpPr/>
            <p:nvPr/>
          </p:nvSpPr>
          <p:spPr>
            <a:xfrm>
              <a:off x="1908000" y="3644640"/>
              <a:ext cx="217440" cy="21564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1" name="Group 19"/>
          <p:cNvGrpSpPr/>
          <p:nvPr/>
        </p:nvGrpSpPr>
        <p:grpSpPr>
          <a:xfrm>
            <a:off x="5452560" y="2087640"/>
            <a:ext cx="3566160" cy="3575880"/>
            <a:chOff x="5452560" y="2087640"/>
            <a:chExt cx="3566160" cy="3575880"/>
          </a:xfrm>
        </p:grpSpPr>
        <p:sp>
          <p:nvSpPr>
            <p:cNvPr id="2262" name="AutoShape 20"/>
            <p:cNvSpPr/>
            <p:nvPr/>
          </p:nvSpPr>
          <p:spPr>
            <a:xfrm rot="8104200">
              <a:off x="5989320" y="2604600"/>
              <a:ext cx="2492280" cy="25513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21"/>
            <p:cNvSpPr/>
            <p:nvPr/>
          </p:nvSpPr>
          <p:spPr>
            <a:xfrm rot="2885400">
              <a:off x="7112880" y="2132640"/>
              <a:ext cx="217440" cy="216000"/>
            </a:xfrm>
            <a:prstGeom prst="rect">
              <a:avLst/>
            </a:prstGeom>
            <a:solidFill>
              <a:srgbClr val="bbe0e3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4" name="Text Box 22"/>
          <p:cNvSpPr/>
          <p:nvPr/>
        </p:nvSpPr>
        <p:spPr>
          <a:xfrm>
            <a:off x="4067280" y="5877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Text Box 23"/>
          <p:cNvSpPr/>
          <p:nvPr/>
        </p:nvSpPr>
        <p:spPr>
          <a:xfrm>
            <a:off x="6323040" y="3932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角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Text Box 24"/>
          <p:cNvSpPr/>
          <p:nvPr/>
        </p:nvSpPr>
        <p:spPr>
          <a:xfrm>
            <a:off x="1330200" y="3932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7" name="矩形 1" descr=""/>
          <p:cNvPicPr/>
          <p:nvPr/>
        </p:nvPicPr>
        <p:blipFill>
          <a:blip r:embed="rId1"/>
          <a:stretch/>
        </p:blipFill>
        <p:spPr>
          <a:xfrm>
            <a:off x="152280" y="0"/>
            <a:ext cx="2640240" cy="1225440"/>
          </a:xfrm>
          <a:prstGeom prst="rect">
            <a:avLst/>
          </a:prstGeom>
          <a:ln w="0">
            <a:noFill/>
          </a:ln>
        </p:spPr>
      </p:pic>
      <p:pic>
        <p:nvPicPr>
          <p:cNvPr id="2058" name="Picture 2" descr="C:\Users\Administrator\Desktop\工作台\32.平面图形\画廊_平面图形\1.jpg"/>
          <p:cNvPicPr/>
          <p:nvPr/>
        </p:nvPicPr>
        <p:blipFill>
          <a:blip r:embed="rId2"/>
          <a:stretch/>
        </p:blipFill>
        <p:spPr>
          <a:xfrm>
            <a:off x="609480" y="31240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2059" name="Picture 3" descr="C:\Users\Administrator\Desktop\工作台\32.平面图形\画廊_平面图形\2.png"/>
          <p:cNvPicPr/>
          <p:nvPr/>
        </p:nvPicPr>
        <p:blipFill>
          <a:blip r:embed="rId3"/>
          <a:stretch/>
        </p:blipFill>
        <p:spPr>
          <a:xfrm>
            <a:off x="5105520" y="1523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4" descr="C:\Users\Administrator\Desktop\工作台\32.平面图形\画廊_平面图形\3.jpg"/>
          <p:cNvPicPr/>
          <p:nvPr/>
        </p:nvPicPr>
        <p:blipFill>
          <a:blip r:embed="rId4"/>
          <a:stretch/>
        </p:blipFill>
        <p:spPr>
          <a:xfrm>
            <a:off x="990720" y="15238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2061" name="Picture 5" descr="C:\Users\Administrator\Desktop\工作台\32.平面图形\画廊_平面图形\4.jpg"/>
          <p:cNvPicPr/>
          <p:nvPr/>
        </p:nvPicPr>
        <p:blipFill>
          <a:blip r:embed="rId5"/>
          <a:stretch/>
        </p:blipFill>
        <p:spPr>
          <a:xfrm>
            <a:off x="5181480" y="3657600"/>
            <a:ext cx="23320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Rectangle 2"/>
          <p:cNvSpPr/>
          <p:nvPr/>
        </p:nvSpPr>
        <p:spPr>
          <a:xfrm>
            <a:off x="971640" y="952920"/>
            <a:ext cx="781200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图中有哪两个三角形的面积相等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你能找出几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3" name="梯形（思考题）.avi" descr=""/>
          <p:cNvPicPr/>
          <p:nvPr/>
        </p:nvPicPr>
        <p:blipFill>
          <a:blip r:embed="rId1"/>
          <a:stretch/>
        </p:blipFill>
        <p:spPr>
          <a:xfrm>
            <a:off x="2514600" y="2041560"/>
            <a:ext cx="6095880" cy="4435560"/>
          </a:xfrm>
          <a:prstGeom prst="rect">
            <a:avLst/>
          </a:prstGeom>
          <a:ln w="0">
            <a:noFill/>
          </a:ln>
        </p:spPr>
      </p:pic>
      <p:sp>
        <p:nvSpPr>
          <p:cNvPr id="2064" name="Text Box 4"/>
          <p:cNvSpPr/>
          <p:nvPr/>
        </p:nvSpPr>
        <p:spPr>
          <a:xfrm>
            <a:off x="5562720" y="41911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5" name="Picture 5" descr="未标题-6 副本"/>
          <p:cNvPicPr/>
          <p:nvPr/>
        </p:nvPicPr>
        <p:blipFill>
          <a:blip r:embed="rId2"/>
          <a:stretch/>
        </p:blipFill>
        <p:spPr>
          <a:xfrm>
            <a:off x="3529080" y="3033720"/>
            <a:ext cx="4324320" cy="2597040"/>
          </a:xfrm>
          <a:prstGeom prst="rect">
            <a:avLst/>
          </a:prstGeom>
          <a:ln w="0">
            <a:noFill/>
          </a:ln>
        </p:spPr>
      </p:pic>
      <p:pic>
        <p:nvPicPr>
          <p:cNvPr id="2066" name="Picture 6" descr="未标题-6 副本1"/>
          <p:cNvPicPr/>
          <p:nvPr/>
        </p:nvPicPr>
        <p:blipFill>
          <a:blip r:embed="rId3"/>
          <a:stretch/>
        </p:blipFill>
        <p:spPr>
          <a:xfrm>
            <a:off x="3529080" y="3049560"/>
            <a:ext cx="4319640" cy="2594160"/>
          </a:xfrm>
          <a:prstGeom prst="rect">
            <a:avLst/>
          </a:prstGeom>
          <a:ln w="0">
            <a:noFill/>
          </a:ln>
        </p:spPr>
      </p:pic>
      <p:pic>
        <p:nvPicPr>
          <p:cNvPr id="2067" name="Picture 7" descr="未标题-6 副本11"/>
          <p:cNvPicPr/>
          <p:nvPr/>
        </p:nvPicPr>
        <p:blipFill>
          <a:blip r:embed="rId4"/>
          <a:stretch/>
        </p:blipFill>
        <p:spPr>
          <a:xfrm>
            <a:off x="3524400" y="3046320"/>
            <a:ext cx="4343400" cy="2608200"/>
          </a:xfrm>
          <a:prstGeom prst="rect">
            <a:avLst/>
          </a:prstGeom>
          <a:ln w="0">
            <a:noFill/>
          </a:ln>
        </p:spPr>
      </p:pic>
      <p:pic>
        <p:nvPicPr>
          <p:cNvPr id="2068" name="Picture 8" descr="未标题-7 副本"/>
          <p:cNvPicPr/>
          <p:nvPr/>
        </p:nvPicPr>
        <p:blipFill>
          <a:blip r:embed="rId5"/>
          <a:stretch/>
        </p:blipFill>
        <p:spPr>
          <a:xfrm>
            <a:off x="3538440" y="3048120"/>
            <a:ext cx="4295880" cy="2597040"/>
          </a:xfrm>
          <a:prstGeom prst="rect">
            <a:avLst/>
          </a:prstGeom>
          <a:ln w="0">
            <a:noFill/>
          </a:ln>
        </p:spPr>
      </p:pic>
      <p:pic>
        <p:nvPicPr>
          <p:cNvPr id="2069" name="Picture 9" descr="未标题-7 副本1"/>
          <p:cNvPicPr/>
          <p:nvPr/>
        </p:nvPicPr>
        <p:blipFill>
          <a:blip r:embed="rId6"/>
          <a:stretch/>
        </p:blipFill>
        <p:spPr>
          <a:xfrm>
            <a:off x="3519360" y="3025800"/>
            <a:ext cx="4348440" cy="2628720"/>
          </a:xfrm>
          <a:prstGeom prst="rect">
            <a:avLst/>
          </a:prstGeom>
          <a:ln w="0">
            <a:noFill/>
          </a:ln>
        </p:spPr>
      </p:pic>
      <p:pic>
        <p:nvPicPr>
          <p:cNvPr id="2070" name="Picture 10" descr="未标题-7 副本11"/>
          <p:cNvPicPr/>
          <p:nvPr/>
        </p:nvPicPr>
        <p:blipFill>
          <a:blip r:embed="rId7"/>
          <a:stretch/>
        </p:blipFill>
        <p:spPr>
          <a:xfrm>
            <a:off x="3514680" y="3029040"/>
            <a:ext cx="4343400" cy="26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063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2063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2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Rectangle 2"/>
          <p:cNvSpPr/>
          <p:nvPr/>
        </p:nvSpPr>
        <p:spPr>
          <a:xfrm>
            <a:off x="971640" y="810000"/>
            <a:ext cx="75247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图中有哪两个三角形的面积相等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你能找出几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2" name="梯形（思考题）.avi" descr=""/>
          <p:cNvPicPr/>
          <p:nvPr/>
        </p:nvPicPr>
        <p:blipFill>
          <a:blip r:embed="rId1"/>
          <a:stretch/>
        </p:blipFill>
        <p:spPr>
          <a:xfrm>
            <a:off x="2514600" y="2041560"/>
            <a:ext cx="6095880" cy="4435560"/>
          </a:xfrm>
          <a:prstGeom prst="rect">
            <a:avLst/>
          </a:prstGeom>
          <a:ln w="0">
            <a:noFill/>
          </a:ln>
        </p:spPr>
      </p:pic>
      <p:sp>
        <p:nvSpPr>
          <p:cNvPr id="2073" name="Text Box 4"/>
          <p:cNvSpPr/>
          <p:nvPr/>
        </p:nvSpPr>
        <p:spPr>
          <a:xfrm>
            <a:off x="5562720" y="41911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4" name="Picture 5" descr="未标题-4 副本"/>
          <p:cNvPicPr/>
          <p:nvPr/>
        </p:nvPicPr>
        <p:blipFill>
          <a:blip r:embed="rId2"/>
          <a:stretch/>
        </p:blipFill>
        <p:spPr>
          <a:xfrm>
            <a:off x="3524400" y="3048120"/>
            <a:ext cx="2550960" cy="2590560"/>
          </a:xfrm>
          <a:prstGeom prst="rect">
            <a:avLst/>
          </a:prstGeom>
          <a:ln w="0">
            <a:noFill/>
          </a:ln>
        </p:spPr>
      </p:pic>
      <p:pic>
        <p:nvPicPr>
          <p:cNvPr id="2075" name="Picture 6" descr="未标题-4 副本1"/>
          <p:cNvPicPr/>
          <p:nvPr/>
        </p:nvPicPr>
        <p:blipFill>
          <a:blip r:embed="rId3"/>
          <a:stretch/>
        </p:blipFill>
        <p:spPr>
          <a:xfrm>
            <a:off x="3514680" y="3048120"/>
            <a:ext cx="2551320" cy="2590560"/>
          </a:xfrm>
          <a:prstGeom prst="rect">
            <a:avLst/>
          </a:prstGeom>
          <a:ln w="0">
            <a:noFill/>
          </a:ln>
        </p:spPr>
      </p:pic>
      <p:pic>
        <p:nvPicPr>
          <p:cNvPr id="2076" name="Picture 7" descr="未标题-4 副本11"/>
          <p:cNvPicPr/>
          <p:nvPr/>
        </p:nvPicPr>
        <p:blipFill>
          <a:blip r:embed="rId4"/>
          <a:stretch/>
        </p:blipFill>
        <p:spPr>
          <a:xfrm>
            <a:off x="3519360" y="3024360"/>
            <a:ext cx="2575080" cy="2614320"/>
          </a:xfrm>
          <a:prstGeom prst="rect">
            <a:avLst/>
          </a:prstGeom>
          <a:ln w="0">
            <a:noFill/>
          </a:ln>
        </p:spPr>
      </p:pic>
      <p:pic>
        <p:nvPicPr>
          <p:cNvPr id="2077" name="Picture 8" descr="未标题-5 副本"/>
          <p:cNvPicPr/>
          <p:nvPr/>
        </p:nvPicPr>
        <p:blipFill>
          <a:blip r:embed="rId5"/>
          <a:stretch/>
        </p:blipFill>
        <p:spPr>
          <a:xfrm>
            <a:off x="3600360" y="3048120"/>
            <a:ext cx="4272120" cy="2554200"/>
          </a:xfrm>
          <a:prstGeom prst="rect">
            <a:avLst/>
          </a:prstGeom>
          <a:ln w="0">
            <a:noFill/>
          </a:ln>
        </p:spPr>
      </p:pic>
      <p:pic>
        <p:nvPicPr>
          <p:cNvPr id="2078" name="Picture 9" descr="未标题-5 副本11"/>
          <p:cNvPicPr/>
          <p:nvPr/>
        </p:nvPicPr>
        <p:blipFill>
          <a:blip r:embed="rId6"/>
          <a:stretch/>
        </p:blipFill>
        <p:spPr>
          <a:xfrm>
            <a:off x="3571920" y="3048120"/>
            <a:ext cx="4343400" cy="2598480"/>
          </a:xfrm>
          <a:prstGeom prst="rect">
            <a:avLst/>
          </a:prstGeom>
          <a:ln w="0">
            <a:noFill/>
          </a:ln>
        </p:spPr>
      </p:pic>
      <p:pic>
        <p:nvPicPr>
          <p:cNvPr id="2079" name="Picture 10" descr="未标题-5 副本1"/>
          <p:cNvPicPr/>
          <p:nvPr/>
        </p:nvPicPr>
        <p:blipFill>
          <a:blip r:embed="rId7"/>
          <a:stretch/>
        </p:blipFill>
        <p:spPr>
          <a:xfrm>
            <a:off x="3595680" y="3048120"/>
            <a:ext cx="426708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072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072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20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Rectangle 2"/>
          <p:cNvSpPr/>
          <p:nvPr/>
        </p:nvSpPr>
        <p:spPr>
          <a:xfrm>
            <a:off x="971640" y="665640"/>
            <a:ext cx="77407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图中有哪两个三角形的面积相等？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你能找出几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1" name="梯形（思考题）.avi" descr=""/>
          <p:cNvPicPr/>
          <p:nvPr/>
        </p:nvPicPr>
        <p:blipFill>
          <a:blip r:embed="rId1"/>
          <a:stretch/>
        </p:blipFill>
        <p:spPr>
          <a:xfrm>
            <a:off x="2514600" y="2041560"/>
            <a:ext cx="6095880" cy="4435560"/>
          </a:xfrm>
          <a:prstGeom prst="rect">
            <a:avLst/>
          </a:prstGeom>
          <a:ln w="0">
            <a:noFill/>
          </a:ln>
        </p:spPr>
      </p:pic>
      <p:sp>
        <p:nvSpPr>
          <p:cNvPr id="2082" name="Text Box 4"/>
          <p:cNvSpPr/>
          <p:nvPr/>
        </p:nvSpPr>
        <p:spPr>
          <a:xfrm>
            <a:off x="5562720" y="419112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3" name="Picture 5" descr="未标题-3 副本"/>
          <p:cNvPicPr/>
          <p:nvPr/>
        </p:nvPicPr>
        <p:blipFill>
          <a:blip r:embed="rId2"/>
          <a:stretch/>
        </p:blipFill>
        <p:spPr>
          <a:xfrm>
            <a:off x="3505320" y="3048120"/>
            <a:ext cx="1614240" cy="2590560"/>
          </a:xfrm>
          <a:prstGeom prst="rect">
            <a:avLst/>
          </a:prstGeom>
          <a:ln w="0">
            <a:noFill/>
          </a:ln>
        </p:spPr>
      </p:pic>
      <p:pic>
        <p:nvPicPr>
          <p:cNvPr id="2084" name="Picture 6" descr="未标题-3 副本1"/>
          <p:cNvPicPr/>
          <p:nvPr/>
        </p:nvPicPr>
        <p:blipFill>
          <a:blip r:embed="rId3"/>
          <a:stretch/>
        </p:blipFill>
        <p:spPr>
          <a:xfrm>
            <a:off x="3505320" y="3048120"/>
            <a:ext cx="1614240" cy="2590560"/>
          </a:xfrm>
          <a:prstGeom prst="rect">
            <a:avLst/>
          </a:prstGeom>
          <a:ln w="0">
            <a:noFill/>
          </a:ln>
        </p:spPr>
      </p:pic>
      <p:pic>
        <p:nvPicPr>
          <p:cNvPr id="2085" name="Picture 7" descr="未标题-3 副本11"/>
          <p:cNvPicPr/>
          <p:nvPr/>
        </p:nvPicPr>
        <p:blipFill>
          <a:blip r:embed="rId4"/>
          <a:stretch/>
        </p:blipFill>
        <p:spPr>
          <a:xfrm>
            <a:off x="3519360" y="3048120"/>
            <a:ext cx="1614600" cy="2590560"/>
          </a:xfrm>
          <a:prstGeom prst="rect">
            <a:avLst/>
          </a:prstGeom>
          <a:ln w="0">
            <a:noFill/>
          </a:ln>
        </p:spPr>
      </p:pic>
      <p:pic>
        <p:nvPicPr>
          <p:cNvPr id="2086" name="Picture 8" descr="未标题-2 副本"/>
          <p:cNvPicPr/>
          <p:nvPr/>
        </p:nvPicPr>
        <p:blipFill>
          <a:blip r:embed="rId5"/>
          <a:stretch/>
        </p:blipFill>
        <p:spPr>
          <a:xfrm>
            <a:off x="5181480" y="3062160"/>
            <a:ext cx="2695680" cy="254664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9" descr="未标题-2 副本1"/>
          <p:cNvPicPr/>
          <p:nvPr/>
        </p:nvPicPr>
        <p:blipFill>
          <a:blip r:embed="rId6"/>
          <a:stretch/>
        </p:blipFill>
        <p:spPr>
          <a:xfrm>
            <a:off x="5172120" y="3048120"/>
            <a:ext cx="2733480" cy="2582640"/>
          </a:xfrm>
          <a:prstGeom prst="rect">
            <a:avLst/>
          </a:prstGeom>
          <a:ln w="0">
            <a:noFill/>
          </a:ln>
        </p:spPr>
      </p:pic>
      <p:pic>
        <p:nvPicPr>
          <p:cNvPr id="2088" name="Picture 10" descr="未标题-2 副本11"/>
          <p:cNvPicPr/>
          <p:nvPr/>
        </p:nvPicPr>
        <p:blipFill>
          <a:blip r:embed="rId7"/>
          <a:stretch/>
        </p:blipFill>
        <p:spPr>
          <a:xfrm>
            <a:off x="5167440" y="3062160"/>
            <a:ext cx="2695320" cy="2546640"/>
          </a:xfrm>
          <a:prstGeom prst="rect">
            <a:avLst/>
          </a:prstGeom>
          <a:ln w="0">
            <a:noFill/>
          </a:ln>
        </p:spPr>
      </p:pic>
      <p:sp>
        <p:nvSpPr>
          <p:cNvPr id="2089" name="AutoShape 11"/>
          <p:cNvSpPr/>
          <p:nvPr/>
        </p:nvSpPr>
        <p:spPr>
          <a:xfrm>
            <a:off x="8352000" y="4508640"/>
            <a:ext cx="792000" cy="1412640"/>
          </a:xfrm>
          <a:prstGeom prst="sun">
            <a:avLst>
              <a:gd name="adj" fmla="val 25000"/>
            </a:avLst>
          </a:prstGeom>
          <a:blipFill rotWithShape="0">
            <a:blip r:embed="rId8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AutoShape 12">
            <a:hlinkClick r:id="" action="ppaction://hlinkshowjump?jump=previousslide"/>
          </p:cNvPr>
          <p:cNvSpPr/>
          <p:nvPr/>
        </p:nvSpPr>
        <p:spPr>
          <a:xfrm>
            <a:off x="6732720" y="5950080"/>
            <a:ext cx="1204920" cy="664920"/>
          </a:xfrm>
          <a:prstGeom prst="sun">
            <a:avLst>
              <a:gd name="adj" fmla="val 25000"/>
            </a:avLst>
          </a:prstGeom>
          <a:blipFill rotWithShape="0">
            <a:blip r:embed="rId9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AutoShape 13">
            <a:hlinkClick r:id="" action="ppaction://hlinkshowjump?jump=nextslide"/>
          </p:cNvPr>
          <p:cNvSpPr/>
          <p:nvPr/>
        </p:nvSpPr>
        <p:spPr>
          <a:xfrm>
            <a:off x="7740720" y="5694480"/>
            <a:ext cx="1125360" cy="1163520"/>
          </a:xfrm>
          <a:prstGeom prst="sun">
            <a:avLst>
              <a:gd name="adj" fmla="val 25000"/>
            </a:avLst>
          </a:prstGeom>
          <a:blipFill rotWithShape="0">
            <a:blip r:embed="rId10"/>
            <a:srcRect/>
            <a:stretch/>
          </a:blipFill>
          <a:ln w="0">
            <a:noFill/>
          </a:ln>
          <a:effectLst>
            <a:outerShdw dist="53966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081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081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20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2" name="Group 2"/>
          <p:cNvGrpSpPr/>
          <p:nvPr/>
        </p:nvGrpSpPr>
        <p:grpSpPr>
          <a:xfrm>
            <a:off x="181080" y="3701880"/>
            <a:ext cx="5975280" cy="3112920"/>
            <a:chOff x="181080" y="3701880"/>
            <a:chExt cx="5975280" cy="3112920"/>
          </a:xfrm>
        </p:grpSpPr>
        <p:grpSp>
          <p:nvGrpSpPr>
            <p:cNvPr id="2093" name="Group 3"/>
            <p:cNvGrpSpPr/>
            <p:nvPr/>
          </p:nvGrpSpPr>
          <p:grpSpPr>
            <a:xfrm>
              <a:off x="1836720" y="5860800"/>
              <a:ext cx="4319640" cy="954000"/>
              <a:chOff x="1836720" y="5860800"/>
              <a:chExt cx="4319640" cy="954000"/>
            </a:xfrm>
          </p:grpSpPr>
          <p:sp>
            <p:nvSpPr>
              <p:cNvPr id="2094" name="AutoShape 4"/>
              <p:cNvSpPr/>
              <p:nvPr/>
            </p:nvSpPr>
            <p:spPr>
              <a:xfrm rot="16200000">
                <a:off x="3779640" y="3917520"/>
                <a:ext cx="433440" cy="4319640"/>
              </a:xfrm>
              <a:custGeom>
                <a:avLst/>
                <a:gdLst>
                  <a:gd name="textAreaLeft" fmla="*/ 276840 w 433440"/>
                  <a:gd name="textAreaRight" fmla="*/ 433800 w 433440"/>
                  <a:gd name="textAreaTop" fmla="*/ 112320 h 4319640"/>
                  <a:gd name="textAreaBottom" fmla="*/ 4207320 h 431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Text Box 5"/>
              <p:cNvSpPr/>
              <p:nvPr/>
            </p:nvSpPr>
            <p:spPr>
              <a:xfrm>
                <a:off x="3276720" y="6294240"/>
                <a:ext cx="187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厘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6" name="Group 6"/>
            <p:cNvGrpSpPr/>
            <p:nvPr/>
          </p:nvGrpSpPr>
          <p:grpSpPr>
            <a:xfrm>
              <a:off x="181080" y="3703320"/>
              <a:ext cx="2519280" cy="2158920"/>
              <a:chOff x="181080" y="3703320"/>
              <a:chExt cx="2519280" cy="2158920"/>
            </a:xfrm>
          </p:grpSpPr>
          <p:sp>
            <p:nvSpPr>
              <p:cNvPr id="2097" name="AutoShape 7"/>
              <p:cNvSpPr/>
              <p:nvPr/>
            </p:nvSpPr>
            <p:spPr>
              <a:xfrm>
                <a:off x="1621080" y="3703320"/>
                <a:ext cx="215640" cy="215892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56160 h 2158920"/>
                  <a:gd name="textAreaBottom" fmla="*/ 2102760 h 215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Text Box 8"/>
              <p:cNvSpPr/>
              <p:nvPr/>
            </p:nvSpPr>
            <p:spPr>
              <a:xfrm>
                <a:off x="181080" y="4479480"/>
                <a:ext cx="2519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厘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9" name="Rectangle 9"/>
            <p:cNvSpPr/>
            <p:nvPr/>
          </p:nvSpPr>
          <p:spPr>
            <a:xfrm>
              <a:off x="1836720" y="3701880"/>
              <a:ext cx="4318200" cy="2158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0" name="Group 10"/>
          <p:cNvGrpSpPr/>
          <p:nvPr/>
        </p:nvGrpSpPr>
        <p:grpSpPr>
          <a:xfrm>
            <a:off x="216000" y="1484280"/>
            <a:ext cx="3851280" cy="1746000"/>
            <a:chOff x="216000" y="1484280"/>
            <a:chExt cx="3851280" cy="1746000"/>
          </a:xfrm>
        </p:grpSpPr>
        <p:sp>
          <p:nvSpPr>
            <p:cNvPr id="2101" name="AutoShape 11"/>
            <p:cNvSpPr/>
            <p:nvPr/>
          </p:nvSpPr>
          <p:spPr>
            <a:xfrm>
              <a:off x="1657440" y="1484280"/>
              <a:ext cx="1079640" cy="863640"/>
            </a:xfrm>
            <a:prstGeom prst="rtTriangl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2" name="Group 12"/>
            <p:cNvGrpSpPr/>
            <p:nvPr/>
          </p:nvGrpSpPr>
          <p:grpSpPr>
            <a:xfrm>
              <a:off x="216000" y="1485720"/>
              <a:ext cx="1403280" cy="863640"/>
              <a:chOff x="216000" y="1485720"/>
              <a:chExt cx="1403280" cy="863640"/>
            </a:xfrm>
          </p:grpSpPr>
          <p:sp>
            <p:nvSpPr>
              <p:cNvPr id="2103" name="AutoShape 13"/>
              <p:cNvSpPr/>
              <p:nvPr/>
            </p:nvSpPr>
            <p:spPr>
              <a:xfrm>
                <a:off x="1474920" y="1485720"/>
                <a:ext cx="144360" cy="863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22320 h 863640"/>
                  <a:gd name="textAreaBottom" fmla="*/ 841320 h 86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Text Box 14"/>
              <p:cNvSpPr/>
              <p:nvPr/>
            </p:nvSpPr>
            <p:spPr>
              <a:xfrm>
                <a:off x="216000" y="1557000"/>
                <a:ext cx="12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2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厘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5" name="Text Box 15"/>
            <p:cNvSpPr/>
            <p:nvPr/>
          </p:nvSpPr>
          <p:spPr>
            <a:xfrm>
              <a:off x="1835280" y="2709720"/>
              <a:ext cx="22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厘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AutoShape 16"/>
            <p:cNvSpPr/>
            <p:nvPr/>
          </p:nvSpPr>
          <p:spPr>
            <a:xfrm rot="16200000">
              <a:off x="2033640" y="1971360"/>
              <a:ext cx="289080" cy="1044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7000 h 1044360"/>
                <a:gd name="textAreaBottom" fmla="*/ 1017360 h 10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17"/>
          <p:cNvGrpSpPr/>
          <p:nvPr/>
        </p:nvGrpSpPr>
        <p:grpSpPr>
          <a:xfrm>
            <a:off x="3132000" y="836640"/>
            <a:ext cx="5543280" cy="2592000"/>
            <a:chOff x="3132000" y="836640"/>
            <a:chExt cx="5543280" cy="2592000"/>
          </a:xfrm>
        </p:grpSpPr>
        <p:sp>
          <p:nvSpPr>
            <p:cNvPr id="2108" name="AutoShape 18"/>
            <p:cNvSpPr/>
            <p:nvPr/>
          </p:nvSpPr>
          <p:spPr>
            <a:xfrm>
              <a:off x="3132000" y="836640"/>
              <a:ext cx="5543280" cy="2592000"/>
            </a:xfrm>
            <a:prstGeom prst="cloudCallout">
              <a:avLst>
                <a:gd name="adj1" fmla="val -40481"/>
                <a:gd name="adj2" fmla="val 5406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Text Box 19"/>
            <p:cNvSpPr/>
            <p:nvPr/>
          </p:nvSpPr>
          <p:spPr>
            <a:xfrm>
              <a:off x="3248640" y="1810080"/>
              <a:ext cx="515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最多可以剪多少个三角形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0" name="AutoShape 20"/>
          <p:cNvSpPr/>
          <p:nvPr/>
        </p:nvSpPr>
        <p:spPr>
          <a:xfrm>
            <a:off x="8352000" y="4508640"/>
            <a:ext cx="792000" cy="1412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AutoShape 21">
            <a:hlinkClick r:id="" action="ppaction://hlinkshowjump?jump=previousslide"/>
          </p:cNvPr>
          <p:cNvSpPr/>
          <p:nvPr/>
        </p:nvSpPr>
        <p:spPr>
          <a:xfrm>
            <a:off x="6732720" y="5950080"/>
            <a:ext cx="1204920" cy="66492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AutoShape 22">
            <a:hlinkClick r:id="" action="ppaction://hlinkshowjump?jump=nextslide"/>
          </p:cNvPr>
          <p:cNvSpPr/>
          <p:nvPr/>
        </p:nvSpPr>
        <p:spPr>
          <a:xfrm>
            <a:off x="7740720" y="5694480"/>
            <a:ext cx="1125360" cy="116352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3966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AutoShape 2"/>
          <p:cNvSpPr/>
          <p:nvPr/>
        </p:nvSpPr>
        <p:spPr>
          <a:xfrm rot="16200000">
            <a:off x="4536000" y="2888280"/>
            <a:ext cx="503280" cy="432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AutoShape 3"/>
          <p:cNvSpPr/>
          <p:nvPr/>
        </p:nvSpPr>
        <p:spPr>
          <a:xfrm>
            <a:off x="2411280" y="2638440"/>
            <a:ext cx="216000" cy="2158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Text Box 4"/>
          <p:cNvSpPr/>
          <p:nvPr/>
        </p:nvSpPr>
        <p:spPr>
          <a:xfrm>
            <a:off x="4067280" y="5229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Text Box 5"/>
          <p:cNvSpPr/>
          <p:nvPr/>
        </p:nvSpPr>
        <p:spPr>
          <a:xfrm>
            <a:off x="971640" y="34146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6"/>
          <p:cNvSpPr/>
          <p:nvPr/>
        </p:nvSpPr>
        <p:spPr>
          <a:xfrm>
            <a:off x="2627280" y="2637000"/>
            <a:ext cx="4318200" cy="2158920"/>
          </a:xfrm>
          <a:prstGeom prst="rect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AutoShape 7"/>
          <p:cNvSpPr/>
          <p:nvPr/>
        </p:nvSpPr>
        <p:spPr>
          <a:xfrm rot="16200000">
            <a:off x="2519280" y="3825720"/>
            <a:ext cx="107928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AutoShape 8"/>
          <p:cNvSpPr/>
          <p:nvPr/>
        </p:nvSpPr>
        <p:spPr>
          <a:xfrm rot="5400000">
            <a:off x="2520720" y="3827520"/>
            <a:ext cx="1079640" cy="86328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AutoShape 9"/>
          <p:cNvSpPr/>
          <p:nvPr/>
        </p:nvSpPr>
        <p:spPr>
          <a:xfrm rot="16200000">
            <a:off x="2519280" y="2746080"/>
            <a:ext cx="107964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AutoShape 10"/>
          <p:cNvSpPr/>
          <p:nvPr/>
        </p:nvSpPr>
        <p:spPr>
          <a:xfrm rot="5400000">
            <a:off x="2520720" y="2747880"/>
            <a:ext cx="1079640" cy="86328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AutoShape 11"/>
          <p:cNvSpPr/>
          <p:nvPr/>
        </p:nvSpPr>
        <p:spPr>
          <a:xfrm rot="16200000">
            <a:off x="3384360" y="3825720"/>
            <a:ext cx="107928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AutoShape 12"/>
          <p:cNvSpPr/>
          <p:nvPr/>
        </p:nvSpPr>
        <p:spPr>
          <a:xfrm rot="5400000">
            <a:off x="3385800" y="3827520"/>
            <a:ext cx="107964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AutoShape 13"/>
          <p:cNvSpPr/>
          <p:nvPr/>
        </p:nvSpPr>
        <p:spPr>
          <a:xfrm rot="16200000">
            <a:off x="3384360" y="2746080"/>
            <a:ext cx="107964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AutoShape 14"/>
          <p:cNvSpPr/>
          <p:nvPr/>
        </p:nvSpPr>
        <p:spPr>
          <a:xfrm rot="5400000">
            <a:off x="3385800" y="2747880"/>
            <a:ext cx="107964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AutoShape 15"/>
          <p:cNvSpPr/>
          <p:nvPr/>
        </p:nvSpPr>
        <p:spPr>
          <a:xfrm rot="16200000">
            <a:off x="4246560" y="3823920"/>
            <a:ext cx="107964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AutoShape 16"/>
          <p:cNvSpPr/>
          <p:nvPr/>
        </p:nvSpPr>
        <p:spPr>
          <a:xfrm rot="5400000">
            <a:off x="4247640" y="3825720"/>
            <a:ext cx="107928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AutoShape 17"/>
          <p:cNvSpPr/>
          <p:nvPr/>
        </p:nvSpPr>
        <p:spPr>
          <a:xfrm rot="16200000">
            <a:off x="4246560" y="2744640"/>
            <a:ext cx="107928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AutoShape 18"/>
          <p:cNvSpPr/>
          <p:nvPr/>
        </p:nvSpPr>
        <p:spPr>
          <a:xfrm rot="5400000">
            <a:off x="4247640" y="2746440"/>
            <a:ext cx="107964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AutoShape 19"/>
          <p:cNvSpPr/>
          <p:nvPr/>
        </p:nvSpPr>
        <p:spPr>
          <a:xfrm rot="16200000">
            <a:off x="5111640" y="3825720"/>
            <a:ext cx="107928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AutoShape 20"/>
          <p:cNvSpPr/>
          <p:nvPr/>
        </p:nvSpPr>
        <p:spPr>
          <a:xfrm rot="5400000">
            <a:off x="5113080" y="3827520"/>
            <a:ext cx="1079640" cy="86328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AutoShape 21"/>
          <p:cNvSpPr/>
          <p:nvPr/>
        </p:nvSpPr>
        <p:spPr>
          <a:xfrm rot="16200000">
            <a:off x="5111640" y="2746080"/>
            <a:ext cx="107964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AutoShape 22"/>
          <p:cNvSpPr/>
          <p:nvPr/>
        </p:nvSpPr>
        <p:spPr>
          <a:xfrm rot="5400000">
            <a:off x="5113080" y="2747880"/>
            <a:ext cx="1079640" cy="86328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AutoShape 23"/>
          <p:cNvSpPr/>
          <p:nvPr/>
        </p:nvSpPr>
        <p:spPr>
          <a:xfrm rot="16200000">
            <a:off x="5975280" y="3825720"/>
            <a:ext cx="107928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AutoShape 24"/>
          <p:cNvSpPr/>
          <p:nvPr/>
        </p:nvSpPr>
        <p:spPr>
          <a:xfrm rot="5400000">
            <a:off x="5976360" y="3827520"/>
            <a:ext cx="107964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AutoShape 25"/>
          <p:cNvSpPr/>
          <p:nvPr/>
        </p:nvSpPr>
        <p:spPr>
          <a:xfrm rot="16200000">
            <a:off x="5975280" y="2746080"/>
            <a:ext cx="107964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AutoShape 26"/>
          <p:cNvSpPr/>
          <p:nvPr/>
        </p:nvSpPr>
        <p:spPr>
          <a:xfrm rot="5400000">
            <a:off x="5976360" y="2747880"/>
            <a:ext cx="1079640" cy="863640"/>
          </a:xfrm>
          <a:prstGeom prst="rtTriangl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AutoShape 27"/>
          <p:cNvSpPr/>
          <p:nvPr/>
        </p:nvSpPr>
        <p:spPr>
          <a:xfrm>
            <a:off x="8352000" y="4508640"/>
            <a:ext cx="792000" cy="1412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9303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AutoShape 28">
            <a:hlinkClick r:id="" action="ppaction://hlinkshowjump?jump=previousslide"/>
          </p:cNvPr>
          <p:cNvSpPr/>
          <p:nvPr/>
        </p:nvSpPr>
        <p:spPr>
          <a:xfrm>
            <a:off x="6732720" y="5950080"/>
            <a:ext cx="1204920" cy="66492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AutoShape 29">
            <a:hlinkClick r:id="" action="ppaction://hlinkshowjump?jump=nextslide"/>
          </p:cNvPr>
          <p:cNvSpPr/>
          <p:nvPr/>
        </p:nvSpPr>
        <p:spPr>
          <a:xfrm>
            <a:off x="7740720" y="5694480"/>
            <a:ext cx="1125360" cy="116352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53966" dir="2700000" blurRad="0" rotWithShape="0">
              <a:srgbClr val="00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1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Text Box 4"/>
          <p:cNvSpPr/>
          <p:nvPr/>
        </p:nvSpPr>
        <p:spPr>
          <a:xfrm>
            <a:off x="395280" y="1047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，梯形面积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方厘米，高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，三角形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面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方厘米。求三角形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3" name="Group 18"/>
          <p:cNvGrpSpPr/>
          <p:nvPr/>
        </p:nvGrpSpPr>
        <p:grpSpPr>
          <a:xfrm>
            <a:off x="5508720" y="1670040"/>
            <a:ext cx="3419280" cy="2623680"/>
            <a:chOff x="5508720" y="1670040"/>
            <a:chExt cx="3419280" cy="2623680"/>
          </a:xfrm>
        </p:grpSpPr>
        <p:sp>
          <p:nvSpPr>
            <p:cNvPr id="2144" name="Text Box 13"/>
            <p:cNvSpPr/>
            <p:nvPr/>
          </p:nvSpPr>
          <p:spPr>
            <a:xfrm>
              <a:off x="8316720" y="3485880"/>
              <a:ext cx="6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5" name="Group 17"/>
            <p:cNvGrpSpPr/>
            <p:nvPr/>
          </p:nvGrpSpPr>
          <p:grpSpPr>
            <a:xfrm>
              <a:off x="5508720" y="1670040"/>
              <a:ext cx="2952720" cy="2623680"/>
              <a:chOff x="5508720" y="1670040"/>
              <a:chExt cx="2952720" cy="2623680"/>
            </a:xfrm>
          </p:grpSpPr>
          <p:sp>
            <p:nvSpPr>
              <p:cNvPr id="2146" name="AutoShape 5"/>
              <p:cNvSpPr/>
              <p:nvPr/>
            </p:nvSpPr>
            <p:spPr>
              <a:xfrm rot="10800000">
                <a:off x="5797440" y="2117520"/>
                <a:ext cx="2663640" cy="1511280"/>
              </a:xfrm>
              <a:custGeom>
                <a:avLst/>
                <a:gdLst>
                  <a:gd name="textAreaLeft" fmla="*/ 555480 w 2663640"/>
                  <a:gd name="textAreaRight" fmla="*/ 2108160 w 2663640"/>
                  <a:gd name="textAreaTop" fmla="*/ 314280 h 1511280"/>
                  <a:gd name="textAreaBottom" fmla="*/ 119700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Line 6"/>
              <p:cNvSpPr/>
              <p:nvPr/>
            </p:nvSpPr>
            <p:spPr>
              <a:xfrm>
                <a:off x="6445440" y="2117520"/>
                <a:ext cx="2016000" cy="151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Line 7"/>
              <p:cNvSpPr/>
              <p:nvPr/>
            </p:nvSpPr>
            <p:spPr>
              <a:xfrm flipH="1">
                <a:off x="5795640" y="2117520"/>
                <a:ext cx="2016360" cy="151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Line 8"/>
              <p:cNvSpPr/>
              <p:nvPr/>
            </p:nvSpPr>
            <p:spPr>
              <a:xfrm>
                <a:off x="6445440" y="2117520"/>
                <a:ext cx="0" cy="151128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Rectangle 9"/>
              <p:cNvSpPr/>
              <p:nvPr/>
            </p:nvSpPr>
            <p:spPr>
              <a:xfrm>
                <a:off x="6445440" y="3485880"/>
                <a:ext cx="14292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Text Box 10"/>
              <p:cNvSpPr/>
              <p:nvPr/>
            </p:nvSpPr>
            <p:spPr>
              <a:xfrm>
                <a:off x="6445440" y="3773160"/>
                <a:ext cx="100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0c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Text Box 11"/>
              <p:cNvSpPr/>
              <p:nvPr/>
            </p:nvSpPr>
            <p:spPr>
              <a:xfrm>
                <a:off x="6661440" y="3054240"/>
                <a:ext cx="93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c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Text Box 12"/>
              <p:cNvSpPr/>
              <p:nvPr/>
            </p:nvSpPr>
            <p:spPr>
              <a:xfrm>
                <a:off x="6156360" y="168588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Text Box 14"/>
              <p:cNvSpPr/>
              <p:nvPr/>
            </p:nvSpPr>
            <p:spPr>
              <a:xfrm>
                <a:off x="7596360" y="167004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Text Box 15"/>
              <p:cNvSpPr/>
              <p:nvPr/>
            </p:nvSpPr>
            <p:spPr>
              <a:xfrm>
                <a:off x="5508720" y="348588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Text Box 16"/>
              <p:cNvSpPr/>
              <p:nvPr/>
            </p:nvSpPr>
            <p:spPr>
              <a:xfrm>
                <a:off x="6877080" y="262080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9"/>
          <p:cNvSpPr/>
          <p:nvPr/>
        </p:nvSpPr>
        <p:spPr>
          <a:xfrm>
            <a:off x="252360" y="16970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Text Box 20"/>
          <p:cNvSpPr/>
          <p:nvPr/>
        </p:nvSpPr>
        <p:spPr>
          <a:xfrm>
            <a:off x="900000" y="175752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梯形面积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4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9" name="Object 2"/>
              <p:cNvSpPr txBox="1"/>
              <p:nvPr/>
            </p:nvSpPr>
            <p:spPr>
              <a:xfrm>
                <a:off x="1152360" y="2187720"/>
                <a:ext cx="395280" cy="11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0" name="Text Box 22"/>
          <p:cNvSpPr/>
          <p:nvPr/>
        </p:nvSpPr>
        <p:spPr>
          <a:xfrm>
            <a:off x="611280" y="3486240"/>
            <a:ext cx="49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6=4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=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1" name="Object 3"/>
              <p:cNvSpPr txBox="1"/>
              <p:nvPr/>
            </p:nvSpPr>
            <p:spPr>
              <a:xfrm>
                <a:off x="774720" y="3168720"/>
                <a:ext cx="395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2" name="Text Box 24"/>
          <p:cNvSpPr/>
          <p:nvPr/>
        </p:nvSpPr>
        <p:spPr>
          <a:xfrm>
            <a:off x="755640" y="4794120"/>
            <a:ext cx="453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面积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3" name="Object 4"/>
              <p:cNvSpPr txBox="1"/>
              <p:nvPr/>
            </p:nvSpPr>
            <p:spPr>
              <a:xfrm>
                <a:off x="900000" y="5224320"/>
                <a:ext cx="395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4" name="Text Box 26"/>
          <p:cNvSpPr/>
          <p:nvPr/>
        </p:nvSpPr>
        <p:spPr>
          <a:xfrm>
            <a:off x="2556000" y="61628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 Box 27"/>
          <p:cNvSpPr/>
          <p:nvPr/>
        </p:nvSpPr>
        <p:spPr>
          <a:xfrm>
            <a:off x="5003640" y="515772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角形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B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和三角形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DO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高加一起就是整个梯形的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6" name="Group 32"/>
          <p:cNvGrpSpPr/>
          <p:nvPr/>
        </p:nvGrpSpPr>
        <p:grpSpPr>
          <a:xfrm>
            <a:off x="7093080" y="2101680"/>
            <a:ext cx="71280" cy="1511280"/>
            <a:chOff x="7093080" y="2101680"/>
            <a:chExt cx="71280" cy="1511280"/>
          </a:xfrm>
        </p:grpSpPr>
        <p:sp>
          <p:nvSpPr>
            <p:cNvPr id="2167" name="Line 29"/>
            <p:cNvSpPr/>
            <p:nvPr/>
          </p:nvSpPr>
          <p:spPr>
            <a:xfrm>
              <a:off x="7093080" y="2101680"/>
              <a:ext cx="0" cy="15112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30"/>
            <p:cNvSpPr/>
            <p:nvPr/>
          </p:nvSpPr>
          <p:spPr>
            <a:xfrm>
              <a:off x="7093080" y="2101680"/>
              <a:ext cx="71280" cy="142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31"/>
            <p:cNvSpPr/>
            <p:nvPr/>
          </p:nvSpPr>
          <p:spPr>
            <a:xfrm>
              <a:off x="7093080" y="3468600"/>
              <a:ext cx="71280" cy="144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2:08:32Z</dcterms:created>
  <dc:creator/>
  <dc:description/>
  <dc:language>en-US</dc:language>
  <cp:lastModifiedBy/>
  <dcterms:modified xsi:type="dcterms:W3CDTF">2015-04-08T12:08:37Z</dcterms:modified>
  <cp:revision>1</cp:revision>
  <dc:subject/>
  <dc:title/>
</cp:coreProperties>
</file>