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8.xml" ContentType="application/vnd.openxmlformats-officedocument.theme+xml"/>
  <Override PartName="/ppt/theme/theme64.xml" ContentType="application/vnd.openxmlformats-officedocument.theme+xml"/>
  <Override PartName="/ppt/theme/theme29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4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17.png" ContentType="image/png"/>
  <Override PartName="/ppt/media/image9.gif" ContentType="image/gif"/>
  <Override PartName="/ppt/media/321.wav" ContentType="audio/x-wav"/>
  <Override PartName="/ppt/media/enter2.wav" ContentType="audio/x-wav"/>
  <Override PartName="/ppt/media/image15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9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image12.jpeg" ContentType="image/jpeg"/>
  <Override PartName="/ppt/media/image10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4.png" ContentType="image/png"/>
  <Override PartName="/ppt/media/image5.png" ContentType="image/png"/>
  <Override PartName="/ppt/media/image8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</p:sldMasterIdLst>
  <p:sldIdLst>
    <p:sldId id="256" r:id="rId66"/>
    <p:sldId id="257" r:id="rId67"/>
    <p:sldId id="258" r:id="rId68"/>
    <p:sldId id="259" r:id="rId69"/>
    <p:sldId id="260" r:id="rId70"/>
    <p:sldId id="261" r:id="rId71"/>
    <p:sldId id="262" r:id="rId72"/>
    <p:sldId id="263" r:id="rId73"/>
    <p:sldId id="264" r:id="rId74"/>
    <p:sldId id="265" r:id="rId75"/>
    <p:sldId id="266" r:id="rId76"/>
    <p:sldId id="267" r:id="rId77"/>
    <p:sldId id="268" r:id="rId78"/>
    <p:sldId id="269" r:id="rId79"/>
    <p:sldId id="270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" Target="slides/slide1.xml"/><Relationship Id="rId67" Type="http://schemas.openxmlformats.org/officeDocument/2006/relationships/slide" Target="slides/slide2.xml"/><Relationship Id="rId68" Type="http://schemas.openxmlformats.org/officeDocument/2006/relationships/slide" Target="slides/slide3.xml"/><Relationship Id="rId69" Type="http://schemas.openxmlformats.org/officeDocument/2006/relationships/slide" Target="slides/slide4.xml"/><Relationship Id="rId70" Type="http://schemas.openxmlformats.org/officeDocument/2006/relationships/slide" Target="slides/slide5.xml"/><Relationship Id="rId71" Type="http://schemas.openxmlformats.org/officeDocument/2006/relationships/slide" Target="slides/slide6.xml"/><Relationship Id="rId72" Type="http://schemas.openxmlformats.org/officeDocument/2006/relationships/slide" Target="slides/slide7.xml"/><Relationship Id="rId73" Type="http://schemas.openxmlformats.org/officeDocument/2006/relationships/slide" Target="slides/slide8.xml"/><Relationship Id="rId74" Type="http://schemas.openxmlformats.org/officeDocument/2006/relationships/slide" Target="slides/slide9.xml"/><Relationship Id="rId75" Type="http://schemas.openxmlformats.org/officeDocument/2006/relationships/slide" Target="slides/slide10.xml"/><Relationship Id="rId76" Type="http://schemas.openxmlformats.org/officeDocument/2006/relationships/slide" Target="slides/slide11.xml"/><Relationship Id="rId77" Type="http://schemas.openxmlformats.org/officeDocument/2006/relationships/slide" Target="slides/slide12.xml"/><Relationship Id="rId78" Type="http://schemas.openxmlformats.org/officeDocument/2006/relationships/slide" Target="slides/slide13.xml"/><Relationship Id="rId79" Type="http://schemas.openxmlformats.org/officeDocument/2006/relationships/slide" Target="slides/slide14.xml"/><Relationship Id="rId80" Type="http://schemas.openxmlformats.org/officeDocument/2006/relationships/slide" Target="slides/slide15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C7B0-B359-4836-BA77-DBB8AE5F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A7A-5F7E-4F86-958F-788A6098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47ECD-5BCA-49FB-9505-33F07074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928A23-86E0-41B4-9D16-765CBFF7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89DBEB-78FC-44CD-BE9B-49722F58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6A38D-6A43-4ADD-BDF5-0D5F4136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0D759A-55A0-410E-B097-F83C87C6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DBFAC-F958-4929-B966-B8087213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20682-CE54-4B91-8182-071BCECC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E0613-0C83-483B-B351-5608FF3E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A7212-3B79-4846-8AD9-75CF82CD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FC7369-03C9-47A5-AFEA-4F2B03FE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EFF-B4CA-455E-94CF-6E9E6810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CC9EA-657E-4E47-9C6B-8D4658D9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69F83-FD83-46F0-9D27-2D859020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50638-0ECB-4F39-BFD4-0161190F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71F4F-4794-46AC-BB20-0262384B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B6EA2-298D-4B69-8327-143B495C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985B3-410E-4082-90EE-F48FB680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FF06C-52AB-4E5C-A0B8-780F7F7B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37FE1-05B2-44EA-B76F-261F06DF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DD249-18A2-4C36-BB25-076F1AED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D960C-1A8E-4323-A392-D069C5FD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98CF-4E53-454B-8B46-7D8CBA3B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F1B51-0CBE-4A52-BF16-EA1DC779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097C4E-180A-49AE-A885-50574F77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178773-0E02-4A8B-B413-C04CE29A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51CA48-0441-4777-9469-A1648B2A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806A17-8252-45A1-A140-84F56B6E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4BA4AC-5B54-440E-B95D-18FF3A41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23C21B-5CCB-46BD-A51F-E38D56F2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89A75C-8815-45D4-A7A0-A27B6B95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7B34D6-DBFE-437B-BB6F-5060777F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D386BD-84DC-4C53-A9FA-934DE61B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7B68-B4FF-457B-A3F1-743ACE6F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81A524-3C3F-440F-B837-8464A5FE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943DFD-FDD8-4EDD-8574-300CBB0F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DF5BCF-0901-46D1-ABD7-B6D8237B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FC8DF-BB13-44E7-A176-9179588D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3C4BF4-9056-41BF-9E4A-EDD1BA23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751C6A-D7CA-4C74-B361-9FF6F041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A2EFB-DE36-4D3A-B542-50608CA2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D41A8-1ADB-44A7-8AF6-6AF0645C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1FA5D-BA0E-46CA-889F-60FFE344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72FC9-D4AB-4AED-AF2C-4974FDC8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F929-CC9E-44BF-A1B8-6B3F7EEF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180A82-AACE-4836-A2C5-EBBEC9C2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F2CA19-C835-4728-9529-B8D1EB96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2E8A6-DE90-445F-9B2E-1EF424DD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9E28F-ABBD-4F1C-8B88-F2B353D3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31785-2A80-431B-87E8-CD431FE6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809C598-CD9B-4011-97E1-CCFA6ED9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853F2D-BDB7-45EE-BE9D-08D7ADDF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34B12B-3B11-42E8-969D-2278534E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EEA99C-8084-4CCF-89FB-AEF1815E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0F75ED-2767-46BD-8EE7-3371F5E1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005C-ED3E-4BEB-B117-2D945439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B493A2-22D3-4BA9-B937-5A30D98A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95CBE4-F3E8-4F9E-AEB7-9E00C95D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3D9073-1F65-4F21-8EAF-3E3D59E6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30F235-843B-426C-AF63-9EF482B1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095376-9790-4C1C-99E8-ED76E08F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DEAEFF-EF42-4ABE-B137-A88BFF00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A0C0D1-FE06-4E9C-AEAF-36E3EA1D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CDFD1AE-134C-48EE-A668-FDAFBC4D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54FF8B-56DB-4C63-8FC3-250FA5C7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E2B3C4-1CAB-4A10-A5E1-BAB973F5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3CF2-7E35-4B53-B415-D027B2C0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B59291-EEA1-4BE7-95D9-EF7C9406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19EE82-7548-40D9-9ECE-7F7542D1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9CD09FF-414F-4252-9503-55796FA6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C8CE21-EEC1-47D5-9049-3F5EDA81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80376F-2ADC-42CF-9DF1-F88D258E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831ACB-DA5E-4C02-8BF1-C19AA1A6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FFAB052-A462-4D77-B22A-45E26AD0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EE08D3-A36E-4A86-8BF7-D673407F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967AA49-FF4F-4C6A-B4FF-A8DAEA13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CCBEC5-04A1-4734-8C38-7644A3AA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6BEC-1172-4E56-9E4E-930585B1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CDDC521-6BF9-48BB-9D23-873A92EE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70C16A9-BA1A-4E7A-ABBC-5728F077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03F9059-43B5-47FE-AC15-443A0C2E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841A3E-8437-4910-9453-35CC6EE5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0DEBAB-BF4F-4ECF-B341-3DC45F74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DC053F-CAFA-4BCD-B596-09EFA305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2073B68-B110-4DCD-A542-C545E1C5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23D394B-75C5-4DAB-9F5D-C7FAC5A4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1349273-2991-433B-AEE8-0929C6C9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885843-2CAB-46A5-B1B5-E5A4B669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D13A-CA2C-41CD-A513-CC53537F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EF89EFA-DC87-46B4-9005-EFB2C56E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B3F8C3F-0378-4BA3-8C96-D663E7A6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996BF19-A7F1-461C-AD0D-81FCA3E4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4F33FA-ADA2-44B9-A20F-3B6F0D6B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81FC6B-9F01-4CFB-9671-F65DC524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785FBE1-4995-4775-8132-0BC2418C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3EE5DBB-EA1C-4FBC-A540-403EEF5C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C78D25B-44B7-4DEC-B928-A2658041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056A730-6147-48B6-A5E9-D6691413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59A826-84F4-4C22-9C15-31F30386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BF6C-15F0-40E9-9AA1-C71AD8C6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A2D6AC2-3609-48BE-BF81-108BFC81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A5341A7-1275-4D23-A6D9-54B89307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BE49456-9490-4B07-B12D-E54890DA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92EFC19-EAA7-429D-8384-F7AD298D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57EB2DC-D3C5-4F4B-8565-F31E11D3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EAAFC11-62CB-4DA2-8173-F84EFD2E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C9F5BC8-9999-43EC-A965-36F8A29B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494ECD3-715E-40A6-AD6C-760516FC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4BCF02B-0647-4089-80D6-102CF697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5158D04-84E0-4B0A-8B3D-EC523DB4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1E0-2E72-477F-808D-DCEEE0E2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AD7A-9E57-41D6-AF72-5AC10C73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E1CCE73-134F-45BF-9492-6E6195A5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08D1312-A883-43C8-9829-ABD23AC5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461A2C4-6AA2-462A-9E8F-558A6480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9A7FBDA-7167-47F0-AC94-4827FD30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58AC2BB-3244-40D8-90C2-798C3EF6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BE43346-1094-4CD4-AACF-8B56D245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2C92AA6-8E6E-4752-BD61-DDB5BFA3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3579F39-C58D-4956-BC65-4EBC0312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450282-984B-4A37-A05D-6EFDA791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8434490-AE1F-46DB-9403-E8349E01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17F6-CC45-4B3C-85CF-068022CC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C79E15C-BA27-4E80-A597-8F76104C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BA23E98-2061-4346-A972-58B45D87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9BEBC1D-3E50-4F3A-B7A0-5142D83D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C50A1A0-FB8E-42E1-A9E0-48EB9C65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335CB08-7957-4B4A-959B-9AD9657F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1B97170-F830-4996-9672-788F9037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CE4F550-3AA6-4E1F-8800-F112B58F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C1867F6-EFD7-4BEB-B50D-74D6E6F8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FB1875B-722A-473B-881B-BDF113C0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47EC7A2-B901-4FF7-BFE0-309394E0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C399-9F65-409C-8F8C-7681852C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1439052-0C26-4951-8650-DEAAD007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6902D7D-B714-4ECC-91EF-094E8BFC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04C148F-A235-4C30-9FCA-53DBB11B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E7CB6EF-064E-4CA8-9163-2A907B19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995BAC0-4596-47AE-AEC0-4AD6A536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5364E7F-9701-4191-85BE-B32EEC08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12446D3-3964-41B7-B76B-7933FCE5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8C38E2E-6A77-4FE0-8F6E-30182A87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76E80DB-0BE9-4BEB-B97B-891212CF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A810D29-CE1C-4A1F-B5F0-0DFD887D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C1A4-46D0-4C98-A5BC-643A7BD7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20FE5BA-EE43-43EE-8961-2078E0C5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2211846-8872-4ADF-B0F1-666E0D9E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EDBBE75-C7BD-472A-B90E-39230FEA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6FF01EA-C907-4629-86E5-FC5A5E2A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1BC0BDF-52FB-43E4-9AE9-D1773502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21493AF-7D8D-494E-8FB8-76655851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B3DB898-09DF-4496-9914-2858EEF6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0876ABC-B68C-4B58-B778-C33D3D81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F49BFFA-30F8-48B5-857E-7519C487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0D5C7F3-5659-4F1B-9DC6-254A557D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D218-4185-441F-A6E2-F7FE7170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8F24A93-594E-46D3-90F1-BA07BB9E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A67EB7F-C3D4-4DB3-B25A-F9F79461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4D2D594-2DF7-45D2-9B38-698452FD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E6E3F95-B27E-4402-96A5-5CDC89F1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7725F18-C74A-40C1-AE13-2F456D92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9B51C95-2973-4994-98E1-BFD210F6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C479672-B992-43A7-B86B-3D981830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BC7A3A8-7C7E-4965-B87A-93D2E737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35DCDDF-3743-45A9-A79E-5C17A61E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8A88E8F-92F4-4B48-94C5-FAD202C7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B7B2A-A6D7-4CCF-9538-550EF280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6AB5D28-2790-4172-A5E4-66E09150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4242971-B9FA-40F9-925B-5B9E48FE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8AED7C8-34EE-47F3-A89B-726CCDFC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C36AA36-A031-40D1-A2FC-78CAB13D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0D7853B-FA61-4CA5-BA2B-A837D149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0988FC7-36FA-4BAB-8FDF-0537CE9B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447CD9A-05B2-4819-B850-75138FAE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E148ADC-22C2-4DE4-A697-0A622021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B81D1CF-ABE2-4EA8-8485-4EC872E8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8DEF96A-99D7-4CFF-B4E8-B2AD6B67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FA1C7-0DDE-4E14-B375-755B5CF3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84E68D9-4EA7-41FF-B415-8F8A965F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F4F44A9-EA23-4546-8218-BEF33954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DCAAC94-A05F-4A1E-8EA1-F7CDFEF7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5ACD82D-37F6-4198-BABD-B19770C0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AF155B7-2E46-42A6-BF96-C27B703A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C4DAC4E-CE53-4071-86E5-544F7777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E8EB511-EBA6-4458-99BE-BB0AA483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E76F453-5833-4868-B7B6-1E4E601A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FAC1CBF-E7A1-4C3B-B37A-A72E85E4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9934E13-AD99-4514-938D-3819E875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0CFC3-F0CB-404D-A1C3-3DB0FDAE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AB43CEF-6E62-4C42-AE92-FCB47B12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6BAB8DA-D2AA-485A-9127-BE0BC90C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AD21712-5EA6-44BC-B13E-B146D0D5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FC48212-F098-43CB-8EC1-084CB2AE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6217E94-C12F-4E31-9814-9A46F893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B50A3AF-4C96-46AC-A088-26630572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23ACF49-A361-4591-A524-01E7875F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1193E65-8AEB-46D4-B0FE-E3330D32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D911292-1374-45FB-9E41-E22BCCC2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36D3BFF-1BB3-458A-BC1B-CA783DCD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55409-89DF-4E63-BB42-1D622402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1D49939-5B5E-4D4F-82B9-0B45AC53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DD56A66-7272-4975-9160-A45F3861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A46FDCE-65FC-47F8-AB22-0CC549A3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CF45C5E-4D6D-4F52-B6A0-9F3E136C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A123C00-C812-4BBC-BB17-CA50AF81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3DF6635-BC11-47EE-A70E-9C971588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900B508-D931-44A7-8E40-01675B9B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FEBD36B-2F06-46C3-8BA4-98CDD0F4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50B807E-5B5D-4C95-BBD5-422BAF13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F63BE69-5DF8-4F3F-9B46-2BDC8C04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4593A-674E-4647-8A4B-AA991528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0788D14-C9CB-41F0-897C-26889B04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383681E-ED07-4941-8A38-9191152D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D9DBD17-F1A3-4138-89F7-5D1B8031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779FD54-8E62-4E5A-BE16-A3A28ADA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DDDB880-6B76-4866-9860-9605F544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C1B956B-212E-4077-9E1D-E0A6388C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3C082F0-E6AD-4E6B-A270-2835A1BE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288304B-485A-4977-B22A-F00903AD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967E9AA-6A06-46AF-AAC7-969C74FE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3F1D1D1-83C1-4289-B89C-CB33370B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DBA-8C24-4A50-8CBB-E9765807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8009D-1D68-447F-9B10-FFB43BF0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94FC80C-325B-403A-B90F-8A840E31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0E8A526-F9DB-49CF-A5FE-D55E72F2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2F76A72-2E3E-4D88-80A4-EAA0927F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87B3341-B7AE-41F7-BFDF-8EDB3B66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E730006-2467-4F18-AB42-2FE68ABB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076F287-26FB-4BF8-BA36-547FAF10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EFBFDC4-BB57-403A-B748-6E0925C5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2BF5626-4F43-44EF-A469-71E632AE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96E3215-699A-45DC-8D82-9B93E823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2F4C5AF-A6F5-46A9-BEA4-F70A8F12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3E088-4887-412A-8895-8AFF1D93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55DED90-0F42-424D-8D64-B8106DFF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A83B430-BC4A-47A9-92BA-FA2CA5BB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331EFAD-BB62-41BB-9BC8-9D67906B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FF30C7A-BD6A-48CB-9D6D-DA70E0B1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7143DD4-9A72-4334-BCCC-3905E8C9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D527BA6-7FE6-431A-8252-A88333FC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D7AD32D-E139-4296-A9DE-4EBA667A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5E8ACC9-85B6-415C-A7B5-B0626867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FD9CE48-9BE3-4861-883E-FA274634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F80847D-D10A-44F0-A20C-1D2D321D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805C6-50EE-4FA4-9A10-E9247B54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218618A-1F00-49EF-B350-817889A9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5BA5294-A14A-48E2-946A-BFDB410F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31F2618-B807-4C1F-8A0C-93283C11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DF2772B-C999-4A77-B8D9-36B6370A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DF32FF7-B983-46E4-AB08-D4029B94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A40D8F0-706B-4BC9-BC51-AE3492C7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A13035A-60C9-4C98-9405-9DDE6A9E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08481BF-9040-451E-8811-CECE7040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BA2D543-C38C-4E70-A7F2-1F318753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E67A40C-E3BC-414A-9BDC-BE9387B3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64DE7-FB4F-420E-B0D4-DF794A49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4C2D2E6-9B6A-46E0-B874-6495956F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E535864-4574-45E8-991A-3F791636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2983C48-6971-4A88-90B1-7D6A2749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E71A6C9-5D23-4C8E-9667-8E5ED5D3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1DA53AC-DA87-44C3-8FD9-CAEE5E0F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EB56E69-D71A-411C-A542-BA69A512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35DE025-92C8-4B8E-B483-591ED0E9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00EAB7A-A6E8-44B6-A57C-1638935D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AE41C81-0D3C-4995-B023-3F23C4B8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BF93E1E-C32D-48E6-AC7E-7FA5B582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9DEEC-AD09-4633-ADC0-8E806B8C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12EDF1F-E657-4A6F-9D60-4A21F33F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4C65365-875C-47A0-8B24-1F7208CB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B66B866-F2D4-4A69-BBBC-D23E39EF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59895EF-B626-4C64-BE93-A5CB7015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2286AFC-8B30-416C-A635-95F0850B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89B1FE7-BC57-4263-AD94-826019C0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FFDE8F2-22A0-4F3F-848F-39417C44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D2FC914-2BCF-4FFC-A1A1-EB8E1992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8DAC56E-976F-4DF9-94D6-B50DD893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C9801EA-B141-4A7F-85F2-F5E8B837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475CF-83F2-4725-89EE-6F7BF370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79EBCE7-2DAC-43D3-8C45-B1602935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F219E71-FA60-484A-8B55-583E3E17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F67965A-70FA-4863-A306-0DE166A7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43066BC-F89D-4242-B885-9E0A88CB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590A264-B5E7-4BA8-96BB-EA4E0A4B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8AED471-C7EE-494E-9F44-8040045C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A86A9EF-8C96-4952-B839-2F727484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81A4EAF-7445-49B4-A2C8-3276F9BB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F7986B8-798A-4355-BE6E-B734878A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1BBA4AB-30BD-4F50-8228-6A5A6FE6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60B54-06C6-4C17-86CE-B0DA3527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BBD2FE8-562E-4414-93B2-1519FF5B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F706482-94D4-4D01-B3DB-FB2D3F34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17FD2B2-532F-4471-ADAD-27412716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EBE1954-8F1F-40B4-8CF0-78237604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A308000-04BF-4BBD-A561-BB5B703D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DB3A0B8-92F9-4F10-A0CA-2C8C13E2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499BD42-6939-4264-8F50-11DB89C3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7C0C9F5-4AC9-426E-8A46-6AE40FFE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2412A04-751E-4C6D-AF50-D0046868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65DD9B2-9959-4A61-AA30-B99D4449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CE800-CA80-4B21-A1C8-78BAB47F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03C5B60-3955-4D8E-9D63-4B1EE129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2424F6A-16DE-4A74-9B25-E7EBC555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99FD8BF-3336-4039-AE11-973FB8B2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0515688-E2E6-4509-8932-2259C13C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412C87D-EDD2-4398-A526-8BB0D70E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FBF779A-C742-4A23-A956-4225D1D9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4A14916-F728-42E1-A42E-08C93B9A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B683E12-33EA-4368-B12C-5DCA395E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4C5562E-D1D4-4E57-AB62-B477AE8C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BBBD78D-C47E-44DE-AFE4-B3980C8F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AD83F-0B33-4178-BC4C-48CED893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D4D2F04-2C41-4FE3-B31F-A2033B58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99E600C-D9B7-421C-A6A3-EB21C992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455DA50-7184-49E8-A839-D4AA250A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F5EF333-D446-4B2B-8CD9-3F764C9B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789CF6C-8A60-4200-82ED-47CD61AF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CE4ECE1-8677-4E9C-884A-565862E0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FA877DD-E4E6-4E27-8065-5753ADEE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162B590-C350-45E6-BE9C-8B61CBA9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20D86A2-EFF6-491B-9208-E001BD9A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9C17821-9267-48B8-BBA1-CA28A8C3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5A69E-D1B4-4360-A003-D6A5F90A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0516889-9447-402F-99AA-5008F3B6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1B61551-1809-4418-A7C5-B4245E07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C462244-1FB2-4FE3-B997-736500B5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E56F083-B614-488D-B8A7-FA3F8CD7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8C46B8C-80B2-43A8-90F3-980A85B2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D6509C7-EBE4-4003-83FE-B9D67D7C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B9BA007-C18D-435E-B285-CADEBC5C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7097878-3FDF-44A2-9582-393BC522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B6AC054-26C2-438A-A310-0B9AD08B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83BA842-4281-4101-AC06-23C1D906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EB73-F88E-4AD7-B23C-2D492ECC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D5926-974F-4E34-AD70-004B3665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4B26B01-8F8D-47A2-A84D-F5976833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2941F6C-033C-4784-A3D3-3A9A9853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C248105-66E8-4EB6-9867-6DE30E0B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01F1F52-BDCF-4DBC-8F65-B5562819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44DF7C9-CB57-4ED1-B3EF-337E5F33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CBA285A-DB05-4D29-8CF8-B3F07214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5C0228C-89D0-4343-8532-601CB1F9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F7E1733-4AF4-43DD-BAE1-87808AB4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044C4FB-0BF9-4CB9-AF99-82A27A47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702EC62-4DBD-4091-9D18-31B0E114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1C5DA-8BDD-4C9C-BE7D-CDCC9AE4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6B4CEF0-416B-4165-8440-8A2B9E10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54A77F7-3B93-46A8-930E-11B00D71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E505084-8358-4E46-86BF-0ECB4F21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E6841F3-4116-492B-8B3D-5E944E3C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7C9B93F-7BBB-4018-BBA4-EDCB0585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9D52B0C-CB8C-42E8-A6DD-31DF5A2A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9F2CED0-53A3-4091-A176-C4E3DEEE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CCD26E8-A425-4C87-BDF0-DA558BE6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6CD17A7-3C3A-4287-A3AC-6823BF90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2F3DD51-512F-4143-B835-D88D51F5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B8728-6703-441B-8E3D-A404CD26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62D7333-98D0-4254-86DC-ADE6D7D0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89E389D-7B8F-4676-A136-A6E9266C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74C4691-9668-4B41-8500-342F5F8A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1663DF4-C127-44D1-8460-13743707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33626F6-7459-4327-BB2D-8E340B57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D879BF4-F207-40FF-841A-D843D86C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230C6DE-370D-4D2D-AAD3-74CBC463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B13DA6F-E7EB-4232-B984-E327690E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06AB0AD-44A4-4CC1-82FE-B94C56EC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642E39A-9EAD-45FB-843E-C41EAF31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22AA0-EBE3-4DAA-BAF7-FEA25522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6B52BB3-0DDC-4866-BB03-71721AA4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D3972FC-6382-4938-A715-16045C3C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37575E7-6A0C-434F-884F-409BD577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19B0C9E-770D-4198-969C-34D2082D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D10E60F-4C34-4F99-8E60-684AEE38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221774A-59C4-4CBD-A543-A46D74B0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6031238-043E-4B12-B43B-17C70715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A9D7A5C-097F-474B-AE8C-80BA270F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0AF6A41-C12E-4024-B3B9-74AADE1F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E1AFF68-D8F1-4F55-85F6-8B87E236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DBEB9-BA47-41FE-9F1F-C272A90F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8EBD7DB-B55D-40B3-AD60-4F6EDCD5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EB23D5A-A289-403E-BB47-EF822534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B02660D-FD0B-45CD-ABB2-0B1314FC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B407663-72C1-41CB-BA41-722409A1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CE8A6E5-2848-4012-87E3-7B9F802A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3ADF4C9-C1DB-43F2-A316-233BFA9F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8D7DA4C-3AB6-4F50-83D5-A726CF27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72C7076-7B7E-42B1-AA9D-D8C2063F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1A11930-8C4A-41A7-9D61-C3325F5E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BE1040E-F110-4039-A4F6-9B3A4A08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3BAE0-17FA-4787-B7A8-6E21D3ED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AA9EAEE-41A3-4C3F-8367-63729D13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45CACBC-5EBB-40C6-A505-8A0584FD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3836B72-E93E-4717-A09B-BBA1129B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5977757-0E01-4499-8D87-C713819C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F54FD57-7F07-4572-8755-B47EF9EC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C6F98C1-8BBD-42FA-A195-376E04F0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967756A-EBBD-498B-AE07-38FCB55C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C4F7CFA-FD04-4F87-B620-8800FE3E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26C6EA1-EFB2-4A60-B2B9-98CC04DE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7D72868-BB72-4E75-B7AB-99467000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B9B85-63F5-4D06-A368-6B1527D0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28CE13D-1C0B-4844-B4F8-3D532FE1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9F63E3C-CA25-4DB3-B37A-4A92ECE3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EB599E2-18AE-4FA3-94BC-EB7AB39A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3A8F697-3A39-4481-9CF2-49687CB5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50CB54C9-43A4-4A1D-BD84-C1B39A26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8A96641-66B9-4B5C-AE60-D238B512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884C4E2-A9A9-46BA-AFFA-F7BFA464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71FEAFA-1C10-4CD5-9BA8-D177CA7C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44CE868-99FB-4BD8-BC14-F50E694F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32C7FE9-0A09-4624-A1FE-CB38A51C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4FC87-5A23-4064-8CE0-AB41D7F3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A033B26-6C9B-4B3D-A7F2-D77EAEF3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95ED97B-153A-439E-B2F6-83242FD7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CF24710-6E84-4979-9BEA-781115E9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F3A1A0CF-90C2-4D83-9FCC-A2D772A6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A072D5F-967F-43AB-B114-37FE152D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DBCE0119-AED9-40AD-93A7-E01F0D48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187C479-EBDA-44A9-BC68-C045B877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B67B4A8-D302-4F1E-94DA-7E08F3DD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46E15FC-6A3A-4CD7-B139-F714BC15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E1E3A229-03DE-4A7E-A694-BDCFB591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CE7C7-C884-49B0-96FF-BE467762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2A5A68B-CD5C-4DF8-8354-A692A01C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B7CD345-AAE1-4A34-B9CE-6EE087EE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ED3B82E-A6D9-4E22-BD37-BA2DB284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F0C81BE-F2E5-4EA8-B835-0644FCD8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94331CA-FE7D-4592-BC4F-5165F1D7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DBC30E1-F1C5-4A54-8853-BC623817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54236A4-EB2B-400D-84F5-B1A50137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5732666-30EC-46B6-AFCC-20259F7B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7B13F11-524D-48EC-A319-BB715BB5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6F308803-6AA9-4CEA-8EB5-C538834F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77245-E0F8-4C47-AAF5-E966DE54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28AF725-8286-4760-A863-CFA56984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C7D77F2-830C-4D95-BCB2-B6397F5B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5F9C2E3-30D0-459F-9838-A6FA6A75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47D62A4-D29A-4128-B88F-09BB9C70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ED421C4-9142-47CD-AD3A-14068407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AF499E5-AABA-45F4-8A13-73733C3C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AC5653B-ABDE-46D2-ADD1-4D1DE306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CD76ED5-86C7-4D0B-ACE2-A2CC24FF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D79F33D-5C2E-4B22-B37A-8DB4D25E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CFE750E-B6BD-4269-B27E-E6BE2A4D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B10-6B10-4F4A-97FF-ED6324F8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C1EFD-E69E-4E00-8FBB-3F47078B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DC522E5-F707-4FC1-9AF7-013F4956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B3BF240-F4BE-4219-94D7-41980F7D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105C328-9C44-4B3D-94A3-BEB045A2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D610ADD-DFD9-4386-88AD-1CF870F6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6A4DE20-7EBA-4F24-8B38-E57C7FD6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D567DD8-CC30-465E-B517-6FEA8E62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BE68F19-6B42-47F7-BDBE-67121734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F6F447A-2C06-46EB-90F9-E10E8033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A0CDFFF-8CF7-4AFB-8251-DC8DB3DF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FB306BA-316B-4DE7-896D-733113B3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B0BE3-EE70-45BB-AB71-520E7431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9811F0A-A3EE-4278-86AC-65954E12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1537EEE-BF8E-47E2-9F0F-C99EFB9F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84F64F3-E09F-4080-A67B-5B3FA0B9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8FC4E80-1A53-4484-83AE-A64E6048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717AB33-08CA-4F5D-BE2D-54F635C5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AD97358-A608-429F-B7FC-69A5F320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330F5CC-08A0-4C78-B2EA-3AFE67D9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9BED382-2EF4-4824-A8C6-8C0C9F0F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13E1CAC-A0FA-40F1-B993-521D11E1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72F9E5C-BEDE-4C52-8836-A5DC9DD2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2C918-9DA3-444E-BAB8-05982D40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05FEB08-8D2E-4261-812A-9AD4A121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C3793D2-8D41-491A-9858-9675C5B4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06D6514-DEDC-4153-9643-7F95DC76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B0E504B-9205-4BFE-BC70-16C6DF52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6EBC484-4FBF-4F98-99CC-9DF7497B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A647DCE-35DF-421B-BA5F-45A47E6E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F8450AD-2AAA-45B3-AC0F-76AF52BF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075AEA9-A9E0-4779-ADE1-FFF506F1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45CACD4-FB0B-40FB-8EF3-9B9BFCB3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D3145E1-F40F-4543-88D5-F10E18A7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285A8-692E-4F86-9EA0-DBE07903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60DE707-DA6F-48A7-955F-A0B3E6D1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31021D3-5E2D-42BA-91DD-6C892CF1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CAC6BCC-8494-4B32-A061-FB73B1E7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FA0CBA3-3069-45EE-9113-F996AF13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FF59CE8-9F10-415C-8DCC-CB44912D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A2A4354-A705-432B-A159-5DD47B7F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8703540-A5BF-4E5B-821A-12100C80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144DC6B-26C8-498B-ADC8-F5C78A9E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FE052BE-35E8-49F2-B4CD-21A04BD5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0CE10F8-A9D5-4E3C-AB6E-5E61424C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F38B3-FE8D-49FD-A266-16E610D9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5D12FF6-E836-4ECA-8315-31D40F17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69D68BF-4BA0-4D32-991F-25A85F82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2B722ED-6DC7-4EC1-A4B7-61064AC9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1CF5A8C-5369-486F-B767-39F4862B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6A424AB-5F2E-4651-8648-307329AB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79AB87B-A955-4B7A-8831-6E01D3C5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40F1D09-0342-4880-8D9E-3CA706E0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794F395-8524-4111-B3A1-899191BB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AF0E882-E699-4EE3-929B-4ECC0289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D1C9494-21E8-40B2-874B-FDA789E6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5FE41-5883-4EB0-90C9-D1434D36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7C5030B-25C9-4FEF-982D-B5A83132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6659C09-AF79-461F-BCA7-57D9AD03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0FD4F15-B42B-4EE1-9FD0-A545C544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4546A70-DEAE-4E98-AD3D-49328B4B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F7AB6F6-BAEA-4085-9F07-B196D187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D8FBF5D-B6F5-4EA7-842F-5C260D6B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8EF3316-98C6-46E5-B5F7-BE24547F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86D8EE7-BFED-45BF-8E0C-CB12F3B0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74376C7-EA80-44CF-9879-6C7B1AE5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03817F7-457D-4957-BB30-A8EF2680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A764A-E1B2-42D0-B985-504B79B7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FD36FF2-0CA4-4425-A26A-ED7F7FD5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B451772-5DBE-40BF-B9AB-42BC8F73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B204F65-DC93-4F2C-8050-D6CFD45D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AC35AB7-0F9B-48E2-89BA-93524A8C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FA26CEE-7768-4442-8D1D-F440CC73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6FD8C25-188B-4487-82F2-8CCCC2A7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28B4FD1-9DEF-419B-AC8F-A33018DA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A3F572C-25BB-40DE-84FE-315CB167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A4B03A7-776B-4625-B5DC-FF45A630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7FA4683-E637-4D6F-B79E-9D656ACC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D5E7E-A5B8-4F70-A93F-A4025D72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C78A5B5-7FC6-46D1-A013-C59E2202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96E0E7C-D0C0-4491-AC9D-A289EE8E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8C51CE1-796C-42AB-8465-3CFB9D63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9E116BA-80B2-4691-9210-BB9762CD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39C60C0-AB30-4156-96AA-38DE2975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960D0B8-ED1E-45D5-A5E7-C34FACAC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F562AE5-FCBC-418E-B8EF-97CBC10C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8FD5D18-BEC7-4469-917F-A973225C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CBD6586-EC46-4090-B5DB-8904DBD0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970C1CB-D321-4CD7-8F71-50A38F79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95515-D7F4-4616-B249-EA49AE5D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33BDA77-DC8E-4A8D-BE81-1647B900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06C86A1A-05F8-46BD-8F4E-C5D6E18B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051043E-1FB1-4E4F-A995-D4EF7C67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6901CF6-2F1F-4A12-AB58-BCEBD7AC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B8BDA5B-0D1B-4BFC-B161-7F88BEDA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F41E4F62-2B6A-4DDD-AFEE-242D78CE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20B7BFA-92E7-4ACE-B515-166CB25B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45311E5-D257-4F43-BC90-567C64CD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F65E0470-AFD2-46D6-9144-A0570DF9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AB09CB3-AAE1-44E9-8D15-1E1F6A96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CC12A-D8C5-446D-A052-B6A39B37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F423F48-BFC1-433B-BA89-BCD8AE07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A02E570-A2BB-48A1-882F-4FEB9289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5E7E43A-2D34-4457-B13A-0DED050F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539E738-70D3-43D6-BF31-62690A73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35DD0D3-5792-4E2D-8843-B9606BFD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EE61B34-10C7-4764-9DF2-4FB76369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13EE1FC-816E-4AF7-A5B1-AC4528D9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69F421E-FAD7-4421-B4F6-45699B1D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CD4691D-C1C1-415D-8CE4-3EA81D3B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4BFA1FA-3DF6-472C-9F80-E41F0400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4F19-CD36-4406-B79D-9E749358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F01D4-6A66-45D0-9718-4781B745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2F46FCB-2644-4A7C-BBE8-3BBCAC40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C2ED224-B8F3-413B-B9BF-30023186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05D08810-E8CF-410D-B103-B7E1F344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EE09F3C-2DC5-45E3-93F3-8767FC89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035B450B-97B2-4C16-B076-62E140CE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E92982D-B1C8-4368-8143-FF8E8555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F5A1731-CF80-49C9-994D-5859B1E0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7AD853F-2390-408A-8C13-28410230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7C0D832-D28D-4EDF-A85E-F278D3B4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501897B-21E7-477F-8F32-833E9493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9C517-B89A-4F2B-883D-6EBAA30A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E38D003-A7CB-4BD8-B0CF-ECB26399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615A0D1-C3FF-4715-94C8-C75F059C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DF034E1-F183-41C8-86E3-051375B2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E55A7CC-F53D-4FA3-8591-26F30B64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A90DA00-3215-4221-9200-6B072188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F9642EA-AA2C-4209-92D5-7797C887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D254B21-2DEF-43BE-9240-C266CBAA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F0FEBBE-CC98-493B-9741-790D604D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DD680BD-D172-4E5E-BC74-25FB10FC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0784B70-CA23-40F6-A457-A8B315DC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7E093-1633-48C8-AE9A-00716508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0DFB808-43C4-44B4-9947-35FBDB91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6E36D84-0676-4397-825C-CA5AC5C3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1C08FFF-D42A-4D26-B937-20FDE4C0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1197017-FBE8-48B1-A43E-F7932882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9BBE53B-FDF1-4513-A848-10BB2888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667B609-9262-4FE1-B251-4435E082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6C13381-6FE1-429B-A546-D73CD594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0880C9D-0954-45E0-9708-278DC897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0FA0444-4277-436B-8703-14B39953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8F9FD33-E39F-43C6-BB70-5FBAF482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84E80-8B7B-4742-9E50-AB66FC49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8316B38-7BCB-45AD-BED5-6768343D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71F8F78-351D-48C7-8633-E6FCE1F5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D529026-963D-43C6-B8B0-92BDFEED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CCAE80F-A4DD-45A1-987F-36868AAB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AA6EFC1-DDB1-422D-823B-8D6F4A76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669ADFB-B491-4FED-976F-C745730F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09EB171-BD24-41E3-B091-90FEC8D7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4B7E230-E183-46BA-A800-FDA0793D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6582777-DB60-4B73-BA7A-7B7AE28E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67121E5-A809-4AAD-8A1B-95B29B8A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813DB-47C3-4919-B2FA-815A39C8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174D102-CFD0-431C-96F6-B52E1EEE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8D94AEA-15B5-45F0-A37A-CCC1CEDE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50BC5DD-CCA6-4B9B-AC8E-9AD862C2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1114ADB-B6F8-41A1-9146-D394EE60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95642DD-C0A0-4EA2-8EE3-E3937481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2A8CFEC-F33E-49EE-9D5B-5AF2E47F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6981EFE-287D-45C0-8123-B65BEB74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6EC58B5-F840-481F-8D2B-29EC0FF4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DC9C25B-37D6-4A7F-8307-05F417A6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BA6E5CF-9D67-4672-848B-00962ED7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9E32C-E319-46D0-BD3A-576CCCC1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AB008C3-4822-469D-BCCD-509EA87F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736EB37-1B7F-467F-8D1E-7ACCAF86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14D5C5B-052B-49D5-B09E-6CB88321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23818E4-CF3C-4752-91D6-9D605B10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C38B270-C432-43F0-9A5D-2DC15517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949922F1-152F-4C34-A04F-9C807B84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39E3C86-1F95-4F82-AC71-AE23FB3D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ED38295-DF10-482D-B086-AD798A5A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66CF402-EFCE-4F0E-BE53-FB3A3714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E8557D5-A6AB-4082-88C6-8A274F1D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BF4F8-3821-466E-B895-606BE499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BBA32E6-9632-46E8-BA6C-13540F9A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69F6D5E-C722-4BB2-994B-43CB82D2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0F92F1B-EAFD-4D0C-8E66-25680499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46CBD1C-4481-4E8D-9E5F-7E72F916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A5C2C19-24D7-4B37-889B-13F58C8B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6E426AE-4802-4165-9F90-08D98CD9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AA6E798-2352-4F55-BE0C-539153DF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E102DD7-31BD-47B1-9C58-1EECF6E5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80B7956-1ABE-4C4A-B41B-32012EDA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2BA42B5-2800-4B88-B645-BA6D0E63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94CD6-6515-4063-A331-24230557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4A2F678-0E2C-4E2D-910C-F24B779C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1414D48-C364-4EA9-888B-39404F25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AB6FE1D-BF72-4AB7-9E79-C2848CD8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405B470-F900-4428-B2DA-37A1D4CF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C031063-AEF8-4935-9DDB-668AB5C9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1827D4E-126F-42CA-99C8-B7DCC3E3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1E74950-A924-4721-97A3-02126505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3334808-47BE-446F-B2BF-6FBAB534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855496D-4749-4B07-AADA-82D06BC5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85F4DCD-F649-4F56-9C3C-9D9E6329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5E50E-3025-4FAA-81F0-25B2DF2D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88BD05C-E802-45F8-8116-D93EC152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C960858-4A5B-47B0-99FE-E1680737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C85EE87-CEC1-464D-9B24-2FCA51F5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E33795F-0E4E-49C8-BD99-B839C739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BAFA926-7816-4FFE-8203-E3C039C8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C699D02-9CA3-4EF0-A5EB-A052883A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4ADD4B6-2CE0-4838-9FFD-FB32BCA7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59F1EEE-3004-423A-AD87-0B9A1D77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FCC0F41-517F-4BF0-9C63-9AB0B7C1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7FDB2AE-BD9A-4F1C-8B43-FEEFDF12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9B2CE-2ADD-442F-A2CD-9A0A3216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B1EA8D6-E795-41CB-9D94-92635D44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CA46883-DED4-4382-8CD8-60477D4F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5CF1310-1417-4A6C-8B44-B42C57F7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7762341-7915-4E3B-BEE5-D3421B45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6B426CC-65C4-4EA4-B35E-3F492EC9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99F7A6D-6A0C-4746-98BD-F0B4C254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7929B89-A880-494C-B376-F6423563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AFCC65B-36BE-4BF9-858F-CEED5082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227A171-0EED-4EA7-8759-6F830999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3F3BC7B-1BB4-44EB-B31F-EFB87F83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BA1-B962-42B7-AF8E-D3980B62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47849-2DBA-4F0F-B743-E8F5BE75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A8484A9-7746-4B66-AA6E-2EF07913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04130A1-7B3E-40DA-9E81-2225437E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2CE684C-D7D1-4CC8-A301-808E7C69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100A89A-73D5-41C5-BD0A-D87EF814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494F1D6A-FCEC-4F1C-84B8-27F30598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65CE825-29B2-4692-8B04-074A6C2D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C52051C-4F45-4C2D-9804-110E25CA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8E6E2230-12B9-415A-86AC-E72BC115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D3D89C3-D3CD-48BB-BBB6-EECF6416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57C2A55-EE09-4686-92AC-23CEDDFB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2FA15-D633-40C9-B488-CA760939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A0BBE70-885E-4A84-8589-58B86A3A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DDE5BC0-CEEF-4FE9-8045-45F80830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75F216C-668D-4A57-A2A5-AA10109A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37DC2B0-7AEA-456B-B4D8-70207CB5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7B85E5F-5925-4F08-9A14-555F0BA4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BB429E1-FDA7-4B5D-9929-2E8E993F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6522780-7D94-470F-A794-B9FD9392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3DF1A6C-4F8F-4E0B-99A5-F1945A5C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F2CE905-F6B6-4C16-9A9A-462B6FE5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F8C2651-3D50-4893-A918-CCC557F1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80701-FD28-4F87-8B22-0246B477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5B88B0B-E320-4A22-9F3D-B9944E58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4CE8BC7-14E8-4E43-8243-5574112D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A36C5A8-16B0-48F5-B6D7-B3719E3C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E1EFAB9-CEFA-4F6B-80CB-6734B89F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77BB582-8DEB-46EB-BF1F-F1498F04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770C420-A89F-40D6-9C2F-879162A7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5ED1ECE-7A64-40DB-ABFB-F669DE4B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90EB54D-3F45-4890-8E6B-40750C4B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1FA9DC4-1965-4E79-8527-174DD1BF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AD983D0-94A1-409B-9E15-7F3D77AF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23316-D573-44E6-B213-6112B23B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ADBA8E4-1775-4C3D-A476-615B7637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31614AF-CF57-4616-948A-12AFFE98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4103E22-DF8D-4E4B-8A77-6DC2CD78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39101A3-5FE9-442C-A47A-887B82A2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C19AF7A-EAF5-42DA-AAC9-4473E162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9EEEC00-784F-432E-B54B-620A520F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E87BA42-24E0-4F2F-BC3E-41960726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87A29C1-2289-4F82-BBA7-A70B8F3B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D56974C-3267-45E3-9AA1-BD7748F0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9D9E578-6F95-4E16-821E-6D44563B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469F1-788F-4F82-91AF-E92ACF42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CB972F1-0B1E-433B-8279-0664AE81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13B03E2-A0CD-480B-A47D-434B51EF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A1C1154-324E-424E-8289-03350004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3AE12B4-8923-44A8-A22C-55100B5B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8377872-256A-4F89-B8EE-F3320893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A48BBED-18B3-4F23-B75E-22B44E8D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80EB147-9C7B-493B-B40D-3D54A7EF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DBD90CB-5889-4C62-836C-8F017EC7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AC9FFDD-A51D-4E23-A599-E28F5A25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93FACDB-3C52-432F-B284-758C891E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CDC21-FF2F-420D-823C-A9E2AD56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9280315-33E5-4518-89A6-E666ECC5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465B39A-2AEC-43A3-9C4A-2F729FC2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3090D8D-90D0-487D-9C10-2D13864A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163EE0E-A44A-46C7-AD80-44851508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3B32B95-981B-47E4-A8CF-E0C1C442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6EEBE33-9DCF-406E-99C2-D2DB9B38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E94BD44-B82D-42AE-8F1A-C38F71AB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940371A-4359-437A-9153-3E557ACD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DAB68B7-7659-4557-AEEC-5AF2457B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7E7E873-0359-4EA8-96B7-3B8CE5F2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EB892-F04F-4528-BC52-723F0365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5B545FB-DE59-42F5-9522-C5D7F189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B7CB307-777C-4CD4-944F-60E9867F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19C8FF9-F834-4157-99FD-E5CF46BE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DF14E3A-CDFE-4422-9F0A-FE8AAFE0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365BBC5-1A27-47BA-8AC9-A92403CE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FD5BB98-617B-428E-9D9F-78C12748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163E44A-F2D5-4339-9D26-B7934B47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6DE6A2D-1CEB-4F06-8002-E2EB7CFD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D3C29F9-2DBA-4DCF-8AB2-ADC695F6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8D982-305C-4775-8F31-9B3F726A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C0AC9-5DBA-417D-ABDA-A7CFE01B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DED2D-C26B-4289-8B98-98F8D45C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61C-673E-4CE9-9FA6-8E8A66C3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F9718-F628-47FA-988E-34F3F43D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51DB4-7919-45A5-9DA2-A872B51D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99F70-5F00-457E-B8D3-4A9682FB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650A4-8453-4095-BD14-3023F911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7F607-833D-4DFE-BEAB-6C50E75A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F27D9F-350C-420F-B2A2-C12B1D32504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9CBC74-EC4A-40CA-A83C-0023F57907D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D4D9E3-3ADF-4F7D-A2FB-ABD851508EE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E1EA44-C3DC-45E3-ADBF-AB4FF53621C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BF4EE7-31B4-4D0D-864B-A4E62112D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C8B-FE32-4EF7-8CB6-5ABDCC93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A4CF61-F3F1-4C74-B2FE-850507E703E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B84773-6281-4698-A6EB-EB2BD29F506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7EFF02-3684-476A-B5FE-2F10143E073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1192A2-4BE6-44EE-99B4-62973525945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CE46E2-7753-4745-A0E9-3738369CE73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6317F2-4161-4ECE-BA2B-06BA9FE0F80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CB4FA4-9E3E-4D9B-8810-E20103BDCC8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CF9A45-EC7F-45DF-8CD5-91241989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F3437-B9D5-4B10-B4CC-4D83D8A2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7B816-CA25-4D07-A55D-F2E79F76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5021-89FB-48AC-8025-E92957F4B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A00A-89AD-4BCD-9B8B-95887923DC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78E6-FEC0-4F5D-9D6C-6F287EBCAD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BBAB-30BF-4C09-B5F1-93B07B49C0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D894-BDE8-4C9F-8B78-6E328677ED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4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7657-A8E0-4FD3-813D-7C5DDBBCDE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7A95-AFF5-4A66-92E7-1E18CC4E61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0A28-D340-438C-ACD3-F963CB1FE3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6D82-E8DB-4145-8B72-A461EA5C3E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5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6B4A-EACD-48EA-924C-963520A851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E62F-D268-45A8-A645-081B4C7F8C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40D0-8253-405D-9DD3-E67D1FB66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1087-7C14-4EDA-AD17-2B690A9EAF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1490-8CB9-4EDC-B114-A8AA019037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6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6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A3DD-C9EC-4FCF-852B-BA293E751C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0CFD-AF97-441E-8F29-BDF61827F2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7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9098-8A8F-478E-80EA-1C9F0DBA3F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7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7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848D-4B42-4DC5-A2AA-992CDD9DF4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7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7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7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D7CC-9040-458B-9AB4-D8A110FDCB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7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7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7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5329-20E1-456C-A33F-D883403D55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8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8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8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BEF8-EC47-4787-BACD-820D73494B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8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8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8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DF33-5AEC-4942-989A-EA2CB62ACE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50D4-E891-4C32-A33F-BAA1422E96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8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8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4364-5CB3-4850-972D-B5774AE8BA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8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9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9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5567-A048-46D5-BC93-1BC380ECFD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9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ftr" idx="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sldNum" idx="9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1684-D74E-4C46-9C6C-3909BC1569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9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9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9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297E-D39A-46BC-A838-18C0225704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9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ftr" idx="9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 type="sldNum" idx="10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9DEC-034F-4E6B-923E-B7F7741569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10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10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10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E636-FD40-4E90-8F2F-868BD84E8F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dt" idx="10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 type="sldNum" idx="10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9FE0-431C-4124-9FB1-F5BF1AD2B0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10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ftr" idx="10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 type="sldNum" idx="10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22F1-BA28-4798-8895-3772453559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 type="dt" idx="1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 type="ftr" idx="1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 type="sldNum" idx="1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03F8-26F5-48EE-AFB1-1FFF0213CB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 type="dt" idx="1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 type="ftr" idx="1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 type="sldNum" idx="1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0257-C7DA-4A4C-8BD5-A5795F304C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129B-9768-4824-AA08-74587485B9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dt" idx="1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 type="ftr" idx="1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 type="sldNum" idx="1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17EC-2C27-42BC-B166-A3950F648B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 type="dt" idx="1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 type="ftr" idx="1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 type="sldNum" idx="1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972A-9543-4E5C-B85C-C47283AF25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 type="dt" idx="1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 type="ftr" idx="1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 type="sldNum" idx="1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62D1-5AC9-48CA-BD69-C2E40E1A54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 type="dt" idx="1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 type="ftr" idx="1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 type="sldNum" idx="1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B472-5BE5-4ACE-9310-F1276BCF49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 type="dt" idx="1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 type="ftr" idx="1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 type="sldNum" idx="1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7294-DC53-4DE0-9C4B-0B0502D886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 type="dt" idx="1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 type="ftr" idx="1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 type="sldNum" idx="1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74EF-EC8F-4FCE-988A-F6A362B3B7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 type="dt" idx="1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 type="ftr" idx="1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 type="sldNum" idx="1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7C3C-08D4-4931-A4EB-5142BC5EFC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 type="dt" idx="1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 type="ftr" idx="1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 type="sldNum" idx="1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B9EF-DCC3-4FC0-9C12-2185E1A957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 type="dt" idx="1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 type="ftr" idx="1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 type="sldNum" idx="1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CB7C-06E5-4752-909A-6A8179ED33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 type="dt" idx="1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 type="ftr" idx="1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 type="sldNum" idx="1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C14B-BC4F-4CE2-894E-CB271447EA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862E-0401-4EEA-AC37-E0A52341BF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 type="dt" idx="1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 type="ftr" idx="1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 type="sldNum" idx="1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3736-BA47-43C4-82C2-853FF1802C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 type="dt" idx="1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 type="ftr" idx="1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5"/>
          <p:cNvSpPr>
            <a:spLocks noGrp="1"/>
          </p:cNvSpPr>
          <p:nvPr>
            <p:ph type="sldNum" idx="1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5EA4-4760-4682-AE2B-E2D5B9C227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 type="dt" idx="1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 type="ftr" idx="1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5"/>
          <p:cNvSpPr>
            <a:spLocks noGrp="1"/>
          </p:cNvSpPr>
          <p:nvPr>
            <p:ph type="sldNum" idx="1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24BE-2A6B-4AB6-B68A-730C297CF5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 type="dt" idx="1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 type="ftr" idx="1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 type="sldNum" idx="1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9CCF-D2AA-4E27-9F5B-215E4B46C9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 type="dt" idx="1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 type="ftr" idx="1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5"/>
          <p:cNvSpPr>
            <a:spLocks noGrp="1"/>
          </p:cNvSpPr>
          <p:nvPr>
            <p:ph type="sldNum" idx="1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CB1F-4801-4DB3-9A02-5B440C4177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 type="dt" idx="1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 type="ftr" idx="1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5"/>
          <p:cNvSpPr>
            <a:spLocks noGrp="1"/>
          </p:cNvSpPr>
          <p:nvPr>
            <p:ph type="sldNum" idx="1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7077-CFEA-4AC2-9B2F-0D52313D7F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 type="dt" idx="1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 type="ftr" idx="1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5"/>
          <p:cNvSpPr>
            <a:spLocks noGrp="1"/>
          </p:cNvSpPr>
          <p:nvPr>
            <p:ph type="sldNum" idx="1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B5E4-E99B-4A7D-A416-1D6C55F9D8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 type="dt" idx="1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 type="ftr" idx="1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5"/>
          <p:cNvSpPr>
            <a:spLocks noGrp="1"/>
          </p:cNvSpPr>
          <p:nvPr>
            <p:ph type="sldNum" idx="1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10E0-BEEA-4E4E-B979-D924AD385B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 type="dt" idx="1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 type="ftr" idx="1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5"/>
          <p:cNvSpPr>
            <a:spLocks noGrp="1"/>
          </p:cNvSpPr>
          <p:nvPr>
            <p:ph type="sldNum" idx="1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3144-1F3D-4E80-B389-ECA1D98004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 type="dt" idx="1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4"/>
          <p:cNvSpPr>
            <a:spLocks noGrp="1"/>
          </p:cNvSpPr>
          <p:nvPr>
            <p:ph type="ftr" idx="1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5"/>
          <p:cNvSpPr>
            <a:spLocks noGrp="1"/>
          </p:cNvSpPr>
          <p:nvPr>
            <p:ph type="sldNum" idx="1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DAC4-4C3C-4B56-802F-CE303B375F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2672-839A-42BB-AABC-E7A31B6CBA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 type="dt" idx="1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 type="ftr" idx="1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5"/>
          <p:cNvSpPr>
            <a:spLocks noGrp="1"/>
          </p:cNvSpPr>
          <p:nvPr>
            <p:ph type="sldNum" idx="1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C496-3127-4BED-86CA-EA947CA442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PlaceHolder 3"/>
          <p:cNvSpPr>
            <a:spLocks noGrp="1"/>
          </p:cNvSpPr>
          <p:nvPr>
            <p:ph type="dt" idx="1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4"/>
          <p:cNvSpPr>
            <a:spLocks noGrp="1"/>
          </p:cNvSpPr>
          <p:nvPr>
            <p:ph type="ftr" idx="1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5"/>
          <p:cNvSpPr>
            <a:spLocks noGrp="1"/>
          </p:cNvSpPr>
          <p:nvPr>
            <p:ph type="sldNum" idx="1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D813-40BD-41DB-983E-EA67F5FBAB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 type="dt" idx="1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 type="ftr" idx="1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5"/>
          <p:cNvSpPr>
            <a:spLocks noGrp="1"/>
          </p:cNvSpPr>
          <p:nvPr>
            <p:ph type="sldNum" idx="1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5D04-C073-4CA2-A539-57577FC3F5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1B79-A64A-4BF3-B55A-4E9AFE20E2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 type="dt" idx="1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 type="ftr" idx="1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 type="sldNum" idx="1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F23A-A7D4-4F13-9120-12C4903AB0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6DCB-0283-42FF-841E-1FC41A9DA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22"/>
          </p:nvPr>
        </p:nvSpPr>
        <p:spPr>
          <a:xfrm>
            <a:off x="723564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4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A78925A-1C2E-495D-800D-5E319C52A2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C98E-7A76-4E0A-BC46-51E2716466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321.wav"/><Relationship Id="rId3" Type="http://schemas.openxmlformats.org/officeDocument/2006/relationships/audio" Target="../media/321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png"/><Relationship Id="rId10" Type="http://schemas.openxmlformats.org/officeDocument/2006/relationships/audio" Target="../media/enter2.wav"/><Relationship Id="rId11" Type="http://schemas.openxmlformats.org/officeDocument/2006/relationships/slideLayout" Target="../slideLayouts/slideLayout5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enter2.wav"/><Relationship Id="rId3" Type="http://schemas.openxmlformats.org/officeDocument/2006/relationships/slideLayout" Target="../slideLayouts/slideLayout6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enter2.wav"/><Relationship Id="rId2" Type="http://schemas.openxmlformats.org/officeDocument/2006/relationships/slideLayout" Target="../slideLayouts/slideLayout6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audio" Target="../media/enter2.wav"/><Relationship Id="rId7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audio" Target="../media/enter2.wav"/><Relationship Id="rId7" Type="http://schemas.openxmlformats.org/officeDocument/2006/relationships/slideLayout" Target="../slideLayouts/slideLayout3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enter2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audio" Target="../media/321.wav"/><Relationship Id="rId4" Type="http://schemas.openxmlformats.org/officeDocument/2006/relationships/audio" Target="../media/321.wav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321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平面图形（十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Rectangle 3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WordArt 4"/>
          <p:cNvSpPr txBox="1"/>
          <p:nvPr/>
        </p:nvSpPr>
        <p:spPr>
          <a:xfrm>
            <a:off x="2133720" y="457200"/>
            <a:ext cx="2016000" cy="87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机智问答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99" name="Picture 5" descr="A028"/>
          <p:cNvPicPr/>
          <p:nvPr/>
        </p:nvPicPr>
        <p:blipFill>
          <a:blip r:embed="rId1"/>
          <a:stretch/>
        </p:blipFill>
        <p:spPr>
          <a:xfrm>
            <a:off x="304920" y="0"/>
            <a:ext cx="1655640" cy="1943280"/>
          </a:xfrm>
          <a:prstGeom prst="rect">
            <a:avLst/>
          </a:prstGeom>
          <a:ln w="0">
            <a:noFill/>
          </a:ln>
        </p:spPr>
      </p:pic>
      <p:sp>
        <p:nvSpPr>
          <p:cNvPr id="2700" name="Text Box 6"/>
          <p:cNvSpPr/>
          <p:nvPr/>
        </p:nvSpPr>
        <p:spPr>
          <a:xfrm>
            <a:off x="304920" y="198108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一个平行四边形和一个三角形等底等高，已知平行四边形的面积比三角形的面积大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厘米，三角形面积是（        ）平方厘米；平行四边形的面积（     ）平方厘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Text Box 8"/>
          <p:cNvSpPr/>
          <p:nvPr/>
        </p:nvSpPr>
        <p:spPr>
          <a:xfrm>
            <a:off x="3201840" y="38862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Text Box 9"/>
          <p:cNvSpPr/>
          <p:nvPr/>
        </p:nvSpPr>
        <p:spPr>
          <a:xfrm>
            <a:off x="3989520" y="446400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32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32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3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4" name="Picture 2" descr=""/>
          <p:cNvPicPr/>
          <p:nvPr/>
        </p:nvPicPr>
        <p:blipFill>
          <a:blip r:embed="rId1"/>
          <a:stretch/>
        </p:blipFill>
        <p:spPr>
          <a:xfrm>
            <a:off x="3657600" y="4267080"/>
            <a:ext cx="797040" cy="83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05" name="Text Box 4"/>
          <p:cNvSpPr/>
          <p:nvPr/>
        </p:nvSpPr>
        <p:spPr>
          <a:xfrm>
            <a:off x="1371600" y="1066680"/>
            <a:ext cx="58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能计算出这个图形 中绿色部分的周长、面积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6" name="Object 2"/>
          <p:cNvGraphicFramePr/>
          <p:nvPr/>
        </p:nvGraphicFramePr>
        <p:xfrm>
          <a:off x="1447920" y="3882960"/>
          <a:ext cx="873000" cy="8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882960"/>
                    <a:ext cx="8730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8" name="Object 3"/>
          <p:cNvGraphicFramePr/>
          <p:nvPr/>
        </p:nvGraphicFramePr>
        <p:xfrm>
          <a:off x="2320920" y="3882960"/>
          <a:ext cx="803160" cy="86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20920" y="3882960"/>
                    <a:ext cx="80316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0" name="Line 7"/>
          <p:cNvSpPr/>
          <p:nvPr/>
        </p:nvSpPr>
        <p:spPr>
          <a:xfrm>
            <a:off x="1447920" y="3048120"/>
            <a:ext cx="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1" name="Object 4"/>
          <p:cNvGraphicFramePr/>
          <p:nvPr/>
        </p:nvGraphicFramePr>
        <p:xfrm>
          <a:off x="1479600" y="3048120"/>
          <a:ext cx="841320" cy="81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12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79600" y="3048120"/>
                    <a:ext cx="8413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3" name="Object 5"/>
          <p:cNvGraphicFramePr/>
          <p:nvPr/>
        </p:nvGraphicFramePr>
        <p:xfrm>
          <a:off x="2335320" y="3048120"/>
          <a:ext cx="809640" cy="841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14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35320" y="3048120"/>
                    <a:ext cx="80964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5" name="Line 10"/>
          <p:cNvSpPr/>
          <p:nvPr/>
        </p:nvSpPr>
        <p:spPr>
          <a:xfrm>
            <a:off x="1447920" y="3048120"/>
            <a:ext cx="169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Line 11"/>
          <p:cNvSpPr/>
          <p:nvPr/>
        </p:nvSpPr>
        <p:spPr>
          <a:xfrm>
            <a:off x="1447920" y="4746600"/>
            <a:ext cx="169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Line 12"/>
          <p:cNvSpPr/>
          <p:nvPr/>
        </p:nvSpPr>
        <p:spPr>
          <a:xfrm>
            <a:off x="1447920" y="3048120"/>
            <a:ext cx="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AutoShape 13"/>
          <p:cNvSpPr/>
          <p:nvPr/>
        </p:nvSpPr>
        <p:spPr>
          <a:xfrm rot="10800000">
            <a:off x="1218960" y="3048120"/>
            <a:ext cx="150840" cy="1698480"/>
          </a:xfrm>
          <a:custGeom>
            <a:avLst/>
            <a:gdLst>
              <a:gd name="textAreaLeft" fmla="*/ 0 w 150840"/>
              <a:gd name="textAreaRight" fmla="*/ 54360 w 150840"/>
              <a:gd name="textAreaTop" fmla="*/ 44280 h 1698480"/>
              <a:gd name="textAreaBottom" fmla="*/ 1654200 h 16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Text Box 14"/>
          <p:cNvSpPr/>
          <p:nvPr/>
        </p:nvSpPr>
        <p:spPr>
          <a:xfrm rot="16200000">
            <a:off x="319680" y="357912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Line 15"/>
          <p:cNvSpPr/>
          <p:nvPr/>
        </p:nvSpPr>
        <p:spPr>
          <a:xfrm>
            <a:off x="3144960" y="3048120"/>
            <a:ext cx="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Line 16"/>
          <p:cNvSpPr/>
          <p:nvPr/>
        </p:nvSpPr>
        <p:spPr>
          <a:xfrm>
            <a:off x="3657600" y="38862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2" name="Group 17"/>
          <p:cNvGrpSpPr/>
          <p:nvPr/>
        </p:nvGrpSpPr>
        <p:grpSpPr>
          <a:xfrm>
            <a:off x="4506840" y="2971800"/>
            <a:ext cx="2351160" cy="1698480"/>
            <a:chOff x="4506840" y="2971800"/>
            <a:chExt cx="2351160" cy="1698480"/>
          </a:xfrm>
        </p:grpSpPr>
        <p:grpSp>
          <p:nvGrpSpPr>
            <p:cNvPr id="2723" name="Group 18"/>
            <p:cNvGrpSpPr/>
            <p:nvPr/>
          </p:nvGrpSpPr>
          <p:grpSpPr>
            <a:xfrm>
              <a:off x="4506840" y="2971800"/>
              <a:ext cx="2351160" cy="1698480"/>
              <a:chOff x="4506840" y="2971800"/>
              <a:chExt cx="2351160" cy="1698480"/>
            </a:xfrm>
          </p:grpSpPr>
          <p:grpSp>
            <p:nvGrpSpPr>
              <p:cNvPr id="2724" name="Group 19"/>
              <p:cNvGrpSpPr/>
              <p:nvPr/>
            </p:nvGrpSpPr>
            <p:grpSpPr>
              <a:xfrm>
                <a:off x="5181480" y="2971800"/>
                <a:ext cx="1676520" cy="1676520"/>
                <a:chOff x="5181480" y="2971800"/>
                <a:chExt cx="1676520" cy="1676520"/>
              </a:xfrm>
            </p:grpSpPr>
            <p:sp>
              <p:nvSpPr>
                <p:cNvPr id="2725" name="Rectangle 20"/>
                <p:cNvSpPr/>
                <p:nvPr/>
              </p:nvSpPr>
              <p:spPr>
                <a:xfrm>
                  <a:off x="5181480" y="2971800"/>
                  <a:ext cx="1676520" cy="16765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6" name="Oval 21"/>
                <p:cNvSpPr/>
                <p:nvPr/>
              </p:nvSpPr>
              <p:spPr>
                <a:xfrm>
                  <a:off x="5181480" y="2971800"/>
                  <a:ext cx="1676520" cy="1676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7" name="AutoShape 22"/>
              <p:cNvSpPr/>
              <p:nvPr/>
            </p:nvSpPr>
            <p:spPr>
              <a:xfrm rot="10800000">
                <a:off x="4954320" y="2971800"/>
                <a:ext cx="150840" cy="1698480"/>
              </a:xfrm>
              <a:custGeom>
                <a:avLst/>
                <a:gdLst>
                  <a:gd name="textAreaLeft" fmla="*/ 0 w 150840"/>
                  <a:gd name="textAreaRight" fmla="*/ 54360 w 150840"/>
                  <a:gd name="textAreaTop" fmla="*/ 44280 h 1698480"/>
                  <a:gd name="textAreaBottom" fmla="*/ 1654200 h 169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Text Box 23"/>
              <p:cNvSpPr/>
              <p:nvPr/>
            </p:nvSpPr>
            <p:spPr>
              <a:xfrm rot="16200000">
                <a:off x="4081320" y="370224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厘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9" name="Line 24"/>
            <p:cNvSpPr/>
            <p:nvPr/>
          </p:nvSpPr>
          <p:spPr>
            <a:xfrm>
              <a:off x="5181480" y="38098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Line 25"/>
            <p:cNvSpPr/>
            <p:nvPr/>
          </p:nvSpPr>
          <p:spPr>
            <a:xfrm>
              <a:off x="6019920" y="29718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10" name="enter2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2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1" name="Picture 2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3467160" cy="1962360"/>
          </a:xfrm>
          <a:prstGeom prst="rect">
            <a:avLst/>
          </a:prstGeom>
          <a:ln w="0">
            <a:noFill/>
          </a:ln>
        </p:spPr>
      </p:pic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4072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如下图，甲、乙两个图形都是正方形，它们的边长分别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，求阴影部分的面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708360" y="2060280"/>
            <a:ext cx="4802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解：阴影部分的面积等于甲、乙两个正方形面积之和减去三个“空白”三角形（△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G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△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D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 △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FG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的面积之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因为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甲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乙　　　　　　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12×12+10×10=2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Text Box 5"/>
          <p:cNvSpPr/>
          <p:nvPr/>
        </p:nvSpPr>
        <p:spPr>
          <a:xfrm>
            <a:off x="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Text Box 6"/>
          <p:cNvSpPr/>
          <p:nvPr/>
        </p:nvSpPr>
        <p:spPr>
          <a:xfrm>
            <a:off x="0" y="4419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Text Box 7"/>
          <p:cNvSpPr/>
          <p:nvPr/>
        </p:nvSpPr>
        <p:spPr>
          <a:xfrm>
            <a:off x="1447920" y="4419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Text Box 8"/>
          <p:cNvSpPr/>
          <p:nvPr/>
        </p:nvSpPr>
        <p:spPr>
          <a:xfrm>
            <a:off x="3276720" y="4343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Text Box 9"/>
          <p:cNvSpPr/>
          <p:nvPr/>
        </p:nvSpPr>
        <p:spPr>
          <a:xfrm>
            <a:off x="3352680" y="2133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Text Box 10"/>
          <p:cNvSpPr/>
          <p:nvPr/>
        </p:nvSpPr>
        <p:spPr>
          <a:xfrm>
            <a:off x="1523880" y="2529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Text Box 11"/>
          <p:cNvSpPr/>
          <p:nvPr/>
        </p:nvSpPr>
        <p:spPr>
          <a:xfrm>
            <a:off x="14479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Text Box 12"/>
          <p:cNvSpPr/>
          <p:nvPr/>
        </p:nvSpPr>
        <p:spPr>
          <a:xfrm>
            <a:off x="762120" y="4419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Text Box 13"/>
          <p:cNvSpPr/>
          <p:nvPr/>
        </p:nvSpPr>
        <p:spPr>
          <a:xfrm>
            <a:off x="2438280" y="4419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enter2.wav"/>
      </p:stSnd>
    </p:sndAc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矩形 1"/>
          <p:cNvSpPr/>
          <p:nvPr/>
        </p:nvSpPr>
        <p:spPr>
          <a:xfrm>
            <a:off x="228600" y="1447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ABG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10×1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÷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△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EFG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2-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×12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BD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2+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×12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所以阴影部分面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244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0+132+1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5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平方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enter2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4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AutoShape 2"/>
          <p:cNvSpPr/>
          <p:nvPr/>
        </p:nvSpPr>
        <p:spPr>
          <a:xfrm>
            <a:off x="5867280" y="2781360"/>
            <a:ext cx="2057400" cy="914400"/>
          </a:xfrm>
          <a:prstGeom prst="parallelogram">
            <a:avLst>
              <a:gd name="adj" fmla="val 562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Rectangle 3"/>
          <p:cNvSpPr/>
          <p:nvPr/>
        </p:nvSpPr>
        <p:spPr>
          <a:xfrm>
            <a:off x="3924360" y="282888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Rectangle 4"/>
          <p:cNvSpPr/>
          <p:nvPr/>
        </p:nvSpPr>
        <p:spPr>
          <a:xfrm>
            <a:off x="1332000" y="2852640"/>
            <a:ext cx="13716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AutoShape 5"/>
          <p:cNvSpPr/>
          <p:nvPr/>
        </p:nvSpPr>
        <p:spPr>
          <a:xfrm rot="8913600">
            <a:off x="1331640" y="5373720"/>
            <a:ext cx="1523880" cy="9144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AutoShape 6"/>
          <p:cNvSpPr/>
          <p:nvPr/>
        </p:nvSpPr>
        <p:spPr>
          <a:xfrm rot="10849200">
            <a:off x="4859280" y="4941720"/>
            <a:ext cx="1295280" cy="91440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Text Box 7"/>
          <p:cNvSpPr/>
          <p:nvPr/>
        </p:nvSpPr>
        <p:spPr>
          <a:xfrm>
            <a:off x="928800" y="836640"/>
            <a:ext cx="7315200" cy="764280"/>
          </a:xfrm>
          <a:prstGeom prst="rect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  <a:ea typeface="宋体"/>
              </a:rPr>
              <a:t>封闭图形一周的长度叫做这个图形的</a:t>
            </a:r>
            <a:r>
              <a:rPr b="1" lang="zh-CN" sz="4400" spc="-1" strike="noStrike">
                <a:solidFill>
                  <a:srgbClr val="333399"/>
                </a:solidFill>
                <a:latin typeface="宋体"/>
                <a:ea typeface="宋体"/>
              </a:rPr>
              <a:t>周长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Line 8"/>
          <p:cNvSpPr/>
          <p:nvPr/>
        </p:nvSpPr>
        <p:spPr>
          <a:xfrm>
            <a:off x="1332000" y="3860640"/>
            <a:ext cx="1368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Line 9"/>
          <p:cNvSpPr/>
          <p:nvPr/>
        </p:nvSpPr>
        <p:spPr>
          <a:xfrm flipV="1">
            <a:off x="2700360" y="2852280"/>
            <a:ext cx="0" cy="10335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Line 10"/>
          <p:cNvSpPr/>
          <p:nvPr/>
        </p:nvSpPr>
        <p:spPr>
          <a:xfrm flipH="1">
            <a:off x="1331640" y="2852640"/>
            <a:ext cx="1368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Line 11"/>
          <p:cNvSpPr/>
          <p:nvPr/>
        </p:nvSpPr>
        <p:spPr>
          <a:xfrm>
            <a:off x="1332000" y="2828880"/>
            <a:ext cx="0" cy="10317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Line 12"/>
          <p:cNvSpPr/>
          <p:nvPr/>
        </p:nvSpPr>
        <p:spPr>
          <a:xfrm>
            <a:off x="5867280" y="3716280"/>
            <a:ext cx="1513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Line 13"/>
          <p:cNvSpPr/>
          <p:nvPr/>
        </p:nvSpPr>
        <p:spPr>
          <a:xfrm flipV="1">
            <a:off x="7383240" y="2776680"/>
            <a:ext cx="543600" cy="9342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Line 14"/>
          <p:cNvSpPr/>
          <p:nvPr/>
        </p:nvSpPr>
        <p:spPr>
          <a:xfrm flipH="1">
            <a:off x="6372000" y="2781360"/>
            <a:ext cx="158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Line 15"/>
          <p:cNvSpPr/>
          <p:nvPr/>
        </p:nvSpPr>
        <p:spPr>
          <a:xfrm flipH="1">
            <a:off x="5878080" y="2773080"/>
            <a:ext cx="531000" cy="9417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Line 16"/>
          <p:cNvSpPr/>
          <p:nvPr/>
        </p:nvSpPr>
        <p:spPr>
          <a:xfrm>
            <a:off x="1187280" y="5805360"/>
            <a:ext cx="1800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Line 17"/>
          <p:cNvSpPr/>
          <p:nvPr/>
        </p:nvSpPr>
        <p:spPr>
          <a:xfrm flipH="1" flipV="1">
            <a:off x="2496600" y="4994280"/>
            <a:ext cx="455040" cy="8168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Line 18"/>
          <p:cNvSpPr/>
          <p:nvPr/>
        </p:nvSpPr>
        <p:spPr>
          <a:xfrm flipH="1">
            <a:off x="1168920" y="5021640"/>
            <a:ext cx="1360440" cy="812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Line 19"/>
          <p:cNvSpPr/>
          <p:nvPr/>
        </p:nvSpPr>
        <p:spPr>
          <a:xfrm>
            <a:off x="3924360" y="3763800"/>
            <a:ext cx="9349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Line 20"/>
          <p:cNvSpPr/>
          <p:nvPr/>
        </p:nvSpPr>
        <p:spPr>
          <a:xfrm flipV="1">
            <a:off x="4859280" y="2828880"/>
            <a:ext cx="0" cy="9604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Line 21"/>
          <p:cNvSpPr/>
          <p:nvPr/>
        </p:nvSpPr>
        <p:spPr>
          <a:xfrm flipH="1">
            <a:off x="3924360" y="2828880"/>
            <a:ext cx="936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Line 22"/>
          <p:cNvSpPr/>
          <p:nvPr/>
        </p:nvSpPr>
        <p:spPr>
          <a:xfrm>
            <a:off x="3924360" y="2828880"/>
            <a:ext cx="0" cy="934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Line 23"/>
          <p:cNvSpPr/>
          <p:nvPr/>
        </p:nvSpPr>
        <p:spPr>
          <a:xfrm>
            <a:off x="4803840" y="5877000"/>
            <a:ext cx="1332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Line 24"/>
          <p:cNvSpPr/>
          <p:nvPr/>
        </p:nvSpPr>
        <p:spPr>
          <a:xfrm flipH="1" flipV="1">
            <a:off x="5859360" y="4940640"/>
            <a:ext cx="308160" cy="9597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Line 25"/>
          <p:cNvSpPr/>
          <p:nvPr/>
        </p:nvSpPr>
        <p:spPr>
          <a:xfrm flipH="1">
            <a:off x="5183280" y="4941720"/>
            <a:ext cx="684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Line 26"/>
          <p:cNvSpPr/>
          <p:nvPr/>
        </p:nvSpPr>
        <p:spPr>
          <a:xfrm flipH="1">
            <a:off x="4837680" y="4954320"/>
            <a:ext cx="357480" cy="8895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9" name="矩形 26" descr=""/>
          <p:cNvPicPr/>
          <p:nvPr/>
        </p:nvPicPr>
        <p:blipFill>
          <a:blip r:embed="rId1"/>
          <a:stretch/>
        </p:blipFill>
        <p:spPr>
          <a:xfrm>
            <a:off x="0" y="0"/>
            <a:ext cx="2273400" cy="9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2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AutoShape 5"/>
          <p:cNvSpPr/>
          <p:nvPr/>
        </p:nvSpPr>
        <p:spPr>
          <a:xfrm>
            <a:off x="5867280" y="2781360"/>
            <a:ext cx="2057400" cy="914400"/>
          </a:xfrm>
          <a:prstGeom prst="parallelogram">
            <a:avLst>
              <a:gd name="adj" fmla="val 562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Rectangle 6"/>
          <p:cNvSpPr/>
          <p:nvPr/>
        </p:nvSpPr>
        <p:spPr>
          <a:xfrm>
            <a:off x="3924360" y="278136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Rectangle 7"/>
          <p:cNvSpPr/>
          <p:nvPr/>
        </p:nvSpPr>
        <p:spPr>
          <a:xfrm>
            <a:off x="1332000" y="2852640"/>
            <a:ext cx="13716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AutoShape 8"/>
          <p:cNvSpPr/>
          <p:nvPr/>
        </p:nvSpPr>
        <p:spPr>
          <a:xfrm rot="8913600">
            <a:off x="1258560" y="5229360"/>
            <a:ext cx="1523880" cy="9144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AutoShape 9"/>
          <p:cNvSpPr/>
          <p:nvPr/>
        </p:nvSpPr>
        <p:spPr>
          <a:xfrm rot="10849200">
            <a:off x="4859280" y="4941720"/>
            <a:ext cx="1295280" cy="91440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Text Box 10"/>
          <p:cNvSpPr/>
          <p:nvPr/>
        </p:nvSpPr>
        <p:spPr>
          <a:xfrm>
            <a:off x="324000" y="620640"/>
            <a:ext cx="8353440" cy="7642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物体的表面或平面图形的大小，叫做它们的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  <a:ea typeface="宋体"/>
              </a:rPr>
              <a:t>面积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Rectangle 11"/>
          <p:cNvSpPr/>
          <p:nvPr/>
        </p:nvSpPr>
        <p:spPr>
          <a:xfrm>
            <a:off x="1332000" y="2852640"/>
            <a:ext cx="1368360" cy="100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Rectangle 12"/>
          <p:cNvSpPr/>
          <p:nvPr/>
        </p:nvSpPr>
        <p:spPr>
          <a:xfrm>
            <a:off x="3924360" y="2781360"/>
            <a:ext cx="934920" cy="93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AutoShape 13"/>
          <p:cNvSpPr/>
          <p:nvPr/>
        </p:nvSpPr>
        <p:spPr>
          <a:xfrm>
            <a:off x="5867280" y="2781360"/>
            <a:ext cx="2057400" cy="914400"/>
          </a:xfrm>
          <a:prstGeom prst="parallelogram">
            <a:avLst>
              <a:gd name="adj" fmla="val 5625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AutoShape 14"/>
          <p:cNvSpPr/>
          <p:nvPr/>
        </p:nvSpPr>
        <p:spPr>
          <a:xfrm rot="8913600">
            <a:off x="1258560" y="5229360"/>
            <a:ext cx="1523880" cy="91440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AutoShape 15"/>
          <p:cNvSpPr/>
          <p:nvPr/>
        </p:nvSpPr>
        <p:spPr>
          <a:xfrm rot="10849200">
            <a:off x="4859280" y="4941720"/>
            <a:ext cx="1295280" cy="91440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1" name="Picture 2" descr="园"/>
          <p:cNvPicPr/>
          <p:nvPr/>
        </p:nvPicPr>
        <p:blipFill>
          <a:blip r:embed="rId1"/>
          <a:stretch/>
        </p:blipFill>
        <p:spPr>
          <a:xfrm>
            <a:off x="395280" y="5084640"/>
            <a:ext cx="1763640" cy="1268640"/>
          </a:xfrm>
          <a:prstGeom prst="rect">
            <a:avLst/>
          </a:prstGeom>
          <a:ln w="0">
            <a:noFill/>
          </a:ln>
        </p:spPr>
      </p:pic>
      <p:sp>
        <p:nvSpPr>
          <p:cNvPr id="2662" name="Text Box 4"/>
          <p:cNvSpPr/>
          <p:nvPr/>
        </p:nvSpPr>
        <p:spPr>
          <a:xfrm>
            <a:off x="480960" y="2738520"/>
            <a:ext cx="488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画出运动的轨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Text Box 5"/>
          <p:cNvSpPr/>
          <p:nvPr/>
        </p:nvSpPr>
        <p:spPr>
          <a:xfrm>
            <a:off x="2172600" y="1066680"/>
            <a:ext cx="521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半径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米的一个圆沿边长分别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米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米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米的三角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滚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圈，求圆心经过的路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4" name="Picture 6" descr=""/>
          <p:cNvPicPr/>
          <p:nvPr/>
        </p:nvPicPr>
        <p:blipFill>
          <a:blip r:embed="rId2"/>
          <a:stretch/>
        </p:blipFill>
        <p:spPr>
          <a:xfrm>
            <a:off x="1978200" y="2565360"/>
            <a:ext cx="4681440" cy="3800520"/>
          </a:xfrm>
          <a:prstGeom prst="rect">
            <a:avLst/>
          </a:prstGeom>
          <a:ln w="0">
            <a:noFill/>
          </a:ln>
        </p:spPr>
      </p:pic>
      <p:sp>
        <p:nvSpPr>
          <p:cNvPr id="2665" name="AutoShape 7"/>
          <p:cNvSpPr/>
          <p:nvPr/>
        </p:nvSpPr>
        <p:spPr>
          <a:xfrm>
            <a:off x="8352000" y="4508640"/>
            <a:ext cx="792000" cy="141264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303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AutoShape 8">
            <a:hlinkClick r:id="" action="ppaction://hlinkshowjump?jump=previousslide"/>
          </p:cNvPr>
          <p:cNvSpPr/>
          <p:nvPr/>
        </p:nvSpPr>
        <p:spPr>
          <a:xfrm>
            <a:off x="6732720" y="5950080"/>
            <a:ext cx="1204920" cy="664920"/>
          </a:xfrm>
          <a:prstGeom prst="sun">
            <a:avLst>
              <a:gd name="adj" fmla="val 250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AutoShape 9">
            <a:hlinkClick r:id="" action="ppaction://hlinkshowjump?jump=nextslide"/>
          </p:cNvPr>
          <p:cNvSpPr/>
          <p:nvPr/>
        </p:nvSpPr>
        <p:spPr>
          <a:xfrm>
            <a:off x="7740720" y="5694480"/>
            <a:ext cx="1125360" cy="116352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53966" dir="2700000" blurRad="0" rotWithShape="0">
              <a:srgbClr val="00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6" name="enter2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Text Box 2"/>
          <p:cNvSpPr/>
          <p:nvPr/>
        </p:nvSpPr>
        <p:spPr>
          <a:xfrm>
            <a:off x="457200" y="914400"/>
            <a:ext cx="7775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巴依老爷让阿凡提为他养羊，把羊放在一个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，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的长方形的羊圈里，羊长大了羊圈就显得小了，小气的巴依老爷不给阿凡提材料，但要阿凡提把羊圈放大，你们说阿凡提该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9" name="Picture 3" descr="阿凡提"/>
          <p:cNvPicPr/>
          <p:nvPr/>
        </p:nvPicPr>
        <p:blipFill>
          <a:blip r:embed="rId1"/>
          <a:stretch/>
        </p:blipFill>
        <p:spPr>
          <a:xfrm>
            <a:off x="6324480" y="365760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2670" name="Picture 4" descr="q2"/>
          <p:cNvPicPr/>
          <p:nvPr/>
        </p:nvPicPr>
        <p:blipFill>
          <a:blip r:embed="rId2"/>
          <a:stretch/>
        </p:blipFill>
        <p:spPr>
          <a:xfrm>
            <a:off x="7924680" y="3581280"/>
            <a:ext cx="466920" cy="514440"/>
          </a:xfrm>
          <a:prstGeom prst="rect">
            <a:avLst/>
          </a:prstGeom>
          <a:ln w="0">
            <a:noFill/>
          </a:ln>
        </p:spPr>
      </p:pic>
      <p:sp>
        <p:nvSpPr>
          <p:cNvPr id="2671" name="AutoShape 5"/>
          <p:cNvSpPr/>
          <p:nvPr/>
        </p:nvSpPr>
        <p:spPr>
          <a:xfrm>
            <a:off x="8352000" y="4508640"/>
            <a:ext cx="792000" cy="141264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303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AutoShape 6">
            <a:hlinkClick r:id="" action="ppaction://hlinkshowjump?jump=previousslide"/>
          </p:cNvPr>
          <p:cNvSpPr/>
          <p:nvPr/>
        </p:nvSpPr>
        <p:spPr>
          <a:xfrm>
            <a:off x="6732720" y="5950080"/>
            <a:ext cx="1204920" cy="664920"/>
          </a:xfrm>
          <a:prstGeom prst="sun">
            <a:avLst>
              <a:gd name="adj" fmla="val 250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AutoShape 7">
            <a:hlinkClick r:id="" action="ppaction://hlinkshowjump?jump=nextslide"/>
          </p:cNvPr>
          <p:cNvSpPr/>
          <p:nvPr/>
        </p:nvSpPr>
        <p:spPr>
          <a:xfrm>
            <a:off x="7740720" y="5694480"/>
            <a:ext cx="1125360" cy="116352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53966" dir="2700000" blurRad="0" rotWithShape="0">
              <a:srgbClr val="00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6" name="enter2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Text Box 4"/>
          <p:cNvSpPr/>
          <p:nvPr/>
        </p:nvSpPr>
        <p:spPr>
          <a:xfrm>
            <a:off x="1066680" y="304920"/>
            <a:ext cx="712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故事：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阿凡提赶着羊回到财主家，财主要他把羊赶到长方形的羊圈内，可是长方形的羊圈容纳不了这么多的羊，财主说“我不管你，如果你要改造，就得自己花钱去买材料。”可是，阿凡提既改造了羊圈，却也没花一分钱买材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你能猜猜阿凡提可能怎么做吗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Text Box 5"/>
          <p:cNvSpPr/>
          <p:nvPr/>
        </p:nvSpPr>
        <p:spPr>
          <a:xfrm>
            <a:off x="1258920" y="4005360"/>
            <a:ext cx="7058160" cy="132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周长相等的情况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圆的面积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&gt;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正方形面积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&gt;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长方形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AutoShape 4"/>
          <p:cNvSpPr/>
          <p:nvPr/>
        </p:nvSpPr>
        <p:spPr>
          <a:xfrm>
            <a:off x="8352000" y="4508640"/>
            <a:ext cx="792000" cy="1412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303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AutoShape 5">
            <a:hlinkClick r:id="" action="ppaction://hlinkshowjump?jump=previousslide"/>
          </p:cNvPr>
          <p:cNvSpPr/>
          <p:nvPr/>
        </p:nvSpPr>
        <p:spPr>
          <a:xfrm>
            <a:off x="6732720" y="5950080"/>
            <a:ext cx="1204920" cy="66492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AutoShape 6">
            <a:hlinkClick r:id="" action="ppaction://hlinkshowjump?jump=nextslide"/>
          </p:cNvPr>
          <p:cNvSpPr/>
          <p:nvPr/>
        </p:nvSpPr>
        <p:spPr>
          <a:xfrm>
            <a:off x="7740720" y="5694480"/>
            <a:ext cx="1125360" cy="116352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53966" dir="2700000" blurRad="0" rotWithShape="0">
              <a:srgbClr val="00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enter2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9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Rectangle 2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WordArt 3"/>
          <p:cNvSpPr txBox="1"/>
          <p:nvPr/>
        </p:nvSpPr>
        <p:spPr>
          <a:xfrm>
            <a:off x="1752480" y="533520"/>
            <a:ext cx="2016360" cy="87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机智问答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82" name="Picture 4" descr="A028"/>
          <p:cNvPicPr/>
          <p:nvPr/>
        </p:nvPicPr>
        <p:blipFill>
          <a:blip r:embed="rId1"/>
          <a:stretch/>
        </p:blipFill>
        <p:spPr>
          <a:xfrm>
            <a:off x="0" y="0"/>
            <a:ext cx="1655640" cy="1943280"/>
          </a:xfrm>
          <a:prstGeom prst="rect">
            <a:avLst/>
          </a:prstGeom>
          <a:ln w="0">
            <a:noFill/>
          </a:ln>
        </p:spPr>
      </p:pic>
      <p:sp>
        <p:nvSpPr>
          <p:cNvPr id="2683" name="Text Box 6"/>
          <p:cNvSpPr/>
          <p:nvPr/>
        </p:nvSpPr>
        <p:spPr>
          <a:xfrm>
            <a:off x="533520" y="26370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图中甲、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面积（       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Text Box 13"/>
          <p:cNvSpPr/>
          <p:nvPr/>
        </p:nvSpPr>
        <p:spPr>
          <a:xfrm>
            <a:off x="685800" y="335268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Text Box 14"/>
          <p:cNvSpPr/>
          <p:nvPr/>
        </p:nvSpPr>
        <p:spPr>
          <a:xfrm>
            <a:off x="2112840" y="324792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甲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&lt;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Text Box 15"/>
          <p:cNvSpPr/>
          <p:nvPr/>
        </p:nvSpPr>
        <p:spPr>
          <a:xfrm>
            <a:off x="2327400" y="383076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甲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=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7" name="Picture 23" descr="2"/>
          <p:cNvPicPr/>
          <p:nvPr/>
        </p:nvPicPr>
        <p:blipFill>
          <a:blip r:embed="rId2"/>
          <a:stretch/>
        </p:blipFill>
        <p:spPr>
          <a:xfrm>
            <a:off x="5580000" y="54756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2688" name="Text Box 21"/>
          <p:cNvSpPr/>
          <p:nvPr/>
        </p:nvSpPr>
        <p:spPr>
          <a:xfrm>
            <a:off x="6516720" y="1268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Text Box 24"/>
          <p:cNvSpPr/>
          <p:nvPr/>
        </p:nvSpPr>
        <p:spPr>
          <a:xfrm>
            <a:off x="5867280" y="19638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Line 25"/>
          <p:cNvSpPr/>
          <p:nvPr/>
        </p:nvSpPr>
        <p:spPr>
          <a:xfrm>
            <a:off x="6083280" y="1844640"/>
            <a:ext cx="15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32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32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Rectangle 2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Rectangle 3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WordArt 4"/>
          <p:cNvSpPr txBox="1"/>
          <p:nvPr/>
        </p:nvSpPr>
        <p:spPr>
          <a:xfrm>
            <a:off x="1981080" y="609480"/>
            <a:ext cx="2016360" cy="873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机智问答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94" name="Picture 5" descr="A028"/>
          <p:cNvPicPr/>
          <p:nvPr/>
        </p:nvPicPr>
        <p:blipFill>
          <a:blip r:embed="rId1"/>
          <a:stretch/>
        </p:blipFill>
        <p:spPr>
          <a:xfrm>
            <a:off x="380880" y="304920"/>
            <a:ext cx="1656000" cy="1942920"/>
          </a:xfrm>
          <a:prstGeom prst="rect">
            <a:avLst/>
          </a:prstGeom>
          <a:ln w="0">
            <a:noFill/>
          </a:ln>
        </p:spPr>
      </p:pic>
      <p:sp>
        <p:nvSpPr>
          <p:cNvPr id="2695" name="Text Box 6"/>
          <p:cNvSpPr/>
          <p:nvPr/>
        </p:nvSpPr>
        <p:spPr>
          <a:xfrm>
            <a:off x="0" y="26370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一个梯形的面积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分米，上底与下底的和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，它的高是（      ）分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Text Box 12"/>
          <p:cNvSpPr/>
          <p:nvPr/>
        </p:nvSpPr>
        <p:spPr>
          <a:xfrm>
            <a:off x="6934320" y="3149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32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2:05:05Z</dcterms:created>
  <dc:creator/>
  <dc:description/>
  <dc:language>en-US</dc:language>
  <cp:lastModifiedBy/>
  <dcterms:modified xsi:type="dcterms:W3CDTF">2015-04-08T12:05:11Z</dcterms:modified>
  <cp:revision>1</cp:revision>
  <dc:subject/>
  <dc:title/>
</cp:coreProperties>
</file>