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375-E0C1-4EE3-8D4B-86FC7E82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1AF-E7C5-4FEA-804D-F9C4D4A5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8A6-0C23-445C-9B51-D8BF753D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351-477B-4210-86F9-24483F25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FD7-7DBD-4040-898C-5AFBA5D2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58B-F268-4C6F-B31B-13E248FD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C928-6CE7-47D4-9FDD-445A3CAA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97A-B3FC-4B89-BD9B-472B38CD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711-362B-4001-A589-96FB8D2F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C96-1CA4-4EFF-B739-446ED2EF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F30-E9F1-427C-B51C-6C9CB731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A21-BD1F-4354-BFF7-543301E1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B565-CE4B-40B5-A984-70897DE90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2209680"/>
            <a:ext cx="6705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认识比例尺</a:t>
            </a:r>
            <a:endParaRPr b="1" i="1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46120" y="8618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1e2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e1e20"/>
                </a:solidFill>
                <a:latin typeface="Times New Roman"/>
              </a:rPr>
              <a:t>千米 ＝（            ）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708360" y="8604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23800" y="175104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1e2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e1e20"/>
                </a:solidFill>
                <a:latin typeface="Times New Roman"/>
              </a:rPr>
              <a:t>米 ＝ （           ）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203640" y="1752480"/>
            <a:ext cx="13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20560" y="2540160"/>
            <a:ext cx="808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1e2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e1e20"/>
                </a:solidFill>
                <a:latin typeface="Times New Roman"/>
              </a:rPr>
              <a:t>千米 ＝ （                ）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684600" y="2576520"/>
            <a:ext cx="22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0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14440" y="34066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1e20"/>
                </a:solidFill>
                <a:latin typeface="Times New Roman"/>
              </a:rPr>
              <a:t>40000</a:t>
            </a:r>
            <a:r>
              <a:rPr b="1" lang="zh-CN" sz="4800" spc="-1" strike="noStrike">
                <a:solidFill>
                  <a:srgbClr val="0e1e20"/>
                </a:solidFill>
                <a:latin typeface="Times New Roman"/>
              </a:rPr>
              <a:t>厘米＝ （      ）千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699080" y="3376440"/>
            <a:ext cx="112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0.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732240" y="4267080"/>
            <a:ext cx="72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1e20"/>
                </a:solidFill>
                <a:latin typeface="Times New Roman"/>
              </a:rPr>
              <a:t>20km</a:t>
            </a:r>
            <a:r>
              <a:rPr b="1" lang="zh-CN" sz="4800" spc="-1" strike="noStrike">
                <a:solidFill>
                  <a:srgbClr val="0e1e2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e1e20"/>
                </a:solidFill>
                <a:latin typeface="Times New Roman"/>
              </a:rPr>
              <a:t>＝ （                  ）</a:t>
            </a:r>
            <a:r>
              <a:rPr b="1" lang="en-US" sz="4800" spc="-1" strike="noStrike">
                <a:solidFill>
                  <a:srgbClr val="0e1e20"/>
                </a:solidFill>
                <a:latin typeface="Times New Roman"/>
              </a:rPr>
              <a:t>cm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491280" y="4329000"/>
            <a:ext cx="20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00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721440" y="5105520"/>
            <a:ext cx="69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e1e20"/>
                </a:solidFill>
                <a:latin typeface="Times New Roman"/>
              </a:rPr>
              <a:t>690000cm</a:t>
            </a:r>
            <a:r>
              <a:rPr b="1" lang="zh-CN" sz="4800" spc="-1" strike="noStrike">
                <a:solidFill>
                  <a:srgbClr val="0e1e2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e1e20"/>
                </a:solidFill>
                <a:latin typeface="Times New Roman"/>
              </a:rPr>
              <a:t>＝ （          ）</a:t>
            </a:r>
            <a:r>
              <a:rPr b="1" lang="en-US" sz="4800" spc="-1" strike="noStrike">
                <a:solidFill>
                  <a:srgbClr val="0e1e20"/>
                </a:solidFill>
                <a:latin typeface="Times New Roman"/>
              </a:rPr>
              <a:t>k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720320" y="51609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.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216000" y="92160"/>
            <a:ext cx="3822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e1e20"/>
                </a:solidFill>
                <a:latin typeface="Times New Roman"/>
              </a:rPr>
              <a:t>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0" y="698400"/>
            <a:ext cx="3780000" cy="6426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例尺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: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-11160" y="1746360"/>
            <a:ext cx="35290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比例尺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: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25560" y="2421000"/>
            <a:ext cx="3669120" cy="1260000"/>
            <a:chOff x="25560" y="2421000"/>
            <a:chExt cx="3669120" cy="1260000"/>
          </a:xfrm>
        </p:grpSpPr>
        <p:sp>
          <p:nvSpPr>
            <p:cNvPr id="110" name="Rectangle 5"/>
            <p:cNvSpPr/>
            <p:nvPr/>
          </p:nvSpPr>
          <p:spPr>
            <a:xfrm>
              <a:off x="25560" y="2500920"/>
              <a:ext cx="3048120" cy="1180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229680" y="2421000"/>
              <a:ext cx="3465000" cy="1191240"/>
              <a:chOff x="229680" y="2421000"/>
              <a:chExt cx="3465000" cy="1191240"/>
            </a:xfrm>
          </p:grpSpPr>
          <p:grpSp>
            <p:nvGrpSpPr>
              <p:cNvPr id="112" name="Group 7"/>
              <p:cNvGrpSpPr/>
              <p:nvPr/>
            </p:nvGrpSpPr>
            <p:grpSpPr>
              <a:xfrm>
                <a:off x="863280" y="2421000"/>
                <a:ext cx="2831400" cy="1191240"/>
                <a:chOff x="863280" y="2421000"/>
                <a:chExt cx="2831400" cy="1191240"/>
              </a:xfrm>
            </p:grpSpPr>
            <p:sp>
              <p:nvSpPr>
                <p:cNvPr id="113" name="Text Box 8"/>
                <p:cNvSpPr/>
                <p:nvPr/>
              </p:nvSpPr>
              <p:spPr>
                <a:xfrm>
                  <a:off x="863280" y="2421000"/>
                  <a:ext cx="283140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40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9"/>
                <p:cNvSpPr/>
                <p:nvPr/>
              </p:nvSpPr>
              <p:spPr>
                <a:xfrm>
                  <a:off x="1815120" y="3051000"/>
                  <a:ext cx="9136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Text Box 10"/>
              <p:cNvSpPr/>
              <p:nvPr/>
            </p:nvSpPr>
            <p:spPr>
              <a:xfrm>
                <a:off x="229680" y="2729880"/>
                <a:ext cx="1145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比例尺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 Box 11"/>
          <p:cNvSpPr/>
          <p:nvPr/>
        </p:nvSpPr>
        <p:spPr>
          <a:xfrm>
            <a:off x="283320" y="3998880"/>
            <a:ext cx="2710080" cy="58140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比例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1:1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0" y="4941720"/>
            <a:ext cx="37450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比例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1:1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-36360" y="6253200"/>
            <a:ext cx="3851280" cy="581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比例尺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:45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929480" y="2631960"/>
            <a:ext cx="32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表示图上距离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厘米相当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实际距离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4950000" y="4738680"/>
            <a:ext cx="32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表示图上距离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厘米相当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实际距离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4091040" y="3664080"/>
            <a:ext cx="48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图上距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相当于实际距离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942080" y="5791320"/>
            <a:ext cx="32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图上距离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相当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际距离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020560" y="1590840"/>
            <a:ext cx="32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图上距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相当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际距离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015160" y="476280"/>
            <a:ext cx="32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表示图上距离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厘米相当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实际距离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）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353280" y="92880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215040" y="20001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6208560" y="30718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6638760" y="40845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6081840" y="5175360"/>
            <a:ext cx="96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6127920" y="618336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4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14400" y="11160"/>
            <a:ext cx="20858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习题巩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比例尺与一般的尺不同，它是一个比，不应带有计量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求比例尺时，前、后项的单位长度一定要化成同级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比例尺的前项或后项，一般应化简成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前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比的基本性质，把下面的化成前项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后项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:100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:3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00:7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00: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209680" y="327672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00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666880" y="266688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: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248520" y="266688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: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6400800" y="327672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云形标注 8"/>
          <p:cNvSpPr/>
          <p:nvPr/>
        </p:nvSpPr>
        <p:spPr>
          <a:xfrm>
            <a:off x="1371600" y="2895480"/>
            <a:ext cx="3733920" cy="1981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小明家的地基是一个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、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的长方形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如果要画地基的平面图，你打算怎么画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99840" y="3123720"/>
            <a:ext cx="380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cm      1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cm     9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直接箭头连接符 4"/>
          <p:cNvCxnSpPr/>
          <p:nvPr/>
        </p:nvCxnSpPr>
        <p:spPr>
          <a:xfrm>
            <a:off x="3124080" y="39621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2" name="直接箭头连接符 6"/>
          <p:cNvCxnSpPr/>
          <p:nvPr/>
        </p:nvCxnSpPr>
        <p:spPr>
          <a:xfrm>
            <a:off x="3352680" y="44193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53" name="图片 7" descr="图片1.png"/>
          <p:cNvPicPr/>
          <p:nvPr/>
        </p:nvPicPr>
        <p:blipFill>
          <a:blip r:embed="rId1"/>
          <a:stretch/>
        </p:blipFill>
        <p:spPr>
          <a:xfrm>
            <a:off x="228600" y="4419720"/>
            <a:ext cx="1519200" cy="1958760"/>
          </a:xfrm>
          <a:prstGeom prst="rect">
            <a:avLst/>
          </a:prstGeom>
          <a:ln w="0">
            <a:noFill/>
          </a:ln>
        </p:spPr>
      </p:pic>
      <p:sp>
        <p:nvSpPr>
          <p:cNvPr id="54" name="云形标注 9"/>
          <p:cNvSpPr/>
          <p:nvPr/>
        </p:nvSpPr>
        <p:spPr>
          <a:xfrm>
            <a:off x="4724280" y="1752480"/>
            <a:ext cx="3733920" cy="1981440"/>
          </a:xfrm>
          <a:prstGeom prst="cloudCallout">
            <a:avLst>
              <a:gd name="adj1" fmla="val 12935"/>
              <a:gd name="adj2" fmla="val 79981"/>
            </a:avLst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内容占位符 2"/>
          <p:cNvSpPr/>
          <p:nvPr/>
        </p:nvSpPr>
        <p:spPr>
          <a:xfrm>
            <a:off x="4648320" y="190512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cm      1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cm     9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箭头连接符 11"/>
          <p:cNvCxnSpPr/>
          <p:nvPr/>
        </p:nvCxnSpPr>
        <p:spPr>
          <a:xfrm>
            <a:off x="6172200" y="27428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7" name="直接箭头连接符 12"/>
          <p:cNvCxnSpPr/>
          <p:nvPr/>
        </p:nvCxnSpPr>
        <p:spPr>
          <a:xfrm>
            <a:off x="6172200" y="3200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58" name="图片 13" descr="图片2.png"/>
          <p:cNvPicPr/>
          <p:nvPr/>
        </p:nvPicPr>
        <p:blipFill>
          <a:blip r:embed="rId2"/>
          <a:stretch/>
        </p:blipFill>
        <p:spPr>
          <a:xfrm>
            <a:off x="7162920" y="4114800"/>
            <a:ext cx="12952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以上两种方案，图上距离与实际距离的比分别是几比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6765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内容占位符 2"/>
          <p:cNvSpPr/>
          <p:nvPr/>
        </p:nvSpPr>
        <p:spPr>
          <a:xfrm>
            <a:off x="4800600" y="1600200"/>
            <a:ext cx="4114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990720" y="3505320"/>
            <a:ext cx="6705360" cy="581400"/>
          </a:xfrm>
          <a:prstGeom prst="rect">
            <a:avLst/>
          </a:prstGeom>
          <a:solidFill>
            <a:srgbClr val="9c9cd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上距离和实际距离的比叫做这幅图的比例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066680" y="5257800"/>
            <a:ext cx="6705720" cy="1068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上距离：实际距离＝比例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   图上距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际距离＝比例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谁设计的比例尺画的图比较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女生画的图比较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4000" y="18900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24000" y="2476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一张地图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的距离表示实际距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米。求图上距离和实际距离的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826920" y="24177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908000" y="24177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0m=100000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292720" y="248904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化成相同的单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908000" y="35082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:1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4498920" y="35640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图上距离：实际距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620720" y="45147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1: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10" descr=""/>
          <p:cNvPicPr/>
          <p:nvPr/>
        </p:nvPicPr>
        <p:blipFill>
          <a:blip r:embed="rId1"/>
          <a:stretch/>
        </p:blipFill>
        <p:spPr>
          <a:xfrm>
            <a:off x="3478320" y="4254480"/>
            <a:ext cx="2192400" cy="127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3"/>
          <p:cNvSpPr/>
          <p:nvPr/>
        </p:nvSpPr>
        <p:spPr>
          <a:xfrm>
            <a:off x="7310520" y="472140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化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95280" y="57405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图上距离和实际距离的比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:5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84360" y="3141720"/>
            <a:ext cx="813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地图上的比例尺，一般都写成前项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的比，表示把实际距离缩小为原来的若干分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692360" y="13953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:1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ject 4" descr=""/>
          <p:cNvPicPr/>
          <p:nvPr/>
        </p:nvPicPr>
        <p:blipFill>
          <a:blip r:embed="rId1"/>
          <a:stretch/>
        </p:blipFill>
        <p:spPr>
          <a:xfrm>
            <a:off x="5348160" y="1158840"/>
            <a:ext cx="2192400" cy="127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1692360" y="13971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2:1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492360" y="14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1: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ject 7" descr=""/>
          <p:cNvPicPr/>
          <p:nvPr/>
        </p:nvPicPr>
        <p:blipFill>
          <a:blip r:embed="rId2"/>
          <a:stretch/>
        </p:blipFill>
        <p:spPr>
          <a:xfrm>
            <a:off x="5349960" y="1143000"/>
            <a:ext cx="2192400" cy="127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5"/>
          <p:cNvSpPr/>
          <p:nvPr/>
        </p:nvSpPr>
        <p:spPr>
          <a:xfrm>
            <a:off x="3492360" y="1403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=1: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95280" y="50472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练习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种零件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毫米，画在设计图上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。求这幅图的比例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24000" y="4976640"/>
            <a:ext cx="849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精密零件图纸上的比例尺，一般都写成后项是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的比，表示把实际长度扩大为原来的若干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116000" y="2427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cm=80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195640" y="3357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0:16 = 5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116000" y="4292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这幅图的比例尺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: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57200" y="30492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练习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幅地图，图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表示实际距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千米，求这幅地图的比例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620720" y="213984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km = 1000000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484360" y="30751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:10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71640" y="50925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这幅地图的比例尺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:5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195640" y="401148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1: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10:59:14Z</dcterms:created>
  <dc:creator/>
  <dc:description/>
  <dc:language>en-US</dc:language>
  <cp:lastModifiedBy>林森</cp:lastModifiedBy>
  <dcterms:modified xsi:type="dcterms:W3CDTF">2017-12-24T11:57:07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