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B17-0A07-4664-92CB-806EA3DA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B73-7322-4A84-AD5E-1CC2A9C5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7C5-EF4D-4EC2-9303-6B9AB36B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EE2-F27C-4F13-BC37-278D22C5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6FD-A830-43A8-AC3C-8E68C471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781-A6BB-433A-9892-EF761C41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89B-A717-4D5B-9870-95D8D96D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227-7EDF-4B89-87AF-E6E83A9C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F99-F580-44A4-9B0B-1D1BD2F8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F13-569A-442E-8C67-7A467F57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486-76AB-404F-B18B-6969A639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560-F322-47A2-8EE8-2AB6AE3E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D277-B208-40B4-B0FC-AE5B6BFDB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数的整除（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4000" y="3888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数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4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约数，同时又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倍数。这个数可以是多少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50920" y="1851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332000" y="18511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分解因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643280" y="185112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2=2×3×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295280" y="267480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一个数的约数包括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和它自身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约数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556000" y="3933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39640" y="46497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2×3=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2×7=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3×7=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24000" y="5297400"/>
            <a:ext cx="91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倍数的数有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792000" y="6029280"/>
            <a:ext cx="78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这个数可以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533520" y="4572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两整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公因数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最小公倍数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且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求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28600" y="48006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如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倍数关系，求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33520" y="2209680"/>
            <a:ext cx="78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解：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m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=3× 5 ×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=3 ×5 ×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(0&lt;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&lt;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3× 5 ×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×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=9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所以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=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=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或者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=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此时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=3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=4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或者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=1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=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33520" y="5486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此时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=3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=4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755640" y="692280"/>
            <a:ext cx="2160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知识结构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94440" y="3147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数的整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700360" y="1773360"/>
            <a:ext cx="25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30440" indent="-1630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771640" y="4594320"/>
            <a:ext cx="263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整数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整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32360" y="1177920"/>
            <a:ext cx="23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整数的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859280" y="2060640"/>
            <a:ext cx="329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除的数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6948360" y="148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380360" y="476280"/>
            <a:ext cx="153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合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590920" y="32004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合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3505320" y="35053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62520" y="3276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分解素因数（素因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869800" y="3933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784120" y="44956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5144760" y="5029200"/>
            <a:ext cx="203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互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6659640" y="422100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6659640" y="486900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7139160" y="3933720"/>
            <a:ext cx="230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最大公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7126200" y="4581360"/>
            <a:ext cx="23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最小公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2411280" y="2060640"/>
            <a:ext cx="289080" cy="288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4570560" y="1557360"/>
            <a:ext cx="288720" cy="936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5435640" y="4292640"/>
            <a:ext cx="288720" cy="1152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 flipV="1">
            <a:off x="7010280" y="3428640"/>
            <a:ext cx="5335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4"/>
          <p:cNvSpPr/>
          <p:nvPr/>
        </p:nvSpPr>
        <p:spPr>
          <a:xfrm flipH="1">
            <a:off x="7543440" y="3429000"/>
            <a:ext cx="20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7543800" y="3429000"/>
            <a:ext cx="96984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754380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短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0" y="547380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数与倍数的性质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任何一个整数都是它本身的倍数，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任何一个整数的因数，任何整数都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533520" y="838080"/>
            <a:ext cx="883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÷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……4                     24÷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÷7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1                            40÷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……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÷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                                 10÷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04920" y="2590920"/>
            <a:ext cx="8686800" cy="388620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"/>
          <p:cNvGrpSpPr/>
          <p:nvPr/>
        </p:nvGrpSpPr>
        <p:grpSpPr>
          <a:xfrm>
            <a:off x="228600" y="2514600"/>
            <a:ext cx="8686800" cy="3886200"/>
            <a:chOff x="228600" y="2514600"/>
            <a:chExt cx="8686800" cy="3886200"/>
          </a:xfrm>
        </p:grpSpPr>
        <p:sp>
          <p:nvSpPr>
            <p:cNvPr id="72" name="Line 6"/>
            <p:cNvSpPr/>
            <p:nvPr/>
          </p:nvSpPr>
          <p:spPr>
            <a:xfrm>
              <a:off x="228600" y="3429000"/>
              <a:ext cx="868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7"/>
            <p:cNvSpPr/>
            <p:nvPr/>
          </p:nvSpPr>
          <p:spPr>
            <a:xfrm>
              <a:off x="228600" y="4419720"/>
              <a:ext cx="868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8"/>
            <p:cNvSpPr/>
            <p:nvPr/>
          </p:nvSpPr>
          <p:spPr>
            <a:xfrm>
              <a:off x="228600" y="5410080"/>
              <a:ext cx="868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9"/>
            <p:cNvSpPr/>
            <p:nvPr/>
          </p:nvSpPr>
          <p:spPr>
            <a:xfrm>
              <a:off x="2971800" y="2514600"/>
              <a:ext cx="0" cy="28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>
              <a:off x="5943600" y="3429000"/>
              <a:ext cx="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1"/>
          <p:cNvSpPr/>
          <p:nvPr/>
        </p:nvSpPr>
        <p:spPr>
          <a:xfrm>
            <a:off x="914400" y="2666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整    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9528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 能 整 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209680" y="56386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除      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6400800" y="5668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除  不   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3"/>
          <p:cNvGrpSpPr/>
          <p:nvPr/>
        </p:nvGrpSpPr>
        <p:grpSpPr>
          <a:xfrm>
            <a:off x="838800" y="3533760"/>
            <a:ext cx="1659600" cy="1572120"/>
            <a:chOff x="838800" y="3533760"/>
            <a:chExt cx="1659600" cy="1572120"/>
          </a:xfrm>
        </p:grpSpPr>
        <p:sp>
          <p:nvSpPr>
            <p:cNvPr id="82" name="Rectangle 17"/>
            <p:cNvSpPr/>
            <p:nvPr/>
          </p:nvSpPr>
          <p:spPr>
            <a:xfrm>
              <a:off x="915120" y="3533760"/>
              <a:ext cx="145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Times New Roman"/>
                  <a:ea typeface="宋体"/>
                </a:rPr>
                <a:t>9÷1</a:t>
              </a:r>
              <a:r>
                <a:rPr b="1" lang="zh-CN" sz="3200" spc="-1" strike="noStrike">
                  <a:solidFill>
                    <a:srgbClr val="ff66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3200" spc="-1" strike="noStrike">
                  <a:solidFill>
                    <a:srgbClr val="ff6600"/>
                  </a:solidFill>
                  <a:latin typeface="Times New Roman"/>
                  <a:ea typeface="宋体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8"/>
            <p:cNvSpPr/>
            <p:nvPr/>
          </p:nvSpPr>
          <p:spPr>
            <a:xfrm>
              <a:off x="838800" y="4524480"/>
              <a:ext cx="165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Times New Roman"/>
                  <a:ea typeface="宋体"/>
                </a:rPr>
                <a:t>24÷3</a:t>
              </a:r>
              <a:r>
                <a:rPr b="1" lang="zh-CN" sz="3200" spc="-1" strike="noStrike">
                  <a:solidFill>
                    <a:srgbClr val="ff66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3200" spc="-1" strike="noStrike">
                  <a:solidFill>
                    <a:srgbClr val="ff6600"/>
                  </a:solidFill>
                  <a:latin typeface="Times New Roman"/>
                  <a:ea typeface="宋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3428640" y="3533760"/>
            <a:ext cx="2042280" cy="1572120"/>
            <a:chOff x="3428640" y="3533760"/>
            <a:chExt cx="2042280" cy="1572120"/>
          </a:xfrm>
        </p:grpSpPr>
        <p:sp>
          <p:nvSpPr>
            <p:cNvPr id="85" name="Rectangle 19"/>
            <p:cNvSpPr/>
            <p:nvPr/>
          </p:nvSpPr>
          <p:spPr>
            <a:xfrm>
              <a:off x="3504960" y="3533760"/>
              <a:ext cx="196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ff"/>
                  </a:solidFill>
                  <a:latin typeface="Times New Roman"/>
                  <a:ea typeface="宋体"/>
                </a:rPr>
                <a:t>7÷70</a:t>
              </a:r>
              <a:r>
                <a:rPr b="1" lang="zh-CN" sz="3200" spc="-1" strike="noStrike">
                  <a:solidFill>
                    <a:srgbClr val="cc00ff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3200" spc="-1" strike="noStrike">
                  <a:solidFill>
                    <a:srgbClr val="cc00ff"/>
                  </a:solidFill>
                  <a:latin typeface="Times New Roman"/>
                  <a:ea typeface="宋体"/>
                </a:rPr>
                <a:t>0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428640" y="4524480"/>
              <a:ext cx="196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ff"/>
                  </a:solidFill>
                  <a:latin typeface="Times New Roman"/>
                  <a:ea typeface="宋体"/>
                </a:rPr>
                <a:t>10÷4</a:t>
              </a:r>
              <a:r>
                <a:rPr b="1" lang="zh-CN" sz="3200" spc="-1" strike="noStrike">
                  <a:solidFill>
                    <a:srgbClr val="cc00ff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3200" spc="-1" strike="noStrike">
                  <a:solidFill>
                    <a:srgbClr val="cc00ff"/>
                  </a:solidFill>
                  <a:latin typeface="Times New Roman"/>
                  <a:ea typeface="宋体"/>
                </a:rPr>
                <a:t>2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5"/>
          <p:cNvGrpSpPr/>
          <p:nvPr/>
        </p:nvGrpSpPr>
        <p:grpSpPr>
          <a:xfrm>
            <a:off x="6018840" y="3533760"/>
            <a:ext cx="2881800" cy="1648080"/>
            <a:chOff x="6018840" y="3533760"/>
            <a:chExt cx="2881800" cy="1648080"/>
          </a:xfrm>
        </p:grpSpPr>
        <p:sp>
          <p:nvSpPr>
            <p:cNvPr id="88" name="Rectangle 21"/>
            <p:cNvSpPr/>
            <p:nvPr/>
          </p:nvSpPr>
          <p:spPr>
            <a:xfrm>
              <a:off x="6019200" y="3533760"/>
              <a:ext cx="267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宋体"/>
                </a:rPr>
                <a:t>10÷6</a:t>
              </a: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宋体"/>
                </a:rPr>
                <a:t>1……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2"/>
            <p:cNvSpPr/>
            <p:nvPr/>
          </p:nvSpPr>
          <p:spPr>
            <a:xfrm>
              <a:off x="6018840" y="4600440"/>
              <a:ext cx="288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宋体"/>
                </a:rPr>
                <a:t>40÷19</a:t>
              </a: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宋体"/>
                </a:rPr>
                <a:t>2……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23"/>
          <p:cNvSpPr/>
          <p:nvPr/>
        </p:nvSpPr>
        <p:spPr>
          <a:xfrm>
            <a:off x="152280" y="152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方正稚艺简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方正稚艺简体"/>
              </a:rPr>
              <a:t>整除与除尽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80880" y="152280"/>
            <a:ext cx="83822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素数，因数，素因数，互素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14400" y="762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676520" y="1447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素因数，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752480" y="20574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素因数，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752480" y="2743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9810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057400" y="3962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066680" y="45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600200" y="5257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互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286000" y="5867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素因数，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79280" y="566640"/>
            <a:ext cx="873612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分解因是（                          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=2×2×3×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=2×3×3×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公因数是（          ），最小公倍数是（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都是正整数，如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小公倍数是（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148360" y="711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2×3×5×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638680" y="220968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71800" y="30481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1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876920" y="49528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80880" y="533520"/>
            <a:ext cx="8382240" cy="52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你  想  我  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质因数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……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解质因数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×9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几个质数相乘的积一定是合数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两个不同的奇数一定是互质数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整除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 ………………… 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19840" y="24098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7086600" y="31370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6705720" y="16146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7315200" y="40273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438960" y="47973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16000" y="260280"/>
            <a:ext cx="86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95280" y="189000"/>
            <a:ext cx="8353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想一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强出生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世纪，年份的后三位数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1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倍数，三个数字之和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。强强出生在哪一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971640" y="314172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年份的后三位数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倍数，则后三位数的数字相同。三个数字之和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三个相等的数字之和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这个数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99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且强强出生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266920" y="558972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强强出生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99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24000" y="26028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哥哥的年龄是一个小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两位数，而且是一个素数，其各数位上的数字之和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差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。哥哥几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06360" y="2638440"/>
            <a:ext cx="853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个两位数各数位上的数字之和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差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所以这个两个数字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又这个两位数是素数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2=2×2×2×2×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合数，所以这个两位数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556000" y="5157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哥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0:42:26Z</dcterms:created>
  <dc:creator/>
  <dc:description/>
  <dc:language>en-US</dc:language>
  <cp:lastModifiedBy/>
  <dcterms:modified xsi:type="dcterms:W3CDTF">2015-04-08T10:42:30Z</dcterms:modified>
  <cp:revision>1</cp:revision>
  <dc:subject/>
  <dc:title/>
</cp:coreProperties>
</file>