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chimes.wav" ContentType="audio/x-wav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2016-214F-4E3C-8626-BB1D18B537E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8D13-9B48-4219-B0FA-8EC2A9159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 u="sng">
              <a:solidFill>
                <a:srgbClr val="000000"/>
              </a:solidFill>
              <a:uFillTx/>
              <a:latin typeface="Calibri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F29C-E45A-482D-9E50-CE9A1644D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0ABA-9A22-44EA-89E3-C1D06525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9562-498B-4193-81D9-8B50BD37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1C92-A144-46D9-9A4C-B5EC29A08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1E8B-F2EC-4819-8D9B-E199651FC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1810-2642-4E39-9E3F-3DCB4E7C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D8EE-2987-40D3-9E8E-B36DB6F0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642B-CD53-497C-842D-BFEDDAC6E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D0E6-3610-4E0A-BDC2-3AF58978F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E4E7-3A95-4396-9A02-9E15E1C4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B38A-15F1-4072-AA61-873109C9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4C45-CDAD-4875-9FD8-EBAE1EBF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22E40-772A-4B37-B26C-011AEBC38D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数的整除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二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六、填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(b≠0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能被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×2×3×3×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×3×3×5×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则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大公因数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小公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某数的最大公因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小公倍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50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某数是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292760" y="15080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除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504040" y="3078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1776240" y="371952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4626000" y="50292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569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两数的和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最大公因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两数分别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；或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两数之和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这两个数分别能被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，且所得商相同，这两个数为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87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至少加上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就能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同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734560" y="3465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056600" y="3465360"/>
            <a:ext cx="86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069800" y="41418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637720" y="914400"/>
            <a:ext cx="246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16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9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6423840" y="91440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32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222360" y="1555920"/>
            <a:ext cx="168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48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6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1000440" y="155088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宋体"/>
              </a:rPr>
              <a:t>80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533520" y="304920"/>
            <a:ext cx="7162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已知甲数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× 3 × 3 × 5 × 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乙数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× 2 × 5 × 5 × 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求：甲、乙的最大公因数与最小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04920" y="1676520"/>
            <a:ext cx="8839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解：甲、乙的最大公因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 × 5 × 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最小公倍数是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 × 3 × 3 × 5 × 7 × 2 × 5 ×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441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39640" y="19890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28600" y="457200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如甲乙两数的最小公倍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8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正整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70360" y="860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304920" y="2971800"/>
            <a:ext cx="883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已知甲数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× 3 × 3 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乙数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× 3 × 7 ×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2013480" y="3865680"/>
            <a:ext cx="542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甲乙两数的最大公因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求正整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大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85800" y="5486400"/>
            <a:ext cx="701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解：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ff3300"/>
                </a:solidFill>
                <a:latin typeface="宋体"/>
                <a:ea typeface="宋体"/>
              </a:rPr>
              <a:t>)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0508"/>
          <p:cNvPicPr/>
          <p:nvPr/>
        </p:nvPicPr>
        <p:blipFill>
          <a:blip r:embed="rId1"/>
          <a:stretch/>
        </p:blipFill>
        <p:spPr>
          <a:xfrm>
            <a:off x="8047080" y="685800"/>
            <a:ext cx="1096920" cy="19494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981080" y="198108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68360" y="54936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517680" y="554040"/>
            <a:ext cx="329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541008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480060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4191120" y="1905120"/>
            <a:ext cx="533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358128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297180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2362320" y="1905120"/>
            <a:ext cx="533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175248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3"/>
          <p:cNvSpPr/>
          <p:nvPr/>
        </p:nvSpPr>
        <p:spPr>
          <a:xfrm>
            <a:off x="114300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4"/>
          <p:cNvSpPr/>
          <p:nvPr/>
        </p:nvSpPr>
        <p:spPr>
          <a:xfrm>
            <a:off x="723888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5"/>
          <p:cNvSpPr/>
          <p:nvPr/>
        </p:nvSpPr>
        <p:spPr>
          <a:xfrm>
            <a:off x="6629400" y="1905120"/>
            <a:ext cx="533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6019920" y="1905120"/>
            <a:ext cx="533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0" y="76212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762120" y="1143000"/>
            <a:ext cx="60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是小小情报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破译密码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609480" y="2895480"/>
            <a:ext cx="83059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比最小的质数少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；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最小奇数和最小质数的和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最小的自然数；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自然数中最小的奇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最小的合数；       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F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只能被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整除的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公倍数；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最小质数与最小合数的积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最小质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倍；                     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J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有约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一位数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能被所有自然数除尽的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611280" y="40464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宋体"/>
                <a:ea typeface="宋体"/>
              </a:rPr>
              <a:t>活用概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80880" y="304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  <a:ea typeface="宋体"/>
              </a:rPr>
              <a:t>根据算式　“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24÷8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＝</a:t>
            </a:r>
            <a:r>
              <a:rPr b="1" lang="en-US" sz="4400" spc="-1" strike="noStrike">
                <a:solidFill>
                  <a:srgbClr val="333399"/>
                </a:solidFill>
                <a:latin typeface="Times New Roman"/>
                <a:ea typeface="宋体"/>
              </a:rPr>
              <a:t>3</a:t>
            </a:r>
            <a:r>
              <a:rPr b="1" lang="en-US" sz="4400" spc="-1" strike="noStrike">
                <a:solidFill>
                  <a:srgbClr val="333399"/>
                </a:solidFill>
                <a:latin typeface="宋体"/>
                <a:ea typeface="宋体"/>
              </a:rPr>
              <a:t>”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  <a:ea typeface="宋体"/>
              </a:rPr>
              <a:t>填空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609480" y="37339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整数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除以整数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（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≠0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），除得的商正好是整数而没有余数，我们就说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能被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整除。（也可以说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能整除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。）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就叫做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的倍数，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就叫做</a:t>
            </a:r>
            <a:r>
              <a:rPr b="1" i="1" lang="en-US" sz="2800" spc="-1" strike="noStrike">
                <a:solidFill>
                  <a:srgbClr val="ff0066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的约数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1752480" y="198108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7"/>
          <p:cNvSpPr/>
          <p:nvPr/>
        </p:nvSpPr>
        <p:spPr>
          <a:xfrm>
            <a:off x="3276720" y="26668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0"/>
          <p:cNvSpPr/>
          <p:nvPr/>
        </p:nvSpPr>
        <p:spPr>
          <a:xfrm>
            <a:off x="1066680" y="1828800"/>
            <a:ext cx="6172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被    整除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       的约数 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    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1523880" y="22096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2"/>
          <p:cNvSpPr/>
          <p:nvPr/>
        </p:nvSpPr>
        <p:spPr>
          <a:xfrm>
            <a:off x="434340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3"/>
          <p:cNvSpPr/>
          <p:nvPr/>
        </p:nvSpPr>
        <p:spPr>
          <a:xfrm>
            <a:off x="31240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62485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5"/>
          <p:cNvSpPr/>
          <p:nvPr/>
        </p:nvSpPr>
        <p:spPr>
          <a:xfrm>
            <a:off x="5054760" y="22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>
            <a:off x="3048120" y="2209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2"/>
          <p:cNvSpPr/>
          <p:nvPr/>
        </p:nvSpPr>
        <p:spPr>
          <a:xfrm>
            <a:off x="144792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3"/>
          <p:cNvSpPr/>
          <p:nvPr/>
        </p:nvSpPr>
        <p:spPr>
          <a:xfrm>
            <a:off x="31240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4"/>
          <p:cNvSpPr/>
          <p:nvPr/>
        </p:nvSpPr>
        <p:spPr>
          <a:xfrm>
            <a:off x="624852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5"/>
          <p:cNvSpPr/>
          <p:nvPr/>
        </p:nvSpPr>
        <p:spPr>
          <a:xfrm>
            <a:off x="5168880" y="17668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6"/>
          <p:cNvSpPr/>
          <p:nvPr/>
        </p:nvSpPr>
        <p:spPr>
          <a:xfrm>
            <a:off x="312408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7"/>
          <p:cNvSpPr/>
          <p:nvPr/>
        </p:nvSpPr>
        <p:spPr>
          <a:xfrm>
            <a:off x="4419720" y="22860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宋体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3304800" y="476280"/>
            <a:ext cx="18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整除与除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152280" y="12952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除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066680" y="1295280"/>
            <a:ext cx="807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整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以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整数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≠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除得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整数而没有余数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我们就说数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被数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除，或数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能整除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44720" y="236232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尽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6"/>
          <p:cNvSpPr/>
          <p:nvPr/>
        </p:nvSpPr>
        <p:spPr>
          <a:xfrm>
            <a:off x="2379240" y="2362320"/>
            <a:ext cx="5756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除以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80808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80808"/>
                </a:solidFill>
                <a:latin typeface="宋体"/>
                <a:ea typeface="宋体"/>
              </a:rPr>
              <a:t>≠0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除得的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整数或是有限小数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就叫做除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7"/>
          <p:cNvSpPr/>
          <p:nvPr/>
        </p:nvSpPr>
        <p:spPr>
          <a:xfrm>
            <a:off x="4820760" y="3429000"/>
            <a:ext cx="88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整除是除尽的一种特殊情况，整除也可以说是除尽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但除尽不一定是整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299520" y="3429000"/>
            <a:ext cx="7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区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9">
            <a:hlinkClick r:id="rId1" action="ppaction://hlinksldjump"/>
          </p:cNvPr>
          <p:cNvSpPr/>
          <p:nvPr/>
        </p:nvSpPr>
        <p:spPr>
          <a:xfrm>
            <a:off x="324000" y="5950080"/>
            <a:ext cx="863280" cy="576000"/>
          </a:xfrm>
          <a:custGeom>
            <a:avLst/>
            <a:gdLst>
              <a:gd name="textAreaLeft" fmla="*/ 37080 w 863280"/>
              <a:gd name="textAreaRight" fmla="*/ 826200 w 863280"/>
              <a:gd name="textAreaTop" fmla="*/ 37080 h 576000"/>
              <a:gd name="textAreaBottom" fmla="*/ 538920 h 576000"/>
            </a:gdLst>
            <a:ahLst/>
            <a:rect l="textAreaLeft" t="textAreaTop" r="textAreaRight" b="textAreaBottom"/>
            <a:pathLst>
              <a:path w="32366" h="21600">
                <a:moveTo>
                  <a:pt x="0" y="0"/>
                </a:moveTo>
                <a:lnTo>
                  <a:pt x="32366" y="0"/>
                </a:lnTo>
                <a:lnTo>
                  <a:pt x="32366" y="21600"/>
                </a:lnTo>
                <a:lnTo>
                  <a:pt x="0" y="21600"/>
                </a:lnTo>
                <a:close/>
              </a:path>
              <a:path fill="lightenLess" w="32366" h="21600">
                <a:moveTo>
                  <a:pt x="0" y="0"/>
                </a:moveTo>
                <a:lnTo>
                  <a:pt x="32366" y="0"/>
                </a:lnTo>
                <a:lnTo>
                  <a:pt x="30966" y="1400"/>
                </a:lnTo>
                <a:lnTo>
                  <a:pt x="1400" y="1400"/>
                </a:lnTo>
                <a:close/>
              </a:path>
              <a:path fill="darken" w="32366" h="21600">
                <a:moveTo>
                  <a:pt x="32366" y="0"/>
                </a:moveTo>
                <a:lnTo>
                  <a:pt x="32366" y="21600"/>
                </a:lnTo>
                <a:lnTo>
                  <a:pt x="30966" y="20200"/>
                </a:lnTo>
                <a:lnTo>
                  <a:pt x="30966" y="1400"/>
                </a:lnTo>
                <a:close/>
              </a:path>
              <a:path fill="darkenLess" w="32366" h="21600">
                <a:moveTo>
                  <a:pt x="32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66" y="20200"/>
                </a:lnTo>
                <a:close/>
              </a:path>
              <a:path fill="lighten" w="32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66" h="21600">
                <a:moveTo>
                  <a:pt x="16183" y="3837"/>
                </a:moveTo>
                <a:lnTo>
                  <a:pt x="18759" y="6448"/>
                </a:lnTo>
                <a:lnTo>
                  <a:pt x="18759" y="4707"/>
                </a:lnTo>
                <a:lnTo>
                  <a:pt x="20535" y="4707"/>
                </a:lnTo>
                <a:lnTo>
                  <a:pt x="20535" y="8224"/>
                </a:lnTo>
                <a:lnTo>
                  <a:pt x="23146" y="10800"/>
                </a:lnTo>
                <a:lnTo>
                  <a:pt x="21492" y="10800"/>
                </a:lnTo>
                <a:lnTo>
                  <a:pt x="21492" y="17989"/>
                </a:lnTo>
                <a:lnTo>
                  <a:pt x="10874" y="17989"/>
                </a:lnTo>
                <a:lnTo>
                  <a:pt x="10874" y="10800"/>
                </a:lnTo>
                <a:lnTo>
                  <a:pt x="9220" y="10800"/>
                </a:lnTo>
                <a:close/>
              </a:path>
              <a:path fill="darkenLess" w="32366" h="21600">
                <a:moveTo>
                  <a:pt x="18759" y="6448"/>
                </a:moveTo>
                <a:lnTo>
                  <a:pt x="18759" y="4707"/>
                </a:lnTo>
                <a:lnTo>
                  <a:pt x="20535" y="4707"/>
                </a:lnTo>
                <a:lnTo>
                  <a:pt x="20535" y="8224"/>
                </a:lnTo>
                <a:close/>
              </a:path>
              <a:path fill="darkenLess" w="32366" h="21600">
                <a:moveTo>
                  <a:pt x="15261" y="14299"/>
                </a:moveTo>
                <a:lnTo>
                  <a:pt x="17106" y="14299"/>
                </a:lnTo>
                <a:lnTo>
                  <a:pt x="17106" y="17989"/>
                </a:lnTo>
                <a:lnTo>
                  <a:pt x="21492" y="17989"/>
                </a:lnTo>
                <a:lnTo>
                  <a:pt x="21492" y="10800"/>
                </a:lnTo>
                <a:lnTo>
                  <a:pt x="10874" y="10800"/>
                </a:lnTo>
                <a:lnTo>
                  <a:pt x="10874" y="17989"/>
                </a:lnTo>
                <a:lnTo>
                  <a:pt x="15261" y="1798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10"/>
          <p:cNvGrpSpPr/>
          <p:nvPr/>
        </p:nvGrpSpPr>
        <p:grpSpPr>
          <a:xfrm>
            <a:off x="2627280" y="4581360"/>
            <a:ext cx="3168720" cy="1584360"/>
            <a:chOff x="2627280" y="4581360"/>
            <a:chExt cx="3168720" cy="1584360"/>
          </a:xfrm>
        </p:grpSpPr>
        <p:grpSp>
          <p:nvGrpSpPr>
            <p:cNvPr id="76" name="Group 11"/>
            <p:cNvGrpSpPr/>
            <p:nvPr/>
          </p:nvGrpSpPr>
          <p:grpSpPr>
            <a:xfrm>
              <a:off x="2627280" y="4581360"/>
              <a:ext cx="3168720" cy="1584360"/>
              <a:chOff x="2627280" y="4581360"/>
              <a:chExt cx="3168720" cy="1584360"/>
            </a:xfrm>
          </p:grpSpPr>
          <p:sp>
            <p:nvSpPr>
              <p:cNvPr id="77" name="Oval 12"/>
              <p:cNvSpPr/>
              <p:nvPr/>
            </p:nvSpPr>
            <p:spPr>
              <a:xfrm>
                <a:off x="2627280" y="4581360"/>
                <a:ext cx="3168720" cy="1584360"/>
              </a:xfrm>
              <a:prstGeom prst="ellipse">
                <a:avLst/>
              </a:prstGeom>
              <a:solidFill>
                <a:srgbClr val="333399"/>
              </a:solidFill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13"/>
              <p:cNvSpPr/>
              <p:nvPr/>
            </p:nvSpPr>
            <p:spPr>
              <a:xfrm>
                <a:off x="3203640" y="5013360"/>
                <a:ext cx="2016000" cy="863640"/>
              </a:xfrm>
              <a:prstGeom prst="ellipse">
                <a:avLst/>
              </a:prstGeom>
              <a:solidFill>
                <a:srgbClr val="bbe0e3"/>
              </a:solidFill>
              <a:ln w="28440">
                <a:solidFill>
                  <a:srgbClr val="0808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Text Box 14"/>
              <p:cNvSpPr/>
              <p:nvPr/>
            </p:nvSpPr>
            <p:spPr>
              <a:xfrm>
                <a:off x="4070880" y="522936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80808"/>
                    </a:solidFill>
                    <a:latin typeface="宋体"/>
                    <a:ea typeface="宋体"/>
                  </a:rPr>
                  <a:t>整除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" name="Text Box 15"/>
            <p:cNvSpPr/>
            <p:nvPr/>
          </p:nvSpPr>
          <p:spPr>
            <a:xfrm>
              <a:off x="4000680" y="458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66"/>
                  </a:solidFill>
                  <a:latin typeface="宋体"/>
                  <a:ea typeface="宋体"/>
                </a:rPr>
                <a:t>除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533040" y="69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因数和倍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26920" y="1555920"/>
            <a:ext cx="763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如果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能被数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整除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(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≠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  <a:ea typeface="宋体"/>
              </a:rPr>
              <a:t>0)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就叫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倍数，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就叫做</a:t>
            </a:r>
            <a:r>
              <a:rPr b="1" i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的因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209680" y="2590920"/>
            <a:ext cx="433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个数的因数的个数是有限的，其中最小的因数是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，最大的因数是它本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093760" y="4341960"/>
            <a:ext cx="4635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一个数的倍数的个数是无限的，其中最小的倍数是它本身，没有最大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769080" y="3427560"/>
            <a:ext cx="125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  <a:ea typeface="宋体"/>
              </a:rPr>
              <a:t>因数和倍数是相互依存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7"/>
          <p:cNvGrpSpPr/>
          <p:nvPr/>
        </p:nvGrpSpPr>
        <p:grpSpPr>
          <a:xfrm>
            <a:off x="1042920" y="2492280"/>
            <a:ext cx="7201080" cy="3600360"/>
            <a:chOff x="1042920" y="2492280"/>
            <a:chExt cx="7201080" cy="3600360"/>
          </a:xfrm>
        </p:grpSpPr>
        <p:sp>
          <p:nvSpPr>
            <p:cNvPr id="87" name="Text Box 8"/>
            <p:cNvSpPr/>
            <p:nvPr/>
          </p:nvSpPr>
          <p:spPr>
            <a:xfrm>
              <a:off x="1336680" y="31399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因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9"/>
            <p:cNvSpPr/>
            <p:nvPr/>
          </p:nvSpPr>
          <p:spPr>
            <a:xfrm>
              <a:off x="1336680" y="48672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倍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0"/>
            <p:cNvSpPr/>
            <p:nvPr/>
          </p:nvSpPr>
          <p:spPr>
            <a:xfrm>
              <a:off x="1042920" y="2492280"/>
              <a:ext cx="7201080" cy="3600360"/>
            </a:xfrm>
            <a:prstGeom prst="rect">
              <a:avLst/>
            </a:prstGeom>
            <a:noFill/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11"/>
            <p:cNvSpPr/>
            <p:nvPr/>
          </p:nvSpPr>
          <p:spPr>
            <a:xfrm>
              <a:off x="2124000" y="2492280"/>
              <a:ext cx="0" cy="36003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12"/>
            <p:cNvSpPr/>
            <p:nvPr/>
          </p:nvSpPr>
          <p:spPr>
            <a:xfrm>
              <a:off x="6516720" y="2492280"/>
              <a:ext cx="0" cy="360036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13"/>
            <p:cNvSpPr/>
            <p:nvPr/>
          </p:nvSpPr>
          <p:spPr>
            <a:xfrm>
              <a:off x="1042920" y="4147920"/>
              <a:ext cx="5473800" cy="0"/>
            </a:xfrm>
            <a:prstGeom prst="line">
              <a:avLst/>
            </a:prstGeom>
            <a:ln w="9360">
              <a:solidFill>
                <a:srgbClr val="08080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179280" y="566640"/>
            <a:ext cx="9269640" cy="46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10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分解因是（         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2×2×3×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2×3×3×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大公因数是（          ），最小公倍数是（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都是正整数，如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=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与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公倍数是（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5148360" y="711360"/>
            <a:ext cx="30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2×3×5×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5129280" y="25876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981080" y="3327480"/>
            <a:ext cx="10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1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4419720" y="5181480"/>
            <a:ext cx="5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609480" y="380880"/>
            <a:ext cx="792504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都是正整数，并且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那么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最大公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3×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×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这三个数的最大公因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3×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3×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2×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数的最小公倍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×5×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最大公因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果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最小公倍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        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3733920" y="1440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936960" y="24987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5281560" y="36306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4457880" y="4540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5052960" y="50245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2025360" y="838080"/>
            <a:ext cx="484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解素因数并求下列合数的素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152280" y="144792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2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4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19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826280" y="3657600"/>
            <a:ext cx="437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以内的正整数中，写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660320" y="4376880"/>
            <a:ext cx="60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个能同时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的两位数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）所有能同时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的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364400" y="2209680"/>
            <a:ext cx="6738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解素因数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2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素因数是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1280" y="189000"/>
            <a:ext cx="9072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综 合 练 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、判断题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:(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并将错题改正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因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2÷0.8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所以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.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能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。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解质因数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×3×5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能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整除的数一定是合数。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个连续自然数中至少有一个是合数。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任何整数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，必定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两个因数。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积，一定能被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同时整除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(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8197200" y="19954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8409960" y="2571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8376480" y="32180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609480" y="42670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8409960" y="4913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8201160" y="6032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4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6" dur="8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0:43:59Z</dcterms:created>
  <dc:creator/>
  <dc:description/>
  <dc:language>en-US</dc:language>
  <cp:lastModifiedBy/>
  <dcterms:modified xsi:type="dcterms:W3CDTF">2015-04-09T06:12:59Z</dcterms:modified>
  <cp:revision>1</cp:revision>
  <dc:subject/>
  <dc:title/>
</cp:coreProperties>
</file>