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AC90-303F-4AD2-990A-570AED47D2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95B5-B9C6-4720-8374-5F831EA040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EFB-0951-4131-9077-07073654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A4F-3667-419C-8B47-989F6E7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7A9A2-D129-4A19-B875-53C8ADE1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24229-CD22-4765-B8A6-74A8CAB0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87501-8497-4E0F-AB77-A7D0331E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8C34C-7DB2-4BF6-A4AA-111C0589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12E61-9CAC-4587-859D-E3239837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91196-F97B-4321-B057-5660F96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173CC-FADA-44D0-B139-04BBDDD2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16088-0F6F-4755-958B-155A5DD6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C67CD-6BDB-4277-B3A4-1EC90310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DB460-169D-49C8-969D-ACF46B22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7F1-66E2-42B8-BADF-78AAECFE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18080-73E3-4E81-AC2E-81A06AFA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50CF4-FB54-4BD8-802F-5CF96063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F22BC-37C9-4968-B42D-F5C5137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CD172-0F83-40AE-92CA-A93E5563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491B8-59F7-4F18-8834-9516B086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F7AD3-AAC5-432E-843D-CE216816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2A79F-493F-468F-8280-BE833446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9F645-CD65-41AA-9B29-9BC82A4F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87AC6-CE89-4889-B789-EF2150D8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83458-409B-4F8D-9E54-4DC7A16A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828-1BE9-4224-8E77-9BA5D238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3D7C7-5CDB-4BEF-A392-D0890B3F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A9E90-7E10-4238-B198-3A7342D3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CB788-9419-4779-B54B-E17F4284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43418-65D8-415C-8293-13C1525A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C9B86-87D2-410B-A3E8-FBEB7FE1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E26B5-5082-4067-91B2-811DCFAF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6E092-693A-4CA2-9606-A6A85A5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4FD1E-67A9-40CA-B04A-668763D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B8D81-764E-4D86-9686-552FAD5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8ECCE-39DC-4175-BCEC-60783C2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5E36-1071-4B9E-925A-F30BD995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0FCB2-96D7-40D3-9209-CDED4547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3167A-7C36-44D3-8450-1EC3D36A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16C28-A6C6-4147-92C7-7A6D2670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12FBF-E3ED-40D3-8C4A-721B44CD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D8DD6-AD08-4EEC-B0B9-46E7C75D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B1048-FF3F-4535-BA83-331993D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E9A69-53A7-4060-8A71-EF75BC93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17283-BDF9-4FE3-BC72-EFF75F8A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7C841-CA97-4608-A8B2-2EEE7B10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0D37C-9AE9-4605-956D-4EAF93E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C266-0EE5-4D27-B41D-AACBE51D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3B7A2-2AE1-4D7E-B0A6-43664238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F5963-6CD7-4D41-8132-D7E7D71B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53FA8-BF17-4016-806E-CE91857A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0DA8F-1C20-4383-9E03-6EC20D73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F6A6C-3A21-40DA-B77E-5A403072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D17DB-D543-47E2-A5B6-7E6F5FDB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AD2C9-7118-4FFA-8289-B6071374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B67EA-D6F3-4751-9C99-31466FE9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B37CE-C04A-4317-B752-CD85B0F1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306AC-5FE5-43A0-975E-6F207406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C142-EA9B-4012-8F2F-872E2B9F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8EAFD-B576-4E1D-966B-0A883BB4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B1AF3-47A5-437F-A0AE-E0AF494F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300DA-0D8B-421A-AC4C-40937530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9A6A0-5B5E-474B-B3FA-DD34DE64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0138C-BBB4-435F-8DDC-0C9078FD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F1EEE-E114-4FAE-B297-71AE3CA9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19E8E-6A0A-476E-93E3-E8CE5EF5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78EDA-27C1-4172-9B09-B471F887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E99AE-256F-4FB4-81D0-AAD0E035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2C0A5-0C32-478E-B2BB-0E8C9E16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1796-6BC9-4496-BD3C-F7D36215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AB9B2-E9A2-4892-9BBA-34CDF46F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2EC8E-E8C4-48D2-9419-5531E43C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3BEE0-EEB7-44C8-AB1B-315750B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2F36E-D5CA-43ED-8B8A-A674EA3E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CF2E4-F2C7-45D9-A1EA-C44343D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1DFB7-DE2B-4082-BE2F-370537E5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6D801-4A25-44DE-A215-303F58D0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D78DB-60AE-48BA-AF81-D78F2D21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0166D-AB2F-49F1-A293-73BAA80C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81572-9266-4E19-97C2-C50F1223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6F69-3D91-450D-8EF5-799301A2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F2EF6E-958C-4190-8E6F-B3CA545F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0902F-4807-4D9C-9822-87A8A761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9E240-7889-42B4-AD17-0F5D2BDD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2C4FC7-5C24-4A56-8B92-8901A910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4E21D-8592-4165-8294-518A01C7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542CD-E7CB-4124-9521-2EEB783A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1C2B4-3A4A-4F82-92FD-47FD3F8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11E47-8DFF-41C6-85C8-FD321424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CC4BD-3C0C-4A47-A150-B0CCE2FD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DB443-8FB7-4534-B1C4-F707C748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46D7-A847-4791-8FC3-2E661C2F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CA757-33E1-432F-ACCA-15B97293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67D43C-8970-4A44-A440-2B02F50B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E8D09-3658-47A2-B97E-7AB6F1A2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745EF-B45F-41BE-9D4D-46072C6F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8DFF3-41E6-4057-A790-C2DB680B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67D9A8-42C5-41DD-9307-FDFCEEA8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0BBB1-FA7F-4530-93A1-E5DB2BDA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B9B0C-CF2F-4BCA-817A-0C065A6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930A8-788C-4349-BB9E-AC3B014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D87A4-8BEC-49C6-9950-6D16BA2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1BD3-958E-4A9B-9A68-8DB20FB6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C0356-80A5-4756-9C17-0FE4423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81770-67D9-4993-A5D7-D1DF88D0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63F6A-E0E4-4F9D-9599-8B7F0D01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A1E31-DCC6-4403-BB38-4EF38DA8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F7E5B-EC0C-4506-A4DB-28F16FA1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7F9063-5C8A-4A1E-A2BE-2DC8056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4654D-BB18-41F7-A95D-B119A88B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E5723E-54F7-467F-8DA2-4D46B608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4D7CB-A6C1-4281-A314-84B02A00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EFF39-04F0-4C9A-AE88-59552A1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349-004F-4635-9312-9776A21B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5DFE-6A7C-499F-936C-A326199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67477-3C58-4B04-9D25-B045295E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0887C-5C6F-4927-AF81-CCD11FA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4AB5E-9445-45CF-A2B6-2256C397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CFD06-8D6B-436D-A974-7C6DAD54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22BCDD-6B88-4240-B023-14AB348A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39A32-5DA3-45A1-AAD5-00F5FEAF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E87B6-5A88-4538-8C88-4B401C48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D2C76-0119-4B85-98A9-90E5ED3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2FFD7-A741-416B-83AA-86E58884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07912-E7D6-496C-BAC3-E99E9A2A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3D8C-5D8C-4DF0-8760-481FFD22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84610-FA50-4AC0-9891-204E0C44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563E9-9975-44A2-86EF-7F39E10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8F123-3714-403B-89C8-E04571B3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0E615-53FB-4858-BFB2-A6BB6AD2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FBD89-D913-48EB-9438-470B0EA9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3C0418-0743-41E4-805E-42DD6F01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549E3-6CA5-42CC-866B-A480CF0C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2891A1-0E6F-450A-9966-12814943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3EE586-6BE7-40EC-9321-C62C06DF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3E58A-0462-4512-91FF-9381CC94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602D-256F-49C7-A9B3-C0DC9D14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8E281-96EE-43BC-B2BC-F8B6B3AA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AC3E2-3336-478E-BCA5-51D908D9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4D3B3-A9D1-4CC6-86B4-DF6055FD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587A8-B3B1-473A-BEB1-2511F2D6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719E8-B3BB-4F5F-B43E-570FE4B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06338-9B90-4E2B-A9DA-791E54E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53E43D-4D68-49BF-9967-F0C32053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95494-83C7-4D87-8D95-5DDC483F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280FE-6F9F-460B-B3DD-E5AC96DF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73D78-C077-4065-8628-F455D473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0C87-8DA0-47C6-89EB-EA22E247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A577D-4F6B-4A85-A69D-634E152D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4726EC-04BB-44A8-9234-26EDC256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9507F-C283-4844-B8A0-F3494D8D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64582B-A268-4E15-AA87-A135267C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2BCFA-7972-4CA9-8A6E-76D64FB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2A786-18C9-409A-A29D-E6E6DFF2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AFFAD-61C4-4F86-8633-CA4B6D28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37EF0D-894E-4F67-BDB2-6D1A959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D8826-B5A8-494B-9BDF-C10321F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A68A8-1FC0-4C1B-B9D1-9AC44A66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9883-50E4-49F8-9159-38B02B24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BACED4-CDBD-47EE-B39A-D7542D7F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CC6696-2EFE-48C7-AD3B-684E8696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FC09A8-CAC6-4109-AB9A-03D81B23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C933EA-F9B8-42FD-B96A-C56313CA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E47176-820E-4C48-A811-C29102DC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E972CD-4A36-4511-AEDE-2E3D5B4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E39FEE-3B8B-41B1-A792-F165540D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18769-1112-4943-9DB4-6CA0678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FC09B1-6BFE-484F-A2C2-9DEDF9C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DC8A1-5B11-4754-8492-B4B6F5A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1035-24E8-4465-AFC1-FE6C3820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4955B-78C0-4C04-8C8C-D95ADABB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9EBEC9-0787-4E15-9897-57099FF3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85ACDB-200B-4FBA-9A97-17AF81EE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31B3ED-0C27-4181-BB95-9799F76F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49B410-EF30-4C05-9EB6-651BD6FB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7366AB-A440-460E-AF78-8DC538B4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A606DB-B987-4CF1-9673-699F7651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F231A9-BFF0-4858-87E6-137811A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46897-8BB5-48CB-B444-0E4AC0D9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E8157A-77A2-4459-AE78-8F9A14C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9F9F-3DF0-4609-8353-780B9E44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1B6B54-FE68-4F57-B3C3-9DFDC16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6C2859-8028-409D-92E3-B4E643E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EF4BEF-3EBD-45C6-B2EC-7CF7860A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C28BAD-531F-4279-B8E2-70FB4462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6C79A5-0F1D-4445-8E0E-63C325DD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993612-CE7E-4F0B-B55E-BFC54E33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85E210-18C7-41EB-90D1-18907F2B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7E0EF8-1EF1-4DDC-8DF9-77A163DA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AAE229-A594-4ACC-AEA5-40B3D875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536979-65CE-4D46-A94C-5C8B7134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801F-BEFD-4E17-92E2-C15949D5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F44C20-0B48-4ADE-8A75-6E39ADD1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1FE63D-BB69-47FF-A476-58CFCB00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8BAFB6-E9CA-444D-AD03-2034AB11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93DA7C-E7DA-43F2-AA0D-8E73D29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59E5E5-219C-4FCC-85F7-28F54AC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5FFFF5-7DD2-4E49-ACE0-4FCBDD8B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62A8B8-D19F-491C-9AB0-498EA446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04EF43-F454-4046-B02B-84368EDD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411D6B-2019-41A6-9100-C23A389B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FB2434-2505-4A30-85B7-68A70C5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B8A0-0CAE-4598-B577-B658B3F5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73D05C-76D9-4A9B-8A93-C05DE1EC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068EBE-44E3-4499-996B-52FD3013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9001DF-7DE4-49AB-81E5-BED4B09A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1F122D-E06A-485C-99A5-AD566BC0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96A6B4-D6CA-474A-B8C2-82D2867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A1C780-7563-48A1-A089-95816B78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4D50E8-5D86-4249-959C-21B20E60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E87B6A-BC72-4891-8A41-73E87733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762F10-CCDF-4EA0-9808-5F645CA5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51313D-CD4B-46F8-AACB-0986A90F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5FC9-A084-46F6-8CD3-39DD0D0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0CA9D9-1D4F-46B9-9B57-369AAF0B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BC52AD-2986-4A2E-8A63-A1351FB9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623F34-4192-4AE9-808C-F761148A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3B14B7-6AE6-413B-9D8D-77026F98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C9C142-2667-49CF-9639-1D9041D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CB5973-B0BC-419D-A2AE-F07D6A2C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D7471D-31CE-49D7-B8DB-BEF61DF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99C3C8-B195-49A9-9CDD-488A4179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7B18D8-0350-401E-9450-9FB24771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474329-32CA-45CC-AC06-201CE9B5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42A-38E5-4F46-BEB3-E36B6C12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669F-6285-4770-B08E-D14E3681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DAE995-3535-45B0-87B9-C833FE74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A0EE79-26F9-410B-8E41-2C70A3E9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83BFF0-8291-493A-B578-7E9CC192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061FF2-AE81-490B-A759-A5BACE3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E2F861-517E-4591-8D24-00EDA6FD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29E050-ACED-4343-ADC4-81442C62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9F935A-C4B9-4F6D-8862-6C46F530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054EBE-EAF8-4CB7-8A39-8374DEC2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84B1C8-33CD-4BB5-ADC9-5247014B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9D94A6-5F06-4027-856E-BC323C5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8E53-A1F6-4BA5-9D62-CC8E0E5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64ECEF-538C-464C-BD4D-37028AA6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7A4B79-AC2A-4949-8C5C-D075FB3A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446AAD-12A5-4655-91D8-F061C0ED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E743-A21C-40CB-8998-548F2C0F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DD6D-59C3-47A2-B32F-39B9F91A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06C4-91A9-4F6E-9F27-1232C1F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B109-4AFF-40F5-86FD-A261F15C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09C3-FC5A-4342-AEE4-A42D5A3D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10BF2-EA5D-441D-B3BE-F6B2E8FD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4497-5BA4-412D-9EE5-902D17DE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62F1-B673-4E10-AB14-A618E8C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6F6-59F0-4D92-B44A-5F1E82EC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59DC6-B6CF-4B1C-8E2D-4B3B2EB3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53C54-7C3F-4836-8A4A-D1FB5F2D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F73E-410F-45CB-A547-BC78C27D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4FAF-898A-4875-92F5-5456CC6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221F-6F6A-4D86-A2BA-9C94AEBD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CED5-0F9B-4054-BF1F-55DF0B69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8450-4024-4E37-81CE-2FF8553D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5AB4-4315-4E16-8019-D4472350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D61B-0F2E-4FEA-930B-A8B0B0FD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E7799-FEF4-4844-B058-EC6845D1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CCB-D7C2-44FB-974D-B9F4651D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08C41-D8E1-45DC-A002-8FDB357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BA55-4A54-4A25-9572-09DBEAB4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C408-05B5-4227-9E0A-60AB5254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89331-1A79-4F72-853B-DA9BB1A3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5E03F-3C17-4357-98B0-8EDD4107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D305D-13F4-42B0-8E06-74802B17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0E6C-07AB-4DDA-B3BF-DECEDA1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D253A-9277-4CA1-9E88-DC1DB536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6ED3C-239B-4876-8D74-21209DE6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1ACB0-5105-45D7-B465-6D912733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FE3-D1AE-4C85-984C-A16586C0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C8E01-F307-476E-AE04-8338F75D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FFFD3-C668-4029-9D9E-D6C2F009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E7B8C-31EC-403E-8056-949C1F37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B7424-87AA-49C7-8EFB-1358F559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A8CB-944C-497F-BB7A-FF9714F8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9E75A-5670-4BF5-BC1E-26118AC5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358B7-EB8E-4A04-95E9-450C3EE9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D07B2-F01B-446B-AF6E-DFA960E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9380E-77C4-4B51-BECF-E4DB032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8176-121A-4535-8037-F0211292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842-4B0B-4E4E-924D-1570974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CFF5-A360-4AFE-BB5D-AEF6EF9E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DB981-BE20-48D0-B1F3-B9C1207A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7467-8C92-470C-A372-D7C27937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405C5-1C6A-4DD2-A4F5-60D18FE0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7DCE4-BE4E-447E-9C49-71C764EE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B844D-14E0-4E1E-BE9F-10E5CB8A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C77B-B8B8-45AA-9AE7-F5D2017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0C397-997C-4C98-895A-EB31E677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ECF3C-0534-4437-B2A7-817978B5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514D0-2085-482C-93C0-227D5BEE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4DC-7189-466F-AAFD-C4CA704F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AEA4-E0EB-46D1-95E7-C547252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65AD-097D-4E1C-B88C-A2716B0C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D1122-CFA1-4D2E-9621-080D3C10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993C-02E2-4E87-A76A-4035E348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D4CEB-8EA3-48C9-9D5D-E3B8AEA6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CB5B3-A1B9-4E36-907C-5412337A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5482E-4E34-495F-9317-42921A76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DCE38-2FDF-4ED4-B2E3-30B7EBDB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FABB5-4D44-44CF-A813-60651019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B981-774A-4D86-BBAD-ACE68623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339-2205-40FC-8090-DFC82E98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A81A1-B206-4CBE-8AD4-CADA8B93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B3D94-7544-4D43-B12F-BE72214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98279-80F5-4EE1-AE04-D2858954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83F0-B49E-40B0-ADE2-5B8C1006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E821F-4163-4BCD-8187-5763C58D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4295D-035B-4BC1-91EE-5B762C8E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ACC1A-13AA-4076-8D7A-8FDB76E0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A6866-9D45-4000-8D72-FAAA7C82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3AE69-F71E-40E7-BE6C-60024AD3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BE51C-8B87-4676-9234-932B9FE2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BCE-C8EB-4021-8641-2682D9667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E36B-411B-48FD-98FF-D09194F1A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C0A0-1654-4628-B03F-71AF63150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879-439D-4487-B5C0-182DC9A1E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4934-B28A-4BD0-8690-E5EEEE238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B9C9-4F4E-4A0C-9C5C-63D058439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D1F-3251-4798-B1B4-3A2D8F070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D942-6D15-4F76-8830-AEB699AFC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B397-6C22-488F-83F3-DCE97B29E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1707-14C3-4DAF-A2A1-B04E404B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D866-9F0D-4E43-99B2-97E86857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145B-46FE-4BCC-AFBB-29EAD9211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AAD2-DF31-434F-AAF2-8D80950FC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CBA8-E730-46A1-83DE-91B5F1C96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1C96-B8B3-42F3-BA14-27265F562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F213-70EF-4CFC-A8F5-E0CC95526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7AF0-4C71-4F1A-BB1E-A9B782CA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84A7-1553-4761-AB14-F663871EB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5F0C-E3E2-429D-A089-5142E187D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C46-EDC3-488A-BC21-A451DEAA4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EB33-0E13-4243-8844-1CC2076D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C3BE-0FA1-4375-A783-9B4495994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586C-D966-415F-8A0F-1B787EC1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0AF5-B848-4816-947C-3A6335771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637D-C40E-49CA-84CD-D2C118183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6C08-CFAB-4A87-938D-EE66C238E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四则混合运算（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4"/>
          <p:cNvSpPr/>
          <p:nvPr/>
        </p:nvSpPr>
        <p:spPr>
          <a:xfrm>
            <a:off x="468360" y="198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在一个减法算式中，被减数、减数与差的和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差是减数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。差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5"/>
          <p:cNvSpPr/>
          <p:nvPr/>
        </p:nvSpPr>
        <p:spPr>
          <a:xfrm>
            <a:off x="1692360" y="14191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被减数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减数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466560" y="1916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"/>
          <p:cNvSpPr/>
          <p:nvPr/>
        </p:nvSpPr>
        <p:spPr>
          <a:xfrm>
            <a:off x="1330200" y="2054160"/>
            <a:ext cx="59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减法算式表示为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8"/>
          <p:cNvSpPr/>
          <p:nvPr/>
        </p:nvSpPr>
        <p:spPr>
          <a:xfrm>
            <a:off x="2338560" y="263376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差是减数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9"/>
          <p:cNvSpPr/>
          <p:nvPr/>
        </p:nvSpPr>
        <p:spPr>
          <a:xfrm>
            <a:off x="106200" y="32814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这个算式又可以表示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0"/>
          <p:cNvSpPr/>
          <p:nvPr/>
        </p:nvSpPr>
        <p:spPr>
          <a:xfrm>
            <a:off x="5435640" y="32814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1"/>
          <p:cNvSpPr/>
          <p:nvPr/>
        </p:nvSpPr>
        <p:spPr>
          <a:xfrm>
            <a:off x="4643280" y="3930480"/>
            <a:ext cx="25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12"/>
          <p:cNvSpPr/>
          <p:nvPr/>
        </p:nvSpPr>
        <p:spPr>
          <a:xfrm>
            <a:off x="5506920" y="450540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106200" y="44974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减数、减数与差的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4"/>
          <p:cNvSpPr/>
          <p:nvPr/>
        </p:nvSpPr>
        <p:spPr>
          <a:xfrm>
            <a:off x="3505320" y="515448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就是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6172200" y="5657760"/>
            <a:ext cx="17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6"/>
          <p:cNvSpPr/>
          <p:nvPr/>
        </p:nvSpPr>
        <p:spPr>
          <a:xfrm>
            <a:off x="4211640" y="6093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差是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7"/>
          <p:cNvSpPr/>
          <p:nvPr/>
        </p:nvSpPr>
        <p:spPr>
          <a:xfrm>
            <a:off x="1260360" y="61628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差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23"/>
          <p:cNvGrpSpPr/>
          <p:nvPr/>
        </p:nvGrpSpPr>
        <p:grpSpPr>
          <a:xfrm>
            <a:off x="250920" y="44280"/>
            <a:ext cx="8892720" cy="3134520"/>
            <a:chOff x="250920" y="44280"/>
            <a:chExt cx="8892720" cy="3134520"/>
          </a:xfrm>
        </p:grpSpPr>
        <p:sp>
          <p:nvSpPr>
            <p:cNvPr id="1171" name="Text Box 4"/>
            <p:cNvSpPr/>
            <p:nvPr/>
          </p:nvSpPr>
          <p:spPr>
            <a:xfrm>
              <a:off x="250920" y="44280"/>
              <a:ext cx="8892720" cy="31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、列综合算式求下列各题中字母表示的数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            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2                                         1.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2" name="Object 5"/>
                <p:cNvSpPr txBox="1"/>
                <p:nvPr/>
              </p:nvSpPr>
              <p:spPr>
                <a:xfrm>
                  <a:off x="2209680" y="577440"/>
                  <a:ext cx="807120" cy="12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3" name="Line 6"/>
            <p:cNvSpPr/>
            <p:nvPr/>
          </p:nvSpPr>
          <p:spPr>
            <a:xfrm>
              <a:off x="2194560" y="1807920"/>
              <a:ext cx="97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7"/>
            <p:cNvSpPr/>
            <p:nvPr/>
          </p:nvSpPr>
          <p:spPr>
            <a:xfrm>
              <a:off x="3316680" y="1520640"/>
              <a:ext cx="522000" cy="57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8"/>
            <p:cNvSpPr/>
            <p:nvPr/>
          </p:nvSpPr>
          <p:spPr>
            <a:xfrm>
              <a:off x="3988800" y="1807920"/>
              <a:ext cx="97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9"/>
            <p:cNvSpPr/>
            <p:nvPr/>
          </p:nvSpPr>
          <p:spPr>
            <a:xfrm>
              <a:off x="5109120" y="1520640"/>
              <a:ext cx="522000" cy="57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7" name="Object 10"/>
                <p:cNvSpPr txBox="1"/>
                <p:nvPr/>
              </p:nvSpPr>
              <p:spPr>
                <a:xfrm>
                  <a:off x="4062960" y="577440"/>
                  <a:ext cx="672120" cy="12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8" name="Line 11"/>
            <p:cNvSpPr/>
            <p:nvPr/>
          </p:nvSpPr>
          <p:spPr>
            <a:xfrm>
              <a:off x="5783040" y="1807920"/>
              <a:ext cx="97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9" name="Object 12"/>
                <p:cNvSpPr txBox="1"/>
                <p:nvPr/>
              </p:nvSpPr>
              <p:spPr>
                <a:xfrm>
                  <a:off x="5830560" y="577440"/>
                  <a:ext cx="772920" cy="12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0" name="Object 13"/>
                <p:cNvSpPr txBox="1"/>
                <p:nvPr/>
              </p:nvSpPr>
              <p:spPr>
                <a:xfrm>
                  <a:off x="6786360" y="1025280"/>
                  <a:ext cx="436680" cy="12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81" name="Line 14"/>
            <p:cNvSpPr/>
            <p:nvPr/>
          </p:nvSpPr>
          <p:spPr>
            <a:xfrm>
              <a:off x="2194560" y="2671560"/>
              <a:ext cx="97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Object 16"/>
                <p:cNvSpPr txBox="1"/>
                <p:nvPr/>
              </p:nvSpPr>
              <p:spPr>
                <a:xfrm>
                  <a:off x="2201400" y="2152440"/>
                  <a:ext cx="7246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83" name="Rectangle 17"/>
            <p:cNvSpPr/>
            <p:nvPr/>
          </p:nvSpPr>
          <p:spPr>
            <a:xfrm>
              <a:off x="3315240" y="2384280"/>
              <a:ext cx="522000" cy="57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18"/>
            <p:cNvSpPr/>
            <p:nvPr/>
          </p:nvSpPr>
          <p:spPr>
            <a:xfrm>
              <a:off x="3988800" y="2671560"/>
              <a:ext cx="97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5" name="Object 19"/>
                <p:cNvSpPr txBox="1"/>
                <p:nvPr/>
              </p:nvSpPr>
              <p:spPr>
                <a:xfrm>
                  <a:off x="3878640" y="2168280"/>
                  <a:ext cx="10425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86" name="Rectangle 20"/>
            <p:cNvSpPr/>
            <p:nvPr/>
          </p:nvSpPr>
          <p:spPr>
            <a:xfrm>
              <a:off x="5109120" y="2384280"/>
              <a:ext cx="522000" cy="57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21"/>
            <p:cNvSpPr/>
            <p:nvPr/>
          </p:nvSpPr>
          <p:spPr>
            <a:xfrm>
              <a:off x="5781240" y="2671560"/>
              <a:ext cx="97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8" name="Object 22"/>
                <p:cNvSpPr txBox="1"/>
                <p:nvPr/>
              </p:nvSpPr>
              <p:spPr>
                <a:xfrm>
                  <a:off x="5707440" y="2168280"/>
                  <a:ext cx="10738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9" name="Text Box 24"/>
          <p:cNvSpPr/>
          <p:nvPr/>
        </p:nvSpPr>
        <p:spPr>
          <a:xfrm>
            <a:off x="250920" y="30002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25"/>
          <p:cNvSpPr/>
          <p:nvPr/>
        </p:nvSpPr>
        <p:spPr>
          <a:xfrm>
            <a:off x="1979640" y="2997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题目列得的算式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37"/>
          <p:cNvGrpSpPr/>
          <p:nvPr/>
        </p:nvGrpSpPr>
        <p:grpSpPr>
          <a:xfrm>
            <a:off x="2089080" y="3500280"/>
            <a:ext cx="6769080" cy="1155600"/>
            <a:chOff x="2089080" y="3500280"/>
            <a:chExt cx="6769080" cy="1155600"/>
          </a:xfrm>
        </p:grpSpPr>
        <p:sp>
          <p:nvSpPr>
            <p:cNvPr id="1192" name="Text Box 26"/>
            <p:cNvSpPr/>
            <p:nvPr/>
          </p:nvSpPr>
          <p:spPr>
            <a:xfrm>
              <a:off x="2089080" y="3790800"/>
              <a:ext cx="67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÷    -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×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3" name="Object 27"/>
                <p:cNvSpPr txBox="1"/>
                <p:nvPr/>
              </p:nvSpPr>
              <p:spPr>
                <a:xfrm>
                  <a:off x="3255840" y="350028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4" name="Object 28"/>
                <p:cNvSpPr txBox="1"/>
                <p:nvPr/>
              </p:nvSpPr>
              <p:spPr>
                <a:xfrm>
                  <a:off x="3755880" y="350172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5" name="Object 29"/>
                <p:cNvSpPr txBox="1"/>
                <p:nvPr/>
              </p:nvSpPr>
              <p:spPr>
                <a:xfrm>
                  <a:off x="4970520" y="350172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6" name="Object 30"/>
                <p:cNvSpPr txBox="1"/>
                <p:nvPr/>
              </p:nvSpPr>
              <p:spPr>
                <a:xfrm>
                  <a:off x="5684760" y="350172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7" name="Text Box 31"/>
          <p:cNvSpPr/>
          <p:nvPr/>
        </p:nvSpPr>
        <p:spPr>
          <a:xfrm>
            <a:off x="34920" y="4149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换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Group 55"/>
          <p:cNvGrpSpPr/>
          <p:nvPr/>
        </p:nvGrpSpPr>
        <p:grpSpPr>
          <a:xfrm>
            <a:off x="5786280" y="5500800"/>
            <a:ext cx="1756800" cy="1161720"/>
            <a:chOff x="5786280" y="5500800"/>
            <a:chExt cx="1756800" cy="1161720"/>
          </a:xfrm>
        </p:grpSpPr>
        <p:sp>
          <p:nvSpPr>
            <p:cNvPr id="1199" name="Text Box 38"/>
            <p:cNvSpPr/>
            <p:nvPr/>
          </p:nvSpPr>
          <p:spPr>
            <a:xfrm>
              <a:off x="5786280" y="5857920"/>
              <a:ext cx="99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0" name="Object 39"/>
                <p:cNvSpPr txBox="1"/>
                <p:nvPr/>
              </p:nvSpPr>
              <p:spPr>
                <a:xfrm>
                  <a:off x="6607440" y="5500800"/>
                  <a:ext cx="935640" cy="11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1" name="Group 52"/>
          <p:cNvGrpSpPr/>
          <p:nvPr/>
        </p:nvGrpSpPr>
        <p:grpSpPr>
          <a:xfrm>
            <a:off x="1116000" y="4456080"/>
            <a:ext cx="4319280" cy="1206360"/>
            <a:chOff x="1116000" y="4456080"/>
            <a:chExt cx="4319280" cy="1206360"/>
          </a:xfrm>
        </p:grpSpPr>
        <mc:AlternateContent>
          <mc:Choice xmlns:a14="http://schemas.microsoft.com/office/drawing/2010/main" Requires="a14">
            <p:sp>
              <p:nvSpPr>
                <p:cNvPr id="1202" name="Object 32"/>
                <p:cNvSpPr txBox="1"/>
                <p:nvPr/>
              </p:nvSpPr>
              <p:spPr>
                <a:xfrm>
                  <a:off x="4802040" y="448128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3" name="Object 33"/>
                <p:cNvSpPr txBox="1"/>
                <p:nvPr/>
              </p:nvSpPr>
              <p:spPr>
                <a:xfrm>
                  <a:off x="3697200" y="445608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4" name="Object 34"/>
                <p:cNvSpPr txBox="1"/>
                <p:nvPr/>
              </p:nvSpPr>
              <p:spPr>
                <a:xfrm>
                  <a:off x="3020760" y="448452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5" name="Object 35"/>
                <p:cNvSpPr txBox="1"/>
                <p:nvPr/>
              </p:nvSpPr>
              <p:spPr>
                <a:xfrm>
                  <a:off x="2193840" y="450828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06" name="Text Box 36"/>
            <p:cNvSpPr/>
            <p:nvPr/>
          </p:nvSpPr>
          <p:spPr>
            <a:xfrm>
              <a:off x="1116000" y="4798800"/>
              <a:ext cx="43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÷    +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53"/>
          <p:cNvGrpSpPr/>
          <p:nvPr/>
        </p:nvGrpSpPr>
        <p:grpSpPr>
          <a:xfrm>
            <a:off x="1835280" y="5500800"/>
            <a:ext cx="3744720" cy="1166760"/>
            <a:chOff x="1835280" y="5500800"/>
            <a:chExt cx="3744720" cy="1166760"/>
          </a:xfrm>
        </p:grpSpPr>
        <p:sp>
          <p:nvSpPr>
            <p:cNvPr id="1208" name="Text Box 41"/>
            <p:cNvSpPr/>
            <p:nvPr/>
          </p:nvSpPr>
          <p:spPr>
            <a:xfrm>
              <a:off x="1835280" y="5799240"/>
              <a:ext cx="37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9" name="Object 45"/>
                <p:cNvSpPr txBox="1"/>
                <p:nvPr/>
              </p:nvSpPr>
              <p:spPr>
                <a:xfrm>
                  <a:off x="2803680" y="551340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0" name="Object 46"/>
                <p:cNvSpPr txBox="1"/>
                <p:nvPr/>
              </p:nvSpPr>
              <p:spPr>
                <a:xfrm>
                  <a:off x="3654360" y="550080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1" name="Object 47"/>
                <p:cNvSpPr txBox="1"/>
                <p:nvPr/>
              </p:nvSpPr>
              <p:spPr>
                <a:xfrm>
                  <a:off x="4803840" y="551340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2" name="Group 54"/>
          <p:cNvGrpSpPr/>
          <p:nvPr/>
        </p:nvGrpSpPr>
        <p:grpSpPr>
          <a:xfrm>
            <a:off x="5886360" y="4473720"/>
            <a:ext cx="2165040" cy="1162080"/>
            <a:chOff x="5886360" y="4473720"/>
            <a:chExt cx="2165040" cy="1162080"/>
          </a:xfrm>
        </p:grpSpPr>
        <p:sp>
          <p:nvSpPr>
            <p:cNvPr id="1213" name="Text Box 48"/>
            <p:cNvSpPr/>
            <p:nvPr/>
          </p:nvSpPr>
          <p:spPr>
            <a:xfrm>
              <a:off x="5886360" y="47959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4" name="Object 49"/>
                <p:cNvSpPr txBox="1"/>
                <p:nvPr/>
              </p:nvSpPr>
              <p:spPr>
                <a:xfrm>
                  <a:off x="7656120" y="4481640"/>
                  <a:ext cx="3952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5" name="Object 50"/>
                <p:cNvSpPr txBox="1"/>
                <p:nvPr/>
              </p:nvSpPr>
              <p:spPr>
                <a:xfrm>
                  <a:off x="6630840" y="4473720"/>
                  <a:ext cx="64116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Text Box 4"/>
          <p:cNvSpPr/>
          <p:nvPr/>
        </p:nvSpPr>
        <p:spPr>
          <a:xfrm>
            <a:off x="250920" y="3366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5"/>
          <p:cNvSpPr/>
          <p:nvPr/>
        </p:nvSpPr>
        <p:spPr>
          <a:xfrm>
            <a:off x="1979640" y="333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题目列得的算式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6"/>
          <p:cNvSpPr/>
          <p:nvPr/>
        </p:nvSpPr>
        <p:spPr>
          <a:xfrm>
            <a:off x="2557440" y="11970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÷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÷0.3+0.8=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7"/>
          <p:cNvSpPr/>
          <p:nvPr/>
        </p:nvSpPr>
        <p:spPr>
          <a:xfrm>
            <a:off x="826920" y="21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换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8"/>
          <p:cNvSpPr/>
          <p:nvPr/>
        </p:nvSpPr>
        <p:spPr>
          <a:xfrm>
            <a:off x="2744640" y="284652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4.2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［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-0.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0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9"/>
          <p:cNvSpPr/>
          <p:nvPr/>
        </p:nvSpPr>
        <p:spPr>
          <a:xfrm>
            <a:off x="2714760" y="3643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4.2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7×0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10"/>
          <p:cNvSpPr/>
          <p:nvPr/>
        </p:nvSpPr>
        <p:spPr>
          <a:xfrm>
            <a:off x="2692440" y="43624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4.2÷0.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11"/>
          <p:cNvSpPr/>
          <p:nvPr/>
        </p:nvSpPr>
        <p:spPr>
          <a:xfrm>
            <a:off x="2643120" y="50101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Text Box 4"/>
          <p:cNvSpPr/>
          <p:nvPr/>
        </p:nvSpPr>
        <p:spPr>
          <a:xfrm>
            <a:off x="250920" y="18900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哥哥身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，比弟弟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，爸爸的身高正好是弟弟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。爸爸的身高是多少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5"/>
          <p:cNvSpPr/>
          <p:nvPr/>
        </p:nvSpPr>
        <p:spPr>
          <a:xfrm>
            <a:off x="179280" y="242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6"/>
          <p:cNvSpPr/>
          <p:nvPr/>
        </p:nvSpPr>
        <p:spPr>
          <a:xfrm>
            <a:off x="212256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弟弟的身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7"/>
          <p:cNvSpPr/>
          <p:nvPr/>
        </p:nvSpPr>
        <p:spPr>
          <a:xfrm>
            <a:off x="2914560" y="314172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厘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8"/>
          <p:cNvSpPr/>
          <p:nvPr/>
        </p:nvSpPr>
        <p:spPr>
          <a:xfrm>
            <a:off x="2122560" y="39337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爸的身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9"/>
          <p:cNvSpPr/>
          <p:nvPr/>
        </p:nvSpPr>
        <p:spPr>
          <a:xfrm>
            <a:off x="2916360" y="47242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5×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厘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"/>
          <p:cNvSpPr/>
          <p:nvPr/>
        </p:nvSpPr>
        <p:spPr>
          <a:xfrm>
            <a:off x="1547640" y="558972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爸爸的身高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500"/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Text Box 4"/>
          <p:cNvSpPr/>
          <p:nvPr/>
        </p:nvSpPr>
        <p:spPr>
          <a:xfrm>
            <a:off x="324000" y="54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法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5"/>
          <p:cNvSpPr/>
          <p:nvPr/>
        </p:nvSpPr>
        <p:spPr>
          <a:xfrm>
            <a:off x="1619280" y="17794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爸的身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6"/>
          <p:cNvSpPr/>
          <p:nvPr/>
        </p:nvSpPr>
        <p:spPr>
          <a:xfrm>
            <a:off x="685800" y="2932200"/>
            <a:ext cx="79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5-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5×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厘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7"/>
          <p:cNvSpPr/>
          <p:nvPr/>
        </p:nvSpPr>
        <p:spPr>
          <a:xfrm>
            <a:off x="1547640" y="450864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爸爸的身高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2"/>
          <p:cNvSpPr/>
          <p:nvPr/>
        </p:nvSpPr>
        <p:spPr>
          <a:xfrm>
            <a:off x="236520" y="44280"/>
            <a:ext cx="84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复习：四则混合运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"/>
          <p:cNvSpPr/>
          <p:nvPr/>
        </p:nvSpPr>
        <p:spPr>
          <a:xfrm>
            <a:off x="228600" y="838080"/>
            <a:ext cx="76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数的运算中，加法和减法叫做第一级运算。乘法和除法叫做第二级运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228600" y="1676520"/>
            <a:ext cx="891540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则混合运算的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括号的要先算小括号里面的，再算中括号里面的，最后算括号外面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没有括号的算式里，要先算乘、除法，再算加、减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算式里只有乘、除法或者只有加、减法，要按照从左到右的顺序依次进行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36520" y="189000"/>
            <a:ext cx="86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复习：运算定律和运算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179280" y="1052640"/>
          <a:ext cx="8639280" cy="4746600"/>
        </p:xfrm>
        <a:graphic>
          <a:graphicData uri="http://schemas.openxmlformats.org/drawingml/2006/table">
            <a:tbl>
              <a:tblPr/>
              <a:tblGrid>
                <a:gridCol w="2016360"/>
                <a:gridCol w="3311280"/>
                <a:gridCol w="3311640"/>
              </a:tblGrid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用字母表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举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加法交换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加法结合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乘法交换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乘法结合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乘法分配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减法的性质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减法的性质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法的性质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法的性质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0" name="Rectangle 49"/>
          <p:cNvSpPr/>
          <p:nvPr/>
        </p:nvSpPr>
        <p:spPr>
          <a:xfrm>
            <a:off x="2264760" y="24559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×b=b×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50"/>
          <p:cNvSpPr/>
          <p:nvPr/>
        </p:nvSpPr>
        <p:spPr>
          <a:xfrm>
            <a:off x="2379240" y="2962440"/>
            <a:ext cx="277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×b)×c=a×( b×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1"/>
          <p:cNvSpPr/>
          <p:nvPr/>
        </p:nvSpPr>
        <p:spPr>
          <a:xfrm>
            <a:off x="2348280" y="3456000"/>
            <a:ext cx="22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±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=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±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)×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2"/>
          <p:cNvSpPr/>
          <p:nvPr/>
        </p:nvSpPr>
        <p:spPr>
          <a:xfrm>
            <a:off x="2167560" y="15001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+b=b+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3"/>
          <p:cNvSpPr/>
          <p:nvPr/>
        </p:nvSpPr>
        <p:spPr>
          <a:xfrm>
            <a:off x="2160720" y="1995480"/>
            <a:ext cx="268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+b)+c=a+(b+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54"/>
          <p:cNvSpPr/>
          <p:nvPr/>
        </p:nvSpPr>
        <p:spPr>
          <a:xfrm>
            <a:off x="2157480" y="3865680"/>
            <a:ext cx="213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-b-c=a-(b+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55"/>
          <p:cNvSpPr/>
          <p:nvPr/>
        </p:nvSpPr>
        <p:spPr>
          <a:xfrm>
            <a:off x="2156400" y="4354560"/>
            <a:ext cx="179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-b-c=a-c-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56"/>
          <p:cNvSpPr/>
          <p:nvPr/>
        </p:nvSpPr>
        <p:spPr>
          <a:xfrm>
            <a:off x="2439000" y="4816440"/>
            <a:ext cx="234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÷b÷c=a÷(b×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57"/>
          <p:cNvSpPr/>
          <p:nvPr/>
        </p:nvSpPr>
        <p:spPr>
          <a:xfrm>
            <a:off x="2459160" y="5280120"/>
            <a:ext cx="208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÷b÷c=a÷c÷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8"/>
          <p:cNvSpPr/>
          <p:nvPr/>
        </p:nvSpPr>
        <p:spPr>
          <a:xfrm>
            <a:off x="5551200" y="2548080"/>
            <a:ext cx="11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×6=6×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59"/>
          <p:cNvSpPr/>
          <p:nvPr/>
        </p:nvSpPr>
        <p:spPr>
          <a:xfrm>
            <a:off x="5665680" y="3054240"/>
            <a:ext cx="24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37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×25×4=37×( 25×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60"/>
          <p:cNvSpPr/>
          <p:nvPr/>
        </p:nvSpPr>
        <p:spPr>
          <a:xfrm>
            <a:off x="5598000" y="354816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24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×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36+76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×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36=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(24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+76)×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61"/>
          <p:cNvSpPr/>
          <p:nvPr/>
        </p:nvSpPr>
        <p:spPr>
          <a:xfrm>
            <a:off x="5451840" y="1592280"/>
            <a:ext cx="11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+5=5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62"/>
          <p:cNvSpPr/>
          <p:nvPr/>
        </p:nvSpPr>
        <p:spPr>
          <a:xfrm>
            <a:off x="5441040" y="208764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37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+46+23=46+(37+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3"/>
          <p:cNvSpPr/>
          <p:nvPr/>
        </p:nvSpPr>
        <p:spPr>
          <a:xfrm>
            <a:off x="5438160" y="395748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72-9-21=72-(9+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64"/>
          <p:cNvSpPr/>
          <p:nvPr/>
        </p:nvSpPr>
        <p:spPr>
          <a:xfrm>
            <a:off x="5438880" y="444672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75-39-25=75-25-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65"/>
          <p:cNvSpPr/>
          <p:nvPr/>
        </p:nvSpPr>
        <p:spPr>
          <a:xfrm>
            <a:off x="5670000" y="490860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210÷6÷5=210÷ (6×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66"/>
          <p:cNvSpPr/>
          <p:nvPr/>
        </p:nvSpPr>
        <p:spPr>
          <a:xfrm>
            <a:off x="5672160" y="537228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210÷15÷7=210÷7÷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Text Box 4"/>
          <p:cNvSpPr/>
          <p:nvPr/>
        </p:nvSpPr>
        <p:spPr>
          <a:xfrm>
            <a:off x="611280" y="333360"/>
            <a:ext cx="799308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填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    ×     -     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.9÷100×4=0.69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7.2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÷6=37.2÷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.5×        =9.5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1×0.1+0.1÷0.1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Object 5"/>
              <p:cNvSpPr txBox="1"/>
              <p:nvPr/>
            </p:nvSpPr>
            <p:spPr>
              <a:xfrm>
                <a:off x="3046320" y="1125360"/>
                <a:ext cx="44604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2109960" y="1122480"/>
                <a:ext cx="446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Object 7"/>
              <p:cNvSpPr txBox="1"/>
              <p:nvPr/>
            </p:nvSpPr>
            <p:spPr>
              <a:xfrm>
                <a:off x="4917960" y="1125360"/>
                <a:ext cx="44604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Object 8"/>
              <p:cNvSpPr txBox="1"/>
              <p:nvPr/>
            </p:nvSpPr>
            <p:spPr>
              <a:xfrm>
                <a:off x="4125960" y="1125360"/>
                <a:ext cx="44604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Object 9"/>
              <p:cNvSpPr txBox="1"/>
              <p:nvPr/>
            </p:nvSpPr>
            <p:spPr>
              <a:xfrm>
                <a:off x="3139920" y="4290840"/>
                <a:ext cx="92736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11"/>
              <p:cNvSpPr txBox="1"/>
              <p:nvPr/>
            </p:nvSpPr>
            <p:spPr>
              <a:xfrm>
                <a:off x="6573960" y="1125360"/>
                <a:ext cx="44604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5" name="Text Box 12"/>
          <p:cNvSpPr/>
          <p:nvPr/>
        </p:nvSpPr>
        <p:spPr>
          <a:xfrm>
            <a:off x="6946920" y="24922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4210200" y="35193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6083280" y="4527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5"/>
          <p:cNvSpPr/>
          <p:nvPr/>
        </p:nvSpPr>
        <p:spPr>
          <a:xfrm>
            <a:off x="6588000" y="560700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Text Box 4"/>
          <p:cNvSpPr/>
          <p:nvPr/>
        </p:nvSpPr>
        <p:spPr>
          <a:xfrm>
            <a:off x="682560" y="115920"/>
            <a:ext cx="8353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计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5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［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［（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×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5"/>
              <p:cNvSpPr txBox="1"/>
              <p:nvPr/>
            </p:nvSpPr>
            <p:spPr>
              <a:xfrm>
                <a:off x="3635280" y="985680"/>
                <a:ext cx="44604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5637240" y="1015920"/>
                <a:ext cx="44604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7"/>
              <p:cNvSpPr txBox="1"/>
              <p:nvPr/>
            </p:nvSpPr>
            <p:spPr>
              <a:xfrm>
                <a:off x="6012000" y="2079720"/>
                <a:ext cx="65088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8"/>
              <p:cNvSpPr txBox="1"/>
              <p:nvPr/>
            </p:nvSpPr>
            <p:spPr>
              <a:xfrm>
                <a:off x="4572000" y="2087640"/>
                <a:ext cx="44604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9"/>
              <p:cNvSpPr txBox="1"/>
              <p:nvPr/>
            </p:nvSpPr>
            <p:spPr>
              <a:xfrm>
                <a:off x="3706920" y="2087640"/>
                <a:ext cx="44604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0"/>
              <p:cNvSpPr txBox="1"/>
              <p:nvPr/>
            </p:nvSpPr>
            <p:spPr>
              <a:xfrm>
                <a:off x="1979640" y="2087640"/>
                <a:ext cx="44604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6" name="Text Box 12"/>
          <p:cNvSpPr/>
          <p:nvPr/>
        </p:nvSpPr>
        <p:spPr>
          <a:xfrm>
            <a:off x="324000" y="335772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21"/>
          <p:cNvGrpSpPr/>
          <p:nvPr/>
        </p:nvGrpSpPr>
        <p:grpSpPr>
          <a:xfrm>
            <a:off x="2411280" y="3213000"/>
            <a:ext cx="5040360" cy="3486240"/>
            <a:chOff x="2411280" y="3213000"/>
            <a:chExt cx="5040360" cy="3486240"/>
          </a:xfrm>
        </p:grpSpPr>
        <p:sp>
          <p:nvSpPr>
            <p:cNvPr id="1118" name="Text Box 13"/>
            <p:cNvSpPr/>
            <p:nvPr/>
          </p:nvSpPr>
          <p:spPr>
            <a:xfrm>
              <a:off x="2411280" y="3492360"/>
              <a:ext cx="504036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÷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［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×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-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=35÷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［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×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35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÷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5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9" name="Object 14"/>
                <p:cNvSpPr txBox="1"/>
                <p:nvPr/>
              </p:nvSpPr>
              <p:spPr>
                <a:xfrm>
                  <a:off x="3924360" y="3213000"/>
                  <a:ext cx="4143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0" name="Object 15"/>
                <p:cNvSpPr txBox="1"/>
                <p:nvPr/>
              </p:nvSpPr>
              <p:spPr>
                <a:xfrm>
                  <a:off x="5925960" y="3219480"/>
                  <a:ext cx="4143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1" name="Object 17"/>
                <p:cNvSpPr txBox="1"/>
                <p:nvPr/>
              </p:nvSpPr>
              <p:spPr>
                <a:xfrm>
                  <a:off x="4211640" y="4005360"/>
                  <a:ext cx="4143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Object 18"/>
                <p:cNvSpPr txBox="1"/>
                <p:nvPr/>
              </p:nvSpPr>
              <p:spPr>
                <a:xfrm>
                  <a:off x="5219640" y="4005360"/>
                  <a:ext cx="4143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3" name="Object 19"/>
                <p:cNvSpPr txBox="1"/>
                <p:nvPr/>
              </p:nvSpPr>
              <p:spPr>
                <a:xfrm>
                  <a:off x="3708360" y="4811760"/>
                  <a:ext cx="4143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4"/>
          <p:cNvSpPr/>
          <p:nvPr/>
        </p:nvSpPr>
        <p:spPr>
          <a:xfrm>
            <a:off x="539640" y="838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6"/>
          <p:cNvGrpSpPr/>
          <p:nvPr/>
        </p:nvGrpSpPr>
        <p:grpSpPr>
          <a:xfrm>
            <a:off x="2700360" y="1216080"/>
            <a:ext cx="6048360" cy="4518000"/>
            <a:chOff x="2700360" y="1216080"/>
            <a:chExt cx="6048360" cy="4518000"/>
          </a:xfrm>
        </p:grpSpPr>
        <p:sp>
          <p:nvSpPr>
            <p:cNvPr id="1126" name="Text Box 5"/>
            <p:cNvSpPr/>
            <p:nvPr/>
          </p:nvSpPr>
          <p:spPr>
            <a:xfrm>
              <a:off x="2700360" y="1270080"/>
              <a:ext cx="6048360" cy="42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［（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×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=    -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［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×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   -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7" name="Object 6"/>
                <p:cNvSpPr txBox="1"/>
                <p:nvPr/>
              </p:nvSpPr>
              <p:spPr>
                <a:xfrm>
                  <a:off x="6632640" y="1216080"/>
                  <a:ext cx="60336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8" name="Object 7"/>
                <p:cNvSpPr txBox="1"/>
                <p:nvPr/>
              </p:nvSpPr>
              <p:spPr>
                <a:xfrm>
                  <a:off x="5427720" y="1216080"/>
                  <a:ext cx="41256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9" name="Object 8"/>
                <p:cNvSpPr txBox="1"/>
                <p:nvPr/>
              </p:nvSpPr>
              <p:spPr>
                <a:xfrm>
                  <a:off x="4687920" y="1216080"/>
                  <a:ext cx="41256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0" name="Object 9"/>
                <p:cNvSpPr txBox="1"/>
                <p:nvPr/>
              </p:nvSpPr>
              <p:spPr>
                <a:xfrm>
                  <a:off x="3132000" y="1216080"/>
                  <a:ext cx="41292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1" name="Object 10"/>
                <p:cNvSpPr txBox="1"/>
                <p:nvPr/>
              </p:nvSpPr>
              <p:spPr>
                <a:xfrm>
                  <a:off x="3132000" y="2368440"/>
                  <a:ext cx="41292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2" name="Object 11"/>
                <p:cNvSpPr txBox="1"/>
                <p:nvPr/>
              </p:nvSpPr>
              <p:spPr>
                <a:xfrm>
                  <a:off x="4067280" y="2349360"/>
                  <a:ext cx="63504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3" name="Object 12"/>
                <p:cNvSpPr txBox="1"/>
                <p:nvPr/>
              </p:nvSpPr>
              <p:spPr>
                <a:xfrm>
                  <a:off x="4976640" y="2349360"/>
                  <a:ext cx="60336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3132000" y="3430440"/>
                  <a:ext cx="41292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5" name="Object 14"/>
                <p:cNvSpPr txBox="1"/>
                <p:nvPr/>
              </p:nvSpPr>
              <p:spPr>
                <a:xfrm>
                  <a:off x="3708360" y="3449520"/>
                  <a:ext cx="41292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6" name="Object 15"/>
                <p:cNvSpPr txBox="1"/>
                <p:nvPr/>
              </p:nvSpPr>
              <p:spPr>
                <a:xfrm>
                  <a:off x="3132000" y="4529160"/>
                  <a:ext cx="41292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3"/>
          <p:cNvSpPr/>
          <p:nvPr/>
        </p:nvSpPr>
        <p:spPr>
          <a:xfrm>
            <a:off x="685800" y="1600200"/>
            <a:ext cx="32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87+2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4"/>
          <p:cNvSpPr/>
          <p:nvPr/>
        </p:nvSpPr>
        <p:spPr>
          <a:xfrm>
            <a:off x="870120" y="285264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87+300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5"/>
          <p:cNvSpPr/>
          <p:nvPr/>
        </p:nvSpPr>
        <p:spPr>
          <a:xfrm>
            <a:off x="870120" y="3381480"/>
            <a:ext cx="21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8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870120" y="3860640"/>
            <a:ext cx="14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4952880" y="1600200"/>
            <a:ext cx="36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858-3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8"/>
          <p:cNvSpPr/>
          <p:nvPr/>
        </p:nvSpPr>
        <p:spPr>
          <a:xfrm>
            <a:off x="5102280" y="2822400"/>
            <a:ext cx="37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58-400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5102280" y="333072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58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10"/>
          <p:cNvSpPr/>
          <p:nvPr/>
        </p:nvSpPr>
        <p:spPr>
          <a:xfrm>
            <a:off x="5102280" y="386064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2"/>
          <p:cNvSpPr/>
          <p:nvPr/>
        </p:nvSpPr>
        <p:spPr>
          <a:xfrm>
            <a:off x="322200" y="476280"/>
            <a:ext cx="35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25×32×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3"/>
          <p:cNvSpPr/>
          <p:nvPr/>
        </p:nvSpPr>
        <p:spPr>
          <a:xfrm>
            <a:off x="689040" y="1050840"/>
            <a:ext cx="38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5×(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)×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4"/>
          <p:cNvSpPr/>
          <p:nvPr/>
        </p:nvSpPr>
        <p:spPr>
          <a:xfrm>
            <a:off x="689040" y="1647720"/>
            <a:ext cx="41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25×8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4×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5"/>
          <p:cNvSpPr/>
          <p:nvPr/>
        </p:nvSpPr>
        <p:spPr>
          <a:xfrm>
            <a:off x="689040" y="2214720"/>
            <a:ext cx="2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6"/>
          <p:cNvSpPr/>
          <p:nvPr/>
        </p:nvSpPr>
        <p:spPr>
          <a:xfrm>
            <a:off x="689040" y="2732040"/>
            <a:ext cx="20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7"/>
          <p:cNvSpPr/>
          <p:nvPr/>
        </p:nvSpPr>
        <p:spPr>
          <a:xfrm>
            <a:off x="2438280" y="35053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(1.25+1.25+1.25+1.25)×25×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8"/>
          <p:cNvSpPr/>
          <p:nvPr/>
        </p:nvSpPr>
        <p:spPr>
          <a:xfrm>
            <a:off x="3062160" y="4121280"/>
            <a:ext cx="36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25×4×25×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9"/>
          <p:cNvSpPr/>
          <p:nvPr/>
        </p:nvSpPr>
        <p:spPr>
          <a:xfrm>
            <a:off x="3062160" y="4649760"/>
            <a:ext cx="44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.25×8)×(25×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0"/>
          <p:cNvSpPr/>
          <p:nvPr/>
        </p:nvSpPr>
        <p:spPr>
          <a:xfrm>
            <a:off x="3062160" y="519120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×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1"/>
          <p:cNvSpPr/>
          <p:nvPr/>
        </p:nvSpPr>
        <p:spPr>
          <a:xfrm>
            <a:off x="3062160" y="5614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18:04Z</dcterms:created>
  <dc:creator/>
  <dc:description/>
  <dc:language>en-US</dc:language>
  <cp:lastModifiedBy/>
  <dcterms:modified xsi:type="dcterms:W3CDTF">2015-04-08T11:18:08Z</dcterms:modified>
  <cp:revision>1</cp:revision>
  <dc:subject/>
  <dc:title/>
</cp:coreProperties>
</file>