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28.xml" ContentType="application/vnd.openxmlformats-officedocument.theme+xml"/>
  <Override PartName="/ppt/theme/theme64.xml" ContentType="application/vnd.openxmlformats-officedocument.theme+xml"/>
  <Override PartName="/ppt/theme/theme29.xml" ContentType="application/vnd.openxmlformats-officedocument.theme+xml"/>
  <Override PartName="/ppt/theme/theme63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4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5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chimes.wav" ContentType="audio/x-wav"/>
  <Override PartName="/ppt/media/image8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80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0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</p:sldMasterIdLst>
  <p:sldIdLst>
    <p:sldId id="256" r:id="rId66"/>
    <p:sldId id="257" r:id="rId67"/>
    <p:sldId id="258" r:id="rId68"/>
    <p:sldId id="259" r:id="rId69"/>
    <p:sldId id="260" r:id="rId70"/>
    <p:sldId id="261" r:id="rId71"/>
    <p:sldId id="262" r:id="rId72"/>
    <p:sldId id="263" r:id="rId73"/>
    <p:sldId id="264" r:id="rId74"/>
    <p:sldId id="265" r:id="rId75"/>
    <p:sldId id="266" r:id="rId76"/>
    <p:sldId id="267" r:id="rId77"/>
    <p:sldId id="268" r:id="rId78"/>
    <p:sldId id="269" r:id="rId79"/>
    <p:sldId id="270" r:id="rId80"/>
    <p:sldId id="271" r:id="rId81"/>
    <p:sldId id="272" r:id="rId82"/>
    <p:sldId id="273" r:id="rId83"/>
    <p:sldId id="274" r:id="rId84"/>
    <p:sldId id="275" r:id="rId85"/>
    <p:sldId id="276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" Target="slides/slide1.xml"/><Relationship Id="rId67" Type="http://schemas.openxmlformats.org/officeDocument/2006/relationships/slide" Target="slides/slide2.xml"/><Relationship Id="rId68" Type="http://schemas.openxmlformats.org/officeDocument/2006/relationships/slide" Target="slides/slide3.xml"/><Relationship Id="rId69" Type="http://schemas.openxmlformats.org/officeDocument/2006/relationships/slide" Target="slides/slide4.xml"/><Relationship Id="rId70" Type="http://schemas.openxmlformats.org/officeDocument/2006/relationships/slide" Target="slides/slide5.xml"/><Relationship Id="rId71" Type="http://schemas.openxmlformats.org/officeDocument/2006/relationships/slide" Target="slides/slide6.xml"/><Relationship Id="rId72" Type="http://schemas.openxmlformats.org/officeDocument/2006/relationships/slide" Target="slides/slide7.xml"/><Relationship Id="rId73" Type="http://schemas.openxmlformats.org/officeDocument/2006/relationships/slide" Target="slides/slide8.xml"/><Relationship Id="rId74" Type="http://schemas.openxmlformats.org/officeDocument/2006/relationships/slide" Target="slides/slide9.xml"/><Relationship Id="rId75" Type="http://schemas.openxmlformats.org/officeDocument/2006/relationships/slide" Target="slides/slide10.xml"/><Relationship Id="rId76" Type="http://schemas.openxmlformats.org/officeDocument/2006/relationships/slide" Target="slides/slide11.xml"/><Relationship Id="rId77" Type="http://schemas.openxmlformats.org/officeDocument/2006/relationships/slide" Target="slides/slide12.xml"/><Relationship Id="rId78" Type="http://schemas.openxmlformats.org/officeDocument/2006/relationships/slide" Target="slides/slide13.xml"/><Relationship Id="rId79" Type="http://schemas.openxmlformats.org/officeDocument/2006/relationships/slide" Target="slides/slide14.xml"/><Relationship Id="rId80" Type="http://schemas.openxmlformats.org/officeDocument/2006/relationships/slide" Target="slides/slide15.xml"/><Relationship Id="rId81" Type="http://schemas.openxmlformats.org/officeDocument/2006/relationships/slide" Target="slides/slide16.xml"/><Relationship Id="rId82" Type="http://schemas.openxmlformats.org/officeDocument/2006/relationships/slide" Target="slides/slide17.xml"/><Relationship Id="rId83" Type="http://schemas.openxmlformats.org/officeDocument/2006/relationships/slide" Target="slides/slide18.xml"/><Relationship Id="rId84" Type="http://schemas.openxmlformats.org/officeDocument/2006/relationships/slide" Target="slides/slide19.xml"/><Relationship Id="rId85" Type="http://schemas.openxmlformats.org/officeDocument/2006/relationships/slide" Target="slides/slide20.xml"/><Relationship Id="rId86" Type="http://schemas.openxmlformats.org/officeDocument/2006/relationships/slide" Target="slides/slide21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D334-2DB0-4094-AB41-7BA4EED6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2E0B-AFF8-46D7-854D-349DECAE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C23069-3746-4522-9FA3-3438F60D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28367C-52EE-4903-9DD1-B7118485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378892-80C1-4B5E-B03C-A0E5D8A2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E2CBD6-2D0F-44CF-8D83-675C4BD2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597F7-AB24-4CEB-A70F-F863E090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916E92-1DF9-4BDE-9DFA-131BA0EC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20F82E-F002-44A9-918F-A0765821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28CB3E-A62B-43DE-A30E-D01E5423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847CEF-FE03-4DBB-A517-BD835495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3D8D98-518A-4B75-B595-3CE54F70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9A06-927A-4DCD-94F8-72E8E6FE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66E3B2-73BF-41A9-A219-78EB241E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7D3A1E-5B54-44B6-B755-1D729D31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274DE4-6BFC-43E2-B6DB-88B9AF71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E45DCE-1F51-4801-8160-2B66E493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A58D63-47A1-423E-A52A-29EA9E9F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914D0F-ED96-4AF2-8725-4C45D2A0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A5F43E-4180-4EE7-976C-6E83C1EF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D4E0A4-6D47-4DE8-85B4-51E876D3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8547ED-E0FE-4F7B-ABD7-EA2A9660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EAB766-93E6-4A42-99CD-4C1EA06E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9EF6-7490-400A-B663-5B340764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AF88D8-95F3-41DD-8B84-6DE5F1BB4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F72A8C-04E5-4148-8756-7629493E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16722C-B106-42B4-A43B-E752BCEB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FB588F-637E-444B-B805-7223EE0F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AA9A3E-2C82-4241-8D61-44CB7B58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1DC69A-DCBB-42F3-8BA0-EB1749D13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0CABB9-FE61-4DF3-B401-71808CF3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39EA8F-7B5D-4BD3-A7D4-9FA74ED1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ABE182C-2800-4D27-B257-AF1957E9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04B75D-4F5A-4A67-AA4F-DEC263FB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CC76D-52BD-4F06-9F08-617BC338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91AC0A-4DFD-45F7-88F4-B939D00B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0F25F3-CB30-4A6C-930F-A7114A79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41D9EE5-8FEE-4407-975E-0B4B212D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634B47-A41B-4AA3-B5F1-E727BE67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08383F-2E55-4C28-93FB-D4578AAF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A40A5A-DBB6-42A4-859F-475B3531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C2B663-1A7C-40D2-ABBB-BED6FCEA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55651D-8446-44B2-894F-C3569F5B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20D93E-94EA-4F59-BFC3-1DCD8B59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5422A3-B8A3-4CAD-B4B7-1CC9E138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19E3-EE1A-479E-9C17-F6E7BD583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A8F365-7A97-4240-B071-3157D49F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98FD1F-8CFA-4286-A101-5B4C067D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5B31CF-8FCF-4FC3-B2E1-D578975E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56BA57-D3BB-4ECE-8B29-747D62A9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B57D53-71F8-4482-9225-F711FCAF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836EDF5-63E2-46E9-BDC7-F3FAC62AB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3D885FB-30A6-46C0-B3EB-01A2A4D8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E337A7-30BF-4403-8E5B-250CBC80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AF571AC-0158-4357-9585-E3EC90E3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A8432B3-CA83-4E51-9A8C-75C5CA75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8555-8C7C-4122-B26E-865C835E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86764F2-4E8F-44AA-A1FE-CCC4B363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4BA68AA-BBF6-4AE9-A20A-80262A8D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F8DEDD1-94D3-426E-9DA9-A32994A9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A6FB415-83F7-4E87-81C5-5243275F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1190BB4-C751-469A-B8A7-782CB740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7389F97-C68B-4B78-9C0D-1BF02633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980F2DB-400F-447F-A17E-7B7EAA30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DBCDBEA-5328-4F49-BACB-07BD2F7A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E9FDAB7-E0BE-4CA8-B8D7-5331523D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EBE26DF-BC13-4DA5-92BB-5489E8FA4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FF73-279E-4F24-BB67-E4569CB5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6E3EFB2-F40E-44D8-A695-4DCA22CC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91E3A4E-A014-4BA0-9961-F5517961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DF2CEA0-1B8E-4E2B-9005-24F9312E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7039657-32FE-4EE1-8A40-1F756DFA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D9AAD41-B566-4F73-B8B8-A38176FE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4C1066E-6A6C-4E11-B199-876B61C3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CB9E204-4892-42CF-87C6-706A9ADE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2C1EA43-2ADD-4772-8CE2-A09BB658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8DCA851-A17B-4FF5-8233-3DFDDF3B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0F1742E-3307-44BC-B0BD-5329A471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D482-CAE2-404E-BC79-97B1028C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7BA9DCC-E6B1-4F69-92E9-B8B4117A2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51BA5A4-5B5D-40DB-866E-79CE9E9A8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F904014-E04D-4E59-BFA5-993998FD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9944272-6C4F-4315-9D49-0B7EB7E4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389D032-EEE6-4ABF-8989-FBCE951E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875FE66-50F5-49AF-9325-4ECA55CB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1E364EB-C9DB-4536-A38E-1756F0D4E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1549340-E22A-40A3-BB4C-6931A049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2DF98A9-6F3C-4A30-9C31-8F6224480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B7958FF-FCFA-44EE-8FAF-AC2FAB28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9EA9-7868-4CE9-ACB1-3D8EEA12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161D7E3-6E48-4B6A-BD0D-2A3B0C850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985C38B-E388-4F9B-B878-87CA4BA2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2ACF4C4-7584-48C5-AFD9-81066B10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05DA1A6-8DA6-4255-B58F-FECADFC5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B40152A-C994-44BC-BD5E-4F5448AD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9F5C1B5-BD22-4E72-AF16-DF079700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5EFB490-AC86-4AA3-AF7F-1C74D670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34F300E-1395-438B-8248-EB7BC806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4FFBFC2-0BD6-439A-ABE1-A2B5786E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689AA1F-6AD6-459F-A9A0-D609B773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2787-28F6-4E70-BEBC-F2996D49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FF54ACF-05C9-4462-A53A-417F1F45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34C7AF4-797A-4C43-95B6-F328B54B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C0598E3-4A89-4D38-B23E-150427C4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2B35FC9-B411-4E95-B95D-3A29E216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975CC60-35EA-40A4-B05B-6FC0C0FB8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F70CDEB-6EF4-4386-871C-1F800C15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B322B3F-63CB-48A9-B95C-3006DF0D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75F7876-53CB-4A44-9EDB-41A717D1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9195CA8-1686-49F7-9C32-77409D19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5087E79-93FD-428D-9A16-80E41D87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58C2-0E11-43B4-884D-9AA0CF48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06B4-72CF-4781-8812-E98EEAE2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6077E3A-A94A-4C1E-B5D7-5E7B98C0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7D43B6E-710B-4DD3-B589-46ED44A0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EE1B5A9-6504-4400-904B-40D5A9AA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05D610D-091A-408C-B62B-21B14846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10044DF-551E-4D48-8564-B5450F4C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1886FC8-AF4C-4624-841F-112BF87C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2B3D31E-1C0F-4EC8-A729-DBF61863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F9210AA-5FAC-4DBD-A708-D8990FC0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6472BC2-ED02-44CC-9F09-D9EDF010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96955E8-EC9C-4BA4-8764-6C7492AC3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EC58-F1DF-4DCA-BC8B-79443FF8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66886C8-7487-4E48-9C56-8B3760C91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460165E-6E1C-46B4-B4D7-58222903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EAC0A3F-2612-4D68-B7FB-11A7A508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166AFFE-F824-40B4-9A2B-636938BA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48309C1-93C2-4F04-B86C-F41F1217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E5CAC39-AEC2-46DD-BB1A-5DC75B2C2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6F726EC-E3E0-4181-BB68-4A0BDED0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1DAD559-C398-4DB2-8CCF-1BCA7EE4F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AF6870E-4803-48CE-BB22-38C088D2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C026D6B-8173-44AA-87B1-46CF6752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DB79-063A-4784-AA9F-6B9FA258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AC39F2E-4E25-477D-A5CC-A411A297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F4A3E41-3216-4D2B-910E-F72B923A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A24FA69-7EB8-415A-B60C-6C64B1F5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76D7698-8CD3-4868-A7C7-19942A2B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325AB17-FFC8-4A47-A914-875128FA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892FAF8-9066-4B08-843D-00E4689E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163F211-2DAF-4C0E-ADD7-814524F6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80BDF41-272F-4929-B403-526320E9A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B116424-2D47-48A9-BE4C-EB4E5AFB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05666DC-06EE-4CEB-B247-00F1423F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3473-DD3F-47A0-A8C6-36B0C6E1E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35F0C97-5896-465E-B477-B08E25B5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789F57E-B260-408D-882E-FE80A707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A7542F1-DB76-4BF4-AF14-880FE37D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E315CA3-2788-477C-86CB-3F2D6E56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1CB2F8C-912D-4E28-9F87-186B5060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5A1DBC0-D69B-4D1A-B498-1A0184EC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54B538D-ECE7-4351-8412-C3B16E65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58936A2-9ACE-4B1A-A539-E21DF833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D2B044E-6A32-4583-9C5D-1540652C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4E4ACD3-28C2-424D-8FBA-D933B9AD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345C-0CC1-416E-A76D-9A1E117E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28A02F7-6160-4CAC-9BCE-408D152C4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3383957-9BAA-4248-B65F-940412B7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7303BD6-C4BE-4D34-A49D-0EBF5B47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8A6ACD3-4467-416B-9B3F-012E04D9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1A7E6A3-714F-482A-9A74-A9A69462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33D5690-8054-43E2-9DA4-16502ACA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6F992A3-27BA-4E5C-B8A9-6639E40B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0C12E9B-2AB1-4F43-921F-7B23B32C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BA9D4DB-282B-4450-A831-1D7ACDA9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C1E1C12-A977-48E9-B235-FF33059E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33239-D099-408F-ABAB-98F52DFF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EE95AD6-0777-4B47-B4FB-8A11311C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36B6F3B-5957-4DDB-9C7B-812ED8AB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0305A9F-B9A6-44D0-93A2-E6178ED9C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802C5DB-CAF2-4BAB-9703-FDFB845B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9707D96-A570-4BAF-B6F2-561BE962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B715A6B-7E20-49FB-A516-22047757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7E0CB32-8AEC-4F56-9B9F-BF087A89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6DBDC60-C117-4A0E-B807-1CE145FA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C374FFA-9ABC-4DC1-A414-D1FFC272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A57AFCE-3A04-4F46-AF83-871B4CE4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09846-DA55-47D0-8464-4EABA1C4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703F97F-F4D9-440F-93F9-0E89DAB4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D3BF4B7-574B-4204-9AEF-AEBC0279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AC93F3E-A50A-4579-82F5-91C0DD41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DEDF108-57F2-46AB-BF95-9AB66F89F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EFA8C92-F87D-43B4-A888-B49BA342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1F58F71-0915-4D8B-A368-3C7293B8E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886984C-8B62-429A-8970-A399DB96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2A6FCAF-8750-4BCB-860A-014B6B42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F755397-5E39-4A4C-84F0-ECFCEC2D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B2E8E50-CF3B-4182-9C60-2C5FE9C3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EE1F9-5E88-48D1-AD50-93F72329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85F9A0D-0AD6-4092-97E4-334ACA19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727AC6C-73A8-4C0E-90DF-1CE8D883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BEFEA69-C5F4-4CD6-95A8-580AE1E5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CDF2FF3-57CC-4E69-ADD2-D104039E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5E8B15F-A03C-4CBD-B5B1-5737AE8A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C950E73-9520-4F6B-82C6-F731616E9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E135BFC-B9D7-4284-A1A4-52C74297C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C8C6A29-F19C-4EDD-BBA0-6F4145001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2385138-85CE-470E-9BDD-37162AC4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4D92AFF-A89A-4600-B149-F52E34D2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1D113-B759-4C81-9815-C67093224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BEDF325-B6E6-436B-AAAA-5FED2C2E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E4020FB-CFB0-4BD2-82B7-2AFF6673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F9BE30B-6DEB-4A98-95ED-67513F6E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B52F101-FF15-4955-ACF9-A0673BCE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A3F51AF-E89E-4CA7-9D5E-23508FF1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E062C67-A097-4B75-A5A7-AB3C57D6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E1DAAFC-A76D-4526-AA78-36295803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1C36784-AE11-465E-9D49-AB85F04F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BD53FD6-4F12-4364-8E52-13C656C1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2E82598-7888-4710-9E12-9907184E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CC016-9AD6-4FE2-898E-B21472031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8B0153C-4CCA-41A7-880F-4080CCF8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F56CD30-272A-45CA-B51D-FC9FD911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877B124-067B-4208-95FA-084020B6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DC1DB61-9A09-4324-89AE-B99C0278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4F10B6E-8B36-47AF-897E-DAFF2846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81856DB-4205-4AC1-9C87-07502001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D1460C0-8CD9-411C-A26E-C7283106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8BBADAE-E23F-4A37-8CA6-7BA40D08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897DB80-DBA9-43C6-AE1A-EF35418A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1CA4639-703E-43B3-98BA-6E247A18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F196-C20F-4FD3-AE6E-B4B50498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B7637-B0FC-4F8E-B6B7-D8ED6AA3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EEC5F9E-2C10-4041-82EC-8411CE77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7BAD25D-32DE-4A64-B8AE-EFCCBAD1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7B6BCEF-1C50-4118-88F4-B662876D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6F1C740-5F8E-4F5D-B6EE-36AA939B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AA1DD04-EEF0-463B-A940-B46DEF99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306EAA6-EF3D-475F-A829-363D9EA2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005C696-099A-458B-B217-E2240CBD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1A772C9-78EC-4D84-BEF1-06B840E4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47A19BF-3363-4905-83BE-C079E246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6254256-CAFA-4BFA-8770-62ACE388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D5B8F-279C-4AB6-B0D1-A3255FAC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FA68C79-C033-4B4C-B84C-220FD357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FE6E73E-B2A3-4DCA-818E-618182EA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0FD3ABE-9A5E-46D2-A0A0-1EA3DAFC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6B0A5A8-9611-4D19-9160-A8788F56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6301ED6-41AC-40B2-9569-3EFB368C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3FB7A9E-0C22-4964-90DE-165CEB82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9FA3E46-0AF2-4BCA-9001-F35ED29F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DF097CE-43F9-42E0-A289-3ACB3E25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1AE8D82-95F7-4A6A-A891-FEC1E6BF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D0932FE-EE2D-467B-9F56-AE7B108C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FFF44-793E-4A83-A2D0-1F2F2041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37F7194-3BF8-48A5-9360-95F1B037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5EEB661-B4DC-4C4D-A0BE-FC2CCBDA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5775911-B3E0-4975-8F6D-F8693E5B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9FF3468-6E48-4B10-A007-BF6B9192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BCEA299-F2F4-4B74-9F20-9970E88D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EBF1C34-D50A-4A9D-9C00-95E2C00B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CBCE6B8-C774-47BF-9DAB-5A0322D3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FF852E2-286E-489C-A9D2-358E3EA9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7490F96-3BA8-4832-98EE-78C445D2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AD0DF12-7F1B-43BF-B6A0-3BF7FBC7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22E73-4858-4210-A2B9-EABEB869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0CE01CA-13B2-4FFC-AC51-72340664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CC90879-51AA-4F58-A264-80018DD7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4C94EF4-A735-462D-9D51-F3B37A75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030FD61-D7A9-4D21-924E-0B703388B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CA496F1-6E6E-4FFC-9FC1-92A9B136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F4A37EC-AF7D-4CA8-BC3B-6549349C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89C78DA-529A-4766-8A01-D4CBD262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98D4565-605A-4FE4-98AB-2BEC92981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F7D62057-7C11-4A75-A9B5-1D1D371C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04C1136E-0EE7-4CA0-9903-5C68B60A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3FE16-2FF7-4F4C-B7A5-8C7B00DC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D8D6E27-9B60-4A7F-B7B1-23B61681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98365330-056D-4A13-BB1A-68B29C59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A90F017-C6DE-4E28-8465-56AC2E8D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823718E-F464-411E-8E20-FF1438C9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5A3B9EC-8087-457E-BD2E-DC9C7E18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454EEC83-BA91-4346-875D-CB8AF25A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3094000-E737-4DAE-BBBA-2125BFDF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D501E45E-54AB-4FBC-BD0E-5BDCD311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0B846BB-8546-458A-BA0C-326E0C4F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2FA27D9-1F37-4034-9217-6E3E0AF4D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969C1-7104-4C93-880E-B8F10527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7792924A-E17D-4561-B96B-77E562E4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1E9A304-B48E-4587-A2B3-FA8546C31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8CF4A961-60AA-4E53-B462-9B432FEB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E1BC69E-C62E-45A6-B64B-08C213CA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87A84B7-8450-4FC7-8F37-92452B05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09495B41-84DB-44AD-B94D-DE018AC0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632F755-3680-48CC-812A-68D706EB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ACF9CD59-B6C4-4035-B597-3FE78D56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9ED018F8-40B0-4123-8547-8F671192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1D1A4EBC-872F-4B07-9185-CCA9258F0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BECE7-7572-483C-85AA-D2B5DB98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396EC5D-5463-4339-9FA1-EB609D3C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A9A9411-E1AA-4D16-A409-1DAB73A2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9332845-3FCE-484B-9850-4BA9DF0A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7B44F5A-57E1-41FE-A0EE-830A9CD1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B9AC5C5-47A9-42AE-97F6-59B0FF7D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17E45F9-4E6A-4C12-B77B-DDB67686D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7FB696F-D2CB-4CD6-81DB-F80655CD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4F7AEFC-2CA7-4D31-BECB-795DD06B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74E31B78-8A8D-493E-97E6-B65549C7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B7D7647-2275-461E-90C7-56080E08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F70B3-F58F-4192-B707-8D2A5009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C6C7FCE7-0A46-4A86-9C07-35B1C557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A28E59EC-43EB-4A09-BBCF-9505BF89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4F38E9E-94CA-433A-AA49-4A74D830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0B73B14-E5B1-4100-9234-5E2705C9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D84F0C5-4DB9-4CF5-8BF6-5176EF54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A0D6D3D-F4C4-4D08-93C5-EB033300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06392C8-3B62-41A5-A64D-AAD92F40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8719A9F-A2E4-4CD5-B85E-6C4D9D96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B9CAB583-5F13-48BD-A34F-E2BC603A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1D65814-9F26-43FC-BE4E-8453C8B5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62779-060E-474F-AB2D-056BE44A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55EC795-A437-4DAE-BF2E-D03B7FF7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65AA39C-48E2-41E9-8B67-16C5BCFB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46F7FBB-9105-4F0E-98BC-C0A37306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BFCEFEE-466A-4253-859E-950AC817A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D6DB37F-D066-4A88-9839-F6E01A6E6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2895D5E-3FF7-4F05-A0AD-95679BE1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367A709-81BC-4DD0-9900-5C0604A0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5492089-1A6B-4331-BECC-F257803A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2F4A103-1487-4F2B-8ED0-301C9608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1F0C292-A40C-4416-902E-7C34BCFE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E57F6-43EE-4029-B5F8-1014FA1E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6F9299E-4D1E-4A39-BCD1-C06F77AE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491061B-C54B-44BF-9E80-78B62D0A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647D599-458C-4D20-83FF-CCE89B18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5B0B55A-0B44-4262-BC1F-49A85620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98F7210-9694-4DEA-B8C6-34EAA4E0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0FA38F1-5C9E-4FB7-A217-BA61FE002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8C63539-5017-4559-92E1-0DD2490A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8243246-CC69-4E57-9CAE-655405B6F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2961A7BF-232E-4CFB-B56F-EFC348B9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C73C998-FE18-4B53-8F6B-81931F7A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8CC5-FB9F-4E77-BECA-429FEF55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74F17-20D5-4F16-B224-A8210881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7978C95-B33B-4B41-91F3-B5D14F13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F14EE52-4B94-44FF-9220-31F98B19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3027A72-DD33-4F56-B60D-A489C3D7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53AE169-B0F2-440E-B5A0-FB9FBC8C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466C763-B129-424F-8A3C-60BCF3A4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71C6956-B4FC-4FFC-A795-DA35E8FF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9BCF093-1142-4B60-BD15-78FC49EB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31289D2-9670-41A2-8828-F41FE5C1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1ED71BA-C44E-48FF-9038-46513446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E603DFA-E3DA-40AF-BDDF-FD65E978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90CC3-C755-4752-AA5A-7C4699C3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B7C10B2-D44D-49A5-8E81-300F3E5E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9A548B2-AD23-434E-8295-9B5C3F98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BC69FB6-E8EA-4D85-9FF5-6B76D706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3560620-55E8-4241-AD74-9400B0D9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BFD0932-E313-4F24-B1F4-57086C55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A7F8051-4710-41F0-8567-CFA0F67C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3DE2DBB-F45E-488C-8708-4533A522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9758ACB-285C-49B7-BAAD-A7B629B7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A2D866E3-C93A-4B7E-949F-1739CA0E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F88E7FC-BC34-46F1-ADF6-B85D0C84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46B10-CEB1-4A73-BB27-F08CA9B4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5E15702-E5CF-468B-A257-AEE5B5729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DEDEACB-68FA-4EBE-B3F4-0E3D1143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2C21DB78-7701-4B8D-A336-52BA68A8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456D15D-4C56-4E95-ADB1-C1D532016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B94F517E-0E76-4B28-837D-0DCE21E3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20A2AC3-4577-499F-B4AB-0C5ED532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44AC5E1D-D508-412C-AE51-CBAC4D5E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9D7E775-3377-4919-B51F-C8E1264A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DDD05D5-AAC1-485C-ABF9-1C76D613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1A25BB9B-10D5-4819-B3CA-6304A9C9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6D42F-88A7-493D-84AC-0A00A482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F877901-C2B3-4CA0-9D18-043BFFF2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82B481EE-F805-4D73-8C29-799002F5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3299458D-C89A-408B-97E4-47010C21D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23F22F6-72B1-4A7C-9328-EF23E872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1779E48-58D1-4F40-8CCE-38A930CB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E1607568-1DE2-4182-86E3-00989E27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082BB2D-1AAA-4BF8-9DFB-0CC8F26A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35B75453-3E55-4F5C-827D-9F9AFE74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24CD0CF-2441-412B-AEDD-5086589F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85A5197-FB07-4A4E-B3C5-4A295646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06645-FF0B-48FC-B6CE-FCE90D85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19F4E5D-4A72-411B-A131-B604CF26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D1FC63BF-0A7A-4F8F-A4D7-BBA21350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78DFB6DB-E301-4A57-8D32-F01497E2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2DEC957-32C2-4BD7-A0AE-F5285223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A3E7D1A-4EA4-4607-A983-A5F89A978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59BE312-687D-4CB8-BFC4-AC32C7D2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ADA24AB-27DD-4B4B-8489-639864F8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201EE89-EB1C-4CB4-A396-566D15F1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A9C4F58D-0B8A-4385-BC57-D4BC794A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6EFBF1B-6CEC-4353-AA8B-7568A104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344D6-379A-4166-A769-E77C1AD1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62629E11-35C1-4DD6-AA0E-C2E0E00C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9CC28A11-CB2E-4735-A837-FD4465AD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22A0D31-D74B-4EE9-AD29-0F32E4DE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72F99C56-4DE0-4E37-8844-54600CDE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4EF72A2-6167-42F2-9CF1-ACA75B3B0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ED3B9C3-BDD7-4B6C-AEF0-879DA24F1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F9F8173A-C08E-4E30-809F-8819CE11B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CA04EAEB-1B25-4E47-96A6-970A14C9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791D3F8-E24F-4069-B393-9D7C6119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AF115DED-6CB1-4B05-AED1-54931B52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860A0-A131-4146-A467-1F46CE38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CC69EE59-38EF-4971-8638-35D14467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0430A9B4-131C-41A9-98B2-5367E23A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4CD2DA45-E701-42AB-92B7-1A6704FD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43099F8F-3845-4DFC-9AEB-F29AEC74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B9EBD7EA-A14E-47AA-B409-7B2C36EE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FEB9C7F4-DC92-472C-BB0F-76BCAC48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3CCAFA05-E2EA-40EB-8BA4-BC6C3177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915F0A88-9C2B-4B2E-AF58-1DE57D670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781FA82F-268C-40D6-ADFC-7D1308BD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DEBE9F19-1029-433B-9734-89D3832C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9443F-87F0-4183-8C7E-7A36A15C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0B2CB8F2-4FE2-46BA-8720-9B08D320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A1110BD2-4625-4E04-8C29-3AA74C45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099817DB-7A9F-427B-8497-2F0F4948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A30C23BD-6E17-4FBB-BF6D-C3997C85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4B378794-E2DA-40BD-A6CB-46F0E3AB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7B4F7F3E-4EB9-4D53-899F-A9776917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923D5971-CA00-4367-A7B5-EB84216D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C3C389B-27BC-4A35-90FA-E0746093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E3BBEF28-B426-4A79-8E25-2EA420AA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94B6C499-93D4-483E-B697-387826B3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C1C62-BCFF-4CC7-BA86-46C1F42B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78445D32-76EA-4F39-A938-F91D0D917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883D3E0C-B5B9-4309-A4E9-A13E05EFB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8EFA7862-9A41-4824-ABA1-C0467E67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0F796636-4054-479B-8942-928EFDE9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1D616216-D6F4-4618-BDDA-C7613C54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97E53329-4C76-4A89-B644-CA7594BF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D7F18B9E-49D9-4F9A-9388-AEED32F1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187144BB-EE89-44E0-9505-B6D2F920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959222C9-33AD-45DB-881C-B663BA8C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92103B22-97A8-4760-AE96-C7EEE048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B1AA8-C822-4714-BF47-145F1C3D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B3C2F292-CEA1-4140-BE60-38D2DFAD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3D249140-C088-43DE-8D04-023748D2E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79F7109-856F-43C7-842C-DA18574D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A40D7E8-35B2-40D5-AF31-78126F451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29F2A38C-B38C-42B2-9045-E5788682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A745DF8C-0A90-4169-8B3F-3BAFAC89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A93AE4D3-0612-471E-8F95-9C1C810D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9DB67E6D-3010-49B2-9838-73741D63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78219AF7-79F8-4F47-9AF1-7919B3FB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7B452C2-9EF1-46A7-82C4-817118B5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684E-F3CB-451E-90E0-B31E6B64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881AA-7AC1-4251-9DF5-11AD9CBD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48FC9E7C-E6AA-4A6E-A2EA-FBDB976A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DAAD5102-E3C1-4426-A697-75429CAB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501172F-7A86-426D-AAA6-E9C703BE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B3AE5C2-F118-4D83-8482-32E6E4B4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25ABBF18-3678-49D7-BA00-85F6F2C1F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80413442-B89C-4933-AA81-158761B2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5A191B6-545F-4FFF-BB92-ECD98937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1C507A9-98A4-42F1-98B7-E8BD0485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0DF7DAD-5B36-4A1D-A0BA-0FEE19A5C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4CBB1BD-FB8A-4481-A835-4FB5469C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8A62A-7AC1-4DAD-A51A-3AF09F13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7E53BCE7-3682-4262-8CB9-27BB9DD3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9B9588C8-D343-408D-BF71-32EB7E94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FA4DD021-D5BA-433A-B955-09BCB377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BFACDF24-28E7-4657-9610-5037656B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3489E8D-4D4A-4F6D-83DF-D54E0CE7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A5F87876-6648-4F14-BB02-124F173A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96A2A4E7-B43C-40E2-BF58-B2FF5DDE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0B21EBD-EA44-418D-9C1E-8DA8FA58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3A73C3E0-049F-49D0-B790-AF6DB7AB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D052943-29D5-44C3-BB33-857C04FE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A7B76-B130-4818-99D4-82AC37A0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E8A7A15-2F67-4E22-A735-B13E7715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946B38B-1EBD-4398-BDE2-3C023754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6186ADD-FD96-4F0B-BC99-FF41E181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6C3168D-034E-454E-ACE3-EB052DFF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9A29A3F-3036-4BF5-B232-8DD7A37C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DB0CF9CC-EF7C-490B-908D-9DAB4DAC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EF9B558-9155-4A90-8CD0-6856C547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788BF7D-1E7C-4D6F-9A37-AB4372F09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1343DC0-F10B-4ACC-B0C4-B2CA3086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3A8CD0CD-7E74-43D6-8877-A304A8EE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4B4FD-DE24-4676-B7F9-22CF378E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E182E5FD-9A6F-4470-BB30-1D5F4375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1CDB1C4-C147-40A8-9116-FF650A06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8021B968-3194-4518-9C05-A17C51F6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E705B5C-F10D-419F-BB0A-E7B5896E4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8266590-6A88-4FF5-BE23-B0C61E3E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74F0DDD0-9D95-4043-AB78-4B743454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594E418B-FD60-4608-BAE7-8F13E86D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048ECEBB-4D4F-4149-87F9-C0D1D996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77C70D41-5020-4EDD-A52B-26574180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3E2FA448-821F-467E-91EA-DCE2A0A6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BBE25-E80E-405D-8455-FF9459C8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8EE7AAB4-53F0-4E51-B848-8DCC316C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3685F2A-B6F0-4CBC-8AE6-14270C00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F7F5B42-12D4-4BE2-9D7A-5D527F9CA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4138447-5F7E-45DD-9CC2-F34ECB8E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693E3756-6CF0-4868-A57E-85FF8AB3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5F52735-63E4-46DE-95F0-BEBE83A7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A9BF1CE9-E995-4177-B9E3-91139A6F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9634DAD7-8DF8-4663-A964-2982AAFA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451EEA21-BB5E-4ADE-90F6-C72E04C1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3E6C950-6067-4B58-AE96-E0572E11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DFDDA-1A29-436E-9B3C-047288AC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DA8186E-4EE0-4B63-A6ED-DA41BBAC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CD147B4-5358-4C1E-884D-E6EFF78F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4E4A312-D230-4695-B86C-E103D16C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3CA744DC-9A97-4592-8C0B-171EB5DE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8FDE19FE-62C8-4FC9-9F27-CF32D5BE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BAD73656-9098-4397-8E97-11492DEC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9E94E0FF-0BFE-48A5-9CB3-1A725897F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84E77ACE-57E6-46ED-85A8-2A52090B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F56B16A-6C65-4D88-BF63-CBEE02AF7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B8480DC7-CCBF-4D02-A2A7-D4A0F169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25F4B-6050-4583-9E96-33C842C6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0416F945-619A-499A-A17D-5F6DE3E5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C24B33E6-2AF1-44B4-B363-7904A40A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19C66B2A-1914-44B9-B425-BE905D75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A01C0CC-076B-4D24-840B-13DE0027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9B4AE73-03CC-463B-8182-345506804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B318515-998D-4641-9A2C-9CFA50F7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4355731-6DA4-4057-9B99-3E97B16C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C99E670-EAC7-4212-8798-71DE20AC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DEA4440-BAB9-403C-BDFA-EE176CED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B1E742B-492C-494A-8C70-A14543CE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734D9-6F18-4091-89FC-F12A6D9C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4D80AD7-8F2D-4B35-8FCE-7CBAAFBF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E35F861-BE22-4E19-9B31-4863F1DA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8283DF3-BC1E-4A99-A439-FA92CF0D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BAC4BFC-E7A2-43A8-9399-4E83D02C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428CCBFC-45F4-4B0B-ABEC-965F3DBB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673CB9D8-7B04-4157-B158-5C48F62B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F7A20C8-715E-4D7C-A3A5-5D8B544B0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DF062F99-2F1B-4249-AECA-85BECED3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E9C7C2E-6698-4F53-8331-F87ABC25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A417FBBE-F68E-4882-B840-17201BD9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D56E2-4375-45F3-B275-72766DB3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BCAEB3FB-0D78-430B-B4DD-E4E67882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C700D1A4-3C61-4A9A-9E33-44F378EC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A1B63824-3E1F-41E9-B6BA-A0275812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BE7A0A2E-C3AD-48CB-8A55-1415C8C2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1EE3D92-1EAD-4F85-A101-5D7873E1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E5A7C62F-A104-4E91-A6B3-1B201E83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A594AD99-7F64-4FAE-AA40-7F39570E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46824FC1-6B1E-4A6D-9234-CF4CED42B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50AE10D3-CC6E-4A17-A5D9-8B9E6E8F6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E292E6C6-BF60-4607-9B7B-D2644FF0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77DAB-813F-425F-AF9A-635ACC46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3C00177-3140-4A9F-AE33-D3AF920E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91C0FFB-A933-48C2-A086-C7D9453B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E61C2842-0E3F-4403-BCF5-427C56C7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C0131A9-2ECD-4CF9-8F6E-99042EAE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E90FBE97-B00D-4774-8C5B-D972902F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E86B1A4E-70F3-4F26-9653-9466A885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5A35DF9B-7BA2-43EF-95B4-2016263B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ACEB324E-D973-4A4B-AE46-E27B2C45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B911F790-0158-493A-8623-8A916FC3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251DB46B-D5DD-4DB8-B020-CB6F3A74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B3B1-81F9-4BC3-B220-DF9AACAB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CD46F-C2C0-47AA-9580-69389A35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8675FC8A-B2C6-4CD7-B144-74D83CB7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C284C1BE-B36E-42A8-AC8F-66066EB7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3100F3A0-DCD9-4F91-B093-B95AEE41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DA5CAE1D-9696-4774-ABAE-F4BD54AF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4F6AA348-9CDE-491E-9980-66CD5DD7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C647337C-8CD7-4832-9EA0-0C1CA1FF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FDB3BCAF-C06E-4154-942B-2267B1BC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22DA6F3E-217D-4F92-99A2-CD1D17D0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4E2247FD-6F73-4C61-9A37-544AC07BB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A3D48DF9-F8B4-4DF4-87A2-4AD9786E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029CC-C667-4E48-9B38-85C36CB9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7908296E-B051-430F-8FD4-401BBD76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2273E1E8-2354-419B-9B1C-2432776C9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81E8E9EA-9BAD-49DC-AE07-B20091B8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0C21BC0E-3698-4209-B3F6-ED45E134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E1A472B0-BBDC-4810-9833-D220504B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17424E7-3265-4A77-809D-E6E38606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8220B21E-D98E-48F7-910A-2C9F1D00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9C5A25A-1288-4261-A1A9-4518B4E4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43FED35F-A812-47D5-B29D-C15BA4CA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33AF4EB3-2C9F-41F5-9A16-89E9785C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29329-61E5-4430-8C02-41805E8E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6F8554E5-16F9-4898-A3C1-E40A1D75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5DCEFBD0-8535-43EA-9745-74446969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A440731F-A915-4CDE-BE1B-69D4A9F4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7A459A83-C85B-43A3-90C5-02EDE1DE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CC4F48C-ED6F-4B40-A7B7-1F277A75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FDDADA2B-61F5-4A51-BBF7-75B77B51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B72BB279-D797-48ED-BFB3-77E67B82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9428677B-673F-4912-94E7-6FCF8421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1FA54141-822D-4738-BFE1-A77941FC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FE1C5E6C-E652-49E2-B512-A59B93605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66090-457A-49AC-B979-A2A5DCF3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DF386E59-E301-4900-8ECA-87448D6A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DFC98225-20DD-443D-B4BA-6F327D10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75451F77-B7E6-4787-80C7-A79C2BBC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58792C82-82D3-46C4-A33B-E64ED615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D3F7FE95-AF52-4828-8AA6-BDCD57132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FD57C56E-DF87-41CE-9042-CAEB75F2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C4DA7333-390E-4AFA-BBCB-54FD2327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382F14EB-B855-4E1C-A0B3-51032013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48BE2E9-C478-471C-A5A8-0690A9B4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81493CBA-CD9D-480F-884C-7C3C93EE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C7794-8161-494E-96A7-BBD4FF6A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7D357BAB-5F89-405A-8DF7-38F299BD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3A554FE-C77A-4C5C-BCD7-E094AF84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0A437EEF-57C2-410E-B866-ECB51454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190A4483-6D5C-4DCC-8C28-F2238E86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790B16BC-904E-4AE3-9873-275FDEDB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6DE847E0-FA98-47FC-88B8-3D98E8F9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33240421-ED39-4559-A149-8E16361D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03AF329A-B05C-4CED-8393-904FCED4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C6827397-0CF0-4380-948B-CE2084CA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B0AD2724-C640-461C-A9D3-3F3F0DCD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8001C-136B-4E3F-9283-9645A3E7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6441D8C8-482D-43FF-AA64-C8612E88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AF94294-3887-45DC-813F-70294F61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7856C474-66AD-46AC-87A5-14B1150B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AE330CE4-055C-4FE8-8460-0E7FF870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6E8F40DF-4C82-4F0B-9D13-E14CA492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66E3B8F-FCE6-449E-A0B8-F7350357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45DF24D7-21A1-45D8-99BF-F2E4E4C0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B3F4A70-5BBE-468E-886C-71954D38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A4BE925D-42C9-4307-AB06-FD5EBF10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021B104D-F380-4DD7-953F-D3037D671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A71D5-FFC2-4B14-B597-073F6740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E2CBEAD0-D1BC-4E6D-BE90-37A9A0FA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B4B5815-CE2D-4466-9850-7EAA88FA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9D1AE47D-1C25-4FBF-98CC-3A5592BD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A2EDFCC2-5FBD-46A8-83A6-3A4EF427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363F51E-7F9F-4CB5-A584-FACB2C6E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1FE50080-42D0-46FD-A52D-D390DD6A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1CA86E11-EF9C-4143-8AFE-9FDE64C0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AF07898-AD75-4E3A-A85C-A84927460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F14BEFBD-684A-4A9C-B2A0-11118E22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BAB71FA-611C-4DAA-9BD6-0FBCA5BA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C7B61-9EBD-47C9-AB18-C8BE307B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3041312A-AED3-42DD-BA7E-B90EBB88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58D01AC-B720-48AC-BB97-6F713A4D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D1C5A30B-2857-44F3-8A34-5B089EF5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2B295385-FE00-45D3-BE6C-1E56EEB8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6A73B611-2042-4C47-AFAF-F623CC12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74FB5C79-1032-4F00-991C-3EB37E80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BACBF91D-A47B-4B9A-823B-C2BD3794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D19BBD33-8572-486E-82EA-9FB036A5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F2CD4ADD-4B3C-410E-BBE3-07201005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3F9482A-C7DC-4557-B84B-19F28C91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448B5-4B00-4A5E-8F34-1D23B5E6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4947632D-96CE-4187-8BFF-4E3F90B1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9D4F1103-CE4A-464B-BC8A-6BCC165B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F70B6074-07A4-45F1-8E8A-BA862A6C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80359F64-AF11-45BA-AC87-512AE883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FAA38635-7216-443E-914E-89A77CE48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5EC80BB6-FDBC-4C42-BA54-810B49EA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D6701AD4-551B-4CC4-9614-9F82496A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37197D6-0CBC-4540-B2C7-EF5249FA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F8D42FB3-C907-4B9D-B33E-0CBF18DC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440C0CBB-7C02-4CF8-B1E1-86053098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98FAF-A57E-451D-9175-1159817B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414144F-44CD-4404-8DA1-191C7FE1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F7295A67-FA7C-48DD-962B-50F3EF3C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529BC660-3C14-414E-8518-D8D368AA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019782F8-25A2-4ED5-B4DA-B0104F5E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C445C7DB-D398-4CF8-84C7-9E8D94F2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11D15F63-4508-4FA4-BC41-EC042E134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F0918A75-F89B-426A-8ED6-2D13F9AD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0FF5DF10-F4D3-4E63-A8AF-014A361DF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02D247FF-1269-4A59-ADB4-60B36D73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DDD4EDC2-1D1B-44F7-8ABC-67961EA3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9148-522A-4A14-948B-A57E2375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02504-3C26-42EF-8982-698218B3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AFD1E6C7-ABAF-4FBE-AACC-B26F031A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AFEB8563-F398-440C-9721-13D646CA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96C3E046-0D52-4EA9-BB78-9A7CCFBA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D461B326-CFBA-49CB-A408-15CC2DDE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F3BDCD0C-10D1-4F11-9131-9E717D19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9BBF3207-0BAF-46DD-B388-B7722EE2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0585736C-5607-4A52-B048-5C1E181A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162336C2-F57A-4C7E-B606-974C5D31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AB1A4A6D-44F7-4EEF-AAE7-2F3F63BB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1A8AC49-E9EA-48A3-BF8E-4FF2BBA2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2E63F-5A4B-46BB-8C1E-8D8931822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F60DB50-0AD4-42AA-BF35-BD35970C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0FB72E3B-0C35-446A-ABF5-F2605BCF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A6AE68DD-6C03-43DE-96D3-9F244334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D4644160-1E8C-40C8-8D91-B520228C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8C77E1B-0817-4C01-97DB-2603C7F9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0DC3A820-07CD-4856-A149-3B019941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34EAD94-012D-4210-9E80-D7DA4B49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FC1E22A2-6290-4975-BBA3-7EE9368E0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3572A4FD-CE6F-4BA6-8927-C993D7C2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C8E2692D-C9A7-4944-89CB-38978BEF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3CD6B-126D-4429-93E2-BB2704BE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7946402-0FDC-4D57-8774-3855CFDB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844367EF-3214-443C-8A73-DB9CA1DF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AAAD7A5A-AEC3-4A98-9C51-A990431A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3B0CB043-6063-4327-971F-BCC5F474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CF5D8F2-613E-420A-B176-80C261CE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33A11195-03A1-4276-9442-611DEB5D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A12421A0-623B-4C4E-8133-BA340721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1EFAEC6A-F4B1-423F-8312-434A1A5F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45BA007-B7B3-4263-B2A8-6B17E238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9859F7F-A242-447C-B10A-D25F6CED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E05E8-0F2E-4B87-96AC-A5A249E5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87223578-73B0-4047-A292-DB0BE71D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071B419-8B9D-4337-83CD-E3F332FE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90C40755-BF44-44D8-8E1C-CACD8EC7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A2B67E4-52A5-4FB2-BBCF-0FA86929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F09A902C-65DB-4F8D-8329-A3AD6228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DC1F6C78-70FA-4044-9CD0-6EA36AAD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A60F8FC6-A1D6-4B44-8B80-6C65B76D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A3B1F81-5F16-49A8-8008-76D5B056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CC64F2EF-A22A-46AF-9061-5EA4A668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D176DEFF-9480-4CFA-AD91-9E5DE9FA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8ABAA-EA67-4528-8419-BC90E735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F0EC33A1-8509-4964-A38F-A7D7C36C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987E873-7628-412B-906A-5D6BE96C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7EDA108D-4BE0-4643-8E64-4367B808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1704D9A-6A1F-4FB9-86E5-BAB43618C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6655BA6-0978-4210-ACD0-746E3CE8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3792887E-0427-47FF-B96B-6AE39DE9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B8C3EF2D-E6FA-4A93-AE80-A3685053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B0C67EF-7A34-49F2-A07F-F9019A71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75BB26B-695A-4B73-9989-428995E4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1F033F1A-76E1-47A1-AF9D-D496C896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50828-9DBF-46BB-8CDC-4052D544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5FBB8BA-03A3-46A2-9526-340BBAD5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0E1CEF39-D672-4719-B2B8-BE42D6BA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D6A90C1-4AA7-4F86-ADF1-3EE11322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8861DAB-1B8F-4B44-BB93-55B7B127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69FB83B-2078-4845-B863-0AAAE7E5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D7DF84E5-E3E1-4A9F-A8A5-5690A2223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06F66260-FB47-44DE-83BF-E543BAF3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B7A5BD9F-67C7-44DF-8E17-F761E5B3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3C698F86-DB42-4037-8D32-651A4B30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80296B00-8786-4F63-BA5F-39CCB30E2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A885BC-2A1D-4EF6-ACF5-117A8C35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6198DB2-A6BB-4806-984F-4097963C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DDBB7F6-DCFE-4EDB-8983-8334BB88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86EFEB34-5E05-461F-9B15-6867DF6C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3CDCF09-3A2A-4AAE-AA9C-57EEFA3A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9D81E17-7BD8-4581-BA41-FEFC338C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097372E-A834-4887-9A49-32675BDF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CAE61E22-C120-4A5A-A9E3-D19CE2F2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F6E7A618-77CB-49E6-8D58-79FC29F0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2249876-BF7E-4A9D-8044-1FC6A91F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D485F-B68B-4B89-A6F3-15CC4125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5B9AC-2711-45E8-87C7-08650D5B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C71D0-23F3-4EE5-A143-02341403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4DEB-3B67-4917-A323-09C7EEEA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4ABD9-890A-4B80-9F15-985EB40B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B5162-C3C8-43E5-B7DD-A5EE3EAB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C48EB-99D1-4C4F-8305-38AB01CD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EE0B1-80C1-446E-A3C1-C689AD94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B7C10-79FF-4058-9542-8212BF82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FC98D7-A538-448E-AD6D-32240D74953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4CEFBB-AC91-494D-9FB7-2F271773681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E5720B-4567-4FAD-A65E-95BE5DBFD0D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0578BC-C74A-4986-88CB-813B180CA2E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96C1E3-0D1F-454D-963D-8146902EA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2A70-E725-4AB3-8877-189665CF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F49F0D-CD72-40F6-8EC0-AAC69706056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03374D-0748-4C16-BC9A-289FFD01082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71FDCC-D203-47F9-B3BC-D32688C2FD7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D5114D-2DD4-4323-89DB-4F61C0813C2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D4BE83-AA21-480B-821A-A1FBA73F214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0CB5CC-5E56-428A-BB60-BFED1525099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93DE99-9B9A-4A1D-9BB1-3960DB1807A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455B3E-A3BB-4580-B950-48180D72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BCDF08-905E-4B7B-B7F2-F32239CA3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2CF003-1161-423C-8737-6F6C5BA0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89.xml"/><Relationship Id="rId4" Type="http://schemas.openxmlformats.org/officeDocument/2006/relationships/slideLayout" Target="../slideLayouts/slideLayout590.xml"/><Relationship Id="rId5" Type="http://schemas.openxmlformats.org/officeDocument/2006/relationships/slideLayout" Target="../slideLayouts/slideLayout591.xml"/><Relationship Id="rId6" Type="http://schemas.openxmlformats.org/officeDocument/2006/relationships/slideLayout" Target="../slideLayouts/slideLayout592.xml"/><Relationship Id="rId7" Type="http://schemas.openxmlformats.org/officeDocument/2006/relationships/slideLayout" Target="../slideLayouts/slideLayout593.xml"/><Relationship Id="rId8" Type="http://schemas.openxmlformats.org/officeDocument/2006/relationships/slideLayout" Target="../slideLayouts/slideLayout594.xml"/><Relationship Id="rId9" Type="http://schemas.openxmlformats.org/officeDocument/2006/relationships/slideLayout" Target="../slideLayouts/slideLayout595.xml"/><Relationship Id="rId10" Type="http://schemas.openxmlformats.org/officeDocument/2006/relationships/slideLayout" Target="../slideLayouts/slideLayout596.xml"/><Relationship Id="rId11" Type="http://schemas.openxmlformats.org/officeDocument/2006/relationships/slideLayout" Target="../slideLayouts/slideLayout597.xml"/><Relationship Id="rId12" Type="http://schemas.openxmlformats.org/officeDocument/2006/relationships/slideLayout" Target="../slideLayouts/slideLayout598.xml"/><Relationship Id="rId13" Type="http://schemas.openxmlformats.org/officeDocument/2006/relationships/slideLayout" Target="../slideLayouts/slideLayout599.xml"/><Relationship Id="rId14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01.xml"/><Relationship Id="rId4" Type="http://schemas.openxmlformats.org/officeDocument/2006/relationships/slideLayout" Target="../slideLayouts/slideLayout602.xml"/><Relationship Id="rId5" Type="http://schemas.openxmlformats.org/officeDocument/2006/relationships/slideLayout" Target="../slideLayouts/slideLayout603.xml"/><Relationship Id="rId6" Type="http://schemas.openxmlformats.org/officeDocument/2006/relationships/slideLayout" Target="../slideLayouts/slideLayout604.xml"/><Relationship Id="rId7" Type="http://schemas.openxmlformats.org/officeDocument/2006/relationships/slideLayout" Target="../slideLayouts/slideLayout605.xml"/><Relationship Id="rId8" Type="http://schemas.openxmlformats.org/officeDocument/2006/relationships/slideLayout" Target="../slideLayouts/slideLayout606.xml"/><Relationship Id="rId9" Type="http://schemas.openxmlformats.org/officeDocument/2006/relationships/slideLayout" Target="../slideLayouts/slideLayout607.xml"/><Relationship Id="rId10" Type="http://schemas.openxmlformats.org/officeDocument/2006/relationships/slideLayout" Target="../slideLayouts/slideLayout608.xml"/><Relationship Id="rId11" Type="http://schemas.openxmlformats.org/officeDocument/2006/relationships/slideLayout" Target="../slideLayouts/slideLayout609.xml"/><Relationship Id="rId12" Type="http://schemas.openxmlformats.org/officeDocument/2006/relationships/slideLayout" Target="../slideLayouts/slideLayout610.xml"/><Relationship Id="rId13" Type="http://schemas.openxmlformats.org/officeDocument/2006/relationships/slideLayout" Target="../slideLayouts/slideLayout611.xml"/><Relationship Id="rId14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3.xml"/><Relationship Id="rId4" Type="http://schemas.openxmlformats.org/officeDocument/2006/relationships/slideLayout" Target="../slideLayouts/slideLayout614.xml"/><Relationship Id="rId5" Type="http://schemas.openxmlformats.org/officeDocument/2006/relationships/slideLayout" Target="../slideLayouts/slideLayout615.xml"/><Relationship Id="rId6" Type="http://schemas.openxmlformats.org/officeDocument/2006/relationships/slideLayout" Target="../slideLayouts/slideLayout616.xml"/><Relationship Id="rId7" Type="http://schemas.openxmlformats.org/officeDocument/2006/relationships/slideLayout" Target="../slideLayouts/slideLayout617.xml"/><Relationship Id="rId8" Type="http://schemas.openxmlformats.org/officeDocument/2006/relationships/slideLayout" Target="../slideLayouts/slideLayout618.xml"/><Relationship Id="rId9" Type="http://schemas.openxmlformats.org/officeDocument/2006/relationships/slideLayout" Target="../slideLayouts/slideLayout619.xml"/><Relationship Id="rId10" Type="http://schemas.openxmlformats.org/officeDocument/2006/relationships/slideLayout" Target="../slideLayouts/slideLayout620.xml"/><Relationship Id="rId11" Type="http://schemas.openxmlformats.org/officeDocument/2006/relationships/slideLayout" Target="../slideLayouts/slideLayout621.xml"/><Relationship Id="rId12" Type="http://schemas.openxmlformats.org/officeDocument/2006/relationships/slideLayout" Target="../slideLayouts/slideLayout622.xml"/><Relationship Id="rId13" Type="http://schemas.openxmlformats.org/officeDocument/2006/relationships/slideLayout" Target="../slideLayouts/slideLayout623.xml"/><Relationship Id="rId14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25.xml"/><Relationship Id="rId4" Type="http://schemas.openxmlformats.org/officeDocument/2006/relationships/slideLayout" Target="../slideLayouts/slideLayout626.xml"/><Relationship Id="rId5" Type="http://schemas.openxmlformats.org/officeDocument/2006/relationships/slideLayout" Target="../slideLayouts/slideLayout627.xml"/><Relationship Id="rId6" Type="http://schemas.openxmlformats.org/officeDocument/2006/relationships/slideLayout" Target="../slideLayouts/slideLayout628.xml"/><Relationship Id="rId7" Type="http://schemas.openxmlformats.org/officeDocument/2006/relationships/slideLayout" Target="../slideLayouts/slideLayout629.xml"/><Relationship Id="rId8" Type="http://schemas.openxmlformats.org/officeDocument/2006/relationships/slideLayout" Target="../slideLayouts/slideLayout630.xml"/><Relationship Id="rId9" Type="http://schemas.openxmlformats.org/officeDocument/2006/relationships/slideLayout" Target="../slideLayouts/slideLayout631.xml"/><Relationship Id="rId10" Type="http://schemas.openxmlformats.org/officeDocument/2006/relationships/slideLayout" Target="../slideLayouts/slideLayout632.xml"/><Relationship Id="rId11" Type="http://schemas.openxmlformats.org/officeDocument/2006/relationships/slideLayout" Target="../slideLayouts/slideLayout633.xml"/><Relationship Id="rId12" Type="http://schemas.openxmlformats.org/officeDocument/2006/relationships/slideLayout" Target="../slideLayouts/slideLayout634.xml"/><Relationship Id="rId13" Type="http://schemas.openxmlformats.org/officeDocument/2006/relationships/slideLayout" Target="../slideLayouts/slideLayout635.xml"/><Relationship Id="rId14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37.xml"/><Relationship Id="rId4" Type="http://schemas.openxmlformats.org/officeDocument/2006/relationships/slideLayout" Target="../slideLayouts/slideLayout638.xml"/><Relationship Id="rId5" Type="http://schemas.openxmlformats.org/officeDocument/2006/relationships/slideLayout" Target="../slideLayouts/slideLayout639.xml"/><Relationship Id="rId6" Type="http://schemas.openxmlformats.org/officeDocument/2006/relationships/slideLayout" Target="../slideLayouts/slideLayout640.xml"/><Relationship Id="rId7" Type="http://schemas.openxmlformats.org/officeDocument/2006/relationships/slideLayout" Target="../slideLayouts/slideLayout641.xml"/><Relationship Id="rId8" Type="http://schemas.openxmlformats.org/officeDocument/2006/relationships/slideLayout" Target="../slideLayouts/slideLayout642.xml"/><Relationship Id="rId9" Type="http://schemas.openxmlformats.org/officeDocument/2006/relationships/slideLayout" Target="../slideLayouts/slideLayout643.xml"/><Relationship Id="rId10" Type="http://schemas.openxmlformats.org/officeDocument/2006/relationships/slideLayout" Target="../slideLayouts/slideLayout644.xml"/><Relationship Id="rId11" Type="http://schemas.openxmlformats.org/officeDocument/2006/relationships/slideLayout" Target="../slideLayouts/slideLayout645.xml"/><Relationship Id="rId12" Type="http://schemas.openxmlformats.org/officeDocument/2006/relationships/slideLayout" Target="../slideLayouts/slideLayout646.xml"/><Relationship Id="rId13" Type="http://schemas.openxmlformats.org/officeDocument/2006/relationships/slideLayout" Target="../slideLayouts/slideLayout647.xml"/><Relationship Id="rId14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49.xml"/><Relationship Id="rId4" Type="http://schemas.openxmlformats.org/officeDocument/2006/relationships/slideLayout" Target="../slideLayouts/slideLayout650.xml"/><Relationship Id="rId5" Type="http://schemas.openxmlformats.org/officeDocument/2006/relationships/slideLayout" Target="../slideLayouts/slideLayout651.xml"/><Relationship Id="rId6" Type="http://schemas.openxmlformats.org/officeDocument/2006/relationships/slideLayout" Target="../slideLayouts/slideLayout652.xml"/><Relationship Id="rId7" Type="http://schemas.openxmlformats.org/officeDocument/2006/relationships/slideLayout" Target="../slideLayouts/slideLayout653.xml"/><Relationship Id="rId8" Type="http://schemas.openxmlformats.org/officeDocument/2006/relationships/slideLayout" Target="../slideLayouts/slideLayout654.xml"/><Relationship Id="rId9" Type="http://schemas.openxmlformats.org/officeDocument/2006/relationships/slideLayout" Target="../slideLayouts/slideLayout655.xml"/><Relationship Id="rId10" Type="http://schemas.openxmlformats.org/officeDocument/2006/relationships/slideLayout" Target="../slideLayouts/slideLayout656.xml"/><Relationship Id="rId11" Type="http://schemas.openxmlformats.org/officeDocument/2006/relationships/slideLayout" Target="../slideLayouts/slideLayout657.xml"/><Relationship Id="rId12" Type="http://schemas.openxmlformats.org/officeDocument/2006/relationships/slideLayout" Target="../slideLayouts/slideLayout658.xml"/><Relationship Id="rId13" Type="http://schemas.openxmlformats.org/officeDocument/2006/relationships/slideLayout" Target="../slideLayouts/slideLayout659.xml"/><Relationship Id="rId14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73.xml"/><Relationship Id="rId4" Type="http://schemas.openxmlformats.org/officeDocument/2006/relationships/slideLayout" Target="../slideLayouts/slideLayout674.xml"/><Relationship Id="rId5" Type="http://schemas.openxmlformats.org/officeDocument/2006/relationships/slideLayout" Target="../slideLayouts/slideLayout675.xml"/><Relationship Id="rId6" Type="http://schemas.openxmlformats.org/officeDocument/2006/relationships/slideLayout" Target="../slideLayouts/slideLayout676.xml"/><Relationship Id="rId7" Type="http://schemas.openxmlformats.org/officeDocument/2006/relationships/slideLayout" Target="../slideLayouts/slideLayout677.xml"/><Relationship Id="rId8" Type="http://schemas.openxmlformats.org/officeDocument/2006/relationships/slideLayout" Target="../slideLayouts/slideLayout678.xml"/><Relationship Id="rId9" Type="http://schemas.openxmlformats.org/officeDocument/2006/relationships/slideLayout" Target="../slideLayouts/slideLayout679.xml"/><Relationship Id="rId10" Type="http://schemas.openxmlformats.org/officeDocument/2006/relationships/slideLayout" Target="../slideLayouts/slideLayout680.xml"/><Relationship Id="rId11" Type="http://schemas.openxmlformats.org/officeDocument/2006/relationships/slideLayout" Target="../slideLayouts/slideLayout681.xml"/><Relationship Id="rId12" Type="http://schemas.openxmlformats.org/officeDocument/2006/relationships/slideLayout" Target="../slideLayouts/slideLayout682.xml"/><Relationship Id="rId13" Type="http://schemas.openxmlformats.org/officeDocument/2006/relationships/slideLayout" Target="../slideLayouts/slideLayout683.xml"/><Relationship Id="rId14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85.xml"/><Relationship Id="rId4" Type="http://schemas.openxmlformats.org/officeDocument/2006/relationships/slideLayout" Target="../slideLayouts/slideLayout686.xml"/><Relationship Id="rId5" Type="http://schemas.openxmlformats.org/officeDocument/2006/relationships/slideLayout" Target="../slideLayouts/slideLayout687.xml"/><Relationship Id="rId6" Type="http://schemas.openxmlformats.org/officeDocument/2006/relationships/slideLayout" Target="../slideLayouts/slideLayout688.xml"/><Relationship Id="rId7" Type="http://schemas.openxmlformats.org/officeDocument/2006/relationships/slideLayout" Target="../slideLayouts/slideLayout689.xml"/><Relationship Id="rId8" Type="http://schemas.openxmlformats.org/officeDocument/2006/relationships/slideLayout" Target="../slideLayouts/slideLayout690.xml"/><Relationship Id="rId9" Type="http://schemas.openxmlformats.org/officeDocument/2006/relationships/slideLayout" Target="../slideLayouts/slideLayout691.xml"/><Relationship Id="rId10" Type="http://schemas.openxmlformats.org/officeDocument/2006/relationships/slideLayout" Target="../slideLayouts/slideLayout692.xml"/><Relationship Id="rId11" Type="http://schemas.openxmlformats.org/officeDocument/2006/relationships/slideLayout" Target="../slideLayouts/slideLayout693.xml"/><Relationship Id="rId12" Type="http://schemas.openxmlformats.org/officeDocument/2006/relationships/slideLayout" Target="../slideLayouts/slideLayout694.xml"/><Relationship Id="rId13" Type="http://schemas.openxmlformats.org/officeDocument/2006/relationships/slideLayout" Target="../slideLayouts/slideLayout695.xml"/><Relationship Id="rId14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97.xml"/><Relationship Id="rId4" Type="http://schemas.openxmlformats.org/officeDocument/2006/relationships/slideLayout" Target="../slideLayouts/slideLayout698.xml"/><Relationship Id="rId5" Type="http://schemas.openxmlformats.org/officeDocument/2006/relationships/slideLayout" Target="../slideLayouts/slideLayout699.xml"/><Relationship Id="rId6" Type="http://schemas.openxmlformats.org/officeDocument/2006/relationships/slideLayout" Target="../slideLayouts/slideLayout700.xml"/><Relationship Id="rId7" Type="http://schemas.openxmlformats.org/officeDocument/2006/relationships/slideLayout" Target="../slideLayouts/slideLayout701.xml"/><Relationship Id="rId8" Type="http://schemas.openxmlformats.org/officeDocument/2006/relationships/slideLayout" Target="../slideLayouts/slideLayout702.xml"/><Relationship Id="rId9" Type="http://schemas.openxmlformats.org/officeDocument/2006/relationships/slideLayout" Target="../slideLayouts/slideLayout703.xml"/><Relationship Id="rId10" Type="http://schemas.openxmlformats.org/officeDocument/2006/relationships/slideLayout" Target="../slideLayouts/slideLayout704.xml"/><Relationship Id="rId11" Type="http://schemas.openxmlformats.org/officeDocument/2006/relationships/slideLayout" Target="../slideLayouts/slideLayout705.xml"/><Relationship Id="rId12" Type="http://schemas.openxmlformats.org/officeDocument/2006/relationships/slideLayout" Target="../slideLayouts/slideLayout706.xml"/><Relationship Id="rId13" Type="http://schemas.openxmlformats.org/officeDocument/2006/relationships/slideLayout" Target="../slideLayouts/slideLayout707.xml"/><Relationship Id="rId14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09.xml"/><Relationship Id="rId4" Type="http://schemas.openxmlformats.org/officeDocument/2006/relationships/slideLayout" Target="../slideLayouts/slideLayout710.xml"/><Relationship Id="rId5" Type="http://schemas.openxmlformats.org/officeDocument/2006/relationships/slideLayout" Target="../slideLayouts/slideLayout711.xml"/><Relationship Id="rId6" Type="http://schemas.openxmlformats.org/officeDocument/2006/relationships/slideLayout" Target="../slideLayouts/slideLayout712.xml"/><Relationship Id="rId7" Type="http://schemas.openxmlformats.org/officeDocument/2006/relationships/slideLayout" Target="../slideLayouts/slideLayout713.xml"/><Relationship Id="rId8" Type="http://schemas.openxmlformats.org/officeDocument/2006/relationships/slideLayout" Target="../slideLayouts/slideLayout714.xml"/><Relationship Id="rId9" Type="http://schemas.openxmlformats.org/officeDocument/2006/relationships/slideLayout" Target="../slideLayouts/slideLayout715.xml"/><Relationship Id="rId10" Type="http://schemas.openxmlformats.org/officeDocument/2006/relationships/slideLayout" Target="../slideLayouts/slideLayout716.xml"/><Relationship Id="rId11" Type="http://schemas.openxmlformats.org/officeDocument/2006/relationships/slideLayout" Target="../slideLayouts/slideLayout717.xml"/><Relationship Id="rId12" Type="http://schemas.openxmlformats.org/officeDocument/2006/relationships/slideLayout" Target="../slideLayouts/slideLayout718.xml"/><Relationship Id="rId13" Type="http://schemas.openxmlformats.org/officeDocument/2006/relationships/slideLayout" Target="../slideLayouts/slideLayout719.xml"/><Relationship Id="rId14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21.xml"/><Relationship Id="rId4" Type="http://schemas.openxmlformats.org/officeDocument/2006/relationships/slideLayout" Target="../slideLayouts/slideLayout722.xml"/><Relationship Id="rId5" Type="http://schemas.openxmlformats.org/officeDocument/2006/relationships/slideLayout" Target="../slideLayouts/slideLayout723.xml"/><Relationship Id="rId6" Type="http://schemas.openxmlformats.org/officeDocument/2006/relationships/slideLayout" Target="../slideLayouts/slideLayout724.xml"/><Relationship Id="rId7" Type="http://schemas.openxmlformats.org/officeDocument/2006/relationships/slideLayout" Target="../slideLayouts/slideLayout725.xml"/><Relationship Id="rId8" Type="http://schemas.openxmlformats.org/officeDocument/2006/relationships/slideLayout" Target="../slideLayouts/slideLayout726.xml"/><Relationship Id="rId9" Type="http://schemas.openxmlformats.org/officeDocument/2006/relationships/slideLayout" Target="../slideLayouts/slideLayout727.xml"/><Relationship Id="rId10" Type="http://schemas.openxmlformats.org/officeDocument/2006/relationships/slideLayout" Target="../slideLayouts/slideLayout728.xml"/><Relationship Id="rId11" Type="http://schemas.openxmlformats.org/officeDocument/2006/relationships/slideLayout" Target="../slideLayouts/slideLayout729.xml"/><Relationship Id="rId12" Type="http://schemas.openxmlformats.org/officeDocument/2006/relationships/slideLayout" Target="../slideLayouts/slideLayout730.xml"/><Relationship Id="rId13" Type="http://schemas.openxmlformats.org/officeDocument/2006/relationships/slideLayout" Target="../slideLayouts/slideLayout731.xml"/><Relationship Id="rId14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3.xml"/><Relationship Id="rId4" Type="http://schemas.openxmlformats.org/officeDocument/2006/relationships/slideLayout" Target="../slideLayouts/slideLayout734.xml"/><Relationship Id="rId5" Type="http://schemas.openxmlformats.org/officeDocument/2006/relationships/slideLayout" Target="../slideLayouts/slideLayout735.xml"/><Relationship Id="rId6" Type="http://schemas.openxmlformats.org/officeDocument/2006/relationships/slideLayout" Target="../slideLayouts/slideLayout736.xml"/><Relationship Id="rId7" Type="http://schemas.openxmlformats.org/officeDocument/2006/relationships/slideLayout" Target="../slideLayouts/slideLayout737.xml"/><Relationship Id="rId8" Type="http://schemas.openxmlformats.org/officeDocument/2006/relationships/slideLayout" Target="../slideLayouts/slideLayout738.xml"/><Relationship Id="rId9" Type="http://schemas.openxmlformats.org/officeDocument/2006/relationships/slideLayout" Target="../slideLayouts/slideLayout739.xml"/><Relationship Id="rId10" Type="http://schemas.openxmlformats.org/officeDocument/2006/relationships/slideLayout" Target="../slideLayouts/slideLayout740.xml"/><Relationship Id="rId11" Type="http://schemas.openxmlformats.org/officeDocument/2006/relationships/slideLayout" Target="../slideLayouts/slideLayout741.xml"/><Relationship Id="rId12" Type="http://schemas.openxmlformats.org/officeDocument/2006/relationships/slideLayout" Target="../slideLayouts/slideLayout742.xml"/><Relationship Id="rId13" Type="http://schemas.openxmlformats.org/officeDocument/2006/relationships/slideLayout" Target="../slideLayouts/slideLayout743.xml"/><Relationship Id="rId14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45.xml"/><Relationship Id="rId4" Type="http://schemas.openxmlformats.org/officeDocument/2006/relationships/slideLayout" Target="../slideLayouts/slideLayout746.xml"/><Relationship Id="rId5" Type="http://schemas.openxmlformats.org/officeDocument/2006/relationships/slideLayout" Target="../slideLayouts/slideLayout747.xml"/><Relationship Id="rId6" Type="http://schemas.openxmlformats.org/officeDocument/2006/relationships/slideLayout" Target="../slideLayouts/slideLayout748.xml"/><Relationship Id="rId7" Type="http://schemas.openxmlformats.org/officeDocument/2006/relationships/slideLayout" Target="../slideLayouts/slideLayout749.xml"/><Relationship Id="rId8" Type="http://schemas.openxmlformats.org/officeDocument/2006/relationships/slideLayout" Target="../slideLayouts/slideLayout750.xml"/><Relationship Id="rId9" Type="http://schemas.openxmlformats.org/officeDocument/2006/relationships/slideLayout" Target="../slideLayouts/slideLayout751.xml"/><Relationship Id="rId10" Type="http://schemas.openxmlformats.org/officeDocument/2006/relationships/slideLayout" Target="../slideLayouts/slideLayout752.xml"/><Relationship Id="rId11" Type="http://schemas.openxmlformats.org/officeDocument/2006/relationships/slideLayout" Target="../slideLayouts/slideLayout753.xml"/><Relationship Id="rId12" Type="http://schemas.openxmlformats.org/officeDocument/2006/relationships/slideLayout" Target="../slideLayouts/slideLayout754.xml"/><Relationship Id="rId13" Type="http://schemas.openxmlformats.org/officeDocument/2006/relationships/slideLayout" Target="../slideLayouts/slideLayout755.xml"/><Relationship Id="rId14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57.xml"/><Relationship Id="rId4" Type="http://schemas.openxmlformats.org/officeDocument/2006/relationships/slideLayout" Target="../slideLayouts/slideLayout758.xml"/><Relationship Id="rId5" Type="http://schemas.openxmlformats.org/officeDocument/2006/relationships/slideLayout" Target="../slideLayouts/slideLayout759.xml"/><Relationship Id="rId6" Type="http://schemas.openxmlformats.org/officeDocument/2006/relationships/slideLayout" Target="../slideLayouts/slideLayout760.xml"/><Relationship Id="rId7" Type="http://schemas.openxmlformats.org/officeDocument/2006/relationships/slideLayout" Target="../slideLayouts/slideLayout761.xml"/><Relationship Id="rId8" Type="http://schemas.openxmlformats.org/officeDocument/2006/relationships/slideLayout" Target="../slideLayouts/slideLayout762.xml"/><Relationship Id="rId9" Type="http://schemas.openxmlformats.org/officeDocument/2006/relationships/slideLayout" Target="../slideLayouts/slideLayout763.xml"/><Relationship Id="rId10" Type="http://schemas.openxmlformats.org/officeDocument/2006/relationships/slideLayout" Target="../slideLayouts/slideLayout764.xml"/><Relationship Id="rId11" Type="http://schemas.openxmlformats.org/officeDocument/2006/relationships/slideLayout" Target="../slideLayouts/slideLayout765.xml"/><Relationship Id="rId12" Type="http://schemas.openxmlformats.org/officeDocument/2006/relationships/slideLayout" Target="../slideLayouts/slideLayout766.xml"/><Relationship Id="rId13" Type="http://schemas.openxmlformats.org/officeDocument/2006/relationships/slideLayout" Target="../slideLayouts/slideLayout767.xml"/><Relationship Id="rId14" Type="http://schemas.openxmlformats.org/officeDocument/2006/relationships/slideLayout" Target="../slideLayouts/slideLayout76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8E78-5430-4F57-865D-358CEB772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374A-57D4-4545-86AA-CB8033189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E6A9-802D-4A3E-AFC3-E59A0BEDC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DB5E-CB69-4471-9811-F784240BB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0DAB-388F-4979-B148-DFDEF5D0C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FBE4-9D9C-4B6C-B5D4-DF4F9EA2F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405C-6C3B-4549-9D99-C49D85515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4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0072-6DC3-4AFC-B777-DA9A5D420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3D2C-A79A-49EC-BBA2-53940299B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dt" idx="5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ftr" idx="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sldNum" idx="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1129-BA56-4A57-BB95-CA02F382F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5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5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891E-77BB-429D-AFB6-5C2C50AA1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21A1-554C-426A-A283-1EAE11254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4938-D481-4904-A9B7-B3208B84D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6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6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F309-F722-432A-99D9-ACD972635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 type="dt" idx="6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 type="ftr" idx="6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 type="sldNum" idx="6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2E9C-DEF8-4A46-AE95-521F62D3E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6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6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EBD9-9692-4D1E-86CF-9E6CB05BC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6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6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7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D15B1-0887-43D8-B82E-35E802509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dt" idx="7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 type="ftr" idx="7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 type="sldNum" idx="7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1E0A-98B2-4A3E-B088-A884BC06F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7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7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7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055E-96EB-4F11-9911-E07FCB006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7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7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7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9C36-3D49-4200-AA97-43453FC64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8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8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8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6DE4-79D8-4BE8-BD50-8257B2D11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8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8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8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0017-904F-4994-9DDA-7FADFF6BE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DF79-7B3C-4DD5-9812-3C929CE57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8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8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8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AA74-7DA0-45D0-BB39-427F0EE97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8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9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9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DC31-4C0C-404A-B4D7-9DF531103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9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9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9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0922-7C92-4A1A-A803-1FB2016CD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9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9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9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A02F-59A7-470D-BA1A-58493970C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9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9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10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BDDC-9140-4F9B-BF1B-4B1874CCB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10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10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10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581E-6928-4CD3-BBE1-16E68471E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10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10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10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E97D-FB32-45EE-ACCC-BFE1D00C2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 type="dt" idx="10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 type="ftr" idx="10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5"/>
          <p:cNvSpPr>
            <a:spLocks noGrp="1"/>
          </p:cNvSpPr>
          <p:nvPr>
            <p:ph type="sldNum" idx="10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2D23-44C1-4C94-B8A1-A62C887CA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 type="dt" idx="1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 type="ftr" idx="1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5"/>
          <p:cNvSpPr>
            <a:spLocks noGrp="1"/>
          </p:cNvSpPr>
          <p:nvPr>
            <p:ph type="sldNum" idx="1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93B0-0CAE-4B1D-A817-9E956F5F7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 type="dt" idx="1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 type="ftr" idx="1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 type="sldNum" idx="1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4CA1-A8DB-4E02-B12E-59F0F8CB3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70DF-9BBE-45D6-A8B7-D295FF5EA7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 type="dt" idx="1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 type="ftr" idx="1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5"/>
          <p:cNvSpPr>
            <a:spLocks noGrp="1"/>
          </p:cNvSpPr>
          <p:nvPr>
            <p:ph type="sldNum" idx="1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D34B-ED38-4578-B053-25B1B05B2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 type="dt" idx="1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 type="ftr" idx="1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 type="sldNum" idx="1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72FD-C37E-4D73-AA18-E2638F0F2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 type="dt" idx="1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 type="ftr" idx="1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5"/>
          <p:cNvSpPr>
            <a:spLocks noGrp="1"/>
          </p:cNvSpPr>
          <p:nvPr>
            <p:ph type="sldNum" idx="1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672A-B2B1-4F90-97F7-1E4F339B6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 type="dt" idx="1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 type="ftr" idx="1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5"/>
          <p:cNvSpPr>
            <a:spLocks noGrp="1"/>
          </p:cNvSpPr>
          <p:nvPr>
            <p:ph type="sldNum" idx="1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A56D-33B2-4C41-9CFA-F249ABBE4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 type="dt" idx="1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 type="ftr" idx="1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5"/>
          <p:cNvSpPr>
            <a:spLocks noGrp="1"/>
          </p:cNvSpPr>
          <p:nvPr>
            <p:ph type="sldNum" idx="1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7F49-6B41-436C-A0E4-1E4877C2D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3"/>
          <p:cNvSpPr>
            <a:spLocks noGrp="1"/>
          </p:cNvSpPr>
          <p:nvPr>
            <p:ph type="dt" idx="1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4"/>
          <p:cNvSpPr>
            <a:spLocks noGrp="1"/>
          </p:cNvSpPr>
          <p:nvPr>
            <p:ph type="ftr" idx="1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5"/>
          <p:cNvSpPr>
            <a:spLocks noGrp="1"/>
          </p:cNvSpPr>
          <p:nvPr>
            <p:ph type="sldNum" idx="1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55E9-D69D-4EB3-B84A-1DD7BD3D8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 type="dt" idx="1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 type="ftr" idx="1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 type="sldNum" idx="1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0118-3E83-4BC5-AE0A-EA8A6B379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 type="dt" idx="1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 type="ftr" idx="1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5"/>
          <p:cNvSpPr>
            <a:spLocks noGrp="1"/>
          </p:cNvSpPr>
          <p:nvPr>
            <p:ph type="sldNum" idx="1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C47F-8058-4428-8D79-7BAB90E21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3"/>
          <p:cNvSpPr>
            <a:spLocks noGrp="1"/>
          </p:cNvSpPr>
          <p:nvPr>
            <p:ph type="dt" idx="1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4"/>
          <p:cNvSpPr>
            <a:spLocks noGrp="1"/>
          </p:cNvSpPr>
          <p:nvPr>
            <p:ph type="ftr" idx="1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5"/>
          <p:cNvSpPr>
            <a:spLocks noGrp="1"/>
          </p:cNvSpPr>
          <p:nvPr>
            <p:ph type="sldNum" idx="1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0A4B-CAE0-4A31-A077-534444044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 type="dt" idx="1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 type="ftr" idx="1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5"/>
          <p:cNvSpPr>
            <a:spLocks noGrp="1"/>
          </p:cNvSpPr>
          <p:nvPr>
            <p:ph type="sldNum" idx="1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2422-3EFF-40CC-9D32-DD3EE1A0A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C1B9-836C-4C3D-97CE-B43020E61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 type="dt" idx="1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 type="ftr" idx="1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5"/>
          <p:cNvSpPr>
            <a:spLocks noGrp="1"/>
          </p:cNvSpPr>
          <p:nvPr>
            <p:ph type="sldNum" idx="1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8FE6-18D2-4E87-AA72-FA5938EE0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3"/>
    <p:sldLayoutId id="2147484287" r:id="rId4"/>
    <p:sldLayoutId id="2147484288" r:id="rId5"/>
    <p:sldLayoutId id="2147484289" r:id="rId6"/>
    <p:sldLayoutId id="2147484290" r:id="rId7"/>
    <p:sldLayoutId id="2147484291" r:id="rId8"/>
    <p:sldLayoutId id="2147484292" r:id="rId9"/>
    <p:sldLayoutId id="2147484293" r:id="rId10"/>
    <p:sldLayoutId id="2147484294" r:id="rId11"/>
    <p:sldLayoutId id="2147484295" r:id="rId12"/>
    <p:sldLayoutId id="2147484296" r:id="rId13"/>
    <p:sldLayoutId id="2147484297" r:id="rId14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 type="dt" idx="1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 type="ftr" idx="1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5"/>
          <p:cNvSpPr>
            <a:spLocks noGrp="1"/>
          </p:cNvSpPr>
          <p:nvPr>
            <p:ph type="sldNum" idx="1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CB3E-7293-4E62-BA2E-5A8851543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3"/>
    <p:sldLayoutId id="2147484300" r:id="rId4"/>
    <p:sldLayoutId id="2147484301" r:id="rId5"/>
    <p:sldLayoutId id="2147484302" r:id="rId6"/>
    <p:sldLayoutId id="2147484303" r:id="rId7"/>
    <p:sldLayoutId id="2147484304" r:id="rId8"/>
    <p:sldLayoutId id="2147484305" r:id="rId9"/>
    <p:sldLayoutId id="2147484306" r:id="rId10"/>
    <p:sldLayoutId id="2147484307" r:id="rId11"/>
    <p:sldLayoutId id="2147484308" r:id="rId12"/>
    <p:sldLayoutId id="2147484309" r:id="rId13"/>
    <p:sldLayoutId id="2147484310" r:id="rId14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 type="dt" idx="1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PlaceHolder 4"/>
          <p:cNvSpPr>
            <a:spLocks noGrp="1"/>
          </p:cNvSpPr>
          <p:nvPr>
            <p:ph type="ftr" idx="1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5"/>
          <p:cNvSpPr>
            <a:spLocks noGrp="1"/>
          </p:cNvSpPr>
          <p:nvPr>
            <p:ph type="sldNum" idx="1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ACF1-99B2-4732-8EB6-77FCC961B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3"/>
    <p:sldLayoutId id="2147484313" r:id="rId4"/>
    <p:sldLayoutId id="2147484314" r:id="rId5"/>
    <p:sldLayoutId id="2147484315" r:id="rId6"/>
    <p:sldLayoutId id="2147484316" r:id="rId7"/>
    <p:sldLayoutId id="2147484317" r:id="rId8"/>
    <p:sldLayoutId id="2147484318" r:id="rId9"/>
    <p:sldLayoutId id="2147484319" r:id="rId10"/>
    <p:sldLayoutId id="2147484320" r:id="rId11"/>
    <p:sldLayoutId id="2147484321" r:id="rId12"/>
    <p:sldLayoutId id="2147484322" r:id="rId13"/>
    <p:sldLayoutId id="2147484323" r:id="rId14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 type="dt" idx="1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 type="ftr" idx="1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5"/>
          <p:cNvSpPr>
            <a:spLocks noGrp="1"/>
          </p:cNvSpPr>
          <p:nvPr>
            <p:ph type="sldNum" idx="1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283D1-17BE-4EF0-9887-FF7C5D164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3"/>
    <p:sldLayoutId id="2147484326" r:id="rId4"/>
    <p:sldLayoutId id="2147484327" r:id="rId5"/>
    <p:sldLayoutId id="2147484328" r:id="rId6"/>
    <p:sldLayoutId id="2147484329" r:id="rId7"/>
    <p:sldLayoutId id="2147484330" r:id="rId8"/>
    <p:sldLayoutId id="2147484331" r:id="rId9"/>
    <p:sldLayoutId id="2147484332" r:id="rId10"/>
    <p:sldLayoutId id="2147484333" r:id="rId11"/>
    <p:sldLayoutId id="2147484334" r:id="rId12"/>
    <p:sldLayoutId id="2147484335" r:id="rId13"/>
    <p:sldLayoutId id="2147484336" r:id="rId14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17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18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8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18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18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19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10"/>
              <p:cNvSpPr/>
              <p:nvPr/>
            </p:nvSpPr>
            <p:spPr>
              <a:xfrm>
                <a:off x="635040" y="6854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 type="dt" idx="158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 type="ftr" idx="159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5"/>
          <p:cNvSpPr>
            <a:spLocks noGrp="1"/>
          </p:cNvSpPr>
          <p:nvPr>
            <p:ph type="sldNum" idx="16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0DF4-2D45-4D3D-A4A8-B3C55C1F1E4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3"/>
    <p:sldLayoutId id="2147484339" r:id="rId4"/>
    <p:sldLayoutId id="2147484340" r:id="rId5"/>
    <p:sldLayoutId id="2147484341" r:id="rId6"/>
    <p:sldLayoutId id="2147484342" r:id="rId7"/>
    <p:sldLayoutId id="2147484343" r:id="rId8"/>
    <p:sldLayoutId id="2147484344" r:id="rId9"/>
    <p:sldLayoutId id="2147484345" r:id="rId10"/>
    <p:sldLayoutId id="2147484346" r:id="rId11"/>
    <p:sldLayoutId id="2147484347" r:id="rId12"/>
    <p:sldLayoutId id="2147484348" r:id="rId13"/>
    <p:sldLayoutId id="2147484349" r:id="rId14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3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234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5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236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3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 type="dt" idx="16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4"/>
          <p:cNvSpPr>
            <a:spLocks noGrp="1"/>
          </p:cNvSpPr>
          <p:nvPr>
            <p:ph type="ftr" idx="16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5"/>
          <p:cNvSpPr>
            <a:spLocks noGrp="1"/>
          </p:cNvSpPr>
          <p:nvPr>
            <p:ph type="sldNum" idx="16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B933-CB79-4B72-ACCF-57429C888B8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3"/>
    <p:sldLayoutId id="2147484352" r:id="rId4"/>
    <p:sldLayoutId id="2147484353" r:id="rId5"/>
    <p:sldLayoutId id="2147484354" r:id="rId6"/>
    <p:sldLayoutId id="2147484355" r:id="rId7"/>
    <p:sldLayoutId id="2147484356" r:id="rId8"/>
    <p:sldLayoutId id="2147484357" r:id="rId9"/>
    <p:sldLayoutId id="2147484358" r:id="rId10"/>
    <p:sldLayoutId id="2147484359" r:id="rId11"/>
    <p:sldLayoutId id="2147484360" r:id="rId12"/>
    <p:sldLayoutId id="2147484361" r:id="rId13"/>
    <p:sldLayoutId id="2147484362" r:id="rId14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28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28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85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3"/>
          <p:cNvSpPr>
            <a:spLocks noGrp="1"/>
          </p:cNvSpPr>
          <p:nvPr>
            <p:ph type="dt" idx="16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4"/>
          <p:cNvSpPr>
            <a:spLocks noGrp="1"/>
          </p:cNvSpPr>
          <p:nvPr>
            <p:ph type="ftr" idx="16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5"/>
          <p:cNvSpPr>
            <a:spLocks noGrp="1"/>
          </p:cNvSpPr>
          <p:nvPr>
            <p:ph type="sldNum" idx="16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70A0-F1DD-46C5-9BA5-A8805B5CDDF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32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33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3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 type="dt" idx="16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 type="ftr" idx="16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PlaceHolder 5"/>
          <p:cNvSpPr>
            <a:spLocks noGrp="1"/>
          </p:cNvSpPr>
          <p:nvPr>
            <p:ph type="sldNum" idx="16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DB1A-C9F6-4552-B79A-2E3E32AC04D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3"/>
    <p:sldLayoutId id="2147484378" r:id="rId4"/>
    <p:sldLayoutId id="2147484379" r:id="rId5"/>
    <p:sldLayoutId id="2147484380" r:id="rId6"/>
    <p:sldLayoutId id="2147484381" r:id="rId7"/>
    <p:sldLayoutId id="2147484382" r:id="rId8"/>
    <p:sldLayoutId id="2147484383" r:id="rId9"/>
    <p:sldLayoutId id="2147484384" r:id="rId10"/>
    <p:sldLayoutId id="2147484385" r:id="rId11"/>
    <p:sldLayoutId id="2147484386" r:id="rId12"/>
    <p:sldLayoutId id="2147484387" r:id="rId13"/>
    <p:sldLayoutId id="2147484388" r:id="rId14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4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375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6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377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3"/>
          <p:cNvSpPr>
            <a:spLocks noGrp="1"/>
          </p:cNvSpPr>
          <p:nvPr>
            <p:ph type="dt" idx="17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PlaceHolder 4"/>
          <p:cNvSpPr>
            <a:spLocks noGrp="1"/>
          </p:cNvSpPr>
          <p:nvPr>
            <p:ph type="ftr" idx="17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5"/>
          <p:cNvSpPr>
            <a:spLocks noGrp="1"/>
          </p:cNvSpPr>
          <p:nvPr>
            <p:ph type="sldNum" idx="17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F104-BAA3-4490-8C1B-8B8EBEED84D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3"/>
    <p:sldLayoutId id="2147484391" r:id="rId4"/>
    <p:sldLayoutId id="2147484392" r:id="rId5"/>
    <p:sldLayoutId id="2147484393" r:id="rId6"/>
    <p:sldLayoutId id="2147484394" r:id="rId7"/>
    <p:sldLayoutId id="2147484395" r:id="rId8"/>
    <p:sldLayoutId id="2147484396" r:id="rId9"/>
    <p:sldLayoutId id="2147484397" r:id="rId10"/>
    <p:sldLayoutId id="2147484398" r:id="rId11"/>
    <p:sldLayoutId id="2147484399" r:id="rId12"/>
    <p:sldLayoutId id="2147484400" r:id="rId13"/>
    <p:sldLayoutId id="2147484401" r:id="rId14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42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42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 type="dt" idx="17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4"/>
          <p:cNvSpPr>
            <a:spLocks noGrp="1"/>
          </p:cNvSpPr>
          <p:nvPr>
            <p:ph type="ftr" idx="17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5"/>
          <p:cNvSpPr>
            <a:spLocks noGrp="1"/>
          </p:cNvSpPr>
          <p:nvPr>
            <p:ph type="sldNum" idx="17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EF44-9E1F-478B-AF69-592195A7BE1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3"/>
    <p:sldLayoutId id="2147484404" r:id="rId4"/>
    <p:sldLayoutId id="2147484405" r:id="rId5"/>
    <p:sldLayoutId id="2147484406" r:id="rId6"/>
    <p:sldLayoutId id="2147484407" r:id="rId7"/>
    <p:sldLayoutId id="2147484408" r:id="rId8"/>
    <p:sldLayoutId id="2147484409" r:id="rId9"/>
    <p:sldLayoutId id="2147484410" r:id="rId10"/>
    <p:sldLayoutId id="2147484411" r:id="rId11"/>
    <p:sldLayoutId id="2147484412" r:id="rId12"/>
    <p:sldLayoutId id="2147484413" r:id="rId13"/>
    <p:sldLayoutId id="2147484414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8405-6F9A-4E59-8BDC-AA20731F8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46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47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7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PlaceHolder 3"/>
          <p:cNvSpPr>
            <a:spLocks noGrp="1"/>
          </p:cNvSpPr>
          <p:nvPr>
            <p:ph type="dt" idx="17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PlaceHolder 4"/>
          <p:cNvSpPr>
            <a:spLocks noGrp="1"/>
          </p:cNvSpPr>
          <p:nvPr>
            <p:ph type="ftr" idx="17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PlaceHolder 5"/>
          <p:cNvSpPr>
            <a:spLocks noGrp="1"/>
          </p:cNvSpPr>
          <p:nvPr>
            <p:ph type="sldNum" idx="1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E545-1749-449A-BE3C-355F0DD119A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3"/>
    <p:sldLayoutId id="2147484417" r:id="rId4"/>
    <p:sldLayoutId id="2147484418" r:id="rId5"/>
    <p:sldLayoutId id="2147484419" r:id="rId6"/>
    <p:sldLayoutId id="2147484420" r:id="rId7"/>
    <p:sldLayoutId id="2147484421" r:id="rId8"/>
    <p:sldLayoutId id="2147484422" r:id="rId9"/>
    <p:sldLayoutId id="2147484423" r:id="rId10"/>
    <p:sldLayoutId id="2147484424" r:id="rId11"/>
    <p:sldLayoutId id="2147484425" r:id="rId12"/>
    <p:sldLayoutId id="2147484426" r:id="rId13"/>
    <p:sldLayoutId id="2147484427" r:id="rId14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5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516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7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518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2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 type="dt" idx="17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PlaceHolder 4"/>
          <p:cNvSpPr>
            <a:spLocks noGrp="1"/>
          </p:cNvSpPr>
          <p:nvPr>
            <p:ph type="ftr" idx="18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PlaceHolder 5"/>
          <p:cNvSpPr>
            <a:spLocks noGrp="1"/>
          </p:cNvSpPr>
          <p:nvPr>
            <p:ph type="sldNum" idx="18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470E-F8BE-4FB2-8E1B-F8E2FA79374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3"/>
    <p:sldLayoutId id="2147484430" r:id="rId4"/>
    <p:sldLayoutId id="2147484431" r:id="rId5"/>
    <p:sldLayoutId id="2147484432" r:id="rId6"/>
    <p:sldLayoutId id="2147484433" r:id="rId7"/>
    <p:sldLayoutId id="2147484434" r:id="rId8"/>
    <p:sldLayoutId id="2147484435" r:id="rId9"/>
    <p:sldLayoutId id="2147484436" r:id="rId10"/>
    <p:sldLayoutId id="2147484437" r:id="rId11"/>
    <p:sldLayoutId id="2147484438" r:id="rId12"/>
    <p:sldLayoutId id="2147484439" r:id="rId13"/>
    <p:sldLayoutId id="2147484440" r:id="rId14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56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56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6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6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3"/>
          <p:cNvSpPr>
            <a:spLocks noGrp="1"/>
          </p:cNvSpPr>
          <p:nvPr>
            <p:ph type="dt" idx="18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4"/>
          <p:cNvSpPr>
            <a:spLocks noGrp="1"/>
          </p:cNvSpPr>
          <p:nvPr>
            <p:ph type="ftr" idx="18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PlaceHolder 5"/>
          <p:cNvSpPr>
            <a:spLocks noGrp="1"/>
          </p:cNvSpPr>
          <p:nvPr>
            <p:ph type="sldNum" idx="18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56C5-B28F-4984-8F61-51C55F0ABC0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3"/>
    <p:sldLayoutId id="2147484443" r:id="rId4"/>
    <p:sldLayoutId id="2147484444" r:id="rId5"/>
    <p:sldLayoutId id="2147484445" r:id="rId6"/>
    <p:sldLayoutId id="2147484446" r:id="rId7"/>
    <p:sldLayoutId id="2147484447" r:id="rId8"/>
    <p:sldLayoutId id="2147484448" r:id="rId9"/>
    <p:sldLayoutId id="2147484449" r:id="rId10"/>
    <p:sldLayoutId id="2147484450" r:id="rId11"/>
    <p:sldLayoutId id="2147484451" r:id="rId12"/>
    <p:sldLayoutId id="2147484452" r:id="rId13"/>
    <p:sldLayoutId id="2147484453" r:id="rId14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61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61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4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 type="dt" idx="18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 type="ftr" idx="18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PlaceHolder 5"/>
          <p:cNvSpPr>
            <a:spLocks noGrp="1"/>
          </p:cNvSpPr>
          <p:nvPr>
            <p:ph type="sldNum" idx="18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932C-EF47-4DC3-903D-8600D85E27D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3"/>
    <p:sldLayoutId id="2147484456" r:id="rId4"/>
    <p:sldLayoutId id="2147484457" r:id="rId5"/>
    <p:sldLayoutId id="2147484458" r:id="rId6"/>
    <p:sldLayoutId id="2147484459" r:id="rId7"/>
    <p:sldLayoutId id="2147484460" r:id="rId8"/>
    <p:sldLayoutId id="2147484461" r:id="rId9"/>
    <p:sldLayoutId id="2147484462" r:id="rId10"/>
    <p:sldLayoutId id="2147484463" r:id="rId11"/>
    <p:sldLayoutId id="2147484464" r:id="rId12"/>
    <p:sldLayoutId id="2147484465" r:id="rId13"/>
    <p:sldLayoutId id="2147484466" r:id="rId14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65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65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6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PlaceHolder 3"/>
          <p:cNvSpPr>
            <a:spLocks noGrp="1"/>
          </p:cNvSpPr>
          <p:nvPr>
            <p:ph type="dt" idx="18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PlaceHolder 4"/>
          <p:cNvSpPr>
            <a:spLocks noGrp="1"/>
          </p:cNvSpPr>
          <p:nvPr>
            <p:ph type="ftr" idx="18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PlaceHolder 5"/>
          <p:cNvSpPr>
            <a:spLocks noGrp="1"/>
          </p:cNvSpPr>
          <p:nvPr>
            <p:ph type="sldNum" idx="19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CF9B-16D1-488D-869B-A588EB76DF0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3"/>
    <p:sldLayoutId id="2147484469" r:id="rId4"/>
    <p:sldLayoutId id="2147484470" r:id="rId5"/>
    <p:sldLayoutId id="2147484471" r:id="rId6"/>
    <p:sldLayoutId id="2147484472" r:id="rId7"/>
    <p:sldLayoutId id="2147484473" r:id="rId8"/>
    <p:sldLayoutId id="2147484474" r:id="rId9"/>
    <p:sldLayoutId id="2147484475" r:id="rId10"/>
    <p:sldLayoutId id="2147484476" r:id="rId11"/>
    <p:sldLayoutId id="2147484477" r:id="rId12"/>
    <p:sldLayoutId id="2147484478" r:id="rId13"/>
    <p:sldLayoutId id="2147484479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4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4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EDB9-EEA0-4EC4-8663-D33C1CB94B9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22"/>
          </p:nvPr>
        </p:nvSpPr>
        <p:spPr>
          <a:xfrm>
            <a:off x="7235640" y="6453360"/>
            <a:ext cx="143964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4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2665F90-38D5-42B9-B0BC-EE599949DD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6B09-2475-4245-8F37-A343A6E43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7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7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3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五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统计与可能性（十六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TextBox 1"/>
          <p:cNvSpPr/>
          <p:nvPr/>
        </p:nvSpPr>
        <p:spPr>
          <a:xfrm>
            <a:off x="428760" y="14292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农场里什么都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8" name="图表 2"/>
          <p:cNvGraphicFramePr/>
          <p:nvPr/>
        </p:nvGraphicFramePr>
        <p:xfrm>
          <a:off x="163440" y="806400"/>
          <a:ext cx="4602240" cy="391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29" name="图表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440" y="806400"/>
                    <a:ext cx="4602240" cy="39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0" name="TextBox 3"/>
          <p:cNvSpPr/>
          <p:nvPr/>
        </p:nvSpPr>
        <p:spPr>
          <a:xfrm>
            <a:off x="1000080" y="4357800"/>
            <a:ext cx="32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合计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TextBox 4"/>
          <p:cNvSpPr/>
          <p:nvPr/>
        </p:nvSpPr>
        <p:spPr>
          <a:xfrm>
            <a:off x="4857840" y="785880"/>
            <a:ext cx="38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帮我填表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2" name=""/>
          <p:cNvGraphicFramePr/>
          <p:nvPr/>
        </p:nvGraphicFramePr>
        <p:xfrm>
          <a:off x="4929120" y="1785960"/>
          <a:ext cx="3071880" cy="2571840"/>
        </p:xfrm>
        <a:graphic>
          <a:graphicData uri="http://schemas.openxmlformats.org/drawingml/2006/table">
            <a:tbl>
              <a:tblPr/>
              <a:tblGrid>
                <a:gridCol w="939960"/>
                <a:gridCol w="2131920"/>
              </a:tblGrid>
              <a:tr h="636480"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家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量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3" name="TextBox 6"/>
          <p:cNvSpPr/>
          <p:nvPr/>
        </p:nvSpPr>
        <p:spPr>
          <a:xfrm>
            <a:off x="6357960" y="25002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TextBox 7"/>
          <p:cNvSpPr/>
          <p:nvPr/>
        </p:nvSpPr>
        <p:spPr>
          <a:xfrm>
            <a:off x="6357960" y="31194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0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TextBox 8"/>
          <p:cNvSpPr/>
          <p:nvPr/>
        </p:nvSpPr>
        <p:spPr>
          <a:xfrm>
            <a:off x="6357960" y="376236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7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TextBox 9"/>
          <p:cNvSpPr/>
          <p:nvPr/>
        </p:nvSpPr>
        <p:spPr>
          <a:xfrm>
            <a:off x="1071720" y="5000760"/>
            <a:ext cx="69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鹅的数量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00×18%=21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TextBox 10"/>
          <p:cNvSpPr/>
          <p:nvPr/>
        </p:nvSpPr>
        <p:spPr>
          <a:xfrm>
            <a:off x="1071720" y="5916600"/>
            <a:ext cx="69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鸡的数量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00×48%=57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TextBox 11"/>
          <p:cNvSpPr/>
          <p:nvPr/>
        </p:nvSpPr>
        <p:spPr>
          <a:xfrm>
            <a:off x="1071720" y="5416560"/>
            <a:ext cx="692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鸭的数量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00×34%=408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500"/>
                                        <p:tgtEl>
                                          <p:spTgt spid="2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500"/>
                                        <p:tgtEl>
                                          <p:spTgt spid="2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500"/>
                                        <p:tgtEl>
                                          <p:spTgt spid="2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TextBox 1"/>
          <p:cNvSpPr/>
          <p:nvPr/>
        </p:nvSpPr>
        <p:spPr>
          <a:xfrm>
            <a:off x="3643200" y="34596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价格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0" name=""/>
          <p:cNvGraphicFramePr/>
          <p:nvPr/>
        </p:nvGraphicFramePr>
        <p:xfrm>
          <a:off x="857160" y="1285920"/>
          <a:ext cx="7358040" cy="2500200"/>
        </p:xfrm>
        <a:graphic>
          <a:graphicData uri="http://schemas.openxmlformats.org/drawingml/2006/table">
            <a:tbl>
              <a:tblPr/>
              <a:tblGrid>
                <a:gridCol w="2541600"/>
                <a:gridCol w="736560"/>
                <a:gridCol w="735120"/>
                <a:gridCol w="669960"/>
                <a:gridCol w="668160"/>
                <a:gridCol w="668520"/>
                <a:gridCol w="669960"/>
                <a:gridCol w="668160"/>
              </a:tblGrid>
              <a:tr h="561960"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月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黄瓜单价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西红柿单价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1" name="TextBox 3"/>
          <p:cNvSpPr/>
          <p:nvPr/>
        </p:nvSpPr>
        <p:spPr>
          <a:xfrm>
            <a:off x="785880" y="4071960"/>
            <a:ext cx="807228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请你画统计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比，黄瓜价格下降了百分之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总体来看，黄瓜和西红柿哪种贵一些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宋体"/>
              <a:buChar char="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从图上看你还得到了那些信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842" name="直接箭头连接符 2"/>
          <p:cNvCxnSpPr/>
          <p:nvPr/>
        </p:nvCxnSpPr>
        <p:spPr>
          <a:xfrm>
            <a:off x="2142720" y="5427720"/>
            <a:ext cx="44298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43" name="直接箭头连接符 4"/>
          <p:cNvCxnSpPr/>
          <p:nvPr/>
        </p:nvCxnSpPr>
        <p:spPr>
          <a:xfrm flipV="1">
            <a:off x="2141640" y="856800"/>
            <a:ext cx="2160" cy="4572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44" name="直接连接符 7"/>
          <p:cNvSpPr/>
          <p:nvPr/>
        </p:nvSpPr>
        <p:spPr>
          <a:xfrm flipV="1">
            <a:off x="2641680" y="5214960"/>
            <a:ext cx="14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直接连接符 9"/>
          <p:cNvSpPr/>
          <p:nvPr/>
        </p:nvSpPr>
        <p:spPr>
          <a:xfrm flipV="1">
            <a:off x="5715000" y="5214960"/>
            <a:ext cx="14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直接连接符 10"/>
          <p:cNvSpPr/>
          <p:nvPr/>
        </p:nvSpPr>
        <p:spPr>
          <a:xfrm flipV="1">
            <a:off x="5143680" y="52149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直接连接符 11"/>
          <p:cNvSpPr/>
          <p:nvPr/>
        </p:nvSpPr>
        <p:spPr>
          <a:xfrm flipV="1">
            <a:off x="4643280" y="52149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直接连接符 12"/>
          <p:cNvSpPr/>
          <p:nvPr/>
        </p:nvSpPr>
        <p:spPr>
          <a:xfrm flipV="1">
            <a:off x="4141800" y="5214960"/>
            <a:ext cx="144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直接连接符 13"/>
          <p:cNvSpPr/>
          <p:nvPr/>
        </p:nvSpPr>
        <p:spPr>
          <a:xfrm flipV="1">
            <a:off x="3643200" y="52149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直接连接符 14"/>
          <p:cNvSpPr/>
          <p:nvPr/>
        </p:nvSpPr>
        <p:spPr>
          <a:xfrm flipV="1">
            <a:off x="3143160" y="5214960"/>
            <a:ext cx="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直接连接符 15"/>
          <p:cNvSpPr/>
          <p:nvPr/>
        </p:nvSpPr>
        <p:spPr>
          <a:xfrm flipV="1">
            <a:off x="2143080" y="5000760"/>
            <a:ext cx="2142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直接连接符 17"/>
          <p:cNvSpPr/>
          <p:nvPr/>
        </p:nvSpPr>
        <p:spPr>
          <a:xfrm>
            <a:off x="2143080" y="4786200"/>
            <a:ext cx="1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直接连接符 18"/>
          <p:cNvSpPr/>
          <p:nvPr/>
        </p:nvSpPr>
        <p:spPr>
          <a:xfrm>
            <a:off x="2143080" y="4572000"/>
            <a:ext cx="1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直接连接符 19"/>
          <p:cNvSpPr/>
          <p:nvPr/>
        </p:nvSpPr>
        <p:spPr>
          <a:xfrm flipV="1">
            <a:off x="2143080" y="4357800"/>
            <a:ext cx="108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直接连接符 20"/>
          <p:cNvSpPr/>
          <p:nvPr/>
        </p:nvSpPr>
        <p:spPr>
          <a:xfrm flipV="1">
            <a:off x="2143080" y="4142880"/>
            <a:ext cx="108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直接连接符 21"/>
          <p:cNvSpPr/>
          <p:nvPr/>
        </p:nvSpPr>
        <p:spPr>
          <a:xfrm>
            <a:off x="2143080" y="3929040"/>
            <a:ext cx="21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直接连接符 22"/>
          <p:cNvSpPr/>
          <p:nvPr/>
        </p:nvSpPr>
        <p:spPr>
          <a:xfrm>
            <a:off x="2143080" y="3714840"/>
            <a:ext cx="1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直接连接符 23"/>
          <p:cNvSpPr/>
          <p:nvPr/>
        </p:nvSpPr>
        <p:spPr>
          <a:xfrm flipV="1">
            <a:off x="2143080" y="3499920"/>
            <a:ext cx="108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直接连接符 24"/>
          <p:cNvSpPr/>
          <p:nvPr/>
        </p:nvSpPr>
        <p:spPr>
          <a:xfrm>
            <a:off x="2143080" y="3286080"/>
            <a:ext cx="1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直接连接符 25"/>
          <p:cNvSpPr/>
          <p:nvPr/>
        </p:nvSpPr>
        <p:spPr>
          <a:xfrm flipV="1">
            <a:off x="2143080" y="3069720"/>
            <a:ext cx="1080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直接连接符 26"/>
          <p:cNvSpPr/>
          <p:nvPr/>
        </p:nvSpPr>
        <p:spPr>
          <a:xfrm>
            <a:off x="2143080" y="2786040"/>
            <a:ext cx="214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TextBox 29"/>
          <p:cNvSpPr/>
          <p:nvPr/>
        </p:nvSpPr>
        <p:spPr>
          <a:xfrm>
            <a:off x="242892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TextBox 30"/>
          <p:cNvSpPr/>
          <p:nvPr/>
        </p:nvSpPr>
        <p:spPr>
          <a:xfrm>
            <a:off x="1428840" y="2500200"/>
            <a:ext cx="8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TextBox 31"/>
          <p:cNvSpPr/>
          <p:nvPr/>
        </p:nvSpPr>
        <p:spPr>
          <a:xfrm>
            <a:off x="1714680" y="366696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TextBox 32"/>
          <p:cNvSpPr/>
          <p:nvPr/>
        </p:nvSpPr>
        <p:spPr>
          <a:xfrm>
            <a:off x="1714680" y="14288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TextBox 33"/>
          <p:cNvSpPr/>
          <p:nvPr/>
        </p:nvSpPr>
        <p:spPr>
          <a:xfrm>
            <a:off x="292896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TextBox 34"/>
          <p:cNvSpPr/>
          <p:nvPr/>
        </p:nvSpPr>
        <p:spPr>
          <a:xfrm>
            <a:off x="342900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TextBox 35"/>
          <p:cNvSpPr/>
          <p:nvPr/>
        </p:nvSpPr>
        <p:spPr>
          <a:xfrm>
            <a:off x="392904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TextBox 36"/>
          <p:cNvSpPr/>
          <p:nvPr/>
        </p:nvSpPr>
        <p:spPr>
          <a:xfrm>
            <a:off x="442908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TextBox 37"/>
          <p:cNvSpPr/>
          <p:nvPr/>
        </p:nvSpPr>
        <p:spPr>
          <a:xfrm>
            <a:off x="4929120" y="55008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TextBox 38"/>
          <p:cNvSpPr/>
          <p:nvPr/>
        </p:nvSpPr>
        <p:spPr>
          <a:xfrm>
            <a:off x="5500800" y="550080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TextBox 39"/>
          <p:cNvSpPr/>
          <p:nvPr/>
        </p:nvSpPr>
        <p:spPr>
          <a:xfrm>
            <a:off x="5786280" y="5500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TextBox 40"/>
          <p:cNvSpPr/>
          <p:nvPr/>
        </p:nvSpPr>
        <p:spPr>
          <a:xfrm>
            <a:off x="1214280" y="71424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流程图: 联系 45"/>
          <p:cNvSpPr/>
          <p:nvPr/>
        </p:nvSpPr>
        <p:spPr>
          <a:xfrm>
            <a:off x="2606760" y="2071800"/>
            <a:ext cx="108000" cy="1080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流程图: 联系 46"/>
          <p:cNvSpPr/>
          <p:nvPr/>
        </p:nvSpPr>
        <p:spPr>
          <a:xfrm>
            <a:off x="3106800" y="2071800"/>
            <a:ext cx="108000" cy="1080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流程图: 联系 47"/>
          <p:cNvSpPr/>
          <p:nvPr/>
        </p:nvSpPr>
        <p:spPr>
          <a:xfrm>
            <a:off x="3606840" y="2535120"/>
            <a:ext cx="108000" cy="1080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流程图: 联系 48"/>
          <p:cNvSpPr/>
          <p:nvPr/>
        </p:nvSpPr>
        <p:spPr>
          <a:xfrm>
            <a:off x="4106880" y="2749680"/>
            <a:ext cx="108000" cy="1080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流程图: 联系 49"/>
          <p:cNvSpPr/>
          <p:nvPr/>
        </p:nvSpPr>
        <p:spPr>
          <a:xfrm>
            <a:off x="4606920" y="3929040"/>
            <a:ext cx="108000" cy="1080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直接连接符 51"/>
          <p:cNvSpPr/>
          <p:nvPr/>
        </p:nvSpPr>
        <p:spPr>
          <a:xfrm flipV="1">
            <a:off x="2143080" y="1712520"/>
            <a:ext cx="2142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直接连接符 52"/>
          <p:cNvSpPr/>
          <p:nvPr/>
        </p:nvSpPr>
        <p:spPr>
          <a:xfrm>
            <a:off x="2143080" y="2571840"/>
            <a:ext cx="1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直接连接符 53"/>
          <p:cNvSpPr/>
          <p:nvPr/>
        </p:nvSpPr>
        <p:spPr>
          <a:xfrm flipV="1">
            <a:off x="2143080" y="2355840"/>
            <a:ext cx="10800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直接连接符 54"/>
          <p:cNvSpPr/>
          <p:nvPr/>
        </p:nvSpPr>
        <p:spPr>
          <a:xfrm>
            <a:off x="2143080" y="2143080"/>
            <a:ext cx="1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直接连接符 55"/>
          <p:cNvSpPr/>
          <p:nvPr/>
        </p:nvSpPr>
        <p:spPr>
          <a:xfrm>
            <a:off x="2143080" y="1928880"/>
            <a:ext cx="1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TextBox 57"/>
          <p:cNvSpPr/>
          <p:nvPr/>
        </p:nvSpPr>
        <p:spPr>
          <a:xfrm>
            <a:off x="1428840" y="4714920"/>
            <a:ext cx="8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流程图: 联系 58"/>
          <p:cNvSpPr/>
          <p:nvPr/>
        </p:nvSpPr>
        <p:spPr>
          <a:xfrm>
            <a:off x="5106960" y="4749840"/>
            <a:ext cx="108000" cy="1080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任意多边形 59"/>
          <p:cNvSpPr/>
          <p:nvPr/>
        </p:nvSpPr>
        <p:spPr>
          <a:xfrm>
            <a:off x="2654280" y="2027160"/>
            <a:ext cx="2492280" cy="2751120"/>
          </a:xfrm>
          <a:custGeom>
            <a:avLst/>
            <a:gdLst/>
            <a:ahLst/>
            <a:rect l="l" t="t" r="r" b="b"/>
            <a:pathLst>
              <a:path w="2492477" h="2750574">
                <a:moveTo>
                  <a:pt x="0" y="66368"/>
                </a:moveTo>
                <a:cubicBezTo>
                  <a:pt x="175751" y="33184"/>
                  <a:pt x="351503" y="0"/>
                  <a:pt x="516193" y="81116"/>
                </a:cubicBezTo>
                <a:cubicBezTo>
                  <a:pt x="680883" y="162232"/>
                  <a:pt x="823452" y="439994"/>
                  <a:pt x="988142" y="553065"/>
                </a:cubicBezTo>
                <a:cubicBezTo>
                  <a:pt x="1152832" y="666136"/>
                  <a:pt x="1334729" y="523568"/>
                  <a:pt x="1504335" y="759542"/>
                </a:cubicBezTo>
                <a:cubicBezTo>
                  <a:pt x="1673941" y="995516"/>
                  <a:pt x="1841090" y="1637071"/>
                  <a:pt x="2005780" y="1968910"/>
                </a:cubicBezTo>
                <a:cubicBezTo>
                  <a:pt x="2170470" y="2300749"/>
                  <a:pt x="2492477" y="2750574"/>
                  <a:pt x="2492477" y="2750574"/>
                </a:cubicBezTo>
                <a:lnTo>
                  <a:pt x="2492477" y="2750574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流程图: 联系 60"/>
          <p:cNvSpPr/>
          <p:nvPr/>
        </p:nvSpPr>
        <p:spPr>
          <a:xfrm>
            <a:off x="2606760" y="1677960"/>
            <a:ext cx="108000" cy="108000"/>
          </a:xfrm>
          <a:prstGeom prst="flowChartConnector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流程图: 联系 61"/>
          <p:cNvSpPr/>
          <p:nvPr/>
        </p:nvSpPr>
        <p:spPr>
          <a:xfrm>
            <a:off x="5143680" y="3463920"/>
            <a:ext cx="107640" cy="108000"/>
          </a:xfrm>
          <a:prstGeom prst="flowChartConnector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流程图: 联系 62"/>
          <p:cNvSpPr/>
          <p:nvPr/>
        </p:nvSpPr>
        <p:spPr>
          <a:xfrm>
            <a:off x="4606920" y="3929040"/>
            <a:ext cx="108000" cy="108000"/>
          </a:xfrm>
          <a:prstGeom prst="flowChartConnector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0" name="流程图: 联系 63"/>
          <p:cNvSpPr/>
          <p:nvPr/>
        </p:nvSpPr>
        <p:spPr>
          <a:xfrm>
            <a:off x="4071960" y="3463920"/>
            <a:ext cx="108000" cy="108000"/>
          </a:xfrm>
          <a:prstGeom prst="flowChartConnector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流程图: 联系 64"/>
          <p:cNvSpPr/>
          <p:nvPr/>
        </p:nvSpPr>
        <p:spPr>
          <a:xfrm>
            <a:off x="3571920" y="3035160"/>
            <a:ext cx="108000" cy="108000"/>
          </a:xfrm>
          <a:prstGeom prst="flowChartConnector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流程图: 联系 65"/>
          <p:cNvSpPr/>
          <p:nvPr/>
        </p:nvSpPr>
        <p:spPr>
          <a:xfrm>
            <a:off x="3071880" y="2535120"/>
            <a:ext cx="108000" cy="108000"/>
          </a:xfrm>
          <a:prstGeom prst="flowChartConnector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任意多边形 56"/>
          <p:cNvSpPr/>
          <p:nvPr/>
        </p:nvSpPr>
        <p:spPr>
          <a:xfrm>
            <a:off x="2670120" y="1714680"/>
            <a:ext cx="2521080" cy="2273040"/>
          </a:xfrm>
          <a:custGeom>
            <a:avLst/>
            <a:gdLst/>
            <a:ahLst/>
            <a:rect l="l" t="t" r="r" b="b"/>
            <a:pathLst>
              <a:path w="2521974" h="2273710">
                <a:moveTo>
                  <a:pt x="0" y="0"/>
                </a:moveTo>
                <a:cubicBezTo>
                  <a:pt x="131506" y="325693"/>
                  <a:pt x="263013" y="651387"/>
                  <a:pt x="427703" y="884903"/>
                </a:cubicBezTo>
                <a:cubicBezTo>
                  <a:pt x="592393" y="1118419"/>
                  <a:pt x="813619" y="1246239"/>
                  <a:pt x="988142" y="1401097"/>
                </a:cubicBezTo>
                <a:cubicBezTo>
                  <a:pt x="1162665" y="1555955"/>
                  <a:pt x="1315065" y="1669026"/>
                  <a:pt x="1474839" y="1814052"/>
                </a:cubicBezTo>
                <a:cubicBezTo>
                  <a:pt x="1634613" y="1959078"/>
                  <a:pt x="1772265" y="2268794"/>
                  <a:pt x="1946787" y="2271252"/>
                </a:cubicBezTo>
                <a:cubicBezTo>
                  <a:pt x="2121310" y="2273710"/>
                  <a:pt x="2521974" y="1828800"/>
                  <a:pt x="2521974" y="1828800"/>
                </a:cubicBezTo>
                <a:lnTo>
                  <a:pt x="2521974" y="1828800"/>
                </a:lnTo>
                <a:lnTo>
                  <a:pt x="2521974" y="1828800"/>
                </a:lnTo>
              </a:path>
            </a:pathLst>
          </a:custGeom>
          <a:noFill/>
          <a:ln w="255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TextBox 66"/>
          <p:cNvSpPr/>
          <p:nvPr/>
        </p:nvSpPr>
        <p:spPr>
          <a:xfrm>
            <a:off x="3357720" y="19288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黄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TextBox 67"/>
          <p:cNvSpPr/>
          <p:nvPr/>
        </p:nvSpPr>
        <p:spPr>
          <a:xfrm>
            <a:off x="4929120" y="357192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f0"/>
                </a:solidFill>
                <a:latin typeface="Arial"/>
              </a:rPr>
              <a:t>西红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TextBox 68"/>
          <p:cNvSpPr/>
          <p:nvPr/>
        </p:nvSpPr>
        <p:spPr>
          <a:xfrm>
            <a:off x="428760" y="214200"/>
            <a:ext cx="44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统计图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2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2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2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2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2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2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2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2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2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2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2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2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2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TextBox 1"/>
          <p:cNvSpPr/>
          <p:nvPr/>
        </p:nvSpPr>
        <p:spPr>
          <a:xfrm>
            <a:off x="357120" y="70164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TextBox 2"/>
          <p:cNvSpPr/>
          <p:nvPr/>
        </p:nvSpPr>
        <p:spPr>
          <a:xfrm>
            <a:off x="2786040" y="9874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6÷1.8=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9" name="Object 2"/>
              <p:cNvSpPr txBox="1"/>
              <p:nvPr/>
            </p:nvSpPr>
            <p:spPr>
              <a:xfrm>
                <a:off x="4657680" y="630360"/>
                <a:ext cx="4143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0" name="Object 3"/>
              <p:cNvSpPr txBox="1"/>
              <p:nvPr/>
            </p:nvSpPr>
            <p:spPr>
              <a:xfrm>
                <a:off x="2471760" y="1916280"/>
                <a:ext cx="348948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1" name="TextBox 5"/>
          <p:cNvSpPr/>
          <p:nvPr/>
        </p:nvSpPr>
        <p:spPr>
          <a:xfrm>
            <a:off x="500040" y="3344760"/>
            <a:ext cx="82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月比，黄瓜价格下降了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.7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TextBox 7"/>
          <p:cNvSpPr/>
          <p:nvPr/>
        </p:nvSpPr>
        <p:spPr>
          <a:xfrm>
            <a:off x="214200" y="4214880"/>
            <a:ext cx="142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TextBox 10"/>
          <p:cNvSpPr/>
          <p:nvPr/>
        </p:nvSpPr>
        <p:spPr>
          <a:xfrm>
            <a:off x="1214280" y="4357800"/>
            <a:ext cx="75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：从统计图中可以看出，总体来说，西红柿的价格较黄瓜的价格来说比较平稳，且下降后的西红柿价格依然比黄瓜的而价格高，所以西红柿的价格贵一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TextBox 1"/>
          <p:cNvSpPr/>
          <p:nvPr/>
        </p:nvSpPr>
        <p:spPr>
          <a:xfrm>
            <a:off x="857160" y="206532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黄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月的平均价格为：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8+1.8+1.6+1.5+1+0.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TextBox 2"/>
          <p:cNvSpPr/>
          <p:nvPr/>
        </p:nvSpPr>
        <p:spPr>
          <a:xfrm>
            <a:off x="785880" y="3708360"/>
            <a:ext cx="792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西红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月的平均价格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+1.6+1.4+1.2+1+1.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6=1.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元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TextBox 3"/>
          <p:cNvSpPr/>
          <p:nvPr/>
        </p:nvSpPr>
        <p:spPr>
          <a:xfrm>
            <a:off x="357120" y="64296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TextBox 4"/>
          <p:cNvSpPr/>
          <p:nvPr/>
        </p:nvSpPr>
        <p:spPr>
          <a:xfrm>
            <a:off x="1357200" y="1058760"/>
            <a:ext cx="38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表格还可以得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500"/>
                                        <p:tgtEl>
                                          <p:spTgt spid="2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8" name="TextBox 1"/>
          <p:cNvSpPr/>
          <p:nvPr/>
        </p:nvSpPr>
        <p:spPr>
          <a:xfrm>
            <a:off x="357120" y="28584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过，最有趣的还是父子钓鱼比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9" name="图表 2"/>
          <p:cNvGraphicFramePr/>
          <p:nvPr/>
        </p:nvGraphicFramePr>
        <p:xfrm>
          <a:off x="163440" y="1806480"/>
          <a:ext cx="8817120" cy="438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10" name="图表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440" y="1806480"/>
                    <a:ext cx="8817120" cy="43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1" name="TextBox 17"/>
          <p:cNvSpPr/>
          <p:nvPr/>
        </p:nvSpPr>
        <p:spPr>
          <a:xfrm>
            <a:off x="2643120" y="1058760"/>
            <a:ext cx="32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钓鱼成绩统计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TextBox 18"/>
          <p:cNvSpPr/>
          <p:nvPr/>
        </p:nvSpPr>
        <p:spPr>
          <a:xfrm>
            <a:off x="214200" y="121428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3" name="TextBox 1"/>
          <p:cNvSpPr/>
          <p:nvPr/>
        </p:nvSpPr>
        <p:spPr>
          <a:xfrm>
            <a:off x="428760" y="142920"/>
            <a:ext cx="84294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位爸爸一共钓了多少条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伯伯钓的鱼是三家钓鱼总数的几分之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王明钓的鱼比我少百分之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TextBox 2"/>
          <p:cNvSpPr/>
          <p:nvPr/>
        </p:nvSpPr>
        <p:spPr>
          <a:xfrm>
            <a:off x="71280" y="207180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TextBox 3"/>
          <p:cNvSpPr/>
          <p:nvPr/>
        </p:nvSpPr>
        <p:spPr>
          <a:xfrm>
            <a:off x="2643120" y="2143080"/>
            <a:ext cx="31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+7+5=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条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TextBox 4"/>
          <p:cNvSpPr/>
          <p:nvPr/>
        </p:nvSpPr>
        <p:spPr>
          <a:xfrm>
            <a:off x="1214280" y="2714760"/>
            <a:ext cx="59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：三位爸爸一共钓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条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TextBox 5"/>
          <p:cNvSpPr/>
          <p:nvPr/>
        </p:nvSpPr>
        <p:spPr>
          <a:xfrm>
            <a:off x="71280" y="335772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TextBox 6"/>
          <p:cNvSpPr/>
          <p:nvPr/>
        </p:nvSpPr>
        <p:spPr>
          <a:xfrm>
            <a:off x="1000080" y="4059360"/>
            <a:ext cx="792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家钓鱼总数为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+2+7+2+5+4=2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条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9" name="Object 2"/>
              <p:cNvSpPr txBox="1"/>
              <p:nvPr/>
            </p:nvSpPr>
            <p:spPr>
              <a:xfrm>
                <a:off x="3571920" y="4572000"/>
                <a:ext cx="18637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20" name="TextBox 8"/>
          <p:cNvSpPr/>
          <p:nvPr/>
        </p:nvSpPr>
        <p:spPr>
          <a:xfrm>
            <a:off x="857160" y="5773680"/>
            <a:ext cx="785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：周伯伯钓的鱼是三家钓鱼总数的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1" name="Object 3"/>
              <p:cNvSpPr txBox="1"/>
              <p:nvPr/>
            </p:nvSpPr>
            <p:spPr>
              <a:xfrm>
                <a:off x="7500960" y="5500800"/>
                <a:ext cx="3776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0" dur="500"/>
                                        <p:tgtEl>
                                          <p:spTgt spid="2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500"/>
                                        <p:tgtEl>
                                          <p:spTgt spid="2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2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2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TextBox 1"/>
          <p:cNvSpPr/>
          <p:nvPr/>
        </p:nvSpPr>
        <p:spPr>
          <a:xfrm>
            <a:off x="714240" y="1643040"/>
            <a:ext cx="242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TextBox 3"/>
          <p:cNvSpPr/>
          <p:nvPr/>
        </p:nvSpPr>
        <p:spPr>
          <a:xfrm>
            <a:off x="3214800" y="228600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÷4=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TextBox 4"/>
          <p:cNvSpPr/>
          <p:nvPr/>
        </p:nvSpPr>
        <p:spPr>
          <a:xfrm>
            <a:off x="2786040" y="3429000"/>
            <a:ext cx="32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0.5=0.5=5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TextBox 5"/>
          <p:cNvSpPr/>
          <p:nvPr/>
        </p:nvSpPr>
        <p:spPr>
          <a:xfrm>
            <a:off x="1571760" y="4844880"/>
            <a:ext cx="59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答：王明钓的鱼比我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%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6" name="矩形 3" descr=""/>
          <p:cNvPicPr/>
          <p:nvPr/>
        </p:nvPicPr>
        <p:blipFill>
          <a:blip r:embed="rId1"/>
          <a:stretch/>
        </p:blipFill>
        <p:spPr>
          <a:xfrm>
            <a:off x="3127320" y="2822400"/>
            <a:ext cx="2962440" cy="92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Rectangle 16"/>
          <p:cNvSpPr/>
          <p:nvPr/>
        </p:nvSpPr>
        <p:spPr>
          <a:xfrm>
            <a:off x="108000" y="115920"/>
            <a:ext cx="899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同时扔两枚硬币，如果有反面则李丽胜，两个同时为正面或同时为反面则王军胜，这个游戏公平吗？说明理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Text Box 17"/>
          <p:cNvSpPr/>
          <p:nvPr/>
        </p:nvSpPr>
        <p:spPr>
          <a:xfrm>
            <a:off x="34920" y="1844640"/>
            <a:ext cx="13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Text Box 18"/>
          <p:cNvSpPr/>
          <p:nvPr/>
        </p:nvSpPr>
        <p:spPr>
          <a:xfrm>
            <a:off x="900000" y="198900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同时扔两枚硬币，结果可能有：正正，正反，反正，反反这四种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Text Box 19"/>
          <p:cNvSpPr/>
          <p:nvPr/>
        </p:nvSpPr>
        <p:spPr>
          <a:xfrm>
            <a:off x="1547640" y="3122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李丽胜的可能性是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÷4=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1" name="Object 2"/>
              <p:cNvSpPr txBox="1"/>
              <p:nvPr/>
            </p:nvSpPr>
            <p:spPr>
              <a:xfrm>
                <a:off x="6440400" y="2852640"/>
                <a:ext cx="3636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2" name="Text Box 21"/>
          <p:cNvSpPr/>
          <p:nvPr/>
        </p:nvSpPr>
        <p:spPr>
          <a:xfrm>
            <a:off x="1547640" y="407664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王军胜的可能性是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÷4=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3" name="Object 3"/>
              <p:cNvSpPr txBox="1"/>
              <p:nvPr/>
            </p:nvSpPr>
            <p:spPr>
              <a:xfrm>
                <a:off x="6440400" y="3807000"/>
                <a:ext cx="3636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4" name="Object 4"/>
              <p:cNvSpPr txBox="1"/>
              <p:nvPr/>
            </p:nvSpPr>
            <p:spPr>
              <a:xfrm>
                <a:off x="4205160" y="4581360"/>
                <a:ext cx="363600" cy="10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5" name="Object 5"/>
              <p:cNvSpPr txBox="1"/>
              <p:nvPr/>
            </p:nvSpPr>
            <p:spPr>
              <a:xfrm>
                <a:off x="5000760" y="4581360"/>
                <a:ext cx="363240" cy="106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6" name="Text Box 26"/>
          <p:cNvSpPr/>
          <p:nvPr/>
        </p:nvSpPr>
        <p:spPr>
          <a:xfrm>
            <a:off x="684360" y="558972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：因为李丽胜的可能性大于王军胜的可能性，所以游戏不公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Text Box 27"/>
          <p:cNvSpPr/>
          <p:nvPr/>
        </p:nvSpPr>
        <p:spPr>
          <a:xfrm>
            <a:off x="4564080" y="48704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3" dur="500"/>
                                        <p:tgtEl>
                                          <p:spTgt spid="2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6" dur="500"/>
                                        <p:tgtEl>
                                          <p:spTgt spid="2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500"/>
                                        <p:tgtEl>
                                          <p:spTgt spid="2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4" dur="500"/>
                                        <p:tgtEl>
                                          <p:spTgt spid="2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500"/>
                                        <p:tgtEl>
                                          <p:spTgt spid="2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500"/>
                                        <p:tgtEl>
                                          <p:spTgt spid="2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500"/>
                                        <p:tgtEl>
                                          <p:spTgt spid="2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5" name="Text Box 2"/>
          <p:cNvSpPr/>
          <p:nvPr/>
        </p:nvSpPr>
        <p:spPr>
          <a:xfrm>
            <a:off x="826920" y="549360"/>
            <a:ext cx="59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和描述数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6" name="Group 3"/>
          <p:cNvGrpSpPr/>
          <p:nvPr/>
        </p:nvGrpSpPr>
        <p:grpSpPr>
          <a:xfrm>
            <a:off x="1189080" y="1484280"/>
            <a:ext cx="3814560" cy="1296720"/>
            <a:chOff x="1189080" y="1484280"/>
            <a:chExt cx="3814560" cy="1296720"/>
          </a:xfrm>
        </p:grpSpPr>
        <p:sp>
          <p:nvSpPr>
            <p:cNvPr id="2707" name="Text Box 4"/>
            <p:cNvSpPr/>
            <p:nvPr/>
          </p:nvSpPr>
          <p:spPr>
            <a:xfrm>
              <a:off x="2844720" y="1484280"/>
              <a:ext cx="21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Garamond"/>
                </a:rPr>
                <a:t>单式统计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Text Box 5"/>
            <p:cNvSpPr/>
            <p:nvPr/>
          </p:nvSpPr>
          <p:spPr>
            <a:xfrm>
              <a:off x="2844720" y="2260440"/>
              <a:ext cx="21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Garamond"/>
                </a:rPr>
                <a:t>复式统计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Rectangle 6"/>
            <p:cNvSpPr/>
            <p:nvPr/>
          </p:nvSpPr>
          <p:spPr>
            <a:xfrm>
              <a:off x="1189080" y="17715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Garamond"/>
                </a:rPr>
                <a:t>统计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AutoShape 7"/>
            <p:cNvSpPr/>
            <p:nvPr/>
          </p:nvSpPr>
          <p:spPr>
            <a:xfrm>
              <a:off x="2701800" y="1700280"/>
              <a:ext cx="142920" cy="934920"/>
            </a:xfrm>
            <a:custGeom>
              <a:avLst/>
              <a:gdLst>
                <a:gd name="textAreaLeft" fmla="*/ 91440 w 142920"/>
                <a:gd name="textAreaRight" fmla="*/ 143280 w 14292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1" name="Group 8"/>
          <p:cNvGrpSpPr/>
          <p:nvPr/>
        </p:nvGrpSpPr>
        <p:grpSpPr>
          <a:xfrm>
            <a:off x="1260360" y="2997360"/>
            <a:ext cx="6480360" cy="2823840"/>
            <a:chOff x="1260360" y="2997360"/>
            <a:chExt cx="6480360" cy="2823840"/>
          </a:xfrm>
        </p:grpSpPr>
        <p:sp>
          <p:nvSpPr>
            <p:cNvPr id="2712" name="Text Box 9"/>
            <p:cNvSpPr/>
            <p:nvPr/>
          </p:nvSpPr>
          <p:spPr>
            <a:xfrm>
              <a:off x="2844720" y="3355920"/>
              <a:ext cx="21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Garamond"/>
                </a:rPr>
                <a:t>条形统计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Text Box 10"/>
            <p:cNvSpPr/>
            <p:nvPr/>
          </p:nvSpPr>
          <p:spPr>
            <a:xfrm>
              <a:off x="2844720" y="4421160"/>
              <a:ext cx="21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Garamond"/>
                </a:rPr>
                <a:t>折线统计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Text Box 11"/>
            <p:cNvSpPr/>
            <p:nvPr/>
          </p:nvSpPr>
          <p:spPr>
            <a:xfrm>
              <a:off x="2844720" y="5300640"/>
              <a:ext cx="21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Garamond"/>
                </a:rPr>
                <a:t>扇形统计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Rectangle 12"/>
            <p:cNvSpPr/>
            <p:nvPr/>
          </p:nvSpPr>
          <p:spPr>
            <a:xfrm>
              <a:off x="1260360" y="43498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Garamond"/>
                </a:rPr>
                <a:t>统计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Text Box 13"/>
            <p:cNvSpPr/>
            <p:nvPr/>
          </p:nvSpPr>
          <p:spPr>
            <a:xfrm>
              <a:off x="5003640" y="2997360"/>
              <a:ext cx="27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Garamond"/>
                </a:rPr>
                <a:t>单式条形统计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Text Box 14"/>
            <p:cNvSpPr/>
            <p:nvPr/>
          </p:nvSpPr>
          <p:spPr>
            <a:xfrm>
              <a:off x="5003640" y="3645000"/>
              <a:ext cx="27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Garamond"/>
                </a:rPr>
                <a:t>复式条形统计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Text Box 15"/>
            <p:cNvSpPr/>
            <p:nvPr/>
          </p:nvSpPr>
          <p:spPr>
            <a:xfrm>
              <a:off x="5005440" y="4205160"/>
              <a:ext cx="27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Garamond"/>
                </a:rPr>
                <a:t>单式折线统计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Text Box 16"/>
            <p:cNvSpPr/>
            <p:nvPr/>
          </p:nvSpPr>
          <p:spPr>
            <a:xfrm>
              <a:off x="5005440" y="4781520"/>
              <a:ext cx="273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Garamond"/>
                </a:rPr>
                <a:t>复式折线统计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AutoShape 17"/>
            <p:cNvSpPr/>
            <p:nvPr/>
          </p:nvSpPr>
          <p:spPr>
            <a:xfrm>
              <a:off x="2700360" y="3571920"/>
              <a:ext cx="144360" cy="20890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54360 h 2089080"/>
                <a:gd name="textAreaBottom" fmla="*/ 2034720 h 2089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AutoShape 18"/>
            <p:cNvSpPr/>
            <p:nvPr/>
          </p:nvSpPr>
          <p:spPr>
            <a:xfrm>
              <a:off x="4932360" y="3213000"/>
              <a:ext cx="71280" cy="86364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22320 h 863640"/>
                <a:gd name="textAreaBottom" fmla="*/ 8413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AutoShape 19"/>
            <p:cNvSpPr/>
            <p:nvPr/>
          </p:nvSpPr>
          <p:spPr>
            <a:xfrm>
              <a:off x="4932360" y="4365720"/>
              <a:ext cx="71280" cy="863640"/>
            </a:xfrm>
            <a:custGeom>
              <a:avLst/>
              <a:gdLst>
                <a:gd name="textAreaLeft" fmla="*/ 45720 w 71280"/>
                <a:gd name="textAreaRight" fmla="*/ 71640 w 71280"/>
                <a:gd name="textAreaTop" fmla="*/ 22320 h 863640"/>
                <a:gd name="textAreaBottom" fmla="*/ 8413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8" name="Group 6"/>
          <p:cNvGrpSpPr/>
          <p:nvPr/>
        </p:nvGrpSpPr>
        <p:grpSpPr>
          <a:xfrm>
            <a:off x="685800" y="4800600"/>
            <a:ext cx="8001000" cy="579600"/>
            <a:chOff x="685800" y="4800600"/>
            <a:chExt cx="8001000" cy="579600"/>
          </a:xfrm>
        </p:grpSpPr>
        <p:sp>
          <p:nvSpPr>
            <p:cNvPr id="2939" name="Text Box 7"/>
            <p:cNvSpPr/>
            <p:nvPr/>
          </p:nvSpPr>
          <p:spPr>
            <a:xfrm>
              <a:off x="685800" y="4800600"/>
              <a:ext cx="3276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Text Box 8"/>
            <p:cNvSpPr/>
            <p:nvPr/>
          </p:nvSpPr>
          <p:spPr>
            <a:xfrm>
              <a:off x="5029200" y="4800600"/>
              <a:ext cx="3657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1" name="Text Box 9"/>
          <p:cNvSpPr/>
          <p:nvPr/>
        </p:nvSpPr>
        <p:spPr>
          <a:xfrm>
            <a:off x="228600" y="1066680"/>
            <a:ext cx="855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盒子中有红、白、黄、绿四种颜色的球各一个，只取一次，拿出红色球的可能性是多少？白色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2" name="矩形 4" descr=""/>
          <p:cNvPicPr/>
          <p:nvPr/>
        </p:nvPicPr>
        <p:blipFill>
          <a:blip r:embed="rId1"/>
          <a:stretch/>
        </p:blipFill>
        <p:spPr>
          <a:xfrm>
            <a:off x="3505320" y="2670120"/>
            <a:ext cx="227304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3" name="Text Box 3"/>
          <p:cNvSpPr/>
          <p:nvPr/>
        </p:nvSpPr>
        <p:spPr>
          <a:xfrm>
            <a:off x="179280" y="83808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抛一枚硬币，有（      ）可能，分别是（            ）和（            ）。出现正面的可能性是（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Text Box 4"/>
          <p:cNvSpPr/>
          <p:nvPr/>
        </p:nvSpPr>
        <p:spPr>
          <a:xfrm>
            <a:off x="250920" y="3284640"/>
            <a:ext cx="86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某人抛硬币连续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次都正面朝上，那么第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次抛硬币正面朝上的可能性（           ），如果抛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次，正面朝上可能是（      ）次，反面朝上是（     ）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Text Box 5"/>
          <p:cNvSpPr/>
          <p:nvPr/>
        </p:nvSpPr>
        <p:spPr>
          <a:xfrm>
            <a:off x="5029200" y="91440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两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Text Box 6"/>
          <p:cNvSpPr/>
          <p:nvPr/>
        </p:nvSpPr>
        <p:spPr>
          <a:xfrm>
            <a:off x="1219320" y="152388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正面朝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Text Box 7"/>
          <p:cNvSpPr/>
          <p:nvPr/>
        </p:nvSpPr>
        <p:spPr>
          <a:xfrm>
            <a:off x="4276800" y="1476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反面朝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Text Box 8"/>
          <p:cNvSpPr/>
          <p:nvPr/>
        </p:nvSpPr>
        <p:spPr>
          <a:xfrm>
            <a:off x="7648560" y="657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Text Box 9"/>
          <p:cNvSpPr/>
          <p:nvPr/>
        </p:nvSpPr>
        <p:spPr>
          <a:xfrm>
            <a:off x="2411280" y="508464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Text Box 10"/>
          <p:cNvSpPr/>
          <p:nvPr/>
        </p:nvSpPr>
        <p:spPr>
          <a:xfrm>
            <a:off x="7740720" y="50846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1" name="Object 2"/>
              <p:cNvSpPr txBox="1"/>
              <p:nvPr/>
            </p:nvSpPr>
            <p:spPr>
              <a:xfrm>
                <a:off x="4148280" y="1862280"/>
                <a:ext cx="69516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2" name="Object 3"/>
              <p:cNvSpPr txBox="1"/>
              <p:nvPr/>
            </p:nvSpPr>
            <p:spPr>
              <a:xfrm>
                <a:off x="1371600" y="4460760"/>
                <a:ext cx="581040" cy="78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cover dir="l"/>
    <p:sndAc>
      <p:stSnd>
        <p:snd r:embed="rId1" name="chimes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7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Text Box 4"/>
          <p:cNvSpPr/>
          <p:nvPr/>
        </p:nvSpPr>
        <p:spPr>
          <a:xfrm>
            <a:off x="581040" y="-9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说说下列事件的可能性大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4" name="Picture 5" descr="1"/>
          <p:cNvPicPr/>
          <p:nvPr/>
        </p:nvPicPr>
        <p:blipFill>
          <a:blip r:embed="rId1"/>
          <a:stretch/>
        </p:blipFill>
        <p:spPr>
          <a:xfrm>
            <a:off x="1454040" y="982800"/>
            <a:ext cx="1101960" cy="1157040"/>
          </a:xfrm>
          <a:prstGeom prst="rect">
            <a:avLst/>
          </a:prstGeom>
          <a:ln w="0">
            <a:noFill/>
          </a:ln>
        </p:spPr>
      </p:pic>
      <p:sp>
        <p:nvSpPr>
          <p:cNvPr id="2735" name="Text Box 35"/>
          <p:cNvSpPr/>
          <p:nvPr/>
        </p:nvSpPr>
        <p:spPr>
          <a:xfrm>
            <a:off x="755640" y="234936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掷一次，掷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Rectangle 36"/>
          <p:cNvSpPr/>
          <p:nvPr/>
        </p:nvSpPr>
        <p:spPr>
          <a:xfrm>
            <a:off x="179280" y="765000"/>
            <a:ext cx="3889440" cy="2303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7" name="Group 47"/>
          <p:cNvGrpSpPr/>
          <p:nvPr/>
        </p:nvGrpSpPr>
        <p:grpSpPr>
          <a:xfrm>
            <a:off x="4788000" y="765000"/>
            <a:ext cx="4031640" cy="2320920"/>
            <a:chOff x="4788000" y="765000"/>
            <a:chExt cx="4031640" cy="2320920"/>
          </a:xfrm>
        </p:grpSpPr>
        <p:grpSp>
          <p:nvGrpSpPr>
            <p:cNvPr id="2738" name="Group 15"/>
            <p:cNvGrpSpPr/>
            <p:nvPr/>
          </p:nvGrpSpPr>
          <p:grpSpPr>
            <a:xfrm>
              <a:off x="6372000" y="1125360"/>
              <a:ext cx="2305800" cy="1223640"/>
              <a:chOff x="6372000" y="1125360"/>
              <a:chExt cx="2305800" cy="1223640"/>
            </a:xfrm>
          </p:grpSpPr>
          <p:pic>
            <p:nvPicPr>
              <p:cNvPr id="2739" name="Picture 6" descr="2"/>
              <p:cNvPicPr/>
              <p:nvPr/>
            </p:nvPicPr>
            <p:blipFill>
              <a:blip r:embed="rId2"/>
              <a:stretch/>
            </p:blipFill>
            <p:spPr>
              <a:xfrm>
                <a:off x="6372000" y="1125360"/>
                <a:ext cx="2305800" cy="122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0" name="Oval 7"/>
              <p:cNvSpPr/>
              <p:nvPr/>
            </p:nvSpPr>
            <p:spPr>
              <a:xfrm rot="16200000">
                <a:off x="6634440" y="1880280"/>
                <a:ext cx="256320" cy="28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Oval 8"/>
              <p:cNvSpPr/>
              <p:nvPr/>
            </p:nvSpPr>
            <p:spPr>
              <a:xfrm rot="16200000">
                <a:off x="6634080" y="1536120"/>
                <a:ext cx="256680" cy="28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Oval 9"/>
              <p:cNvSpPr/>
              <p:nvPr/>
            </p:nvSpPr>
            <p:spPr>
              <a:xfrm rot="16200000">
                <a:off x="7003800" y="1880280"/>
                <a:ext cx="256320" cy="28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Oval 10"/>
              <p:cNvSpPr/>
              <p:nvPr/>
            </p:nvSpPr>
            <p:spPr>
              <a:xfrm rot="16200000">
                <a:off x="7045560" y="1536120"/>
                <a:ext cx="256680" cy="28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Oval 11"/>
              <p:cNvSpPr/>
              <p:nvPr/>
            </p:nvSpPr>
            <p:spPr>
              <a:xfrm rot="16200000">
                <a:off x="7415280" y="1536120"/>
                <a:ext cx="256680" cy="28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Oval 12"/>
              <p:cNvSpPr/>
              <p:nvPr/>
            </p:nvSpPr>
            <p:spPr>
              <a:xfrm rot="16200000">
                <a:off x="7415640" y="1880280"/>
                <a:ext cx="25632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Oval 13"/>
              <p:cNvSpPr/>
              <p:nvPr/>
            </p:nvSpPr>
            <p:spPr>
              <a:xfrm rot="16200000">
                <a:off x="7826760" y="1536120"/>
                <a:ext cx="25668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Oval 14"/>
              <p:cNvSpPr/>
              <p:nvPr/>
            </p:nvSpPr>
            <p:spPr>
              <a:xfrm rot="16200000">
                <a:off x="7827120" y="1880280"/>
                <a:ext cx="256320" cy="288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8" name="Text Box 38"/>
            <p:cNvSpPr/>
            <p:nvPr/>
          </p:nvSpPr>
          <p:spPr>
            <a:xfrm>
              <a:off x="5508360" y="2565360"/>
              <a:ext cx="331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摸一次，摸到红球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Text Box 39"/>
            <p:cNvSpPr/>
            <p:nvPr/>
          </p:nvSpPr>
          <p:spPr>
            <a:xfrm>
              <a:off x="4788000" y="765000"/>
              <a:ext cx="180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红球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Text Box 42"/>
            <p:cNvSpPr/>
            <p:nvPr/>
          </p:nvSpPr>
          <p:spPr>
            <a:xfrm>
              <a:off x="4788000" y="1125360"/>
              <a:ext cx="194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白球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Rectangle 43"/>
            <p:cNvSpPr/>
            <p:nvPr/>
          </p:nvSpPr>
          <p:spPr>
            <a:xfrm>
              <a:off x="4858920" y="765000"/>
              <a:ext cx="3889080" cy="2303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2" name="Group 49"/>
          <p:cNvGrpSpPr/>
          <p:nvPr/>
        </p:nvGrpSpPr>
        <p:grpSpPr>
          <a:xfrm>
            <a:off x="4859280" y="3789360"/>
            <a:ext cx="3889440" cy="2303640"/>
            <a:chOff x="4859280" y="3789360"/>
            <a:chExt cx="3889440" cy="2303640"/>
          </a:xfrm>
        </p:grpSpPr>
        <p:grpSp>
          <p:nvGrpSpPr>
            <p:cNvPr id="2753" name="Group 34"/>
            <p:cNvGrpSpPr/>
            <p:nvPr/>
          </p:nvGrpSpPr>
          <p:grpSpPr>
            <a:xfrm>
              <a:off x="5508720" y="4076640"/>
              <a:ext cx="2736720" cy="934920"/>
              <a:chOff x="5508720" y="4076640"/>
              <a:chExt cx="2736720" cy="934920"/>
            </a:xfrm>
          </p:grpSpPr>
          <p:sp>
            <p:nvSpPr>
              <p:cNvPr id="2754" name="Rectangle 29"/>
              <p:cNvSpPr/>
              <p:nvPr/>
            </p:nvSpPr>
            <p:spPr>
              <a:xfrm>
                <a:off x="5508720" y="4076640"/>
                <a:ext cx="433440" cy="93492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Rectangle 30"/>
              <p:cNvSpPr/>
              <p:nvPr/>
            </p:nvSpPr>
            <p:spPr>
              <a:xfrm>
                <a:off x="6084720" y="4076640"/>
                <a:ext cx="433440" cy="93492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Rectangle 31"/>
              <p:cNvSpPr/>
              <p:nvPr/>
            </p:nvSpPr>
            <p:spPr>
              <a:xfrm>
                <a:off x="6659640" y="4076640"/>
                <a:ext cx="433440" cy="93492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Rectangle 32"/>
              <p:cNvSpPr/>
              <p:nvPr/>
            </p:nvSpPr>
            <p:spPr>
              <a:xfrm>
                <a:off x="7236000" y="4076640"/>
                <a:ext cx="433080" cy="93492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Rectangle 33"/>
              <p:cNvSpPr/>
              <p:nvPr/>
            </p:nvSpPr>
            <p:spPr>
              <a:xfrm>
                <a:off x="7812000" y="4076640"/>
                <a:ext cx="433440" cy="934920"/>
              </a:xfrm>
              <a:prstGeom prst="rect">
                <a:avLst/>
              </a:prstGeom>
              <a:solidFill>
                <a:srgbClr val="ccff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9" name="Text Box 41"/>
            <p:cNvSpPr/>
            <p:nvPr/>
          </p:nvSpPr>
          <p:spPr>
            <a:xfrm>
              <a:off x="5148360" y="5445000"/>
              <a:ext cx="352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翻转后摸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张，和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Rectangle 45"/>
            <p:cNvSpPr/>
            <p:nvPr/>
          </p:nvSpPr>
          <p:spPr>
            <a:xfrm>
              <a:off x="4859280" y="3789360"/>
              <a:ext cx="3889440" cy="2303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61" name="Object 50"/>
              <p:cNvSpPr txBox="1"/>
              <p:nvPr/>
            </p:nvSpPr>
            <p:spPr>
              <a:xfrm>
                <a:off x="1258920" y="2924280"/>
                <a:ext cx="12556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÷</m:t>
                    </m:r>
                    <m:r>
                      <m:t xml:space="preserve">6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2" name="Object 51"/>
              <p:cNvSpPr txBox="1"/>
              <p:nvPr/>
            </p:nvSpPr>
            <p:spPr>
              <a:xfrm>
                <a:off x="6246720" y="2997360"/>
                <a:ext cx="127800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÷</m:t>
                    </m:r>
                    <m:r>
                      <m:t xml:space="preserve">8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3" name="Object 52"/>
              <p:cNvSpPr txBox="1"/>
              <p:nvPr/>
            </p:nvSpPr>
            <p:spPr>
              <a:xfrm>
                <a:off x="1320840" y="6016680"/>
                <a:ext cx="12762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÷</m:t>
                    </m:r>
                    <m:r>
                      <m:t xml:space="preserve">8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4" name="Object 53"/>
              <p:cNvSpPr txBox="1"/>
              <p:nvPr/>
            </p:nvSpPr>
            <p:spPr>
              <a:xfrm>
                <a:off x="6153120" y="5945040"/>
                <a:ext cx="1440000" cy="86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765" name="图表 49" descr=""/>
          <p:cNvPicPr/>
          <p:nvPr/>
        </p:nvPicPr>
        <p:blipFill>
          <a:blip r:embed="rId3"/>
          <a:stretch/>
        </p:blipFill>
        <p:spPr>
          <a:xfrm>
            <a:off x="285840" y="3611520"/>
            <a:ext cx="3857400" cy="2317680"/>
          </a:xfrm>
          <a:prstGeom prst="rect">
            <a:avLst/>
          </a:prstGeom>
          <a:ln w="0">
            <a:noFill/>
          </a:ln>
        </p:spPr>
      </p:pic>
      <p:sp>
        <p:nvSpPr>
          <p:cNvPr id="2766" name="直接连接符 53"/>
          <p:cNvSpPr/>
          <p:nvPr/>
        </p:nvSpPr>
        <p:spPr>
          <a:xfrm>
            <a:off x="1214280" y="4754520"/>
            <a:ext cx="20005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7" name="直接连接符 57"/>
          <p:cNvSpPr/>
          <p:nvPr/>
        </p:nvSpPr>
        <p:spPr>
          <a:xfrm flipV="1">
            <a:off x="1499400" y="4040280"/>
            <a:ext cx="1428840" cy="1428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TextBox 59"/>
          <p:cNvSpPr/>
          <p:nvPr/>
        </p:nvSpPr>
        <p:spPr>
          <a:xfrm>
            <a:off x="571680" y="571500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转一次，转到黄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Rectangle 36"/>
          <p:cNvSpPr/>
          <p:nvPr/>
        </p:nvSpPr>
        <p:spPr>
          <a:xfrm>
            <a:off x="182520" y="3714840"/>
            <a:ext cx="3889440" cy="250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500"/>
                                        <p:tgtEl>
                                          <p:spTgt spid="2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500"/>
                                        <p:tgtEl>
                                          <p:spTgt spid="2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500"/>
                                        <p:tgtEl>
                                          <p:spTgt spid="2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500"/>
                                        <p:tgtEl>
                                          <p:spTgt spid="2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0" name="Group 14"/>
          <p:cNvGrpSpPr/>
          <p:nvPr/>
        </p:nvGrpSpPr>
        <p:grpSpPr>
          <a:xfrm>
            <a:off x="108000" y="187200"/>
            <a:ext cx="3743280" cy="3098880"/>
            <a:chOff x="108000" y="187200"/>
            <a:chExt cx="3743280" cy="3098880"/>
          </a:xfrm>
        </p:grpSpPr>
        <p:pic>
          <p:nvPicPr>
            <p:cNvPr id="2771" name="Picture 4" descr="小老师_副本"/>
            <p:cNvPicPr/>
            <p:nvPr/>
          </p:nvPicPr>
          <p:blipFill>
            <a:blip r:embed="rId1"/>
            <a:stretch/>
          </p:blipFill>
          <p:spPr>
            <a:xfrm flipH="1">
              <a:off x="108000" y="939960"/>
              <a:ext cx="1311120" cy="234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2" name="AutoShape 6"/>
            <p:cNvSpPr/>
            <p:nvPr/>
          </p:nvSpPr>
          <p:spPr>
            <a:xfrm>
              <a:off x="1116000" y="187200"/>
              <a:ext cx="2735280" cy="1081080"/>
            </a:xfrm>
            <a:prstGeom prst="wedgeRectCallout">
              <a:avLst>
                <a:gd name="adj1" fmla="val -44430"/>
                <a:gd name="adj2" fmla="val 66004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关于可能性，你还知道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3" name="Text Box 7"/>
          <p:cNvSpPr/>
          <p:nvPr/>
        </p:nvSpPr>
        <p:spPr>
          <a:xfrm>
            <a:off x="1785960" y="1484280"/>
            <a:ext cx="7358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事情的可能性越大，事情越容易发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事情的可能性越小，事情越难发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4" name="Group 13"/>
          <p:cNvGrpSpPr/>
          <p:nvPr/>
        </p:nvGrpSpPr>
        <p:grpSpPr>
          <a:xfrm>
            <a:off x="4858920" y="2924280"/>
            <a:ext cx="4178520" cy="3889440"/>
            <a:chOff x="4858920" y="2924280"/>
            <a:chExt cx="4178520" cy="3889440"/>
          </a:xfrm>
        </p:grpSpPr>
        <p:pic>
          <p:nvPicPr>
            <p:cNvPr id="2775" name="Picture 5" descr="小男孩_副本"/>
            <p:cNvPicPr/>
            <p:nvPr/>
          </p:nvPicPr>
          <p:blipFill>
            <a:blip r:embed="rId2"/>
            <a:stretch/>
          </p:blipFill>
          <p:spPr>
            <a:xfrm>
              <a:off x="7805520" y="4753080"/>
              <a:ext cx="1231920" cy="20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6" name="AutoShape 8"/>
            <p:cNvSpPr/>
            <p:nvPr/>
          </p:nvSpPr>
          <p:spPr>
            <a:xfrm flipH="1">
              <a:off x="4858560" y="2924280"/>
              <a:ext cx="3313080" cy="2303280"/>
            </a:xfrm>
            <a:prstGeom prst="wedgeEllipseCallout">
              <a:avLst>
                <a:gd name="adj1" fmla="val -46217"/>
                <a:gd name="adj2" fmla="val 5523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上图中，想使转到红色的可能性为  ，怎么办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77" name="Object 9"/>
                <p:cNvSpPr txBox="1"/>
                <p:nvPr/>
              </p:nvSpPr>
              <p:spPr>
                <a:xfrm>
                  <a:off x="6514920" y="4068720"/>
                  <a:ext cx="298440" cy="87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78" name="Group 12"/>
          <p:cNvGrpSpPr/>
          <p:nvPr/>
        </p:nvGrpSpPr>
        <p:grpSpPr>
          <a:xfrm>
            <a:off x="468360" y="5300640"/>
            <a:ext cx="5904000" cy="1200240"/>
            <a:chOff x="468360" y="5300640"/>
            <a:chExt cx="5904000" cy="1200240"/>
          </a:xfrm>
        </p:grpSpPr>
        <p:sp>
          <p:nvSpPr>
            <p:cNvPr id="2779" name="Text Box 10"/>
            <p:cNvSpPr/>
            <p:nvPr/>
          </p:nvSpPr>
          <p:spPr>
            <a:xfrm>
              <a:off x="468360" y="5300640"/>
              <a:ext cx="5904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使得转盘的三块都是红色，这样转到红色的可能性就是：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÷8=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0" name="Object 11"/>
                <p:cNvSpPr txBox="1"/>
                <p:nvPr/>
              </p:nvSpPr>
              <p:spPr>
                <a:xfrm>
                  <a:off x="4745160" y="5531040"/>
                  <a:ext cx="331560" cy="96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500"/>
                                        <p:tgtEl>
                                          <p:spTgt spid="2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2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" dur="500"/>
                                        <p:tgtEl>
                                          <p:spTgt spid="2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1" name="矩形 3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968560" cy="920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Text Box 4"/>
          <p:cNvSpPr/>
          <p:nvPr/>
        </p:nvSpPr>
        <p:spPr>
          <a:xfrm>
            <a:off x="395280" y="398520"/>
            <a:ext cx="8353440" cy="37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强强去农场参观，回来后写了一篇日记。请仔细阅读后回答其中的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    星期六   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今天，爸爸带我去红星农场参观。我们一天的行程如下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3" name=""/>
          <p:cNvGraphicFramePr/>
          <p:nvPr/>
        </p:nvGraphicFramePr>
        <p:xfrm>
          <a:off x="928800" y="571680"/>
          <a:ext cx="7715160" cy="5857560"/>
        </p:xfrm>
        <a:graphic>
          <a:graphicData uri="http://schemas.openxmlformats.org/drawingml/2006/table">
            <a:tbl>
              <a:tblPr/>
              <a:tblGrid>
                <a:gridCol w="307800"/>
                <a:gridCol w="309600"/>
                <a:gridCol w="308160"/>
                <a:gridCol w="309240"/>
                <a:gridCol w="308160"/>
                <a:gridCol w="307800"/>
                <a:gridCol w="309600"/>
                <a:gridCol w="308160"/>
                <a:gridCol w="309600"/>
                <a:gridCol w="307800"/>
                <a:gridCol w="308160"/>
                <a:gridCol w="309600"/>
                <a:gridCol w="307800"/>
                <a:gridCol w="309600"/>
                <a:gridCol w="307800"/>
                <a:gridCol w="308160"/>
                <a:gridCol w="309600"/>
                <a:gridCol w="307800"/>
                <a:gridCol w="309600"/>
                <a:gridCol w="308160"/>
                <a:gridCol w="307800"/>
                <a:gridCol w="309600"/>
                <a:gridCol w="308160"/>
                <a:gridCol w="309240"/>
                <a:gridCol w="308160"/>
              </a:tblGrid>
              <a:tr h="390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4" name="TextBox 1187"/>
          <p:cNvSpPr/>
          <p:nvPr/>
        </p:nvSpPr>
        <p:spPr>
          <a:xfrm>
            <a:off x="571680" y="64054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TextBox 1188"/>
          <p:cNvSpPr/>
          <p:nvPr/>
        </p:nvSpPr>
        <p:spPr>
          <a:xfrm>
            <a:off x="1071720" y="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路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6" name="直接箭头连接符 1190"/>
          <p:cNvCxnSpPr/>
          <p:nvPr/>
        </p:nvCxnSpPr>
        <p:spPr>
          <a:xfrm>
            <a:off x="928800" y="6428880"/>
            <a:ext cx="821592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87" name="直接箭头连接符 1191"/>
          <p:cNvCxnSpPr/>
          <p:nvPr/>
        </p:nvCxnSpPr>
        <p:spPr>
          <a:xfrm flipV="1">
            <a:off x="925920" y="720"/>
            <a:ext cx="2520" cy="6582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88" name="TextBox 1193"/>
          <p:cNvSpPr/>
          <p:nvPr/>
        </p:nvSpPr>
        <p:spPr>
          <a:xfrm>
            <a:off x="8572680" y="5475240"/>
            <a:ext cx="50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流程图: 联系 1194"/>
          <p:cNvSpPr/>
          <p:nvPr/>
        </p:nvSpPr>
        <p:spPr>
          <a:xfrm>
            <a:off x="892080" y="6357960"/>
            <a:ext cx="108000" cy="1080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流程图: 联系 1195"/>
          <p:cNvSpPr/>
          <p:nvPr/>
        </p:nvSpPr>
        <p:spPr>
          <a:xfrm>
            <a:off x="1820880" y="6357960"/>
            <a:ext cx="108000" cy="1080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流程图: 联系 1196"/>
          <p:cNvSpPr/>
          <p:nvPr/>
        </p:nvSpPr>
        <p:spPr>
          <a:xfrm>
            <a:off x="2749680" y="6357960"/>
            <a:ext cx="108000" cy="1080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流程图: 联系 1197"/>
          <p:cNvSpPr/>
          <p:nvPr/>
        </p:nvSpPr>
        <p:spPr>
          <a:xfrm>
            <a:off x="3643200" y="6357960"/>
            <a:ext cx="108000" cy="1080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流程图: 联系 1198"/>
          <p:cNvSpPr/>
          <p:nvPr/>
        </p:nvSpPr>
        <p:spPr>
          <a:xfrm>
            <a:off x="4572000" y="6357960"/>
            <a:ext cx="108000" cy="1080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流程图: 联系 1199"/>
          <p:cNvSpPr/>
          <p:nvPr/>
        </p:nvSpPr>
        <p:spPr>
          <a:xfrm>
            <a:off x="5535720" y="6357960"/>
            <a:ext cx="108000" cy="1080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5" name="流程图: 联系 1200"/>
          <p:cNvSpPr/>
          <p:nvPr/>
        </p:nvSpPr>
        <p:spPr>
          <a:xfrm>
            <a:off x="6464160" y="6357960"/>
            <a:ext cx="108000" cy="1080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流程图: 联系 1201"/>
          <p:cNvSpPr/>
          <p:nvPr/>
        </p:nvSpPr>
        <p:spPr>
          <a:xfrm>
            <a:off x="7358040" y="6357960"/>
            <a:ext cx="108000" cy="1080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流程图: 联系 1202"/>
          <p:cNvSpPr/>
          <p:nvPr/>
        </p:nvSpPr>
        <p:spPr>
          <a:xfrm>
            <a:off x="8286840" y="6357960"/>
            <a:ext cx="108000" cy="108000"/>
          </a:xfrm>
          <a:prstGeom prst="flowChartConnector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8" name="TextBox 1204"/>
          <p:cNvSpPr/>
          <p:nvPr/>
        </p:nvSpPr>
        <p:spPr>
          <a:xfrm>
            <a:off x="1500120" y="64054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9" name="TextBox 1205"/>
          <p:cNvSpPr/>
          <p:nvPr/>
        </p:nvSpPr>
        <p:spPr>
          <a:xfrm>
            <a:off x="2286000" y="642924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TextBox 1206"/>
          <p:cNvSpPr/>
          <p:nvPr/>
        </p:nvSpPr>
        <p:spPr>
          <a:xfrm>
            <a:off x="3214800" y="642924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TextBox 1207"/>
          <p:cNvSpPr/>
          <p:nvPr/>
        </p:nvSpPr>
        <p:spPr>
          <a:xfrm>
            <a:off x="4143240" y="640548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TextBox 1208"/>
          <p:cNvSpPr/>
          <p:nvPr/>
        </p:nvSpPr>
        <p:spPr>
          <a:xfrm>
            <a:off x="5072040" y="640548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TextBox 1209"/>
          <p:cNvSpPr/>
          <p:nvPr/>
        </p:nvSpPr>
        <p:spPr>
          <a:xfrm>
            <a:off x="6000840" y="6429240"/>
            <a:ext cx="12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4" name="TextBox 1210"/>
          <p:cNvSpPr/>
          <p:nvPr/>
        </p:nvSpPr>
        <p:spPr>
          <a:xfrm>
            <a:off x="6929280" y="642924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TextBox 1211"/>
          <p:cNvSpPr/>
          <p:nvPr/>
        </p:nvSpPr>
        <p:spPr>
          <a:xfrm>
            <a:off x="7858080" y="642924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TextBox 1212"/>
          <p:cNvSpPr/>
          <p:nvPr/>
        </p:nvSpPr>
        <p:spPr>
          <a:xfrm>
            <a:off x="0" y="611964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TextBox 1213"/>
          <p:cNvSpPr/>
          <p:nvPr/>
        </p:nvSpPr>
        <p:spPr>
          <a:xfrm>
            <a:off x="571680" y="611964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TextBox 1214"/>
          <p:cNvSpPr/>
          <p:nvPr/>
        </p:nvSpPr>
        <p:spPr>
          <a:xfrm>
            <a:off x="428760" y="4214880"/>
            <a:ext cx="57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TextBox 1215"/>
          <p:cNvSpPr/>
          <p:nvPr/>
        </p:nvSpPr>
        <p:spPr>
          <a:xfrm>
            <a:off x="214200" y="22622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TextBox 1216"/>
          <p:cNvSpPr/>
          <p:nvPr/>
        </p:nvSpPr>
        <p:spPr>
          <a:xfrm>
            <a:off x="214200" y="33336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TextBox 1217"/>
          <p:cNvSpPr/>
          <p:nvPr/>
        </p:nvSpPr>
        <p:spPr>
          <a:xfrm>
            <a:off x="71280" y="3071880"/>
            <a:ext cx="10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鱼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TextBox 1218"/>
          <p:cNvSpPr/>
          <p:nvPr/>
        </p:nvSpPr>
        <p:spPr>
          <a:xfrm>
            <a:off x="71280" y="1428840"/>
            <a:ext cx="10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农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直接连接符 1220"/>
          <p:cNvSpPr/>
          <p:nvPr/>
        </p:nvSpPr>
        <p:spPr>
          <a:xfrm flipV="1">
            <a:off x="928080" y="1714680"/>
            <a:ext cx="1571400" cy="47145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直接连接符 1222"/>
          <p:cNvSpPr/>
          <p:nvPr/>
        </p:nvSpPr>
        <p:spPr>
          <a:xfrm>
            <a:off x="2500200" y="1714680"/>
            <a:ext cx="335772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直接连接符 1224"/>
          <p:cNvSpPr/>
          <p:nvPr/>
        </p:nvSpPr>
        <p:spPr>
          <a:xfrm>
            <a:off x="5857200" y="1714680"/>
            <a:ext cx="500040" cy="15714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直接连接符 1226"/>
          <p:cNvSpPr/>
          <p:nvPr/>
        </p:nvSpPr>
        <p:spPr>
          <a:xfrm>
            <a:off x="6357960" y="3286080"/>
            <a:ext cx="107172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直接连接符 1228"/>
          <p:cNvSpPr/>
          <p:nvPr/>
        </p:nvSpPr>
        <p:spPr>
          <a:xfrm>
            <a:off x="7428960" y="3286080"/>
            <a:ext cx="911160" cy="3071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8" name="图片 1" descr="小男孩_副本.png"/>
          <p:cNvPicPr/>
          <p:nvPr/>
        </p:nvPicPr>
        <p:blipFill>
          <a:blip r:embed="rId1"/>
          <a:stretch/>
        </p:blipFill>
        <p:spPr>
          <a:xfrm>
            <a:off x="7643880" y="339840"/>
            <a:ext cx="1120680" cy="1874880"/>
          </a:xfrm>
          <a:prstGeom prst="rect">
            <a:avLst/>
          </a:prstGeom>
          <a:ln w="0">
            <a:noFill/>
          </a:ln>
        </p:spPr>
      </p:pic>
      <p:sp>
        <p:nvSpPr>
          <p:cNvPr id="2819" name="圆角矩形标注 2"/>
          <p:cNvSpPr/>
          <p:nvPr/>
        </p:nvSpPr>
        <p:spPr>
          <a:xfrm flipH="1">
            <a:off x="3999960" y="0"/>
            <a:ext cx="3500280" cy="1285920"/>
          </a:xfrm>
          <a:prstGeom prst="wedgeRoundRectCallout">
            <a:avLst>
              <a:gd name="adj1" fmla="val -57912"/>
              <a:gd name="adj2" fmla="val -10907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知道我们往返的平均速度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TextBox 3"/>
          <p:cNvSpPr/>
          <p:nvPr/>
        </p:nvSpPr>
        <p:spPr>
          <a:xfrm>
            <a:off x="142920" y="7732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TextBox 4"/>
          <p:cNvSpPr/>
          <p:nvPr/>
        </p:nvSpPr>
        <p:spPr>
          <a:xfrm>
            <a:off x="285840" y="12142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行程图可得，从家到农场的速度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TextBox 5"/>
          <p:cNvSpPr/>
          <p:nvPr/>
        </p:nvSpPr>
        <p:spPr>
          <a:xfrm>
            <a:off x="2571840" y="185724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÷100=1.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TextBox 6"/>
          <p:cNvSpPr/>
          <p:nvPr/>
        </p:nvSpPr>
        <p:spPr>
          <a:xfrm>
            <a:off x="285840" y="2428920"/>
            <a:ext cx="50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农场回家的速度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TextBox 8"/>
          <p:cNvSpPr/>
          <p:nvPr/>
        </p:nvSpPr>
        <p:spPr>
          <a:xfrm>
            <a:off x="4000680" y="2841480"/>
            <a:ext cx="4429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+8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1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20÷1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.7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TextBox 12"/>
          <p:cNvSpPr/>
          <p:nvPr/>
        </p:nvSpPr>
        <p:spPr>
          <a:xfrm>
            <a:off x="1357200" y="4584600"/>
            <a:ext cx="9471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往返的平均速度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2+0.7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2=0.97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钟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TextBox 16"/>
          <p:cNvSpPr/>
          <p:nvPr/>
        </p:nvSpPr>
        <p:spPr>
          <a:xfrm>
            <a:off x="857160" y="5921280"/>
            <a:ext cx="771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答：往返的平均速度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7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米每分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500"/>
                                        <p:tgtEl>
                                          <p:spTgt spid="2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500"/>
                                        <p:tgtEl>
                                          <p:spTgt spid="2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500"/>
                                        <p:tgtEl>
                                          <p:spTgt spid="2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" dur="1000"/>
                                        <p:tgtEl>
                                          <p:spTgt spid="2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" dur="500"/>
                                        <p:tgtEl>
                                          <p:spTgt spid="2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2:32:15Z</dcterms:created>
  <dc:creator/>
  <dc:description/>
  <dc:language>en-US</dc:language>
  <cp:lastModifiedBy/>
  <dcterms:modified xsi:type="dcterms:W3CDTF">2015-04-08T12:32:25Z</dcterms:modified>
  <cp:revision>1</cp:revision>
  <dc:subject/>
  <dc:title/>
</cp:coreProperties>
</file>