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type.wav" ContentType="audio/x-wav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0C7-41A4-42E7-A09D-44D482D8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308-7DD2-4B59-8AAC-11F4A548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B75152-7B5A-4265-AA9E-C361EE61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41D72-3A44-4EA8-B1D8-A866CB0E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12749-FD7B-4304-972C-1AAC5CC4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FF3B1-E0B5-428F-AD6B-C4616262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FF437-4A14-4AAF-93C3-ED0B2824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94CBC4-19D8-4CF7-AC4B-7BB23812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E338F-0574-4BE2-9046-53C31A73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14294-44D6-4403-9BE5-656B67B9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931A1-35DB-47BC-9D3C-AA867AFC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40C77-BCA9-4AB2-A6B9-C63B98A0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333-64BA-4CCF-A39E-8BE0035E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BDFAB-DBD4-4B53-978B-16ABF97B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335A0-7CF0-4649-BAFA-D684B1EB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52F85-9DCF-4543-9199-2DEBAE8A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3A4C0-A07E-40B6-8DE7-9820B77B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DE233-9E55-469A-AF1F-CA3DF963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7A6919-12AA-4071-9359-AEC794A2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3CE1F-4915-48A0-83CB-531E738B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90EA1-B519-40E4-B60E-07EBAEF2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5DA718-2196-4B79-8C55-38E86759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404A8-C513-4812-A6EA-ADCEE965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B35-BDFB-4F74-9564-3ADF6C50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B99AD-C01D-4186-893A-2CB8125D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AE190E-2393-406A-991B-D057E480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E6CE1B-B541-420A-A27F-376AD142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A9489B-BC0D-4A6A-B752-89DDD84C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AA08D5-2D62-4534-A5FA-9CB62160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F1DF66-FBA4-479D-B0DC-0BD7A2B1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B62447-D865-4592-8C17-62B69E42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3547B7-DAA0-4632-B2B5-98A02DFA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F63DB4-E3E5-4EA0-A7F3-C190763C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BD4802-AC3F-4350-A1D2-FA6ED306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D729-97FF-4277-8457-A90754A6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464BCB-85A3-465C-B209-E7DBE677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CDCC0F-0CE8-402E-9FFA-336CC69C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6A79AD-A1D7-4AFD-AB22-79672E99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FE06D7-8888-404D-AE4E-2C21ECEA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12A0A-8D05-4FEB-95CC-580D7A3F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8487F-7A55-4B22-AC1C-CD2EB257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F90E26-C1D7-4365-815E-8DFB779D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ADA13-A7BA-4CF2-831E-7DE7C2CA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8A71D6-B8D5-4428-881B-BB1680CC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25184-A304-4401-8E66-DC131476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FB57-4266-412B-8F76-06BE863F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E6D325-A2A6-410A-8A51-0AD5DAC9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4C042-25A0-4280-9B5C-CB8E5043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305BEB-FA14-45E9-8346-4828A8E4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0DA49-1507-42D4-A568-67E1EF28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6CAE2-B62C-469F-B59F-A6F0C00D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5D6009-ABD4-43CA-A6F8-AED84FFD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186371-6770-4378-82B1-0A5BBF7D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5B30E1-CC36-4038-A206-A725915E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39C7D9-FD97-41F7-B20C-3180CB5E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97F974-4EC1-41F4-B850-73644A6F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54C5-7AB9-4389-A91C-51A39AA7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55282F-050D-4072-B522-0E014537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083425-68DF-464B-B251-1CFF09FF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FD4DCD-4BDE-4D6D-AE5D-B45C648E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D3C02D-7293-4800-A31B-EDD3D619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4B07CA-2E48-4CC7-98AD-58737E14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39C35F-D2C1-4F9B-B7BE-9C8DD309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582C20-0613-4FE4-ADC9-797E89BD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F4EFD7-8CEE-4359-AD12-1DB91353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2E9EDA-5D7C-4715-89E7-636829BF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90E672-2B02-4FD0-8C54-A04D71D7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F89E-F7F3-4C75-AC46-68DA33B3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7D3DCF0-DE5E-493C-9747-6A950E36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B333BE-A651-4495-9B7B-AF286778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870967E-199B-4E67-8FFA-1CF9F522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875834-39E2-4E21-8A4F-3A9CFEE2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4E9250-9941-4DB7-A1FE-F6011B89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12CEAB-3921-4461-9F0D-568C3FD2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FAE8BE-D311-4EAE-AA3F-BCABCBD3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29E492-3C25-4040-B434-099CE2FD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15DFD5F-3898-46C5-9181-E1D1FF13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4ED183D-ECC4-4607-91CB-9C202E91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4B82-E66A-48F3-B67A-E89C64A5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D6DACD-3ABB-4F91-A976-E9C9A932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F56BCDD-8174-45CC-8C3B-51AD0128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A0737AB-8523-409A-85E7-904EB11D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55E4CF-CCEB-463D-B5D9-70E66287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4F483EE-1000-45FE-9D3A-F14CA09D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F0CF587-6835-4AA8-8D86-EA50B9BE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82AAF6-51C1-4F20-B7FE-AE8938C2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D2DD04-B52D-492A-8732-3109AB6F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DC336CD-BC62-4154-9044-026289F7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5F69C2-DA88-4BC6-A62F-E470CD27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3262-5429-4B50-A936-1B7B09B4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2A07376-4D58-4D05-BAC5-8D28282B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FE7BF2E-89D3-473A-B85B-70D014B0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4E669A3-9400-46C4-A895-73A7D11E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938D5AE-ACCD-40B2-ACE3-4AF3E136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CC0DCFB-8D24-4699-9D60-3ACF1BFD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A3839B9-9873-4624-87FF-C6162866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AA3F9D2-EB06-4FC0-8013-79236FE4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FFB8EA4-291A-4AD7-BF43-71F3B1B0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0F19E9-0B12-4D69-B735-143EB4EA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5A51E01-9E75-4CC0-9D9B-5D1C0896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9A8F-6F64-4A67-8B7A-CD8A700C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7923BF1-D715-4DA4-8A95-D0072819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BE924FE-1AC4-44AC-BCB2-C64305A2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2E9265D-F542-4A55-91D7-AC6BD8B3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8B52EA2-5938-4C1A-A2B1-46EA7EFD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590425D-ABE8-4FE2-8A9E-6F2109AA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1CEC629-7C13-4EF1-ADB2-94385975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3ACC2CC-2944-4747-BB49-74D229CE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BB466A5-FC68-4F3D-AFB9-C4B2B4CD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418DD47-ADE1-4584-9763-40720B84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785031F-6C9A-448C-BA7B-ADEFFEE8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163-A452-4115-B885-DD09016B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E80C-F61C-465A-AAD5-16B9ACA5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C215AD6-D155-43F0-B3E2-5689DBA9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66AA00B-723E-4ECB-866C-9ABE54BD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A0DD4AC-3943-4020-BC85-34D92723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56F4296-3162-4B1C-8CC1-28398092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65C906E-A27B-404F-A96E-E3B1427B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4A82EBC-6731-4419-8A4F-B3FCD49F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AB92657-C49E-465D-B533-1EE27A31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01D49A8-B14E-41CA-9D58-2DC10652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9B115EA-32E7-4E15-9622-13CAE4EE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598782E-B2EF-49D4-B9C8-8B2507C8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BDD2-DDC2-4596-93A4-09320EB9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29EA30-146E-46C5-899C-8068EEAE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6FFD91B-21C9-4B27-8BCD-ED8922B0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82206B3-300A-4275-8A83-F2186FB3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C478D95-C32A-4D88-AB13-B7AF1714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8D7B972-A589-4E85-A6E3-02639922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EC4663F-BE09-414C-8E36-B1DC2629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E124ADC-EF0A-4D93-85D4-29C83D69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F35A1ED-1F73-44E5-A6F4-3DD8D916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CE6BBEE-B9CB-4B92-8481-A84C91F3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9E891F9-A26C-4F18-8200-E8252F39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3561-77AF-4E3B-B2AF-D5047353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246C7D5-591A-4A41-96D0-9F59BEB6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0A27FB0-9EDF-4A44-84AA-EBF1B30A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054F47E-8CEE-4CC1-8CAF-F359D55B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155109F-FB16-41B5-A4DD-67F4009E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49D2D7C-4A56-4298-B86E-4D3BD9D2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66DE398-CF1E-4391-AC50-1231225D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1C4BA22-54D8-4175-8D44-061149E7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06B7FA2-DCCA-44BE-B0AA-0226B94F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D221924-082D-4324-B131-7B481319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29A72BC-5AF7-4880-BD62-C43793EF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5DED-596A-425E-BB69-2331EA74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398DEAF-31D2-4BAE-BAC9-AAB31E2E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23D0DA3-C33B-47B5-952A-59DD1E8D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B4D3904-6AE0-43DE-987E-7A577379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965DBD0-1D05-4606-8D1E-76A7B4B4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244A7E9-6350-464D-892C-887FEC0A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CB36D6F-D22D-4624-9695-7BC74F34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F8C5506-673A-4113-BF4C-2BFBC72A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0AB21DF-3017-43D2-8190-CF931CC0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5668A4E-D8A2-41B0-A751-CA3B5B3C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4D3DC9B-9D5F-4096-A227-2568B8DF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C8E3-DF82-48B5-B4C3-A4447338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34A5E4F-13CA-4583-B46C-947D6B07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0C4ACE3-5BFA-4E03-B638-E360A16C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DB9EF86-3A35-4EF7-84E2-297C6A03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5F9D2F6-446A-4EAB-9098-D7595AEE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F037FC9-550E-488E-B74D-351C8819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E7112D8-F628-40E3-9E47-8A2258CC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66BA818-16D3-4CE2-AF6F-94A4E8AC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9948958-A41D-4EDF-9271-591A8165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D39250A-8D80-4CF3-B3AA-0DAED6C8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017CFF5-0CF8-4D00-87A6-BC224F3A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45FB6-3088-4170-BF0A-CB934E77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2A7CD59-959F-49FE-9375-7FAE3659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4F415C7-C704-4008-9803-58C65CE2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265D749-6E14-4671-BE97-DC97EA72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69944A4-8677-4307-918F-3E1FD07D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B0CD82A-0773-4B13-AD8C-702B31FC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A74BA4E-3D31-48E3-A01F-414B35B2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9827289-C7FA-42EB-8B77-22DA25BE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65BE592-1292-405F-BAB9-4F641C07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E445B38-0299-4082-827E-E9194B9A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AF91BCA-CBFA-453B-A58E-8D2F107F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CFFCE-51F5-409E-B787-D40DF2F6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49E1E02-63D0-4B52-9B1B-186B07C3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441EF67-9BE4-4EE5-86BF-19C6A152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E5AD491-3061-49C6-B7CA-EBFCAB98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8B51B77-A2E0-4CDF-BB26-60C5335E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9492BE7-D12F-49C1-A583-FDCA4159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90E5D81-B02A-406F-8B99-ADC206A1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2809E0B-C47D-4AD4-9D20-C79846C5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9FB410D-2DF3-4905-B372-70EF024F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B5888C6-7F7D-4564-BD07-F95FF8FB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F9B1BF4-E94F-428E-9862-093A5B08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93DA-EF72-4937-B528-E0779C76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17902C3-71D4-4476-8997-AEEEC339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30E4F90-4C80-4537-BDF6-3476C95D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2FE28CF-3780-4C2D-9556-4AAC81FD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3C17E14-56CE-414F-840A-8AFCDC32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8134713-54E0-4FCD-AC67-9654884C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85010FE-6ADD-4DBE-BC90-EB3B9BDF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CF16E0D-3615-48A5-87C9-7F987679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D995768-5BCA-4261-BA5A-2F1575DA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BCE3A45-8179-41E0-BEF1-28227894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90A0992-0231-4BC0-B641-CEC16920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9AC9F-7175-4B84-87F1-F5248FC9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D21E33F-0965-4C6B-AE49-8F34AF3F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C6F9970-E1BD-4E4A-BF8C-B701A165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B2FB93B-4B75-44DF-A98B-84E45897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EEE74DB-8D53-4E5F-A038-8AA0E0FD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7FA97AE-EE90-493C-921B-5CA7E612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437BCCA-9FD5-4852-960A-DCCDF54C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22355AB-07BA-4C2D-BAAB-691E9F74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D508BFE-D1E7-43F5-8D93-CC624977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8D572A3-F396-40CA-AA4C-C5F17ED5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CDF1ED0-5DCC-4670-94C4-739B23EB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883A-E903-475A-984F-1D81DA0A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ABE759D-A254-41D5-9451-3AE1DE04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6516C90-3375-417C-B07D-D610A93A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B9723AF-D7EC-4262-A463-EA41E97F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01DE4C6-E5CA-4E61-AA86-B83CFFEE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2EEF175-F7CD-4C3C-820F-030A281F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E05EF53-AE9D-436C-95B8-8EC8D99E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7C80234-A400-4523-AA2A-DB197BB7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97B941F-3DB3-48C5-A868-6C378C7D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6766193-13AF-488D-8643-4F6CD65B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42948D9-15D2-45F6-B819-A86BA422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83B-4D3B-4996-9DD3-E1A258EA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738E4-C186-4B69-9612-D2DBEE04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6C6C075-F1FF-4334-948D-B6AF6915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2561775-CC61-4177-B3D0-A1173AC0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CEC1B3B-6EEB-43C3-A0D1-0A60E6B1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414AA63-F144-4C1F-9643-FB3604F5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C2A721B-DAA4-4257-9C32-AB0F8DB0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4D7E58C-9500-47F5-9B71-AA8250C0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C088DD3-A0B4-4481-86A9-B5968736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CD2FEED-E023-4BF4-9E3E-E57C65E3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99167CF-12F1-47FD-929D-3C06479A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AEA6440-8E8E-4A74-9FD4-2F79A6F6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1678-49E2-417B-B95A-8F4FCBA3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2D95D2F-5E1F-4781-A443-BB5243F9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E264D6F-C048-42D0-BF86-68222006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E6ADE81-3AFC-4CA0-BAEE-B8BF492E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F270CDE-23A8-470F-9597-DFB8DAA7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A1CFC5D-2391-47CD-8D2A-B2ACE6FE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8C390D2-73BA-4998-922E-B70B9E62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906DF6C-AD0D-4DD6-A3DD-F7BAC29C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C116AAD-C4A6-4F5E-A308-A4E896A3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18BEE5C-F73A-4951-8E30-3709A25F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308A531-67E4-4B95-BDF5-7E7EDA33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250D6-00FE-4DD7-B8D0-EAB074F8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BA95446-3DF4-4517-A9C8-EADC589A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FF226CE-0E46-4F46-BC3F-1A463895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D405061-C119-4A7A-B3C8-51FBABD7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4385D42-A539-4B13-8500-779E3C34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429EA6E-1BFD-46BF-8FDB-A25A5D87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5402AEB-05D0-42F1-81FB-F8716161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EF64209-6947-4DE8-A46B-4F6605BE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48610ED-9BF5-42DA-87EA-EA8AA0BF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35B3D20-CABA-4C49-9FF0-F71AF2F3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1C83A24-8FD2-45ED-8DF0-CD3677DA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914E9-7808-46CD-8590-72D1DB33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A100FA2-F768-4834-86DF-08DC6854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546CFC0-3154-4245-B838-58C326C0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491A874-D521-45C5-814E-03624E30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DEBF4CC-F20B-4844-8FF8-EDE9EEE9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EE32E6D-140F-49AF-8F2B-0213A3EB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2C6E680-A05E-47D0-A829-A19054B5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D44003A-CAC6-45C1-B334-B9698725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3636-D1EE-430A-96BA-C41D7739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90A01-9080-411A-846B-6C5EF037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05B2A-DCC0-4EFD-8854-0FAB59FD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32E71-51E5-41C0-B10D-53363DEC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446E1-2C39-4278-A017-247EA171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77C1D-56C1-4819-8001-8A554DA9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47E0-65DF-4A7E-8217-93DBCCB2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1759B-DE82-4FE3-8E10-1E2C9274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FB5A7-ECD9-4F98-A56E-C13623C8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756AE-03DE-4F19-8A06-66CB3789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CA100-3961-4DC1-A1CC-7F6B8E96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7CB80-1B97-4FB0-B2F0-FA4B9140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E24C0-2738-48BC-AE69-1505C1FF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769FA-AE1E-43A7-9919-E428E89C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2A387-ECBB-473A-A159-2F7E9FD7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B0EC7-A6CA-4C90-B161-7D9D4B43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30EC44-7E4A-438D-AD2A-EF0D4E322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54D-B0BE-4039-9078-101B7213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522980-BD62-429E-9A1C-67A42E8A6FE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28A188-5E59-48FE-B06F-52197D43FA9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FF14D2-4A97-4A6A-AA00-43A3C00EF0A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32D992-37AD-47C4-A9CB-18353A2DE7A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B91F38-8A2D-44E1-82B5-7BB677AD404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7A5473-0363-4B80-8499-9B21693B759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F18443-876E-4B66-9EFE-79217E73BF8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097819-091D-44D2-86AD-561102F2979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81FDA6-A952-449C-8D60-F17852CB785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2E2F3B-B1B0-4EF8-8018-99BF3932A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931-FA21-4385-8808-9A7585A5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0B985A-A34B-44C3-B58F-F238B3D6AD6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F9ED9F-D445-492E-B0DF-4608D872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CC865B-AB4A-4D28-8534-703C3839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032B1D-0AF2-4092-A73B-8048B32E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91525C-957B-49D6-B9C2-D1E72AAB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4964DE-2688-42ED-88DD-7249537D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09A76D-289C-4B34-9546-FED9F44D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E11469-FB46-4949-9A34-4A06DDE0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70F721-688D-46BC-AA92-1CFAAE46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7ADAA3-0820-472C-896C-7D673139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2BCE-790C-46CC-9DB7-2F07EEFB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8E1C8A-1D82-4617-B311-8F594479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393392-6F2D-44DB-8F23-877E5126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A03368-E28C-47A6-9710-B7A6CCBAB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B5B5BD-404E-4C6F-A0A9-A18275B3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1D4F6B-02D4-4E8E-9E0E-9F53ADD7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B7CD0A-9511-4E35-9178-377D4030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9D98D3-7AE9-4EC5-9F35-FB0C560A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835886-FDF9-4862-B633-8EB709D2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CE18D5-1138-46D9-828A-6D583CB9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4A3D97-45AE-45D6-91E5-39F3EE09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E64-802E-4FFD-8D2A-1FCF6B78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660ADA-C368-49A0-8768-94C5FCC2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983B6C-D4A0-4EEE-8C56-6321EE2A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A9B3CB-1395-491D-B895-DABF7D72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ADB82C-72B9-4E70-9820-452BEBEF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094FB1-A757-4F4D-901B-5D1C4D37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EF1202-04E1-4FCE-A6C3-F71345FE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820AD9-C731-49DC-98F6-D7FC8E31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E87054-786D-4CF0-9A8D-6B11B8D7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39F117-C35F-47D5-8335-814F31FB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724C09-8BF2-429D-881F-C7AF8B48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AFB-9566-4D87-878C-F99474BE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6E6DB3-0169-4080-B004-832D4BDD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CB5BC4-A287-4B2F-A25F-5F3DAAC2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75E330-AFE3-47F3-BA87-8B085867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B50166-7E5F-4690-B56C-3FD90762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79B6D2-822F-477D-90E4-2A5C1EB8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2C1C78-301F-4FAD-9F4B-3586BE42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B65BE3-0E19-4E91-ABD7-5EE8C59C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6F4ED-5981-43AC-989C-A43A4E64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05E67-C454-4796-B56C-4F1424B4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407FBC-F09E-4577-8624-F1BACEB6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A0A1-F280-42E9-910C-2EE43715A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8701-7202-4A14-B31C-31B4F7898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FF29-6FD0-46F0-9E79-DED21D5C5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CDF0-38DD-440A-8D66-6AF4A4A15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A5BB-623A-490F-A7DB-1D8B0DF36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9050-2EDD-455B-BADE-E229AFB67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1D7B-5313-44AE-8C15-F92DA7AB1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0E40-07AE-4D68-A464-3820D5458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A2A5-BFA9-428E-B418-1EA3B8B14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4282-1969-46E5-A958-08CBBC018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9A69-4A9B-44E7-9591-07D3CFFB7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3B7E-5317-4372-B1D1-55770CD5F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7707-660B-402C-A4BB-8A7F6BCD5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00DA-FDAD-4493-B0AB-EA6BB3585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8FDA-5552-4D5C-809E-03B1833FA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EEDC-74AA-4832-8426-4D2856B34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7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D5FB-BC7D-4B7B-A63C-246EC724E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7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7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7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2DE8-7303-49B6-BBBA-7753B04CB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7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7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6C90-CC4A-4FA1-9CF4-5F304E7CB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7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7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7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CC96-7F00-425C-9AA8-3E14382A1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8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8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8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1681-F1FA-468D-B5FD-FFE4CB7D1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8CAB-7ABA-4BC7-9488-7161E1C5C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E0E0-C39C-499A-99BC-C71E8EE88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3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4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28BAC71-3817-49AB-BEBE-64A83221E9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CCE8-7783-4373-9CC0-3EB315E48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9120-33B5-47B4-B689-0EA3B3509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7ED8-F876-4485-987F-55CBEE18E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AB1D-3BA3-4673-A009-8686F9B9C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统计与可能性（十六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Text Box 4"/>
          <p:cNvSpPr/>
          <p:nvPr/>
        </p:nvSpPr>
        <p:spPr>
          <a:xfrm>
            <a:off x="250920" y="127080"/>
            <a:ext cx="889308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    ，   ，   这三张卡片任意摆一个三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这个三位数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可能性是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这个三位数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可能性是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这个三位数能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整除的可能性是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这个三位数能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整除的可能性是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5"/>
          <p:cNvSpPr/>
          <p:nvPr/>
        </p:nvSpPr>
        <p:spPr>
          <a:xfrm>
            <a:off x="755640" y="216000"/>
            <a:ext cx="431640" cy="7650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6"/>
          <p:cNvSpPr/>
          <p:nvPr/>
        </p:nvSpPr>
        <p:spPr>
          <a:xfrm>
            <a:off x="2052720" y="216000"/>
            <a:ext cx="431640" cy="7650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7"/>
          <p:cNvSpPr/>
          <p:nvPr/>
        </p:nvSpPr>
        <p:spPr>
          <a:xfrm>
            <a:off x="1403280" y="216000"/>
            <a:ext cx="432000" cy="7650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Group 31"/>
          <p:cNvGrpSpPr/>
          <p:nvPr/>
        </p:nvGrpSpPr>
        <p:grpSpPr>
          <a:xfrm>
            <a:off x="7236000" y="1052640"/>
            <a:ext cx="576000" cy="1007640"/>
            <a:chOff x="7236000" y="1052640"/>
            <a:chExt cx="576000" cy="1007640"/>
          </a:xfrm>
        </p:grpSpPr>
        <p:sp>
          <p:nvSpPr>
            <p:cNvPr id="1253" name="Rectangle 28"/>
            <p:cNvSpPr/>
            <p:nvPr/>
          </p:nvSpPr>
          <p:spPr>
            <a:xfrm>
              <a:off x="7306920" y="1052640"/>
              <a:ext cx="43164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Line 29"/>
            <p:cNvSpPr/>
            <p:nvPr/>
          </p:nvSpPr>
          <p:spPr>
            <a:xfrm>
              <a:off x="7236000" y="1555560"/>
              <a:ext cx="57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30"/>
            <p:cNvSpPr/>
            <p:nvPr/>
          </p:nvSpPr>
          <p:spPr>
            <a:xfrm>
              <a:off x="7306920" y="1628640"/>
              <a:ext cx="43164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Group 32"/>
          <p:cNvGrpSpPr/>
          <p:nvPr/>
        </p:nvGrpSpPr>
        <p:grpSpPr>
          <a:xfrm>
            <a:off x="7596360" y="2133720"/>
            <a:ext cx="576000" cy="1007640"/>
            <a:chOff x="7596360" y="2133720"/>
            <a:chExt cx="576000" cy="1007640"/>
          </a:xfrm>
        </p:grpSpPr>
        <p:sp>
          <p:nvSpPr>
            <p:cNvPr id="1257" name="Rectangle 33"/>
            <p:cNvSpPr/>
            <p:nvPr/>
          </p:nvSpPr>
          <p:spPr>
            <a:xfrm>
              <a:off x="7667280" y="2133720"/>
              <a:ext cx="43164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Line 34"/>
            <p:cNvSpPr/>
            <p:nvPr/>
          </p:nvSpPr>
          <p:spPr>
            <a:xfrm>
              <a:off x="7596360" y="2636640"/>
              <a:ext cx="57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35"/>
            <p:cNvSpPr/>
            <p:nvPr/>
          </p:nvSpPr>
          <p:spPr>
            <a:xfrm>
              <a:off x="7667280" y="2709720"/>
              <a:ext cx="43164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36"/>
          <p:cNvGrpSpPr/>
          <p:nvPr/>
        </p:nvGrpSpPr>
        <p:grpSpPr>
          <a:xfrm>
            <a:off x="8099280" y="2997360"/>
            <a:ext cx="576360" cy="1007640"/>
            <a:chOff x="8099280" y="2997360"/>
            <a:chExt cx="576360" cy="1007640"/>
          </a:xfrm>
        </p:grpSpPr>
        <p:sp>
          <p:nvSpPr>
            <p:cNvPr id="1261" name="Rectangle 37"/>
            <p:cNvSpPr/>
            <p:nvPr/>
          </p:nvSpPr>
          <p:spPr>
            <a:xfrm>
              <a:off x="8170560" y="2997360"/>
              <a:ext cx="43200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ne 38"/>
            <p:cNvSpPr/>
            <p:nvPr/>
          </p:nvSpPr>
          <p:spPr>
            <a:xfrm>
              <a:off x="8099280" y="350028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39"/>
            <p:cNvSpPr/>
            <p:nvPr/>
          </p:nvSpPr>
          <p:spPr>
            <a:xfrm>
              <a:off x="8170560" y="3573360"/>
              <a:ext cx="43200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Group 40"/>
          <p:cNvGrpSpPr/>
          <p:nvPr/>
        </p:nvGrpSpPr>
        <p:grpSpPr>
          <a:xfrm>
            <a:off x="8099280" y="4076640"/>
            <a:ext cx="576360" cy="1007640"/>
            <a:chOff x="8099280" y="4076640"/>
            <a:chExt cx="576360" cy="1007640"/>
          </a:xfrm>
        </p:grpSpPr>
        <p:sp>
          <p:nvSpPr>
            <p:cNvPr id="1265" name="Rectangle 41"/>
            <p:cNvSpPr/>
            <p:nvPr/>
          </p:nvSpPr>
          <p:spPr>
            <a:xfrm>
              <a:off x="8170560" y="4076640"/>
              <a:ext cx="43200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Line 42"/>
            <p:cNvSpPr/>
            <p:nvPr/>
          </p:nvSpPr>
          <p:spPr>
            <a:xfrm>
              <a:off x="8099280" y="457956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3"/>
            <p:cNvSpPr/>
            <p:nvPr/>
          </p:nvSpPr>
          <p:spPr>
            <a:xfrm>
              <a:off x="8170560" y="4652640"/>
              <a:ext cx="432000" cy="431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8" name="Text Box 49"/>
          <p:cNvSpPr/>
          <p:nvPr/>
        </p:nvSpPr>
        <p:spPr>
          <a:xfrm>
            <a:off x="7377120" y="981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50"/>
          <p:cNvSpPr/>
          <p:nvPr/>
        </p:nvSpPr>
        <p:spPr>
          <a:xfrm>
            <a:off x="7378560" y="1557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52"/>
          <p:cNvSpPr/>
          <p:nvPr/>
        </p:nvSpPr>
        <p:spPr>
          <a:xfrm>
            <a:off x="7738920" y="2060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53"/>
          <p:cNvSpPr/>
          <p:nvPr/>
        </p:nvSpPr>
        <p:spPr>
          <a:xfrm>
            <a:off x="8244000" y="298116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54"/>
          <p:cNvSpPr/>
          <p:nvPr/>
        </p:nvSpPr>
        <p:spPr>
          <a:xfrm>
            <a:off x="7738920" y="26226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55"/>
          <p:cNvSpPr/>
          <p:nvPr/>
        </p:nvSpPr>
        <p:spPr>
          <a:xfrm>
            <a:off x="8244000" y="3500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56"/>
          <p:cNvSpPr/>
          <p:nvPr/>
        </p:nvSpPr>
        <p:spPr>
          <a:xfrm>
            <a:off x="8244000" y="40053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58"/>
          <p:cNvSpPr/>
          <p:nvPr/>
        </p:nvSpPr>
        <p:spPr>
          <a:xfrm>
            <a:off x="8244000" y="45813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6" name="Group 87"/>
          <p:cNvGrpSpPr/>
          <p:nvPr/>
        </p:nvGrpSpPr>
        <p:grpSpPr>
          <a:xfrm>
            <a:off x="3681360" y="1628640"/>
            <a:ext cx="1322280" cy="914400"/>
            <a:chOff x="3681360" y="1628640"/>
            <a:chExt cx="1322280" cy="914400"/>
          </a:xfrm>
        </p:grpSpPr>
        <p:sp>
          <p:nvSpPr>
            <p:cNvPr id="1277" name="Text Box 85"/>
            <p:cNvSpPr/>
            <p:nvPr/>
          </p:nvSpPr>
          <p:spPr>
            <a:xfrm>
              <a:off x="3681360" y="184464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1÷6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8" name="Object 5"/>
                <p:cNvSpPr txBox="1"/>
                <p:nvPr/>
              </p:nvSpPr>
              <p:spPr>
                <a:xfrm>
                  <a:off x="4690800" y="1628640"/>
                  <a:ext cx="31284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79" name="Text Box 88"/>
          <p:cNvSpPr/>
          <p:nvPr/>
        </p:nvSpPr>
        <p:spPr>
          <a:xfrm>
            <a:off x="896760" y="2782800"/>
            <a:ext cx="67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3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数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8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2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5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÷6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Object 2"/>
              <p:cNvSpPr txBox="1"/>
              <p:nvPr/>
            </p:nvSpPr>
            <p:spPr>
              <a:xfrm>
                <a:off x="6996240" y="2587680"/>
                <a:ext cx="3124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1" name="Text Box 90"/>
          <p:cNvSpPr/>
          <p:nvPr/>
        </p:nvSpPr>
        <p:spPr>
          <a:xfrm>
            <a:off x="274680" y="3718080"/>
            <a:ext cx="818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5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2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8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5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个数能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整除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÷6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Object 3"/>
              <p:cNvSpPr txBox="1"/>
              <p:nvPr/>
            </p:nvSpPr>
            <p:spPr>
              <a:xfrm>
                <a:off x="7788240" y="3500280"/>
                <a:ext cx="31284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3" name="Text Box 92"/>
          <p:cNvSpPr/>
          <p:nvPr/>
        </p:nvSpPr>
        <p:spPr>
          <a:xfrm>
            <a:off x="250920" y="4797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+5+8=1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能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整除，所以所有的数均能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4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Text Box 3"/>
          <p:cNvSpPr/>
          <p:nvPr/>
        </p:nvSpPr>
        <p:spPr>
          <a:xfrm>
            <a:off x="1143000" y="2286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下面哪些图形可以密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Oval 4"/>
          <p:cNvSpPr/>
          <p:nvPr/>
        </p:nvSpPr>
        <p:spPr>
          <a:xfrm>
            <a:off x="900000" y="1197000"/>
            <a:ext cx="100800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5"/>
          <p:cNvSpPr/>
          <p:nvPr/>
        </p:nvSpPr>
        <p:spPr>
          <a:xfrm>
            <a:off x="3419640" y="1125360"/>
            <a:ext cx="1008000" cy="100836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6"/>
          <p:cNvSpPr/>
          <p:nvPr/>
        </p:nvSpPr>
        <p:spPr>
          <a:xfrm>
            <a:off x="5940360" y="1341360"/>
            <a:ext cx="1297080" cy="7207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7"/>
          <p:cNvSpPr/>
          <p:nvPr/>
        </p:nvSpPr>
        <p:spPr>
          <a:xfrm>
            <a:off x="900000" y="2924280"/>
            <a:ext cx="935280" cy="1009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AutoShape 8"/>
          <p:cNvSpPr/>
          <p:nvPr/>
        </p:nvSpPr>
        <p:spPr>
          <a:xfrm>
            <a:off x="3203640" y="2997360"/>
            <a:ext cx="1512720" cy="863280"/>
          </a:xfrm>
          <a:prstGeom prst="parallelogram">
            <a:avLst>
              <a:gd name="adj" fmla="val 438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9"/>
          <p:cNvSpPr/>
          <p:nvPr/>
        </p:nvSpPr>
        <p:spPr>
          <a:xfrm>
            <a:off x="5940360" y="2997360"/>
            <a:ext cx="1368360" cy="86328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179640 h 863280"/>
              <a:gd name="textAreaBottom" fmla="*/ 68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AutoShape 10"/>
          <p:cNvSpPr/>
          <p:nvPr/>
        </p:nvSpPr>
        <p:spPr>
          <a:xfrm>
            <a:off x="1332000" y="5229360"/>
            <a:ext cx="1152360" cy="1079280"/>
          </a:xfrm>
          <a:prstGeom prst="pentagon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AutoShape 11"/>
          <p:cNvSpPr/>
          <p:nvPr/>
        </p:nvSpPr>
        <p:spPr>
          <a:xfrm>
            <a:off x="4932360" y="5157720"/>
            <a:ext cx="1224000" cy="1150920"/>
          </a:xfrm>
          <a:prstGeom prst="octagon">
            <a:avLst>
              <a:gd name="adj" fmla="val 29287"/>
            </a:avLst>
          </a:prstGeom>
          <a:solidFill>
            <a:srgbClr val="f2bb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Oval 2"/>
          <p:cNvSpPr/>
          <p:nvPr/>
        </p:nvSpPr>
        <p:spPr>
          <a:xfrm>
            <a:off x="250920" y="795240"/>
            <a:ext cx="1368360" cy="1368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3"/>
          <p:cNvSpPr/>
          <p:nvPr/>
        </p:nvSpPr>
        <p:spPr>
          <a:xfrm>
            <a:off x="1619280" y="868320"/>
            <a:ext cx="1297080" cy="12240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4"/>
          <p:cNvSpPr/>
          <p:nvPr/>
        </p:nvSpPr>
        <p:spPr>
          <a:xfrm>
            <a:off x="3132000" y="1371600"/>
            <a:ext cx="136692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5"/>
          <p:cNvSpPr/>
          <p:nvPr/>
        </p:nvSpPr>
        <p:spPr>
          <a:xfrm>
            <a:off x="4643280" y="1300320"/>
            <a:ext cx="1440000" cy="936360"/>
          </a:xfrm>
          <a:custGeom>
            <a:avLst/>
            <a:gdLst>
              <a:gd name="textAreaLeft" fmla="*/ 299880 w 1440000"/>
              <a:gd name="textAreaRight" fmla="*/ 1140120 w 1440000"/>
              <a:gd name="textAreaTop" fmla="*/ 195120 h 936360"/>
              <a:gd name="textAreaBottom" fmla="*/ 741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AutoShape 6"/>
          <p:cNvSpPr/>
          <p:nvPr/>
        </p:nvSpPr>
        <p:spPr>
          <a:xfrm>
            <a:off x="6227640" y="1012680"/>
            <a:ext cx="1441440" cy="1295640"/>
          </a:xfrm>
          <a:prstGeom prst="pentagon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7"/>
          <p:cNvSpPr/>
          <p:nvPr/>
        </p:nvSpPr>
        <p:spPr>
          <a:xfrm>
            <a:off x="7885080" y="1012680"/>
            <a:ext cx="1258920" cy="1224000"/>
          </a:xfrm>
          <a:prstGeom prst="hexagon">
            <a:avLst>
              <a:gd name="adj" fmla="val 25713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 Box 8"/>
          <p:cNvSpPr/>
          <p:nvPr/>
        </p:nvSpPr>
        <p:spPr>
          <a:xfrm>
            <a:off x="0" y="2308320"/>
            <a:ext cx="20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9"/>
          <p:cNvSpPr/>
          <p:nvPr/>
        </p:nvSpPr>
        <p:spPr>
          <a:xfrm>
            <a:off x="1403280" y="23083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（√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Text Box 10"/>
          <p:cNvSpPr/>
          <p:nvPr/>
        </p:nvSpPr>
        <p:spPr>
          <a:xfrm>
            <a:off x="3059280" y="2308320"/>
            <a:ext cx="201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（√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11"/>
          <p:cNvSpPr/>
          <p:nvPr/>
        </p:nvSpPr>
        <p:spPr>
          <a:xfrm>
            <a:off x="4572000" y="23083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（√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12"/>
          <p:cNvSpPr/>
          <p:nvPr/>
        </p:nvSpPr>
        <p:spPr>
          <a:xfrm>
            <a:off x="7596360" y="230832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（√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13"/>
          <p:cNvSpPr/>
          <p:nvPr/>
        </p:nvSpPr>
        <p:spPr>
          <a:xfrm>
            <a:off x="6012000" y="2308320"/>
            <a:ext cx="20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 Box 14"/>
          <p:cNvSpPr/>
          <p:nvPr/>
        </p:nvSpPr>
        <p:spPr>
          <a:xfrm>
            <a:off x="1079640" y="30290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正三角形、长方形、梯形、正六边形、平行四边形可以进行密铺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Text Box 17"/>
          <p:cNvSpPr/>
          <p:nvPr/>
        </p:nvSpPr>
        <p:spPr>
          <a:xfrm>
            <a:off x="1116000" y="461340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圆形和正五边形不能进行密铺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Text Box 9"/>
          <p:cNvSpPr/>
          <p:nvPr/>
        </p:nvSpPr>
        <p:spPr>
          <a:xfrm>
            <a:off x="228600" y="1066680"/>
            <a:ext cx="87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商场促销，将奖品放置于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号的罐里，幸运顾客有一次猜奖机会，一位顾客猜中得奖的可能性是多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7" dur="2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9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Box 2"/>
          <p:cNvSpPr/>
          <p:nvPr/>
        </p:nvSpPr>
        <p:spPr>
          <a:xfrm>
            <a:off x="380880" y="19051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盒子里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红球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白球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黄球，每次取一个小球，总共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次。统计每种颜色的小球被渠道的次数，并估计那种颜色的小球取到的可能性最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矩形 3" descr=""/>
          <p:cNvPicPr/>
          <p:nvPr/>
        </p:nvPicPr>
        <p:blipFill>
          <a:blip r:embed="rId1"/>
          <a:stretch/>
        </p:blipFill>
        <p:spPr>
          <a:xfrm>
            <a:off x="231840" y="304920"/>
            <a:ext cx="226692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Text Box 3"/>
          <p:cNvSpPr/>
          <p:nvPr/>
        </p:nvSpPr>
        <p:spPr>
          <a:xfrm>
            <a:off x="746280" y="28728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用“石头、剪子、布”做游戏，一共有（          ）结果。胜的可能性 是（         ），输的可能性是（         ），平局的可能性是   （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 Box 4"/>
          <p:cNvSpPr/>
          <p:nvPr/>
        </p:nvSpPr>
        <p:spPr>
          <a:xfrm>
            <a:off x="7921800" y="1746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5"/>
          <p:cNvSpPr/>
          <p:nvPr/>
        </p:nvSpPr>
        <p:spPr>
          <a:xfrm>
            <a:off x="533520" y="2286000"/>
            <a:ext cx="77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三人玩跳皮筋，用”手心、手背”来决定谁先跳，公平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6"/>
          <p:cNvSpPr/>
          <p:nvPr/>
        </p:nvSpPr>
        <p:spPr>
          <a:xfrm>
            <a:off x="685800" y="35053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宋体"/>
              </a:rPr>
              <a:t>公平，一共有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宋体"/>
              </a:rPr>
              <a:t>种可能。心心背，心背心，心背背，心心心； 背心背，背背心，背心心、背背背。甲乙丙胜占四分之一，平局占四分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Object 2"/>
              <p:cNvSpPr txBox="1"/>
              <p:nvPr/>
            </p:nvSpPr>
            <p:spPr>
              <a:xfrm>
                <a:off x="4832280" y="465120"/>
                <a:ext cx="4399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5" name="Object 3"/>
              <p:cNvSpPr txBox="1"/>
              <p:nvPr/>
            </p:nvSpPr>
            <p:spPr>
              <a:xfrm>
                <a:off x="5899320" y="990720"/>
                <a:ext cx="4395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6" name="Object 4"/>
              <p:cNvSpPr txBox="1"/>
              <p:nvPr/>
            </p:nvSpPr>
            <p:spPr>
              <a:xfrm>
                <a:off x="1371600" y="990720"/>
                <a:ext cx="438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Oval 2"/>
          <p:cNvSpPr/>
          <p:nvPr/>
        </p:nvSpPr>
        <p:spPr>
          <a:xfrm>
            <a:off x="1295280" y="533520"/>
            <a:ext cx="2305080" cy="2592360"/>
          </a:xfrm>
          <a:prstGeom prst="ellipse">
            <a:avLst/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3"/>
          <p:cNvSpPr/>
          <p:nvPr/>
        </p:nvSpPr>
        <p:spPr>
          <a:xfrm>
            <a:off x="1332000" y="1844640"/>
            <a:ext cx="237636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4"/>
          <p:cNvSpPr/>
          <p:nvPr/>
        </p:nvSpPr>
        <p:spPr>
          <a:xfrm>
            <a:off x="2484360" y="549360"/>
            <a:ext cx="71640" cy="259236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5"/>
          <p:cNvSpPr/>
          <p:nvPr/>
        </p:nvSpPr>
        <p:spPr>
          <a:xfrm>
            <a:off x="1619280" y="90792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宋体"/>
              </a:rPr>
              <a:t>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6"/>
          <p:cNvSpPr/>
          <p:nvPr/>
        </p:nvSpPr>
        <p:spPr>
          <a:xfrm>
            <a:off x="2627280" y="90792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7"/>
          <p:cNvSpPr/>
          <p:nvPr/>
        </p:nvSpPr>
        <p:spPr>
          <a:xfrm>
            <a:off x="1619280" y="1916280"/>
            <a:ext cx="86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宋体"/>
              </a:rPr>
              <a:t>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8"/>
          <p:cNvSpPr/>
          <p:nvPr/>
        </p:nvSpPr>
        <p:spPr>
          <a:xfrm>
            <a:off x="2556000" y="191628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宋体"/>
              </a:rPr>
              <a:t>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9"/>
          <p:cNvSpPr/>
          <p:nvPr/>
        </p:nvSpPr>
        <p:spPr>
          <a:xfrm>
            <a:off x="3924360" y="260280"/>
            <a:ext cx="475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针停在红色区域的可能性是（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指针转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次，大约停在绿区有（      ）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10"/>
          <p:cNvSpPr/>
          <p:nvPr/>
        </p:nvSpPr>
        <p:spPr>
          <a:xfrm>
            <a:off x="7740720" y="2781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6" name="Object 2"/>
              <p:cNvSpPr txBox="1"/>
              <p:nvPr/>
            </p:nvSpPr>
            <p:spPr>
              <a:xfrm>
                <a:off x="5076720" y="1411200"/>
                <a:ext cx="943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4"/>
          <p:cNvSpPr/>
          <p:nvPr/>
        </p:nvSpPr>
        <p:spPr>
          <a:xfrm>
            <a:off x="1979640" y="404640"/>
            <a:ext cx="647640" cy="648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5"/>
          <p:cNvSpPr/>
          <p:nvPr/>
        </p:nvSpPr>
        <p:spPr>
          <a:xfrm>
            <a:off x="2050920" y="404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6"/>
          <p:cNvSpPr/>
          <p:nvPr/>
        </p:nvSpPr>
        <p:spPr>
          <a:xfrm>
            <a:off x="2987640" y="404640"/>
            <a:ext cx="647640" cy="648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7"/>
          <p:cNvSpPr/>
          <p:nvPr/>
        </p:nvSpPr>
        <p:spPr>
          <a:xfrm>
            <a:off x="3995640" y="404640"/>
            <a:ext cx="720720" cy="648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8"/>
          <p:cNvSpPr/>
          <p:nvPr/>
        </p:nvSpPr>
        <p:spPr>
          <a:xfrm>
            <a:off x="3059280" y="40464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9"/>
          <p:cNvSpPr/>
          <p:nvPr/>
        </p:nvSpPr>
        <p:spPr>
          <a:xfrm>
            <a:off x="4067280" y="4762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10"/>
          <p:cNvSpPr/>
          <p:nvPr/>
        </p:nvSpPr>
        <p:spPr>
          <a:xfrm>
            <a:off x="250920" y="1557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取两张组成一个两位数，单数的可能性是（            ），双数的可能性是（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11"/>
          <p:cNvSpPr/>
          <p:nvPr/>
        </p:nvSpPr>
        <p:spPr>
          <a:xfrm>
            <a:off x="611280" y="321300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12"/>
          <p:cNvSpPr/>
          <p:nvPr/>
        </p:nvSpPr>
        <p:spPr>
          <a:xfrm>
            <a:off x="1835280" y="2924280"/>
            <a:ext cx="720720" cy="72072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13"/>
          <p:cNvSpPr/>
          <p:nvPr/>
        </p:nvSpPr>
        <p:spPr>
          <a:xfrm>
            <a:off x="1908000" y="2924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14"/>
          <p:cNvSpPr/>
          <p:nvPr/>
        </p:nvSpPr>
        <p:spPr>
          <a:xfrm>
            <a:off x="3132000" y="2924280"/>
            <a:ext cx="719280" cy="72072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15"/>
          <p:cNvSpPr/>
          <p:nvPr/>
        </p:nvSpPr>
        <p:spPr>
          <a:xfrm>
            <a:off x="3203640" y="292428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16"/>
          <p:cNvSpPr/>
          <p:nvPr/>
        </p:nvSpPr>
        <p:spPr>
          <a:xfrm>
            <a:off x="4211640" y="2924280"/>
            <a:ext cx="720720" cy="72072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17"/>
          <p:cNvSpPr/>
          <p:nvPr/>
        </p:nvSpPr>
        <p:spPr>
          <a:xfrm>
            <a:off x="4284720" y="299736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18"/>
          <p:cNvSpPr/>
          <p:nvPr/>
        </p:nvSpPr>
        <p:spPr>
          <a:xfrm>
            <a:off x="5364000" y="2924280"/>
            <a:ext cx="720720" cy="72072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9"/>
          <p:cNvSpPr/>
          <p:nvPr/>
        </p:nvSpPr>
        <p:spPr>
          <a:xfrm>
            <a:off x="5435640" y="292428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20"/>
          <p:cNvSpPr/>
          <p:nvPr/>
        </p:nvSpPr>
        <p:spPr>
          <a:xfrm>
            <a:off x="468360" y="3716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取两张，如果它们的积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倍数甲胜，如果它们的积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则乙胜，这公平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21"/>
          <p:cNvSpPr/>
          <p:nvPr/>
        </p:nvSpPr>
        <p:spPr>
          <a:xfrm>
            <a:off x="468360" y="47242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       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       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        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      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       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22"/>
          <p:cNvSpPr/>
          <p:nvPr/>
        </p:nvSpPr>
        <p:spPr>
          <a:xfrm>
            <a:off x="324000" y="5229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在这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种可能性里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的倍数可能性是六分之五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的倍数可能性是六分之三。所以不公平。乙一定会输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Object 2"/>
              <p:cNvSpPr txBox="1"/>
              <p:nvPr/>
            </p:nvSpPr>
            <p:spPr>
              <a:xfrm>
                <a:off x="1217520" y="2038320"/>
                <a:ext cx="4399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Object 3"/>
              <p:cNvSpPr txBox="1"/>
              <p:nvPr/>
            </p:nvSpPr>
            <p:spPr>
              <a:xfrm>
                <a:off x="6703920" y="2085840"/>
                <a:ext cx="47484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3"/>
          <p:cNvSpPr/>
          <p:nvPr/>
        </p:nvSpPr>
        <p:spPr>
          <a:xfrm>
            <a:off x="611280" y="189000"/>
            <a:ext cx="822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同学（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人，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人）击鼓传花，花落在每个人的可能性（          ）。花落在男生的可能性是（            ），花落在女生的可能性是（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4"/>
          <p:cNvSpPr/>
          <p:nvPr/>
        </p:nvSpPr>
        <p:spPr>
          <a:xfrm>
            <a:off x="503280" y="2205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一副扑克牌，去掉大王、小王。任取一张，红色的可能性是（         ），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可能性是（　　　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395280" y="407664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３）书包里装了３本故事书、５本作文书。一次一定能拿一本作文书，至少要拿（         ）本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6"/>
          <p:cNvSpPr/>
          <p:nvPr/>
        </p:nvSpPr>
        <p:spPr>
          <a:xfrm>
            <a:off x="1741320" y="52401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Object 2"/>
              <p:cNvSpPr txBox="1"/>
              <p:nvPr/>
            </p:nvSpPr>
            <p:spPr>
              <a:xfrm>
                <a:off x="3683160" y="439560"/>
                <a:ext cx="7696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Object 3"/>
              <p:cNvSpPr txBox="1"/>
              <p:nvPr/>
            </p:nvSpPr>
            <p:spPr>
              <a:xfrm>
                <a:off x="1438200" y="949320"/>
                <a:ext cx="7714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Object 4"/>
              <p:cNvSpPr txBox="1"/>
              <p:nvPr/>
            </p:nvSpPr>
            <p:spPr>
              <a:xfrm>
                <a:off x="7010280" y="985680"/>
                <a:ext cx="7714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Object 5"/>
              <p:cNvSpPr txBox="1"/>
              <p:nvPr/>
            </p:nvSpPr>
            <p:spPr>
              <a:xfrm>
                <a:off x="6019920" y="2678040"/>
                <a:ext cx="4762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Object 6"/>
              <p:cNvSpPr txBox="1"/>
              <p:nvPr/>
            </p:nvSpPr>
            <p:spPr>
              <a:xfrm>
                <a:off x="3146400" y="3218040"/>
                <a:ext cx="696960" cy="79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Text Box 4"/>
          <p:cNvSpPr/>
          <p:nvPr/>
        </p:nvSpPr>
        <p:spPr>
          <a:xfrm>
            <a:off x="611280" y="3618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农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份卖出香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箱，比苹果少卖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比草莓多卖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杨梅比香蕉多卖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根据上述信息填表并制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468360" y="2133720"/>
          <a:ext cx="8207280" cy="1224000"/>
        </p:xfrm>
        <a:graphic>
          <a:graphicData uri="http://schemas.openxmlformats.org/drawingml/2006/table">
            <a:tbl>
              <a:tblPr/>
              <a:tblGrid>
                <a:gridCol w="1368360"/>
                <a:gridCol w="1366920"/>
                <a:gridCol w="1368360"/>
                <a:gridCol w="1368360"/>
                <a:gridCol w="1366920"/>
                <a:gridCol w="1368360"/>
              </a:tblGrid>
              <a:tr h="612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香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苹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杨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草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0" name="Text Box 116"/>
          <p:cNvSpPr/>
          <p:nvPr/>
        </p:nvSpPr>
        <p:spPr>
          <a:xfrm>
            <a:off x="3564000" y="2781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161a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117"/>
          <p:cNvSpPr/>
          <p:nvPr/>
        </p:nvSpPr>
        <p:spPr>
          <a:xfrm>
            <a:off x="7596360" y="2781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161a"/>
                </a:solidFill>
                <a:latin typeface="Times New Roman"/>
              </a:rPr>
              <a:t>1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118"/>
          <p:cNvSpPr/>
          <p:nvPr/>
        </p:nvSpPr>
        <p:spPr>
          <a:xfrm>
            <a:off x="6372360" y="2781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161a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119"/>
          <p:cNvSpPr/>
          <p:nvPr/>
        </p:nvSpPr>
        <p:spPr>
          <a:xfrm>
            <a:off x="5005440" y="2781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161a"/>
                </a:solidFill>
                <a:latin typeface="Times New Roman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120"/>
          <p:cNvSpPr/>
          <p:nvPr/>
        </p:nvSpPr>
        <p:spPr>
          <a:xfrm>
            <a:off x="755640" y="36417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苹果卖出的量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5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121"/>
          <p:cNvSpPr/>
          <p:nvPr/>
        </p:nvSpPr>
        <p:spPr>
          <a:xfrm>
            <a:off x="755640" y="421812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杨梅卖出的量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+2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3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122"/>
          <p:cNvSpPr/>
          <p:nvPr/>
        </p:nvSpPr>
        <p:spPr>
          <a:xfrm>
            <a:off x="755640" y="494172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草莓卖出的量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+2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Text Box 123"/>
          <p:cNvSpPr/>
          <p:nvPr/>
        </p:nvSpPr>
        <p:spPr>
          <a:xfrm>
            <a:off x="755640" y="56577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计卖出的量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+60+36+25=15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8" name=""/>
          <p:cNvGraphicFramePr/>
          <p:nvPr/>
        </p:nvGraphicFramePr>
        <p:xfrm>
          <a:off x="1330200" y="1484280"/>
          <a:ext cx="6913800" cy="3645000"/>
        </p:xfrm>
        <a:graphic>
          <a:graphicData uri="http://schemas.openxmlformats.org/drawingml/2006/table">
            <a:tbl>
              <a:tblPr/>
              <a:tblGrid>
                <a:gridCol w="793800"/>
                <a:gridCol w="741600"/>
                <a:gridCol w="768240"/>
                <a:gridCol w="747720"/>
                <a:gridCol w="788760"/>
                <a:gridCol w="770040"/>
                <a:gridCol w="792360"/>
                <a:gridCol w="742680"/>
                <a:gridCol w="768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9" name="Line 218"/>
          <p:cNvSpPr/>
          <p:nvPr/>
        </p:nvSpPr>
        <p:spPr>
          <a:xfrm>
            <a:off x="8245440" y="50846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219"/>
          <p:cNvSpPr/>
          <p:nvPr/>
        </p:nvSpPr>
        <p:spPr>
          <a:xfrm flipV="1">
            <a:off x="1332000" y="83628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220"/>
          <p:cNvSpPr/>
          <p:nvPr/>
        </p:nvSpPr>
        <p:spPr>
          <a:xfrm>
            <a:off x="2052720" y="50846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香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221"/>
          <p:cNvSpPr/>
          <p:nvPr/>
        </p:nvSpPr>
        <p:spPr>
          <a:xfrm>
            <a:off x="3565440" y="5084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222"/>
          <p:cNvSpPr/>
          <p:nvPr/>
        </p:nvSpPr>
        <p:spPr>
          <a:xfrm>
            <a:off x="5148360" y="50846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杨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223"/>
          <p:cNvSpPr/>
          <p:nvPr/>
        </p:nvSpPr>
        <p:spPr>
          <a:xfrm>
            <a:off x="6661080" y="5084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草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224"/>
          <p:cNvSpPr/>
          <p:nvPr/>
        </p:nvSpPr>
        <p:spPr>
          <a:xfrm>
            <a:off x="7885080" y="5084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225"/>
          <p:cNvSpPr/>
          <p:nvPr/>
        </p:nvSpPr>
        <p:spPr>
          <a:xfrm>
            <a:off x="971640" y="48546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226"/>
          <p:cNvSpPr/>
          <p:nvPr/>
        </p:nvSpPr>
        <p:spPr>
          <a:xfrm>
            <a:off x="828720" y="4349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227"/>
          <p:cNvSpPr/>
          <p:nvPr/>
        </p:nvSpPr>
        <p:spPr>
          <a:xfrm>
            <a:off x="828720" y="378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228"/>
          <p:cNvSpPr/>
          <p:nvPr/>
        </p:nvSpPr>
        <p:spPr>
          <a:xfrm>
            <a:off x="828720" y="328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229"/>
          <p:cNvSpPr/>
          <p:nvPr/>
        </p:nvSpPr>
        <p:spPr>
          <a:xfrm>
            <a:off x="828720" y="2708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230"/>
          <p:cNvSpPr/>
          <p:nvPr/>
        </p:nvSpPr>
        <p:spPr>
          <a:xfrm>
            <a:off x="828720" y="2276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231"/>
          <p:cNvSpPr/>
          <p:nvPr/>
        </p:nvSpPr>
        <p:spPr>
          <a:xfrm>
            <a:off x="828720" y="170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 Box 232"/>
          <p:cNvSpPr/>
          <p:nvPr/>
        </p:nvSpPr>
        <p:spPr>
          <a:xfrm>
            <a:off x="828720" y="1197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233"/>
          <p:cNvSpPr/>
          <p:nvPr/>
        </p:nvSpPr>
        <p:spPr>
          <a:xfrm>
            <a:off x="34920" y="6778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235"/>
          <p:cNvSpPr/>
          <p:nvPr/>
        </p:nvSpPr>
        <p:spPr>
          <a:xfrm>
            <a:off x="2340000" y="3888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农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份卖出水果统计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Group 258"/>
          <p:cNvGrpSpPr/>
          <p:nvPr/>
        </p:nvGrpSpPr>
        <p:grpSpPr>
          <a:xfrm>
            <a:off x="2124000" y="3573360"/>
            <a:ext cx="738360" cy="1584000"/>
            <a:chOff x="2124000" y="3573360"/>
            <a:chExt cx="738360" cy="1584000"/>
          </a:xfrm>
        </p:grpSpPr>
        <p:sp>
          <p:nvSpPr>
            <p:cNvPr id="1227" name="Rectangle 246"/>
            <p:cNvSpPr/>
            <p:nvPr/>
          </p:nvSpPr>
          <p:spPr>
            <a:xfrm>
              <a:off x="2124000" y="3573360"/>
              <a:ext cx="738360" cy="534600"/>
            </a:xfrm>
            <a:prstGeom prst="rect">
              <a:avLst/>
            </a:prstGeom>
            <a:solidFill>
              <a:srgbClr val="c016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256"/>
            <p:cNvSpPr/>
            <p:nvPr/>
          </p:nvSpPr>
          <p:spPr>
            <a:xfrm>
              <a:off x="2124000" y="4107960"/>
              <a:ext cx="738360" cy="534600"/>
            </a:xfrm>
            <a:prstGeom prst="rect">
              <a:avLst/>
            </a:prstGeom>
            <a:solidFill>
              <a:srgbClr val="c016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257"/>
            <p:cNvSpPr/>
            <p:nvPr/>
          </p:nvSpPr>
          <p:spPr>
            <a:xfrm>
              <a:off x="2124000" y="4622760"/>
              <a:ext cx="738360" cy="534600"/>
            </a:xfrm>
            <a:prstGeom prst="rect">
              <a:avLst/>
            </a:prstGeom>
            <a:solidFill>
              <a:srgbClr val="c016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Group 275"/>
          <p:cNvGrpSpPr/>
          <p:nvPr/>
        </p:nvGrpSpPr>
        <p:grpSpPr>
          <a:xfrm>
            <a:off x="3635280" y="1989000"/>
            <a:ext cx="754920" cy="3143160"/>
            <a:chOff x="3635280" y="1989000"/>
            <a:chExt cx="754920" cy="3143160"/>
          </a:xfrm>
        </p:grpSpPr>
        <p:grpSp>
          <p:nvGrpSpPr>
            <p:cNvPr id="1231" name="Group 259"/>
            <p:cNvGrpSpPr/>
            <p:nvPr/>
          </p:nvGrpSpPr>
          <p:grpSpPr>
            <a:xfrm>
              <a:off x="3635280" y="1989000"/>
              <a:ext cx="754920" cy="1584000"/>
              <a:chOff x="3635280" y="1989000"/>
              <a:chExt cx="754920" cy="1584000"/>
            </a:xfrm>
          </p:grpSpPr>
          <p:sp>
            <p:nvSpPr>
              <p:cNvPr id="1232" name="Rectangle 260"/>
              <p:cNvSpPr/>
              <p:nvPr/>
            </p:nvSpPr>
            <p:spPr>
              <a:xfrm>
                <a:off x="3635280" y="1989000"/>
                <a:ext cx="754920" cy="534600"/>
              </a:xfrm>
              <a:prstGeom prst="rect">
                <a:avLst/>
              </a:prstGeom>
              <a:solidFill>
                <a:srgbClr val="c016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Rectangle 261"/>
              <p:cNvSpPr/>
              <p:nvPr/>
            </p:nvSpPr>
            <p:spPr>
              <a:xfrm>
                <a:off x="3635280" y="2523600"/>
                <a:ext cx="754920" cy="534600"/>
              </a:xfrm>
              <a:prstGeom prst="rect">
                <a:avLst/>
              </a:prstGeom>
              <a:solidFill>
                <a:srgbClr val="c016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Rectangle 262"/>
              <p:cNvSpPr/>
              <p:nvPr/>
            </p:nvSpPr>
            <p:spPr>
              <a:xfrm>
                <a:off x="3635280" y="3038400"/>
                <a:ext cx="754920" cy="534600"/>
              </a:xfrm>
              <a:prstGeom prst="rect">
                <a:avLst/>
              </a:prstGeom>
              <a:solidFill>
                <a:srgbClr val="c016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Group 263"/>
            <p:cNvGrpSpPr/>
            <p:nvPr/>
          </p:nvGrpSpPr>
          <p:grpSpPr>
            <a:xfrm>
              <a:off x="3635280" y="3573360"/>
              <a:ext cx="754920" cy="1558800"/>
              <a:chOff x="3635280" y="3573360"/>
              <a:chExt cx="754920" cy="1558800"/>
            </a:xfrm>
          </p:grpSpPr>
          <p:sp>
            <p:nvSpPr>
              <p:cNvPr id="1236" name="Rectangle 264"/>
              <p:cNvSpPr/>
              <p:nvPr/>
            </p:nvSpPr>
            <p:spPr>
              <a:xfrm>
                <a:off x="3635280" y="3573360"/>
                <a:ext cx="754920" cy="525960"/>
              </a:xfrm>
              <a:prstGeom prst="rect">
                <a:avLst/>
              </a:prstGeom>
              <a:solidFill>
                <a:srgbClr val="c016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Rectangle 265"/>
              <p:cNvSpPr/>
              <p:nvPr/>
            </p:nvSpPr>
            <p:spPr>
              <a:xfrm>
                <a:off x="3635280" y="4099320"/>
                <a:ext cx="754920" cy="525960"/>
              </a:xfrm>
              <a:prstGeom prst="rect">
                <a:avLst/>
              </a:prstGeom>
              <a:solidFill>
                <a:srgbClr val="c016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266"/>
              <p:cNvSpPr/>
              <p:nvPr/>
            </p:nvSpPr>
            <p:spPr>
              <a:xfrm>
                <a:off x="3635280" y="4606200"/>
                <a:ext cx="754920" cy="525960"/>
              </a:xfrm>
              <a:prstGeom prst="rect">
                <a:avLst/>
              </a:prstGeom>
              <a:solidFill>
                <a:srgbClr val="c0161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9" name="Group 278"/>
          <p:cNvGrpSpPr/>
          <p:nvPr/>
        </p:nvGrpSpPr>
        <p:grpSpPr>
          <a:xfrm>
            <a:off x="5173560" y="3227400"/>
            <a:ext cx="755640" cy="1905120"/>
            <a:chOff x="5173560" y="3227400"/>
            <a:chExt cx="755640" cy="1905120"/>
          </a:xfrm>
        </p:grpSpPr>
        <p:sp>
          <p:nvSpPr>
            <p:cNvPr id="1240" name="Rectangle 268"/>
            <p:cNvSpPr/>
            <p:nvPr/>
          </p:nvSpPr>
          <p:spPr>
            <a:xfrm>
              <a:off x="5173560" y="3500280"/>
              <a:ext cx="755640" cy="551160"/>
            </a:xfrm>
            <a:prstGeom prst="rect">
              <a:avLst/>
            </a:prstGeom>
            <a:solidFill>
              <a:srgbClr val="c016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269"/>
            <p:cNvSpPr/>
            <p:nvPr/>
          </p:nvSpPr>
          <p:spPr>
            <a:xfrm>
              <a:off x="5173560" y="4051440"/>
              <a:ext cx="755640" cy="550800"/>
            </a:xfrm>
            <a:prstGeom prst="rect">
              <a:avLst/>
            </a:prstGeom>
            <a:solidFill>
              <a:srgbClr val="c016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270"/>
            <p:cNvSpPr/>
            <p:nvPr/>
          </p:nvSpPr>
          <p:spPr>
            <a:xfrm>
              <a:off x="5173560" y="4581360"/>
              <a:ext cx="755640" cy="551160"/>
            </a:xfrm>
            <a:prstGeom prst="rect">
              <a:avLst/>
            </a:prstGeom>
            <a:solidFill>
              <a:srgbClr val="c016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273"/>
            <p:cNvSpPr/>
            <p:nvPr/>
          </p:nvSpPr>
          <p:spPr>
            <a:xfrm>
              <a:off x="5173560" y="3227400"/>
              <a:ext cx="755640" cy="272880"/>
            </a:xfrm>
            <a:prstGeom prst="rect">
              <a:avLst/>
            </a:prstGeom>
            <a:solidFill>
              <a:srgbClr val="c016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Group 277"/>
          <p:cNvGrpSpPr/>
          <p:nvPr/>
        </p:nvGrpSpPr>
        <p:grpSpPr>
          <a:xfrm>
            <a:off x="6732720" y="3860640"/>
            <a:ext cx="755280" cy="1271880"/>
            <a:chOff x="6732720" y="3860640"/>
            <a:chExt cx="755280" cy="1271880"/>
          </a:xfrm>
        </p:grpSpPr>
        <p:sp>
          <p:nvSpPr>
            <p:cNvPr id="1245" name="Rectangle 271"/>
            <p:cNvSpPr/>
            <p:nvPr/>
          </p:nvSpPr>
          <p:spPr>
            <a:xfrm>
              <a:off x="6732720" y="4030560"/>
              <a:ext cx="755280" cy="550800"/>
            </a:xfrm>
            <a:prstGeom prst="rect">
              <a:avLst/>
            </a:prstGeom>
            <a:solidFill>
              <a:srgbClr val="c016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272"/>
            <p:cNvSpPr/>
            <p:nvPr/>
          </p:nvSpPr>
          <p:spPr>
            <a:xfrm>
              <a:off x="6732720" y="4581360"/>
              <a:ext cx="755280" cy="551160"/>
            </a:xfrm>
            <a:prstGeom prst="rect">
              <a:avLst/>
            </a:prstGeom>
            <a:solidFill>
              <a:srgbClr val="c016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274"/>
            <p:cNvSpPr/>
            <p:nvPr/>
          </p:nvSpPr>
          <p:spPr>
            <a:xfrm>
              <a:off x="6732720" y="3860640"/>
              <a:ext cx="755280" cy="216000"/>
            </a:xfrm>
            <a:prstGeom prst="rect">
              <a:avLst/>
            </a:prstGeom>
            <a:solidFill>
              <a:srgbClr val="c016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2:36:37Z</dcterms:created>
  <dc:creator/>
  <dc:description/>
  <dc:language>en-US</dc:language>
  <cp:lastModifiedBy/>
  <dcterms:modified xsi:type="dcterms:W3CDTF">2015-04-08T12:36:46Z</dcterms:modified>
  <cp:revision>1</cp:revision>
  <dc:subject/>
  <dc:title/>
</cp:coreProperties>
</file>