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61.xml" ContentType="application/vnd.openxmlformats-officedocument.theme+xml"/>
  <Override PartName="/ppt/theme/theme19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</p:sldMasterIdLst>
  <p:notesMasterIdLst>
    <p:notesMasterId r:id="rId83"/>
  </p:notesMasterIdLst>
  <p:sldIdLst>
    <p:sldId id="256" r:id="rId84"/>
    <p:sldId id="257" r:id="rId85"/>
    <p:sldId id="258" r:id="rId86"/>
    <p:sldId id="259" r:id="rId87"/>
    <p:sldId id="260" r:id="rId88"/>
    <p:sldId id="261" r:id="rId89"/>
    <p:sldId id="262" r:id="rId90"/>
    <p:sldId id="263" r:id="rId91"/>
    <p:sldId id="264" r:id="rId92"/>
    <p:sldId id="265" r:id="rId93"/>
    <p:sldId id="266" r:id="rId94"/>
    <p:sldId id="267" r:id="rId95"/>
    <p:sldId id="268" r:id="rId96"/>
    <p:sldId id="269" r:id="rId97"/>
    <p:sldId id="270" r:id="rId98"/>
    <p:sldId id="271" r:id="rId99"/>
    <p:sldId id="272" r:id="rId100"/>
    <p:sldId id="27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notesMaster" Target="notesMasters/notesMaster1.xml"/><Relationship Id="rId84" Type="http://schemas.openxmlformats.org/officeDocument/2006/relationships/slide" Target="slides/slide1.xml"/><Relationship Id="rId85" Type="http://schemas.openxmlformats.org/officeDocument/2006/relationships/slide" Target="slides/slide2.xml"/><Relationship Id="rId86" Type="http://schemas.openxmlformats.org/officeDocument/2006/relationships/slide" Target="slides/slide3.xml"/><Relationship Id="rId87" Type="http://schemas.openxmlformats.org/officeDocument/2006/relationships/slide" Target="slides/slide4.xml"/><Relationship Id="rId88" Type="http://schemas.openxmlformats.org/officeDocument/2006/relationships/slide" Target="slides/slide5.xml"/><Relationship Id="rId89" Type="http://schemas.openxmlformats.org/officeDocument/2006/relationships/slide" Target="slides/slide6.xml"/><Relationship Id="rId90" Type="http://schemas.openxmlformats.org/officeDocument/2006/relationships/slide" Target="slides/slide7.xml"/><Relationship Id="rId91" Type="http://schemas.openxmlformats.org/officeDocument/2006/relationships/slide" Target="slides/slide8.xml"/><Relationship Id="rId92" Type="http://schemas.openxmlformats.org/officeDocument/2006/relationships/slide" Target="slides/slide9.xml"/><Relationship Id="rId93" Type="http://schemas.openxmlformats.org/officeDocument/2006/relationships/slide" Target="slides/slide10.xml"/><Relationship Id="rId94" Type="http://schemas.openxmlformats.org/officeDocument/2006/relationships/slide" Target="slides/slide11.xml"/><Relationship Id="rId95" Type="http://schemas.openxmlformats.org/officeDocument/2006/relationships/slide" Target="slides/slide12.xml"/><Relationship Id="rId96" Type="http://schemas.openxmlformats.org/officeDocument/2006/relationships/slide" Target="slides/slide13.xml"/><Relationship Id="rId97" Type="http://schemas.openxmlformats.org/officeDocument/2006/relationships/slide" Target="slides/slide14.xml"/><Relationship Id="rId98" Type="http://schemas.openxmlformats.org/officeDocument/2006/relationships/slide" Target="slides/slide15.xml"/><Relationship Id="rId99" Type="http://schemas.openxmlformats.org/officeDocument/2006/relationships/slide" Target="slides/slide16.xml"/><Relationship Id="rId100" Type="http://schemas.openxmlformats.org/officeDocument/2006/relationships/slide" Target="slides/slide17.xml"/><Relationship Id="rId101" Type="http://schemas.openxmlformats.org/officeDocument/2006/relationships/slide" Target="slides/slide18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 type="dt" idx="24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4" name="PlaceHolder 5"/>
          <p:cNvSpPr>
            <a:spLocks noGrp="1"/>
          </p:cNvSpPr>
          <p:nvPr>
            <p:ph type="ftr" idx="24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PlaceHolder 6"/>
          <p:cNvSpPr>
            <a:spLocks noGrp="1"/>
          </p:cNvSpPr>
          <p:nvPr>
            <p:ph type="sldNum" idx="24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1C88-9AB2-41B0-832D-9389D54D2C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05C0-67B8-415A-A4CF-9ECB0B8E9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FC6C-88AB-4221-ACE3-DBC3D4D38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D8D7-3704-4305-A214-7C615887A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33EE-A8F1-4AAE-9114-176321B46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0645-E3F8-47AB-8F73-5428BDEAD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0FD4-4BF0-4C26-8778-1229A49F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322F-488F-4D00-8B63-07A6CB0CC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D5EE-3E5F-4783-A8EC-CBA21F141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41A9-11ED-44EC-A2B7-04675F7D5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03F-B344-4ACC-8167-4099C463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542-5B11-4916-9A4D-A7D0C4A5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BC142-CF89-469E-AF1B-6431357D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C8F8B-9815-45EE-B88D-96425386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E2810-BEC8-4B87-A61A-9DD19C43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ACBE1-5286-44B2-BF4E-1C709F0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1C8D4-A7F4-4D46-A922-D773E0E4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FABF7-4D81-406B-A2CB-F74777CD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96182-D61B-441C-AD2D-A129EEEB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22F67-62E9-4841-9FCD-2A537281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057FC-1CE1-410E-9B0C-9022FAA8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2EB78-08C6-482C-88DD-22BEB0DD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C68-1915-4048-8EAA-D205D451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67546-0D47-4905-846E-E06B360B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F048A-A28E-4DAE-9EA3-C4FFA757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CFD9C-FD77-414B-A744-EBF7869F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0921D-BAFA-4577-B6C9-2B4240D8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55853-E176-4EBC-B30B-6D98EC39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9E4B1-EE3A-437C-99D0-D38F355C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F84D9-531B-4B5F-90DE-0DC6BCCF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359AA-4E0C-4279-8B02-ED11D5B1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2D089-5B69-4212-B7F5-159DD43F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836ED-EAEB-4554-A3A1-0F0D28E8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496-9568-470B-86EA-2878010D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057E9-2A5B-4F7F-85FE-CB8F5634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213EB8-BD82-40AA-907A-F603259CAD1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407F6D-ED07-4FE9-BD05-EBA2CD46F8D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8C4503-F16C-436E-ADEC-F05CD5CE4C6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3014DA-D65B-43D7-9F64-EB07882513C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4304EA-EACC-4577-ADD6-79CEBFC98C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531225-4A47-4DBE-8235-B33A4CC9602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B2EFA8-4009-4A73-ADE6-6AFA0396A08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565200-1951-49FF-8C87-DD2D6F46A56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C82010-2FFD-4F93-94F6-A4B961582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23B5-5173-4E76-A9F3-09804602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2C11A6-0E81-4804-9504-DF233442497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C300DC-99F8-4C4E-A9D5-92EC471251E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3FC56E-D890-43DF-B057-6DC931E68BA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C5460-8D27-4E9F-8DDC-CC733570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5850B-2941-4403-9AA0-D1485E98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AB031-3431-487B-BA4C-FE1C53AD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8D47E-DB55-4903-9016-89056D48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B1A76-E46C-4B9B-A81B-123662E7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20619-F614-456E-ADB8-BC139FE7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BB0F4-9E0C-4520-8704-ED3762D5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3B6D-1DF1-45E3-A17A-FC5DBBC5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51AFC-AAA8-449C-A5C4-E14C4884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9906D-0C90-4858-8E48-E53334E3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676DD-0FDE-4EF8-9324-D9EF2116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DDD8C-A4AE-43C0-96F5-A2C3ECC8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E48C0-659A-4F35-AB3E-7670EC04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6C8E80-B207-4639-B6AA-9F2ACE34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8A007F-2C03-4620-862C-BCC89D0C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DF3AB3-13CF-4705-8DFD-71595E93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6BF9E3-2EB5-4E90-B265-6AA1C8DC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1CF9F4-D709-4B62-9E40-FA24B097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0246-347D-4CE4-B740-6625058F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0188BA-ABAA-4C13-8F5F-A7863737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83C7DB-BE98-4668-BDCB-5A18152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F36131-BF00-4704-9DE0-D2A29BEB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781DB4-67E1-4E2E-BD22-E0CA5E33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616999-EE01-4F4D-BEA4-0A307362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B5C7C4-E229-4683-BCA2-1DB9DE82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2B7B85-42CA-4161-9792-2B62F484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C7EDD5-AFAE-4A89-94C4-C00CBD2F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C72EA9-F313-4A2C-9E27-8DF5A9A2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44DB34-0CD2-4F0B-BE86-A273A467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0C95-40BC-4006-834E-206A67C7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74EA68-2F97-4A87-BAF3-84E6EEA7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10C9F0E-7EA4-4639-9340-E9DA207A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F95503-1038-43CE-AB68-37BF97C1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DDC8B0-0D55-48A7-9CEF-97F9A2B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140DD2-69FB-4732-B65D-08499ECA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87687E-B424-404B-90E1-759552BF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58A469-2E26-4666-9D6B-C0B82EA6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C3F69E-C559-4E84-ABCC-13711F12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65CFC62-77F9-48AC-AC11-26310597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C97543-69F0-4F1C-9065-40879F02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2BC9-0DBF-49A2-857F-60C174E3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552284-3D34-48D4-A55B-89AFC0D9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DE4729-1EC6-4F72-A90D-E4705099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DDDA4B-3763-4C7E-9BDB-F8694D2B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325C84-CB56-41A6-9FEA-D2BDDEBF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477FE7-2C58-4043-9044-FEBDB06B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0B407C-7418-40E9-9519-7B3E15E5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36B5A3-4F97-4D42-8752-2800A197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4618B4-0375-4FB3-9A94-12CBD576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AA5C67-4924-4CA8-BEE9-1F85B87D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48C319-D5B6-448F-A7C0-60C4A585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01E3-DC5B-4854-8DCC-8523BA2F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4FD2B40-CAB4-41CE-BDB1-55C62E64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EBE89D-1359-4C8F-9E9B-8F47C60A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1BDA5C-0FCD-4A25-BA7D-21439836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379EE1-C579-47BC-98CF-8682A15A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32F864-C639-478F-AFBD-6EEFA7B7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E18305-2A0E-40B3-A89C-9152B757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75999C-71FE-4375-BF22-C00B22F1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6190FC-9F98-4CBE-8349-62AE684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35F717-677A-4B2A-94CF-034019A6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80D5AD-50E5-4C53-BBD5-042F2984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FCA5-7912-413F-AFCE-CEECEFB5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4204CD-2E20-4816-9943-1ED62F2F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C5831F-5084-415F-809B-48097C72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065785-E40F-4FC8-8DFD-0115416D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54DD0C-45A0-428E-8D08-22D7431C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7422CA-B21E-43D3-A055-03E850BA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7537BE2-21B8-4513-B642-AF8F04D5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7AE75F-9DBB-4932-B95F-D6179F5C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9BF5047-A245-42AC-B8C6-A2BA32F9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5765262-1706-48D3-A557-84871242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274A4C-AA4F-4512-934D-76A01E8D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356-D6D8-4A9D-80C8-390DE576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A4E7-BDF4-41AC-8739-1711BBDC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8825197-BAEA-4106-8073-99E892A0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B55D066-2EC8-49F7-A4F8-82DD3E2F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C7FFC90-4F1C-4D99-ADF2-ACA531C3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0D55C8-6513-4C39-AE39-58F163CF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82E57B-C6BF-42B3-9049-1E700CF0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25CE572-EE9B-45CA-B58E-058BE695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B20F5D3-CCCE-4F5F-8577-8A38F602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5A3480-E58F-4CAB-83F4-9F92B0AA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655E49B-5220-4573-94F1-AF1C1A11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1FD1FA7-31FE-4232-BD2B-42B8D687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A9A6-6841-43FA-8B33-0EB7F9A4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B55739-21C1-4FEC-9000-9E2189BA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7FC9DD-27F4-424C-A55E-80782456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1A6090-9944-4EEB-A182-BB1FFD9F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FDB7D8C-383D-4217-9B0C-69170D43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E5B5A8-A0FD-46BB-9953-284659E4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4106681-6B17-41B4-A021-1C44B255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E61F63-18FA-4859-B107-725D4A9F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8CFC772-0C51-4361-B77F-31CD1251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88C6AE7-BFC2-44D8-82BC-51440F92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AC598C2-9394-4133-B32B-2762F2EE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57F7-8670-4A27-8FCD-E3216F51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97D0CD1-1387-4C72-A71D-0C17442D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981CE77-D26A-46E0-8B01-B7FAECB7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07370A2-153B-4C86-88EC-3270F49D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C441D60-C365-41DF-8BAE-A3AF727E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03BC4AA-6B41-4B88-86FA-D9F53997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130AF3E-DF83-4A4B-AA53-C3EEB004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CC91DD-03B8-4E1C-8A45-365B6AF6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8B127E-5104-4D2D-8189-72FC09B0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59022CD-DB99-48A3-A52C-0F238F9B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74DE61A-1A6F-41C5-A020-FD71460D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76E8-DC36-47D0-9D3F-32563281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C24FC63-0B3E-4D79-9E84-E900230B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1CA9AE6-D7F8-4E6F-8080-B1DE1396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A9CD90B-2C21-4BB0-8DF0-91F1BE1A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8AD1FE0-69D9-4AAF-AFF8-2F6D1CD0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CCDCB6-3A79-431C-BD8C-B82F2090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87BF7C-90B1-4EE9-BE9F-039A7114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6B20617-1BF0-4296-A5FE-9152C751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5D14A5-15E8-4A19-AE78-A67309D2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3A68F2-1CDA-45E4-8C21-3940D6D0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EC5C97C-3C73-4FC5-ABD0-F1FDFEEC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ECDE-8870-497C-9F19-ED9E5F91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2139B8-8100-4B10-B16F-C4D853E0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1BD8138-ADF5-46E3-985C-C6396D69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47669D6-633E-4B67-A59F-5D65E110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26C765C-181D-4A42-AD8F-40ADC99B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05ED782-54EA-416C-A95D-2284731A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6122E43-2322-45E1-835D-7761ED79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AC4A0A4-DE3D-4890-BD43-AE673929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EFA9B84-7AE4-4D79-8ECE-D70A8C7C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AB7BB73-C6F1-421E-B563-C39B28F1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806E494-A750-4847-B9FB-10A3BCBD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E31DA-4D22-40CF-A9AE-DC30FD9A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D7A975C-912A-471B-ACC6-093BF29B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AC03E64-55A2-44D7-B9C5-034EE421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6D1A9F9-B21C-45BD-B0C7-79E56387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AA4B2C7-8459-44E9-99F1-0A3A94C9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E9D4F96-6D30-4E1A-B1EA-3A468A76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B088925-9289-46DD-A6A8-DC86713E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0917D6B-9A6E-481A-B9B3-C8259E0C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A73F3E3-7E04-4ECB-BD45-E858D957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711F0B5-70D5-41E3-81C2-7DEEE49D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D17CA54-9568-4BF6-A918-CCAB1F91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E2D0-57BB-4013-B4A3-38A1D617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120FA9C-B214-4CE5-893B-FC251166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A8B28B8-407C-443C-B074-B1040017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DF1BE78-CB70-43A9-A6E9-9ADAFA4B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ADF95E1-7B67-4CCD-8245-2A3B2CDE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80DD5DF-C335-4D36-9C40-F1D9A4D2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49A2C18-DC9F-47BA-8C5B-C114A1E0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690BFD0-9C2E-412C-8979-9B88F134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83464D-47B7-456C-9396-55D21B6A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D0A532A-9CBA-4851-AEDB-4A9F5683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E91C77A-944B-4D64-BC38-A15E7880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C4470-7A95-45F0-AFF6-C81CD719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0F43C68-0687-4D09-A5E9-15AFE98B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55715FB-F7C8-4C23-94B3-F9F3EA49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28BA45D-A4B3-4C67-A65B-59F0A262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11E70C2-0F69-4A20-BD06-CD3B4850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3DC1AFF-35E8-4B41-B6EB-F95867BF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020C2DA-EB4B-41FA-8D97-F8EF31C9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9654A57-5C2A-4559-8157-1D9ADD8D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73FE090-1E4C-4B98-8373-BD5D025F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054F02-6562-43CF-ABEA-9BCADBAC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0E82188-2D86-4C4B-BF80-04C47E95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FFF66-17DC-4B5D-81CD-AF8A11A3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1BEE0BD-6A12-40A5-9B18-90C84175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F872521-C7B1-4AA0-BDCE-2ADFEAB7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544923E-6DF1-4DB1-9112-26445257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EF7BB3C-9787-40BE-A601-BD668769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FDAD8D2-C632-45FD-8A4B-0CDA6E39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DBA8458-DE61-4518-A324-9BB5F11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3D5E149-2279-44EC-B711-28A69F32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E56A52A-0EFF-4832-A3A8-52C0580F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747D1F8-A022-46F8-A21F-4653AA16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D7EF711-E311-471C-9956-374076B5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7841D-E9D3-493D-AA57-103F5506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1AFD9C6-411F-426E-8C37-96BDB70A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313AD5B-353C-4375-BC55-10682286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D77604D-3EE4-45F9-B36D-C6CCEF20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BFD83AE-211B-4B35-BFF3-9CAF1565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ED7D98F-4B82-442E-B7A0-294EC9E0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3AA23B8-0C63-46A8-B748-FDB9222F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1552E6E-0CFF-4536-A6E4-09CE66CF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F7637E7-2373-423B-9211-427379E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77498BC-5521-4654-92C7-DBD78F0E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00A0FD8-6DA3-4DF5-A9E1-1D238300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221-F84C-4C35-81A7-6C8BFABC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B8EBB-DEBD-43CD-B371-9075F197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6D14D11-17FD-405F-A4A1-BE8CD4A7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2E49FA0-16A4-4CD4-BB66-D60E18CD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764168B-ABB8-497C-86EA-E7C43C1F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C0A49E0-BCB7-4EC8-ACDF-53CE60C7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B89397B-B3EC-4090-86B2-FC9A6A9A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B31783F-0862-42A3-8466-1937383E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9B9BDA1-847A-48E5-8267-7DD6E4B6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B6AA1E8-01D5-4249-A789-8EA4EE78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5D50A00-9C6A-4851-9F3B-5A8949E4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8D8F515-72C7-40F2-9570-A4136AF5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3B3B-7F42-411A-ABF1-3EEED38F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E03FB36-20EF-4408-8DEC-61D71421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21426C1-690D-4F0D-B609-CE11BF28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FF842B8-DB53-4A31-B69B-8E916880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F21F3CA-5176-4931-8258-E6E8F200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51EA141-7BC3-4ECB-BAEB-E830694D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3F9B26B-68FE-4C2C-B6B4-C361FEFC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8002997-650C-4CDE-9489-E6D5B553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82BCD31-3F22-4859-960F-C662BC97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779EC28-FDC8-47BB-B92C-3A280EC9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4CD8467-06AA-4C11-8A27-68AF06B7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E347-EBC0-469A-9362-DD074B26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5C102BF-DAF0-410C-A087-9AC6B3D1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FE57ABE-B3AB-4118-8DD3-AF48778F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937977A-1E78-4A58-8CBA-D38BB050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EAE9013-65B1-4C9A-9164-AC236C7F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C9E1D85-AF78-4060-9A9A-240AE637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76D3B6D-FEDF-4FF2-A56C-87B7BEE7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4FD9FCD-A3C9-4F9A-853F-8C212D6B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DE79169-EA4B-45D0-B24E-1DD32443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B1DAF8-1C2D-4418-B1C1-FCC871A7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6CE16A7-7439-4F70-94CB-2DDB3B2E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0EF45-7C62-4BC7-A995-1039857C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078EC27-2723-4851-870D-8F2BA5FB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8CCE307-DA57-4442-B514-D3A8C467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5C4A14A-C28D-43BD-9DCF-7C3986B3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FD36F19-90B1-4D3C-B5D5-A2263503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CE45F64-935B-4A6E-9B04-A4347F72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96A8E4A-2A4C-4F03-9CDB-F8846CD5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9BEEB93-4102-49B6-A789-358204AB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88EF029-2102-4F41-AF29-F0547696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27C5F1F-2823-497E-A0CF-D815694B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5A6E88F-A626-4962-836B-6CF17F37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5CBE3-C3FF-4B90-8381-6F9319DA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3AC9184-ECCE-4A5F-95DB-149A3C1B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0203699-0E62-444B-BEA9-FD73F075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9088B3A-3A92-4C59-8567-60506D48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882BFC1-0649-44D5-9EED-C3F1994F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7B13995-445B-456B-A73F-51C9DDD4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E47F4A5-017B-4BE2-9BE3-ECE4007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5A4F6CD-51F5-4F26-94F6-F475EBF0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337AFBB-C5EB-49B4-AD0B-10947604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7EBD58B-41FD-40A8-A22F-B79A143B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13E5DD3-5F54-4335-AD62-D496A670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4D56-7BE8-4395-8372-64EBF3FB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272A73E-16B5-4C8B-A4B1-72C20276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2B6A61B-7D38-4B4E-BCC3-81194545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1D65CB0-340A-4B9F-B0D7-55B3E57D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9BEF7C1-7B7E-4725-AA81-BA91C8B2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5353D8B-4CE7-4AB9-B7F0-C6C0257A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2C41956-8C0F-4DFF-9141-02398F51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FCE0789-EA0D-422B-B0FB-DF044191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7DFDBFD-7A9C-4378-9B01-3871CBED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577F2AD-8986-40FB-9678-175AB3A8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76FBFF3-4088-4534-B4DB-9182B13A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6F63-5893-480B-9A87-8CFEB912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1ECD2E4-886C-4777-9CEB-8355C445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2B15C4A-BE2B-4BA3-91EA-766F4561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45CF316-22A8-49E9-9050-201A62CC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1D97F49-1659-477D-A749-841EA8EC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8DDCE1F-770D-44B5-87DF-6569D97F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6E3C0E3-31E2-445C-886E-DBBC02CA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1509892-49FD-4A09-ABA9-DA6FF22D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AF9AA76-8505-4E6B-AD69-B6474D9C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1C0ED61-7124-48E4-AA9C-CD42689F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E7C3C19-718A-43EF-91CC-476D2E50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8228E-CBA1-4FB3-B289-1D5BA2C4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634DCEE-55C2-45D7-A1AE-28DCF43E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7435A71-962A-413E-BA7B-0FB48810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87DBCA1-B737-44FD-BB8A-6DCCCE85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3B99894-B9C3-4B40-B74F-5AD47084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4311CD0-F2D9-43F1-A1BA-6FCCCDDA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8E6E8A4-7CFA-427D-A7A7-155F51B7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E0BF89F-D4AC-4796-9055-524F7E78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9CACED9-F9CC-45FB-AB2F-5BCCC61B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CA7C5C7-03C9-4FC7-97B3-9AF39C99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FFC5793-F3CE-4EFD-BD74-0D49CBB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BE73-5A43-49F6-9EBA-25017C42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E78727B-0820-4547-91E3-938249FD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A33A46C-B18F-44A2-9A79-78A3AAEE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463EA0D-388B-4509-927F-3920116B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2971FC8-096C-4639-8398-764BFBE6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F116B61-0DAA-49C1-9B9B-50F11E42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562A9DA-E65E-4675-9237-C95DAE13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0372132-8611-487D-9033-FEE1C0F3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FDE8B1E-0A8C-4998-8012-0DDCEB23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893594A-3C24-4E87-AD1B-C951733B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A24596F-5F63-474F-B9ED-053B814C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F433-D179-4DFA-A691-AF208BFD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3EA0C1D-AB15-4203-8F78-834FC4F9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DE0F77B-4EE0-42CF-AB49-2EFCB0B1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4F69940-00F2-49C0-9A20-69D0AA6C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2055DD5-330E-4CED-8ED2-0E7F9B5B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5EC841F-97D8-4F08-B1AD-0F49183D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ECFDD6E-659D-4739-9F58-A247C20A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C3F4173-6702-4079-8DE4-A6735905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2736440-6546-4C2E-971B-D1728E69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51E8F65-2EDB-4AA0-A612-E6DD2018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0E1ECBF-6DA1-499F-AD61-5E742A51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BBC-5CCB-41E3-95C6-7055B60B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4E991-CE1D-4F49-AC48-85777859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827EB02-8420-4C41-BA87-CE375C14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661ED4E-A2A3-4CCF-805A-658FDB41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CEEDCD5-08F3-477A-9EFC-62D9CFD2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FCA8E49-CE38-4C6B-84E4-D99A4DF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B941E9F-2AD3-4A6B-A387-1BC76DF1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A0B4D06-F34D-4782-AD4B-833F660D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7F1AE84-5F33-43CE-A998-C7E19D9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524A93A-2539-430E-B086-4B7BBB36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226D410-71CA-4ACF-B113-60AF2946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922862A-3ED1-497B-8C61-76BF2CD0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C38B6-64CA-47C4-A1AE-C8C6F3ED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3D2BDE5-7170-4288-8BE6-C77F0557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62AEDA7-0CE5-4443-B973-0793805B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84F9C54-2FB9-4A4B-A19F-89B66C63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FCCB483-D2E5-4CFC-A604-152318B8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BC84F68-C684-490F-9BF1-6B2CD138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040B8C1-6742-4B07-B2BB-9B1E56C7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2C7DD6C-4767-491E-AFEC-EA66F3BF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E0B1A21-B250-4FAD-AC56-3D74DB08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401B883-F34E-458F-98B3-B08987DD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30694AD-8519-4F89-A836-54E7C261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8AC79-53AB-479A-BB03-0B3078B3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F92E5E2-D5DB-47FC-915C-89BD7FDC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2BD7A8D-D97A-47B8-98AD-8DDFA151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2BCF116-725C-4734-A8A4-1EAC748E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67C2E85-E714-4DD5-B85D-AE094426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FE102AB-E3DC-47F5-9A6C-EBBA6B5E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6C2E497-59B7-4993-9DDF-9128DE3B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C523D01-89E4-41C1-9727-F9876603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926BD36-6269-450E-BB59-00D7B240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CAB09DF-28A0-4ECE-B524-B9B0230E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CA65B44-58C2-4948-8885-3EB9BC76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526DE-87EB-4DD6-AB19-C37364B0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4FBB10D-DC1B-48A0-978C-964C64E1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7B98E8E-EA74-4D1B-9E23-89C9FD91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DF56327-089F-4768-9066-45D2BC05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D313B39-3126-4F66-8EB5-7692A749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84349FA-C64C-4DB5-A2CF-8F8EAB71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9CABF75-356C-4FD6-A055-5EFD216F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1008AE4-789E-4388-8C85-BB779F8F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B3EB4D3-A09B-469F-95EB-A140FDCD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F98822C-2D1F-44DC-990A-C45CED92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3D873D0-8E71-4F1F-B9CE-1A3B921E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1E72-F8D4-4178-9C79-B6765EC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AF17702-D06E-4B6D-906E-BADDF38B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6F4ABE0-974B-4CC2-B305-A2E4DE08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6C624D5-249E-4D96-8A56-ACF58948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B942D61-111C-41B2-B8C5-FF3326BB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AA39722-6670-43DD-BBAF-517DF4E2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409BA13-D006-4622-B90C-6C4A6D01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0090739-A590-499C-9012-5D6CFF68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1264F5D-9AA8-4AA1-A2D8-BBC65384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6FB140D-F865-4744-8C5B-F54F11E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267879F-0DFE-41CE-BBF6-D9260D5B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647DF-7B67-45CA-B433-BC6168F4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500BF88-772A-4493-9CC9-A913AEEE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C56643F-8762-4FFE-9D1E-6EF30067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993849A-20C8-430D-A812-CC5F563F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FDFE3BF-C61A-494E-A840-6BC0203C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9D18363-7850-4B5F-B92D-FDEE1B55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6FBD1C3-5809-46A2-8C82-F391675D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A4B1209-6384-4036-9A8E-483F40B1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2CC7B92-9983-4BBF-8D55-BFAC73AE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A9F3B5D-DBD8-4109-959A-DA65DD9A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301193C-CE9A-4ADF-9D49-8E6C3E04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88FD-C927-4304-8F29-87C39015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8C2A7D5-4AD8-41AB-976F-66D1512A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9B92B62-C3D6-4C88-8521-07D0B9F2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A73E070-8CBF-443E-B36B-023C72E2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331F65F-68AD-4A41-92E2-2BC3DE53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EC06034-346B-49C1-B38F-9FB3D0C8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789DE80-141F-4059-B88C-28692CE1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54748EB-5333-4ED6-BBF1-2B265791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279301D-69E5-4CF8-BBC7-EC9CBC30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3BBF3FC-ECFE-4138-BBA1-945F40DA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0ED2149-B616-48F7-AA9B-37702A46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22B6E-83F5-4098-B118-2AD7E8F0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31F6A0D-F71F-4D30-8D55-0A282377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06B23F2-71EF-4970-B822-0F438553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D1F653E-8C12-41A9-BC90-9A07EECF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48E4B7D-DE10-426F-B5B2-65FBC653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410B5C5-8669-4BF3-8808-293827DE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C749406-C8EB-45FD-82B5-4D624CA3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FCC6EF7-2624-4BAB-A64A-4AC45E1D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9F1EE46-97F3-488B-AFD1-9606A781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9E882A5-37D6-4062-B218-9D54A5F0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32CAD7D-A5CA-4775-9D93-AC6C3F49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A46E3-9E54-409F-9833-ACF0D18F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96E6400-AF1C-4D11-B68D-708AC67F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A17E59E-E0A4-4096-A776-03585948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DA76BCA-A699-4023-8396-C2C3BAF8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FCAFA1C-C528-48F5-A63C-FC2F728F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AFFD4AF-61E8-42D2-884E-29CD4E99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A9B43BC-897D-441A-BA6B-8E9B55EE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5F30A1B-2212-4655-B111-ABED2A69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A274192-3B08-493D-A3DC-98CD990D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04FCE68-3BAA-4922-A0AF-97836A0E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C25BC6C-A38C-45C0-BF4F-E738BA2F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02FB6-575F-4F11-930D-7EFCFFB2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E2C43CE-BA39-4878-A87B-A2A267DC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620C7E3-1899-470E-8BAF-E07B6BD8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4A9F679-3DAA-4723-8653-FA80E080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3267F07-2896-424C-8C05-743543DF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226F2B3-31C1-4B2E-B207-89D3911C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F3D1539-72EA-464E-9FB5-17ED69EF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E24B771-AD03-4671-8353-FCC304FF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E180706-928E-4168-93B7-8E372350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7A935D2-8DA9-4C79-9299-F0743CCC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32DA858-878E-42ED-BC2D-1A2CE11B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21A-2E75-4BCD-84B4-F8DA34EE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47C77-C1DB-4499-9EAA-FB02006A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47C5A54-8DF7-4DFE-A875-148ED149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48E259E-F902-45FD-A176-802A5938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08FC268-2072-4721-B187-AF241E87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83839CF-4370-44D7-9E33-42AF348F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054A60B-8959-47F3-BEE5-1159AC63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7FBE2CF-96CA-463E-AE6B-7D7A91D9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712A43A-5D82-4E48-B613-381D97E8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426FA8C-0BD9-4E34-9BA6-EFB2FA30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9A7BD7C-0453-4597-BEFB-DE50B3C2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B585BA7-7E62-4CED-B541-2ADE1238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4CEDC-8C7B-45B9-B7B9-08BA6691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41DA5A4-BF98-4EE1-BD7B-D9476120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ED67EBC-C187-4C6C-9079-8F6BB046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695D848-7359-4DDB-8F63-F8D8C04D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C6995CC-92B2-4501-B0C3-608B7DE9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4CEE390-4217-415E-9A32-31D8A6D2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BBF0FC7-C328-4F35-8A76-9CFB8779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2FC8AC4-C98B-43C6-8DD4-F0D1CE2F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32B2298-F416-46E7-B526-5D9643FC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7DE471D-C076-4027-A145-71D94A71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4818623-9102-414C-B40B-6CDCE29C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2D6F7-9AC4-4AE8-85B9-1F77056B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F0F4C0A-09D1-4916-A730-1F413016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C2A3D2A-909C-4FCC-B33B-3DF503B3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A5E3C94-CE95-459D-95FE-80A8968C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37B7BD3-42BB-4A5F-9C95-EA838447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90369C5-92E3-4F6C-8C59-8A40CD3F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6096E56-C84D-430A-B62D-24CFD8D9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AB323CB-5403-4933-9CED-AD4BA47E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70851D0-63D1-415F-A444-69357D59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58E93B5-9D4D-4CE1-9727-3F2CB976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39E7936-84BD-4BDC-A8B8-350311D2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B829B-D8F0-4A2E-AADB-5D0CF996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EB27B36-CACB-46AD-B7EB-991F991E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32F3E1A-FF7C-4682-A9CF-40430C73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576B7B7-4347-4746-962B-0664BB75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861C2ED-ABEF-4961-A288-CD077053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97DD461-1BA6-4DAF-B875-614B2054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BBD19A6-73FB-49B9-99BC-83A4CA59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2D06381-2238-4456-A99E-796EF24C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6DFFDA0-47B5-47C0-AFC0-D9E66E2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341F5BC-51FF-46FB-B87E-56EBB7DA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905A987-3B5C-4A9F-A942-4270A2DE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2334B-B53C-405A-AEC3-FF33F9EC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ECD6859-D11C-4144-A9BD-F7649FC1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67E469B-6E78-4A66-9CD8-D50103FA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29209F8-9DDA-45CF-9B99-872E35F1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91B619E-5633-4227-8BE8-ABCE774F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133FBA3-C3AD-4163-93C6-7CD9B9B8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013DD37-74E2-4973-867F-241E42ED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796B3A3-886F-4969-9C0D-BE37D623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972F882-E58C-473E-80C5-4F20251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BAC4590-E4D9-40C5-98D1-AC5CF2D1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C9D1C6A-F0C2-4428-812F-751ACCED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CB47F-B825-4D4D-823C-2EE4C8BA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06854B6-C167-4E4D-9F41-D969973C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7E69363-DC4C-4E77-937B-69EC1E5B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2B14453-F6C0-4805-A575-1812D535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92349D1-E04D-4136-BA93-BD184AD9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367BEF6-D883-408C-9566-ECEA5C9E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B3832AA-534A-4091-A017-6F67B36F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D72DF6B-A27E-434F-9D4E-9AEECF59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238E1DA-4EB5-47A2-AD88-F356829B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BC9BB63-FE58-457C-8C3E-0183FD77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44BD99D-0CC0-4E7D-BF33-0FD4480D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BDCD2-A326-44AF-94CE-09560D80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322A36B-A79D-4EB0-8403-FB270973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0AC8026-5330-438F-8DD6-48EE1B2E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C1C2FF0-8946-4914-A986-9DCF3C03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8EFAD42-9E3B-49E3-81BA-D6335E7D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2B5A698-C1F6-4882-9CBF-61AD322A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86BD88E-8045-4B14-9316-299F87D3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BC56387-36E9-4CA4-8870-3DEAFCBC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3EF1453-C2BC-4597-B5E1-DAFCAB68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9196CDA-D83D-4B11-9F78-1BAF5A0A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44CB552-525B-43A3-A926-F81D0639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1B510-CC14-4AFA-8E19-9338DF26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6B3F556-2F9A-427B-B5DD-22227541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15E5F71-BB1D-43FA-998E-8F229AA4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EB01D94-0D04-4578-905A-1EB55E48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CD523AF-8A0C-4C3C-A7CF-C7C2149C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25B0570-D05E-42E5-A3A7-12B93B38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3FFC539-3DA5-40F2-8659-9C75CCE5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8DE0136-788A-4914-90AD-AED7FC49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C1D6C20-01D5-4BCC-B1EA-666D2044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4D29B0A-8CE8-42E7-9101-5BFA3C1D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B33D504-6062-45FA-A496-23B16E9B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EAF89-7B4C-4F06-A748-D9720B74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380EB0D-873B-4D5F-A13C-D6B7779F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55C9BE4-260D-4F60-B659-970ADA0E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2350F20-812B-489D-B520-D8C64037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B039636-3AE8-4DC3-8377-1A2EB837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2B82D08-7963-4E16-822B-210B3C81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0ACF1B7-CB57-42E0-80FA-4B0B3224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80B2D24-C5E4-4D1C-84AE-F0DDEEEA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516B8F3-9591-429A-B7B1-87EE0FE6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7A182CF-E136-425B-BF66-3B35187E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49875E0-459D-45A6-866F-C7171A75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B0C68-AC8D-4AE4-8DE2-3D6A3557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E0B970B-1864-4BA8-9286-5B1B9597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41B0381-BF89-4390-9763-6D6791E5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6983963-3FC1-479D-96C2-B0F91DA7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D23C7DB-7639-47F8-B61D-AEB62CF6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0412648-1CDD-433F-A2C6-1A9520F0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92984A8-AF5A-40C2-9E3E-0A2A0893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24BFE2D-DD88-49D9-8F89-DED62E39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430232C-63C2-4849-83CC-13286DE7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8CFD857-ADFF-44FA-B7F4-D2F1CF0E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D3C13C4-8907-4179-8138-A6758554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554-937E-47B2-8B5C-A912C1BB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7CAF8-C4C6-4E1A-BF62-B8DCACFE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F8D64F5-C37E-4B88-A407-F0CD8D7D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08A1A79-D704-45B9-BE3A-62C3D0BF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6279A4C-D65B-42FC-9A17-37FD6F1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4A701B2-310F-46F5-A838-188FF52E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0E21487-DB55-4254-BA1B-69DA510B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49C1A51-0C6E-49D1-B43E-882AB15B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714D509-17C3-44FC-9577-79E34EBF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4908CE1-6E15-4ECD-A68B-CE965BF8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EA87690-3277-4373-AA58-99E0538B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8695172-389A-44CF-AD7D-A3DDDDB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DD8DD-EB57-428F-A812-5D042060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BA62E3E-E427-4143-BA7A-21260C4A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54A6EC1-B691-4B59-AE52-90EB57E3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4F92C9A-46D4-43A0-8990-694BF3C2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C8D8A79-3666-41BC-AC36-D0AB4261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001A83F-F3F5-4140-85D7-A11DF49A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3840B67-0568-47F0-A0F9-10CE582F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C248AC0-833E-47F0-8C7B-57F2EA7B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D5E5EB5-3AC7-4C5A-8305-21E90A95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B9BA4A6-1604-4473-B6BE-8CEC995E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4D52B5F-2E9B-4371-9E7B-87D2F4BC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6186D-585E-4DAD-96D9-F15D0E15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ED01382-7101-4269-9365-B01B2EA9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D4BB898-6F53-4F2B-ACB8-B6E9A7F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7D71A85-DC68-4BDD-81F1-E14AB463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2C85138-8C77-461F-AA5A-97CD8D63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3B75214-E961-4496-98BF-2EBF4654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3B7C630-EEAE-43F9-B899-F39360E1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3CC2B40-012D-417F-AA64-CCBED6AD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B55B82C-74A1-463E-ABA9-029B2C80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82106A4-A448-4A6F-BD9C-F4D35B38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4D2235D-3034-4E76-907E-4760B190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66D0C-0581-4904-B5A4-1696B4BE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AD576D9-DDAA-4826-B6A8-8DC98F32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56AE153-ECDA-4703-9DC7-60EAE34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4A8FF48-9026-477A-A827-4479632E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3674B66-8917-4CF3-9922-1571BE5D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775A21A-0524-4AB9-864B-4D51CB05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A785175-C2EC-4D38-8B56-1E818376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2662FFA-0322-43A3-929B-4EAE49DE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C89646B-78AA-472A-8B9C-31E88B09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A3B196D-405A-4161-B14C-467BD978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E5A79D3-146B-4166-A276-A1D4A7BC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4CF4B-C3E7-46DB-9889-5CD10020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FC503D4-445C-4CB9-B7D5-177A53CA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5B62551-9BCA-44B5-8A0B-BF46B8AC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0F8F39B-D779-4D88-9FF6-A127945F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7846252-0F77-4106-8B0F-7EC2F179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F691C77-F3FD-420D-A421-5A88E071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44B0606-1992-4B97-A6B5-1BE9C97E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A742562-ECFA-4F99-930D-999415DD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5ED94D6-534D-45CA-9132-ED78897D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EB95E38-A1D3-44ED-8520-58C17C1C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6DEF1DF-2E6E-48C3-BA88-B5E623E4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64347-8486-4AC2-896A-F1AB67BF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6FEB755-5B84-4CCC-B1CC-B494BA15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2B3D5DA-0235-477C-AC65-EE042CEF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DC3C4F4-A65A-42B3-A196-0321C78B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09D313D-67FD-4190-82EC-F56985F0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5F5D544-9711-4C44-BF88-FE40C819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8A1EB6F-90B9-46A9-ADE4-BF811210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DF35814-519A-4D5B-8480-12287F86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C2B8954-8BDA-4CF6-99E3-EBE5C11B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1E5827B-92ED-41CD-AF54-3C2313B7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F0BD3D6-FD33-4DAE-A037-6E43783D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7E7F2-E430-472C-8423-DF5700E6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8778872-6A77-4C8F-B82C-A82F7915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68B5313-53AE-4D0B-96B2-3E9E5E6F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6AF3AF6-620C-4BFA-8061-3678D2BA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E9B062A-97EA-40DD-9C96-BA7654F3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866695E-C43A-4C7A-91C6-468DBAF9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24A143D-2490-45A5-8ADD-52786927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1D6AC1E-5AE7-45CD-B752-C845F921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D0648D0-69CB-4CE6-9020-8E6EBA9E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A8F8434-CAE2-4FC3-A434-C274D292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75BB7C5-E2D6-414F-BD2D-234054BE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A372D-9F87-4F4C-AE70-C12D893D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15B4660-4D02-439D-97FF-DC0321E6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A67F84E-38A5-45E4-A79C-B16CB202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65F0F54-C2CB-4A8A-8815-49E665AA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2A9675D-91B1-496E-B5FE-DF5D8D8A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0AAE72F-B7C2-44EF-8AB5-8F341E22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BD80428-6A68-4F56-86EB-5CED513F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8B1E600-869D-49AC-B0D7-D2DCEEB5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2A8BA1C-F88F-4EC1-B5DF-835D9629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9B5CD08-E761-49BC-92FB-0C215AE8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75727E3-E914-4BCB-A37D-EFCB0AB8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15187-7448-4C6E-9FA0-BFA16F13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B72B41C-1062-4F8E-8F50-C9143A44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9915AFA-4AD5-449D-8D6B-6DA045F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B0C037B-B84C-4A89-BE4F-ED42D6A3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DCD4EE9-9325-4EA7-9DEF-4A628D39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4186F5B-69B2-4B33-BA24-899CC30E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0466726-9FDB-4136-A271-3D3D49FD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63C1B23-9DBC-4996-8AD9-38C87C68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4D7BA69-54F2-4200-9656-AE4BAC39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5F9CE50-5A92-478B-B46D-7A460D52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3D68B4E-CAED-4382-8DFE-B3F2BAE2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6CFAD-B529-4890-B993-F9007AC4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0C4034A-19F7-49AD-8702-83FE3A48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0ECB0C3-3E3D-415D-BD4D-34E7109F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5E614F0-10D5-4C17-B8B4-61485B7D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AAFE7C6-032B-48FF-B34E-F70ED200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9404072-A57E-40F3-A7D8-81C58186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9354ED2-83ED-4FBC-A12D-7E390566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8B01C3D-810B-4596-9469-F94A23E6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FBF8F7D-FC99-4F35-9666-DED773CF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DAB42F8-3DDD-44E0-9E28-E2D73CD1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F9FBA1F-60B6-4DE8-B711-5E313FB7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DFA-9AC5-4864-8902-85D02E70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A4517-BA82-4633-BF00-84201F3D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60C520D-5816-4FB4-A023-E6F2F0A6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0425566-302A-4FDB-981F-2BF35923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FCECA5D-43FC-4CD3-A903-D6C699C5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173C7C0-E1A3-4EED-8184-999F427F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D3637CB-0CF1-4276-9CCE-30F562E2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B43C26D-9956-43DC-9457-98CBCD28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B55E962-D424-4961-A783-ED974D78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A1111CC-A14C-476C-AB95-109F8BD6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9F6F5D1-A1AD-4E70-95D5-2468E79E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F60E31C-A40C-4ECE-B2CD-60052864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734A8-2136-4A3F-86C3-6C12760A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366485B-71C4-4831-8B8D-99B7A811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9974F43-150F-424D-92D7-7883FE35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CADF864-5606-4E30-8CE1-9C186999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2B1E5DB-6B43-4ADA-B9DA-D94D859B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E483C43-FF19-479F-BB3A-59F46C95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BEB2D51-F89F-4B34-9CBC-09C5127E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90BA0B3-D6EA-4ECB-8F53-B3EB753C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A732456-71B0-4E69-8D0B-AF6108A4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2F80300-366B-42F6-AA94-5F2DF250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F94B6E3-BC1F-4C47-A4BE-82DBF603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AB70C-4760-4EEE-B42A-748A10AC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514ABC3-0568-4118-8AD4-4035266D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1438DC2-DB50-4380-99C0-7DB3D5C2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69980DD-C416-465D-96EE-D1AD6BD3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4A19632-2DCC-4963-9373-5D3489A9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B3E39D9-9D98-47B7-A396-0DD2ED1E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80A652F-7AA5-4D56-BDA0-0711C66E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8EAC6BA-39C1-4716-B2E0-5D5EDE13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A6AD322-6D7D-49A4-92FF-99BCBA4D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DFB7422-C6C2-498A-ACC4-66C20401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88574F8-EAB0-425F-876F-1CF8C8BD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58C2C-2A96-4E59-B031-AFE3AD7D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56075EF-C798-409E-9515-850B03BF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8020B57-2787-4682-AC09-1ED4B9EF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5834DDD-C020-4D2F-A455-BEF2296D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C7990C4-DD9D-4C0D-BFFB-19D503E0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1BDDFD1-B62E-4757-B599-CA0C14C1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70B4284-2074-4754-B9D9-5949301F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211DD60-7CE4-4BF1-9159-7CFB8335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159ADF0-8583-479C-979D-EBA5C271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0BA6D9D-B6D0-488F-A184-26AF19F9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3635B0F-0880-4567-9FD8-C9A1AF0F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0144D-A4CC-4225-BB8B-472545B6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7B61BCC-59E8-4309-A657-1B5772D9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45B7B8A-7097-46CC-A300-D9803E6D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2C9AEBE-8A4C-4B52-9814-B32992F7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6BCA784-21F2-4571-8C8A-54D53E5F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D13D79A-10B7-4987-8421-80320ABC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F5C27E3-8E5F-45B7-B2F4-B4502523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E9A6DC9-DD9B-43F1-A8D5-AC5EEE26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C39A419-BE6E-4E5B-A7CC-25F99FC7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73AC9C8-B57E-43D9-A112-28E55074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CE3D952-00FA-4A1D-88D0-CABD2E36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8004F-6B95-4DEC-8781-3EE4D854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D52D838-85D3-43E0-AC30-D23D8A93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514A7D3-EE79-440C-A7EC-9A247F96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2F38701-2B84-4483-AA6D-672464F2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1C07A41-5FAA-406B-92B3-B76CE5C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56A13FC-E942-4EC0-9EF1-AF10411B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21C7DC6-52FF-44CF-BB6D-88B76552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6711AED-E7BF-4DA0-87B7-4C6E6214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2355318-F4BC-4F53-9DF6-27150494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7189146-4C2B-45AA-B8EB-5AAA4137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813E880-123D-4987-B3D5-660EEB42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D0B1A-1640-4AA6-B54D-CA00618A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70642D4-9976-4862-9426-DEAC3BD8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4572AD8-0C9F-481A-AE7C-613B0993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EB65740-347B-4D07-AFE4-93FDE739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A365723-BBEA-4192-B861-A205B650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A0FAB7E-C0DC-40DF-9DC3-F034A88B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209F81A-A3D7-40D2-8C93-3ACA5607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5F504E8-C306-42AA-B663-E74F6620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E2144AF-3442-40C2-AB9C-2531E5A1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82B5ADD-F6A9-4770-9118-8406CCDB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8ECA68A-973D-4D30-8A07-02FF0B63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23BAD-7BB1-4BE7-A707-A7E64FAF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309D940-0F2F-4914-B9DC-54AAA2A7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2E2ADEC0-59A3-45CD-979C-7372B635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7F4999E-FD1B-42D0-83C9-6D2DD07E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38C7242-C2B1-4804-9A1D-9A5F0B4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744D9B4-AF0F-4103-8257-DD1CB098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F7EE48A-1DFC-4B06-8A96-257F8047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69563E3-4A2D-42B6-B19E-8935E7CB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2A2F08E9-72DE-488E-8AB4-689DD33B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81EE46C-8780-404A-8D1C-4E671D0D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340911E-AF5E-40EC-8A38-537B42A6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E2430-C8A8-46FE-B09E-29A4AB2B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57915B7-B7BD-4DBA-AFB1-31E73D15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9F94BF4-88D5-403D-8157-D11B216E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46C210C-49CE-4655-A629-2498AB5A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E35501F-B38F-4C4F-9BCC-B7016019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2220C0F-8E71-4162-B270-C133989B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1D92C38-0C35-4E78-B31E-4E7D10C7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1C1B3AF7-AF7A-41FC-BD59-BB303E60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2F6698F-9303-4690-88B0-712A44D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5E7B378-524D-4594-82BB-3C4617C2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3ED4378-3804-44A9-9334-3F7A5264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0ACEA-071D-4209-8FBC-269D6682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62327E4-0638-47E3-9CD6-908884AE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0182C8E-0134-4F52-B8CB-ED36B261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4226828-3542-4D3D-BF66-3F10B26B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D73C8D5-1417-491C-A6A2-3E9AC654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0EB820A4-4DE7-465E-A581-7D9E325D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407CC2F-60A3-42C3-A240-85E01FF2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EA26E4E-218A-4BA5-97EC-821B5DEB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6FD7651-E201-4FE2-AC1E-506FCB46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CBE95F2-5112-49B3-8553-8F734F3C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86ED9E6-E981-4677-B0B4-C725FFD3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13F-0146-4A94-B19C-238A124A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96708-68CC-454F-8680-50901898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91BBA66-CF40-4206-98C3-E6232CB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ADE27BA-4D05-4A6E-A63E-2CC3BB6C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8262F043-33DC-4F3A-B759-CD25247E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0F3E903-F169-40B8-8BAB-8B2EC84F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4086DCF-3C81-4E2D-BFBE-BE8E5A0A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5C9C304A-A357-4118-BE51-7D96A4D2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C6C7C1A-1924-458D-B930-61D2F7EA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9811CC58-D605-4960-A51A-D454E842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DB807AD-9EA4-40CB-BB81-E92B6A85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FA26AF8-5E40-47F9-A85C-F4E4FDC1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362C0-8E30-4F38-9F48-32FA4861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5102B8A2-9CEE-4E13-A059-B993EB2B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796383D-49C0-4EF5-8B43-41EABA57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5E2E1E27-3341-4FED-8A42-EB7D8A96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98DC29A8-F18A-4167-A73B-892E163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7ED9B8B-9D5F-4D9D-A4A2-2AFCBFAF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964FFD24-C12D-41BB-94BF-5E505314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2D9CB79-168D-4CA4-BB11-A42F6C12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980F080-D5F4-4D68-946E-16431B4F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265F095-A4A3-4317-A1CF-ACEEB149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233E8BF-2F10-4A51-9704-6E34513F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616E9-AE92-49F3-91BC-62EC6856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693712A-8E10-4833-90CD-675865B2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2380A97-E157-488C-ACBA-07823C03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3C591E4-BA99-4A4E-B4A6-E4352AE6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AE451D1-EE60-48B4-88E7-B93D5C81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589132E-7B51-4897-8CDF-C3020D5A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A880375-A6EE-418E-9F50-8E2102B3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DA1425A-520F-45B2-A81E-99EE9C2C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5B15091-6C0A-45AF-8DC5-593AE6A8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6047F35-64D2-439B-A4E8-BBDC08F7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D67FF324-63EB-43F6-A93B-0262C684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C88E4-440B-45E6-8880-CE169A7A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0E91513-BAE7-4D9B-9352-5CAA1F3F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BDDD0F98-166D-4111-BFAF-B7B00D2E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D1605B99-5C29-457C-95E8-BF9B3B68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4A41863-84BD-4721-9A92-86E364E6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B2338E0-0F61-4FE8-9B4D-895B144A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CF41F822-A8C8-49D2-AE0B-4741FE5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6114220-EB59-4A75-A607-84F1702B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F385C75-70FC-42FC-AEE1-A85774B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1FFDBD5-5099-4655-A407-5D29518B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324E0AE-8395-4048-9C33-8E13D718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0E203-8E38-4451-8597-63D8B19E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F6987D2-2C63-4A3F-97B4-C8BDB77D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6C07255-9EBA-4F5B-9BCD-22390922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7D6C40E6-47DE-450F-9605-AFCB357F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898C9D7-13B1-4F5B-A493-7E7EF90D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752314BB-511C-4F7E-85A1-0551297E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617D550-2062-4CC5-9D2E-901295FD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9F39C13-8C8A-46D6-BC47-72F697AA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CBE7789-454E-4593-A9B0-32895739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354EFAEA-05DA-4A86-8B0D-8B5A382B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98FD303-E0E9-4862-AE04-5FB6CD25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7C3F4-17FC-47E7-9B43-3BFEE4DD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629AD28-E4F8-4434-99E2-4F2B302C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1F7ADDD-A103-47AE-AA9A-6DB57BCF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EA32B79-F3EC-43B2-9B8B-850BAD9D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8FF8464-2B89-4A9B-8D75-406D7814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88D9508-14AA-469F-8D25-94E8FE8B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E31064A-12F0-494D-96DC-C99EA91B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CC81199-BE29-4C77-8FA9-B60F2697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385B8969-E014-47FE-8589-54D091A7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706B8D2-E789-4849-B75E-B5EC0E11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7647C0E-C069-4C7E-9F75-C2CD553B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9CDAB-47F4-4979-98CF-E6612434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9C08FD9-CD4C-4F8B-AFA5-4B8E51E0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097F402C-F33A-470F-97F1-D56375F3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7417DD12-59F7-4EB5-B013-EF51F65A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5829789F-11E4-49E0-B83A-04CE5D5C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80AF0EB6-D56A-4467-87A5-6B76F7A4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7B228B2-97E2-4090-96BB-877542FD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577BD2E-5B9B-4EA9-912F-27C86EFF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E6C268A4-74B7-4261-8BC9-6A4954FF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D1182EB-96BC-4EE5-A534-F44C37D2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65B5326-B648-4E60-B404-C705D091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0B8B4-D9DE-4FF4-98B4-620A2A73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DF0B9DC-62BE-41A1-B8B4-CB5745D0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54660D4-8E89-49FC-9BCF-EAB2A99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3251F5A-0993-452F-9AE8-CE9FCA99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223FBBD-D475-4504-AACA-0F13527B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53885F5-7DAD-49F3-B7C4-B4C6F9A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6FBC9AA-B5E1-429B-8540-91C096EB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16210A0-2A39-418D-9F7A-1A07335E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38CE22B-4ABD-4063-B05C-6E729ACC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C24701C-0741-428E-8AE3-A00F41C7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1A1526F-FFDD-4EA0-AED0-173BCFB6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205D2-2F19-4B77-8E0E-CE8EE532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CC6E611-E9A1-4F9D-B238-99AAE41D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43F43CC-64FB-4546-8846-DBE7C0BC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DED1C5D-755F-4267-B873-4850E495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7781F0A-56AD-4EC6-94D2-BFDDC461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58F1C639-61E8-4F86-ACCA-F9D95C44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EEA0373-1CB2-44B5-92B1-2515C09F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983729B-AD79-4260-A51E-E0FA95D0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D49640A-7F6A-4856-9CE7-DEF29277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3DA98F5-9E12-4857-B9B4-1A0C4804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A1DDB57-7682-408D-B8E9-347CE6F9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D3618-FD8B-4A2E-BFC4-D5EE0DD4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4B4E518-EE72-4CF4-844E-65E5FAD9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9BBA9B4F-8BCA-425C-B9C0-DC67721C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224FDA5B-656E-4409-89A2-0DE5D622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68CB862-A6AC-4107-8D4E-53E1EC21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C6E4DE89-3658-4239-9F52-ABEDD07B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9C854E41-374D-4898-AA3A-EDCEE03D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1F589CE-8C99-4BAF-AB86-ECB62152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99A0BA8E-A0E3-4497-835F-814FA086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77773F3-7523-49C6-98F9-B6AE8919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F9D7295-2B6A-4EEB-A442-E58DBA09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2DB-A4A8-4F0C-B652-597832A9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178BE-3D47-4AB4-831C-2274D31B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9FEB368-A7D4-4895-BA97-C8608CFB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3CD4078D-0BA0-4B7B-8A4D-5E5405DF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2EDCD15-FE8C-4D4A-907D-104354BF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603AF46-A152-4A48-A2E7-05EEDEC1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5849E910-CA15-4B50-BEE7-E7EC07E7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3FA72A2-9225-46DC-9DEE-DD853EFC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0B4D13E-B8E7-46BF-BCFE-40ACD799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F239A84-EB9B-4488-AEA2-F9DCE063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6D4B2FD-10F2-48FD-836D-ED680E6D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00A8EC5-B80C-4814-9AD9-B5CE795D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6B9C4-B03B-4F9E-AA04-D744EB9C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4776E9B-27E5-4626-AB08-F7EE9011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C3BF983C-00BC-441F-B624-97D4095D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F8E29056-74CA-4F69-B5E6-EFE9D93D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3DC8069-36F2-4868-93E8-EF425A1D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0E09064-B054-422B-AE31-F4B8CB13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B1B1A53-1A2C-4283-9965-005FCA0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9603E89-3E8E-4087-88A7-782BE417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D559ABB-BCDC-45A0-956C-A058ECDB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41EE6B8-8421-41F6-9225-502617CC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AEF951F-2FBD-45D8-9FAB-799127AE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6C7F9-6857-49EE-B0D8-9B0B408F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B96280CF-2D60-4614-A5C5-2C9DA67B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D656ED6-EE49-4523-95F2-D659D34D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DE0C7F7-BB65-4817-B40B-78B413DB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ABFC5C6-E228-482A-90AC-FC5A5CF5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16491AC-F201-4A23-A0B4-DBE41860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635AF45-D8E2-4F83-B26A-8BF89ACB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C894B46-1F6A-4424-AAE0-09455445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3BC4422-FE7B-4432-8330-BAA5850C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819224C-FB03-4AC2-A40C-18EB59E1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EF96B00-8AB3-4BAA-AE08-590530F8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14FD6-C123-4307-A51A-D46C6957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916466E1-051D-407B-9C4C-B7634FF2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B9DDDDD-EBDF-4313-86C2-B278CE65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A963A1B-AB41-4043-868A-4CD6380C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BCE1088-43FF-4BA4-A990-9F771DA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28F68A7-106F-422B-9151-DEA1BA5D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2F1D405-D870-40E2-B1F4-4A3FDF01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7C8C3D9-4909-4893-BD9C-EC32D8E8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A6119D0-BB21-470B-B7F7-232E8071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2F91DDD8-D626-4BC6-AACA-58513BBD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1A9B641-C258-4D0D-9C69-8142FA3D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5A45F-C1C5-4E61-91D7-D66E532E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E6CF56C5-EDC8-45DC-BC50-AD25C8CE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861536E-F039-4C11-8E07-372D9070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E2F045B-405B-47AA-A922-88FF95F5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A21FDD7-22B3-4BB5-A9A8-81585E33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DFA0220A-3517-42B3-9E96-675FF2A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234D317-AED5-4EFA-ABDB-0F14F3C5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E01ECE2E-1EC4-4268-8275-27DB429D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1C35FBA-6483-49B4-BD2E-EE72555C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305D0EB-CDD1-42F0-8410-24B884FB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F96B9BE-5A52-4D93-81A7-C2E904F4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844E8-DCC9-48C8-A38B-63F1E151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CA3AF71-9863-49DD-AE1B-65E5F84B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6517901E-BCC9-4578-ADF2-645656C7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0D26EEF-0786-449F-AE8D-4C1C5DF8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2AB8868-3ED3-42F1-BD32-D3F4B21B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CDB327D-2166-41CA-8288-EA3DD5B8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6A131E4E-1C61-4CB2-96F8-E9BCC51A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E2B73F1-DFD7-49DA-AB09-15AAA8F4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716B3D4B-A63A-4495-8FE7-4012A55A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E07914B-0B4E-4726-967C-51EB7506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B5D317E-9094-40E2-91CA-B5F98FD6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45B62-13F6-43F3-860A-97A63E88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BC44D73-F11A-401E-9DB8-8D698770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863A5C5C-5FAB-479C-9EAD-0FD2B02E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9E61510-1262-45D5-B770-F8E86FCD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CA193607-C2EC-480E-8F6D-757F08B9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C7BED6B-DD7E-407E-8D70-A9329D8D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15582EFE-856F-457E-A57F-FC4CC4CC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2681FEB-771E-4229-AEEA-86FB8FCD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3F2CD27-53C6-48F2-978E-0A7F1411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F8B0A38-06C7-4102-BB65-A9237D57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89A08FC-B718-4057-A1D2-ECF840A4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C55FB-BA9C-49CA-B74C-BD248E49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C65EBEB-2612-4DEE-9B29-6F537070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9CA6129-44B4-4844-A789-27AE6957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9A9ECA6-8158-42CB-BE12-99D8E349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564BA-999B-4DFE-A3AA-012BF29E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A512D-816B-46C2-BAC6-73D1A6C4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4B51-B4DD-4A4B-A384-3556B53BD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97D5-45D0-4788-A521-250A57C3B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31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A0C585B-B68A-49F0-9C3E-04A801836C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18E0-00C7-41C6-A1AD-61B75F011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25CA-833A-4FED-9B6C-9FADAAD7B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3F52-7196-4566-BCA1-89C124E4B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54EF-1A41-47AF-AA68-91891907E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FA7E-FE7C-49F4-82C7-711741E16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D2CB-2F80-4B24-8A05-3ADC11F80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F177-1C04-4EE0-ADBF-50FC4EE85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900B-C602-4855-809D-49633E831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4FDB-6D1C-49AF-9571-C6D250C21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82EA-20DF-42E3-BFEE-3FDCF60C2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AB4F-A562-45FB-9E14-EE063A02B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2A2F-68B1-46F0-B05D-601E24023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2139-EAEC-43EF-8F67-E55428A04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2222-B4AC-41BB-8933-DA0964D34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B558-2FD7-4443-9A42-D3EE6747D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1A4E-0837-40D2-B556-94392E35E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DCD3-7AD0-4654-85F1-8CA5BD6AA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FF5B-E691-447A-9247-6D685E217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8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769E-CB6A-4E5D-9CC8-EE01B6E03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3BA4-D81C-4E89-9E58-04B8280E3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A925-9CB6-43C8-82D3-C93903091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9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43BC-A467-4254-90F9-4F16DE381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E969-7931-4D32-8227-8CF2A6D72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9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CFF1-318D-4648-9296-AB97867B2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10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5427-3E59-4F31-9068-14BB0CD13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1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1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10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02FF-0382-43C9-8261-F5A1A7DA5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1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1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10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2A2B-4BA9-429B-ABBF-E42139FDB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1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1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10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0911-2EB1-419E-8025-8DF74E109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1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1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1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F448-AB78-4B75-BD31-1FA754A41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1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1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1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0F6A-6B36-41BE-9BE3-478E51736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25FE-56E5-4E0F-A912-0DB3F3696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C777-377C-4CB9-BB48-3020B4E76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 type="dt" idx="1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 type="ftr" idx="1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 type="sldNum" idx="1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C0D5-9BA7-4922-A05B-89B9FB5A6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 type="dt" idx="1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 type="ftr" idx="1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 type="sldNum" idx="1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37D7-2F6F-40E4-A7CD-A850594CB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dt" idx="1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ftr" idx="1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 type="sldNum" idx="1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563E-3E07-442E-8C33-07A33045A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 type="dt" idx="1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 type="ftr" idx="1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 type="sldNum" idx="1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0C7C-1EF8-4613-933B-F4BB54C42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1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1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1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BC67-357E-4FC4-B5BC-F84B3816B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 type="dt" idx="1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 type="ftr" idx="1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 type="sldNum" idx="1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6162-2629-442F-B768-AD4D63A39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 type="dt" idx="1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 type="ftr" idx="1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 type="sldNum" idx="1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15B3-599A-44A2-9EE9-2B4C5C0AB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dt" idx="1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ftr" idx="1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sldNum" idx="1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204E-B966-445A-A1D7-7444A655F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0023-E99F-4940-8E4B-A28EB7BF9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2AA8-5A50-4D1F-BEB2-14D76C32A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 type="dt" idx="1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 type="ftr" idx="1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 type="sldNum" idx="1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0C1C-260F-45BA-BEC4-F3200C00E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 type="dt" idx="1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 type="ftr" idx="1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 type="sldNum" idx="1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FAE4-6326-429F-885F-60F754305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 type="dt" idx="1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 type="ftr" idx="1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 type="sldNum" idx="1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70B0-1792-4C77-974A-98F6F78B3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 type="dt" idx="1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 type="ftr" idx="1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 type="sldNum" idx="1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DBDF-A659-4FD4-8AE5-B98EB5F13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1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1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1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ECD6-79EA-4A38-8E9C-82D2A7831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 type="dt" idx="1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 type="ftr" idx="1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5"/>
          <p:cNvSpPr>
            <a:spLocks noGrp="1"/>
          </p:cNvSpPr>
          <p:nvPr>
            <p:ph type="sldNum" idx="1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21DD-40A3-4165-A5EA-6281FB44F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 type="dt" idx="1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 type="ftr" idx="1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 type="sldNum" idx="1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3989-706E-4147-BBD5-8861A0119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 type="dt" idx="1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 type="ftr" idx="1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 type="sldNum" idx="1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5327-B436-49AA-97B6-AC61F9F1E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 type="dt" idx="1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 type="ftr" idx="1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 type="sldNum" idx="1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3DE3-AA10-4FFE-907D-13378C891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 type="dt" idx="1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 type="ftr" idx="1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5"/>
          <p:cNvSpPr>
            <a:spLocks noGrp="1"/>
          </p:cNvSpPr>
          <p:nvPr>
            <p:ph type="sldNum" idx="1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F587-2706-408B-8B6C-F7A6BC14F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F11A-8A1B-4F54-B643-1DB7EC1EC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 type="dt" idx="1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 type="ftr" idx="1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5"/>
          <p:cNvSpPr>
            <a:spLocks noGrp="1"/>
          </p:cNvSpPr>
          <p:nvPr>
            <p:ph type="sldNum" idx="1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3129-3AE6-4A13-980A-2A2B5E026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 type="dt" idx="1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 type="ftr" idx="1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5"/>
          <p:cNvSpPr>
            <a:spLocks noGrp="1"/>
          </p:cNvSpPr>
          <p:nvPr>
            <p:ph type="sldNum" idx="1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E22B-D98F-460B-B7F3-C48ABD7D3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 type="dt" idx="1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 type="ftr" idx="1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5"/>
          <p:cNvSpPr>
            <a:spLocks noGrp="1"/>
          </p:cNvSpPr>
          <p:nvPr>
            <p:ph type="sldNum" idx="1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E1F8-419C-47B5-A7EE-2C66663DF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7A2B-44B6-4D52-A15A-41AC7C3EE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 type="dt" idx="1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 type="ftr" idx="1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 type="sldNum" idx="1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D68C-1081-43FF-AAAA-E247C6FF8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 type="dt" idx="1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 type="ftr" idx="1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 type="sldNum" idx="1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E96A-0096-4A3C-9EEE-4BC117A03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 type="dt" idx="1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 type="ftr" idx="1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5"/>
          <p:cNvSpPr>
            <a:spLocks noGrp="1"/>
          </p:cNvSpPr>
          <p:nvPr>
            <p:ph type="sldNum" idx="1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6AE8-DA4C-41C7-B4E0-8D732FECD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 type="dt" idx="1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4"/>
          <p:cNvSpPr>
            <a:spLocks noGrp="1"/>
          </p:cNvSpPr>
          <p:nvPr>
            <p:ph type="ftr" idx="1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5"/>
          <p:cNvSpPr>
            <a:spLocks noGrp="1"/>
          </p:cNvSpPr>
          <p:nvPr>
            <p:ph type="sldNum" idx="1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F240-1A10-4F81-8996-C5A64D70F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 type="dt" idx="2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 type="ftr" idx="2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 type="sldNum" idx="2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B636-A934-4701-B999-0389EF2CB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 type="dt" idx="2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 type="ftr" idx="2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 type="sldNum" idx="2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87E0-8644-4609-A349-4F3162BEC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3053-B747-4CC5-BA85-0665C5DBE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 type="dt" idx="2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 type="ftr" idx="2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5"/>
          <p:cNvSpPr>
            <a:spLocks noGrp="1"/>
          </p:cNvSpPr>
          <p:nvPr>
            <p:ph type="sldNum" idx="2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082C-22AD-4D27-971D-0BD9CD0F1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 type="dt" idx="2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 type="ftr" idx="2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5"/>
          <p:cNvSpPr>
            <a:spLocks noGrp="1"/>
          </p:cNvSpPr>
          <p:nvPr>
            <p:ph type="sldNum" idx="2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AC9C-F967-4E36-B5B8-08344C30B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 type="dt" idx="2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4"/>
          <p:cNvSpPr>
            <a:spLocks noGrp="1"/>
          </p:cNvSpPr>
          <p:nvPr>
            <p:ph type="ftr" idx="2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5"/>
          <p:cNvSpPr>
            <a:spLocks noGrp="1"/>
          </p:cNvSpPr>
          <p:nvPr>
            <p:ph type="sldNum" idx="2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2D72-E035-4256-9E64-792839624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 type="dt" idx="2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 type="ftr" idx="2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 type="sldNum" idx="2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FDB3-DB39-40E2-9939-89F5D7CC8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 type="dt" idx="2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 type="ftr" idx="2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5"/>
          <p:cNvSpPr>
            <a:spLocks noGrp="1"/>
          </p:cNvSpPr>
          <p:nvPr>
            <p:ph type="sldNum" idx="2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ED19-B1CA-42B6-93B5-DD34E7C9F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PlaceHolder 3"/>
          <p:cNvSpPr>
            <a:spLocks noGrp="1"/>
          </p:cNvSpPr>
          <p:nvPr>
            <p:ph type="dt" idx="2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4"/>
          <p:cNvSpPr>
            <a:spLocks noGrp="1"/>
          </p:cNvSpPr>
          <p:nvPr>
            <p:ph type="ftr" idx="2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PlaceHolder 5"/>
          <p:cNvSpPr>
            <a:spLocks noGrp="1"/>
          </p:cNvSpPr>
          <p:nvPr>
            <p:ph type="sldNum" idx="2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B66B-7088-4C61-A01F-DEBF0F3F8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 type="dt" idx="2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4"/>
          <p:cNvSpPr>
            <a:spLocks noGrp="1"/>
          </p:cNvSpPr>
          <p:nvPr>
            <p:ph type="ftr" idx="2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5"/>
          <p:cNvSpPr>
            <a:spLocks noGrp="1"/>
          </p:cNvSpPr>
          <p:nvPr>
            <p:ph type="sldNum" idx="2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1FE5-B388-4807-8A7C-99E4D9B06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 type="dt" idx="2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 type="ftr" idx="2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5"/>
          <p:cNvSpPr>
            <a:spLocks noGrp="1"/>
          </p:cNvSpPr>
          <p:nvPr>
            <p:ph type="sldNum" idx="2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EA98-BA4F-4279-B6B4-7AE43B9A9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2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2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2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399A-D5F7-4127-A207-5D9032626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 type="dt" idx="2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4"/>
          <p:cNvSpPr>
            <a:spLocks noGrp="1"/>
          </p:cNvSpPr>
          <p:nvPr>
            <p:ph type="ftr" idx="2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PlaceHolder 5"/>
          <p:cNvSpPr>
            <a:spLocks noGrp="1"/>
          </p:cNvSpPr>
          <p:nvPr>
            <p:ph type="sldNum" idx="2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FA22-435E-4A65-9A83-A008A6466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3855-7239-428B-AE45-FA1150876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 type="dt" idx="2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 type="ftr" idx="2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PlaceHolder 5"/>
          <p:cNvSpPr>
            <a:spLocks noGrp="1"/>
          </p:cNvSpPr>
          <p:nvPr>
            <p:ph type="sldNum" idx="2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941B-1D5E-42B3-AAE1-16BE2F4BA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PlaceHolder 3"/>
          <p:cNvSpPr>
            <a:spLocks noGrp="1"/>
          </p:cNvSpPr>
          <p:nvPr>
            <p:ph type="dt" idx="2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4"/>
          <p:cNvSpPr>
            <a:spLocks noGrp="1"/>
          </p:cNvSpPr>
          <p:nvPr>
            <p:ph type="ftr" idx="2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5"/>
          <p:cNvSpPr>
            <a:spLocks noGrp="1"/>
          </p:cNvSpPr>
          <p:nvPr>
            <p:ph type="sldNum" idx="2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AC54-C857-4F55-B3F6-B847DF7ED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BB5C-357B-4912-941B-5D620207A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5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6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613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图形的变换（十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Text Box 2"/>
          <p:cNvSpPr/>
          <p:nvPr/>
        </p:nvSpPr>
        <p:spPr>
          <a:xfrm>
            <a:off x="0" y="2565360"/>
            <a:ext cx="79567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由一个图形改变为另一个图形，在改变的过程中保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 (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大小可以改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这样的图形改变叫做图形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相似变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Rectangle 3"/>
          <p:cNvSpPr/>
          <p:nvPr/>
        </p:nvSpPr>
        <p:spPr>
          <a:xfrm>
            <a:off x="0" y="333360"/>
            <a:ext cx="349236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五、相似变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Rectangle 4"/>
          <p:cNvSpPr/>
          <p:nvPr/>
        </p:nvSpPr>
        <p:spPr>
          <a:xfrm>
            <a:off x="1219320" y="304812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形状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Text Box 6"/>
          <p:cNvSpPr/>
          <p:nvPr/>
        </p:nvSpPr>
        <p:spPr>
          <a:xfrm>
            <a:off x="0" y="4437000"/>
            <a:ext cx="874872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相似变换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似变换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不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形中每一个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角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Rectangle 7"/>
          <p:cNvSpPr/>
          <p:nvPr/>
        </p:nvSpPr>
        <p:spPr>
          <a:xfrm>
            <a:off x="0" y="5516640"/>
            <a:ext cx="777708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形中的每条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线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扩大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或缩小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同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3" name="Group 8"/>
          <p:cNvGrpSpPr/>
          <p:nvPr/>
        </p:nvGrpSpPr>
        <p:grpSpPr>
          <a:xfrm>
            <a:off x="3492360" y="189000"/>
            <a:ext cx="5004000" cy="2205000"/>
            <a:chOff x="3492360" y="189000"/>
            <a:chExt cx="5004000" cy="2205000"/>
          </a:xfrm>
        </p:grpSpPr>
        <p:pic>
          <p:nvPicPr>
            <p:cNvPr id="3494" name="Picture 9" descr="非洲象"/>
            <p:cNvPicPr/>
            <p:nvPr/>
          </p:nvPicPr>
          <p:blipFill>
            <a:blip r:embed="rId4"/>
            <a:stretch/>
          </p:blipFill>
          <p:spPr>
            <a:xfrm>
              <a:off x="6666840" y="189000"/>
              <a:ext cx="18295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5" name="Picture 10" descr="非洲象"/>
            <p:cNvPicPr/>
            <p:nvPr/>
          </p:nvPicPr>
          <p:blipFill>
            <a:blip r:embed="rId5"/>
            <a:stretch/>
          </p:blipFill>
          <p:spPr>
            <a:xfrm>
              <a:off x="3492360" y="208080"/>
              <a:ext cx="3044160" cy="2185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6" name="Group 1685"/>
          <p:cNvGrpSpPr/>
          <p:nvPr/>
        </p:nvGrpSpPr>
        <p:grpSpPr>
          <a:xfrm>
            <a:off x="744480" y="3095280"/>
            <a:ext cx="2006640" cy="1731960"/>
            <a:chOff x="744480" y="3095280"/>
            <a:chExt cx="2006640" cy="1731960"/>
          </a:xfrm>
        </p:grpSpPr>
        <p:sp>
          <p:nvSpPr>
            <p:cNvPr id="3497" name="Line 795"/>
            <p:cNvSpPr/>
            <p:nvPr/>
          </p:nvSpPr>
          <p:spPr>
            <a:xfrm flipV="1">
              <a:off x="1017720" y="3095280"/>
              <a:ext cx="1733400" cy="1731960"/>
            </a:xfrm>
            <a:prstGeom prst="line">
              <a:avLst/>
            </a:prstGeom>
            <a:ln cap="rnd" w="381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Line 796"/>
            <p:cNvSpPr/>
            <p:nvPr/>
          </p:nvSpPr>
          <p:spPr>
            <a:xfrm flipH="1">
              <a:off x="744480" y="4313160"/>
              <a:ext cx="822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Line 797"/>
            <p:cNvSpPr/>
            <p:nvPr/>
          </p:nvSpPr>
          <p:spPr>
            <a:xfrm flipV="1">
              <a:off x="744480" y="3774960"/>
              <a:ext cx="0" cy="54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Line 798"/>
            <p:cNvSpPr/>
            <p:nvPr/>
          </p:nvSpPr>
          <p:spPr>
            <a:xfrm flipV="1">
              <a:off x="744480" y="3763440"/>
              <a:ext cx="54936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Line 799"/>
            <p:cNvSpPr/>
            <p:nvPr/>
          </p:nvSpPr>
          <p:spPr>
            <a:xfrm flipV="1">
              <a:off x="1290600" y="3215880"/>
              <a:ext cx="0" cy="547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Line 800"/>
            <p:cNvSpPr/>
            <p:nvPr/>
          </p:nvSpPr>
          <p:spPr>
            <a:xfrm flipV="1">
              <a:off x="2114640" y="3217680"/>
              <a:ext cx="0" cy="54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Line 801"/>
            <p:cNvSpPr/>
            <p:nvPr/>
          </p:nvSpPr>
          <p:spPr>
            <a:xfrm flipH="1">
              <a:off x="1290240" y="3244680"/>
              <a:ext cx="824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4" name="Text Box 823"/>
          <p:cNvSpPr/>
          <p:nvPr/>
        </p:nvSpPr>
        <p:spPr>
          <a:xfrm>
            <a:off x="228600" y="152388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虚线为对称轴，分别画出轴对称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5" name="Group 836"/>
          <p:cNvGrpSpPr/>
          <p:nvPr/>
        </p:nvGrpSpPr>
        <p:grpSpPr>
          <a:xfrm>
            <a:off x="1536840" y="3747600"/>
            <a:ext cx="1079280" cy="1368720"/>
            <a:chOff x="1536840" y="3747600"/>
            <a:chExt cx="1079280" cy="1368720"/>
          </a:xfrm>
        </p:grpSpPr>
        <p:sp>
          <p:nvSpPr>
            <p:cNvPr id="3506" name="Line 826"/>
            <p:cNvSpPr/>
            <p:nvPr/>
          </p:nvSpPr>
          <p:spPr>
            <a:xfrm>
              <a:off x="2112840" y="3747960"/>
              <a:ext cx="50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Line 831"/>
            <p:cNvSpPr/>
            <p:nvPr/>
          </p:nvSpPr>
          <p:spPr>
            <a:xfrm flipV="1">
              <a:off x="2616120" y="3747600"/>
              <a:ext cx="0" cy="865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Line 832"/>
            <p:cNvSpPr/>
            <p:nvPr/>
          </p:nvSpPr>
          <p:spPr>
            <a:xfrm>
              <a:off x="2112840" y="4613040"/>
              <a:ext cx="50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Line 833"/>
            <p:cNvSpPr/>
            <p:nvPr/>
          </p:nvSpPr>
          <p:spPr>
            <a:xfrm>
              <a:off x="1536840" y="5116320"/>
              <a:ext cx="576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Line 834"/>
            <p:cNvSpPr/>
            <p:nvPr/>
          </p:nvSpPr>
          <p:spPr>
            <a:xfrm>
              <a:off x="2112840" y="4613040"/>
              <a:ext cx="0" cy="503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Line 835"/>
            <p:cNvSpPr/>
            <p:nvPr/>
          </p:nvSpPr>
          <p:spPr>
            <a:xfrm flipV="1">
              <a:off x="1536840" y="4323600"/>
              <a:ext cx="0" cy="79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Group 1659"/>
          <p:cNvGrpSpPr/>
          <p:nvPr/>
        </p:nvGrpSpPr>
        <p:grpSpPr>
          <a:xfrm>
            <a:off x="4289400" y="3224520"/>
            <a:ext cx="353160" cy="811080"/>
            <a:chOff x="4289400" y="3224520"/>
            <a:chExt cx="353160" cy="811080"/>
          </a:xfrm>
        </p:grpSpPr>
        <p:sp>
          <p:nvSpPr>
            <p:cNvPr id="3513" name="Line 1650"/>
            <p:cNvSpPr/>
            <p:nvPr/>
          </p:nvSpPr>
          <p:spPr>
            <a:xfrm>
              <a:off x="4289400" y="3224520"/>
              <a:ext cx="349200" cy="155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Line 1651"/>
            <p:cNvSpPr/>
            <p:nvPr/>
          </p:nvSpPr>
          <p:spPr>
            <a:xfrm flipH="1">
              <a:off x="4498200" y="3386520"/>
              <a:ext cx="144360" cy="649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Group 1687"/>
          <p:cNvGrpSpPr/>
          <p:nvPr/>
        </p:nvGrpSpPr>
        <p:grpSpPr>
          <a:xfrm>
            <a:off x="4270320" y="4029480"/>
            <a:ext cx="370080" cy="784080"/>
            <a:chOff x="4270320" y="4029480"/>
            <a:chExt cx="370080" cy="784080"/>
          </a:xfrm>
        </p:grpSpPr>
        <p:sp>
          <p:nvSpPr>
            <p:cNvPr id="3516" name="Line 1654"/>
            <p:cNvSpPr/>
            <p:nvPr/>
          </p:nvSpPr>
          <p:spPr>
            <a:xfrm>
              <a:off x="4509720" y="4029480"/>
              <a:ext cx="102600" cy="655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Line 1655"/>
            <p:cNvSpPr/>
            <p:nvPr/>
          </p:nvSpPr>
          <p:spPr>
            <a:xfrm flipH="1">
              <a:off x="4270320" y="4691160"/>
              <a:ext cx="370080" cy="122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Group 1661"/>
          <p:cNvGrpSpPr/>
          <p:nvPr/>
        </p:nvGrpSpPr>
        <p:grpSpPr>
          <a:xfrm>
            <a:off x="3932280" y="4026240"/>
            <a:ext cx="375480" cy="802440"/>
            <a:chOff x="3932280" y="4026240"/>
            <a:chExt cx="375480" cy="802440"/>
          </a:xfrm>
        </p:grpSpPr>
        <p:sp>
          <p:nvSpPr>
            <p:cNvPr id="3519" name="Line 1657"/>
            <p:cNvSpPr/>
            <p:nvPr/>
          </p:nvSpPr>
          <p:spPr>
            <a:xfrm flipH="1" flipV="1">
              <a:off x="3932280" y="4715280"/>
              <a:ext cx="375480" cy="113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Line 1658"/>
            <p:cNvSpPr/>
            <p:nvPr/>
          </p:nvSpPr>
          <p:spPr>
            <a:xfrm flipV="1">
              <a:off x="3942720" y="4026240"/>
              <a:ext cx="169560" cy="673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1" name="Group 1682"/>
          <p:cNvGrpSpPr/>
          <p:nvPr/>
        </p:nvGrpSpPr>
        <p:grpSpPr>
          <a:xfrm>
            <a:off x="6721560" y="3532320"/>
            <a:ext cx="215640" cy="791640"/>
            <a:chOff x="6721560" y="3532320"/>
            <a:chExt cx="215640" cy="791640"/>
          </a:xfrm>
        </p:grpSpPr>
        <p:sp>
          <p:nvSpPr>
            <p:cNvPr id="3522" name="Line 1663"/>
            <p:cNvSpPr/>
            <p:nvPr/>
          </p:nvSpPr>
          <p:spPr>
            <a:xfrm flipV="1">
              <a:off x="6721560" y="3532320"/>
              <a:ext cx="0" cy="5940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1665"/>
            <p:cNvSpPr/>
            <p:nvPr/>
          </p:nvSpPr>
          <p:spPr>
            <a:xfrm flipH="1">
              <a:off x="6754680" y="3958920"/>
              <a:ext cx="182160" cy="1674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1668"/>
            <p:cNvSpPr/>
            <p:nvPr/>
          </p:nvSpPr>
          <p:spPr>
            <a:xfrm>
              <a:off x="6937200" y="3990960"/>
              <a:ext cx="0" cy="3330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5" name="Group 1681"/>
          <p:cNvGrpSpPr/>
          <p:nvPr/>
        </p:nvGrpSpPr>
        <p:grpSpPr>
          <a:xfrm>
            <a:off x="7656120" y="3747960"/>
            <a:ext cx="216360" cy="863280"/>
            <a:chOff x="7656120" y="3747960"/>
            <a:chExt cx="216360" cy="863280"/>
          </a:xfrm>
        </p:grpSpPr>
        <p:sp>
          <p:nvSpPr>
            <p:cNvPr id="3526" name="Line 1664"/>
            <p:cNvSpPr/>
            <p:nvPr/>
          </p:nvSpPr>
          <p:spPr>
            <a:xfrm>
              <a:off x="7872480" y="3983040"/>
              <a:ext cx="0" cy="6282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Line 1667"/>
            <p:cNvSpPr/>
            <p:nvPr/>
          </p:nvSpPr>
          <p:spPr>
            <a:xfrm flipH="1">
              <a:off x="7656120" y="3983040"/>
              <a:ext cx="182520" cy="199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Line 1670"/>
            <p:cNvSpPr/>
            <p:nvPr/>
          </p:nvSpPr>
          <p:spPr>
            <a:xfrm>
              <a:off x="7656480" y="3747960"/>
              <a:ext cx="0" cy="3963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9" name="Group 1680"/>
          <p:cNvGrpSpPr/>
          <p:nvPr/>
        </p:nvGrpSpPr>
        <p:grpSpPr>
          <a:xfrm>
            <a:off x="7008840" y="4395600"/>
            <a:ext cx="862920" cy="216000"/>
            <a:chOff x="7008840" y="4395600"/>
            <a:chExt cx="862920" cy="216000"/>
          </a:xfrm>
        </p:grpSpPr>
        <p:sp>
          <p:nvSpPr>
            <p:cNvPr id="3530" name="Line 1673"/>
            <p:cNvSpPr/>
            <p:nvPr/>
          </p:nvSpPr>
          <p:spPr>
            <a:xfrm flipH="1">
              <a:off x="7206840" y="4611600"/>
              <a:ext cx="6649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Line 1674"/>
            <p:cNvSpPr/>
            <p:nvPr/>
          </p:nvSpPr>
          <p:spPr>
            <a:xfrm flipV="1">
              <a:off x="7166880" y="4395600"/>
              <a:ext cx="236520" cy="215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Line 1675"/>
            <p:cNvSpPr/>
            <p:nvPr/>
          </p:nvSpPr>
          <p:spPr>
            <a:xfrm flipH="1">
              <a:off x="7008840" y="4397400"/>
              <a:ext cx="395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3" name="Group 1684"/>
          <p:cNvGrpSpPr/>
          <p:nvPr/>
        </p:nvGrpSpPr>
        <p:grpSpPr>
          <a:xfrm>
            <a:off x="457200" y="2666880"/>
            <a:ext cx="8204760" cy="2734560"/>
            <a:chOff x="457200" y="2666880"/>
            <a:chExt cx="8204760" cy="2734560"/>
          </a:xfrm>
        </p:grpSpPr>
        <p:grpSp>
          <p:nvGrpSpPr>
            <p:cNvPr id="3534" name="Group 1683"/>
            <p:cNvGrpSpPr/>
            <p:nvPr/>
          </p:nvGrpSpPr>
          <p:grpSpPr>
            <a:xfrm>
              <a:off x="457200" y="2666880"/>
              <a:ext cx="8204760" cy="2734560"/>
              <a:chOff x="457200" y="2666880"/>
              <a:chExt cx="8204760" cy="2734560"/>
            </a:xfrm>
          </p:grpSpPr>
          <p:grpSp>
            <p:nvGrpSpPr>
              <p:cNvPr id="3535" name="Group 821"/>
              <p:cNvGrpSpPr/>
              <p:nvPr/>
            </p:nvGrpSpPr>
            <p:grpSpPr>
              <a:xfrm>
                <a:off x="457200" y="2666880"/>
                <a:ext cx="8204760" cy="2734560"/>
                <a:chOff x="457200" y="2666880"/>
                <a:chExt cx="8204760" cy="2734560"/>
              </a:xfrm>
            </p:grpSpPr>
            <p:grpSp>
              <p:nvGrpSpPr>
                <p:cNvPr id="3536" name="Group 267"/>
                <p:cNvGrpSpPr/>
                <p:nvPr/>
              </p:nvGrpSpPr>
              <p:grpSpPr>
                <a:xfrm>
                  <a:off x="3192480" y="2666880"/>
                  <a:ext cx="2733480" cy="2734560"/>
                  <a:chOff x="3192480" y="2666880"/>
                  <a:chExt cx="2733480" cy="2734560"/>
                </a:xfrm>
              </p:grpSpPr>
              <p:grpSp>
                <p:nvGrpSpPr>
                  <p:cNvPr id="3537" name="Group 135"/>
                  <p:cNvGrpSpPr/>
                  <p:nvPr/>
                </p:nvGrpSpPr>
                <p:grpSpPr>
                  <a:xfrm>
                    <a:off x="3192480" y="2666880"/>
                    <a:ext cx="2733480" cy="1366560"/>
                    <a:chOff x="3192480" y="2666880"/>
                    <a:chExt cx="2733480" cy="1366560"/>
                  </a:xfrm>
                </p:grpSpPr>
                <p:grpSp>
                  <p:nvGrpSpPr>
                    <p:cNvPr id="3538" name="Group 30"/>
                    <p:cNvGrpSpPr/>
                    <p:nvPr/>
                  </p:nvGrpSpPr>
                  <p:grpSpPr>
                    <a:xfrm>
                      <a:off x="3192480" y="2666880"/>
                      <a:ext cx="545040" cy="1366560"/>
                      <a:chOff x="3192480" y="2666880"/>
                      <a:chExt cx="545040" cy="1366560"/>
                    </a:xfrm>
                  </p:grpSpPr>
                  <p:grpSp>
                    <p:nvGrpSpPr>
                      <p:cNvPr id="3539" name="Group 9"/>
                      <p:cNvGrpSpPr/>
                      <p:nvPr/>
                    </p:nvGrpSpPr>
                    <p:grpSpPr>
                      <a:xfrm>
                        <a:off x="3192480" y="2666880"/>
                        <a:ext cx="545040" cy="272160"/>
                        <a:chOff x="3192480" y="2666880"/>
                        <a:chExt cx="545040" cy="272160"/>
                      </a:xfrm>
                    </p:grpSpPr>
                    <p:grpSp>
                      <p:nvGrpSpPr>
                        <p:cNvPr id="3540" name="Group 7"/>
                        <p:cNvGrpSpPr/>
                        <p:nvPr/>
                      </p:nvGrpSpPr>
                      <p:grpSpPr>
                        <a:xfrm>
                          <a:off x="3192480" y="2666880"/>
                          <a:ext cx="545040" cy="271800"/>
                          <a:chOff x="3192480" y="2666880"/>
                          <a:chExt cx="545040" cy="271800"/>
                        </a:xfrm>
                      </p:grpSpPr>
                      <p:sp>
                        <p:nvSpPr>
                          <p:cNvPr id="3541" name="Rectangle 5"/>
                          <p:cNvSpPr/>
                          <p:nvPr/>
                        </p:nvSpPr>
                        <p:spPr>
                          <a:xfrm>
                            <a:off x="319248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2" name="Rectangle 6"/>
                          <p:cNvSpPr/>
                          <p:nvPr/>
                        </p:nvSpPr>
                        <p:spPr>
                          <a:xfrm>
                            <a:off x="346500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43" name="Rectangle 8"/>
                        <p:cNvSpPr/>
                        <p:nvPr/>
                      </p:nvSpPr>
                      <p:spPr>
                        <a:xfrm>
                          <a:off x="319248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44" name="Group 10"/>
                      <p:cNvGrpSpPr/>
                      <p:nvPr/>
                    </p:nvGrpSpPr>
                    <p:grpSpPr>
                      <a:xfrm>
                        <a:off x="3192480" y="2939400"/>
                        <a:ext cx="545040" cy="272520"/>
                        <a:chOff x="3192480" y="2939400"/>
                        <a:chExt cx="545040" cy="272520"/>
                      </a:xfrm>
                    </p:grpSpPr>
                    <p:grpSp>
                      <p:nvGrpSpPr>
                        <p:cNvPr id="3545" name="Group 11"/>
                        <p:cNvGrpSpPr/>
                        <p:nvPr/>
                      </p:nvGrpSpPr>
                      <p:grpSpPr>
                        <a:xfrm>
                          <a:off x="3192480" y="2939400"/>
                          <a:ext cx="545040" cy="272160"/>
                          <a:chOff x="3192480" y="2939400"/>
                          <a:chExt cx="545040" cy="272160"/>
                        </a:xfrm>
                      </p:grpSpPr>
                      <p:sp>
                        <p:nvSpPr>
                          <p:cNvPr id="3546" name="Rectangle 12"/>
                          <p:cNvSpPr/>
                          <p:nvPr/>
                        </p:nvSpPr>
                        <p:spPr>
                          <a:xfrm>
                            <a:off x="319248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7" name="Rectangle 13"/>
                          <p:cNvSpPr/>
                          <p:nvPr/>
                        </p:nvSpPr>
                        <p:spPr>
                          <a:xfrm>
                            <a:off x="346500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48" name="Rectangle 14"/>
                        <p:cNvSpPr/>
                        <p:nvPr/>
                      </p:nvSpPr>
                      <p:spPr>
                        <a:xfrm>
                          <a:off x="319248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49" name="Group 15"/>
                      <p:cNvGrpSpPr/>
                      <p:nvPr/>
                    </p:nvGrpSpPr>
                    <p:grpSpPr>
                      <a:xfrm>
                        <a:off x="3192480" y="3212640"/>
                        <a:ext cx="545040" cy="272520"/>
                        <a:chOff x="3192480" y="3212640"/>
                        <a:chExt cx="545040" cy="272520"/>
                      </a:xfrm>
                    </p:grpSpPr>
                    <p:grpSp>
                      <p:nvGrpSpPr>
                        <p:cNvPr id="3550" name="Group 16"/>
                        <p:cNvGrpSpPr/>
                        <p:nvPr/>
                      </p:nvGrpSpPr>
                      <p:grpSpPr>
                        <a:xfrm>
                          <a:off x="3192480" y="3212640"/>
                          <a:ext cx="545040" cy="272160"/>
                          <a:chOff x="3192480" y="3212640"/>
                          <a:chExt cx="545040" cy="272160"/>
                        </a:xfrm>
                      </p:grpSpPr>
                      <p:sp>
                        <p:nvSpPr>
                          <p:cNvPr id="3551" name="Rectangle 17"/>
                          <p:cNvSpPr/>
                          <p:nvPr/>
                        </p:nvSpPr>
                        <p:spPr>
                          <a:xfrm>
                            <a:off x="319248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52" name="Rectangle 18"/>
                          <p:cNvSpPr/>
                          <p:nvPr/>
                        </p:nvSpPr>
                        <p:spPr>
                          <a:xfrm>
                            <a:off x="346500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53" name="Rectangle 19"/>
                        <p:cNvSpPr/>
                        <p:nvPr/>
                      </p:nvSpPr>
                      <p:spPr>
                        <a:xfrm>
                          <a:off x="319248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54" name="Group 20"/>
                      <p:cNvGrpSpPr/>
                      <p:nvPr/>
                    </p:nvGrpSpPr>
                    <p:grpSpPr>
                      <a:xfrm>
                        <a:off x="3192480" y="3487680"/>
                        <a:ext cx="545040" cy="272520"/>
                        <a:chOff x="3192480" y="3487680"/>
                        <a:chExt cx="545040" cy="272520"/>
                      </a:xfrm>
                    </p:grpSpPr>
                    <p:grpSp>
                      <p:nvGrpSpPr>
                        <p:cNvPr id="3555" name="Group 21"/>
                        <p:cNvGrpSpPr/>
                        <p:nvPr/>
                      </p:nvGrpSpPr>
                      <p:grpSpPr>
                        <a:xfrm>
                          <a:off x="3192480" y="3487680"/>
                          <a:ext cx="545040" cy="272160"/>
                          <a:chOff x="3192480" y="3487680"/>
                          <a:chExt cx="545040" cy="272160"/>
                        </a:xfrm>
                      </p:grpSpPr>
                      <p:sp>
                        <p:nvSpPr>
                          <p:cNvPr id="3556" name="Rectangle 22"/>
                          <p:cNvSpPr/>
                          <p:nvPr/>
                        </p:nvSpPr>
                        <p:spPr>
                          <a:xfrm>
                            <a:off x="319248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57" name="Rectangle 23"/>
                          <p:cNvSpPr/>
                          <p:nvPr/>
                        </p:nvSpPr>
                        <p:spPr>
                          <a:xfrm>
                            <a:off x="346500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58" name="Rectangle 24"/>
                        <p:cNvSpPr/>
                        <p:nvPr/>
                      </p:nvSpPr>
                      <p:spPr>
                        <a:xfrm>
                          <a:off x="319248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59" name="Group 25"/>
                      <p:cNvGrpSpPr/>
                      <p:nvPr/>
                    </p:nvGrpSpPr>
                    <p:grpSpPr>
                      <a:xfrm>
                        <a:off x="3192480" y="3760920"/>
                        <a:ext cx="545040" cy="272520"/>
                        <a:chOff x="3192480" y="3760920"/>
                        <a:chExt cx="545040" cy="272520"/>
                      </a:xfrm>
                    </p:grpSpPr>
                    <p:grpSp>
                      <p:nvGrpSpPr>
                        <p:cNvPr id="3560" name="Group 26"/>
                        <p:cNvGrpSpPr/>
                        <p:nvPr/>
                      </p:nvGrpSpPr>
                      <p:grpSpPr>
                        <a:xfrm>
                          <a:off x="3192480" y="3760920"/>
                          <a:ext cx="545040" cy="272160"/>
                          <a:chOff x="3192480" y="3760920"/>
                          <a:chExt cx="545040" cy="272160"/>
                        </a:xfrm>
                      </p:grpSpPr>
                      <p:sp>
                        <p:nvSpPr>
                          <p:cNvPr id="3561" name="Rectangle 27"/>
                          <p:cNvSpPr/>
                          <p:nvPr/>
                        </p:nvSpPr>
                        <p:spPr>
                          <a:xfrm>
                            <a:off x="319248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62" name="Rectangle 28"/>
                          <p:cNvSpPr/>
                          <p:nvPr/>
                        </p:nvSpPr>
                        <p:spPr>
                          <a:xfrm>
                            <a:off x="346500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63" name="Rectangle 29"/>
                        <p:cNvSpPr/>
                        <p:nvPr/>
                      </p:nvSpPr>
                      <p:spPr>
                        <a:xfrm>
                          <a:off x="319248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64" name="Group 31"/>
                    <p:cNvGrpSpPr/>
                    <p:nvPr/>
                  </p:nvGrpSpPr>
                  <p:grpSpPr>
                    <a:xfrm>
                      <a:off x="3738960" y="2666880"/>
                      <a:ext cx="545760" cy="1366560"/>
                      <a:chOff x="3738960" y="2666880"/>
                      <a:chExt cx="545760" cy="1366560"/>
                    </a:xfrm>
                  </p:grpSpPr>
                  <p:grpSp>
                    <p:nvGrpSpPr>
                      <p:cNvPr id="3565" name="Group 32"/>
                      <p:cNvGrpSpPr/>
                      <p:nvPr/>
                    </p:nvGrpSpPr>
                    <p:grpSpPr>
                      <a:xfrm>
                        <a:off x="3738960" y="2666880"/>
                        <a:ext cx="545760" cy="272160"/>
                        <a:chOff x="3738960" y="2666880"/>
                        <a:chExt cx="545760" cy="272160"/>
                      </a:xfrm>
                    </p:grpSpPr>
                    <p:grpSp>
                      <p:nvGrpSpPr>
                        <p:cNvPr id="3566" name="Group 33"/>
                        <p:cNvGrpSpPr/>
                        <p:nvPr/>
                      </p:nvGrpSpPr>
                      <p:grpSpPr>
                        <a:xfrm>
                          <a:off x="3738960" y="2666880"/>
                          <a:ext cx="545760" cy="271800"/>
                          <a:chOff x="3738960" y="2666880"/>
                          <a:chExt cx="545760" cy="271800"/>
                        </a:xfrm>
                      </p:grpSpPr>
                      <p:sp>
                        <p:nvSpPr>
                          <p:cNvPr id="3567" name="Rectangle 34"/>
                          <p:cNvSpPr/>
                          <p:nvPr/>
                        </p:nvSpPr>
                        <p:spPr>
                          <a:xfrm>
                            <a:off x="373896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68" name="Rectangle 35"/>
                          <p:cNvSpPr/>
                          <p:nvPr/>
                        </p:nvSpPr>
                        <p:spPr>
                          <a:xfrm>
                            <a:off x="401184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69" name="Rectangle 36"/>
                        <p:cNvSpPr/>
                        <p:nvPr/>
                      </p:nvSpPr>
                      <p:spPr>
                        <a:xfrm>
                          <a:off x="373896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70" name="Group 37"/>
                      <p:cNvGrpSpPr/>
                      <p:nvPr/>
                    </p:nvGrpSpPr>
                    <p:grpSpPr>
                      <a:xfrm>
                        <a:off x="3738960" y="2939400"/>
                        <a:ext cx="545760" cy="272520"/>
                        <a:chOff x="3738960" y="2939400"/>
                        <a:chExt cx="545760" cy="272520"/>
                      </a:xfrm>
                    </p:grpSpPr>
                    <p:grpSp>
                      <p:nvGrpSpPr>
                        <p:cNvPr id="3571" name="Group 38"/>
                        <p:cNvGrpSpPr/>
                        <p:nvPr/>
                      </p:nvGrpSpPr>
                      <p:grpSpPr>
                        <a:xfrm>
                          <a:off x="3738960" y="2939400"/>
                          <a:ext cx="545760" cy="272160"/>
                          <a:chOff x="3738960" y="2939400"/>
                          <a:chExt cx="545760" cy="272160"/>
                        </a:xfrm>
                      </p:grpSpPr>
                      <p:sp>
                        <p:nvSpPr>
                          <p:cNvPr id="3572" name="Rectangle 39"/>
                          <p:cNvSpPr/>
                          <p:nvPr/>
                        </p:nvSpPr>
                        <p:spPr>
                          <a:xfrm>
                            <a:off x="373896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73" name="Rectangle 40"/>
                          <p:cNvSpPr/>
                          <p:nvPr/>
                        </p:nvSpPr>
                        <p:spPr>
                          <a:xfrm>
                            <a:off x="401184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74" name="Rectangle 41"/>
                        <p:cNvSpPr/>
                        <p:nvPr/>
                      </p:nvSpPr>
                      <p:spPr>
                        <a:xfrm>
                          <a:off x="373896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75" name="Group 42"/>
                      <p:cNvGrpSpPr/>
                      <p:nvPr/>
                    </p:nvGrpSpPr>
                    <p:grpSpPr>
                      <a:xfrm>
                        <a:off x="3738960" y="3212640"/>
                        <a:ext cx="545760" cy="272520"/>
                        <a:chOff x="3738960" y="3212640"/>
                        <a:chExt cx="545760" cy="272520"/>
                      </a:xfrm>
                    </p:grpSpPr>
                    <p:grpSp>
                      <p:nvGrpSpPr>
                        <p:cNvPr id="3576" name="Group 43"/>
                        <p:cNvGrpSpPr/>
                        <p:nvPr/>
                      </p:nvGrpSpPr>
                      <p:grpSpPr>
                        <a:xfrm>
                          <a:off x="3738960" y="3212640"/>
                          <a:ext cx="545760" cy="272160"/>
                          <a:chOff x="3738960" y="3212640"/>
                          <a:chExt cx="545760" cy="272160"/>
                        </a:xfrm>
                      </p:grpSpPr>
                      <p:sp>
                        <p:nvSpPr>
                          <p:cNvPr id="3577" name="Rectangle 44"/>
                          <p:cNvSpPr/>
                          <p:nvPr/>
                        </p:nvSpPr>
                        <p:spPr>
                          <a:xfrm>
                            <a:off x="373896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78" name="Rectangle 45"/>
                          <p:cNvSpPr/>
                          <p:nvPr/>
                        </p:nvSpPr>
                        <p:spPr>
                          <a:xfrm>
                            <a:off x="401184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79" name="Rectangle 46"/>
                        <p:cNvSpPr/>
                        <p:nvPr/>
                      </p:nvSpPr>
                      <p:spPr>
                        <a:xfrm>
                          <a:off x="373896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80" name="Group 47"/>
                      <p:cNvGrpSpPr/>
                      <p:nvPr/>
                    </p:nvGrpSpPr>
                    <p:grpSpPr>
                      <a:xfrm>
                        <a:off x="3738960" y="3487680"/>
                        <a:ext cx="545760" cy="272520"/>
                        <a:chOff x="3738960" y="3487680"/>
                        <a:chExt cx="545760" cy="272520"/>
                      </a:xfrm>
                    </p:grpSpPr>
                    <p:grpSp>
                      <p:nvGrpSpPr>
                        <p:cNvPr id="3581" name="Group 48"/>
                        <p:cNvGrpSpPr/>
                        <p:nvPr/>
                      </p:nvGrpSpPr>
                      <p:grpSpPr>
                        <a:xfrm>
                          <a:off x="3738960" y="3487680"/>
                          <a:ext cx="545760" cy="272160"/>
                          <a:chOff x="3738960" y="3487680"/>
                          <a:chExt cx="545760" cy="272160"/>
                        </a:xfrm>
                      </p:grpSpPr>
                      <p:sp>
                        <p:nvSpPr>
                          <p:cNvPr id="3582" name="Rectangle 49"/>
                          <p:cNvSpPr/>
                          <p:nvPr/>
                        </p:nvSpPr>
                        <p:spPr>
                          <a:xfrm>
                            <a:off x="373896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83" name="Rectangle 50"/>
                          <p:cNvSpPr/>
                          <p:nvPr/>
                        </p:nvSpPr>
                        <p:spPr>
                          <a:xfrm>
                            <a:off x="401184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84" name="Rectangle 51"/>
                        <p:cNvSpPr/>
                        <p:nvPr/>
                      </p:nvSpPr>
                      <p:spPr>
                        <a:xfrm>
                          <a:off x="373896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85" name="Group 52"/>
                      <p:cNvGrpSpPr/>
                      <p:nvPr/>
                    </p:nvGrpSpPr>
                    <p:grpSpPr>
                      <a:xfrm>
                        <a:off x="3738960" y="3760920"/>
                        <a:ext cx="545760" cy="272520"/>
                        <a:chOff x="3738960" y="3760920"/>
                        <a:chExt cx="545760" cy="272520"/>
                      </a:xfrm>
                    </p:grpSpPr>
                    <p:grpSp>
                      <p:nvGrpSpPr>
                        <p:cNvPr id="3586" name="Group 53"/>
                        <p:cNvGrpSpPr/>
                        <p:nvPr/>
                      </p:nvGrpSpPr>
                      <p:grpSpPr>
                        <a:xfrm>
                          <a:off x="3738960" y="3760920"/>
                          <a:ext cx="545760" cy="272160"/>
                          <a:chOff x="3738960" y="3760920"/>
                          <a:chExt cx="545760" cy="272160"/>
                        </a:xfrm>
                      </p:grpSpPr>
                      <p:sp>
                        <p:nvSpPr>
                          <p:cNvPr id="3587" name="Rectangle 54"/>
                          <p:cNvSpPr/>
                          <p:nvPr/>
                        </p:nvSpPr>
                        <p:spPr>
                          <a:xfrm>
                            <a:off x="373896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88" name="Rectangle 55"/>
                          <p:cNvSpPr/>
                          <p:nvPr/>
                        </p:nvSpPr>
                        <p:spPr>
                          <a:xfrm>
                            <a:off x="401184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89" name="Rectangle 56"/>
                        <p:cNvSpPr/>
                        <p:nvPr/>
                      </p:nvSpPr>
                      <p:spPr>
                        <a:xfrm>
                          <a:off x="373896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90" name="Group 57"/>
                    <p:cNvGrpSpPr/>
                    <p:nvPr/>
                  </p:nvGrpSpPr>
                  <p:grpSpPr>
                    <a:xfrm>
                      <a:off x="4285800" y="2666880"/>
                      <a:ext cx="545040" cy="1366560"/>
                      <a:chOff x="4285800" y="2666880"/>
                      <a:chExt cx="545040" cy="1366560"/>
                    </a:xfrm>
                  </p:grpSpPr>
                  <p:grpSp>
                    <p:nvGrpSpPr>
                      <p:cNvPr id="3591" name="Group 58"/>
                      <p:cNvGrpSpPr/>
                      <p:nvPr/>
                    </p:nvGrpSpPr>
                    <p:grpSpPr>
                      <a:xfrm>
                        <a:off x="4285800" y="2666880"/>
                        <a:ext cx="545040" cy="272160"/>
                        <a:chOff x="4285800" y="2666880"/>
                        <a:chExt cx="545040" cy="272160"/>
                      </a:xfrm>
                    </p:grpSpPr>
                    <p:grpSp>
                      <p:nvGrpSpPr>
                        <p:cNvPr id="3592" name="Group 59"/>
                        <p:cNvGrpSpPr/>
                        <p:nvPr/>
                      </p:nvGrpSpPr>
                      <p:grpSpPr>
                        <a:xfrm>
                          <a:off x="4285800" y="2666880"/>
                          <a:ext cx="545040" cy="271800"/>
                          <a:chOff x="4285800" y="2666880"/>
                          <a:chExt cx="545040" cy="271800"/>
                        </a:xfrm>
                      </p:grpSpPr>
                      <p:sp>
                        <p:nvSpPr>
                          <p:cNvPr id="3593" name="Rectangle 60"/>
                          <p:cNvSpPr/>
                          <p:nvPr/>
                        </p:nvSpPr>
                        <p:spPr>
                          <a:xfrm>
                            <a:off x="428580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94" name="Rectangle 61"/>
                          <p:cNvSpPr/>
                          <p:nvPr/>
                        </p:nvSpPr>
                        <p:spPr>
                          <a:xfrm>
                            <a:off x="455832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95" name="Rectangle 62"/>
                        <p:cNvSpPr/>
                        <p:nvPr/>
                      </p:nvSpPr>
                      <p:spPr>
                        <a:xfrm>
                          <a:off x="428580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96" name="Group 63"/>
                      <p:cNvGrpSpPr/>
                      <p:nvPr/>
                    </p:nvGrpSpPr>
                    <p:grpSpPr>
                      <a:xfrm>
                        <a:off x="4285800" y="2939400"/>
                        <a:ext cx="545040" cy="272520"/>
                        <a:chOff x="4285800" y="2939400"/>
                        <a:chExt cx="545040" cy="272520"/>
                      </a:xfrm>
                    </p:grpSpPr>
                    <p:grpSp>
                      <p:nvGrpSpPr>
                        <p:cNvPr id="3597" name="Group 64"/>
                        <p:cNvGrpSpPr/>
                        <p:nvPr/>
                      </p:nvGrpSpPr>
                      <p:grpSpPr>
                        <a:xfrm>
                          <a:off x="4285800" y="2939400"/>
                          <a:ext cx="545040" cy="272160"/>
                          <a:chOff x="4285800" y="2939400"/>
                          <a:chExt cx="545040" cy="272160"/>
                        </a:xfrm>
                      </p:grpSpPr>
                      <p:sp>
                        <p:nvSpPr>
                          <p:cNvPr id="3598" name="Rectangle 65"/>
                          <p:cNvSpPr/>
                          <p:nvPr/>
                        </p:nvSpPr>
                        <p:spPr>
                          <a:xfrm>
                            <a:off x="428580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99" name="Rectangle 66"/>
                          <p:cNvSpPr/>
                          <p:nvPr/>
                        </p:nvSpPr>
                        <p:spPr>
                          <a:xfrm>
                            <a:off x="455832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00" name="Rectangle 67"/>
                        <p:cNvSpPr/>
                        <p:nvPr/>
                      </p:nvSpPr>
                      <p:spPr>
                        <a:xfrm>
                          <a:off x="428580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01" name="Group 68"/>
                      <p:cNvGrpSpPr/>
                      <p:nvPr/>
                    </p:nvGrpSpPr>
                    <p:grpSpPr>
                      <a:xfrm>
                        <a:off x="4285800" y="3212640"/>
                        <a:ext cx="545040" cy="272520"/>
                        <a:chOff x="4285800" y="3212640"/>
                        <a:chExt cx="545040" cy="272520"/>
                      </a:xfrm>
                    </p:grpSpPr>
                    <p:grpSp>
                      <p:nvGrpSpPr>
                        <p:cNvPr id="3602" name="Group 69"/>
                        <p:cNvGrpSpPr/>
                        <p:nvPr/>
                      </p:nvGrpSpPr>
                      <p:grpSpPr>
                        <a:xfrm>
                          <a:off x="4285800" y="3212640"/>
                          <a:ext cx="545040" cy="272160"/>
                          <a:chOff x="4285800" y="3212640"/>
                          <a:chExt cx="545040" cy="272160"/>
                        </a:xfrm>
                      </p:grpSpPr>
                      <p:sp>
                        <p:nvSpPr>
                          <p:cNvPr id="3603" name="Rectangle 70"/>
                          <p:cNvSpPr/>
                          <p:nvPr/>
                        </p:nvSpPr>
                        <p:spPr>
                          <a:xfrm>
                            <a:off x="428580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4" name="Rectangle 71"/>
                          <p:cNvSpPr/>
                          <p:nvPr/>
                        </p:nvSpPr>
                        <p:spPr>
                          <a:xfrm>
                            <a:off x="455832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05" name="Rectangle 72"/>
                        <p:cNvSpPr/>
                        <p:nvPr/>
                      </p:nvSpPr>
                      <p:spPr>
                        <a:xfrm>
                          <a:off x="428580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06" name="Group 73"/>
                      <p:cNvGrpSpPr/>
                      <p:nvPr/>
                    </p:nvGrpSpPr>
                    <p:grpSpPr>
                      <a:xfrm>
                        <a:off x="4285800" y="3487680"/>
                        <a:ext cx="545040" cy="272520"/>
                        <a:chOff x="4285800" y="3487680"/>
                        <a:chExt cx="545040" cy="272520"/>
                      </a:xfrm>
                    </p:grpSpPr>
                    <p:grpSp>
                      <p:nvGrpSpPr>
                        <p:cNvPr id="3607" name="Group 74"/>
                        <p:cNvGrpSpPr/>
                        <p:nvPr/>
                      </p:nvGrpSpPr>
                      <p:grpSpPr>
                        <a:xfrm>
                          <a:off x="4285800" y="3487680"/>
                          <a:ext cx="545040" cy="272160"/>
                          <a:chOff x="4285800" y="3487680"/>
                          <a:chExt cx="545040" cy="272160"/>
                        </a:xfrm>
                      </p:grpSpPr>
                      <p:sp>
                        <p:nvSpPr>
                          <p:cNvPr id="3608" name="Rectangle 75"/>
                          <p:cNvSpPr/>
                          <p:nvPr/>
                        </p:nvSpPr>
                        <p:spPr>
                          <a:xfrm>
                            <a:off x="428580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9" name="Rectangle 76"/>
                          <p:cNvSpPr/>
                          <p:nvPr/>
                        </p:nvSpPr>
                        <p:spPr>
                          <a:xfrm>
                            <a:off x="455832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10" name="Rectangle 77"/>
                        <p:cNvSpPr/>
                        <p:nvPr/>
                      </p:nvSpPr>
                      <p:spPr>
                        <a:xfrm>
                          <a:off x="428580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11" name="Group 78"/>
                      <p:cNvGrpSpPr/>
                      <p:nvPr/>
                    </p:nvGrpSpPr>
                    <p:grpSpPr>
                      <a:xfrm>
                        <a:off x="4285800" y="3760920"/>
                        <a:ext cx="545040" cy="272520"/>
                        <a:chOff x="4285800" y="3760920"/>
                        <a:chExt cx="545040" cy="272520"/>
                      </a:xfrm>
                    </p:grpSpPr>
                    <p:grpSp>
                      <p:nvGrpSpPr>
                        <p:cNvPr id="3612" name="Group 79"/>
                        <p:cNvGrpSpPr/>
                        <p:nvPr/>
                      </p:nvGrpSpPr>
                      <p:grpSpPr>
                        <a:xfrm>
                          <a:off x="4285800" y="3760920"/>
                          <a:ext cx="545040" cy="272160"/>
                          <a:chOff x="4285800" y="3760920"/>
                          <a:chExt cx="545040" cy="272160"/>
                        </a:xfrm>
                      </p:grpSpPr>
                      <p:sp>
                        <p:nvSpPr>
                          <p:cNvPr id="3613" name="Rectangle 80"/>
                          <p:cNvSpPr/>
                          <p:nvPr/>
                        </p:nvSpPr>
                        <p:spPr>
                          <a:xfrm>
                            <a:off x="428580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4" name="Rectangle 81"/>
                          <p:cNvSpPr/>
                          <p:nvPr/>
                        </p:nvSpPr>
                        <p:spPr>
                          <a:xfrm>
                            <a:off x="455832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15" name="Rectangle 82"/>
                        <p:cNvSpPr/>
                        <p:nvPr/>
                      </p:nvSpPr>
                      <p:spPr>
                        <a:xfrm>
                          <a:off x="428580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16" name="Group 83"/>
                    <p:cNvGrpSpPr/>
                    <p:nvPr/>
                  </p:nvGrpSpPr>
                  <p:grpSpPr>
                    <a:xfrm>
                      <a:off x="4834080" y="2666880"/>
                      <a:ext cx="545760" cy="1366560"/>
                      <a:chOff x="4834080" y="2666880"/>
                      <a:chExt cx="545760" cy="1366560"/>
                    </a:xfrm>
                  </p:grpSpPr>
                  <p:grpSp>
                    <p:nvGrpSpPr>
                      <p:cNvPr id="3617" name="Group 84"/>
                      <p:cNvGrpSpPr/>
                      <p:nvPr/>
                    </p:nvGrpSpPr>
                    <p:grpSpPr>
                      <a:xfrm>
                        <a:off x="4834080" y="2666880"/>
                        <a:ext cx="545760" cy="272160"/>
                        <a:chOff x="4834080" y="2666880"/>
                        <a:chExt cx="545760" cy="272160"/>
                      </a:xfrm>
                    </p:grpSpPr>
                    <p:grpSp>
                      <p:nvGrpSpPr>
                        <p:cNvPr id="3618" name="Group 85"/>
                        <p:cNvGrpSpPr/>
                        <p:nvPr/>
                      </p:nvGrpSpPr>
                      <p:grpSpPr>
                        <a:xfrm>
                          <a:off x="4834080" y="2666880"/>
                          <a:ext cx="545760" cy="271800"/>
                          <a:chOff x="4834080" y="2666880"/>
                          <a:chExt cx="545760" cy="271800"/>
                        </a:xfrm>
                      </p:grpSpPr>
                      <p:sp>
                        <p:nvSpPr>
                          <p:cNvPr id="3619" name="Rectangle 86"/>
                          <p:cNvSpPr/>
                          <p:nvPr/>
                        </p:nvSpPr>
                        <p:spPr>
                          <a:xfrm>
                            <a:off x="483408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0" name="Rectangle 87"/>
                          <p:cNvSpPr/>
                          <p:nvPr/>
                        </p:nvSpPr>
                        <p:spPr>
                          <a:xfrm>
                            <a:off x="510696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21" name="Rectangle 88"/>
                        <p:cNvSpPr/>
                        <p:nvPr/>
                      </p:nvSpPr>
                      <p:spPr>
                        <a:xfrm>
                          <a:off x="483408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22" name="Group 89"/>
                      <p:cNvGrpSpPr/>
                      <p:nvPr/>
                    </p:nvGrpSpPr>
                    <p:grpSpPr>
                      <a:xfrm>
                        <a:off x="4834080" y="2939400"/>
                        <a:ext cx="545760" cy="272520"/>
                        <a:chOff x="4834080" y="2939400"/>
                        <a:chExt cx="545760" cy="272520"/>
                      </a:xfrm>
                    </p:grpSpPr>
                    <p:grpSp>
                      <p:nvGrpSpPr>
                        <p:cNvPr id="3623" name="Group 90"/>
                        <p:cNvGrpSpPr/>
                        <p:nvPr/>
                      </p:nvGrpSpPr>
                      <p:grpSpPr>
                        <a:xfrm>
                          <a:off x="4834080" y="2939400"/>
                          <a:ext cx="545760" cy="272160"/>
                          <a:chOff x="4834080" y="2939400"/>
                          <a:chExt cx="545760" cy="272160"/>
                        </a:xfrm>
                      </p:grpSpPr>
                      <p:sp>
                        <p:nvSpPr>
                          <p:cNvPr id="3624" name="Rectangle 91"/>
                          <p:cNvSpPr/>
                          <p:nvPr/>
                        </p:nvSpPr>
                        <p:spPr>
                          <a:xfrm>
                            <a:off x="483408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5" name="Rectangle 92"/>
                          <p:cNvSpPr/>
                          <p:nvPr/>
                        </p:nvSpPr>
                        <p:spPr>
                          <a:xfrm>
                            <a:off x="510696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26" name="Rectangle 93"/>
                        <p:cNvSpPr/>
                        <p:nvPr/>
                      </p:nvSpPr>
                      <p:spPr>
                        <a:xfrm>
                          <a:off x="483408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27" name="Group 94"/>
                      <p:cNvGrpSpPr/>
                      <p:nvPr/>
                    </p:nvGrpSpPr>
                    <p:grpSpPr>
                      <a:xfrm>
                        <a:off x="4834080" y="3212640"/>
                        <a:ext cx="545760" cy="272520"/>
                        <a:chOff x="4834080" y="3212640"/>
                        <a:chExt cx="545760" cy="272520"/>
                      </a:xfrm>
                    </p:grpSpPr>
                    <p:grpSp>
                      <p:nvGrpSpPr>
                        <p:cNvPr id="3628" name="Group 95"/>
                        <p:cNvGrpSpPr/>
                        <p:nvPr/>
                      </p:nvGrpSpPr>
                      <p:grpSpPr>
                        <a:xfrm>
                          <a:off x="4834080" y="3212640"/>
                          <a:ext cx="545760" cy="272160"/>
                          <a:chOff x="4834080" y="3212640"/>
                          <a:chExt cx="545760" cy="272160"/>
                        </a:xfrm>
                      </p:grpSpPr>
                      <p:sp>
                        <p:nvSpPr>
                          <p:cNvPr id="3629" name="Rectangle 96"/>
                          <p:cNvSpPr/>
                          <p:nvPr/>
                        </p:nvSpPr>
                        <p:spPr>
                          <a:xfrm>
                            <a:off x="483408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30" name="Rectangle 97"/>
                          <p:cNvSpPr/>
                          <p:nvPr/>
                        </p:nvSpPr>
                        <p:spPr>
                          <a:xfrm>
                            <a:off x="510696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31" name="Rectangle 98"/>
                        <p:cNvSpPr/>
                        <p:nvPr/>
                      </p:nvSpPr>
                      <p:spPr>
                        <a:xfrm>
                          <a:off x="483408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32" name="Group 99"/>
                      <p:cNvGrpSpPr/>
                      <p:nvPr/>
                    </p:nvGrpSpPr>
                    <p:grpSpPr>
                      <a:xfrm>
                        <a:off x="4834080" y="3487680"/>
                        <a:ext cx="545760" cy="272520"/>
                        <a:chOff x="4834080" y="3487680"/>
                        <a:chExt cx="545760" cy="272520"/>
                      </a:xfrm>
                    </p:grpSpPr>
                    <p:grpSp>
                      <p:nvGrpSpPr>
                        <p:cNvPr id="3633" name="Group 100"/>
                        <p:cNvGrpSpPr/>
                        <p:nvPr/>
                      </p:nvGrpSpPr>
                      <p:grpSpPr>
                        <a:xfrm>
                          <a:off x="4834080" y="3487680"/>
                          <a:ext cx="545760" cy="272160"/>
                          <a:chOff x="4834080" y="3487680"/>
                          <a:chExt cx="545760" cy="272160"/>
                        </a:xfrm>
                      </p:grpSpPr>
                      <p:sp>
                        <p:nvSpPr>
                          <p:cNvPr id="3634" name="Rectangle 101"/>
                          <p:cNvSpPr/>
                          <p:nvPr/>
                        </p:nvSpPr>
                        <p:spPr>
                          <a:xfrm>
                            <a:off x="483408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35" name="Rectangle 102"/>
                          <p:cNvSpPr/>
                          <p:nvPr/>
                        </p:nvSpPr>
                        <p:spPr>
                          <a:xfrm>
                            <a:off x="510696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36" name="Rectangle 103"/>
                        <p:cNvSpPr/>
                        <p:nvPr/>
                      </p:nvSpPr>
                      <p:spPr>
                        <a:xfrm>
                          <a:off x="483408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37" name="Group 104"/>
                      <p:cNvGrpSpPr/>
                      <p:nvPr/>
                    </p:nvGrpSpPr>
                    <p:grpSpPr>
                      <a:xfrm>
                        <a:off x="4834080" y="3760920"/>
                        <a:ext cx="545760" cy="272520"/>
                        <a:chOff x="4834080" y="3760920"/>
                        <a:chExt cx="545760" cy="272520"/>
                      </a:xfrm>
                    </p:grpSpPr>
                    <p:grpSp>
                      <p:nvGrpSpPr>
                        <p:cNvPr id="3638" name="Group 105"/>
                        <p:cNvGrpSpPr/>
                        <p:nvPr/>
                      </p:nvGrpSpPr>
                      <p:grpSpPr>
                        <a:xfrm>
                          <a:off x="4834080" y="3760920"/>
                          <a:ext cx="545760" cy="272160"/>
                          <a:chOff x="4834080" y="3760920"/>
                          <a:chExt cx="545760" cy="272160"/>
                        </a:xfrm>
                      </p:grpSpPr>
                      <p:sp>
                        <p:nvSpPr>
                          <p:cNvPr id="3639" name="Rectangle 106"/>
                          <p:cNvSpPr/>
                          <p:nvPr/>
                        </p:nvSpPr>
                        <p:spPr>
                          <a:xfrm>
                            <a:off x="483408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40" name="Rectangle 107"/>
                          <p:cNvSpPr/>
                          <p:nvPr/>
                        </p:nvSpPr>
                        <p:spPr>
                          <a:xfrm>
                            <a:off x="510696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41" name="Rectangle 108"/>
                        <p:cNvSpPr/>
                        <p:nvPr/>
                      </p:nvSpPr>
                      <p:spPr>
                        <a:xfrm>
                          <a:off x="483408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42" name="Group 109"/>
                    <p:cNvGrpSpPr/>
                    <p:nvPr/>
                  </p:nvGrpSpPr>
                  <p:grpSpPr>
                    <a:xfrm>
                      <a:off x="5380920" y="2666880"/>
                      <a:ext cx="545040" cy="1366560"/>
                      <a:chOff x="5380920" y="2666880"/>
                      <a:chExt cx="545040" cy="1366560"/>
                    </a:xfrm>
                  </p:grpSpPr>
                  <p:grpSp>
                    <p:nvGrpSpPr>
                      <p:cNvPr id="3643" name="Group 110"/>
                      <p:cNvGrpSpPr/>
                      <p:nvPr/>
                    </p:nvGrpSpPr>
                    <p:grpSpPr>
                      <a:xfrm>
                        <a:off x="5380920" y="2666880"/>
                        <a:ext cx="545040" cy="272160"/>
                        <a:chOff x="5380920" y="2666880"/>
                        <a:chExt cx="545040" cy="272160"/>
                      </a:xfrm>
                    </p:grpSpPr>
                    <p:grpSp>
                      <p:nvGrpSpPr>
                        <p:cNvPr id="3644" name="Group 111"/>
                        <p:cNvGrpSpPr/>
                        <p:nvPr/>
                      </p:nvGrpSpPr>
                      <p:grpSpPr>
                        <a:xfrm>
                          <a:off x="5380920" y="2666880"/>
                          <a:ext cx="545040" cy="271800"/>
                          <a:chOff x="5380920" y="2666880"/>
                          <a:chExt cx="545040" cy="271800"/>
                        </a:xfrm>
                      </p:grpSpPr>
                      <p:sp>
                        <p:nvSpPr>
                          <p:cNvPr id="3645" name="Rectangle 112"/>
                          <p:cNvSpPr/>
                          <p:nvPr/>
                        </p:nvSpPr>
                        <p:spPr>
                          <a:xfrm>
                            <a:off x="538092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46" name="Rectangle 113"/>
                          <p:cNvSpPr/>
                          <p:nvPr/>
                        </p:nvSpPr>
                        <p:spPr>
                          <a:xfrm>
                            <a:off x="565344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47" name="Rectangle 114"/>
                        <p:cNvSpPr/>
                        <p:nvPr/>
                      </p:nvSpPr>
                      <p:spPr>
                        <a:xfrm>
                          <a:off x="538092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48" name="Group 115"/>
                      <p:cNvGrpSpPr/>
                      <p:nvPr/>
                    </p:nvGrpSpPr>
                    <p:grpSpPr>
                      <a:xfrm>
                        <a:off x="5380920" y="2939400"/>
                        <a:ext cx="545040" cy="272520"/>
                        <a:chOff x="5380920" y="2939400"/>
                        <a:chExt cx="545040" cy="272520"/>
                      </a:xfrm>
                    </p:grpSpPr>
                    <p:grpSp>
                      <p:nvGrpSpPr>
                        <p:cNvPr id="3649" name="Group 116"/>
                        <p:cNvGrpSpPr/>
                        <p:nvPr/>
                      </p:nvGrpSpPr>
                      <p:grpSpPr>
                        <a:xfrm>
                          <a:off x="5380920" y="2939400"/>
                          <a:ext cx="545040" cy="272160"/>
                          <a:chOff x="5380920" y="2939400"/>
                          <a:chExt cx="545040" cy="272160"/>
                        </a:xfrm>
                      </p:grpSpPr>
                      <p:sp>
                        <p:nvSpPr>
                          <p:cNvPr id="3650" name="Rectangle 117"/>
                          <p:cNvSpPr/>
                          <p:nvPr/>
                        </p:nvSpPr>
                        <p:spPr>
                          <a:xfrm>
                            <a:off x="538092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1" name="Rectangle 118"/>
                          <p:cNvSpPr/>
                          <p:nvPr/>
                        </p:nvSpPr>
                        <p:spPr>
                          <a:xfrm>
                            <a:off x="565344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52" name="Rectangle 119"/>
                        <p:cNvSpPr/>
                        <p:nvPr/>
                      </p:nvSpPr>
                      <p:spPr>
                        <a:xfrm>
                          <a:off x="538092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53" name="Group 120"/>
                      <p:cNvGrpSpPr/>
                      <p:nvPr/>
                    </p:nvGrpSpPr>
                    <p:grpSpPr>
                      <a:xfrm>
                        <a:off x="5380920" y="3212640"/>
                        <a:ext cx="545040" cy="272520"/>
                        <a:chOff x="5380920" y="3212640"/>
                        <a:chExt cx="545040" cy="272520"/>
                      </a:xfrm>
                    </p:grpSpPr>
                    <p:grpSp>
                      <p:nvGrpSpPr>
                        <p:cNvPr id="3654" name="Group 121"/>
                        <p:cNvGrpSpPr/>
                        <p:nvPr/>
                      </p:nvGrpSpPr>
                      <p:grpSpPr>
                        <a:xfrm>
                          <a:off x="5380920" y="3212640"/>
                          <a:ext cx="545040" cy="272160"/>
                          <a:chOff x="5380920" y="3212640"/>
                          <a:chExt cx="545040" cy="272160"/>
                        </a:xfrm>
                      </p:grpSpPr>
                      <p:sp>
                        <p:nvSpPr>
                          <p:cNvPr id="3655" name="Rectangle 122"/>
                          <p:cNvSpPr/>
                          <p:nvPr/>
                        </p:nvSpPr>
                        <p:spPr>
                          <a:xfrm>
                            <a:off x="538092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6" name="Rectangle 123"/>
                          <p:cNvSpPr/>
                          <p:nvPr/>
                        </p:nvSpPr>
                        <p:spPr>
                          <a:xfrm>
                            <a:off x="565344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57" name="Rectangle 124"/>
                        <p:cNvSpPr/>
                        <p:nvPr/>
                      </p:nvSpPr>
                      <p:spPr>
                        <a:xfrm>
                          <a:off x="538092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58" name="Group 125"/>
                      <p:cNvGrpSpPr/>
                      <p:nvPr/>
                    </p:nvGrpSpPr>
                    <p:grpSpPr>
                      <a:xfrm>
                        <a:off x="5380920" y="3487680"/>
                        <a:ext cx="545040" cy="272520"/>
                        <a:chOff x="5380920" y="3487680"/>
                        <a:chExt cx="545040" cy="272520"/>
                      </a:xfrm>
                    </p:grpSpPr>
                    <p:grpSp>
                      <p:nvGrpSpPr>
                        <p:cNvPr id="3659" name="Group 126"/>
                        <p:cNvGrpSpPr/>
                        <p:nvPr/>
                      </p:nvGrpSpPr>
                      <p:grpSpPr>
                        <a:xfrm>
                          <a:off x="5380920" y="3487680"/>
                          <a:ext cx="545040" cy="272160"/>
                          <a:chOff x="5380920" y="3487680"/>
                          <a:chExt cx="545040" cy="272160"/>
                        </a:xfrm>
                      </p:grpSpPr>
                      <p:sp>
                        <p:nvSpPr>
                          <p:cNvPr id="3660" name="Rectangle 127"/>
                          <p:cNvSpPr/>
                          <p:nvPr/>
                        </p:nvSpPr>
                        <p:spPr>
                          <a:xfrm>
                            <a:off x="538092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1" name="Rectangle 128"/>
                          <p:cNvSpPr/>
                          <p:nvPr/>
                        </p:nvSpPr>
                        <p:spPr>
                          <a:xfrm>
                            <a:off x="565344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62" name="Rectangle 129"/>
                        <p:cNvSpPr/>
                        <p:nvPr/>
                      </p:nvSpPr>
                      <p:spPr>
                        <a:xfrm>
                          <a:off x="538092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63" name="Group 130"/>
                      <p:cNvGrpSpPr/>
                      <p:nvPr/>
                    </p:nvGrpSpPr>
                    <p:grpSpPr>
                      <a:xfrm>
                        <a:off x="5380920" y="3760920"/>
                        <a:ext cx="545040" cy="272520"/>
                        <a:chOff x="5380920" y="3760920"/>
                        <a:chExt cx="545040" cy="272520"/>
                      </a:xfrm>
                    </p:grpSpPr>
                    <p:grpSp>
                      <p:nvGrpSpPr>
                        <p:cNvPr id="3664" name="Group 131"/>
                        <p:cNvGrpSpPr/>
                        <p:nvPr/>
                      </p:nvGrpSpPr>
                      <p:grpSpPr>
                        <a:xfrm>
                          <a:off x="5380920" y="3760920"/>
                          <a:ext cx="545040" cy="272160"/>
                          <a:chOff x="5380920" y="3760920"/>
                          <a:chExt cx="545040" cy="272160"/>
                        </a:xfrm>
                      </p:grpSpPr>
                      <p:sp>
                        <p:nvSpPr>
                          <p:cNvPr id="3665" name="Rectangle 132"/>
                          <p:cNvSpPr/>
                          <p:nvPr/>
                        </p:nvSpPr>
                        <p:spPr>
                          <a:xfrm>
                            <a:off x="538092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6" name="Rectangle 133"/>
                          <p:cNvSpPr/>
                          <p:nvPr/>
                        </p:nvSpPr>
                        <p:spPr>
                          <a:xfrm>
                            <a:off x="565344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67" name="Rectangle 134"/>
                        <p:cNvSpPr/>
                        <p:nvPr/>
                      </p:nvSpPr>
                      <p:spPr>
                        <a:xfrm>
                          <a:off x="538092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668" name="Group 136"/>
                  <p:cNvGrpSpPr/>
                  <p:nvPr/>
                </p:nvGrpSpPr>
                <p:grpSpPr>
                  <a:xfrm>
                    <a:off x="3192480" y="4034880"/>
                    <a:ext cx="2733480" cy="1366560"/>
                    <a:chOff x="3192480" y="4034880"/>
                    <a:chExt cx="2733480" cy="1366560"/>
                  </a:xfrm>
                </p:grpSpPr>
                <p:grpSp>
                  <p:nvGrpSpPr>
                    <p:cNvPr id="3669" name="Group 137"/>
                    <p:cNvGrpSpPr/>
                    <p:nvPr/>
                  </p:nvGrpSpPr>
                  <p:grpSpPr>
                    <a:xfrm>
                      <a:off x="3192480" y="4034880"/>
                      <a:ext cx="545040" cy="1366560"/>
                      <a:chOff x="3192480" y="4034880"/>
                      <a:chExt cx="545040" cy="1366560"/>
                    </a:xfrm>
                  </p:grpSpPr>
                  <p:grpSp>
                    <p:nvGrpSpPr>
                      <p:cNvPr id="3670" name="Group 138"/>
                      <p:cNvGrpSpPr/>
                      <p:nvPr/>
                    </p:nvGrpSpPr>
                    <p:grpSpPr>
                      <a:xfrm>
                        <a:off x="3192480" y="4034880"/>
                        <a:ext cx="545040" cy="272160"/>
                        <a:chOff x="3192480" y="4034880"/>
                        <a:chExt cx="545040" cy="272160"/>
                      </a:xfrm>
                    </p:grpSpPr>
                    <p:grpSp>
                      <p:nvGrpSpPr>
                        <p:cNvPr id="3671" name="Group 139"/>
                        <p:cNvGrpSpPr/>
                        <p:nvPr/>
                      </p:nvGrpSpPr>
                      <p:grpSpPr>
                        <a:xfrm>
                          <a:off x="3192480" y="4034880"/>
                          <a:ext cx="545040" cy="271800"/>
                          <a:chOff x="3192480" y="4034880"/>
                          <a:chExt cx="545040" cy="271800"/>
                        </a:xfrm>
                      </p:grpSpPr>
                      <p:sp>
                        <p:nvSpPr>
                          <p:cNvPr id="3672" name="Rectangle 140"/>
                          <p:cNvSpPr/>
                          <p:nvPr/>
                        </p:nvSpPr>
                        <p:spPr>
                          <a:xfrm>
                            <a:off x="319248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3" name="Rectangle 141"/>
                          <p:cNvSpPr/>
                          <p:nvPr/>
                        </p:nvSpPr>
                        <p:spPr>
                          <a:xfrm>
                            <a:off x="346500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74" name="Rectangle 142"/>
                        <p:cNvSpPr/>
                        <p:nvPr/>
                      </p:nvSpPr>
                      <p:spPr>
                        <a:xfrm>
                          <a:off x="319248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75" name="Group 143"/>
                      <p:cNvGrpSpPr/>
                      <p:nvPr/>
                    </p:nvGrpSpPr>
                    <p:grpSpPr>
                      <a:xfrm>
                        <a:off x="3192480" y="4307400"/>
                        <a:ext cx="545040" cy="272520"/>
                        <a:chOff x="3192480" y="4307400"/>
                        <a:chExt cx="545040" cy="272520"/>
                      </a:xfrm>
                    </p:grpSpPr>
                    <p:grpSp>
                      <p:nvGrpSpPr>
                        <p:cNvPr id="3676" name="Group 144"/>
                        <p:cNvGrpSpPr/>
                        <p:nvPr/>
                      </p:nvGrpSpPr>
                      <p:grpSpPr>
                        <a:xfrm>
                          <a:off x="3192480" y="4307400"/>
                          <a:ext cx="545040" cy="272160"/>
                          <a:chOff x="3192480" y="4307400"/>
                          <a:chExt cx="545040" cy="272160"/>
                        </a:xfrm>
                      </p:grpSpPr>
                      <p:sp>
                        <p:nvSpPr>
                          <p:cNvPr id="3677" name="Rectangle 145"/>
                          <p:cNvSpPr/>
                          <p:nvPr/>
                        </p:nvSpPr>
                        <p:spPr>
                          <a:xfrm>
                            <a:off x="319248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8" name="Rectangle 146"/>
                          <p:cNvSpPr/>
                          <p:nvPr/>
                        </p:nvSpPr>
                        <p:spPr>
                          <a:xfrm>
                            <a:off x="346500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79" name="Rectangle 147"/>
                        <p:cNvSpPr/>
                        <p:nvPr/>
                      </p:nvSpPr>
                      <p:spPr>
                        <a:xfrm>
                          <a:off x="319248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80" name="Group 148"/>
                      <p:cNvGrpSpPr/>
                      <p:nvPr/>
                    </p:nvGrpSpPr>
                    <p:grpSpPr>
                      <a:xfrm>
                        <a:off x="3192480" y="4580640"/>
                        <a:ext cx="545040" cy="272520"/>
                        <a:chOff x="3192480" y="4580640"/>
                        <a:chExt cx="545040" cy="272520"/>
                      </a:xfrm>
                    </p:grpSpPr>
                    <p:grpSp>
                      <p:nvGrpSpPr>
                        <p:cNvPr id="3681" name="Group 149"/>
                        <p:cNvGrpSpPr/>
                        <p:nvPr/>
                      </p:nvGrpSpPr>
                      <p:grpSpPr>
                        <a:xfrm>
                          <a:off x="3192480" y="4580640"/>
                          <a:ext cx="545040" cy="272160"/>
                          <a:chOff x="3192480" y="4580640"/>
                          <a:chExt cx="545040" cy="272160"/>
                        </a:xfrm>
                      </p:grpSpPr>
                      <p:sp>
                        <p:nvSpPr>
                          <p:cNvPr id="3682" name="Rectangle 150"/>
                          <p:cNvSpPr/>
                          <p:nvPr/>
                        </p:nvSpPr>
                        <p:spPr>
                          <a:xfrm>
                            <a:off x="319248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83" name="Rectangle 151"/>
                          <p:cNvSpPr/>
                          <p:nvPr/>
                        </p:nvSpPr>
                        <p:spPr>
                          <a:xfrm>
                            <a:off x="346500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84" name="Rectangle 152"/>
                        <p:cNvSpPr/>
                        <p:nvPr/>
                      </p:nvSpPr>
                      <p:spPr>
                        <a:xfrm>
                          <a:off x="319248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85" name="Group 153"/>
                      <p:cNvGrpSpPr/>
                      <p:nvPr/>
                    </p:nvGrpSpPr>
                    <p:grpSpPr>
                      <a:xfrm>
                        <a:off x="3192480" y="4855680"/>
                        <a:ext cx="545040" cy="272520"/>
                        <a:chOff x="3192480" y="4855680"/>
                        <a:chExt cx="545040" cy="272520"/>
                      </a:xfrm>
                    </p:grpSpPr>
                    <p:grpSp>
                      <p:nvGrpSpPr>
                        <p:cNvPr id="3686" name="Group 154"/>
                        <p:cNvGrpSpPr/>
                        <p:nvPr/>
                      </p:nvGrpSpPr>
                      <p:grpSpPr>
                        <a:xfrm>
                          <a:off x="3192480" y="4855680"/>
                          <a:ext cx="545040" cy="272160"/>
                          <a:chOff x="3192480" y="4855680"/>
                          <a:chExt cx="545040" cy="272160"/>
                        </a:xfrm>
                      </p:grpSpPr>
                      <p:sp>
                        <p:nvSpPr>
                          <p:cNvPr id="3687" name="Rectangle 155"/>
                          <p:cNvSpPr/>
                          <p:nvPr/>
                        </p:nvSpPr>
                        <p:spPr>
                          <a:xfrm>
                            <a:off x="319248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88" name="Rectangle 156"/>
                          <p:cNvSpPr/>
                          <p:nvPr/>
                        </p:nvSpPr>
                        <p:spPr>
                          <a:xfrm>
                            <a:off x="346500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89" name="Rectangle 157"/>
                        <p:cNvSpPr/>
                        <p:nvPr/>
                      </p:nvSpPr>
                      <p:spPr>
                        <a:xfrm>
                          <a:off x="319248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90" name="Group 158"/>
                      <p:cNvGrpSpPr/>
                      <p:nvPr/>
                    </p:nvGrpSpPr>
                    <p:grpSpPr>
                      <a:xfrm>
                        <a:off x="3192480" y="5128920"/>
                        <a:ext cx="545040" cy="272520"/>
                        <a:chOff x="3192480" y="5128920"/>
                        <a:chExt cx="545040" cy="272520"/>
                      </a:xfrm>
                    </p:grpSpPr>
                    <p:grpSp>
                      <p:nvGrpSpPr>
                        <p:cNvPr id="3691" name="Group 159"/>
                        <p:cNvGrpSpPr/>
                        <p:nvPr/>
                      </p:nvGrpSpPr>
                      <p:grpSpPr>
                        <a:xfrm>
                          <a:off x="3192480" y="5128920"/>
                          <a:ext cx="545040" cy="272160"/>
                          <a:chOff x="3192480" y="5128920"/>
                          <a:chExt cx="545040" cy="272160"/>
                        </a:xfrm>
                      </p:grpSpPr>
                      <p:sp>
                        <p:nvSpPr>
                          <p:cNvPr id="3692" name="Rectangle 160"/>
                          <p:cNvSpPr/>
                          <p:nvPr/>
                        </p:nvSpPr>
                        <p:spPr>
                          <a:xfrm>
                            <a:off x="319248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93" name="Rectangle 161"/>
                          <p:cNvSpPr/>
                          <p:nvPr/>
                        </p:nvSpPr>
                        <p:spPr>
                          <a:xfrm>
                            <a:off x="346500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94" name="Rectangle 162"/>
                        <p:cNvSpPr/>
                        <p:nvPr/>
                      </p:nvSpPr>
                      <p:spPr>
                        <a:xfrm>
                          <a:off x="319248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95" name="Group 163"/>
                    <p:cNvGrpSpPr/>
                    <p:nvPr/>
                  </p:nvGrpSpPr>
                  <p:grpSpPr>
                    <a:xfrm>
                      <a:off x="3738960" y="4034880"/>
                      <a:ext cx="545760" cy="1366560"/>
                      <a:chOff x="3738960" y="4034880"/>
                      <a:chExt cx="545760" cy="1366560"/>
                    </a:xfrm>
                  </p:grpSpPr>
                  <p:grpSp>
                    <p:nvGrpSpPr>
                      <p:cNvPr id="3696" name="Group 164"/>
                      <p:cNvGrpSpPr/>
                      <p:nvPr/>
                    </p:nvGrpSpPr>
                    <p:grpSpPr>
                      <a:xfrm>
                        <a:off x="3738960" y="4034880"/>
                        <a:ext cx="545760" cy="272160"/>
                        <a:chOff x="3738960" y="4034880"/>
                        <a:chExt cx="545760" cy="272160"/>
                      </a:xfrm>
                    </p:grpSpPr>
                    <p:grpSp>
                      <p:nvGrpSpPr>
                        <p:cNvPr id="3697" name="Group 165"/>
                        <p:cNvGrpSpPr/>
                        <p:nvPr/>
                      </p:nvGrpSpPr>
                      <p:grpSpPr>
                        <a:xfrm>
                          <a:off x="3738960" y="4034880"/>
                          <a:ext cx="545760" cy="271800"/>
                          <a:chOff x="3738960" y="4034880"/>
                          <a:chExt cx="545760" cy="271800"/>
                        </a:xfrm>
                      </p:grpSpPr>
                      <p:sp>
                        <p:nvSpPr>
                          <p:cNvPr id="3698" name="Rectangle 166"/>
                          <p:cNvSpPr/>
                          <p:nvPr/>
                        </p:nvSpPr>
                        <p:spPr>
                          <a:xfrm>
                            <a:off x="373896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99" name="Rectangle 167"/>
                          <p:cNvSpPr/>
                          <p:nvPr/>
                        </p:nvSpPr>
                        <p:spPr>
                          <a:xfrm>
                            <a:off x="401184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00" name="Rectangle 168"/>
                        <p:cNvSpPr/>
                        <p:nvPr/>
                      </p:nvSpPr>
                      <p:spPr>
                        <a:xfrm>
                          <a:off x="373896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01" name="Group 169"/>
                      <p:cNvGrpSpPr/>
                      <p:nvPr/>
                    </p:nvGrpSpPr>
                    <p:grpSpPr>
                      <a:xfrm>
                        <a:off x="3738960" y="4307400"/>
                        <a:ext cx="545760" cy="272520"/>
                        <a:chOff x="3738960" y="4307400"/>
                        <a:chExt cx="545760" cy="272520"/>
                      </a:xfrm>
                    </p:grpSpPr>
                    <p:grpSp>
                      <p:nvGrpSpPr>
                        <p:cNvPr id="3702" name="Group 170"/>
                        <p:cNvGrpSpPr/>
                        <p:nvPr/>
                      </p:nvGrpSpPr>
                      <p:grpSpPr>
                        <a:xfrm>
                          <a:off x="3738960" y="4307400"/>
                          <a:ext cx="545760" cy="272160"/>
                          <a:chOff x="3738960" y="4307400"/>
                          <a:chExt cx="545760" cy="272160"/>
                        </a:xfrm>
                      </p:grpSpPr>
                      <p:sp>
                        <p:nvSpPr>
                          <p:cNvPr id="3703" name="Rectangle 171"/>
                          <p:cNvSpPr/>
                          <p:nvPr/>
                        </p:nvSpPr>
                        <p:spPr>
                          <a:xfrm>
                            <a:off x="373896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04" name="Rectangle 172"/>
                          <p:cNvSpPr/>
                          <p:nvPr/>
                        </p:nvSpPr>
                        <p:spPr>
                          <a:xfrm>
                            <a:off x="401184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05" name="Rectangle 173"/>
                        <p:cNvSpPr/>
                        <p:nvPr/>
                      </p:nvSpPr>
                      <p:spPr>
                        <a:xfrm>
                          <a:off x="373896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06" name="Group 174"/>
                      <p:cNvGrpSpPr/>
                      <p:nvPr/>
                    </p:nvGrpSpPr>
                    <p:grpSpPr>
                      <a:xfrm>
                        <a:off x="3738960" y="4580640"/>
                        <a:ext cx="545760" cy="272520"/>
                        <a:chOff x="3738960" y="4580640"/>
                        <a:chExt cx="545760" cy="272520"/>
                      </a:xfrm>
                    </p:grpSpPr>
                    <p:grpSp>
                      <p:nvGrpSpPr>
                        <p:cNvPr id="3707" name="Group 175"/>
                        <p:cNvGrpSpPr/>
                        <p:nvPr/>
                      </p:nvGrpSpPr>
                      <p:grpSpPr>
                        <a:xfrm>
                          <a:off x="3738960" y="4580640"/>
                          <a:ext cx="545760" cy="272160"/>
                          <a:chOff x="3738960" y="4580640"/>
                          <a:chExt cx="545760" cy="272160"/>
                        </a:xfrm>
                      </p:grpSpPr>
                      <p:sp>
                        <p:nvSpPr>
                          <p:cNvPr id="3708" name="Rectangle 176"/>
                          <p:cNvSpPr/>
                          <p:nvPr/>
                        </p:nvSpPr>
                        <p:spPr>
                          <a:xfrm>
                            <a:off x="373896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09" name="Rectangle 177"/>
                          <p:cNvSpPr/>
                          <p:nvPr/>
                        </p:nvSpPr>
                        <p:spPr>
                          <a:xfrm>
                            <a:off x="401184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10" name="Rectangle 178"/>
                        <p:cNvSpPr/>
                        <p:nvPr/>
                      </p:nvSpPr>
                      <p:spPr>
                        <a:xfrm>
                          <a:off x="373896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11" name="Group 179"/>
                      <p:cNvGrpSpPr/>
                      <p:nvPr/>
                    </p:nvGrpSpPr>
                    <p:grpSpPr>
                      <a:xfrm>
                        <a:off x="3738960" y="4855680"/>
                        <a:ext cx="545760" cy="272520"/>
                        <a:chOff x="3738960" y="4855680"/>
                        <a:chExt cx="545760" cy="272520"/>
                      </a:xfrm>
                    </p:grpSpPr>
                    <p:grpSp>
                      <p:nvGrpSpPr>
                        <p:cNvPr id="3712" name="Group 180"/>
                        <p:cNvGrpSpPr/>
                        <p:nvPr/>
                      </p:nvGrpSpPr>
                      <p:grpSpPr>
                        <a:xfrm>
                          <a:off x="3738960" y="4855680"/>
                          <a:ext cx="545760" cy="272160"/>
                          <a:chOff x="3738960" y="4855680"/>
                          <a:chExt cx="545760" cy="272160"/>
                        </a:xfrm>
                      </p:grpSpPr>
                      <p:sp>
                        <p:nvSpPr>
                          <p:cNvPr id="3713" name="Rectangle 181"/>
                          <p:cNvSpPr/>
                          <p:nvPr/>
                        </p:nvSpPr>
                        <p:spPr>
                          <a:xfrm>
                            <a:off x="373896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14" name="Rectangle 182"/>
                          <p:cNvSpPr/>
                          <p:nvPr/>
                        </p:nvSpPr>
                        <p:spPr>
                          <a:xfrm>
                            <a:off x="401184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15" name="Rectangle 183"/>
                        <p:cNvSpPr/>
                        <p:nvPr/>
                      </p:nvSpPr>
                      <p:spPr>
                        <a:xfrm>
                          <a:off x="373896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16" name="Group 184"/>
                      <p:cNvGrpSpPr/>
                      <p:nvPr/>
                    </p:nvGrpSpPr>
                    <p:grpSpPr>
                      <a:xfrm>
                        <a:off x="3738960" y="5128920"/>
                        <a:ext cx="545760" cy="272520"/>
                        <a:chOff x="3738960" y="5128920"/>
                        <a:chExt cx="545760" cy="272520"/>
                      </a:xfrm>
                    </p:grpSpPr>
                    <p:grpSp>
                      <p:nvGrpSpPr>
                        <p:cNvPr id="3717" name="Group 185"/>
                        <p:cNvGrpSpPr/>
                        <p:nvPr/>
                      </p:nvGrpSpPr>
                      <p:grpSpPr>
                        <a:xfrm>
                          <a:off x="3738960" y="5128920"/>
                          <a:ext cx="545760" cy="272160"/>
                          <a:chOff x="3738960" y="5128920"/>
                          <a:chExt cx="545760" cy="272160"/>
                        </a:xfrm>
                      </p:grpSpPr>
                      <p:sp>
                        <p:nvSpPr>
                          <p:cNvPr id="3718" name="Rectangle 186"/>
                          <p:cNvSpPr/>
                          <p:nvPr/>
                        </p:nvSpPr>
                        <p:spPr>
                          <a:xfrm>
                            <a:off x="373896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19" name="Rectangle 187"/>
                          <p:cNvSpPr/>
                          <p:nvPr/>
                        </p:nvSpPr>
                        <p:spPr>
                          <a:xfrm>
                            <a:off x="401184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20" name="Rectangle 188"/>
                        <p:cNvSpPr/>
                        <p:nvPr/>
                      </p:nvSpPr>
                      <p:spPr>
                        <a:xfrm>
                          <a:off x="373896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21" name="Group 189"/>
                    <p:cNvGrpSpPr/>
                    <p:nvPr/>
                  </p:nvGrpSpPr>
                  <p:grpSpPr>
                    <a:xfrm>
                      <a:off x="4285800" y="4034880"/>
                      <a:ext cx="545040" cy="1366560"/>
                      <a:chOff x="4285800" y="4034880"/>
                      <a:chExt cx="545040" cy="1366560"/>
                    </a:xfrm>
                  </p:grpSpPr>
                  <p:grpSp>
                    <p:nvGrpSpPr>
                      <p:cNvPr id="3722" name="Group 190"/>
                      <p:cNvGrpSpPr/>
                      <p:nvPr/>
                    </p:nvGrpSpPr>
                    <p:grpSpPr>
                      <a:xfrm>
                        <a:off x="4285800" y="4034880"/>
                        <a:ext cx="545040" cy="272160"/>
                        <a:chOff x="4285800" y="4034880"/>
                        <a:chExt cx="545040" cy="272160"/>
                      </a:xfrm>
                    </p:grpSpPr>
                    <p:grpSp>
                      <p:nvGrpSpPr>
                        <p:cNvPr id="3723" name="Group 191"/>
                        <p:cNvGrpSpPr/>
                        <p:nvPr/>
                      </p:nvGrpSpPr>
                      <p:grpSpPr>
                        <a:xfrm>
                          <a:off x="4285800" y="4034880"/>
                          <a:ext cx="545040" cy="271800"/>
                          <a:chOff x="4285800" y="4034880"/>
                          <a:chExt cx="545040" cy="271800"/>
                        </a:xfrm>
                      </p:grpSpPr>
                      <p:sp>
                        <p:nvSpPr>
                          <p:cNvPr id="3724" name="Rectangle 192"/>
                          <p:cNvSpPr/>
                          <p:nvPr/>
                        </p:nvSpPr>
                        <p:spPr>
                          <a:xfrm>
                            <a:off x="428580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25" name="Rectangle 193"/>
                          <p:cNvSpPr/>
                          <p:nvPr/>
                        </p:nvSpPr>
                        <p:spPr>
                          <a:xfrm>
                            <a:off x="455832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26" name="Rectangle 194"/>
                        <p:cNvSpPr/>
                        <p:nvPr/>
                      </p:nvSpPr>
                      <p:spPr>
                        <a:xfrm>
                          <a:off x="428580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27" name="Group 195"/>
                      <p:cNvGrpSpPr/>
                      <p:nvPr/>
                    </p:nvGrpSpPr>
                    <p:grpSpPr>
                      <a:xfrm>
                        <a:off x="4285800" y="4307400"/>
                        <a:ext cx="545040" cy="272520"/>
                        <a:chOff x="4285800" y="4307400"/>
                        <a:chExt cx="545040" cy="272520"/>
                      </a:xfrm>
                    </p:grpSpPr>
                    <p:grpSp>
                      <p:nvGrpSpPr>
                        <p:cNvPr id="3728" name="Group 196"/>
                        <p:cNvGrpSpPr/>
                        <p:nvPr/>
                      </p:nvGrpSpPr>
                      <p:grpSpPr>
                        <a:xfrm>
                          <a:off x="4285800" y="4307400"/>
                          <a:ext cx="545040" cy="272160"/>
                          <a:chOff x="4285800" y="4307400"/>
                          <a:chExt cx="545040" cy="272160"/>
                        </a:xfrm>
                      </p:grpSpPr>
                      <p:sp>
                        <p:nvSpPr>
                          <p:cNvPr id="3729" name="Rectangle 197"/>
                          <p:cNvSpPr/>
                          <p:nvPr/>
                        </p:nvSpPr>
                        <p:spPr>
                          <a:xfrm>
                            <a:off x="428580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30" name="Rectangle 198"/>
                          <p:cNvSpPr/>
                          <p:nvPr/>
                        </p:nvSpPr>
                        <p:spPr>
                          <a:xfrm>
                            <a:off x="455832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31" name="Rectangle 199"/>
                        <p:cNvSpPr/>
                        <p:nvPr/>
                      </p:nvSpPr>
                      <p:spPr>
                        <a:xfrm>
                          <a:off x="428580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2" name="Group 200"/>
                      <p:cNvGrpSpPr/>
                      <p:nvPr/>
                    </p:nvGrpSpPr>
                    <p:grpSpPr>
                      <a:xfrm>
                        <a:off x="4285800" y="4580640"/>
                        <a:ext cx="545040" cy="272520"/>
                        <a:chOff x="4285800" y="4580640"/>
                        <a:chExt cx="545040" cy="272520"/>
                      </a:xfrm>
                    </p:grpSpPr>
                    <p:grpSp>
                      <p:nvGrpSpPr>
                        <p:cNvPr id="3733" name="Group 201"/>
                        <p:cNvGrpSpPr/>
                        <p:nvPr/>
                      </p:nvGrpSpPr>
                      <p:grpSpPr>
                        <a:xfrm>
                          <a:off x="4285800" y="4580640"/>
                          <a:ext cx="545040" cy="272160"/>
                          <a:chOff x="4285800" y="4580640"/>
                          <a:chExt cx="545040" cy="272160"/>
                        </a:xfrm>
                      </p:grpSpPr>
                      <p:sp>
                        <p:nvSpPr>
                          <p:cNvPr id="3734" name="Rectangle 202"/>
                          <p:cNvSpPr/>
                          <p:nvPr/>
                        </p:nvSpPr>
                        <p:spPr>
                          <a:xfrm>
                            <a:off x="428580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35" name="Rectangle 203"/>
                          <p:cNvSpPr/>
                          <p:nvPr/>
                        </p:nvSpPr>
                        <p:spPr>
                          <a:xfrm>
                            <a:off x="455832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36" name="Rectangle 204"/>
                        <p:cNvSpPr/>
                        <p:nvPr/>
                      </p:nvSpPr>
                      <p:spPr>
                        <a:xfrm>
                          <a:off x="428580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7" name="Group 205"/>
                      <p:cNvGrpSpPr/>
                      <p:nvPr/>
                    </p:nvGrpSpPr>
                    <p:grpSpPr>
                      <a:xfrm>
                        <a:off x="4285800" y="4855680"/>
                        <a:ext cx="545040" cy="272520"/>
                        <a:chOff x="4285800" y="4855680"/>
                        <a:chExt cx="545040" cy="272520"/>
                      </a:xfrm>
                    </p:grpSpPr>
                    <p:grpSp>
                      <p:nvGrpSpPr>
                        <p:cNvPr id="3738" name="Group 206"/>
                        <p:cNvGrpSpPr/>
                        <p:nvPr/>
                      </p:nvGrpSpPr>
                      <p:grpSpPr>
                        <a:xfrm>
                          <a:off x="4285800" y="4855680"/>
                          <a:ext cx="545040" cy="272160"/>
                          <a:chOff x="4285800" y="4855680"/>
                          <a:chExt cx="545040" cy="272160"/>
                        </a:xfrm>
                      </p:grpSpPr>
                      <p:sp>
                        <p:nvSpPr>
                          <p:cNvPr id="3739" name="Rectangle 207"/>
                          <p:cNvSpPr/>
                          <p:nvPr/>
                        </p:nvSpPr>
                        <p:spPr>
                          <a:xfrm>
                            <a:off x="428580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40" name="Rectangle 208"/>
                          <p:cNvSpPr/>
                          <p:nvPr/>
                        </p:nvSpPr>
                        <p:spPr>
                          <a:xfrm>
                            <a:off x="455832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41" name="Rectangle 209"/>
                        <p:cNvSpPr/>
                        <p:nvPr/>
                      </p:nvSpPr>
                      <p:spPr>
                        <a:xfrm>
                          <a:off x="428580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42" name="Group 210"/>
                      <p:cNvGrpSpPr/>
                      <p:nvPr/>
                    </p:nvGrpSpPr>
                    <p:grpSpPr>
                      <a:xfrm>
                        <a:off x="4285800" y="5128920"/>
                        <a:ext cx="545040" cy="272520"/>
                        <a:chOff x="4285800" y="5128920"/>
                        <a:chExt cx="545040" cy="272520"/>
                      </a:xfrm>
                    </p:grpSpPr>
                    <p:grpSp>
                      <p:nvGrpSpPr>
                        <p:cNvPr id="3743" name="Group 211"/>
                        <p:cNvGrpSpPr/>
                        <p:nvPr/>
                      </p:nvGrpSpPr>
                      <p:grpSpPr>
                        <a:xfrm>
                          <a:off x="4285800" y="5128920"/>
                          <a:ext cx="545040" cy="272160"/>
                          <a:chOff x="4285800" y="5128920"/>
                          <a:chExt cx="545040" cy="272160"/>
                        </a:xfrm>
                      </p:grpSpPr>
                      <p:sp>
                        <p:nvSpPr>
                          <p:cNvPr id="3744" name="Rectangle 212"/>
                          <p:cNvSpPr/>
                          <p:nvPr/>
                        </p:nvSpPr>
                        <p:spPr>
                          <a:xfrm>
                            <a:off x="428580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45" name="Rectangle 213"/>
                          <p:cNvSpPr/>
                          <p:nvPr/>
                        </p:nvSpPr>
                        <p:spPr>
                          <a:xfrm>
                            <a:off x="455832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46" name="Rectangle 214"/>
                        <p:cNvSpPr/>
                        <p:nvPr/>
                      </p:nvSpPr>
                      <p:spPr>
                        <a:xfrm>
                          <a:off x="428580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47" name="Group 215"/>
                    <p:cNvGrpSpPr/>
                    <p:nvPr/>
                  </p:nvGrpSpPr>
                  <p:grpSpPr>
                    <a:xfrm>
                      <a:off x="4834080" y="4034880"/>
                      <a:ext cx="545760" cy="1366560"/>
                      <a:chOff x="4834080" y="4034880"/>
                      <a:chExt cx="545760" cy="1366560"/>
                    </a:xfrm>
                  </p:grpSpPr>
                  <p:grpSp>
                    <p:nvGrpSpPr>
                      <p:cNvPr id="3748" name="Group 216"/>
                      <p:cNvGrpSpPr/>
                      <p:nvPr/>
                    </p:nvGrpSpPr>
                    <p:grpSpPr>
                      <a:xfrm>
                        <a:off x="4834080" y="4034880"/>
                        <a:ext cx="545760" cy="272160"/>
                        <a:chOff x="4834080" y="4034880"/>
                        <a:chExt cx="545760" cy="272160"/>
                      </a:xfrm>
                    </p:grpSpPr>
                    <p:grpSp>
                      <p:nvGrpSpPr>
                        <p:cNvPr id="3749" name="Group 217"/>
                        <p:cNvGrpSpPr/>
                        <p:nvPr/>
                      </p:nvGrpSpPr>
                      <p:grpSpPr>
                        <a:xfrm>
                          <a:off x="4834080" y="4034880"/>
                          <a:ext cx="545760" cy="271800"/>
                          <a:chOff x="4834080" y="4034880"/>
                          <a:chExt cx="545760" cy="271800"/>
                        </a:xfrm>
                      </p:grpSpPr>
                      <p:sp>
                        <p:nvSpPr>
                          <p:cNvPr id="3750" name="Rectangle 218"/>
                          <p:cNvSpPr/>
                          <p:nvPr/>
                        </p:nvSpPr>
                        <p:spPr>
                          <a:xfrm>
                            <a:off x="483408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51" name="Rectangle 219"/>
                          <p:cNvSpPr/>
                          <p:nvPr/>
                        </p:nvSpPr>
                        <p:spPr>
                          <a:xfrm>
                            <a:off x="510696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52" name="Rectangle 220"/>
                        <p:cNvSpPr/>
                        <p:nvPr/>
                      </p:nvSpPr>
                      <p:spPr>
                        <a:xfrm>
                          <a:off x="483408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53" name="Group 221"/>
                      <p:cNvGrpSpPr/>
                      <p:nvPr/>
                    </p:nvGrpSpPr>
                    <p:grpSpPr>
                      <a:xfrm>
                        <a:off x="4834080" y="4307400"/>
                        <a:ext cx="545760" cy="272520"/>
                        <a:chOff x="4834080" y="4307400"/>
                        <a:chExt cx="545760" cy="272520"/>
                      </a:xfrm>
                    </p:grpSpPr>
                    <p:grpSp>
                      <p:nvGrpSpPr>
                        <p:cNvPr id="3754" name="Group 222"/>
                        <p:cNvGrpSpPr/>
                        <p:nvPr/>
                      </p:nvGrpSpPr>
                      <p:grpSpPr>
                        <a:xfrm>
                          <a:off x="4834080" y="4307400"/>
                          <a:ext cx="545760" cy="272160"/>
                          <a:chOff x="4834080" y="4307400"/>
                          <a:chExt cx="545760" cy="272160"/>
                        </a:xfrm>
                      </p:grpSpPr>
                      <p:sp>
                        <p:nvSpPr>
                          <p:cNvPr id="3755" name="Rectangle 223"/>
                          <p:cNvSpPr/>
                          <p:nvPr/>
                        </p:nvSpPr>
                        <p:spPr>
                          <a:xfrm>
                            <a:off x="483408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56" name="Rectangle 224"/>
                          <p:cNvSpPr/>
                          <p:nvPr/>
                        </p:nvSpPr>
                        <p:spPr>
                          <a:xfrm>
                            <a:off x="510696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57" name="Rectangle 225"/>
                        <p:cNvSpPr/>
                        <p:nvPr/>
                      </p:nvSpPr>
                      <p:spPr>
                        <a:xfrm>
                          <a:off x="483408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58" name="Group 226"/>
                      <p:cNvGrpSpPr/>
                      <p:nvPr/>
                    </p:nvGrpSpPr>
                    <p:grpSpPr>
                      <a:xfrm>
                        <a:off x="4834080" y="4580640"/>
                        <a:ext cx="545760" cy="272520"/>
                        <a:chOff x="4834080" y="4580640"/>
                        <a:chExt cx="545760" cy="272520"/>
                      </a:xfrm>
                    </p:grpSpPr>
                    <p:grpSp>
                      <p:nvGrpSpPr>
                        <p:cNvPr id="3759" name="Group 227"/>
                        <p:cNvGrpSpPr/>
                        <p:nvPr/>
                      </p:nvGrpSpPr>
                      <p:grpSpPr>
                        <a:xfrm>
                          <a:off x="4834080" y="4580640"/>
                          <a:ext cx="545760" cy="272160"/>
                          <a:chOff x="4834080" y="4580640"/>
                          <a:chExt cx="545760" cy="272160"/>
                        </a:xfrm>
                      </p:grpSpPr>
                      <p:sp>
                        <p:nvSpPr>
                          <p:cNvPr id="3760" name="Rectangle 228"/>
                          <p:cNvSpPr/>
                          <p:nvPr/>
                        </p:nvSpPr>
                        <p:spPr>
                          <a:xfrm>
                            <a:off x="483408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61" name="Rectangle 229"/>
                          <p:cNvSpPr/>
                          <p:nvPr/>
                        </p:nvSpPr>
                        <p:spPr>
                          <a:xfrm>
                            <a:off x="510696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62" name="Rectangle 230"/>
                        <p:cNvSpPr/>
                        <p:nvPr/>
                      </p:nvSpPr>
                      <p:spPr>
                        <a:xfrm>
                          <a:off x="483408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63" name="Group 231"/>
                      <p:cNvGrpSpPr/>
                      <p:nvPr/>
                    </p:nvGrpSpPr>
                    <p:grpSpPr>
                      <a:xfrm>
                        <a:off x="4834080" y="4855680"/>
                        <a:ext cx="545760" cy="272520"/>
                        <a:chOff x="4834080" y="4855680"/>
                        <a:chExt cx="545760" cy="272520"/>
                      </a:xfrm>
                    </p:grpSpPr>
                    <p:grpSp>
                      <p:nvGrpSpPr>
                        <p:cNvPr id="3764" name="Group 232"/>
                        <p:cNvGrpSpPr/>
                        <p:nvPr/>
                      </p:nvGrpSpPr>
                      <p:grpSpPr>
                        <a:xfrm>
                          <a:off x="4834080" y="4855680"/>
                          <a:ext cx="545760" cy="272160"/>
                          <a:chOff x="4834080" y="4855680"/>
                          <a:chExt cx="545760" cy="272160"/>
                        </a:xfrm>
                      </p:grpSpPr>
                      <p:sp>
                        <p:nvSpPr>
                          <p:cNvPr id="3765" name="Rectangle 233"/>
                          <p:cNvSpPr/>
                          <p:nvPr/>
                        </p:nvSpPr>
                        <p:spPr>
                          <a:xfrm>
                            <a:off x="483408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66" name="Rectangle 234"/>
                          <p:cNvSpPr/>
                          <p:nvPr/>
                        </p:nvSpPr>
                        <p:spPr>
                          <a:xfrm>
                            <a:off x="510696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67" name="Rectangle 235"/>
                        <p:cNvSpPr/>
                        <p:nvPr/>
                      </p:nvSpPr>
                      <p:spPr>
                        <a:xfrm>
                          <a:off x="483408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68" name="Group 236"/>
                      <p:cNvGrpSpPr/>
                      <p:nvPr/>
                    </p:nvGrpSpPr>
                    <p:grpSpPr>
                      <a:xfrm>
                        <a:off x="4834080" y="5128920"/>
                        <a:ext cx="545760" cy="272520"/>
                        <a:chOff x="4834080" y="5128920"/>
                        <a:chExt cx="545760" cy="272520"/>
                      </a:xfrm>
                    </p:grpSpPr>
                    <p:grpSp>
                      <p:nvGrpSpPr>
                        <p:cNvPr id="3769" name="Group 237"/>
                        <p:cNvGrpSpPr/>
                        <p:nvPr/>
                      </p:nvGrpSpPr>
                      <p:grpSpPr>
                        <a:xfrm>
                          <a:off x="4834080" y="5128920"/>
                          <a:ext cx="545760" cy="272160"/>
                          <a:chOff x="4834080" y="5128920"/>
                          <a:chExt cx="545760" cy="272160"/>
                        </a:xfrm>
                      </p:grpSpPr>
                      <p:sp>
                        <p:nvSpPr>
                          <p:cNvPr id="3770" name="Rectangle 238"/>
                          <p:cNvSpPr/>
                          <p:nvPr/>
                        </p:nvSpPr>
                        <p:spPr>
                          <a:xfrm>
                            <a:off x="483408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71" name="Rectangle 239"/>
                          <p:cNvSpPr/>
                          <p:nvPr/>
                        </p:nvSpPr>
                        <p:spPr>
                          <a:xfrm>
                            <a:off x="510696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72" name="Rectangle 240"/>
                        <p:cNvSpPr/>
                        <p:nvPr/>
                      </p:nvSpPr>
                      <p:spPr>
                        <a:xfrm>
                          <a:off x="483408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73" name="Group 241"/>
                    <p:cNvGrpSpPr/>
                    <p:nvPr/>
                  </p:nvGrpSpPr>
                  <p:grpSpPr>
                    <a:xfrm>
                      <a:off x="5380920" y="4034880"/>
                      <a:ext cx="545040" cy="1366560"/>
                      <a:chOff x="5380920" y="4034880"/>
                      <a:chExt cx="545040" cy="1366560"/>
                    </a:xfrm>
                  </p:grpSpPr>
                  <p:grpSp>
                    <p:nvGrpSpPr>
                      <p:cNvPr id="3774" name="Group 242"/>
                      <p:cNvGrpSpPr/>
                      <p:nvPr/>
                    </p:nvGrpSpPr>
                    <p:grpSpPr>
                      <a:xfrm>
                        <a:off x="5380920" y="4034880"/>
                        <a:ext cx="545040" cy="272160"/>
                        <a:chOff x="5380920" y="4034880"/>
                        <a:chExt cx="545040" cy="272160"/>
                      </a:xfrm>
                    </p:grpSpPr>
                    <p:grpSp>
                      <p:nvGrpSpPr>
                        <p:cNvPr id="3775" name="Group 243"/>
                        <p:cNvGrpSpPr/>
                        <p:nvPr/>
                      </p:nvGrpSpPr>
                      <p:grpSpPr>
                        <a:xfrm>
                          <a:off x="5380920" y="4034880"/>
                          <a:ext cx="545040" cy="271800"/>
                          <a:chOff x="5380920" y="4034880"/>
                          <a:chExt cx="545040" cy="271800"/>
                        </a:xfrm>
                      </p:grpSpPr>
                      <p:sp>
                        <p:nvSpPr>
                          <p:cNvPr id="3776" name="Rectangle 244"/>
                          <p:cNvSpPr/>
                          <p:nvPr/>
                        </p:nvSpPr>
                        <p:spPr>
                          <a:xfrm>
                            <a:off x="538092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77" name="Rectangle 245"/>
                          <p:cNvSpPr/>
                          <p:nvPr/>
                        </p:nvSpPr>
                        <p:spPr>
                          <a:xfrm>
                            <a:off x="565344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78" name="Rectangle 246"/>
                        <p:cNvSpPr/>
                        <p:nvPr/>
                      </p:nvSpPr>
                      <p:spPr>
                        <a:xfrm>
                          <a:off x="538092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79" name="Group 247"/>
                      <p:cNvGrpSpPr/>
                      <p:nvPr/>
                    </p:nvGrpSpPr>
                    <p:grpSpPr>
                      <a:xfrm>
                        <a:off x="5380920" y="4307400"/>
                        <a:ext cx="545040" cy="272520"/>
                        <a:chOff x="5380920" y="4307400"/>
                        <a:chExt cx="545040" cy="272520"/>
                      </a:xfrm>
                    </p:grpSpPr>
                    <p:grpSp>
                      <p:nvGrpSpPr>
                        <p:cNvPr id="3780" name="Group 248"/>
                        <p:cNvGrpSpPr/>
                        <p:nvPr/>
                      </p:nvGrpSpPr>
                      <p:grpSpPr>
                        <a:xfrm>
                          <a:off x="5380920" y="4307400"/>
                          <a:ext cx="545040" cy="272160"/>
                          <a:chOff x="5380920" y="4307400"/>
                          <a:chExt cx="545040" cy="272160"/>
                        </a:xfrm>
                      </p:grpSpPr>
                      <p:sp>
                        <p:nvSpPr>
                          <p:cNvPr id="3781" name="Rectangle 249"/>
                          <p:cNvSpPr/>
                          <p:nvPr/>
                        </p:nvSpPr>
                        <p:spPr>
                          <a:xfrm>
                            <a:off x="538092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82" name="Rectangle 250"/>
                          <p:cNvSpPr/>
                          <p:nvPr/>
                        </p:nvSpPr>
                        <p:spPr>
                          <a:xfrm>
                            <a:off x="565344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83" name="Rectangle 251"/>
                        <p:cNvSpPr/>
                        <p:nvPr/>
                      </p:nvSpPr>
                      <p:spPr>
                        <a:xfrm>
                          <a:off x="538092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4" name="Group 252"/>
                      <p:cNvGrpSpPr/>
                      <p:nvPr/>
                    </p:nvGrpSpPr>
                    <p:grpSpPr>
                      <a:xfrm>
                        <a:off x="5380920" y="4580640"/>
                        <a:ext cx="545040" cy="272520"/>
                        <a:chOff x="5380920" y="4580640"/>
                        <a:chExt cx="545040" cy="272520"/>
                      </a:xfrm>
                    </p:grpSpPr>
                    <p:grpSp>
                      <p:nvGrpSpPr>
                        <p:cNvPr id="3785" name="Group 253"/>
                        <p:cNvGrpSpPr/>
                        <p:nvPr/>
                      </p:nvGrpSpPr>
                      <p:grpSpPr>
                        <a:xfrm>
                          <a:off x="5380920" y="4580640"/>
                          <a:ext cx="545040" cy="272160"/>
                          <a:chOff x="5380920" y="4580640"/>
                          <a:chExt cx="545040" cy="272160"/>
                        </a:xfrm>
                      </p:grpSpPr>
                      <p:sp>
                        <p:nvSpPr>
                          <p:cNvPr id="3786" name="Rectangle 254"/>
                          <p:cNvSpPr/>
                          <p:nvPr/>
                        </p:nvSpPr>
                        <p:spPr>
                          <a:xfrm>
                            <a:off x="538092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87" name="Rectangle 255"/>
                          <p:cNvSpPr/>
                          <p:nvPr/>
                        </p:nvSpPr>
                        <p:spPr>
                          <a:xfrm>
                            <a:off x="565344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88" name="Rectangle 256"/>
                        <p:cNvSpPr/>
                        <p:nvPr/>
                      </p:nvSpPr>
                      <p:spPr>
                        <a:xfrm>
                          <a:off x="538092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9" name="Group 257"/>
                      <p:cNvGrpSpPr/>
                      <p:nvPr/>
                    </p:nvGrpSpPr>
                    <p:grpSpPr>
                      <a:xfrm>
                        <a:off x="5380920" y="4855680"/>
                        <a:ext cx="545040" cy="272520"/>
                        <a:chOff x="5380920" y="4855680"/>
                        <a:chExt cx="545040" cy="272520"/>
                      </a:xfrm>
                    </p:grpSpPr>
                    <p:grpSp>
                      <p:nvGrpSpPr>
                        <p:cNvPr id="3790" name="Group 258"/>
                        <p:cNvGrpSpPr/>
                        <p:nvPr/>
                      </p:nvGrpSpPr>
                      <p:grpSpPr>
                        <a:xfrm>
                          <a:off x="5380920" y="4855680"/>
                          <a:ext cx="545040" cy="272160"/>
                          <a:chOff x="5380920" y="4855680"/>
                          <a:chExt cx="545040" cy="272160"/>
                        </a:xfrm>
                      </p:grpSpPr>
                      <p:sp>
                        <p:nvSpPr>
                          <p:cNvPr id="3791" name="Rectangle 259"/>
                          <p:cNvSpPr/>
                          <p:nvPr/>
                        </p:nvSpPr>
                        <p:spPr>
                          <a:xfrm>
                            <a:off x="538092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92" name="Rectangle 260"/>
                          <p:cNvSpPr/>
                          <p:nvPr/>
                        </p:nvSpPr>
                        <p:spPr>
                          <a:xfrm>
                            <a:off x="565344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93" name="Rectangle 261"/>
                        <p:cNvSpPr/>
                        <p:nvPr/>
                      </p:nvSpPr>
                      <p:spPr>
                        <a:xfrm>
                          <a:off x="538092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94" name="Group 262"/>
                      <p:cNvGrpSpPr/>
                      <p:nvPr/>
                    </p:nvGrpSpPr>
                    <p:grpSpPr>
                      <a:xfrm>
                        <a:off x="5380920" y="5128920"/>
                        <a:ext cx="545040" cy="272520"/>
                        <a:chOff x="5380920" y="5128920"/>
                        <a:chExt cx="545040" cy="272520"/>
                      </a:xfrm>
                    </p:grpSpPr>
                    <p:grpSp>
                      <p:nvGrpSpPr>
                        <p:cNvPr id="3795" name="Group 263"/>
                        <p:cNvGrpSpPr/>
                        <p:nvPr/>
                      </p:nvGrpSpPr>
                      <p:grpSpPr>
                        <a:xfrm>
                          <a:off x="5380920" y="5128920"/>
                          <a:ext cx="545040" cy="272160"/>
                          <a:chOff x="5380920" y="5128920"/>
                          <a:chExt cx="545040" cy="272160"/>
                        </a:xfrm>
                      </p:grpSpPr>
                      <p:sp>
                        <p:nvSpPr>
                          <p:cNvPr id="3796" name="Rectangle 264"/>
                          <p:cNvSpPr/>
                          <p:nvPr/>
                        </p:nvSpPr>
                        <p:spPr>
                          <a:xfrm>
                            <a:off x="538092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97" name="Rectangle 265"/>
                          <p:cNvSpPr/>
                          <p:nvPr/>
                        </p:nvSpPr>
                        <p:spPr>
                          <a:xfrm>
                            <a:off x="565344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98" name="Rectangle 266"/>
                        <p:cNvSpPr/>
                        <p:nvPr/>
                      </p:nvSpPr>
                      <p:spPr>
                        <a:xfrm>
                          <a:off x="538092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799" name="Group 268"/>
                <p:cNvGrpSpPr/>
                <p:nvPr/>
              </p:nvGrpSpPr>
              <p:grpSpPr>
                <a:xfrm>
                  <a:off x="5928480" y="2666880"/>
                  <a:ext cx="2733480" cy="2734560"/>
                  <a:chOff x="5928480" y="2666880"/>
                  <a:chExt cx="2733480" cy="2734560"/>
                </a:xfrm>
              </p:grpSpPr>
              <p:grpSp>
                <p:nvGrpSpPr>
                  <p:cNvPr id="3800" name="Group 269"/>
                  <p:cNvGrpSpPr/>
                  <p:nvPr/>
                </p:nvGrpSpPr>
                <p:grpSpPr>
                  <a:xfrm>
                    <a:off x="5928480" y="2666880"/>
                    <a:ext cx="2733480" cy="1366560"/>
                    <a:chOff x="5928480" y="2666880"/>
                    <a:chExt cx="2733480" cy="1366560"/>
                  </a:xfrm>
                </p:grpSpPr>
                <p:grpSp>
                  <p:nvGrpSpPr>
                    <p:cNvPr id="3801" name="Group 270"/>
                    <p:cNvGrpSpPr/>
                    <p:nvPr/>
                  </p:nvGrpSpPr>
                  <p:grpSpPr>
                    <a:xfrm>
                      <a:off x="5928480" y="2666880"/>
                      <a:ext cx="545040" cy="1366560"/>
                      <a:chOff x="5928480" y="2666880"/>
                      <a:chExt cx="545040" cy="1366560"/>
                    </a:xfrm>
                  </p:grpSpPr>
                  <p:grpSp>
                    <p:nvGrpSpPr>
                      <p:cNvPr id="3802" name="Group 271"/>
                      <p:cNvGrpSpPr/>
                      <p:nvPr/>
                    </p:nvGrpSpPr>
                    <p:grpSpPr>
                      <a:xfrm>
                        <a:off x="5928480" y="2666880"/>
                        <a:ext cx="545040" cy="272160"/>
                        <a:chOff x="5928480" y="2666880"/>
                        <a:chExt cx="545040" cy="272160"/>
                      </a:xfrm>
                    </p:grpSpPr>
                    <p:grpSp>
                      <p:nvGrpSpPr>
                        <p:cNvPr id="3803" name="Group 272"/>
                        <p:cNvGrpSpPr/>
                        <p:nvPr/>
                      </p:nvGrpSpPr>
                      <p:grpSpPr>
                        <a:xfrm>
                          <a:off x="5928480" y="2666880"/>
                          <a:ext cx="545040" cy="271800"/>
                          <a:chOff x="5928480" y="2666880"/>
                          <a:chExt cx="545040" cy="271800"/>
                        </a:xfrm>
                      </p:grpSpPr>
                      <p:sp>
                        <p:nvSpPr>
                          <p:cNvPr id="3804" name="Rectangle 273"/>
                          <p:cNvSpPr/>
                          <p:nvPr/>
                        </p:nvSpPr>
                        <p:spPr>
                          <a:xfrm>
                            <a:off x="592848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05" name="Rectangle 274"/>
                          <p:cNvSpPr/>
                          <p:nvPr/>
                        </p:nvSpPr>
                        <p:spPr>
                          <a:xfrm>
                            <a:off x="620100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06" name="Rectangle 275"/>
                        <p:cNvSpPr/>
                        <p:nvPr/>
                      </p:nvSpPr>
                      <p:spPr>
                        <a:xfrm>
                          <a:off x="592848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07" name="Group 276"/>
                      <p:cNvGrpSpPr/>
                      <p:nvPr/>
                    </p:nvGrpSpPr>
                    <p:grpSpPr>
                      <a:xfrm>
                        <a:off x="5928480" y="2939400"/>
                        <a:ext cx="545040" cy="272520"/>
                        <a:chOff x="5928480" y="2939400"/>
                        <a:chExt cx="545040" cy="272520"/>
                      </a:xfrm>
                    </p:grpSpPr>
                    <p:grpSp>
                      <p:nvGrpSpPr>
                        <p:cNvPr id="3808" name="Group 277"/>
                        <p:cNvGrpSpPr/>
                        <p:nvPr/>
                      </p:nvGrpSpPr>
                      <p:grpSpPr>
                        <a:xfrm>
                          <a:off x="5928480" y="2939400"/>
                          <a:ext cx="545040" cy="272160"/>
                          <a:chOff x="5928480" y="2939400"/>
                          <a:chExt cx="545040" cy="272160"/>
                        </a:xfrm>
                      </p:grpSpPr>
                      <p:sp>
                        <p:nvSpPr>
                          <p:cNvPr id="3809" name="Rectangle 278"/>
                          <p:cNvSpPr/>
                          <p:nvPr/>
                        </p:nvSpPr>
                        <p:spPr>
                          <a:xfrm>
                            <a:off x="592848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10" name="Rectangle 279"/>
                          <p:cNvSpPr/>
                          <p:nvPr/>
                        </p:nvSpPr>
                        <p:spPr>
                          <a:xfrm>
                            <a:off x="620100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11" name="Rectangle 280"/>
                        <p:cNvSpPr/>
                        <p:nvPr/>
                      </p:nvSpPr>
                      <p:spPr>
                        <a:xfrm>
                          <a:off x="592848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12" name="Group 281"/>
                      <p:cNvGrpSpPr/>
                      <p:nvPr/>
                    </p:nvGrpSpPr>
                    <p:grpSpPr>
                      <a:xfrm>
                        <a:off x="5928480" y="3212640"/>
                        <a:ext cx="545040" cy="272520"/>
                        <a:chOff x="5928480" y="3212640"/>
                        <a:chExt cx="545040" cy="272520"/>
                      </a:xfrm>
                    </p:grpSpPr>
                    <p:grpSp>
                      <p:nvGrpSpPr>
                        <p:cNvPr id="3813" name="Group 282"/>
                        <p:cNvGrpSpPr/>
                        <p:nvPr/>
                      </p:nvGrpSpPr>
                      <p:grpSpPr>
                        <a:xfrm>
                          <a:off x="5928480" y="3212640"/>
                          <a:ext cx="545040" cy="272160"/>
                          <a:chOff x="5928480" y="3212640"/>
                          <a:chExt cx="545040" cy="272160"/>
                        </a:xfrm>
                      </p:grpSpPr>
                      <p:sp>
                        <p:nvSpPr>
                          <p:cNvPr id="3814" name="Rectangle 283"/>
                          <p:cNvSpPr/>
                          <p:nvPr/>
                        </p:nvSpPr>
                        <p:spPr>
                          <a:xfrm>
                            <a:off x="592848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15" name="Rectangle 284"/>
                          <p:cNvSpPr/>
                          <p:nvPr/>
                        </p:nvSpPr>
                        <p:spPr>
                          <a:xfrm>
                            <a:off x="620100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16" name="Rectangle 285"/>
                        <p:cNvSpPr/>
                        <p:nvPr/>
                      </p:nvSpPr>
                      <p:spPr>
                        <a:xfrm>
                          <a:off x="592848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17" name="Group 286"/>
                      <p:cNvGrpSpPr/>
                      <p:nvPr/>
                    </p:nvGrpSpPr>
                    <p:grpSpPr>
                      <a:xfrm>
                        <a:off x="5928480" y="3487680"/>
                        <a:ext cx="545040" cy="272520"/>
                        <a:chOff x="5928480" y="3487680"/>
                        <a:chExt cx="545040" cy="272520"/>
                      </a:xfrm>
                    </p:grpSpPr>
                    <p:grpSp>
                      <p:nvGrpSpPr>
                        <p:cNvPr id="3818" name="Group 287"/>
                        <p:cNvGrpSpPr/>
                        <p:nvPr/>
                      </p:nvGrpSpPr>
                      <p:grpSpPr>
                        <a:xfrm>
                          <a:off x="5928480" y="3487680"/>
                          <a:ext cx="545040" cy="272160"/>
                          <a:chOff x="5928480" y="3487680"/>
                          <a:chExt cx="545040" cy="272160"/>
                        </a:xfrm>
                      </p:grpSpPr>
                      <p:sp>
                        <p:nvSpPr>
                          <p:cNvPr id="3819" name="Rectangle 288"/>
                          <p:cNvSpPr/>
                          <p:nvPr/>
                        </p:nvSpPr>
                        <p:spPr>
                          <a:xfrm>
                            <a:off x="592848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20" name="Rectangle 289"/>
                          <p:cNvSpPr/>
                          <p:nvPr/>
                        </p:nvSpPr>
                        <p:spPr>
                          <a:xfrm>
                            <a:off x="620100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21" name="Rectangle 290"/>
                        <p:cNvSpPr/>
                        <p:nvPr/>
                      </p:nvSpPr>
                      <p:spPr>
                        <a:xfrm>
                          <a:off x="592848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22" name="Group 291"/>
                      <p:cNvGrpSpPr/>
                      <p:nvPr/>
                    </p:nvGrpSpPr>
                    <p:grpSpPr>
                      <a:xfrm>
                        <a:off x="5928480" y="3760920"/>
                        <a:ext cx="545040" cy="272520"/>
                        <a:chOff x="5928480" y="3760920"/>
                        <a:chExt cx="545040" cy="272520"/>
                      </a:xfrm>
                    </p:grpSpPr>
                    <p:grpSp>
                      <p:nvGrpSpPr>
                        <p:cNvPr id="3823" name="Group 292"/>
                        <p:cNvGrpSpPr/>
                        <p:nvPr/>
                      </p:nvGrpSpPr>
                      <p:grpSpPr>
                        <a:xfrm>
                          <a:off x="5928480" y="3760920"/>
                          <a:ext cx="545040" cy="272160"/>
                          <a:chOff x="5928480" y="3760920"/>
                          <a:chExt cx="545040" cy="272160"/>
                        </a:xfrm>
                      </p:grpSpPr>
                      <p:sp>
                        <p:nvSpPr>
                          <p:cNvPr id="3824" name="Rectangle 293"/>
                          <p:cNvSpPr/>
                          <p:nvPr/>
                        </p:nvSpPr>
                        <p:spPr>
                          <a:xfrm>
                            <a:off x="592848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25" name="Rectangle 294"/>
                          <p:cNvSpPr/>
                          <p:nvPr/>
                        </p:nvSpPr>
                        <p:spPr>
                          <a:xfrm>
                            <a:off x="620100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26" name="Rectangle 295"/>
                        <p:cNvSpPr/>
                        <p:nvPr/>
                      </p:nvSpPr>
                      <p:spPr>
                        <a:xfrm>
                          <a:off x="592848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827" name="Group 296"/>
                    <p:cNvGrpSpPr/>
                    <p:nvPr/>
                  </p:nvGrpSpPr>
                  <p:grpSpPr>
                    <a:xfrm>
                      <a:off x="6474960" y="2666880"/>
                      <a:ext cx="545760" cy="1366560"/>
                      <a:chOff x="6474960" y="2666880"/>
                      <a:chExt cx="545760" cy="1366560"/>
                    </a:xfrm>
                  </p:grpSpPr>
                  <p:grpSp>
                    <p:nvGrpSpPr>
                      <p:cNvPr id="3828" name="Group 297"/>
                      <p:cNvGrpSpPr/>
                      <p:nvPr/>
                    </p:nvGrpSpPr>
                    <p:grpSpPr>
                      <a:xfrm>
                        <a:off x="6474960" y="2666880"/>
                        <a:ext cx="545760" cy="272160"/>
                        <a:chOff x="6474960" y="2666880"/>
                        <a:chExt cx="545760" cy="272160"/>
                      </a:xfrm>
                    </p:grpSpPr>
                    <p:grpSp>
                      <p:nvGrpSpPr>
                        <p:cNvPr id="3829" name="Group 298"/>
                        <p:cNvGrpSpPr/>
                        <p:nvPr/>
                      </p:nvGrpSpPr>
                      <p:grpSpPr>
                        <a:xfrm>
                          <a:off x="6474960" y="2666880"/>
                          <a:ext cx="545760" cy="271800"/>
                          <a:chOff x="6474960" y="2666880"/>
                          <a:chExt cx="545760" cy="271800"/>
                        </a:xfrm>
                      </p:grpSpPr>
                      <p:sp>
                        <p:nvSpPr>
                          <p:cNvPr id="3830" name="Rectangle 299"/>
                          <p:cNvSpPr/>
                          <p:nvPr/>
                        </p:nvSpPr>
                        <p:spPr>
                          <a:xfrm>
                            <a:off x="647496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31" name="Rectangle 300"/>
                          <p:cNvSpPr/>
                          <p:nvPr/>
                        </p:nvSpPr>
                        <p:spPr>
                          <a:xfrm>
                            <a:off x="674784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32" name="Rectangle 301"/>
                        <p:cNvSpPr/>
                        <p:nvPr/>
                      </p:nvSpPr>
                      <p:spPr>
                        <a:xfrm>
                          <a:off x="647496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3" name="Group 302"/>
                      <p:cNvGrpSpPr/>
                      <p:nvPr/>
                    </p:nvGrpSpPr>
                    <p:grpSpPr>
                      <a:xfrm>
                        <a:off x="6474960" y="2939400"/>
                        <a:ext cx="545760" cy="272520"/>
                        <a:chOff x="6474960" y="2939400"/>
                        <a:chExt cx="545760" cy="272520"/>
                      </a:xfrm>
                    </p:grpSpPr>
                    <p:grpSp>
                      <p:nvGrpSpPr>
                        <p:cNvPr id="3834" name="Group 303"/>
                        <p:cNvGrpSpPr/>
                        <p:nvPr/>
                      </p:nvGrpSpPr>
                      <p:grpSpPr>
                        <a:xfrm>
                          <a:off x="6474960" y="2939400"/>
                          <a:ext cx="545760" cy="272160"/>
                          <a:chOff x="6474960" y="2939400"/>
                          <a:chExt cx="545760" cy="272160"/>
                        </a:xfrm>
                      </p:grpSpPr>
                      <p:sp>
                        <p:nvSpPr>
                          <p:cNvPr id="3835" name="Rectangle 304"/>
                          <p:cNvSpPr/>
                          <p:nvPr/>
                        </p:nvSpPr>
                        <p:spPr>
                          <a:xfrm>
                            <a:off x="647496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36" name="Rectangle 305"/>
                          <p:cNvSpPr/>
                          <p:nvPr/>
                        </p:nvSpPr>
                        <p:spPr>
                          <a:xfrm>
                            <a:off x="674784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37" name="Rectangle 306"/>
                        <p:cNvSpPr/>
                        <p:nvPr/>
                      </p:nvSpPr>
                      <p:spPr>
                        <a:xfrm>
                          <a:off x="647496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8" name="Group 307"/>
                      <p:cNvGrpSpPr/>
                      <p:nvPr/>
                    </p:nvGrpSpPr>
                    <p:grpSpPr>
                      <a:xfrm>
                        <a:off x="6474960" y="3212640"/>
                        <a:ext cx="545760" cy="272520"/>
                        <a:chOff x="6474960" y="3212640"/>
                        <a:chExt cx="545760" cy="272520"/>
                      </a:xfrm>
                    </p:grpSpPr>
                    <p:grpSp>
                      <p:nvGrpSpPr>
                        <p:cNvPr id="3839" name="Group 308"/>
                        <p:cNvGrpSpPr/>
                        <p:nvPr/>
                      </p:nvGrpSpPr>
                      <p:grpSpPr>
                        <a:xfrm>
                          <a:off x="6474960" y="3212640"/>
                          <a:ext cx="545760" cy="272160"/>
                          <a:chOff x="6474960" y="3212640"/>
                          <a:chExt cx="545760" cy="272160"/>
                        </a:xfrm>
                      </p:grpSpPr>
                      <p:sp>
                        <p:nvSpPr>
                          <p:cNvPr id="3840" name="Rectangle 309"/>
                          <p:cNvSpPr/>
                          <p:nvPr/>
                        </p:nvSpPr>
                        <p:spPr>
                          <a:xfrm>
                            <a:off x="647496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41" name="Rectangle 310"/>
                          <p:cNvSpPr/>
                          <p:nvPr/>
                        </p:nvSpPr>
                        <p:spPr>
                          <a:xfrm>
                            <a:off x="674784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42" name="Rectangle 311"/>
                        <p:cNvSpPr/>
                        <p:nvPr/>
                      </p:nvSpPr>
                      <p:spPr>
                        <a:xfrm>
                          <a:off x="647496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43" name="Group 312"/>
                      <p:cNvGrpSpPr/>
                      <p:nvPr/>
                    </p:nvGrpSpPr>
                    <p:grpSpPr>
                      <a:xfrm>
                        <a:off x="6474960" y="3487680"/>
                        <a:ext cx="545760" cy="272520"/>
                        <a:chOff x="6474960" y="3487680"/>
                        <a:chExt cx="545760" cy="272520"/>
                      </a:xfrm>
                    </p:grpSpPr>
                    <p:grpSp>
                      <p:nvGrpSpPr>
                        <p:cNvPr id="3844" name="Group 313"/>
                        <p:cNvGrpSpPr/>
                        <p:nvPr/>
                      </p:nvGrpSpPr>
                      <p:grpSpPr>
                        <a:xfrm>
                          <a:off x="6474960" y="3487680"/>
                          <a:ext cx="545760" cy="272160"/>
                          <a:chOff x="6474960" y="3487680"/>
                          <a:chExt cx="545760" cy="272160"/>
                        </a:xfrm>
                      </p:grpSpPr>
                      <p:sp>
                        <p:nvSpPr>
                          <p:cNvPr id="3845" name="Rectangle 314"/>
                          <p:cNvSpPr/>
                          <p:nvPr/>
                        </p:nvSpPr>
                        <p:spPr>
                          <a:xfrm>
                            <a:off x="647496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46" name="Rectangle 315"/>
                          <p:cNvSpPr/>
                          <p:nvPr/>
                        </p:nvSpPr>
                        <p:spPr>
                          <a:xfrm>
                            <a:off x="674784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47" name="Rectangle 316"/>
                        <p:cNvSpPr/>
                        <p:nvPr/>
                      </p:nvSpPr>
                      <p:spPr>
                        <a:xfrm>
                          <a:off x="647496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48" name="Group 317"/>
                      <p:cNvGrpSpPr/>
                      <p:nvPr/>
                    </p:nvGrpSpPr>
                    <p:grpSpPr>
                      <a:xfrm>
                        <a:off x="6474960" y="3760920"/>
                        <a:ext cx="545760" cy="272520"/>
                        <a:chOff x="6474960" y="3760920"/>
                        <a:chExt cx="545760" cy="272520"/>
                      </a:xfrm>
                    </p:grpSpPr>
                    <p:grpSp>
                      <p:nvGrpSpPr>
                        <p:cNvPr id="3849" name="Group 318"/>
                        <p:cNvGrpSpPr/>
                        <p:nvPr/>
                      </p:nvGrpSpPr>
                      <p:grpSpPr>
                        <a:xfrm>
                          <a:off x="6474960" y="3760920"/>
                          <a:ext cx="545760" cy="272160"/>
                          <a:chOff x="6474960" y="3760920"/>
                          <a:chExt cx="545760" cy="272160"/>
                        </a:xfrm>
                      </p:grpSpPr>
                      <p:sp>
                        <p:nvSpPr>
                          <p:cNvPr id="3850" name="Rectangle 319"/>
                          <p:cNvSpPr/>
                          <p:nvPr/>
                        </p:nvSpPr>
                        <p:spPr>
                          <a:xfrm>
                            <a:off x="647496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51" name="Rectangle 320"/>
                          <p:cNvSpPr/>
                          <p:nvPr/>
                        </p:nvSpPr>
                        <p:spPr>
                          <a:xfrm>
                            <a:off x="674784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52" name="Rectangle 321"/>
                        <p:cNvSpPr/>
                        <p:nvPr/>
                      </p:nvSpPr>
                      <p:spPr>
                        <a:xfrm>
                          <a:off x="647496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853" name="Group 322"/>
                    <p:cNvGrpSpPr/>
                    <p:nvPr/>
                  </p:nvGrpSpPr>
                  <p:grpSpPr>
                    <a:xfrm>
                      <a:off x="7021800" y="2666880"/>
                      <a:ext cx="545040" cy="1366560"/>
                      <a:chOff x="7021800" y="2666880"/>
                      <a:chExt cx="545040" cy="1366560"/>
                    </a:xfrm>
                  </p:grpSpPr>
                  <p:grpSp>
                    <p:nvGrpSpPr>
                      <p:cNvPr id="3854" name="Group 323"/>
                      <p:cNvGrpSpPr/>
                      <p:nvPr/>
                    </p:nvGrpSpPr>
                    <p:grpSpPr>
                      <a:xfrm>
                        <a:off x="7021800" y="2666880"/>
                        <a:ext cx="545040" cy="272160"/>
                        <a:chOff x="7021800" y="2666880"/>
                        <a:chExt cx="545040" cy="272160"/>
                      </a:xfrm>
                    </p:grpSpPr>
                    <p:grpSp>
                      <p:nvGrpSpPr>
                        <p:cNvPr id="3855" name="Group 324"/>
                        <p:cNvGrpSpPr/>
                        <p:nvPr/>
                      </p:nvGrpSpPr>
                      <p:grpSpPr>
                        <a:xfrm>
                          <a:off x="7021800" y="2666880"/>
                          <a:ext cx="545040" cy="271800"/>
                          <a:chOff x="7021800" y="2666880"/>
                          <a:chExt cx="545040" cy="271800"/>
                        </a:xfrm>
                      </p:grpSpPr>
                      <p:sp>
                        <p:nvSpPr>
                          <p:cNvPr id="3856" name="Rectangle 325"/>
                          <p:cNvSpPr/>
                          <p:nvPr/>
                        </p:nvSpPr>
                        <p:spPr>
                          <a:xfrm>
                            <a:off x="702180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57" name="Rectangle 326"/>
                          <p:cNvSpPr/>
                          <p:nvPr/>
                        </p:nvSpPr>
                        <p:spPr>
                          <a:xfrm>
                            <a:off x="729432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58" name="Rectangle 327"/>
                        <p:cNvSpPr/>
                        <p:nvPr/>
                      </p:nvSpPr>
                      <p:spPr>
                        <a:xfrm>
                          <a:off x="702180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59" name="Group 328"/>
                      <p:cNvGrpSpPr/>
                      <p:nvPr/>
                    </p:nvGrpSpPr>
                    <p:grpSpPr>
                      <a:xfrm>
                        <a:off x="7021800" y="2939400"/>
                        <a:ext cx="545040" cy="272520"/>
                        <a:chOff x="7021800" y="2939400"/>
                        <a:chExt cx="545040" cy="272520"/>
                      </a:xfrm>
                    </p:grpSpPr>
                    <p:grpSp>
                      <p:nvGrpSpPr>
                        <p:cNvPr id="3860" name="Group 329"/>
                        <p:cNvGrpSpPr/>
                        <p:nvPr/>
                      </p:nvGrpSpPr>
                      <p:grpSpPr>
                        <a:xfrm>
                          <a:off x="7021800" y="2939400"/>
                          <a:ext cx="545040" cy="272160"/>
                          <a:chOff x="7021800" y="2939400"/>
                          <a:chExt cx="545040" cy="272160"/>
                        </a:xfrm>
                      </p:grpSpPr>
                      <p:sp>
                        <p:nvSpPr>
                          <p:cNvPr id="3861" name="Rectangle 330"/>
                          <p:cNvSpPr/>
                          <p:nvPr/>
                        </p:nvSpPr>
                        <p:spPr>
                          <a:xfrm>
                            <a:off x="702180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62" name="Rectangle 331"/>
                          <p:cNvSpPr/>
                          <p:nvPr/>
                        </p:nvSpPr>
                        <p:spPr>
                          <a:xfrm>
                            <a:off x="729432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63" name="Rectangle 332"/>
                        <p:cNvSpPr/>
                        <p:nvPr/>
                      </p:nvSpPr>
                      <p:spPr>
                        <a:xfrm>
                          <a:off x="702180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64" name="Group 333"/>
                      <p:cNvGrpSpPr/>
                      <p:nvPr/>
                    </p:nvGrpSpPr>
                    <p:grpSpPr>
                      <a:xfrm>
                        <a:off x="7021800" y="3212640"/>
                        <a:ext cx="545040" cy="272520"/>
                        <a:chOff x="7021800" y="3212640"/>
                        <a:chExt cx="545040" cy="272520"/>
                      </a:xfrm>
                    </p:grpSpPr>
                    <p:grpSp>
                      <p:nvGrpSpPr>
                        <p:cNvPr id="3865" name="Group 334"/>
                        <p:cNvGrpSpPr/>
                        <p:nvPr/>
                      </p:nvGrpSpPr>
                      <p:grpSpPr>
                        <a:xfrm>
                          <a:off x="7021800" y="3212640"/>
                          <a:ext cx="545040" cy="272160"/>
                          <a:chOff x="7021800" y="3212640"/>
                          <a:chExt cx="545040" cy="272160"/>
                        </a:xfrm>
                      </p:grpSpPr>
                      <p:sp>
                        <p:nvSpPr>
                          <p:cNvPr id="3866" name="Rectangle 335"/>
                          <p:cNvSpPr/>
                          <p:nvPr/>
                        </p:nvSpPr>
                        <p:spPr>
                          <a:xfrm>
                            <a:off x="702180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67" name="Rectangle 336"/>
                          <p:cNvSpPr/>
                          <p:nvPr/>
                        </p:nvSpPr>
                        <p:spPr>
                          <a:xfrm>
                            <a:off x="729432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68" name="Rectangle 337"/>
                        <p:cNvSpPr/>
                        <p:nvPr/>
                      </p:nvSpPr>
                      <p:spPr>
                        <a:xfrm>
                          <a:off x="702180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69" name="Group 338"/>
                      <p:cNvGrpSpPr/>
                      <p:nvPr/>
                    </p:nvGrpSpPr>
                    <p:grpSpPr>
                      <a:xfrm>
                        <a:off x="7021800" y="3487680"/>
                        <a:ext cx="545040" cy="272520"/>
                        <a:chOff x="7021800" y="3487680"/>
                        <a:chExt cx="545040" cy="272520"/>
                      </a:xfrm>
                    </p:grpSpPr>
                    <p:grpSp>
                      <p:nvGrpSpPr>
                        <p:cNvPr id="3870" name="Group 339"/>
                        <p:cNvGrpSpPr/>
                        <p:nvPr/>
                      </p:nvGrpSpPr>
                      <p:grpSpPr>
                        <a:xfrm>
                          <a:off x="7021800" y="3487680"/>
                          <a:ext cx="545040" cy="272160"/>
                          <a:chOff x="7021800" y="3487680"/>
                          <a:chExt cx="545040" cy="272160"/>
                        </a:xfrm>
                      </p:grpSpPr>
                      <p:sp>
                        <p:nvSpPr>
                          <p:cNvPr id="3871" name="Rectangle 340"/>
                          <p:cNvSpPr/>
                          <p:nvPr/>
                        </p:nvSpPr>
                        <p:spPr>
                          <a:xfrm>
                            <a:off x="702180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72" name="Rectangle 341"/>
                          <p:cNvSpPr/>
                          <p:nvPr/>
                        </p:nvSpPr>
                        <p:spPr>
                          <a:xfrm>
                            <a:off x="729432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73" name="Rectangle 342"/>
                        <p:cNvSpPr/>
                        <p:nvPr/>
                      </p:nvSpPr>
                      <p:spPr>
                        <a:xfrm>
                          <a:off x="702180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74" name="Group 343"/>
                      <p:cNvGrpSpPr/>
                      <p:nvPr/>
                    </p:nvGrpSpPr>
                    <p:grpSpPr>
                      <a:xfrm>
                        <a:off x="7021800" y="3760920"/>
                        <a:ext cx="545040" cy="272520"/>
                        <a:chOff x="7021800" y="3760920"/>
                        <a:chExt cx="545040" cy="272520"/>
                      </a:xfrm>
                    </p:grpSpPr>
                    <p:grpSp>
                      <p:nvGrpSpPr>
                        <p:cNvPr id="3875" name="Group 344"/>
                        <p:cNvGrpSpPr/>
                        <p:nvPr/>
                      </p:nvGrpSpPr>
                      <p:grpSpPr>
                        <a:xfrm>
                          <a:off x="7021800" y="3760920"/>
                          <a:ext cx="545040" cy="272160"/>
                          <a:chOff x="7021800" y="3760920"/>
                          <a:chExt cx="545040" cy="272160"/>
                        </a:xfrm>
                      </p:grpSpPr>
                      <p:sp>
                        <p:nvSpPr>
                          <p:cNvPr id="3876" name="Rectangle 345"/>
                          <p:cNvSpPr/>
                          <p:nvPr/>
                        </p:nvSpPr>
                        <p:spPr>
                          <a:xfrm>
                            <a:off x="702180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77" name="Rectangle 346"/>
                          <p:cNvSpPr/>
                          <p:nvPr/>
                        </p:nvSpPr>
                        <p:spPr>
                          <a:xfrm>
                            <a:off x="729432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78" name="Rectangle 347"/>
                        <p:cNvSpPr/>
                        <p:nvPr/>
                      </p:nvSpPr>
                      <p:spPr>
                        <a:xfrm>
                          <a:off x="702180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879" name="Group 348"/>
                    <p:cNvGrpSpPr/>
                    <p:nvPr/>
                  </p:nvGrpSpPr>
                  <p:grpSpPr>
                    <a:xfrm>
                      <a:off x="7570080" y="2666880"/>
                      <a:ext cx="545760" cy="1366560"/>
                      <a:chOff x="7570080" y="2666880"/>
                      <a:chExt cx="545760" cy="1366560"/>
                    </a:xfrm>
                  </p:grpSpPr>
                  <p:grpSp>
                    <p:nvGrpSpPr>
                      <p:cNvPr id="3880" name="Group 349"/>
                      <p:cNvGrpSpPr/>
                      <p:nvPr/>
                    </p:nvGrpSpPr>
                    <p:grpSpPr>
                      <a:xfrm>
                        <a:off x="7570080" y="2666880"/>
                        <a:ext cx="545760" cy="272160"/>
                        <a:chOff x="7570080" y="2666880"/>
                        <a:chExt cx="545760" cy="272160"/>
                      </a:xfrm>
                    </p:grpSpPr>
                    <p:grpSp>
                      <p:nvGrpSpPr>
                        <p:cNvPr id="3881" name="Group 350"/>
                        <p:cNvGrpSpPr/>
                        <p:nvPr/>
                      </p:nvGrpSpPr>
                      <p:grpSpPr>
                        <a:xfrm>
                          <a:off x="7570080" y="2666880"/>
                          <a:ext cx="545760" cy="271800"/>
                          <a:chOff x="7570080" y="2666880"/>
                          <a:chExt cx="545760" cy="271800"/>
                        </a:xfrm>
                      </p:grpSpPr>
                      <p:sp>
                        <p:nvSpPr>
                          <p:cNvPr id="3882" name="Rectangle 351"/>
                          <p:cNvSpPr/>
                          <p:nvPr/>
                        </p:nvSpPr>
                        <p:spPr>
                          <a:xfrm>
                            <a:off x="757008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83" name="Rectangle 352"/>
                          <p:cNvSpPr/>
                          <p:nvPr/>
                        </p:nvSpPr>
                        <p:spPr>
                          <a:xfrm>
                            <a:off x="784296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84" name="Rectangle 353"/>
                        <p:cNvSpPr/>
                        <p:nvPr/>
                      </p:nvSpPr>
                      <p:spPr>
                        <a:xfrm>
                          <a:off x="757008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85" name="Group 354"/>
                      <p:cNvGrpSpPr/>
                      <p:nvPr/>
                    </p:nvGrpSpPr>
                    <p:grpSpPr>
                      <a:xfrm>
                        <a:off x="7570080" y="2939400"/>
                        <a:ext cx="545760" cy="272520"/>
                        <a:chOff x="7570080" y="2939400"/>
                        <a:chExt cx="545760" cy="272520"/>
                      </a:xfrm>
                    </p:grpSpPr>
                    <p:grpSp>
                      <p:nvGrpSpPr>
                        <p:cNvPr id="3886" name="Group 355"/>
                        <p:cNvGrpSpPr/>
                        <p:nvPr/>
                      </p:nvGrpSpPr>
                      <p:grpSpPr>
                        <a:xfrm>
                          <a:off x="7570080" y="2939400"/>
                          <a:ext cx="545760" cy="272160"/>
                          <a:chOff x="7570080" y="2939400"/>
                          <a:chExt cx="545760" cy="272160"/>
                        </a:xfrm>
                      </p:grpSpPr>
                      <p:sp>
                        <p:nvSpPr>
                          <p:cNvPr id="3887" name="Rectangle 356"/>
                          <p:cNvSpPr/>
                          <p:nvPr/>
                        </p:nvSpPr>
                        <p:spPr>
                          <a:xfrm>
                            <a:off x="757008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88" name="Rectangle 357"/>
                          <p:cNvSpPr/>
                          <p:nvPr/>
                        </p:nvSpPr>
                        <p:spPr>
                          <a:xfrm>
                            <a:off x="784296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89" name="Rectangle 358"/>
                        <p:cNvSpPr/>
                        <p:nvPr/>
                      </p:nvSpPr>
                      <p:spPr>
                        <a:xfrm>
                          <a:off x="757008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90" name="Group 359"/>
                      <p:cNvGrpSpPr/>
                      <p:nvPr/>
                    </p:nvGrpSpPr>
                    <p:grpSpPr>
                      <a:xfrm>
                        <a:off x="7570080" y="3212640"/>
                        <a:ext cx="545760" cy="272520"/>
                        <a:chOff x="7570080" y="3212640"/>
                        <a:chExt cx="545760" cy="272520"/>
                      </a:xfrm>
                    </p:grpSpPr>
                    <p:grpSp>
                      <p:nvGrpSpPr>
                        <p:cNvPr id="3891" name="Group 360"/>
                        <p:cNvGrpSpPr/>
                        <p:nvPr/>
                      </p:nvGrpSpPr>
                      <p:grpSpPr>
                        <a:xfrm>
                          <a:off x="7570080" y="3212640"/>
                          <a:ext cx="545760" cy="272160"/>
                          <a:chOff x="7570080" y="3212640"/>
                          <a:chExt cx="545760" cy="272160"/>
                        </a:xfrm>
                      </p:grpSpPr>
                      <p:sp>
                        <p:nvSpPr>
                          <p:cNvPr id="3892" name="Rectangle 361"/>
                          <p:cNvSpPr/>
                          <p:nvPr/>
                        </p:nvSpPr>
                        <p:spPr>
                          <a:xfrm>
                            <a:off x="757008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93" name="Rectangle 362"/>
                          <p:cNvSpPr/>
                          <p:nvPr/>
                        </p:nvSpPr>
                        <p:spPr>
                          <a:xfrm>
                            <a:off x="784296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94" name="Rectangle 363"/>
                        <p:cNvSpPr/>
                        <p:nvPr/>
                      </p:nvSpPr>
                      <p:spPr>
                        <a:xfrm>
                          <a:off x="757008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95" name="Group 364"/>
                      <p:cNvGrpSpPr/>
                      <p:nvPr/>
                    </p:nvGrpSpPr>
                    <p:grpSpPr>
                      <a:xfrm>
                        <a:off x="7570080" y="3487680"/>
                        <a:ext cx="545760" cy="272520"/>
                        <a:chOff x="7570080" y="3487680"/>
                        <a:chExt cx="545760" cy="272520"/>
                      </a:xfrm>
                    </p:grpSpPr>
                    <p:grpSp>
                      <p:nvGrpSpPr>
                        <p:cNvPr id="3896" name="Group 365"/>
                        <p:cNvGrpSpPr/>
                        <p:nvPr/>
                      </p:nvGrpSpPr>
                      <p:grpSpPr>
                        <a:xfrm>
                          <a:off x="7570080" y="3487680"/>
                          <a:ext cx="545760" cy="272160"/>
                          <a:chOff x="7570080" y="3487680"/>
                          <a:chExt cx="545760" cy="272160"/>
                        </a:xfrm>
                      </p:grpSpPr>
                      <p:sp>
                        <p:nvSpPr>
                          <p:cNvPr id="3897" name="Rectangle 366"/>
                          <p:cNvSpPr/>
                          <p:nvPr/>
                        </p:nvSpPr>
                        <p:spPr>
                          <a:xfrm>
                            <a:off x="757008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98" name="Rectangle 367"/>
                          <p:cNvSpPr/>
                          <p:nvPr/>
                        </p:nvSpPr>
                        <p:spPr>
                          <a:xfrm>
                            <a:off x="784296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99" name="Rectangle 368"/>
                        <p:cNvSpPr/>
                        <p:nvPr/>
                      </p:nvSpPr>
                      <p:spPr>
                        <a:xfrm>
                          <a:off x="757008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00" name="Group 369"/>
                      <p:cNvGrpSpPr/>
                      <p:nvPr/>
                    </p:nvGrpSpPr>
                    <p:grpSpPr>
                      <a:xfrm>
                        <a:off x="7570080" y="3760920"/>
                        <a:ext cx="545760" cy="272520"/>
                        <a:chOff x="7570080" y="3760920"/>
                        <a:chExt cx="545760" cy="272520"/>
                      </a:xfrm>
                    </p:grpSpPr>
                    <p:grpSp>
                      <p:nvGrpSpPr>
                        <p:cNvPr id="3901" name="Group 370"/>
                        <p:cNvGrpSpPr/>
                        <p:nvPr/>
                      </p:nvGrpSpPr>
                      <p:grpSpPr>
                        <a:xfrm>
                          <a:off x="7570080" y="3760920"/>
                          <a:ext cx="545760" cy="272160"/>
                          <a:chOff x="7570080" y="3760920"/>
                          <a:chExt cx="545760" cy="272160"/>
                        </a:xfrm>
                      </p:grpSpPr>
                      <p:sp>
                        <p:nvSpPr>
                          <p:cNvPr id="3902" name="Rectangle 371"/>
                          <p:cNvSpPr/>
                          <p:nvPr/>
                        </p:nvSpPr>
                        <p:spPr>
                          <a:xfrm>
                            <a:off x="757008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03" name="Rectangle 372"/>
                          <p:cNvSpPr/>
                          <p:nvPr/>
                        </p:nvSpPr>
                        <p:spPr>
                          <a:xfrm>
                            <a:off x="784296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04" name="Rectangle 373"/>
                        <p:cNvSpPr/>
                        <p:nvPr/>
                      </p:nvSpPr>
                      <p:spPr>
                        <a:xfrm>
                          <a:off x="757008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05" name="Group 374"/>
                    <p:cNvGrpSpPr/>
                    <p:nvPr/>
                  </p:nvGrpSpPr>
                  <p:grpSpPr>
                    <a:xfrm>
                      <a:off x="8116920" y="2666880"/>
                      <a:ext cx="545040" cy="1366560"/>
                      <a:chOff x="8116920" y="2666880"/>
                      <a:chExt cx="545040" cy="1366560"/>
                    </a:xfrm>
                  </p:grpSpPr>
                  <p:grpSp>
                    <p:nvGrpSpPr>
                      <p:cNvPr id="3906" name="Group 375"/>
                      <p:cNvGrpSpPr/>
                      <p:nvPr/>
                    </p:nvGrpSpPr>
                    <p:grpSpPr>
                      <a:xfrm>
                        <a:off x="8116920" y="2666880"/>
                        <a:ext cx="545040" cy="272160"/>
                        <a:chOff x="8116920" y="2666880"/>
                        <a:chExt cx="545040" cy="272160"/>
                      </a:xfrm>
                    </p:grpSpPr>
                    <p:grpSp>
                      <p:nvGrpSpPr>
                        <p:cNvPr id="3907" name="Group 376"/>
                        <p:cNvGrpSpPr/>
                        <p:nvPr/>
                      </p:nvGrpSpPr>
                      <p:grpSpPr>
                        <a:xfrm>
                          <a:off x="8116920" y="2666880"/>
                          <a:ext cx="545040" cy="271800"/>
                          <a:chOff x="8116920" y="2666880"/>
                          <a:chExt cx="545040" cy="271800"/>
                        </a:xfrm>
                      </p:grpSpPr>
                      <p:sp>
                        <p:nvSpPr>
                          <p:cNvPr id="3908" name="Rectangle 377"/>
                          <p:cNvSpPr/>
                          <p:nvPr/>
                        </p:nvSpPr>
                        <p:spPr>
                          <a:xfrm>
                            <a:off x="811692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09" name="Rectangle 378"/>
                          <p:cNvSpPr/>
                          <p:nvPr/>
                        </p:nvSpPr>
                        <p:spPr>
                          <a:xfrm>
                            <a:off x="838944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10" name="Rectangle 379"/>
                        <p:cNvSpPr/>
                        <p:nvPr/>
                      </p:nvSpPr>
                      <p:spPr>
                        <a:xfrm>
                          <a:off x="811692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11" name="Group 380"/>
                      <p:cNvGrpSpPr/>
                      <p:nvPr/>
                    </p:nvGrpSpPr>
                    <p:grpSpPr>
                      <a:xfrm>
                        <a:off x="8116920" y="2939400"/>
                        <a:ext cx="545040" cy="272520"/>
                        <a:chOff x="8116920" y="2939400"/>
                        <a:chExt cx="545040" cy="272520"/>
                      </a:xfrm>
                    </p:grpSpPr>
                    <p:grpSp>
                      <p:nvGrpSpPr>
                        <p:cNvPr id="3912" name="Group 381"/>
                        <p:cNvGrpSpPr/>
                        <p:nvPr/>
                      </p:nvGrpSpPr>
                      <p:grpSpPr>
                        <a:xfrm>
                          <a:off x="8116920" y="2939400"/>
                          <a:ext cx="545040" cy="272160"/>
                          <a:chOff x="8116920" y="2939400"/>
                          <a:chExt cx="545040" cy="272160"/>
                        </a:xfrm>
                      </p:grpSpPr>
                      <p:sp>
                        <p:nvSpPr>
                          <p:cNvPr id="3913" name="Rectangle 382"/>
                          <p:cNvSpPr/>
                          <p:nvPr/>
                        </p:nvSpPr>
                        <p:spPr>
                          <a:xfrm>
                            <a:off x="811692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14" name="Rectangle 383"/>
                          <p:cNvSpPr/>
                          <p:nvPr/>
                        </p:nvSpPr>
                        <p:spPr>
                          <a:xfrm>
                            <a:off x="838944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15" name="Rectangle 384"/>
                        <p:cNvSpPr/>
                        <p:nvPr/>
                      </p:nvSpPr>
                      <p:spPr>
                        <a:xfrm>
                          <a:off x="811692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16" name="Group 385"/>
                      <p:cNvGrpSpPr/>
                      <p:nvPr/>
                    </p:nvGrpSpPr>
                    <p:grpSpPr>
                      <a:xfrm>
                        <a:off x="8116920" y="3212640"/>
                        <a:ext cx="545040" cy="272520"/>
                        <a:chOff x="8116920" y="3212640"/>
                        <a:chExt cx="545040" cy="272520"/>
                      </a:xfrm>
                    </p:grpSpPr>
                    <p:grpSp>
                      <p:nvGrpSpPr>
                        <p:cNvPr id="3917" name="Group 386"/>
                        <p:cNvGrpSpPr/>
                        <p:nvPr/>
                      </p:nvGrpSpPr>
                      <p:grpSpPr>
                        <a:xfrm>
                          <a:off x="8116920" y="3212640"/>
                          <a:ext cx="545040" cy="272160"/>
                          <a:chOff x="8116920" y="3212640"/>
                          <a:chExt cx="545040" cy="272160"/>
                        </a:xfrm>
                      </p:grpSpPr>
                      <p:sp>
                        <p:nvSpPr>
                          <p:cNvPr id="3918" name="Rectangle 387"/>
                          <p:cNvSpPr/>
                          <p:nvPr/>
                        </p:nvSpPr>
                        <p:spPr>
                          <a:xfrm>
                            <a:off x="811692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19" name="Rectangle 388"/>
                          <p:cNvSpPr/>
                          <p:nvPr/>
                        </p:nvSpPr>
                        <p:spPr>
                          <a:xfrm>
                            <a:off x="838944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20" name="Rectangle 389"/>
                        <p:cNvSpPr/>
                        <p:nvPr/>
                      </p:nvSpPr>
                      <p:spPr>
                        <a:xfrm>
                          <a:off x="811692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21" name="Group 390"/>
                      <p:cNvGrpSpPr/>
                      <p:nvPr/>
                    </p:nvGrpSpPr>
                    <p:grpSpPr>
                      <a:xfrm>
                        <a:off x="8116920" y="3487680"/>
                        <a:ext cx="545040" cy="272520"/>
                        <a:chOff x="8116920" y="3487680"/>
                        <a:chExt cx="545040" cy="272520"/>
                      </a:xfrm>
                    </p:grpSpPr>
                    <p:grpSp>
                      <p:nvGrpSpPr>
                        <p:cNvPr id="3922" name="Group 391"/>
                        <p:cNvGrpSpPr/>
                        <p:nvPr/>
                      </p:nvGrpSpPr>
                      <p:grpSpPr>
                        <a:xfrm>
                          <a:off x="8116920" y="3487680"/>
                          <a:ext cx="545040" cy="272160"/>
                          <a:chOff x="8116920" y="3487680"/>
                          <a:chExt cx="545040" cy="272160"/>
                        </a:xfrm>
                      </p:grpSpPr>
                      <p:sp>
                        <p:nvSpPr>
                          <p:cNvPr id="3923" name="Rectangle 392"/>
                          <p:cNvSpPr/>
                          <p:nvPr/>
                        </p:nvSpPr>
                        <p:spPr>
                          <a:xfrm>
                            <a:off x="811692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24" name="Rectangle 393"/>
                          <p:cNvSpPr/>
                          <p:nvPr/>
                        </p:nvSpPr>
                        <p:spPr>
                          <a:xfrm>
                            <a:off x="838944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25" name="Rectangle 394"/>
                        <p:cNvSpPr/>
                        <p:nvPr/>
                      </p:nvSpPr>
                      <p:spPr>
                        <a:xfrm>
                          <a:off x="811692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26" name="Group 395"/>
                      <p:cNvGrpSpPr/>
                      <p:nvPr/>
                    </p:nvGrpSpPr>
                    <p:grpSpPr>
                      <a:xfrm>
                        <a:off x="8116920" y="3760920"/>
                        <a:ext cx="545040" cy="272520"/>
                        <a:chOff x="8116920" y="3760920"/>
                        <a:chExt cx="545040" cy="272520"/>
                      </a:xfrm>
                    </p:grpSpPr>
                    <p:grpSp>
                      <p:nvGrpSpPr>
                        <p:cNvPr id="3927" name="Group 396"/>
                        <p:cNvGrpSpPr/>
                        <p:nvPr/>
                      </p:nvGrpSpPr>
                      <p:grpSpPr>
                        <a:xfrm>
                          <a:off x="8116920" y="3760920"/>
                          <a:ext cx="545040" cy="272160"/>
                          <a:chOff x="8116920" y="3760920"/>
                          <a:chExt cx="545040" cy="272160"/>
                        </a:xfrm>
                      </p:grpSpPr>
                      <p:sp>
                        <p:nvSpPr>
                          <p:cNvPr id="3928" name="Rectangle 397"/>
                          <p:cNvSpPr/>
                          <p:nvPr/>
                        </p:nvSpPr>
                        <p:spPr>
                          <a:xfrm>
                            <a:off x="811692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29" name="Rectangle 398"/>
                          <p:cNvSpPr/>
                          <p:nvPr/>
                        </p:nvSpPr>
                        <p:spPr>
                          <a:xfrm>
                            <a:off x="838944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30" name="Rectangle 399"/>
                        <p:cNvSpPr/>
                        <p:nvPr/>
                      </p:nvSpPr>
                      <p:spPr>
                        <a:xfrm>
                          <a:off x="811692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931" name="Group 400"/>
                  <p:cNvGrpSpPr/>
                  <p:nvPr/>
                </p:nvGrpSpPr>
                <p:grpSpPr>
                  <a:xfrm>
                    <a:off x="5928480" y="4034880"/>
                    <a:ext cx="2733480" cy="1366560"/>
                    <a:chOff x="5928480" y="4034880"/>
                    <a:chExt cx="2733480" cy="1366560"/>
                  </a:xfrm>
                </p:grpSpPr>
                <p:grpSp>
                  <p:nvGrpSpPr>
                    <p:cNvPr id="3932" name="Group 401"/>
                    <p:cNvGrpSpPr/>
                    <p:nvPr/>
                  </p:nvGrpSpPr>
                  <p:grpSpPr>
                    <a:xfrm>
                      <a:off x="5928480" y="4034880"/>
                      <a:ext cx="545040" cy="1366560"/>
                      <a:chOff x="5928480" y="4034880"/>
                      <a:chExt cx="545040" cy="1366560"/>
                    </a:xfrm>
                  </p:grpSpPr>
                  <p:grpSp>
                    <p:nvGrpSpPr>
                      <p:cNvPr id="3933" name="Group 402"/>
                      <p:cNvGrpSpPr/>
                      <p:nvPr/>
                    </p:nvGrpSpPr>
                    <p:grpSpPr>
                      <a:xfrm>
                        <a:off x="5928480" y="4034880"/>
                        <a:ext cx="545040" cy="272160"/>
                        <a:chOff x="5928480" y="4034880"/>
                        <a:chExt cx="545040" cy="272160"/>
                      </a:xfrm>
                    </p:grpSpPr>
                    <p:grpSp>
                      <p:nvGrpSpPr>
                        <p:cNvPr id="3934" name="Group 403"/>
                        <p:cNvGrpSpPr/>
                        <p:nvPr/>
                      </p:nvGrpSpPr>
                      <p:grpSpPr>
                        <a:xfrm>
                          <a:off x="5928480" y="4034880"/>
                          <a:ext cx="545040" cy="271800"/>
                          <a:chOff x="5928480" y="4034880"/>
                          <a:chExt cx="545040" cy="271800"/>
                        </a:xfrm>
                      </p:grpSpPr>
                      <p:sp>
                        <p:nvSpPr>
                          <p:cNvPr id="3935" name="Rectangle 404"/>
                          <p:cNvSpPr/>
                          <p:nvPr/>
                        </p:nvSpPr>
                        <p:spPr>
                          <a:xfrm>
                            <a:off x="592848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36" name="Rectangle 405"/>
                          <p:cNvSpPr/>
                          <p:nvPr/>
                        </p:nvSpPr>
                        <p:spPr>
                          <a:xfrm>
                            <a:off x="620100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37" name="Rectangle 406"/>
                        <p:cNvSpPr/>
                        <p:nvPr/>
                      </p:nvSpPr>
                      <p:spPr>
                        <a:xfrm>
                          <a:off x="592848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38" name="Group 407"/>
                      <p:cNvGrpSpPr/>
                      <p:nvPr/>
                    </p:nvGrpSpPr>
                    <p:grpSpPr>
                      <a:xfrm>
                        <a:off x="5928480" y="4307400"/>
                        <a:ext cx="545040" cy="272520"/>
                        <a:chOff x="5928480" y="4307400"/>
                        <a:chExt cx="545040" cy="272520"/>
                      </a:xfrm>
                    </p:grpSpPr>
                    <p:grpSp>
                      <p:nvGrpSpPr>
                        <p:cNvPr id="3939" name="Group 408"/>
                        <p:cNvGrpSpPr/>
                        <p:nvPr/>
                      </p:nvGrpSpPr>
                      <p:grpSpPr>
                        <a:xfrm>
                          <a:off x="5928480" y="4307400"/>
                          <a:ext cx="545040" cy="272160"/>
                          <a:chOff x="5928480" y="4307400"/>
                          <a:chExt cx="545040" cy="272160"/>
                        </a:xfrm>
                      </p:grpSpPr>
                      <p:sp>
                        <p:nvSpPr>
                          <p:cNvPr id="3940" name="Rectangle 409"/>
                          <p:cNvSpPr/>
                          <p:nvPr/>
                        </p:nvSpPr>
                        <p:spPr>
                          <a:xfrm>
                            <a:off x="592848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41" name="Rectangle 410"/>
                          <p:cNvSpPr/>
                          <p:nvPr/>
                        </p:nvSpPr>
                        <p:spPr>
                          <a:xfrm>
                            <a:off x="620100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42" name="Rectangle 411"/>
                        <p:cNvSpPr/>
                        <p:nvPr/>
                      </p:nvSpPr>
                      <p:spPr>
                        <a:xfrm>
                          <a:off x="592848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43" name="Group 412"/>
                      <p:cNvGrpSpPr/>
                      <p:nvPr/>
                    </p:nvGrpSpPr>
                    <p:grpSpPr>
                      <a:xfrm>
                        <a:off x="5928480" y="4580640"/>
                        <a:ext cx="545040" cy="272520"/>
                        <a:chOff x="5928480" y="4580640"/>
                        <a:chExt cx="545040" cy="272520"/>
                      </a:xfrm>
                    </p:grpSpPr>
                    <p:grpSp>
                      <p:nvGrpSpPr>
                        <p:cNvPr id="3944" name="Group 413"/>
                        <p:cNvGrpSpPr/>
                        <p:nvPr/>
                      </p:nvGrpSpPr>
                      <p:grpSpPr>
                        <a:xfrm>
                          <a:off x="5928480" y="4580640"/>
                          <a:ext cx="545040" cy="272160"/>
                          <a:chOff x="5928480" y="4580640"/>
                          <a:chExt cx="545040" cy="272160"/>
                        </a:xfrm>
                      </p:grpSpPr>
                      <p:sp>
                        <p:nvSpPr>
                          <p:cNvPr id="3945" name="Rectangle 414"/>
                          <p:cNvSpPr/>
                          <p:nvPr/>
                        </p:nvSpPr>
                        <p:spPr>
                          <a:xfrm>
                            <a:off x="592848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46" name="Rectangle 415"/>
                          <p:cNvSpPr/>
                          <p:nvPr/>
                        </p:nvSpPr>
                        <p:spPr>
                          <a:xfrm>
                            <a:off x="620100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47" name="Rectangle 416"/>
                        <p:cNvSpPr/>
                        <p:nvPr/>
                      </p:nvSpPr>
                      <p:spPr>
                        <a:xfrm>
                          <a:off x="592848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48" name="Group 417"/>
                      <p:cNvGrpSpPr/>
                      <p:nvPr/>
                    </p:nvGrpSpPr>
                    <p:grpSpPr>
                      <a:xfrm>
                        <a:off x="5928480" y="4855680"/>
                        <a:ext cx="545040" cy="272520"/>
                        <a:chOff x="5928480" y="4855680"/>
                        <a:chExt cx="545040" cy="272520"/>
                      </a:xfrm>
                    </p:grpSpPr>
                    <p:grpSp>
                      <p:nvGrpSpPr>
                        <p:cNvPr id="3949" name="Group 418"/>
                        <p:cNvGrpSpPr/>
                        <p:nvPr/>
                      </p:nvGrpSpPr>
                      <p:grpSpPr>
                        <a:xfrm>
                          <a:off x="5928480" y="4855680"/>
                          <a:ext cx="545040" cy="272160"/>
                          <a:chOff x="5928480" y="4855680"/>
                          <a:chExt cx="545040" cy="272160"/>
                        </a:xfrm>
                      </p:grpSpPr>
                      <p:sp>
                        <p:nvSpPr>
                          <p:cNvPr id="3950" name="Rectangle 419"/>
                          <p:cNvSpPr/>
                          <p:nvPr/>
                        </p:nvSpPr>
                        <p:spPr>
                          <a:xfrm>
                            <a:off x="592848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51" name="Rectangle 420"/>
                          <p:cNvSpPr/>
                          <p:nvPr/>
                        </p:nvSpPr>
                        <p:spPr>
                          <a:xfrm>
                            <a:off x="620100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52" name="Rectangle 421"/>
                        <p:cNvSpPr/>
                        <p:nvPr/>
                      </p:nvSpPr>
                      <p:spPr>
                        <a:xfrm>
                          <a:off x="592848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53" name="Group 422"/>
                      <p:cNvGrpSpPr/>
                      <p:nvPr/>
                    </p:nvGrpSpPr>
                    <p:grpSpPr>
                      <a:xfrm>
                        <a:off x="5928480" y="5128920"/>
                        <a:ext cx="545040" cy="272520"/>
                        <a:chOff x="5928480" y="5128920"/>
                        <a:chExt cx="545040" cy="272520"/>
                      </a:xfrm>
                    </p:grpSpPr>
                    <p:grpSp>
                      <p:nvGrpSpPr>
                        <p:cNvPr id="3954" name="Group 423"/>
                        <p:cNvGrpSpPr/>
                        <p:nvPr/>
                      </p:nvGrpSpPr>
                      <p:grpSpPr>
                        <a:xfrm>
                          <a:off x="5928480" y="5128920"/>
                          <a:ext cx="545040" cy="272160"/>
                          <a:chOff x="5928480" y="5128920"/>
                          <a:chExt cx="545040" cy="272160"/>
                        </a:xfrm>
                      </p:grpSpPr>
                      <p:sp>
                        <p:nvSpPr>
                          <p:cNvPr id="3955" name="Rectangle 424"/>
                          <p:cNvSpPr/>
                          <p:nvPr/>
                        </p:nvSpPr>
                        <p:spPr>
                          <a:xfrm>
                            <a:off x="592848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56" name="Rectangle 425"/>
                          <p:cNvSpPr/>
                          <p:nvPr/>
                        </p:nvSpPr>
                        <p:spPr>
                          <a:xfrm>
                            <a:off x="620100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57" name="Rectangle 426"/>
                        <p:cNvSpPr/>
                        <p:nvPr/>
                      </p:nvSpPr>
                      <p:spPr>
                        <a:xfrm>
                          <a:off x="592848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58" name="Group 427"/>
                    <p:cNvGrpSpPr/>
                    <p:nvPr/>
                  </p:nvGrpSpPr>
                  <p:grpSpPr>
                    <a:xfrm>
                      <a:off x="6474960" y="4034880"/>
                      <a:ext cx="545760" cy="1366560"/>
                      <a:chOff x="6474960" y="4034880"/>
                      <a:chExt cx="545760" cy="1366560"/>
                    </a:xfrm>
                  </p:grpSpPr>
                  <p:grpSp>
                    <p:nvGrpSpPr>
                      <p:cNvPr id="3959" name="Group 428"/>
                      <p:cNvGrpSpPr/>
                      <p:nvPr/>
                    </p:nvGrpSpPr>
                    <p:grpSpPr>
                      <a:xfrm>
                        <a:off x="6474960" y="4034880"/>
                        <a:ext cx="545760" cy="272160"/>
                        <a:chOff x="6474960" y="4034880"/>
                        <a:chExt cx="545760" cy="272160"/>
                      </a:xfrm>
                    </p:grpSpPr>
                    <p:grpSp>
                      <p:nvGrpSpPr>
                        <p:cNvPr id="3960" name="Group 429"/>
                        <p:cNvGrpSpPr/>
                        <p:nvPr/>
                      </p:nvGrpSpPr>
                      <p:grpSpPr>
                        <a:xfrm>
                          <a:off x="6474960" y="4034880"/>
                          <a:ext cx="545760" cy="271800"/>
                          <a:chOff x="6474960" y="4034880"/>
                          <a:chExt cx="545760" cy="271800"/>
                        </a:xfrm>
                      </p:grpSpPr>
                      <p:sp>
                        <p:nvSpPr>
                          <p:cNvPr id="3961" name="Rectangle 430"/>
                          <p:cNvSpPr/>
                          <p:nvPr/>
                        </p:nvSpPr>
                        <p:spPr>
                          <a:xfrm>
                            <a:off x="647496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62" name="Rectangle 431"/>
                          <p:cNvSpPr/>
                          <p:nvPr/>
                        </p:nvSpPr>
                        <p:spPr>
                          <a:xfrm>
                            <a:off x="674784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63" name="Rectangle 432"/>
                        <p:cNvSpPr/>
                        <p:nvPr/>
                      </p:nvSpPr>
                      <p:spPr>
                        <a:xfrm>
                          <a:off x="647496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64" name="Group 433"/>
                      <p:cNvGrpSpPr/>
                      <p:nvPr/>
                    </p:nvGrpSpPr>
                    <p:grpSpPr>
                      <a:xfrm>
                        <a:off x="6474960" y="4307400"/>
                        <a:ext cx="545760" cy="272520"/>
                        <a:chOff x="6474960" y="4307400"/>
                        <a:chExt cx="545760" cy="272520"/>
                      </a:xfrm>
                    </p:grpSpPr>
                    <p:grpSp>
                      <p:nvGrpSpPr>
                        <p:cNvPr id="3965" name="Group 434"/>
                        <p:cNvGrpSpPr/>
                        <p:nvPr/>
                      </p:nvGrpSpPr>
                      <p:grpSpPr>
                        <a:xfrm>
                          <a:off x="6474960" y="4307400"/>
                          <a:ext cx="545760" cy="272160"/>
                          <a:chOff x="6474960" y="4307400"/>
                          <a:chExt cx="545760" cy="272160"/>
                        </a:xfrm>
                      </p:grpSpPr>
                      <p:sp>
                        <p:nvSpPr>
                          <p:cNvPr id="3966" name="Rectangle 435"/>
                          <p:cNvSpPr/>
                          <p:nvPr/>
                        </p:nvSpPr>
                        <p:spPr>
                          <a:xfrm>
                            <a:off x="647496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67" name="Rectangle 436"/>
                          <p:cNvSpPr/>
                          <p:nvPr/>
                        </p:nvSpPr>
                        <p:spPr>
                          <a:xfrm>
                            <a:off x="674784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68" name="Rectangle 437"/>
                        <p:cNvSpPr/>
                        <p:nvPr/>
                      </p:nvSpPr>
                      <p:spPr>
                        <a:xfrm>
                          <a:off x="647496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69" name="Group 438"/>
                      <p:cNvGrpSpPr/>
                      <p:nvPr/>
                    </p:nvGrpSpPr>
                    <p:grpSpPr>
                      <a:xfrm>
                        <a:off x="6474960" y="4580640"/>
                        <a:ext cx="545760" cy="272520"/>
                        <a:chOff x="6474960" y="4580640"/>
                        <a:chExt cx="545760" cy="272520"/>
                      </a:xfrm>
                    </p:grpSpPr>
                    <p:grpSp>
                      <p:nvGrpSpPr>
                        <p:cNvPr id="3970" name="Group 439"/>
                        <p:cNvGrpSpPr/>
                        <p:nvPr/>
                      </p:nvGrpSpPr>
                      <p:grpSpPr>
                        <a:xfrm>
                          <a:off x="6474960" y="4580640"/>
                          <a:ext cx="545760" cy="272160"/>
                          <a:chOff x="6474960" y="4580640"/>
                          <a:chExt cx="545760" cy="272160"/>
                        </a:xfrm>
                      </p:grpSpPr>
                      <p:sp>
                        <p:nvSpPr>
                          <p:cNvPr id="3971" name="Rectangle 440"/>
                          <p:cNvSpPr/>
                          <p:nvPr/>
                        </p:nvSpPr>
                        <p:spPr>
                          <a:xfrm>
                            <a:off x="647496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72" name="Rectangle 441"/>
                          <p:cNvSpPr/>
                          <p:nvPr/>
                        </p:nvSpPr>
                        <p:spPr>
                          <a:xfrm>
                            <a:off x="674784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73" name="Rectangle 442"/>
                        <p:cNvSpPr/>
                        <p:nvPr/>
                      </p:nvSpPr>
                      <p:spPr>
                        <a:xfrm>
                          <a:off x="647496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74" name="Group 443"/>
                      <p:cNvGrpSpPr/>
                      <p:nvPr/>
                    </p:nvGrpSpPr>
                    <p:grpSpPr>
                      <a:xfrm>
                        <a:off x="6474960" y="4855680"/>
                        <a:ext cx="545760" cy="272520"/>
                        <a:chOff x="6474960" y="4855680"/>
                        <a:chExt cx="545760" cy="272520"/>
                      </a:xfrm>
                    </p:grpSpPr>
                    <p:grpSp>
                      <p:nvGrpSpPr>
                        <p:cNvPr id="3975" name="Group 444"/>
                        <p:cNvGrpSpPr/>
                        <p:nvPr/>
                      </p:nvGrpSpPr>
                      <p:grpSpPr>
                        <a:xfrm>
                          <a:off x="6474960" y="4855680"/>
                          <a:ext cx="545760" cy="272160"/>
                          <a:chOff x="6474960" y="4855680"/>
                          <a:chExt cx="545760" cy="272160"/>
                        </a:xfrm>
                      </p:grpSpPr>
                      <p:sp>
                        <p:nvSpPr>
                          <p:cNvPr id="3976" name="Rectangle 445"/>
                          <p:cNvSpPr/>
                          <p:nvPr/>
                        </p:nvSpPr>
                        <p:spPr>
                          <a:xfrm>
                            <a:off x="647496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77" name="Rectangle 446"/>
                          <p:cNvSpPr/>
                          <p:nvPr/>
                        </p:nvSpPr>
                        <p:spPr>
                          <a:xfrm>
                            <a:off x="674784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78" name="Rectangle 447"/>
                        <p:cNvSpPr/>
                        <p:nvPr/>
                      </p:nvSpPr>
                      <p:spPr>
                        <a:xfrm>
                          <a:off x="647496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79" name="Group 448"/>
                      <p:cNvGrpSpPr/>
                      <p:nvPr/>
                    </p:nvGrpSpPr>
                    <p:grpSpPr>
                      <a:xfrm>
                        <a:off x="6474960" y="5128920"/>
                        <a:ext cx="545760" cy="272520"/>
                        <a:chOff x="6474960" y="5128920"/>
                        <a:chExt cx="545760" cy="272520"/>
                      </a:xfrm>
                    </p:grpSpPr>
                    <p:grpSp>
                      <p:nvGrpSpPr>
                        <p:cNvPr id="3980" name="Group 449"/>
                        <p:cNvGrpSpPr/>
                        <p:nvPr/>
                      </p:nvGrpSpPr>
                      <p:grpSpPr>
                        <a:xfrm>
                          <a:off x="6474960" y="5128920"/>
                          <a:ext cx="545760" cy="272160"/>
                          <a:chOff x="6474960" y="5128920"/>
                          <a:chExt cx="545760" cy="272160"/>
                        </a:xfrm>
                      </p:grpSpPr>
                      <p:sp>
                        <p:nvSpPr>
                          <p:cNvPr id="3981" name="Rectangle 450"/>
                          <p:cNvSpPr/>
                          <p:nvPr/>
                        </p:nvSpPr>
                        <p:spPr>
                          <a:xfrm>
                            <a:off x="647496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82" name="Rectangle 451"/>
                          <p:cNvSpPr/>
                          <p:nvPr/>
                        </p:nvSpPr>
                        <p:spPr>
                          <a:xfrm>
                            <a:off x="674784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83" name="Rectangle 452"/>
                        <p:cNvSpPr/>
                        <p:nvPr/>
                      </p:nvSpPr>
                      <p:spPr>
                        <a:xfrm>
                          <a:off x="647496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84" name="Group 453"/>
                    <p:cNvGrpSpPr/>
                    <p:nvPr/>
                  </p:nvGrpSpPr>
                  <p:grpSpPr>
                    <a:xfrm>
                      <a:off x="7021800" y="4034880"/>
                      <a:ext cx="545040" cy="1366560"/>
                      <a:chOff x="7021800" y="4034880"/>
                      <a:chExt cx="545040" cy="1366560"/>
                    </a:xfrm>
                  </p:grpSpPr>
                  <p:grpSp>
                    <p:nvGrpSpPr>
                      <p:cNvPr id="3985" name="Group 454"/>
                      <p:cNvGrpSpPr/>
                      <p:nvPr/>
                    </p:nvGrpSpPr>
                    <p:grpSpPr>
                      <a:xfrm>
                        <a:off x="7021800" y="4034880"/>
                        <a:ext cx="545040" cy="272160"/>
                        <a:chOff x="7021800" y="4034880"/>
                        <a:chExt cx="545040" cy="272160"/>
                      </a:xfrm>
                    </p:grpSpPr>
                    <p:grpSp>
                      <p:nvGrpSpPr>
                        <p:cNvPr id="3986" name="Group 455"/>
                        <p:cNvGrpSpPr/>
                        <p:nvPr/>
                      </p:nvGrpSpPr>
                      <p:grpSpPr>
                        <a:xfrm>
                          <a:off x="7021800" y="4034880"/>
                          <a:ext cx="545040" cy="271800"/>
                          <a:chOff x="7021800" y="4034880"/>
                          <a:chExt cx="545040" cy="271800"/>
                        </a:xfrm>
                      </p:grpSpPr>
                      <p:sp>
                        <p:nvSpPr>
                          <p:cNvPr id="3987" name="Rectangle 456"/>
                          <p:cNvSpPr/>
                          <p:nvPr/>
                        </p:nvSpPr>
                        <p:spPr>
                          <a:xfrm>
                            <a:off x="702180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88" name="Rectangle 457"/>
                          <p:cNvSpPr/>
                          <p:nvPr/>
                        </p:nvSpPr>
                        <p:spPr>
                          <a:xfrm>
                            <a:off x="729432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89" name="Rectangle 458"/>
                        <p:cNvSpPr/>
                        <p:nvPr/>
                      </p:nvSpPr>
                      <p:spPr>
                        <a:xfrm>
                          <a:off x="702180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90" name="Group 459"/>
                      <p:cNvGrpSpPr/>
                      <p:nvPr/>
                    </p:nvGrpSpPr>
                    <p:grpSpPr>
                      <a:xfrm>
                        <a:off x="7021800" y="4307400"/>
                        <a:ext cx="545040" cy="272520"/>
                        <a:chOff x="7021800" y="4307400"/>
                        <a:chExt cx="545040" cy="272520"/>
                      </a:xfrm>
                    </p:grpSpPr>
                    <p:grpSp>
                      <p:nvGrpSpPr>
                        <p:cNvPr id="3991" name="Group 460"/>
                        <p:cNvGrpSpPr/>
                        <p:nvPr/>
                      </p:nvGrpSpPr>
                      <p:grpSpPr>
                        <a:xfrm>
                          <a:off x="7021800" y="4307400"/>
                          <a:ext cx="545040" cy="272160"/>
                          <a:chOff x="7021800" y="4307400"/>
                          <a:chExt cx="545040" cy="272160"/>
                        </a:xfrm>
                      </p:grpSpPr>
                      <p:sp>
                        <p:nvSpPr>
                          <p:cNvPr id="3992" name="Rectangle 461"/>
                          <p:cNvSpPr/>
                          <p:nvPr/>
                        </p:nvSpPr>
                        <p:spPr>
                          <a:xfrm>
                            <a:off x="702180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3" name="Rectangle 462"/>
                          <p:cNvSpPr/>
                          <p:nvPr/>
                        </p:nvSpPr>
                        <p:spPr>
                          <a:xfrm>
                            <a:off x="729432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94" name="Rectangle 463"/>
                        <p:cNvSpPr/>
                        <p:nvPr/>
                      </p:nvSpPr>
                      <p:spPr>
                        <a:xfrm>
                          <a:off x="702180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95" name="Group 464"/>
                      <p:cNvGrpSpPr/>
                      <p:nvPr/>
                    </p:nvGrpSpPr>
                    <p:grpSpPr>
                      <a:xfrm>
                        <a:off x="7021800" y="4580640"/>
                        <a:ext cx="545040" cy="272520"/>
                        <a:chOff x="7021800" y="4580640"/>
                        <a:chExt cx="545040" cy="272520"/>
                      </a:xfrm>
                    </p:grpSpPr>
                    <p:grpSp>
                      <p:nvGrpSpPr>
                        <p:cNvPr id="3996" name="Group 465"/>
                        <p:cNvGrpSpPr/>
                        <p:nvPr/>
                      </p:nvGrpSpPr>
                      <p:grpSpPr>
                        <a:xfrm>
                          <a:off x="7021800" y="4580640"/>
                          <a:ext cx="545040" cy="272160"/>
                          <a:chOff x="7021800" y="4580640"/>
                          <a:chExt cx="545040" cy="272160"/>
                        </a:xfrm>
                      </p:grpSpPr>
                      <p:sp>
                        <p:nvSpPr>
                          <p:cNvPr id="3997" name="Rectangle 466"/>
                          <p:cNvSpPr/>
                          <p:nvPr/>
                        </p:nvSpPr>
                        <p:spPr>
                          <a:xfrm>
                            <a:off x="702180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8" name="Rectangle 467"/>
                          <p:cNvSpPr/>
                          <p:nvPr/>
                        </p:nvSpPr>
                        <p:spPr>
                          <a:xfrm>
                            <a:off x="729432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99" name="Rectangle 468"/>
                        <p:cNvSpPr/>
                        <p:nvPr/>
                      </p:nvSpPr>
                      <p:spPr>
                        <a:xfrm>
                          <a:off x="702180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00" name="Group 469"/>
                      <p:cNvGrpSpPr/>
                      <p:nvPr/>
                    </p:nvGrpSpPr>
                    <p:grpSpPr>
                      <a:xfrm>
                        <a:off x="7021800" y="4855680"/>
                        <a:ext cx="545040" cy="272520"/>
                        <a:chOff x="7021800" y="4855680"/>
                        <a:chExt cx="545040" cy="272520"/>
                      </a:xfrm>
                    </p:grpSpPr>
                    <p:grpSp>
                      <p:nvGrpSpPr>
                        <p:cNvPr id="4001" name="Group 470"/>
                        <p:cNvGrpSpPr/>
                        <p:nvPr/>
                      </p:nvGrpSpPr>
                      <p:grpSpPr>
                        <a:xfrm>
                          <a:off x="7021800" y="4855680"/>
                          <a:ext cx="545040" cy="272160"/>
                          <a:chOff x="7021800" y="4855680"/>
                          <a:chExt cx="545040" cy="272160"/>
                        </a:xfrm>
                      </p:grpSpPr>
                      <p:sp>
                        <p:nvSpPr>
                          <p:cNvPr id="4002" name="Rectangle 471"/>
                          <p:cNvSpPr/>
                          <p:nvPr/>
                        </p:nvSpPr>
                        <p:spPr>
                          <a:xfrm>
                            <a:off x="702180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3" name="Rectangle 472"/>
                          <p:cNvSpPr/>
                          <p:nvPr/>
                        </p:nvSpPr>
                        <p:spPr>
                          <a:xfrm>
                            <a:off x="729432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04" name="Rectangle 473"/>
                        <p:cNvSpPr/>
                        <p:nvPr/>
                      </p:nvSpPr>
                      <p:spPr>
                        <a:xfrm>
                          <a:off x="702180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05" name="Group 474"/>
                      <p:cNvGrpSpPr/>
                      <p:nvPr/>
                    </p:nvGrpSpPr>
                    <p:grpSpPr>
                      <a:xfrm>
                        <a:off x="7021800" y="5128920"/>
                        <a:ext cx="545040" cy="272520"/>
                        <a:chOff x="7021800" y="5128920"/>
                        <a:chExt cx="545040" cy="272520"/>
                      </a:xfrm>
                    </p:grpSpPr>
                    <p:grpSp>
                      <p:nvGrpSpPr>
                        <p:cNvPr id="4006" name="Group 475"/>
                        <p:cNvGrpSpPr/>
                        <p:nvPr/>
                      </p:nvGrpSpPr>
                      <p:grpSpPr>
                        <a:xfrm>
                          <a:off x="7021800" y="5128920"/>
                          <a:ext cx="545040" cy="272160"/>
                          <a:chOff x="7021800" y="5128920"/>
                          <a:chExt cx="545040" cy="272160"/>
                        </a:xfrm>
                      </p:grpSpPr>
                      <p:sp>
                        <p:nvSpPr>
                          <p:cNvPr id="4007" name="Rectangle 476"/>
                          <p:cNvSpPr/>
                          <p:nvPr/>
                        </p:nvSpPr>
                        <p:spPr>
                          <a:xfrm>
                            <a:off x="702180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8" name="Rectangle 477"/>
                          <p:cNvSpPr/>
                          <p:nvPr/>
                        </p:nvSpPr>
                        <p:spPr>
                          <a:xfrm>
                            <a:off x="729432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09" name="Rectangle 478"/>
                        <p:cNvSpPr/>
                        <p:nvPr/>
                      </p:nvSpPr>
                      <p:spPr>
                        <a:xfrm>
                          <a:off x="702180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010" name="Group 479"/>
                    <p:cNvGrpSpPr/>
                    <p:nvPr/>
                  </p:nvGrpSpPr>
                  <p:grpSpPr>
                    <a:xfrm>
                      <a:off x="7570080" y="4034880"/>
                      <a:ext cx="545760" cy="1366560"/>
                      <a:chOff x="7570080" y="4034880"/>
                      <a:chExt cx="545760" cy="1366560"/>
                    </a:xfrm>
                  </p:grpSpPr>
                  <p:grpSp>
                    <p:nvGrpSpPr>
                      <p:cNvPr id="4011" name="Group 480"/>
                      <p:cNvGrpSpPr/>
                      <p:nvPr/>
                    </p:nvGrpSpPr>
                    <p:grpSpPr>
                      <a:xfrm>
                        <a:off x="7570080" y="4034880"/>
                        <a:ext cx="545760" cy="272160"/>
                        <a:chOff x="7570080" y="4034880"/>
                        <a:chExt cx="545760" cy="272160"/>
                      </a:xfrm>
                    </p:grpSpPr>
                    <p:grpSp>
                      <p:nvGrpSpPr>
                        <p:cNvPr id="4012" name="Group 481"/>
                        <p:cNvGrpSpPr/>
                        <p:nvPr/>
                      </p:nvGrpSpPr>
                      <p:grpSpPr>
                        <a:xfrm>
                          <a:off x="7570080" y="4034880"/>
                          <a:ext cx="545760" cy="271800"/>
                          <a:chOff x="7570080" y="4034880"/>
                          <a:chExt cx="545760" cy="271800"/>
                        </a:xfrm>
                      </p:grpSpPr>
                      <p:sp>
                        <p:nvSpPr>
                          <p:cNvPr id="4013" name="Rectangle 482"/>
                          <p:cNvSpPr/>
                          <p:nvPr/>
                        </p:nvSpPr>
                        <p:spPr>
                          <a:xfrm>
                            <a:off x="757008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4" name="Rectangle 483"/>
                          <p:cNvSpPr/>
                          <p:nvPr/>
                        </p:nvSpPr>
                        <p:spPr>
                          <a:xfrm>
                            <a:off x="784296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15" name="Rectangle 484"/>
                        <p:cNvSpPr/>
                        <p:nvPr/>
                      </p:nvSpPr>
                      <p:spPr>
                        <a:xfrm>
                          <a:off x="757008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16" name="Group 485"/>
                      <p:cNvGrpSpPr/>
                      <p:nvPr/>
                    </p:nvGrpSpPr>
                    <p:grpSpPr>
                      <a:xfrm>
                        <a:off x="7570080" y="4307400"/>
                        <a:ext cx="545760" cy="272520"/>
                        <a:chOff x="7570080" y="4307400"/>
                        <a:chExt cx="545760" cy="272520"/>
                      </a:xfrm>
                    </p:grpSpPr>
                    <p:grpSp>
                      <p:nvGrpSpPr>
                        <p:cNvPr id="4017" name="Group 486"/>
                        <p:cNvGrpSpPr/>
                        <p:nvPr/>
                      </p:nvGrpSpPr>
                      <p:grpSpPr>
                        <a:xfrm>
                          <a:off x="7570080" y="4307400"/>
                          <a:ext cx="545760" cy="272160"/>
                          <a:chOff x="7570080" y="4307400"/>
                          <a:chExt cx="545760" cy="272160"/>
                        </a:xfrm>
                      </p:grpSpPr>
                      <p:sp>
                        <p:nvSpPr>
                          <p:cNvPr id="4018" name="Rectangle 487"/>
                          <p:cNvSpPr/>
                          <p:nvPr/>
                        </p:nvSpPr>
                        <p:spPr>
                          <a:xfrm>
                            <a:off x="757008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9" name="Rectangle 488"/>
                          <p:cNvSpPr/>
                          <p:nvPr/>
                        </p:nvSpPr>
                        <p:spPr>
                          <a:xfrm>
                            <a:off x="784296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20" name="Rectangle 489"/>
                        <p:cNvSpPr/>
                        <p:nvPr/>
                      </p:nvSpPr>
                      <p:spPr>
                        <a:xfrm>
                          <a:off x="757008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21" name="Group 490"/>
                      <p:cNvGrpSpPr/>
                      <p:nvPr/>
                    </p:nvGrpSpPr>
                    <p:grpSpPr>
                      <a:xfrm>
                        <a:off x="7570080" y="4580640"/>
                        <a:ext cx="545760" cy="272520"/>
                        <a:chOff x="7570080" y="4580640"/>
                        <a:chExt cx="545760" cy="272520"/>
                      </a:xfrm>
                    </p:grpSpPr>
                    <p:grpSp>
                      <p:nvGrpSpPr>
                        <p:cNvPr id="4022" name="Group 491"/>
                        <p:cNvGrpSpPr/>
                        <p:nvPr/>
                      </p:nvGrpSpPr>
                      <p:grpSpPr>
                        <a:xfrm>
                          <a:off x="7570080" y="4580640"/>
                          <a:ext cx="545760" cy="272160"/>
                          <a:chOff x="7570080" y="4580640"/>
                          <a:chExt cx="545760" cy="272160"/>
                        </a:xfrm>
                      </p:grpSpPr>
                      <p:sp>
                        <p:nvSpPr>
                          <p:cNvPr id="4023" name="Rectangle 492"/>
                          <p:cNvSpPr/>
                          <p:nvPr/>
                        </p:nvSpPr>
                        <p:spPr>
                          <a:xfrm>
                            <a:off x="757008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24" name="Rectangle 493"/>
                          <p:cNvSpPr/>
                          <p:nvPr/>
                        </p:nvSpPr>
                        <p:spPr>
                          <a:xfrm>
                            <a:off x="784296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25" name="Rectangle 494"/>
                        <p:cNvSpPr/>
                        <p:nvPr/>
                      </p:nvSpPr>
                      <p:spPr>
                        <a:xfrm>
                          <a:off x="757008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26" name="Group 495"/>
                      <p:cNvGrpSpPr/>
                      <p:nvPr/>
                    </p:nvGrpSpPr>
                    <p:grpSpPr>
                      <a:xfrm>
                        <a:off x="7570080" y="4855680"/>
                        <a:ext cx="545760" cy="272520"/>
                        <a:chOff x="7570080" y="4855680"/>
                        <a:chExt cx="545760" cy="272520"/>
                      </a:xfrm>
                    </p:grpSpPr>
                    <p:grpSp>
                      <p:nvGrpSpPr>
                        <p:cNvPr id="4027" name="Group 496"/>
                        <p:cNvGrpSpPr/>
                        <p:nvPr/>
                      </p:nvGrpSpPr>
                      <p:grpSpPr>
                        <a:xfrm>
                          <a:off x="7570080" y="4855680"/>
                          <a:ext cx="545760" cy="272160"/>
                          <a:chOff x="7570080" y="4855680"/>
                          <a:chExt cx="545760" cy="272160"/>
                        </a:xfrm>
                      </p:grpSpPr>
                      <p:sp>
                        <p:nvSpPr>
                          <p:cNvPr id="4028" name="Rectangle 497"/>
                          <p:cNvSpPr/>
                          <p:nvPr/>
                        </p:nvSpPr>
                        <p:spPr>
                          <a:xfrm>
                            <a:off x="757008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29" name="Rectangle 498"/>
                          <p:cNvSpPr/>
                          <p:nvPr/>
                        </p:nvSpPr>
                        <p:spPr>
                          <a:xfrm>
                            <a:off x="784296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30" name="Rectangle 499"/>
                        <p:cNvSpPr/>
                        <p:nvPr/>
                      </p:nvSpPr>
                      <p:spPr>
                        <a:xfrm>
                          <a:off x="757008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31" name="Group 500"/>
                      <p:cNvGrpSpPr/>
                      <p:nvPr/>
                    </p:nvGrpSpPr>
                    <p:grpSpPr>
                      <a:xfrm>
                        <a:off x="7570080" y="5128920"/>
                        <a:ext cx="545760" cy="272520"/>
                        <a:chOff x="7570080" y="5128920"/>
                        <a:chExt cx="545760" cy="272520"/>
                      </a:xfrm>
                    </p:grpSpPr>
                    <p:grpSp>
                      <p:nvGrpSpPr>
                        <p:cNvPr id="4032" name="Group 501"/>
                        <p:cNvGrpSpPr/>
                        <p:nvPr/>
                      </p:nvGrpSpPr>
                      <p:grpSpPr>
                        <a:xfrm>
                          <a:off x="7570080" y="5128920"/>
                          <a:ext cx="545760" cy="272160"/>
                          <a:chOff x="7570080" y="5128920"/>
                          <a:chExt cx="545760" cy="272160"/>
                        </a:xfrm>
                      </p:grpSpPr>
                      <p:sp>
                        <p:nvSpPr>
                          <p:cNvPr id="4033" name="Rectangle 502"/>
                          <p:cNvSpPr/>
                          <p:nvPr/>
                        </p:nvSpPr>
                        <p:spPr>
                          <a:xfrm>
                            <a:off x="757008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34" name="Rectangle 503"/>
                          <p:cNvSpPr/>
                          <p:nvPr/>
                        </p:nvSpPr>
                        <p:spPr>
                          <a:xfrm>
                            <a:off x="784296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35" name="Rectangle 504"/>
                        <p:cNvSpPr/>
                        <p:nvPr/>
                      </p:nvSpPr>
                      <p:spPr>
                        <a:xfrm>
                          <a:off x="757008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036" name="Group 505"/>
                    <p:cNvGrpSpPr/>
                    <p:nvPr/>
                  </p:nvGrpSpPr>
                  <p:grpSpPr>
                    <a:xfrm>
                      <a:off x="8116920" y="4034880"/>
                      <a:ext cx="545040" cy="1366560"/>
                      <a:chOff x="8116920" y="4034880"/>
                      <a:chExt cx="545040" cy="1366560"/>
                    </a:xfrm>
                  </p:grpSpPr>
                  <p:grpSp>
                    <p:nvGrpSpPr>
                      <p:cNvPr id="4037" name="Group 506"/>
                      <p:cNvGrpSpPr/>
                      <p:nvPr/>
                    </p:nvGrpSpPr>
                    <p:grpSpPr>
                      <a:xfrm>
                        <a:off x="8116920" y="4034880"/>
                        <a:ext cx="545040" cy="272160"/>
                        <a:chOff x="8116920" y="4034880"/>
                        <a:chExt cx="545040" cy="272160"/>
                      </a:xfrm>
                    </p:grpSpPr>
                    <p:grpSp>
                      <p:nvGrpSpPr>
                        <p:cNvPr id="4038" name="Group 507"/>
                        <p:cNvGrpSpPr/>
                        <p:nvPr/>
                      </p:nvGrpSpPr>
                      <p:grpSpPr>
                        <a:xfrm>
                          <a:off x="8116920" y="4034880"/>
                          <a:ext cx="545040" cy="271800"/>
                          <a:chOff x="8116920" y="4034880"/>
                          <a:chExt cx="545040" cy="271800"/>
                        </a:xfrm>
                      </p:grpSpPr>
                      <p:sp>
                        <p:nvSpPr>
                          <p:cNvPr id="4039" name="Rectangle 508"/>
                          <p:cNvSpPr/>
                          <p:nvPr/>
                        </p:nvSpPr>
                        <p:spPr>
                          <a:xfrm>
                            <a:off x="811692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0" name="Rectangle 509"/>
                          <p:cNvSpPr/>
                          <p:nvPr/>
                        </p:nvSpPr>
                        <p:spPr>
                          <a:xfrm>
                            <a:off x="838944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41" name="Rectangle 510"/>
                        <p:cNvSpPr/>
                        <p:nvPr/>
                      </p:nvSpPr>
                      <p:spPr>
                        <a:xfrm>
                          <a:off x="811692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42" name="Group 511"/>
                      <p:cNvGrpSpPr/>
                      <p:nvPr/>
                    </p:nvGrpSpPr>
                    <p:grpSpPr>
                      <a:xfrm>
                        <a:off x="8116920" y="4307400"/>
                        <a:ext cx="545040" cy="272520"/>
                        <a:chOff x="8116920" y="4307400"/>
                        <a:chExt cx="545040" cy="272520"/>
                      </a:xfrm>
                    </p:grpSpPr>
                    <p:grpSp>
                      <p:nvGrpSpPr>
                        <p:cNvPr id="4043" name="Group 512"/>
                        <p:cNvGrpSpPr/>
                        <p:nvPr/>
                      </p:nvGrpSpPr>
                      <p:grpSpPr>
                        <a:xfrm>
                          <a:off x="8116920" y="4307400"/>
                          <a:ext cx="545040" cy="272160"/>
                          <a:chOff x="8116920" y="4307400"/>
                          <a:chExt cx="545040" cy="272160"/>
                        </a:xfrm>
                      </p:grpSpPr>
                      <p:sp>
                        <p:nvSpPr>
                          <p:cNvPr id="4044" name="Rectangle 513"/>
                          <p:cNvSpPr/>
                          <p:nvPr/>
                        </p:nvSpPr>
                        <p:spPr>
                          <a:xfrm>
                            <a:off x="811692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5" name="Rectangle 514"/>
                          <p:cNvSpPr/>
                          <p:nvPr/>
                        </p:nvSpPr>
                        <p:spPr>
                          <a:xfrm>
                            <a:off x="838944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46" name="Rectangle 515"/>
                        <p:cNvSpPr/>
                        <p:nvPr/>
                      </p:nvSpPr>
                      <p:spPr>
                        <a:xfrm>
                          <a:off x="811692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47" name="Group 516"/>
                      <p:cNvGrpSpPr/>
                      <p:nvPr/>
                    </p:nvGrpSpPr>
                    <p:grpSpPr>
                      <a:xfrm>
                        <a:off x="8116920" y="4580640"/>
                        <a:ext cx="545040" cy="272520"/>
                        <a:chOff x="8116920" y="4580640"/>
                        <a:chExt cx="545040" cy="272520"/>
                      </a:xfrm>
                    </p:grpSpPr>
                    <p:grpSp>
                      <p:nvGrpSpPr>
                        <p:cNvPr id="4048" name="Group 517"/>
                        <p:cNvGrpSpPr/>
                        <p:nvPr/>
                      </p:nvGrpSpPr>
                      <p:grpSpPr>
                        <a:xfrm>
                          <a:off x="8116920" y="4580640"/>
                          <a:ext cx="545040" cy="272160"/>
                          <a:chOff x="8116920" y="4580640"/>
                          <a:chExt cx="545040" cy="272160"/>
                        </a:xfrm>
                      </p:grpSpPr>
                      <p:sp>
                        <p:nvSpPr>
                          <p:cNvPr id="4049" name="Rectangle 518"/>
                          <p:cNvSpPr/>
                          <p:nvPr/>
                        </p:nvSpPr>
                        <p:spPr>
                          <a:xfrm>
                            <a:off x="811692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0" name="Rectangle 519"/>
                          <p:cNvSpPr/>
                          <p:nvPr/>
                        </p:nvSpPr>
                        <p:spPr>
                          <a:xfrm>
                            <a:off x="838944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51" name="Rectangle 520"/>
                        <p:cNvSpPr/>
                        <p:nvPr/>
                      </p:nvSpPr>
                      <p:spPr>
                        <a:xfrm>
                          <a:off x="811692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52" name="Group 521"/>
                      <p:cNvGrpSpPr/>
                      <p:nvPr/>
                    </p:nvGrpSpPr>
                    <p:grpSpPr>
                      <a:xfrm>
                        <a:off x="8116920" y="4855680"/>
                        <a:ext cx="545040" cy="272520"/>
                        <a:chOff x="8116920" y="4855680"/>
                        <a:chExt cx="545040" cy="272520"/>
                      </a:xfrm>
                    </p:grpSpPr>
                    <p:grpSp>
                      <p:nvGrpSpPr>
                        <p:cNvPr id="4053" name="Group 522"/>
                        <p:cNvGrpSpPr/>
                        <p:nvPr/>
                      </p:nvGrpSpPr>
                      <p:grpSpPr>
                        <a:xfrm>
                          <a:off x="8116920" y="4855680"/>
                          <a:ext cx="545040" cy="272160"/>
                          <a:chOff x="8116920" y="4855680"/>
                          <a:chExt cx="545040" cy="272160"/>
                        </a:xfrm>
                      </p:grpSpPr>
                      <p:sp>
                        <p:nvSpPr>
                          <p:cNvPr id="4054" name="Rectangle 523"/>
                          <p:cNvSpPr/>
                          <p:nvPr/>
                        </p:nvSpPr>
                        <p:spPr>
                          <a:xfrm>
                            <a:off x="811692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5" name="Rectangle 524"/>
                          <p:cNvSpPr/>
                          <p:nvPr/>
                        </p:nvSpPr>
                        <p:spPr>
                          <a:xfrm>
                            <a:off x="838944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56" name="Rectangle 525"/>
                        <p:cNvSpPr/>
                        <p:nvPr/>
                      </p:nvSpPr>
                      <p:spPr>
                        <a:xfrm>
                          <a:off x="811692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57" name="Group 526"/>
                      <p:cNvGrpSpPr/>
                      <p:nvPr/>
                    </p:nvGrpSpPr>
                    <p:grpSpPr>
                      <a:xfrm>
                        <a:off x="8116920" y="5128920"/>
                        <a:ext cx="545040" cy="272520"/>
                        <a:chOff x="8116920" y="5128920"/>
                        <a:chExt cx="545040" cy="272520"/>
                      </a:xfrm>
                    </p:grpSpPr>
                    <p:grpSp>
                      <p:nvGrpSpPr>
                        <p:cNvPr id="4058" name="Group 527"/>
                        <p:cNvGrpSpPr/>
                        <p:nvPr/>
                      </p:nvGrpSpPr>
                      <p:grpSpPr>
                        <a:xfrm>
                          <a:off x="8116920" y="5128920"/>
                          <a:ext cx="545040" cy="272160"/>
                          <a:chOff x="8116920" y="5128920"/>
                          <a:chExt cx="545040" cy="272160"/>
                        </a:xfrm>
                      </p:grpSpPr>
                      <p:sp>
                        <p:nvSpPr>
                          <p:cNvPr id="4059" name="Rectangle 528"/>
                          <p:cNvSpPr/>
                          <p:nvPr/>
                        </p:nvSpPr>
                        <p:spPr>
                          <a:xfrm>
                            <a:off x="811692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0" name="Rectangle 529"/>
                          <p:cNvSpPr/>
                          <p:nvPr/>
                        </p:nvSpPr>
                        <p:spPr>
                          <a:xfrm>
                            <a:off x="838944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61" name="Rectangle 530"/>
                        <p:cNvSpPr/>
                        <p:nvPr/>
                      </p:nvSpPr>
                      <p:spPr>
                        <a:xfrm>
                          <a:off x="811692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062" name="Group 820"/>
                <p:cNvGrpSpPr/>
                <p:nvPr/>
              </p:nvGrpSpPr>
              <p:grpSpPr>
                <a:xfrm>
                  <a:off x="457200" y="2666880"/>
                  <a:ext cx="2733120" cy="2734560"/>
                  <a:chOff x="457200" y="2666880"/>
                  <a:chExt cx="2733120" cy="2734560"/>
                </a:xfrm>
              </p:grpSpPr>
              <p:grpSp>
                <p:nvGrpSpPr>
                  <p:cNvPr id="4063" name="Group 532"/>
                  <p:cNvGrpSpPr/>
                  <p:nvPr/>
                </p:nvGrpSpPr>
                <p:grpSpPr>
                  <a:xfrm>
                    <a:off x="457200" y="2666880"/>
                    <a:ext cx="2733120" cy="1366560"/>
                    <a:chOff x="457200" y="2666880"/>
                    <a:chExt cx="2733120" cy="1366560"/>
                  </a:xfrm>
                </p:grpSpPr>
                <p:grpSp>
                  <p:nvGrpSpPr>
                    <p:cNvPr id="4064" name="Group 533"/>
                    <p:cNvGrpSpPr/>
                    <p:nvPr/>
                  </p:nvGrpSpPr>
                  <p:grpSpPr>
                    <a:xfrm>
                      <a:off x="457200" y="2666880"/>
                      <a:ext cx="545040" cy="1366560"/>
                      <a:chOff x="457200" y="2666880"/>
                      <a:chExt cx="545040" cy="1366560"/>
                    </a:xfrm>
                  </p:grpSpPr>
                  <p:grpSp>
                    <p:nvGrpSpPr>
                      <p:cNvPr id="4065" name="Group 534"/>
                      <p:cNvGrpSpPr/>
                      <p:nvPr/>
                    </p:nvGrpSpPr>
                    <p:grpSpPr>
                      <a:xfrm>
                        <a:off x="457200" y="2666880"/>
                        <a:ext cx="545040" cy="272160"/>
                        <a:chOff x="457200" y="2666880"/>
                        <a:chExt cx="545040" cy="272160"/>
                      </a:xfrm>
                    </p:grpSpPr>
                    <p:grpSp>
                      <p:nvGrpSpPr>
                        <p:cNvPr id="4066" name="Group 535"/>
                        <p:cNvGrpSpPr/>
                        <p:nvPr/>
                      </p:nvGrpSpPr>
                      <p:grpSpPr>
                        <a:xfrm>
                          <a:off x="457200" y="2666880"/>
                          <a:ext cx="545040" cy="271800"/>
                          <a:chOff x="457200" y="2666880"/>
                          <a:chExt cx="545040" cy="271800"/>
                        </a:xfrm>
                      </p:grpSpPr>
                      <p:sp>
                        <p:nvSpPr>
                          <p:cNvPr id="4067" name="Rectangle 536"/>
                          <p:cNvSpPr/>
                          <p:nvPr/>
                        </p:nvSpPr>
                        <p:spPr>
                          <a:xfrm>
                            <a:off x="45720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8" name="Rectangle 537"/>
                          <p:cNvSpPr/>
                          <p:nvPr/>
                        </p:nvSpPr>
                        <p:spPr>
                          <a:xfrm>
                            <a:off x="72972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69" name="Rectangle 538"/>
                        <p:cNvSpPr/>
                        <p:nvPr/>
                      </p:nvSpPr>
                      <p:spPr>
                        <a:xfrm>
                          <a:off x="457200" y="266688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70" name="Group 539"/>
                      <p:cNvGrpSpPr/>
                      <p:nvPr/>
                    </p:nvGrpSpPr>
                    <p:grpSpPr>
                      <a:xfrm>
                        <a:off x="457200" y="2939400"/>
                        <a:ext cx="545040" cy="272520"/>
                        <a:chOff x="457200" y="2939400"/>
                        <a:chExt cx="545040" cy="272520"/>
                      </a:xfrm>
                    </p:grpSpPr>
                    <p:grpSp>
                      <p:nvGrpSpPr>
                        <p:cNvPr id="4071" name="Group 540"/>
                        <p:cNvGrpSpPr/>
                        <p:nvPr/>
                      </p:nvGrpSpPr>
                      <p:grpSpPr>
                        <a:xfrm>
                          <a:off x="457200" y="2939400"/>
                          <a:ext cx="545040" cy="272160"/>
                          <a:chOff x="457200" y="2939400"/>
                          <a:chExt cx="545040" cy="272160"/>
                        </a:xfrm>
                      </p:grpSpPr>
                      <p:sp>
                        <p:nvSpPr>
                          <p:cNvPr id="4072" name="Rectangle 541"/>
                          <p:cNvSpPr/>
                          <p:nvPr/>
                        </p:nvSpPr>
                        <p:spPr>
                          <a:xfrm>
                            <a:off x="45720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73" name="Rectangle 542"/>
                          <p:cNvSpPr/>
                          <p:nvPr/>
                        </p:nvSpPr>
                        <p:spPr>
                          <a:xfrm>
                            <a:off x="72972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74" name="Rectangle 543"/>
                        <p:cNvSpPr/>
                        <p:nvPr/>
                      </p:nvSpPr>
                      <p:spPr>
                        <a:xfrm>
                          <a:off x="457200" y="293940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75" name="Group 544"/>
                      <p:cNvGrpSpPr/>
                      <p:nvPr/>
                    </p:nvGrpSpPr>
                    <p:grpSpPr>
                      <a:xfrm>
                        <a:off x="457200" y="3212640"/>
                        <a:ext cx="545040" cy="272520"/>
                        <a:chOff x="457200" y="3212640"/>
                        <a:chExt cx="545040" cy="272520"/>
                      </a:xfrm>
                    </p:grpSpPr>
                    <p:grpSp>
                      <p:nvGrpSpPr>
                        <p:cNvPr id="4076" name="Group 545"/>
                        <p:cNvGrpSpPr/>
                        <p:nvPr/>
                      </p:nvGrpSpPr>
                      <p:grpSpPr>
                        <a:xfrm>
                          <a:off x="457200" y="3212640"/>
                          <a:ext cx="545040" cy="272160"/>
                          <a:chOff x="457200" y="3212640"/>
                          <a:chExt cx="545040" cy="272160"/>
                        </a:xfrm>
                      </p:grpSpPr>
                      <p:sp>
                        <p:nvSpPr>
                          <p:cNvPr id="4077" name="Rectangle 546"/>
                          <p:cNvSpPr/>
                          <p:nvPr/>
                        </p:nvSpPr>
                        <p:spPr>
                          <a:xfrm>
                            <a:off x="45720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78" name="Rectangle 547"/>
                          <p:cNvSpPr/>
                          <p:nvPr/>
                        </p:nvSpPr>
                        <p:spPr>
                          <a:xfrm>
                            <a:off x="72972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79" name="Rectangle 548"/>
                        <p:cNvSpPr/>
                        <p:nvPr/>
                      </p:nvSpPr>
                      <p:spPr>
                        <a:xfrm>
                          <a:off x="457200" y="32126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80" name="Group 549"/>
                      <p:cNvGrpSpPr/>
                      <p:nvPr/>
                    </p:nvGrpSpPr>
                    <p:grpSpPr>
                      <a:xfrm>
                        <a:off x="457200" y="3487680"/>
                        <a:ext cx="545040" cy="272520"/>
                        <a:chOff x="457200" y="3487680"/>
                        <a:chExt cx="545040" cy="272520"/>
                      </a:xfrm>
                    </p:grpSpPr>
                    <p:grpSp>
                      <p:nvGrpSpPr>
                        <p:cNvPr id="4081" name="Group 550"/>
                        <p:cNvGrpSpPr/>
                        <p:nvPr/>
                      </p:nvGrpSpPr>
                      <p:grpSpPr>
                        <a:xfrm>
                          <a:off x="457200" y="3487680"/>
                          <a:ext cx="545040" cy="272160"/>
                          <a:chOff x="457200" y="3487680"/>
                          <a:chExt cx="545040" cy="272160"/>
                        </a:xfrm>
                      </p:grpSpPr>
                      <p:sp>
                        <p:nvSpPr>
                          <p:cNvPr id="4082" name="Rectangle 551"/>
                          <p:cNvSpPr/>
                          <p:nvPr/>
                        </p:nvSpPr>
                        <p:spPr>
                          <a:xfrm>
                            <a:off x="45720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83" name="Rectangle 552"/>
                          <p:cNvSpPr/>
                          <p:nvPr/>
                        </p:nvSpPr>
                        <p:spPr>
                          <a:xfrm>
                            <a:off x="72972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84" name="Rectangle 553"/>
                        <p:cNvSpPr/>
                        <p:nvPr/>
                      </p:nvSpPr>
                      <p:spPr>
                        <a:xfrm>
                          <a:off x="457200" y="34876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85" name="Group 554"/>
                      <p:cNvGrpSpPr/>
                      <p:nvPr/>
                    </p:nvGrpSpPr>
                    <p:grpSpPr>
                      <a:xfrm>
                        <a:off x="457200" y="3760920"/>
                        <a:ext cx="545040" cy="272520"/>
                        <a:chOff x="457200" y="3760920"/>
                        <a:chExt cx="545040" cy="272520"/>
                      </a:xfrm>
                    </p:grpSpPr>
                    <p:grpSp>
                      <p:nvGrpSpPr>
                        <p:cNvPr id="4086" name="Group 555"/>
                        <p:cNvGrpSpPr/>
                        <p:nvPr/>
                      </p:nvGrpSpPr>
                      <p:grpSpPr>
                        <a:xfrm>
                          <a:off x="457200" y="3760920"/>
                          <a:ext cx="545040" cy="272160"/>
                          <a:chOff x="457200" y="3760920"/>
                          <a:chExt cx="545040" cy="272160"/>
                        </a:xfrm>
                      </p:grpSpPr>
                      <p:sp>
                        <p:nvSpPr>
                          <p:cNvPr id="4087" name="Rectangle 556"/>
                          <p:cNvSpPr/>
                          <p:nvPr/>
                        </p:nvSpPr>
                        <p:spPr>
                          <a:xfrm>
                            <a:off x="45720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88" name="Rectangle 557"/>
                          <p:cNvSpPr/>
                          <p:nvPr/>
                        </p:nvSpPr>
                        <p:spPr>
                          <a:xfrm>
                            <a:off x="72972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89" name="Rectangle 558"/>
                        <p:cNvSpPr/>
                        <p:nvPr/>
                      </p:nvSpPr>
                      <p:spPr>
                        <a:xfrm>
                          <a:off x="457200" y="37609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090" name="Group 559"/>
                    <p:cNvGrpSpPr/>
                    <p:nvPr/>
                  </p:nvGrpSpPr>
                  <p:grpSpPr>
                    <a:xfrm>
                      <a:off x="1003320" y="2666880"/>
                      <a:ext cx="545760" cy="1366560"/>
                      <a:chOff x="1003320" y="2666880"/>
                      <a:chExt cx="545760" cy="1366560"/>
                    </a:xfrm>
                  </p:grpSpPr>
                  <p:grpSp>
                    <p:nvGrpSpPr>
                      <p:cNvPr id="4091" name="Group 560"/>
                      <p:cNvGrpSpPr/>
                      <p:nvPr/>
                    </p:nvGrpSpPr>
                    <p:grpSpPr>
                      <a:xfrm>
                        <a:off x="1003320" y="2666880"/>
                        <a:ext cx="545760" cy="272160"/>
                        <a:chOff x="1003320" y="2666880"/>
                        <a:chExt cx="545760" cy="272160"/>
                      </a:xfrm>
                    </p:grpSpPr>
                    <p:grpSp>
                      <p:nvGrpSpPr>
                        <p:cNvPr id="4092" name="Group 561"/>
                        <p:cNvGrpSpPr/>
                        <p:nvPr/>
                      </p:nvGrpSpPr>
                      <p:grpSpPr>
                        <a:xfrm>
                          <a:off x="1003320" y="2666880"/>
                          <a:ext cx="545760" cy="271800"/>
                          <a:chOff x="1003320" y="2666880"/>
                          <a:chExt cx="545760" cy="271800"/>
                        </a:xfrm>
                      </p:grpSpPr>
                      <p:sp>
                        <p:nvSpPr>
                          <p:cNvPr id="4093" name="Rectangle 562"/>
                          <p:cNvSpPr/>
                          <p:nvPr/>
                        </p:nvSpPr>
                        <p:spPr>
                          <a:xfrm>
                            <a:off x="100332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94" name="Rectangle 563"/>
                          <p:cNvSpPr/>
                          <p:nvPr/>
                        </p:nvSpPr>
                        <p:spPr>
                          <a:xfrm>
                            <a:off x="127620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95" name="Rectangle 564"/>
                        <p:cNvSpPr/>
                        <p:nvPr/>
                      </p:nvSpPr>
                      <p:spPr>
                        <a:xfrm>
                          <a:off x="100332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96" name="Group 565"/>
                      <p:cNvGrpSpPr/>
                      <p:nvPr/>
                    </p:nvGrpSpPr>
                    <p:grpSpPr>
                      <a:xfrm>
                        <a:off x="1003320" y="2939400"/>
                        <a:ext cx="545760" cy="272520"/>
                        <a:chOff x="1003320" y="2939400"/>
                        <a:chExt cx="545760" cy="272520"/>
                      </a:xfrm>
                    </p:grpSpPr>
                    <p:grpSp>
                      <p:nvGrpSpPr>
                        <p:cNvPr id="4097" name="Group 566"/>
                        <p:cNvGrpSpPr/>
                        <p:nvPr/>
                      </p:nvGrpSpPr>
                      <p:grpSpPr>
                        <a:xfrm>
                          <a:off x="1003320" y="2939400"/>
                          <a:ext cx="545760" cy="272160"/>
                          <a:chOff x="1003320" y="2939400"/>
                          <a:chExt cx="545760" cy="272160"/>
                        </a:xfrm>
                      </p:grpSpPr>
                      <p:sp>
                        <p:nvSpPr>
                          <p:cNvPr id="4098" name="Rectangle 567"/>
                          <p:cNvSpPr/>
                          <p:nvPr/>
                        </p:nvSpPr>
                        <p:spPr>
                          <a:xfrm>
                            <a:off x="100332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99" name="Rectangle 568"/>
                          <p:cNvSpPr/>
                          <p:nvPr/>
                        </p:nvSpPr>
                        <p:spPr>
                          <a:xfrm>
                            <a:off x="127620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00" name="Rectangle 569"/>
                        <p:cNvSpPr/>
                        <p:nvPr/>
                      </p:nvSpPr>
                      <p:spPr>
                        <a:xfrm>
                          <a:off x="100332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01" name="Group 570"/>
                      <p:cNvGrpSpPr/>
                      <p:nvPr/>
                    </p:nvGrpSpPr>
                    <p:grpSpPr>
                      <a:xfrm>
                        <a:off x="1003320" y="3212640"/>
                        <a:ext cx="545760" cy="272520"/>
                        <a:chOff x="1003320" y="3212640"/>
                        <a:chExt cx="545760" cy="272520"/>
                      </a:xfrm>
                    </p:grpSpPr>
                    <p:grpSp>
                      <p:nvGrpSpPr>
                        <p:cNvPr id="4102" name="Group 571"/>
                        <p:cNvGrpSpPr/>
                        <p:nvPr/>
                      </p:nvGrpSpPr>
                      <p:grpSpPr>
                        <a:xfrm>
                          <a:off x="1003320" y="3212640"/>
                          <a:ext cx="545760" cy="272160"/>
                          <a:chOff x="1003320" y="3212640"/>
                          <a:chExt cx="545760" cy="272160"/>
                        </a:xfrm>
                      </p:grpSpPr>
                      <p:sp>
                        <p:nvSpPr>
                          <p:cNvPr id="4103" name="Rectangle 572"/>
                          <p:cNvSpPr/>
                          <p:nvPr/>
                        </p:nvSpPr>
                        <p:spPr>
                          <a:xfrm>
                            <a:off x="100332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4" name="Rectangle 573"/>
                          <p:cNvSpPr/>
                          <p:nvPr/>
                        </p:nvSpPr>
                        <p:spPr>
                          <a:xfrm>
                            <a:off x="127620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05" name="Rectangle 574"/>
                        <p:cNvSpPr/>
                        <p:nvPr/>
                      </p:nvSpPr>
                      <p:spPr>
                        <a:xfrm>
                          <a:off x="100332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06" name="Group 575"/>
                      <p:cNvGrpSpPr/>
                      <p:nvPr/>
                    </p:nvGrpSpPr>
                    <p:grpSpPr>
                      <a:xfrm>
                        <a:off x="1003320" y="3487680"/>
                        <a:ext cx="545760" cy="272520"/>
                        <a:chOff x="1003320" y="3487680"/>
                        <a:chExt cx="545760" cy="272520"/>
                      </a:xfrm>
                    </p:grpSpPr>
                    <p:grpSp>
                      <p:nvGrpSpPr>
                        <p:cNvPr id="4107" name="Group 576"/>
                        <p:cNvGrpSpPr/>
                        <p:nvPr/>
                      </p:nvGrpSpPr>
                      <p:grpSpPr>
                        <a:xfrm>
                          <a:off x="1003320" y="3487680"/>
                          <a:ext cx="545760" cy="272160"/>
                          <a:chOff x="1003320" y="3487680"/>
                          <a:chExt cx="545760" cy="272160"/>
                        </a:xfrm>
                      </p:grpSpPr>
                      <p:sp>
                        <p:nvSpPr>
                          <p:cNvPr id="4108" name="Rectangle 577"/>
                          <p:cNvSpPr/>
                          <p:nvPr/>
                        </p:nvSpPr>
                        <p:spPr>
                          <a:xfrm>
                            <a:off x="100332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9" name="Rectangle 578"/>
                          <p:cNvSpPr/>
                          <p:nvPr/>
                        </p:nvSpPr>
                        <p:spPr>
                          <a:xfrm>
                            <a:off x="127620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10" name="Rectangle 579"/>
                        <p:cNvSpPr/>
                        <p:nvPr/>
                      </p:nvSpPr>
                      <p:spPr>
                        <a:xfrm>
                          <a:off x="100332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11" name="Group 580"/>
                      <p:cNvGrpSpPr/>
                      <p:nvPr/>
                    </p:nvGrpSpPr>
                    <p:grpSpPr>
                      <a:xfrm>
                        <a:off x="1003320" y="3760920"/>
                        <a:ext cx="545760" cy="272520"/>
                        <a:chOff x="1003320" y="3760920"/>
                        <a:chExt cx="545760" cy="272520"/>
                      </a:xfrm>
                    </p:grpSpPr>
                    <p:grpSp>
                      <p:nvGrpSpPr>
                        <p:cNvPr id="4112" name="Group 581"/>
                        <p:cNvGrpSpPr/>
                        <p:nvPr/>
                      </p:nvGrpSpPr>
                      <p:grpSpPr>
                        <a:xfrm>
                          <a:off x="1003320" y="3760920"/>
                          <a:ext cx="545760" cy="272160"/>
                          <a:chOff x="1003320" y="3760920"/>
                          <a:chExt cx="545760" cy="272160"/>
                        </a:xfrm>
                      </p:grpSpPr>
                      <p:sp>
                        <p:nvSpPr>
                          <p:cNvPr id="4113" name="Rectangle 582"/>
                          <p:cNvSpPr/>
                          <p:nvPr/>
                        </p:nvSpPr>
                        <p:spPr>
                          <a:xfrm>
                            <a:off x="100332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4" name="Rectangle 583"/>
                          <p:cNvSpPr/>
                          <p:nvPr/>
                        </p:nvSpPr>
                        <p:spPr>
                          <a:xfrm>
                            <a:off x="127620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15" name="Rectangle 584"/>
                        <p:cNvSpPr/>
                        <p:nvPr/>
                      </p:nvSpPr>
                      <p:spPr>
                        <a:xfrm>
                          <a:off x="100332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16" name="Group 585"/>
                    <p:cNvGrpSpPr/>
                    <p:nvPr/>
                  </p:nvGrpSpPr>
                  <p:grpSpPr>
                    <a:xfrm>
                      <a:off x="1550160" y="2666880"/>
                      <a:ext cx="545040" cy="1366560"/>
                      <a:chOff x="1550160" y="2666880"/>
                      <a:chExt cx="545040" cy="1366560"/>
                    </a:xfrm>
                  </p:grpSpPr>
                  <p:grpSp>
                    <p:nvGrpSpPr>
                      <p:cNvPr id="4117" name="Group 586"/>
                      <p:cNvGrpSpPr/>
                      <p:nvPr/>
                    </p:nvGrpSpPr>
                    <p:grpSpPr>
                      <a:xfrm>
                        <a:off x="1550160" y="2666880"/>
                        <a:ext cx="545040" cy="272160"/>
                        <a:chOff x="1550160" y="2666880"/>
                        <a:chExt cx="545040" cy="272160"/>
                      </a:xfrm>
                    </p:grpSpPr>
                    <p:grpSp>
                      <p:nvGrpSpPr>
                        <p:cNvPr id="4118" name="Group 587"/>
                        <p:cNvGrpSpPr/>
                        <p:nvPr/>
                      </p:nvGrpSpPr>
                      <p:grpSpPr>
                        <a:xfrm>
                          <a:off x="1550160" y="2666880"/>
                          <a:ext cx="545040" cy="271800"/>
                          <a:chOff x="1550160" y="2666880"/>
                          <a:chExt cx="545040" cy="271800"/>
                        </a:xfrm>
                      </p:grpSpPr>
                      <p:sp>
                        <p:nvSpPr>
                          <p:cNvPr id="4119" name="Rectangle 588"/>
                          <p:cNvSpPr/>
                          <p:nvPr/>
                        </p:nvSpPr>
                        <p:spPr>
                          <a:xfrm>
                            <a:off x="155016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0" name="Rectangle 589"/>
                          <p:cNvSpPr/>
                          <p:nvPr/>
                        </p:nvSpPr>
                        <p:spPr>
                          <a:xfrm>
                            <a:off x="182268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21" name="Rectangle 590"/>
                        <p:cNvSpPr/>
                        <p:nvPr/>
                      </p:nvSpPr>
                      <p:spPr>
                        <a:xfrm>
                          <a:off x="1550160" y="266688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22" name="Group 591"/>
                      <p:cNvGrpSpPr/>
                      <p:nvPr/>
                    </p:nvGrpSpPr>
                    <p:grpSpPr>
                      <a:xfrm>
                        <a:off x="1550160" y="2939400"/>
                        <a:ext cx="545040" cy="272520"/>
                        <a:chOff x="1550160" y="2939400"/>
                        <a:chExt cx="545040" cy="272520"/>
                      </a:xfrm>
                    </p:grpSpPr>
                    <p:grpSp>
                      <p:nvGrpSpPr>
                        <p:cNvPr id="4123" name="Group 592"/>
                        <p:cNvGrpSpPr/>
                        <p:nvPr/>
                      </p:nvGrpSpPr>
                      <p:grpSpPr>
                        <a:xfrm>
                          <a:off x="1550160" y="2939400"/>
                          <a:ext cx="545040" cy="272160"/>
                          <a:chOff x="1550160" y="2939400"/>
                          <a:chExt cx="545040" cy="272160"/>
                        </a:xfrm>
                      </p:grpSpPr>
                      <p:sp>
                        <p:nvSpPr>
                          <p:cNvPr id="4124" name="Rectangle 593"/>
                          <p:cNvSpPr/>
                          <p:nvPr/>
                        </p:nvSpPr>
                        <p:spPr>
                          <a:xfrm>
                            <a:off x="155016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5" name="Rectangle 594"/>
                          <p:cNvSpPr/>
                          <p:nvPr/>
                        </p:nvSpPr>
                        <p:spPr>
                          <a:xfrm>
                            <a:off x="182268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26" name="Rectangle 595"/>
                        <p:cNvSpPr/>
                        <p:nvPr/>
                      </p:nvSpPr>
                      <p:spPr>
                        <a:xfrm>
                          <a:off x="1550160" y="293940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27" name="Group 596"/>
                      <p:cNvGrpSpPr/>
                      <p:nvPr/>
                    </p:nvGrpSpPr>
                    <p:grpSpPr>
                      <a:xfrm>
                        <a:off x="1550160" y="3212640"/>
                        <a:ext cx="545040" cy="272520"/>
                        <a:chOff x="1550160" y="3212640"/>
                        <a:chExt cx="545040" cy="272520"/>
                      </a:xfrm>
                    </p:grpSpPr>
                    <p:grpSp>
                      <p:nvGrpSpPr>
                        <p:cNvPr id="4128" name="Group 597"/>
                        <p:cNvGrpSpPr/>
                        <p:nvPr/>
                      </p:nvGrpSpPr>
                      <p:grpSpPr>
                        <a:xfrm>
                          <a:off x="1550160" y="3212640"/>
                          <a:ext cx="545040" cy="272160"/>
                          <a:chOff x="1550160" y="3212640"/>
                          <a:chExt cx="545040" cy="272160"/>
                        </a:xfrm>
                      </p:grpSpPr>
                      <p:sp>
                        <p:nvSpPr>
                          <p:cNvPr id="4129" name="Rectangle 598"/>
                          <p:cNvSpPr/>
                          <p:nvPr/>
                        </p:nvSpPr>
                        <p:spPr>
                          <a:xfrm>
                            <a:off x="155016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30" name="Rectangle 599"/>
                          <p:cNvSpPr/>
                          <p:nvPr/>
                        </p:nvSpPr>
                        <p:spPr>
                          <a:xfrm>
                            <a:off x="182268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31" name="Rectangle 600"/>
                        <p:cNvSpPr/>
                        <p:nvPr/>
                      </p:nvSpPr>
                      <p:spPr>
                        <a:xfrm>
                          <a:off x="1550160" y="32126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32" name="Group 601"/>
                      <p:cNvGrpSpPr/>
                      <p:nvPr/>
                    </p:nvGrpSpPr>
                    <p:grpSpPr>
                      <a:xfrm>
                        <a:off x="1550160" y="3487680"/>
                        <a:ext cx="545040" cy="272520"/>
                        <a:chOff x="1550160" y="3487680"/>
                        <a:chExt cx="545040" cy="272520"/>
                      </a:xfrm>
                    </p:grpSpPr>
                    <p:grpSp>
                      <p:nvGrpSpPr>
                        <p:cNvPr id="4133" name="Group 602"/>
                        <p:cNvGrpSpPr/>
                        <p:nvPr/>
                      </p:nvGrpSpPr>
                      <p:grpSpPr>
                        <a:xfrm>
                          <a:off x="1550160" y="3487680"/>
                          <a:ext cx="545040" cy="272160"/>
                          <a:chOff x="1550160" y="3487680"/>
                          <a:chExt cx="545040" cy="272160"/>
                        </a:xfrm>
                      </p:grpSpPr>
                      <p:sp>
                        <p:nvSpPr>
                          <p:cNvPr id="4134" name="Rectangle 603"/>
                          <p:cNvSpPr/>
                          <p:nvPr/>
                        </p:nvSpPr>
                        <p:spPr>
                          <a:xfrm>
                            <a:off x="155016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35" name="Rectangle 604"/>
                          <p:cNvSpPr/>
                          <p:nvPr/>
                        </p:nvSpPr>
                        <p:spPr>
                          <a:xfrm>
                            <a:off x="182268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36" name="Rectangle 605"/>
                        <p:cNvSpPr/>
                        <p:nvPr/>
                      </p:nvSpPr>
                      <p:spPr>
                        <a:xfrm>
                          <a:off x="1550160" y="34876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37" name="Group 606"/>
                      <p:cNvGrpSpPr/>
                      <p:nvPr/>
                    </p:nvGrpSpPr>
                    <p:grpSpPr>
                      <a:xfrm>
                        <a:off x="1550160" y="3760920"/>
                        <a:ext cx="545040" cy="272520"/>
                        <a:chOff x="1550160" y="3760920"/>
                        <a:chExt cx="545040" cy="272520"/>
                      </a:xfrm>
                    </p:grpSpPr>
                    <p:grpSp>
                      <p:nvGrpSpPr>
                        <p:cNvPr id="4138" name="Group 607"/>
                        <p:cNvGrpSpPr/>
                        <p:nvPr/>
                      </p:nvGrpSpPr>
                      <p:grpSpPr>
                        <a:xfrm>
                          <a:off x="1550160" y="3760920"/>
                          <a:ext cx="545040" cy="272160"/>
                          <a:chOff x="1550160" y="3760920"/>
                          <a:chExt cx="545040" cy="272160"/>
                        </a:xfrm>
                      </p:grpSpPr>
                      <p:sp>
                        <p:nvSpPr>
                          <p:cNvPr id="4139" name="Rectangle 608"/>
                          <p:cNvSpPr/>
                          <p:nvPr/>
                        </p:nvSpPr>
                        <p:spPr>
                          <a:xfrm>
                            <a:off x="155016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40" name="Rectangle 609"/>
                          <p:cNvSpPr/>
                          <p:nvPr/>
                        </p:nvSpPr>
                        <p:spPr>
                          <a:xfrm>
                            <a:off x="182268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41" name="Rectangle 610"/>
                        <p:cNvSpPr/>
                        <p:nvPr/>
                      </p:nvSpPr>
                      <p:spPr>
                        <a:xfrm>
                          <a:off x="1550160" y="37609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42" name="Group 611"/>
                    <p:cNvGrpSpPr/>
                    <p:nvPr/>
                  </p:nvGrpSpPr>
                  <p:grpSpPr>
                    <a:xfrm>
                      <a:off x="2098440" y="2666880"/>
                      <a:ext cx="545760" cy="1366560"/>
                      <a:chOff x="2098440" y="2666880"/>
                      <a:chExt cx="545760" cy="1366560"/>
                    </a:xfrm>
                  </p:grpSpPr>
                  <p:grpSp>
                    <p:nvGrpSpPr>
                      <p:cNvPr id="4143" name="Group 612"/>
                      <p:cNvGrpSpPr/>
                      <p:nvPr/>
                    </p:nvGrpSpPr>
                    <p:grpSpPr>
                      <a:xfrm>
                        <a:off x="2098440" y="2666880"/>
                        <a:ext cx="545760" cy="272160"/>
                        <a:chOff x="2098440" y="2666880"/>
                        <a:chExt cx="545760" cy="272160"/>
                      </a:xfrm>
                    </p:grpSpPr>
                    <p:grpSp>
                      <p:nvGrpSpPr>
                        <p:cNvPr id="4144" name="Group 613"/>
                        <p:cNvGrpSpPr/>
                        <p:nvPr/>
                      </p:nvGrpSpPr>
                      <p:grpSpPr>
                        <a:xfrm>
                          <a:off x="2098440" y="2666880"/>
                          <a:ext cx="545760" cy="271800"/>
                          <a:chOff x="2098440" y="2666880"/>
                          <a:chExt cx="545760" cy="271800"/>
                        </a:xfrm>
                      </p:grpSpPr>
                      <p:sp>
                        <p:nvSpPr>
                          <p:cNvPr id="4145" name="Rectangle 614"/>
                          <p:cNvSpPr/>
                          <p:nvPr/>
                        </p:nvSpPr>
                        <p:spPr>
                          <a:xfrm>
                            <a:off x="209844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46" name="Rectangle 615"/>
                          <p:cNvSpPr/>
                          <p:nvPr/>
                        </p:nvSpPr>
                        <p:spPr>
                          <a:xfrm>
                            <a:off x="237132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47" name="Rectangle 616"/>
                        <p:cNvSpPr/>
                        <p:nvPr/>
                      </p:nvSpPr>
                      <p:spPr>
                        <a:xfrm>
                          <a:off x="209844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48" name="Group 617"/>
                      <p:cNvGrpSpPr/>
                      <p:nvPr/>
                    </p:nvGrpSpPr>
                    <p:grpSpPr>
                      <a:xfrm>
                        <a:off x="2098440" y="2939400"/>
                        <a:ext cx="545760" cy="272520"/>
                        <a:chOff x="2098440" y="2939400"/>
                        <a:chExt cx="545760" cy="272520"/>
                      </a:xfrm>
                    </p:grpSpPr>
                    <p:grpSp>
                      <p:nvGrpSpPr>
                        <p:cNvPr id="4149" name="Group 618"/>
                        <p:cNvGrpSpPr/>
                        <p:nvPr/>
                      </p:nvGrpSpPr>
                      <p:grpSpPr>
                        <a:xfrm>
                          <a:off x="2098440" y="2939400"/>
                          <a:ext cx="545760" cy="272160"/>
                          <a:chOff x="2098440" y="2939400"/>
                          <a:chExt cx="545760" cy="272160"/>
                        </a:xfrm>
                      </p:grpSpPr>
                      <p:sp>
                        <p:nvSpPr>
                          <p:cNvPr id="4150" name="Rectangle 619"/>
                          <p:cNvSpPr/>
                          <p:nvPr/>
                        </p:nvSpPr>
                        <p:spPr>
                          <a:xfrm>
                            <a:off x="209844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1" name="Rectangle 620"/>
                          <p:cNvSpPr/>
                          <p:nvPr/>
                        </p:nvSpPr>
                        <p:spPr>
                          <a:xfrm>
                            <a:off x="237132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52" name="Rectangle 621"/>
                        <p:cNvSpPr/>
                        <p:nvPr/>
                      </p:nvSpPr>
                      <p:spPr>
                        <a:xfrm>
                          <a:off x="209844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53" name="Group 622"/>
                      <p:cNvGrpSpPr/>
                      <p:nvPr/>
                    </p:nvGrpSpPr>
                    <p:grpSpPr>
                      <a:xfrm>
                        <a:off x="2098440" y="3212640"/>
                        <a:ext cx="545760" cy="272520"/>
                        <a:chOff x="2098440" y="3212640"/>
                        <a:chExt cx="545760" cy="272520"/>
                      </a:xfrm>
                    </p:grpSpPr>
                    <p:grpSp>
                      <p:nvGrpSpPr>
                        <p:cNvPr id="4154" name="Group 623"/>
                        <p:cNvGrpSpPr/>
                        <p:nvPr/>
                      </p:nvGrpSpPr>
                      <p:grpSpPr>
                        <a:xfrm>
                          <a:off x="2098440" y="3212640"/>
                          <a:ext cx="545760" cy="272160"/>
                          <a:chOff x="2098440" y="3212640"/>
                          <a:chExt cx="545760" cy="272160"/>
                        </a:xfrm>
                      </p:grpSpPr>
                      <p:sp>
                        <p:nvSpPr>
                          <p:cNvPr id="4155" name="Rectangle 624"/>
                          <p:cNvSpPr/>
                          <p:nvPr/>
                        </p:nvSpPr>
                        <p:spPr>
                          <a:xfrm>
                            <a:off x="209844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6" name="Rectangle 625"/>
                          <p:cNvSpPr/>
                          <p:nvPr/>
                        </p:nvSpPr>
                        <p:spPr>
                          <a:xfrm>
                            <a:off x="237132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57" name="Rectangle 626"/>
                        <p:cNvSpPr/>
                        <p:nvPr/>
                      </p:nvSpPr>
                      <p:spPr>
                        <a:xfrm>
                          <a:off x="209844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58" name="Group 627"/>
                      <p:cNvGrpSpPr/>
                      <p:nvPr/>
                    </p:nvGrpSpPr>
                    <p:grpSpPr>
                      <a:xfrm>
                        <a:off x="2098440" y="3487680"/>
                        <a:ext cx="545760" cy="272520"/>
                        <a:chOff x="2098440" y="3487680"/>
                        <a:chExt cx="545760" cy="272520"/>
                      </a:xfrm>
                    </p:grpSpPr>
                    <p:grpSp>
                      <p:nvGrpSpPr>
                        <p:cNvPr id="4159" name="Group 628"/>
                        <p:cNvGrpSpPr/>
                        <p:nvPr/>
                      </p:nvGrpSpPr>
                      <p:grpSpPr>
                        <a:xfrm>
                          <a:off x="2098440" y="3487680"/>
                          <a:ext cx="545760" cy="272160"/>
                          <a:chOff x="2098440" y="3487680"/>
                          <a:chExt cx="545760" cy="272160"/>
                        </a:xfrm>
                      </p:grpSpPr>
                      <p:sp>
                        <p:nvSpPr>
                          <p:cNvPr id="4160" name="Rectangle 629"/>
                          <p:cNvSpPr/>
                          <p:nvPr/>
                        </p:nvSpPr>
                        <p:spPr>
                          <a:xfrm>
                            <a:off x="209844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1" name="Rectangle 630"/>
                          <p:cNvSpPr/>
                          <p:nvPr/>
                        </p:nvSpPr>
                        <p:spPr>
                          <a:xfrm>
                            <a:off x="237132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62" name="Rectangle 631"/>
                        <p:cNvSpPr/>
                        <p:nvPr/>
                      </p:nvSpPr>
                      <p:spPr>
                        <a:xfrm>
                          <a:off x="209844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63" name="Group 632"/>
                      <p:cNvGrpSpPr/>
                      <p:nvPr/>
                    </p:nvGrpSpPr>
                    <p:grpSpPr>
                      <a:xfrm>
                        <a:off x="2098440" y="3760920"/>
                        <a:ext cx="545760" cy="272520"/>
                        <a:chOff x="2098440" y="3760920"/>
                        <a:chExt cx="545760" cy="272520"/>
                      </a:xfrm>
                    </p:grpSpPr>
                    <p:grpSp>
                      <p:nvGrpSpPr>
                        <p:cNvPr id="4164" name="Group 633"/>
                        <p:cNvGrpSpPr/>
                        <p:nvPr/>
                      </p:nvGrpSpPr>
                      <p:grpSpPr>
                        <a:xfrm>
                          <a:off x="2098440" y="3760920"/>
                          <a:ext cx="545760" cy="272160"/>
                          <a:chOff x="2098440" y="3760920"/>
                          <a:chExt cx="545760" cy="272160"/>
                        </a:xfrm>
                      </p:grpSpPr>
                      <p:sp>
                        <p:nvSpPr>
                          <p:cNvPr id="4165" name="Rectangle 634"/>
                          <p:cNvSpPr/>
                          <p:nvPr/>
                        </p:nvSpPr>
                        <p:spPr>
                          <a:xfrm>
                            <a:off x="209844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6" name="Rectangle 635"/>
                          <p:cNvSpPr/>
                          <p:nvPr/>
                        </p:nvSpPr>
                        <p:spPr>
                          <a:xfrm>
                            <a:off x="237132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67" name="Rectangle 636"/>
                        <p:cNvSpPr/>
                        <p:nvPr/>
                      </p:nvSpPr>
                      <p:spPr>
                        <a:xfrm>
                          <a:off x="209844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68" name="Group 637"/>
                    <p:cNvGrpSpPr/>
                    <p:nvPr/>
                  </p:nvGrpSpPr>
                  <p:grpSpPr>
                    <a:xfrm>
                      <a:off x="2645280" y="2666880"/>
                      <a:ext cx="545040" cy="1366560"/>
                      <a:chOff x="2645280" y="2666880"/>
                      <a:chExt cx="545040" cy="1366560"/>
                    </a:xfrm>
                  </p:grpSpPr>
                  <p:grpSp>
                    <p:nvGrpSpPr>
                      <p:cNvPr id="4169" name="Group 638"/>
                      <p:cNvGrpSpPr/>
                      <p:nvPr/>
                    </p:nvGrpSpPr>
                    <p:grpSpPr>
                      <a:xfrm>
                        <a:off x="2645280" y="2666880"/>
                        <a:ext cx="545040" cy="272160"/>
                        <a:chOff x="2645280" y="2666880"/>
                        <a:chExt cx="545040" cy="272160"/>
                      </a:xfrm>
                    </p:grpSpPr>
                    <p:grpSp>
                      <p:nvGrpSpPr>
                        <p:cNvPr id="4170" name="Group 639"/>
                        <p:cNvGrpSpPr/>
                        <p:nvPr/>
                      </p:nvGrpSpPr>
                      <p:grpSpPr>
                        <a:xfrm>
                          <a:off x="2645280" y="2666880"/>
                          <a:ext cx="545040" cy="271800"/>
                          <a:chOff x="2645280" y="2666880"/>
                          <a:chExt cx="545040" cy="271800"/>
                        </a:xfrm>
                      </p:grpSpPr>
                      <p:sp>
                        <p:nvSpPr>
                          <p:cNvPr id="4171" name="Rectangle 640"/>
                          <p:cNvSpPr/>
                          <p:nvPr/>
                        </p:nvSpPr>
                        <p:spPr>
                          <a:xfrm>
                            <a:off x="264528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2" name="Rectangle 641"/>
                          <p:cNvSpPr/>
                          <p:nvPr/>
                        </p:nvSpPr>
                        <p:spPr>
                          <a:xfrm>
                            <a:off x="291780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73" name="Rectangle 642"/>
                        <p:cNvSpPr/>
                        <p:nvPr/>
                      </p:nvSpPr>
                      <p:spPr>
                        <a:xfrm>
                          <a:off x="2645280" y="266688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74" name="Group 643"/>
                      <p:cNvGrpSpPr/>
                      <p:nvPr/>
                    </p:nvGrpSpPr>
                    <p:grpSpPr>
                      <a:xfrm>
                        <a:off x="2645280" y="2939400"/>
                        <a:ext cx="545040" cy="272520"/>
                        <a:chOff x="2645280" y="2939400"/>
                        <a:chExt cx="545040" cy="272520"/>
                      </a:xfrm>
                    </p:grpSpPr>
                    <p:grpSp>
                      <p:nvGrpSpPr>
                        <p:cNvPr id="4175" name="Group 644"/>
                        <p:cNvGrpSpPr/>
                        <p:nvPr/>
                      </p:nvGrpSpPr>
                      <p:grpSpPr>
                        <a:xfrm>
                          <a:off x="2645280" y="2939400"/>
                          <a:ext cx="545040" cy="272160"/>
                          <a:chOff x="2645280" y="2939400"/>
                          <a:chExt cx="545040" cy="272160"/>
                        </a:xfrm>
                      </p:grpSpPr>
                      <p:sp>
                        <p:nvSpPr>
                          <p:cNvPr id="4176" name="Rectangle 645"/>
                          <p:cNvSpPr/>
                          <p:nvPr/>
                        </p:nvSpPr>
                        <p:spPr>
                          <a:xfrm>
                            <a:off x="264528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7" name="Rectangle 646"/>
                          <p:cNvSpPr/>
                          <p:nvPr/>
                        </p:nvSpPr>
                        <p:spPr>
                          <a:xfrm>
                            <a:off x="291780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78" name="Rectangle 647"/>
                        <p:cNvSpPr/>
                        <p:nvPr/>
                      </p:nvSpPr>
                      <p:spPr>
                        <a:xfrm>
                          <a:off x="2645280" y="293940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79" name="Group 648"/>
                      <p:cNvGrpSpPr/>
                      <p:nvPr/>
                    </p:nvGrpSpPr>
                    <p:grpSpPr>
                      <a:xfrm>
                        <a:off x="2645280" y="3212640"/>
                        <a:ext cx="545040" cy="272520"/>
                        <a:chOff x="2645280" y="3212640"/>
                        <a:chExt cx="545040" cy="272520"/>
                      </a:xfrm>
                    </p:grpSpPr>
                    <p:grpSp>
                      <p:nvGrpSpPr>
                        <p:cNvPr id="4180" name="Group 649"/>
                        <p:cNvGrpSpPr/>
                        <p:nvPr/>
                      </p:nvGrpSpPr>
                      <p:grpSpPr>
                        <a:xfrm>
                          <a:off x="2645280" y="3212640"/>
                          <a:ext cx="545040" cy="272160"/>
                          <a:chOff x="2645280" y="3212640"/>
                          <a:chExt cx="545040" cy="272160"/>
                        </a:xfrm>
                      </p:grpSpPr>
                      <p:sp>
                        <p:nvSpPr>
                          <p:cNvPr id="4181" name="Rectangle 650"/>
                          <p:cNvSpPr/>
                          <p:nvPr/>
                        </p:nvSpPr>
                        <p:spPr>
                          <a:xfrm>
                            <a:off x="264528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82" name="Rectangle 651"/>
                          <p:cNvSpPr/>
                          <p:nvPr/>
                        </p:nvSpPr>
                        <p:spPr>
                          <a:xfrm>
                            <a:off x="291780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83" name="Rectangle 652"/>
                        <p:cNvSpPr/>
                        <p:nvPr/>
                      </p:nvSpPr>
                      <p:spPr>
                        <a:xfrm>
                          <a:off x="2645280" y="32126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84" name="Group 653"/>
                      <p:cNvGrpSpPr/>
                      <p:nvPr/>
                    </p:nvGrpSpPr>
                    <p:grpSpPr>
                      <a:xfrm>
                        <a:off x="2645280" y="3487680"/>
                        <a:ext cx="545040" cy="272520"/>
                        <a:chOff x="2645280" y="3487680"/>
                        <a:chExt cx="545040" cy="272520"/>
                      </a:xfrm>
                    </p:grpSpPr>
                    <p:grpSp>
                      <p:nvGrpSpPr>
                        <p:cNvPr id="4185" name="Group 654"/>
                        <p:cNvGrpSpPr/>
                        <p:nvPr/>
                      </p:nvGrpSpPr>
                      <p:grpSpPr>
                        <a:xfrm>
                          <a:off x="2645280" y="3487680"/>
                          <a:ext cx="545040" cy="272160"/>
                          <a:chOff x="2645280" y="3487680"/>
                          <a:chExt cx="545040" cy="272160"/>
                        </a:xfrm>
                      </p:grpSpPr>
                      <p:sp>
                        <p:nvSpPr>
                          <p:cNvPr id="4186" name="Rectangle 655"/>
                          <p:cNvSpPr/>
                          <p:nvPr/>
                        </p:nvSpPr>
                        <p:spPr>
                          <a:xfrm>
                            <a:off x="264528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87" name="Rectangle 656"/>
                          <p:cNvSpPr/>
                          <p:nvPr/>
                        </p:nvSpPr>
                        <p:spPr>
                          <a:xfrm>
                            <a:off x="291780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88" name="Rectangle 657"/>
                        <p:cNvSpPr/>
                        <p:nvPr/>
                      </p:nvSpPr>
                      <p:spPr>
                        <a:xfrm>
                          <a:off x="2645280" y="34876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89" name="Group 658"/>
                      <p:cNvGrpSpPr/>
                      <p:nvPr/>
                    </p:nvGrpSpPr>
                    <p:grpSpPr>
                      <a:xfrm>
                        <a:off x="2645280" y="3760920"/>
                        <a:ext cx="545040" cy="272520"/>
                        <a:chOff x="2645280" y="3760920"/>
                        <a:chExt cx="545040" cy="272520"/>
                      </a:xfrm>
                    </p:grpSpPr>
                    <p:grpSp>
                      <p:nvGrpSpPr>
                        <p:cNvPr id="4190" name="Group 659"/>
                        <p:cNvGrpSpPr/>
                        <p:nvPr/>
                      </p:nvGrpSpPr>
                      <p:grpSpPr>
                        <a:xfrm>
                          <a:off x="2645280" y="3760920"/>
                          <a:ext cx="545040" cy="272160"/>
                          <a:chOff x="2645280" y="3760920"/>
                          <a:chExt cx="545040" cy="272160"/>
                        </a:xfrm>
                      </p:grpSpPr>
                      <p:sp>
                        <p:nvSpPr>
                          <p:cNvPr id="4191" name="Rectangle 660"/>
                          <p:cNvSpPr/>
                          <p:nvPr/>
                        </p:nvSpPr>
                        <p:spPr>
                          <a:xfrm>
                            <a:off x="264528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92" name="Rectangle 661"/>
                          <p:cNvSpPr/>
                          <p:nvPr/>
                        </p:nvSpPr>
                        <p:spPr>
                          <a:xfrm>
                            <a:off x="291780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93" name="Rectangle 662"/>
                        <p:cNvSpPr/>
                        <p:nvPr/>
                      </p:nvSpPr>
                      <p:spPr>
                        <a:xfrm>
                          <a:off x="2645280" y="37609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194" name="Group 663"/>
                  <p:cNvGrpSpPr/>
                  <p:nvPr/>
                </p:nvGrpSpPr>
                <p:grpSpPr>
                  <a:xfrm>
                    <a:off x="457200" y="4034880"/>
                    <a:ext cx="2733120" cy="1366560"/>
                    <a:chOff x="457200" y="4034880"/>
                    <a:chExt cx="2733120" cy="1366560"/>
                  </a:xfrm>
                </p:grpSpPr>
                <p:grpSp>
                  <p:nvGrpSpPr>
                    <p:cNvPr id="4195" name="Group 664"/>
                    <p:cNvGrpSpPr/>
                    <p:nvPr/>
                  </p:nvGrpSpPr>
                  <p:grpSpPr>
                    <a:xfrm>
                      <a:off x="457200" y="4034880"/>
                      <a:ext cx="545040" cy="1366560"/>
                      <a:chOff x="457200" y="4034880"/>
                      <a:chExt cx="545040" cy="1366560"/>
                    </a:xfrm>
                  </p:grpSpPr>
                  <p:grpSp>
                    <p:nvGrpSpPr>
                      <p:cNvPr id="4196" name="Group 665"/>
                      <p:cNvGrpSpPr/>
                      <p:nvPr/>
                    </p:nvGrpSpPr>
                    <p:grpSpPr>
                      <a:xfrm>
                        <a:off x="457200" y="4034880"/>
                        <a:ext cx="545040" cy="272160"/>
                        <a:chOff x="457200" y="4034880"/>
                        <a:chExt cx="545040" cy="272160"/>
                      </a:xfrm>
                    </p:grpSpPr>
                    <p:grpSp>
                      <p:nvGrpSpPr>
                        <p:cNvPr id="4197" name="Group 666"/>
                        <p:cNvGrpSpPr/>
                        <p:nvPr/>
                      </p:nvGrpSpPr>
                      <p:grpSpPr>
                        <a:xfrm>
                          <a:off x="457200" y="4034880"/>
                          <a:ext cx="545040" cy="271800"/>
                          <a:chOff x="457200" y="4034880"/>
                          <a:chExt cx="545040" cy="271800"/>
                        </a:xfrm>
                      </p:grpSpPr>
                      <p:sp>
                        <p:nvSpPr>
                          <p:cNvPr id="4198" name="Rectangle 667"/>
                          <p:cNvSpPr/>
                          <p:nvPr/>
                        </p:nvSpPr>
                        <p:spPr>
                          <a:xfrm>
                            <a:off x="45720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99" name="Rectangle 668"/>
                          <p:cNvSpPr/>
                          <p:nvPr/>
                        </p:nvSpPr>
                        <p:spPr>
                          <a:xfrm>
                            <a:off x="72972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00" name="Rectangle 669"/>
                        <p:cNvSpPr/>
                        <p:nvPr/>
                      </p:nvSpPr>
                      <p:spPr>
                        <a:xfrm>
                          <a:off x="457200" y="403488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01" name="Group 670"/>
                      <p:cNvGrpSpPr/>
                      <p:nvPr/>
                    </p:nvGrpSpPr>
                    <p:grpSpPr>
                      <a:xfrm>
                        <a:off x="457200" y="4307400"/>
                        <a:ext cx="545040" cy="272520"/>
                        <a:chOff x="457200" y="4307400"/>
                        <a:chExt cx="545040" cy="272520"/>
                      </a:xfrm>
                    </p:grpSpPr>
                    <p:grpSp>
                      <p:nvGrpSpPr>
                        <p:cNvPr id="4202" name="Group 671"/>
                        <p:cNvGrpSpPr/>
                        <p:nvPr/>
                      </p:nvGrpSpPr>
                      <p:grpSpPr>
                        <a:xfrm>
                          <a:off x="457200" y="4307400"/>
                          <a:ext cx="545040" cy="272160"/>
                          <a:chOff x="457200" y="4307400"/>
                          <a:chExt cx="545040" cy="272160"/>
                        </a:xfrm>
                      </p:grpSpPr>
                      <p:sp>
                        <p:nvSpPr>
                          <p:cNvPr id="4203" name="Rectangle 672"/>
                          <p:cNvSpPr/>
                          <p:nvPr/>
                        </p:nvSpPr>
                        <p:spPr>
                          <a:xfrm>
                            <a:off x="45720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04" name="Rectangle 673"/>
                          <p:cNvSpPr/>
                          <p:nvPr/>
                        </p:nvSpPr>
                        <p:spPr>
                          <a:xfrm>
                            <a:off x="72972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05" name="Rectangle 674"/>
                        <p:cNvSpPr/>
                        <p:nvPr/>
                      </p:nvSpPr>
                      <p:spPr>
                        <a:xfrm>
                          <a:off x="457200" y="430740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06" name="Group 675"/>
                      <p:cNvGrpSpPr/>
                      <p:nvPr/>
                    </p:nvGrpSpPr>
                    <p:grpSpPr>
                      <a:xfrm>
                        <a:off x="457200" y="4580640"/>
                        <a:ext cx="545040" cy="272520"/>
                        <a:chOff x="457200" y="4580640"/>
                        <a:chExt cx="545040" cy="272520"/>
                      </a:xfrm>
                    </p:grpSpPr>
                    <p:grpSp>
                      <p:nvGrpSpPr>
                        <p:cNvPr id="4207" name="Group 676"/>
                        <p:cNvGrpSpPr/>
                        <p:nvPr/>
                      </p:nvGrpSpPr>
                      <p:grpSpPr>
                        <a:xfrm>
                          <a:off x="457200" y="4580640"/>
                          <a:ext cx="545040" cy="272160"/>
                          <a:chOff x="457200" y="4580640"/>
                          <a:chExt cx="545040" cy="272160"/>
                        </a:xfrm>
                      </p:grpSpPr>
                      <p:sp>
                        <p:nvSpPr>
                          <p:cNvPr id="4208" name="Rectangle 677"/>
                          <p:cNvSpPr/>
                          <p:nvPr/>
                        </p:nvSpPr>
                        <p:spPr>
                          <a:xfrm>
                            <a:off x="45720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09" name="Rectangle 678"/>
                          <p:cNvSpPr/>
                          <p:nvPr/>
                        </p:nvSpPr>
                        <p:spPr>
                          <a:xfrm>
                            <a:off x="72972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10" name="Rectangle 679"/>
                        <p:cNvSpPr/>
                        <p:nvPr/>
                      </p:nvSpPr>
                      <p:spPr>
                        <a:xfrm>
                          <a:off x="457200" y="45806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11" name="Group 680"/>
                      <p:cNvGrpSpPr/>
                      <p:nvPr/>
                    </p:nvGrpSpPr>
                    <p:grpSpPr>
                      <a:xfrm>
                        <a:off x="457200" y="4855680"/>
                        <a:ext cx="545040" cy="272520"/>
                        <a:chOff x="457200" y="4855680"/>
                        <a:chExt cx="545040" cy="272520"/>
                      </a:xfrm>
                    </p:grpSpPr>
                    <p:grpSp>
                      <p:nvGrpSpPr>
                        <p:cNvPr id="4212" name="Group 681"/>
                        <p:cNvGrpSpPr/>
                        <p:nvPr/>
                      </p:nvGrpSpPr>
                      <p:grpSpPr>
                        <a:xfrm>
                          <a:off x="457200" y="4855680"/>
                          <a:ext cx="545040" cy="272160"/>
                          <a:chOff x="457200" y="4855680"/>
                          <a:chExt cx="545040" cy="272160"/>
                        </a:xfrm>
                      </p:grpSpPr>
                      <p:sp>
                        <p:nvSpPr>
                          <p:cNvPr id="4213" name="Rectangle 682"/>
                          <p:cNvSpPr/>
                          <p:nvPr/>
                        </p:nvSpPr>
                        <p:spPr>
                          <a:xfrm>
                            <a:off x="45720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4" name="Rectangle 683"/>
                          <p:cNvSpPr/>
                          <p:nvPr/>
                        </p:nvSpPr>
                        <p:spPr>
                          <a:xfrm>
                            <a:off x="72972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15" name="Rectangle 684"/>
                        <p:cNvSpPr/>
                        <p:nvPr/>
                      </p:nvSpPr>
                      <p:spPr>
                        <a:xfrm>
                          <a:off x="457200" y="48556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16" name="Group 685"/>
                      <p:cNvGrpSpPr/>
                      <p:nvPr/>
                    </p:nvGrpSpPr>
                    <p:grpSpPr>
                      <a:xfrm>
                        <a:off x="457200" y="5128920"/>
                        <a:ext cx="545040" cy="272520"/>
                        <a:chOff x="457200" y="5128920"/>
                        <a:chExt cx="545040" cy="272520"/>
                      </a:xfrm>
                    </p:grpSpPr>
                    <p:grpSp>
                      <p:nvGrpSpPr>
                        <p:cNvPr id="4217" name="Group 686"/>
                        <p:cNvGrpSpPr/>
                        <p:nvPr/>
                      </p:nvGrpSpPr>
                      <p:grpSpPr>
                        <a:xfrm>
                          <a:off x="457200" y="5128920"/>
                          <a:ext cx="545040" cy="272160"/>
                          <a:chOff x="457200" y="5128920"/>
                          <a:chExt cx="545040" cy="272160"/>
                        </a:xfrm>
                      </p:grpSpPr>
                      <p:sp>
                        <p:nvSpPr>
                          <p:cNvPr id="4218" name="Rectangle 687"/>
                          <p:cNvSpPr/>
                          <p:nvPr/>
                        </p:nvSpPr>
                        <p:spPr>
                          <a:xfrm>
                            <a:off x="45720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9" name="Rectangle 688"/>
                          <p:cNvSpPr/>
                          <p:nvPr/>
                        </p:nvSpPr>
                        <p:spPr>
                          <a:xfrm>
                            <a:off x="72972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20" name="Rectangle 689"/>
                        <p:cNvSpPr/>
                        <p:nvPr/>
                      </p:nvSpPr>
                      <p:spPr>
                        <a:xfrm>
                          <a:off x="457200" y="51289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21" name="Group 690"/>
                    <p:cNvGrpSpPr/>
                    <p:nvPr/>
                  </p:nvGrpSpPr>
                  <p:grpSpPr>
                    <a:xfrm>
                      <a:off x="1003320" y="4034880"/>
                      <a:ext cx="545760" cy="1366560"/>
                      <a:chOff x="1003320" y="4034880"/>
                      <a:chExt cx="545760" cy="1366560"/>
                    </a:xfrm>
                  </p:grpSpPr>
                  <p:grpSp>
                    <p:nvGrpSpPr>
                      <p:cNvPr id="4222" name="Group 691"/>
                      <p:cNvGrpSpPr/>
                      <p:nvPr/>
                    </p:nvGrpSpPr>
                    <p:grpSpPr>
                      <a:xfrm>
                        <a:off x="1003320" y="4034880"/>
                        <a:ext cx="545760" cy="272160"/>
                        <a:chOff x="1003320" y="4034880"/>
                        <a:chExt cx="545760" cy="272160"/>
                      </a:xfrm>
                    </p:grpSpPr>
                    <p:grpSp>
                      <p:nvGrpSpPr>
                        <p:cNvPr id="4223" name="Group 692"/>
                        <p:cNvGrpSpPr/>
                        <p:nvPr/>
                      </p:nvGrpSpPr>
                      <p:grpSpPr>
                        <a:xfrm>
                          <a:off x="1003320" y="4034880"/>
                          <a:ext cx="545760" cy="271800"/>
                          <a:chOff x="1003320" y="4034880"/>
                          <a:chExt cx="545760" cy="271800"/>
                        </a:xfrm>
                      </p:grpSpPr>
                      <p:sp>
                        <p:nvSpPr>
                          <p:cNvPr id="4224" name="Rectangle 693"/>
                          <p:cNvSpPr/>
                          <p:nvPr/>
                        </p:nvSpPr>
                        <p:spPr>
                          <a:xfrm>
                            <a:off x="100332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5" name="Rectangle 694"/>
                          <p:cNvSpPr/>
                          <p:nvPr/>
                        </p:nvSpPr>
                        <p:spPr>
                          <a:xfrm>
                            <a:off x="127620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26" name="Rectangle 695"/>
                        <p:cNvSpPr/>
                        <p:nvPr/>
                      </p:nvSpPr>
                      <p:spPr>
                        <a:xfrm>
                          <a:off x="100332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27" name="Group 696"/>
                      <p:cNvGrpSpPr/>
                      <p:nvPr/>
                    </p:nvGrpSpPr>
                    <p:grpSpPr>
                      <a:xfrm>
                        <a:off x="1003320" y="4307400"/>
                        <a:ext cx="545760" cy="272520"/>
                        <a:chOff x="1003320" y="4307400"/>
                        <a:chExt cx="545760" cy="272520"/>
                      </a:xfrm>
                    </p:grpSpPr>
                    <p:grpSp>
                      <p:nvGrpSpPr>
                        <p:cNvPr id="4228" name="Group 697"/>
                        <p:cNvGrpSpPr/>
                        <p:nvPr/>
                      </p:nvGrpSpPr>
                      <p:grpSpPr>
                        <a:xfrm>
                          <a:off x="1003320" y="4307400"/>
                          <a:ext cx="545760" cy="272160"/>
                          <a:chOff x="1003320" y="4307400"/>
                          <a:chExt cx="545760" cy="272160"/>
                        </a:xfrm>
                      </p:grpSpPr>
                      <p:sp>
                        <p:nvSpPr>
                          <p:cNvPr id="4229" name="Rectangle 698"/>
                          <p:cNvSpPr/>
                          <p:nvPr/>
                        </p:nvSpPr>
                        <p:spPr>
                          <a:xfrm>
                            <a:off x="100332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0" name="Rectangle 699"/>
                          <p:cNvSpPr/>
                          <p:nvPr/>
                        </p:nvSpPr>
                        <p:spPr>
                          <a:xfrm>
                            <a:off x="127620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31" name="Rectangle 700"/>
                        <p:cNvSpPr/>
                        <p:nvPr/>
                      </p:nvSpPr>
                      <p:spPr>
                        <a:xfrm>
                          <a:off x="100332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32" name="Group 701"/>
                      <p:cNvGrpSpPr/>
                      <p:nvPr/>
                    </p:nvGrpSpPr>
                    <p:grpSpPr>
                      <a:xfrm>
                        <a:off x="1003320" y="4580640"/>
                        <a:ext cx="545760" cy="272520"/>
                        <a:chOff x="1003320" y="4580640"/>
                        <a:chExt cx="545760" cy="272520"/>
                      </a:xfrm>
                    </p:grpSpPr>
                    <p:grpSp>
                      <p:nvGrpSpPr>
                        <p:cNvPr id="4233" name="Group 702"/>
                        <p:cNvGrpSpPr/>
                        <p:nvPr/>
                      </p:nvGrpSpPr>
                      <p:grpSpPr>
                        <a:xfrm>
                          <a:off x="1003320" y="4580640"/>
                          <a:ext cx="545760" cy="272160"/>
                          <a:chOff x="1003320" y="4580640"/>
                          <a:chExt cx="545760" cy="272160"/>
                        </a:xfrm>
                      </p:grpSpPr>
                      <p:sp>
                        <p:nvSpPr>
                          <p:cNvPr id="4234" name="Rectangle 703"/>
                          <p:cNvSpPr/>
                          <p:nvPr/>
                        </p:nvSpPr>
                        <p:spPr>
                          <a:xfrm>
                            <a:off x="100332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5" name="Rectangle 704"/>
                          <p:cNvSpPr/>
                          <p:nvPr/>
                        </p:nvSpPr>
                        <p:spPr>
                          <a:xfrm>
                            <a:off x="127620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36" name="Rectangle 705"/>
                        <p:cNvSpPr/>
                        <p:nvPr/>
                      </p:nvSpPr>
                      <p:spPr>
                        <a:xfrm>
                          <a:off x="100332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37" name="Group 706"/>
                      <p:cNvGrpSpPr/>
                      <p:nvPr/>
                    </p:nvGrpSpPr>
                    <p:grpSpPr>
                      <a:xfrm>
                        <a:off x="1003320" y="4855680"/>
                        <a:ext cx="545760" cy="272520"/>
                        <a:chOff x="1003320" y="4855680"/>
                        <a:chExt cx="545760" cy="272520"/>
                      </a:xfrm>
                    </p:grpSpPr>
                    <p:grpSp>
                      <p:nvGrpSpPr>
                        <p:cNvPr id="4238" name="Group 707"/>
                        <p:cNvGrpSpPr/>
                        <p:nvPr/>
                      </p:nvGrpSpPr>
                      <p:grpSpPr>
                        <a:xfrm>
                          <a:off x="1003320" y="4855680"/>
                          <a:ext cx="545760" cy="272160"/>
                          <a:chOff x="1003320" y="4855680"/>
                          <a:chExt cx="545760" cy="272160"/>
                        </a:xfrm>
                      </p:grpSpPr>
                      <p:sp>
                        <p:nvSpPr>
                          <p:cNvPr id="4239" name="Rectangle 708"/>
                          <p:cNvSpPr/>
                          <p:nvPr/>
                        </p:nvSpPr>
                        <p:spPr>
                          <a:xfrm>
                            <a:off x="100332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40" name="Rectangle 709"/>
                          <p:cNvSpPr/>
                          <p:nvPr/>
                        </p:nvSpPr>
                        <p:spPr>
                          <a:xfrm>
                            <a:off x="127620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41" name="Rectangle 710"/>
                        <p:cNvSpPr/>
                        <p:nvPr/>
                      </p:nvSpPr>
                      <p:spPr>
                        <a:xfrm>
                          <a:off x="100332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42" name="Group 711"/>
                      <p:cNvGrpSpPr/>
                      <p:nvPr/>
                    </p:nvGrpSpPr>
                    <p:grpSpPr>
                      <a:xfrm>
                        <a:off x="1003320" y="5128920"/>
                        <a:ext cx="545760" cy="272520"/>
                        <a:chOff x="1003320" y="5128920"/>
                        <a:chExt cx="545760" cy="272520"/>
                      </a:xfrm>
                    </p:grpSpPr>
                    <p:grpSp>
                      <p:nvGrpSpPr>
                        <p:cNvPr id="4243" name="Group 712"/>
                        <p:cNvGrpSpPr/>
                        <p:nvPr/>
                      </p:nvGrpSpPr>
                      <p:grpSpPr>
                        <a:xfrm>
                          <a:off x="1003320" y="5128920"/>
                          <a:ext cx="545760" cy="272160"/>
                          <a:chOff x="1003320" y="5128920"/>
                          <a:chExt cx="545760" cy="272160"/>
                        </a:xfrm>
                      </p:grpSpPr>
                      <p:sp>
                        <p:nvSpPr>
                          <p:cNvPr id="4244" name="Rectangle 713"/>
                          <p:cNvSpPr/>
                          <p:nvPr/>
                        </p:nvSpPr>
                        <p:spPr>
                          <a:xfrm>
                            <a:off x="100332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45" name="Rectangle 714"/>
                          <p:cNvSpPr/>
                          <p:nvPr/>
                        </p:nvSpPr>
                        <p:spPr>
                          <a:xfrm>
                            <a:off x="127620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46" name="Rectangle 715"/>
                        <p:cNvSpPr/>
                        <p:nvPr/>
                      </p:nvSpPr>
                      <p:spPr>
                        <a:xfrm>
                          <a:off x="100332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47" name="Group 716"/>
                    <p:cNvGrpSpPr/>
                    <p:nvPr/>
                  </p:nvGrpSpPr>
                  <p:grpSpPr>
                    <a:xfrm>
                      <a:off x="1550160" y="4034880"/>
                      <a:ext cx="545040" cy="1366560"/>
                      <a:chOff x="1550160" y="4034880"/>
                      <a:chExt cx="545040" cy="1366560"/>
                    </a:xfrm>
                  </p:grpSpPr>
                  <p:grpSp>
                    <p:nvGrpSpPr>
                      <p:cNvPr id="4248" name="Group 717"/>
                      <p:cNvGrpSpPr/>
                      <p:nvPr/>
                    </p:nvGrpSpPr>
                    <p:grpSpPr>
                      <a:xfrm>
                        <a:off x="1550160" y="4034880"/>
                        <a:ext cx="545040" cy="272160"/>
                        <a:chOff x="1550160" y="4034880"/>
                        <a:chExt cx="545040" cy="272160"/>
                      </a:xfrm>
                    </p:grpSpPr>
                    <p:grpSp>
                      <p:nvGrpSpPr>
                        <p:cNvPr id="4249" name="Group 718"/>
                        <p:cNvGrpSpPr/>
                        <p:nvPr/>
                      </p:nvGrpSpPr>
                      <p:grpSpPr>
                        <a:xfrm>
                          <a:off x="1550160" y="4034880"/>
                          <a:ext cx="545040" cy="271800"/>
                          <a:chOff x="1550160" y="4034880"/>
                          <a:chExt cx="545040" cy="271800"/>
                        </a:xfrm>
                      </p:grpSpPr>
                      <p:sp>
                        <p:nvSpPr>
                          <p:cNvPr id="4250" name="Rectangle 719"/>
                          <p:cNvSpPr/>
                          <p:nvPr/>
                        </p:nvSpPr>
                        <p:spPr>
                          <a:xfrm>
                            <a:off x="155016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51" name="Rectangle 720"/>
                          <p:cNvSpPr/>
                          <p:nvPr/>
                        </p:nvSpPr>
                        <p:spPr>
                          <a:xfrm>
                            <a:off x="182268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52" name="Rectangle 721"/>
                        <p:cNvSpPr/>
                        <p:nvPr/>
                      </p:nvSpPr>
                      <p:spPr>
                        <a:xfrm>
                          <a:off x="1550160" y="403488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53" name="Group 722"/>
                      <p:cNvGrpSpPr/>
                      <p:nvPr/>
                    </p:nvGrpSpPr>
                    <p:grpSpPr>
                      <a:xfrm>
                        <a:off x="1550160" y="4307400"/>
                        <a:ext cx="545040" cy="272520"/>
                        <a:chOff x="1550160" y="4307400"/>
                        <a:chExt cx="545040" cy="272520"/>
                      </a:xfrm>
                    </p:grpSpPr>
                    <p:grpSp>
                      <p:nvGrpSpPr>
                        <p:cNvPr id="4254" name="Group 723"/>
                        <p:cNvGrpSpPr/>
                        <p:nvPr/>
                      </p:nvGrpSpPr>
                      <p:grpSpPr>
                        <a:xfrm>
                          <a:off x="1550160" y="4307400"/>
                          <a:ext cx="545040" cy="272160"/>
                          <a:chOff x="1550160" y="4307400"/>
                          <a:chExt cx="545040" cy="272160"/>
                        </a:xfrm>
                      </p:grpSpPr>
                      <p:sp>
                        <p:nvSpPr>
                          <p:cNvPr id="4255" name="Rectangle 724"/>
                          <p:cNvSpPr/>
                          <p:nvPr/>
                        </p:nvSpPr>
                        <p:spPr>
                          <a:xfrm>
                            <a:off x="155016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56" name="Rectangle 725"/>
                          <p:cNvSpPr/>
                          <p:nvPr/>
                        </p:nvSpPr>
                        <p:spPr>
                          <a:xfrm>
                            <a:off x="182268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57" name="Rectangle 726"/>
                        <p:cNvSpPr/>
                        <p:nvPr/>
                      </p:nvSpPr>
                      <p:spPr>
                        <a:xfrm>
                          <a:off x="1550160" y="430740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58" name="Group 727"/>
                      <p:cNvGrpSpPr/>
                      <p:nvPr/>
                    </p:nvGrpSpPr>
                    <p:grpSpPr>
                      <a:xfrm>
                        <a:off x="1550160" y="4580640"/>
                        <a:ext cx="545040" cy="272520"/>
                        <a:chOff x="1550160" y="4580640"/>
                        <a:chExt cx="545040" cy="272520"/>
                      </a:xfrm>
                    </p:grpSpPr>
                    <p:grpSp>
                      <p:nvGrpSpPr>
                        <p:cNvPr id="4259" name="Group 728"/>
                        <p:cNvGrpSpPr/>
                        <p:nvPr/>
                      </p:nvGrpSpPr>
                      <p:grpSpPr>
                        <a:xfrm>
                          <a:off x="1550160" y="4580640"/>
                          <a:ext cx="545040" cy="272160"/>
                          <a:chOff x="1550160" y="4580640"/>
                          <a:chExt cx="545040" cy="272160"/>
                        </a:xfrm>
                      </p:grpSpPr>
                      <p:sp>
                        <p:nvSpPr>
                          <p:cNvPr id="4260" name="Rectangle 729"/>
                          <p:cNvSpPr/>
                          <p:nvPr/>
                        </p:nvSpPr>
                        <p:spPr>
                          <a:xfrm>
                            <a:off x="155016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1" name="Rectangle 730"/>
                          <p:cNvSpPr/>
                          <p:nvPr/>
                        </p:nvSpPr>
                        <p:spPr>
                          <a:xfrm>
                            <a:off x="182268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62" name="Rectangle 731"/>
                        <p:cNvSpPr/>
                        <p:nvPr/>
                      </p:nvSpPr>
                      <p:spPr>
                        <a:xfrm>
                          <a:off x="1550160" y="45806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63" name="Group 732"/>
                      <p:cNvGrpSpPr/>
                      <p:nvPr/>
                    </p:nvGrpSpPr>
                    <p:grpSpPr>
                      <a:xfrm>
                        <a:off x="1550160" y="4855680"/>
                        <a:ext cx="545040" cy="272520"/>
                        <a:chOff x="1550160" y="4855680"/>
                        <a:chExt cx="545040" cy="272520"/>
                      </a:xfrm>
                    </p:grpSpPr>
                    <p:grpSp>
                      <p:nvGrpSpPr>
                        <p:cNvPr id="4264" name="Group 733"/>
                        <p:cNvGrpSpPr/>
                        <p:nvPr/>
                      </p:nvGrpSpPr>
                      <p:grpSpPr>
                        <a:xfrm>
                          <a:off x="1550160" y="4855680"/>
                          <a:ext cx="545040" cy="272160"/>
                          <a:chOff x="1550160" y="4855680"/>
                          <a:chExt cx="545040" cy="272160"/>
                        </a:xfrm>
                      </p:grpSpPr>
                      <p:sp>
                        <p:nvSpPr>
                          <p:cNvPr id="4265" name="Rectangle 734"/>
                          <p:cNvSpPr/>
                          <p:nvPr/>
                        </p:nvSpPr>
                        <p:spPr>
                          <a:xfrm>
                            <a:off x="155016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6" name="Rectangle 735"/>
                          <p:cNvSpPr/>
                          <p:nvPr/>
                        </p:nvSpPr>
                        <p:spPr>
                          <a:xfrm>
                            <a:off x="182268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67" name="Rectangle 736"/>
                        <p:cNvSpPr/>
                        <p:nvPr/>
                      </p:nvSpPr>
                      <p:spPr>
                        <a:xfrm>
                          <a:off x="1550160" y="48556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68" name="Group 737"/>
                      <p:cNvGrpSpPr/>
                      <p:nvPr/>
                    </p:nvGrpSpPr>
                    <p:grpSpPr>
                      <a:xfrm>
                        <a:off x="1550160" y="5128920"/>
                        <a:ext cx="545040" cy="272520"/>
                        <a:chOff x="1550160" y="5128920"/>
                        <a:chExt cx="545040" cy="272520"/>
                      </a:xfrm>
                    </p:grpSpPr>
                    <p:grpSp>
                      <p:nvGrpSpPr>
                        <p:cNvPr id="4269" name="Group 738"/>
                        <p:cNvGrpSpPr/>
                        <p:nvPr/>
                      </p:nvGrpSpPr>
                      <p:grpSpPr>
                        <a:xfrm>
                          <a:off x="1550160" y="5128920"/>
                          <a:ext cx="545040" cy="272160"/>
                          <a:chOff x="1550160" y="5128920"/>
                          <a:chExt cx="545040" cy="272160"/>
                        </a:xfrm>
                      </p:grpSpPr>
                      <p:sp>
                        <p:nvSpPr>
                          <p:cNvPr id="4270" name="Rectangle 739"/>
                          <p:cNvSpPr/>
                          <p:nvPr/>
                        </p:nvSpPr>
                        <p:spPr>
                          <a:xfrm>
                            <a:off x="155016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1" name="Rectangle 740"/>
                          <p:cNvSpPr/>
                          <p:nvPr/>
                        </p:nvSpPr>
                        <p:spPr>
                          <a:xfrm>
                            <a:off x="182268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72" name="Rectangle 741"/>
                        <p:cNvSpPr/>
                        <p:nvPr/>
                      </p:nvSpPr>
                      <p:spPr>
                        <a:xfrm>
                          <a:off x="1550160" y="51289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73" name="Group 742"/>
                    <p:cNvGrpSpPr/>
                    <p:nvPr/>
                  </p:nvGrpSpPr>
                  <p:grpSpPr>
                    <a:xfrm>
                      <a:off x="2098440" y="4034880"/>
                      <a:ext cx="545760" cy="1366560"/>
                      <a:chOff x="2098440" y="4034880"/>
                      <a:chExt cx="545760" cy="1366560"/>
                    </a:xfrm>
                  </p:grpSpPr>
                  <p:grpSp>
                    <p:nvGrpSpPr>
                      <p:cNvPr id="4274" name="Group 743"/>
                      <p:cNvGrpSpPr/>
                      <p:nvPr/>
                    </p:nvGrpSpPr>
                    <p:grpSpPr>
                      <a:xfrm>
                        <a:off x="2098440" y="4034880"/>
                        <a:ext cx="545760" cy="272160"/>
                        <a:chOff x="2098440" y="4034880"/>
                        <a:chExt cx="545760" cy="272160"/>
                      </a:xfrm>
                    </p:grpSpPr>
                    <p:grpSp>
                      <p:nvGrpSpPr>
                        <p:cNvPr id="4275" name="Group 744"/>
                        <p:cNvGrpSpPr/>
                        <p:nvPr/>
                      </p:nvGrpSpPr>
                      <p:grpSpPr>
                        <a:xfrm>
                          <a:off x="2098440" y="4034880"/>
                          <a:ext cx="545760" cy="271800"/>
                          <a:chOff x="2098440" y="4034880"/>
                          <a:chExt cx="545760" cy="271800"/>
                        </a:xfrm>
                      </p:grpSpPr>
                      <p:sp>
                        <p:nvSpPr>
                          <p:cNvPr id="4276" name="Rectangle 745"/>
                          <p:cNvSpPr/>
                          <p:nvPr/>
                        </p:nvSpPr>
                        <p:spPr>
                          <a:xfrm>
                            <a:off x="209844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7" name="Rectangle 746"/>
                          <p:cNvSpPr/>
                          <p:nvPr/>
                        </p:nvSpPr>
                        <p:spPr>
                          <a:xfrm>
                            <a:off x="237132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78" name="Rectangle 747"/>
                        <p:cNvSpPr/>
                        <p:nvPr/>
                      </p:nvSpPr>
                      <p:spPr>
                        <a:xfrm>
                          <a:off x="209844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79" name="Group 748"/>
                      <p:cNvGrpSpPr/>
                      <p:nvPr/>
                    </p:nvGrpSpPr>
                    <p:grpSpPr>
                      <a:xfrm>
                        <a:off x="2098440" y="4307400"/>
                        <a:ext cx="545760" cy="272520"/>
                        <a:chOff x="2098440" y="4307400"/>
                        <a:chExt cx="545760" cy="272520"/>
                      </a:xfrm>
                    </p:grpSpPr>
                    <p:grpSp>
                      <p:nvGrpSpPr>
                        <p:cNvPr id="4280" name="Group 749"/>
                        <p:cNvGrpSpPr/>
                        <p:nvPr/>
                      </p:nvGrpSpPr>
                      <p:grpSpPr>
                        <a:xfrm>
                          <a:off x="2098440" y="4307400"/>
                          <a:ext cx="545760" cy="272160"/>
                          <a:chOff x="2098440" y="4307400"/>
                          <a:chExt cx="545760" cy="272160"/>
                        </a:xfrm>
                      </p:grpSpPr>
                      <p:sp>
                        <p:nvSpPr>
                          <p:cNvPr id="4281" name="Rectangle 750"/>
                          <p:cNvSpPr/>
                          <p:nvPr/>
                        </p:nvSpPr>
                        <p:spPr>
                          <a:xfrm>
                            <a:off x="209844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2" name="Rectangle 751"/>
                          <p:cNvSpPr/>
                          <p:nvPr/>
                        </p:nvSpPr>
                        <p:spPr>
                          <a:xfrm>
                            <a:off x="237132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83" name="Rectangle 752"/>
                        <p:cNvSpPr/>
                        <p:nvPr/>
                      </p:nvSpPr>
                      <p:spPr>
                        <a:xfrm>
                          <a:off x="209844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84" name="Group 753"/>
                      <p:cNvGrpSpPr/>
                      <p:nvPr/>
                    </p:nvGrpSpPr>
                    <p:grpSpPr>
                      <a:xfrm>
                        <a:off x="2098440" y="4580640"/>
                        <a:ext cx="545760" cy="272520"/>
                        <a:chOff x="2098440" y="4580640"/>
                        <a:chExt cx="545760" cy="272520"/>
                      </a:xfrm>
                    </p:grpSpPr>
                    <p:grpSp>
                      <p:nvGrpSpPr>
                        <p:cNvPr id="4285" name="Group 754"/>
                        <p:cNvGrpSpPr/>
                        <p:nvPr/>
                      </p:nvGrpSpPr>
                      <p:grpSpPr>
                        <a:xfrm>
                          <a:off x="2098440" y="4580640"/>
                          <a:ext cx="545760" cy="272160"/>
                          <a:chOff x="2098440" y="4580640"/>
                          <a:chExt cx="545760" cy="272160"/>
                        </a:xfrm>
                      </p:grpSpPr>
                      <p:sp>
                        <p:nvSpPr>
                          <p:cNvPr id="4286" name="Rectangle 755"/>
                          <p:cNvSpPr/>
                          <p:nvPr/>
                        </p:nvSpPr>
                        <p:spPr>
                          <a:xfrm>
                            <a:off x="209844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7" name="Rectangle 756"/>
                          <p:cNvSpPr/>
                          <p:nvPr/>
                        </p:nvSpPr>
                        <p:spPr>
                          <a:xfrm>
                            <a:off x="237132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88" name="Rectangle 757"/>
                        <p:cNvSpPr/>
                        <p:nvPr/>
                      </p:nvSpPr>
                      <p:spPr>
                        <a:xfrm>
                          <a:off x="209844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89" name="Group 758"/>
                      <p:cNvGrpSpPr/>
                      <p:nvPr/>
                    </p:nvGrpSpPr>
                    <p:grpSpPr>
                      <a:xfrm>
                        <a:off x="2098440" y="4855680"/>
                        <a:ext cx="545760" cy="272520"/>
                        <a:chOff x="2098440" y="4855680"/>
                        <a:chExt cx="545760" cy="272520"/>
                      </a:xfrm>
                    </p:grpSpPr>
                    <p:grpSp>
                      <p:nvGrpSpPr>
                        <p:cNvPr id="4290" name="Group 759"/>
                        <p:cNvGrpSpPr/>
                        <p:nvPr/>
                      </p:nvGrpSpPr>
                      <p:grpSpPr>
                        <a:xfrm>
                          <a:off x="2098440" y="4855680"/>
                          <a:ext cx="545760" cy="272160"/>
                          <a:chOff x="2098440" y="4855680"/>
                          <a:chExt cx="545760" cy="272160"/>
                        </a:xfrm>
                      </p:grpSpPr>
                      <p:sp>
                        <p:nvSpPr>
                          <p:cNvPr id="4291" name="Rectangle 760"/>
                          <p:cNvSpPr/>
                          <p:nvPr/>
                        </p:nvSpPr>
                        <p:spPr>
                          <a:xfrm>
                            <a:off x="209844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92" name="Rectangle 761"/>
                          <p:cNvSpPr/>
                          <p:nvPr/>
                        </p:nvSpPr>
                        <p:spPr>
                          <a:xfrm>
                            <a:off x="237132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93" name="Rectangle 762"/>
                        <p:cNvSpPr/>
                        <p:nvPr/>
                      </p:nvSpPr>
                      <p:spPr>
                        <a:xfrm>
                          <a:off x="209844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94" name="Group 763"/>
                      <p:cNvGrpSpPr/>
                      <p:nvPr/>
                    </p:nvGrpSpPr>
                    <p:grpSpPr>
                      <a:xfrm>
                        <a:off x="2098440" y="5128920"/>
                        <a:ext cx="545760" cy="272520"/>
                        <a:chOff x="2098440" y="5128920"/>
                        <a:chExt cx="545760" cy="272520"/>
                      </a:xfrm>
                    </p:grpSpPr>
                    <p:grpSp>
                      <p:nvGrpSpPr>
                        <p:cNvPr id="4295" name="Group 764"/>
                        <p:cNvGrpSpPr/>
                        <p:nvPr/>
                      </p:nvGrpSpPr>
                      <p:grpSpPr>
                        <a:xfrm>
                          <a:off x="2098440" y="5128920"/>
                          <a:ext cx="545760" cy="272160"/>
                          <a:chOff x="2098440" y="5128920"/>
                          <a:chExt cx="545760" cy="272160"/>
                        </a:xfrm>
                      </p:grpSpPr>
                      <p:sp>
                        <p:nvSpPr>
                          <p:cNvPr id="4296" name="Rectangle 765"/>
                          <p:cNvSpPr/>
                          <p:nvPr/>
                        </p:nvSpPr>
                        <p:spPr>
                          <a:xfrm>
                            <a:off x="209844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97" name="Rectangle 766"/>
                          <p:cNvSpPr/>
                          <p:nvPr/>
                        </p:nvSpPr>
                        <p:spPr>
                          <a:xfrm>
                            <a:off x="237132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98" name="Rectangle 767"/>
                        <p:cNvSpPr/>
                        <p:nvPr/>
                      </p:nvSpPr>
                      <p:spPr>
                        <a:xfrm>
                          <a:off x="209844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99" name="Group 768"/>
                    <p:cNvGrpSpPr/>
                    <p:nvPr/>
                  </p:nvGrpSpPr>
                  <p:grpSpPr>
                    <a:xfrm>
                      <a:off x="2645280" y="4034880"/>
                      <a:ext cx="545040" cy="1366560"/>
                      <a:chOff x="2645280" y="4034880"/>
                      <a:chExt cx="545040" cy="1366560"/>
                    </a:xfrm>
                  </p:grpSpPr>
                  <p:grpSp>
                    <p:nvGrpSpPr>
                      <p:cNvPr id="4300" name="Group 769"/>
                      <p:cNvGrpSpPr/>
                      <p:nvPr/>
                    </p:nvGrpSpPr>
                    <p:grpSpPr>
                      <a:xfrm>
                        <a:off x="2645280" y="4034880"/>
                        <a:ext cx="545040" cy="272160"/>
                        <a:chOff x="2645280" y="4034880"/>
                        <a:chExt cx="545040" cy="272160"/>
                      </a:xfrm>
                    </p:grpSpPr>
                    <p:grpSp>
                      <p:nvGrpSpPr>
                        <p:cNvPr id="4301" name="Group 770"/>
                        <p:cNvGrpSpPr/>
                        <p:nvPr/>
                      </p:nvGrpSpPr>
                      <p:grpSpPr>
                        <a:xfrm>
                          <a:off x="2645280" y="4034880"/>
                          <a:ext cx="545040" cy="271800"/>
                          <a:chOff x="2645280" y="4034880"/>
                          <a:chExt cx="545040" cy="271800"/>
                        </a:xfrm>
                      </p:grpSpPr>
                      <p:sp>
                        <p:nvSpPr>
                          <p:cNvPr id="4302" name="Rectangle 771"/>
                          <p:cNvSpPr/>
                          <p:nvPr/>
                        </p:nvSpPr>
                        <p:spPr>
                          <a:xfrm>
                            <a:off x="264528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03" name="Rectangle 772"/>
                          <p:cNvSpPr/>
                          <p:nvPr/>
                        </p:nvSpPr>
                        <p:spPr>
                          <a:xfrm>
                            <a:off x="291780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304" name="Rectangle 773"/>
                        <p:cNvSpPr/>
                        <p:nvPr/>
                      </p:nvSpPr>
                      <p:spPr>
                        <a:xfrm>
                          <a:off x="2645280" y="403488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05" name="Group 774"/>
                      <p:cNvGrpSpPr/>
                      <p:nvPr/>
                    </p:nvGrpSpPr>
                    <p:grpSpPr>
                      <a:xfrm>
                        <a:off x="2645280" y="4307400"/>
                        <a:ext cx="545040" cy="272520"/>
                        <a:chOff x="2645280" y="4307400"/>
                        <a:chExt cx="545040" cy="272520"/>
                      </a:xfrm>
                    </p:grpSpPr>
                    <p:grpSp>
                      <p:nvGrpSpPr>
                        <p:cNvPr id="4306" name="Group 775"/>
                        <p:cNvGrpSpPr/>
                        <p:nvPr/>
                      </p:nvGrpSpPr>
                      <p:grpSpPr>
                        <a:xfrm>
                          <a:off x="2645280" y="4307400"/>
                          <a:ext cx="545040" cy="272160"/>
                          <a:chOff x="2645280" y="4307400"/>
                          <a:chExt cx="545040" cy="272160"/>
                        </a:xfrm>
                      </p:grpSpPr>
                      <p:sp>
                        <p:nvSpPr>
                          <p:cNvPr id="4307" name="Rectangle 776"/>
                          <p:cNvSpPr/>
                          <p:nvPr/>
                        </p:nvSpPr>
                        <p:spPr>
                          <a:xfrm>
                            <a:off x="264528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08" name="Rectangle 777"/>
                          <p:cNvSpPr/>
                          <p:nvPr/>
                        </p:nvSpPr>
                        <p:spPr>
                          <a:xfrm>
                            <a:off x="291780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309" name="Rectangle 778"/>
                        <p:cNvSpPr/>
                        <p:nvPr/>
                      </p:nvSpPr>
                      <p:spPr>
                        <a:xfrm>
                          <a:off x="2645280" y="430740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10" name="Group 779"/>
                      <p:cNvGrpSpPr/>
                      <p:nvPr/>
                    </p:nvGrpSpPr>
                    <p:grpSpPr>
                      <a:xfrm>
                        <a:off x="2645280" y="4580640"/>
                        <a:ext cx="545040" cy="272520"/>
                        <a:chOff x="2645280" y="4580640"/>
                        <a:chExt cx="545040" cy="272520"/>
                      </a:xfrm>
                    </p:grpSpPr>
                    <p:grpSp>
                      <p:nvGrpSpPr>
                        <p:cNvPr id="4311" name="Group 780"/>
                        <p:cNvGrpSpPr/>
                        <p:nvPr/>
                      </p:nvGrpSpPr>
                      <p:grpSpPr>
                        <a:xfrm>
                          <a:off x="2645280" y="4580640"/>
                          <a:ext cx="545040" cy="272160"/>
                          <a:chOff x="2645280" y="4580640"/>
                          <a:chExt cx="545040" cy="272160"/>
                        </a:xfrm>
                      </p:grpSpPr>
                      <p:sp>
                        <p:nvSpPr>
                          <p:cNvPr id="4312" name="Rectangle 781"/>
                          <p:cNvSpPr/>
                          <p:nvPr/>
                        </p:nvSpPr>
                        <p:spPr>
                          <a:xfrm>
                            <a:off x="264528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13" name="Rectangle 782"/>
                          <p:cNvSpPr/>
                          <p:nvPr/>
                        </p:nvSpPr>
                        <p:spPr>
                          <a:xfrm>
                            <a:off x="291780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314" name="Rectangle 783"/>
                        <p:cNvSpPr/>
                        <p:nvPr/>
                      </p:nvSpPr>
                      <p:spPr>
                        <a:xfrm>
                          <a:off x="2645280" y="45806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15" name="Group 784"/>
                      <p:cNvGrpSpPr/>
                      <p:nvPr/>
                    </p:nvGrpSpPr>
                    <p:grpSpPr>
                      <a:xfrm>
                        <a:off x="2645280" y="4855680"/>
                        <a:ext cx="545040" cy="272520"/>
                        <a:chOff x="2645280" y="4855680"/>
                        <a:chExt cx="545040" cy="272520"/>
                      </a:xfrm>
                    </p:grpSpPr>
                    <p:grpSp>
                      <p:nvGrpSpPr>
                        <p:cNvPr id="4316" name="Group 785"/>
                        <p:cNvGrpSpPr/>
                        <p:nvPr/>
                      </p:nvGrpSpPr>
                      <p:grpSpPr>
                        <a:xfrm>
                          <a:off x="2645280" y="4855680"/>
                          <a:ext cx="545040" cy="272160"/>
                          <a:chOff x="2645280" y="4855680"/>
                          <a:chExt cx="545040" cy="272160"/>
                        </a:xfrm>
                      </p:grpSpPr>
                      <p:sp>
                        <p:nvSpPr>
                          <p:cNvPr id="4317" name="Rectangle 786"/>
                          <p:cNvSpPr/>
                          <p:nvPr/>
                        </p:nvSpPr>
                        <p:spPr>
                          <a:xfrm>
                            <a:off x="264528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18" name="Rectangle 787"/>
                          <p:cNvSpPr/>
                          <p:nvPr/>
                        </p:nvSpPr>
                        <p:spPr>
                          <a:xfrm>
                            <a:off x="291780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319" name="Rectangle 788"/>
                        <p:cNvSpPr/>
                        <p:nvPr/>
                      </p:nvSpPr>
                      <p:spPr>
                        <a:xfrm>
                          <a:off x="2645280" y="48556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20" name="Group 789"/>
                      <p:cNvGrpSpPr/>
                      <p:nvPr/>
                    </p:nvGrpSpPr>
                    <p:grpSpPr>
                      <a:xfrm>
                        <a:off x="2645280" y="5128920"/>
                        <a:ext cx="545040" cy="272520"/>
                        <a:chOff x="2645280" y="5128920"/>
                        <a:chExt cx="545040" cy="272520"/>
                      </a:xfrm>
                    </p:grpSpPr>
                    <p:grpSp>
                      <p:nvGrpSpPr>
                        <p:cNvPr id="4321" name="Group 790"/>
                        <p:cNvGrpSpPr/>
                        <p:nvPr/>
                      </p:nvGrpSpPr>
                      <p:grpSpPr>
                        <a:xfrm>
                          <a:off x="2645280" y="5128920"/>
                          <a:ext cx="545040" cy="272160"/>
                          <a:chOff x="2645280" y="5128920"/>
                          <a:chExt cx="545040" cy="272160"/>
                        </a:xfrm>
                      </p:grpSpPr>
                      <p:sp>
                        <p:nvSpPr>
                          <p:cNvPr id="4322" name="Rectangle 791"/>
                          <p:cNvSpPr/>
                          <p:nvPr/>
                        </p:nvSpPr>
                        <p:spPr>
                          <a:xfrm>
                            <a:off x="264528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23" name="Rectangle 792"/>
                          <p:cNvSpPr/>
                          <p:nvPr/>
                        </p:nvSpPr>
                        <p:spPr>
                          <a:xfrm>
                            <a:off x="291780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324" name="Rectangle 793"/>
                        <p:cNvSpPr/>
                        <p:nvPr/>
                      </p:nvSpPr>
                      <p:spPr>
                        <a:xfrm>
                          <a:off x="2645280" y="51289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4325" name="Line 804"/>
              <p:cNvSpPr/>
              <p:nvPr/>
            </p:nvSpPr>
            <p:spPr>
              <a:xfrm>
                <a:off x="3468600" y="4035240"/>
                <a:ext cx="1639800" cy="0"/>
              </a:xfrm>
              <a:prstGeom prst="line">
                <a:avLst/>
              </a:prstGeom>
              <a:ln cap="rnd" w="38160">
                <a:solidFill>
                  <a:srgbClr val="33cc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Line 805"/>
              <p:cNvSpPr/>
              <p:nvPr/>
            </p:nvSpPr>
            <p:spPr>
              <a:xfrm flipH="1" flipV="1">
                <a:off x="4289400" y="3216240"/>
                <a:ext cx="1440" cy="1641600"/>
              </a:xfrm>
              <a:prstGeom prst="line">
                <a:avLst/>
              </a:prstGeom>
              <a:ln cap="rnd" w="38160">
                <a:solidFill>
                  <a:srgbClr val="33cc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7" name="Group 808"/>
              <p:cNvGrpSpPr/>
              <p:nvPr/>
            </p:nvGrpSpPr>
            <p:grpSpPr>
              <a:xfrm>
                <a:off x="3924000" y="3215880"/>
                <a:ext cx="365040" cy="818640"/>
                <a:chOff x="3924000" y="3215880"/>
                <a:chExt cx="365040" cy="818640"/>
              </a:xfrm>
            </p:grpSpPr>
            <p:sp>
              <p:nvSpPr>
                <p:cNvPr id="4328" name="Line 806"/>
                <p:cNvSpPr/>
                <p:nvPr/>
              </p:nvSpPr>
              <p:spPr>
                <a:xfrm flipH="1" flipV="1">
                  <a:off x="3924000" y="3398400"/>
                  <a:ext cx="181080" cy="636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9" name="Line 807"/>
                <p:cNvSpPr/>
                <p:nvPr/>
              </p:nvSpPr>
              <p:spPr>
                <a:xfrm flipV="1">
                  <a:off x="3924360" y="3215880"/>
                  <a:ext cx="364680" cy="1825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30" name="Line 813"/>
            <p:cNvSpPr/>
            <p:nvPr/>
          </p:nvSpPr>
          <p:spPr>
            <a:xfrm flipH="1">
              <a:off x="6476760" y="3216240"/>
              <a:ext cx="1641600" cy="1641600"/>
            </a:xfrm>
            <a:prstGeom prst="line">
              <a:avLst/>
            </a:prstGeom>
            <a:ln cap="rnd" w="381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Line 814"/>
            <p:cNvSpPr/>
            <p:nvPr/>
          </p:nvSpPr>
          <p:spPr>
            <a:xfrm flipH="1" flipV="1">
              <a:off x="6476760" y="3216240"/>
              <a:ext cx="1641600" cy="1641600"/>
            </a:xfrm>
            <a:prstGeom prst="line">
              <a:avLst/>
            </a:prstGeom>
            <a:ln cap="rnd" w="381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Line 816"/>
            <p:cNvSpPr/>
            <p:nvPr/>
          </p:nvSpPr>
          <p:spPr>
            <a:xfrm flipH="1">
              <a:off x="7207200" y="3459240"/>
              <a:ext cx="163440" cy="212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Line 817"/>
            <p:cNvSpPr/>
            <p:nvPr/>
          </p:nvSpPr>
          <p:spPr>
            <a:xfrm>
              <a:off x="7207200" y="3671640"/>
              <a:ext cx="363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Line 1679"/>
            <p:cNvSpPr/>
            <p:nvPr/>
          </p:nvSpPr>
          <p:spPr>
            <a:xfrm flipH="1">
              <a:off x="6722640" y="3459240"/>
              <a:ext cx="647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5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6" name="Picture 2" descr="Pict0139"/>
          <p:cNvPicPr/>
          <p:nvPr/>
        </p:nvPicPr>
        <p:blipFill>
          <a:blip r:embed="rId1"/>
          <a:stretch/>
        </p:blipFill>
        <p:spPr>
          <a:xfrm>
            <a:off x="457200" y="3200400"/>
            <a:ext cx="7920000" cy="3095640"/>
          </a:xfrm>
          <a:prstGeom prst="rect">
            <a:avLst/>
          </a:prstGeom>
          <a:ln w="0">
            <a:noFill/>
          </a:ln>
        </p:spPr>
      </p:pic>
      <p:sp>
        <p:nvSpPr>
          <p:cNvPr id="4337" name="Text Box 3"/>
          <p:cNvSpPr/>
          <p:nvPr/>
        </p:nvSpPr>
        <p:spPr>
          <a:xfrm>
            <a:off x="762120" y="990720"/>
            <a:ext cx="7010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到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到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到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Text Box 4"/>
          <p:cNvSpPr/>
          <p:nvPr/>
        </p:nvSpPr>
        <p:spPr>
          <a:xfrm>
            <a:off x="4724280" y="91440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平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5"/>
          <p:cNvSpPr/>
          <p:nvPr/>
        </p:nvSpPr>
        <p:spPr>
          <a:xfrm>
            <a:off x="4648320" y="15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轴对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Text Box 6"/>
          <p:cNvSpPr/>
          <p:nvPr/>
        </p:nvSpPr>
        <p:spPr>
          <a:xfrm>
            <a:off x="4875120" y="213372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旋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WordArt 8"/>
          <p:cNvSpPr txBox="1"/>
          <p:nvPr/>
        </p:nvSpPr>
        <p:spPr>
          <a:xfrm>
            <a:off x="324000" y="0"/>
            <a:ext cx="2743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ea"/>
              </a:rPr>
              <a:t>考考你的眼力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2" name="Group 417"/>
          <p:cNvGrpSpPr/>
          <p:nvPr/>
        </p:nvGrpSpPr>
        <p:grpSpPr>
          <a:xfrm>
            <a:off x="4863600" y="2491920"/>
            <a:ext cx="575280" cy="863640"/>
            <a:chOff x="4863600" y="2491920"/>
            <a:chExt cx="575280" cy="863640"/>
          </a:xfrm>
        </p:grpSpPr>
        <p:sp>
          <p:nvSpPr>
            <p:cNvPr id="4343" name="Line 418"/>
            <p:cNvSpPr/>
            <p:nvPr/>
          </p:nvSpPr>
          <p:spPr>
            <a:xfrm flipV="1">
              <a:off x="5151240" y="3068280"/>
              <a:ext cx="287640" cy="28728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Line 419"/>
            <p:cNvSpPr/>
            <p:nvPr/>
          </p:nvSpPr>
          <p:spPr>
            <a:xfrm flipH="1" flipV="1">
              <a:off x="4863600" y="3068280"/>
              <a:ext cx="287280" cy="28728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Line 420"/>
            <p:cNvSpPr/>
            <p:nvPr/>
          </p:nvSpPr>
          <p:spPr>
            <a:xfrm flipV="1">
              <a:off x="5438520" y="2491920"/>
              <a:ext cx="0" cy="57636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Line 421"/>
            <p:cNvSpPr/>
            <p:nvPr/>
          </p:nvSpPr>
          <p:spPr>
            <a:xfrm flipV="1">
              <a:off x="4863600" y="2491920"/>
              <a:ext cx="0" cy="57636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Line 422"/>
            <p:cNvSpPr/>
            <p:nvPr/>
          </p:nvSpPr>
          <p:spPr>
            <a:xfrm flipH="1">
              <a:off x="5150880" y="2492280"/>
              <a:ext cx="287640" cy="28764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Line 423"/>
            <p:cNvSpPr/>
            <p:nvPr/>
          </p:nvSpPr>
          <p:spPr>
            <a:xfrm flipH="1" flipV="1">
              <a:off x="4863600" y="2491920"/>
              <a:ext cx="287280" cy="28764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Group 402"/>
          <p:cNvGrpSpPr/>
          <p:nvPr/>
        </p:nvGrpSpPr>
        <p:grpSpPr>
          <a:xfrm>
            <a:off x="6058080" y="1339560"/>
            <a:ext cx="817200" cy="563400"/>
            <a:chOff x="6058080" y="1339560"/>
            <a:chExt cx="817200" cy="563400"/>
          </a:xfrm>
        </p:grpSpPr>
        <p:sp>
          <p:nvSpPr>
            <p:cNvPr id="4350" name="Rectangle 403"/>
            <p:cNvSpPr/>
            <p:nvPr/>
          </p:nvSpPr>
          <p:spPr>
            <a:xfrm rot="16200000">
              <a:off x="6321240" y="1348920"/>
              <a:ext cx="563400" cy="544680"/>
            </a:xfrm>
            <a:prstGeom prst="rect">
              <a:avLst/>
            </a:prstGeom>
            <a:solidFill>
              <a:srgbClr val="ff00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AutoShape 404"/>
            <p:cNvSpPr/>
            <p:nvPr/>
          </p:nvSpPr>
          <p:spPr>
            <a:xfrm rot="16200000">
              <a:off x="6053400" y="1625760"/>
              <a:ext cx="281880" cy="272520"/>
            </a:xfrm>
            <a:prstGeom prst="rtTriangle">
              <a:avLst/>
            </a:prstGeom>
            <a:solidFill>
              <a:srgbClr val="ff00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AutoShape 405"/>
            <p:cNvSpPr/>
            <p:nvPr/>
          </p:nvSpPr>
          <p:spPr>
            <a:xfrm flipH="1" rot="16200000">
              <a:off x="6053040" y="1343880"/>
              <a:ext cx="281520" cy="272520"/>
            </a:xfrm>
            <a:prstGeom prst="rtTriangle">
              <a:avLst/>
            </a:prstGeom>
            <a:solidFill>
              <a:srgbClr val="ff00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3" name="Text Box 4"/>
          <p:cNvSpPr/>
          <p:nvPr/>
        </p:nvSpPr>
        <p:spPr>
          <a:xfrm>
            <a:off x="46836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②是分别怎样转换成图形③，④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4" name="Group 396"/>
          <p:cNvGrpSpPr/>
          <p:nvPr/>
        </p:nvGrpSpPr>
        <p:grpSpPr>
          <a:xfrm>
            <a:off x="1692360" y="1054080"/>
            <a:ext cx="6048360" cy="3456000"/>
            <a:chOff x="1692360" y="1054080"/>
            <a:chExt cx="6048360" cy="3456000"/>
          </a:xfrm>
        </p:grpSpPr>
        <p:grpSp>
          <p:nvGrpSpPr>
            <p:cNvPr id="4355" name="Group 128"/>
            <p:cNvGrpSpPr/>
            <p:nvPr/>
          </p:nvGrpSpPr>
          <p:grpSpPr>
            <a:xfrm>
              <a:off x="1692360" y="1054080"/>
              <a:ext cx="1727280" cy="3456000"/>
              <a:chOff x="1692360" y="1054080"/>
              <a:chExt cx="1727280" cy="3456000"/>
            </a:xfrm>
          </p:grpSpPr>
          <p:grpSp>
            <p:nvGrpSpPr>
              <p:cNvPr id="4356" name="Group 74"/>
              <p:cNvGrpSpPr/>
              <p:nvPr/>
            </p:nvGrpSpPr>
            <p:grpSpPr>
              <a:xfrm>
                <a:off x="1692360" y="1054080"/>
                <a:ext cx="863640" cy="3456000"/>
                <a:chOff x="1692360" y="1054080"/>
                <a:chExt cx="863640" cy="3456000"/>
              </a:xfrm>
            </p:grpSpPr>
            <p:grpSp>
              <p:nvGrpSpPr>
                <p:cNvPr id="4357" name="Group 17"/>
                <p:cNvGrpSpPr/>
                <p:nvPr/>
              </p:nvGrpSpPr>
              <p:grpSpPr>
                <a:xfrm>
                  <a:off x="1692360" y="1054080"/>
                  <a:ext cx="863640" cy="863640"/>
                  <a:chOff x="1692360" y="1054080"/>
                  <a:chExt cx="863640" cy="863640"/>
                </a:xfrm>
              </p:grpSpPr>
              <p:grpSp>
                <p:nvGrpSpPr>
                  <p:cNvPr id="4358" name="Group 8"/>
                  <p:cNvGrpSpPr/>
                  <p:nvPr/>
                </p:nvGrpSpPr>
                <p:grpSpPr>
                  <a:xfrm>
                    <a:off x="1692360" y="1054080"/>
                    <a:ext cx="863640" cy="289080"/>
                    <a:chOff x="1692360" y="1054080"/>
                    <a:chExt cx="863640" cy="289080"/>
                  </a:xfrm>
                </p:grpSpPr>
                <p:sp>
                  <p:nvSpPr>
                    <p:cNvPr id="4359" name="Rectangle 5"/>
                    <p:cNvSpPr/>
                    <p:nvPr/>
                  </p:nvSpPr>
                  <p:spPr>
                    <a:xfrm>
                      <a:off x="169236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0" name="Rectangle 6"/>
                    <p:cNvSpPr/>
                    <p:nvPr/>
                  </p:nvSpPr>
                  <p:spPr>
                    <a:xfrm>
                      <a:off x="198144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1" name="Rectangle 7"/>
                    <p:cNvSpPr/>
                    <p:nvPr/>
                  </p:nvSpPr>
                  <p:spPr>
                    <a:xfrm>
                      <a:off x="226872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2" name="Group 9"/>
                  <p:cNvGrpSpPr/>
                  <p:nvPr/>
                </p:nvGrpSpPr>
                <p:grpSpPr>
                  <a:xfrm>
                    <a:off x="1692360" y="1343160"/>
                    <a:ext cx="863640" cy="288720"/>
                    <a:chOff x="1692360" y="1343160"/>
                    <a:chExt cx="863640" cy="288720"/>
                  </a:xfrm>
                </p:grpSpPr>
                <p:sp>
                  <p:nvSpPr>
                    <p:cNvPr id="4363" name="Rectangle 10"/>
                    <p:cNvSpPr/>
                    <p:nvPr/>
                  </p:nvSpPr>
                  <p:spPr>
                    <a:xfrm>
                      <a:off x="169236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4" name="Rectangle 11"/>
                    <p:cNvSpPr/>
                    <p:nvPr/>
                  </p:nvSpPr>
                  <p:spPr>
                    <a:xfrm>
                      <a:off x="198144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5" name="Rectangle 12"/>
                    <p:cNvSpPr/>
                    <p:nvPr/>
                  </p:nvSpPr>
                  <p:spPr>
                    <a:xfrm>
                      <a:off x="226872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6" name="Group 13"/>
                  <p:cNvGrpSpPr/>
                  <p:nvPr/>
                </p:nvGrpSpPr>
                <p:grpSpPr>
                  <a:xfrm>
                    <a:off x="1692360" y="1628640"/>
                    <a:ext cx="863640" cy="289080"/>
                    <a:chOff x="1692360" y="1628640"/>
                    <a:chExt cx="863640" cy="289080"/>
                  </a:xfrm>
                </p:grpSpPr>
                <p:sp>
                  <p:nvSpPr>
                    <p:cNvPr id="4367" name="Rectangle 14"/>
                    <p:cNvSpPr/>
                    <p:nvPr/>
                  </p:nvSpPr>
                  <p:spPr>
                    <a:xfrm>
                      <a:off x="169236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8" name="Rectangle 15"/>
                    <p:cNvSpPr/>
                    <p:nvPr/>
                  </p:nvSpPr>
                  <p:spPr>
                    <a:xfrm>
                      <a:off x="198144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9" name="Rectangle 16"/>
                    <p:cNvSpPr/>
                    <p:nvPr/>
                  </p:nvSpPr>
                  <p:spPr>
                    <a:xfrm>
                      <a:off x="226872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70" name="Group 22"/>
                <p:cNvGrpSpPr/>
                <p:nvPr/>
              </p:nvGrpSpPr>
              <p:grpSpPr>
                <a:xfrm>
                  <a:off x="1692360" y="1919160"/>
                  <a:ext cx="863640" cy="863640"/>
                  <a:chOff x="1692360" y="1919160"/>
                  <a:chExt cx="863640" cy="863640"/>
                </a:xfrm>
              </p:grpSpPr>
              <p:grpSp>
                <p:nvGrpSpPr>
                  <p:cNvPr id="4371" name="Group 23"/>
                  <p:cNvGrpSpPr/>
                  <p:nvPr/>
                </p:nvGrpSpPr>
                <p:grpSpPr>
                  <a:xfrm>
                    <a:off x="1692360" y="1919160"/>
                    <a:ext cx="863640" cy="289080"/>
                    <a:chOff x="1692360" y="1919160"/>
                    <a:chExt cx="863640" cy="289080"/>
                  </a:xfrm>
                </p:grpSpPr>
                <p:sp>
                  <p:nvSpPr>
                    <p:cNvPr id="4372" name="Rectangle 24"/>
                    <p:cNvSpPr/>
                    <p:nvPr/>
                  </p:nvSpPr>
                  <p:spPr>
                    <a:xfrm>
                      <a:off x="169236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3" name="Rectangle 25"/>
                    <p:cNvSpPr/>
                    <p:nvPr/>
                  </p:nvSpPr>
                  <p:spPr>
                    <a:xfrm>
                      <a:off x="198144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4" name="Rectangle 26"/>
                    <p:cNvSpPr/>
                    <p:nvPr/>
                  </p:nvSpPr>
                  <p:spPr>
                    <a:xfrm>
                      <a:off x="226872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5" name="Group 27"/>
                  <p:cNvGrpSpPr/>
                  <p:nvPr/>
                </p:nvGrpSpPr>
                <p:grpSpPr>
                  <a:xfrm>
                    <a:off x="1692360" y="2208240"/>
                    <a:ext cx="863640" cy="288720"/>
                    <a:chOff x="1692360" y="2208240"/>
                    <a:chExt cx="863640" cy="288720"/>
                  </a:xfrm>
                </p:grpSpPr>
                <p:sp>
                  <p:nvSpPr>
                    <p:cNvPr id="4376" name="Rectangle 28"/>
                    <p:cNvSpPr/>
                    <p:nvPr/>
                  </p:nvSpPr>
                  <p:spPr>
                    <a:xfrm>
                      <a:off x="169236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7" name="Rectangle 29"/>
                    <p:cNvSpPr/>
                    <p:nvPr/>
                  </p:nvSpPr>
                  <p:spPr>
                    <a:xfrm>
                      <a:off x="198144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8" name="Rectangle 30"/>
                    <p:cNvSpPr/>
                    <p:nvPr/>
                  </p:nvSpPr>
                  <p:spPr>
                    <a:xfrm>
                      <a:off x="226872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9" name="Group 31"/>
                  <p:cNvGrpSpPr/>
                  <p:nvPr/>
                </p:nvGrpSpPr>
                <p:grpSpPr>
                  <a:xfrm>
                    <a:off x="1692360" y="2493720"/>
                    <a:ext cx="863640" cy="289080"/>
                    <a:chOff x="1692360" y="2493720"/>
                    <a:chExt cx="863640" cy="289080"/>
                  </a:xfrm>
                </p:grpSpPr>
                <p:sp>
                  <p:nvSpPr>
                    <p:cNvPr id="4380" name="Rectangle 32"/>
                    <p:cNvSpPr/>
                    <p:nvPr/>
                  </p:nvSpPr>
                  <p:spPr>
                    <a:xfrm>
                      <a:off x="169236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1" name="Rectangle 33"/>
                    <p:cNvSpPr/>
                    <p:nvPr/>
                  </p:nvSpPr>
                  <p:spPr>
                    <a:xfrm>
                      <a:off x="198144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2" name="Rectangle 34"/>
                    <p:cNvSpPr/>
                    <p:nvPr/>
                  </p:nvSpPr>
                  <p:spPr>
                    <a:xfrm>
                      <a:off x="226872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83" name="Group 35"/>
                <p:cNvGrpSpPr/>
                <p:nvPr/>
              </p:nvGrpSpPr>
              <p:grpSpPr>
                <a:xfrm>
                  <a:off x="1692360" y="2782800"/>
                  <a:ext cx="863640" cy="863640"/>
                  <a:chOff x="1692360" y="2782800"/>
                  <a:chExt cx="863640" cy="863640"/>
                </a:xfrm>
              </p:grpSpPr>
              <p:grpSp>
                <p:nvGrpSpPr>
                  <p:cNvPr id="4384" name="Group 36"/>
                  <p:cNvGrpSpPr/>
                  <p:nvPr/>
                </p:nvGrpSpPr>
                <p:grpSpPr>
                  <a:xfrm>
                    <a:off x="1692360" y="2782800"/>
                    <a:ext cx="863640" cy="289080"/>
                    <a:chOff x="1692360" y="2782800"/>
                    <a:chExt cx="863640" cy="289080"/>
                  </a:xfrm>
                </p:grpSpPr>
                <p:sp>
                  <p:nvSpPr>
                    <p:cNvPr id="4385" name="Rectangle 37"/>
                    <p:cNvSpPr/>
                    <p:nvPr/>
                  </p:nvSpPr>
                  <p:spPr>
                    <a:xfrm>
                      <a:off x="169236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6" name="Rectangle 38"/>
                    <p:cNvSpPr/>
                    <p:nvPr/>
                  </p:nvSpPr>
                  <p:spPr>
                    <a:xfrm>
                      <a:off x="198144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7" name="Rectangle 39"/>
                    <p:cNvSpPr/>
                    <p:nvPr/>
                  </p:nvSpPr>
                  <p:spPr>
                    <a:xfrm>
                      <a:off x="226872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8" name="Group 40"/>
                  <p:cNvGrpSpPr/>
                  <p:nvPr/>
                </p:nvGrpSpPr>
                <p:grpSpPr>
                  <a:xfrm>
                    <a:off x="1692360" y="3071880"/>
                    <a:ext cx="863640" cy="288720"/>
                    <a:chOff x="1692360" y="3071880"/>
                    <a:chExt cx="863640" cy="288720"/>
                  </a:xfrm>
                </p:grpSpPr>
                <p:sp>
                  <p:nvSpPr>
                    <p:cNvPr id="4389" name="Rectangle 41"/>
                    <p:cNvSpPr/>
                    <p:nvPr/>
                  </p:nvSpPr>
                  <p:spPr>
                    <a:xfrm>
                      <a:off x="169236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0" name="Rectangle 42"/>
                    <p:cNvSpPr/>
                    <p:nvPr/>
                  </p:nvSpPr>
                  <p:spPr>
                    <a:xfrm>
                      <a:off x="198144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1" name="Rectangle 43"/>
                    <p:cNvSpPr/>
                    <p:nvPr/>
                  </p:nvSpPr>
                  <p:spPr>
                    <a:xfrm>
                      <a:off x="226872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2" name="Group 44"/>
                  <p:cNvGrpSpPr/>
                  <p:nvPr/>
                </p:nvGrpSpPr>
                <p:grpSpPr>
                  <a:xfrm>
                    <a:off x="1692360" y="3357360"/>
                    <a:ext cx="863640" cy="289080"/>
                    <a:chOff x="1692360" y="3357360"/>
                    <a:chExt cx="863640" cy="289080"/>
                  </a:xfrm>
                </p:grpSpPr>
                <p:sp>
                  <p:nvSpPr>
                    <p:cNvPr id="4393" name="Rectangle 45"/>
                    <p:cNvSpPr/>
                    <p:nvPr/>
                  </p:nvSpPr>
                  <p:spPr>
                    <a:xfrm>
                      <a:off x="169236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4" name="Rectangle 46"/>
                    <p:cNvSpPr/>
                    <p:nvPr/>
                  </p:nvSpPr>
                  <p:spPr>
                    <a:xfrm>
                      <a:off x="198144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5" name="Rectangle 47"/>
                    <p:cNvSpPr/>
                    <p:nvPr/>
                  </p:nvSpPr>
                  <p:spPr>
                    <a:xfrm>
                      <a:off x="226872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96" name="Group 48"/>
                <p:cNvGrpSpPr/>
                <p:nvPr/>
              </p:nvGrpSpPr>
              <p:grpSpPr>
                <a:xfrm>
                  <a:off x="1692360" y="3646440"/>
                  <a:ext cx="863640" cy="863640"/>
                  <a:chOff x="1692360" y="3646440"/>
                  <a:chExt cx="863640" cy="863640"/>
                </a:xfrm>
              </p:grpSpPr>
              <p:grpSp>
                <p:nvGrpSpPr>
                  <p:cNvPr id="4397" name="Group 49"/>
                  <p:cNvGrpSpPr/>
                  <p:nvPr/>
                </p:nvGrpSpPr>
                <p:grpSpPr>
                  <a:xfrm>
                    <a:off x="1692360" y="3646440"/>
                    <a:ext cx="863640" cy="289080"/>
                    <a:chOff x="1692360" y="3646440"/>
                    <a:chExt cx="863640" cy="289080"/>
                  </a:xfrm>
                </p:grpSpPr>
                <p:sp>
                  <p:nvSpPr>
                    <p:cNvPr id="4398" name="Rectangle 50"/>
                    <p:cNvSpPr/>
                    <p:nvPr/>
                  </p:nvSpPr>
                  <p:spPr>
                    <a:xfrm>
                      <a:off x="169236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9" name="Rectangle 51"/>
                    <p:cNvSpPr/>
                    <p:nvPr/>
                  </p:nvSpPr>
                  <p:spPr>
                    <a:xfrm>
                      <a:off x="198144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0" name="Rectangle 52"/>
                    <p:cNvSpPr/>
                    <p:nvPr/>
                  </p:nvSpPr>
                  <p:spPr>
                    <a:xfrm>
                      <a:off x="226872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1" name="Group 53"/>
                  <p:cNvGrpSpPr/>
                  <p:nvPr/>
                </p:nvGrpSpPr>
                <p:grpSpPr>
                  <a:xfrm>
                    <a:off x="1692360" y="3935520"/>
                    <a:ext cx="863640" cy="288720"/>
                    <a:chOff x="1692360" y="3935520"/>
                    <a:chExt cx="863640" cy="288720"/>
                  </a:xfrm>
                </p:grpSpPr>
                <p:sp>
                  <p:nvSpPr>
                    <p:cNvPr id="4402" name="Rectangle 54"/>
                    <p:cNvSpPr/>
                    <p:nvPr/>
                  </p:nvSpPr>
                  <p:spPr>
                    <a:xfrm>
                      <a:off x="169236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3" name="Rectangle 55"/>
                    <p:cNvSpPr/>
                    <p:nvPr/>
                  </p:nvSpPr>
                  <p:spPr>
                    <a:xfrm>
                      <a:off x="198144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4" name="Rectangle 56"/>
                    <p:cNvSpPr/>
                    <p:nvPr/>
                  </p:nvSpPr>
                  <p:spPr>
                    <a:xfrm>
                      <a:off x="226872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5" name="Group 57"/>
                  <p:cNvGrpSpPr/>
                  <p:nvPr/>
                </p:nvGrpSpPr>
                <p:grpSpPr>
                  <a:xfrm>
                    <a:off x="1692360" y="4221000"/>
                    <a:ext cx="863640" cy="289080"/>
                    <a:chOff x="1692360" y="4221000"/>
                    <a:chExt cx="863640" cy="289080"/>
                  </a:xfrm>
                </p:grpSpPr>
                <p:sp>
                  <p:nvSpPr>
                    <p:cNvPr id="4406" name="Rectangle 58"/>
                    <p:cNvSpPr/>
                    <p:nvPr/>
                  </p:nvSpPr>
                  <p:spPr>
                    <a:xfrm>
                      <a:off x="169236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7" name="Rectangle 59"/>
                    <p:cNvSpPr/>
                    <p:nvPr/>
                  </p:nvSpPr>
                  <p:spPr>
                    <a:xfrm>
                      <a:off x="198144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8" name="Rectangle 60"/>
                    <p:cNvSpPr/>
                    <p:nvPr/>
                  </p:nvSpPr>
                  <p:spPr>
                    <a:xfrm>
                      <a:off x="226872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09" name="Group 75"/>
              <p:cNvGrpSpPr/>
              <p:nvPr/>
            </p:nvGrpSpPr>
            <p:grpSpPr>
              <a:xfrm>
                <a:off x="2556000" y="1054080"/>
                <a:ext cx="863640" cy="3456000"/>
                <a:chOff x="2556000" y="1054080"/>
                <a:chExt cx="863640" cy="3456000"/>
              </a:xfrm>
            </p:grpSpPr>
            <p:grpSp>
              <p:nvGrpSpPr>
                <p:cNvPr id="4410" name="Group 76"/>
                <p:cNvGrpSpPr/>
                <p:nvPr/>
              </p:nvGrpSpPr>
              <p:grpSpPr>
                <a:xfrm>
                  <a:off x="2556000" y="1054080"/>
                  <a:ext cx="863640" cy="863640"/>
                  <a:chOff x="2556000" y="1054080"/>
                  <a:chExt cx="863640" cy="863640"/>
                </a:xfrm>
              </p:grpSpPr>
              <p:grpSp>
                <p:nvGrpSpPr>
                  <p:cNvPr id="4411" name="Group 77"/>
                  <p:cNvGrpSpPr/>
                  <p:nvPr/>
                </p:nvGrpSpPr>
                <p:grpSpPr>
                  <a:xfrm>
                    <a:off x="2556000" y="1054080"/>
                    <a:ext cx="863640" cy="289080"/>
                    <a:chOff x="2556000" y="1054080"/>
                    <a:chExt cx="863640" cy="289080"/>
                  </a:xfrm>
                </p:grpSpPr>
                <p:sp>
                  <p:nvSpPr>
                    <p:cNvPr id="4412" name="Rectangle 78"/>
                    <p:cNvSpPr/>
                    <p:nvPr/>
                  </p:nvSpPr>
                  <p:spPr>
                    <a:xfrm>
                      <a:off x="255600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3" name="Rectangle 79"/>
                    <p:cNvSpPr/>
                    <p:nvPr/>
                  </p:nvSpPr>
                  <p:spPr>
                    <a:xfrm>
                      <a:off x="284508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4" name="Rectangle 80"/>
                    <p:cNvSpPr/>
                    <p:nvPr/>
                  </p:nvSpPr>
                  <p:spPr>
                    <a:xfrm>
                      <a:off x="313236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5" name="Group 81"/>
                  <p:cNvGrpSpPr/>
                  <p:nvPr/>
                </p:nvGrpSpPr>
                <p:grpSpPr>
                  <a:xfrm>
                    <a:off x="2556000" y="1343160"/>
                    <a:ext cx="863640" cy="288720"/>
                    <a:chOff x="2556000" y="1343160"/>
                    <a:chExt cx="863640" cy="288720"/>
                  </a:xfrm>
                </p:grpSpPr>
                <p:sp>
                  <p:nvSpPr>
                    <p:cNvPr id="4416" name="Rectangle 82"/>
                    <p:cNvSpPr/>
                    <p:nvPr/>
                  </p:nvSpPr>
                  <p:spPr>
                    <a:xfrm>
                      <a:off x="255600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7" name="Rectangle 83"/>
                    <p:cNvSpPr/>
                    <p:nvPr/>
                  </p:nvSpPr>
                  <p:spPr>
                    <a:xfrm>
                      <a:off x="284508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8" name="Rectangle 84"/>
                    <p:cNvSpPr/>
                    <p:nvPr/>
                  </p:nvSpPr>
                  <p:spPr>
                    <a:xfrm>
                      <a:off x="313236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9" name="Group 85"/>
                  <p:cNvGrpSpPr/>
                  <p:nvPr/>
                </p:nvGrpSpPr>
                <p:grpSpPr>
                  <a:xfrm>
                    <a:off x="2556000" y="1628640"/>
                    <a:ext cx="863640" cy="289080"/>
                    <a:chOff x="2556000" y="1628640"/>
                    <a:chExt cx="863640" cy="289080"/>
                  </a:xfrm>
                </p:grpSpPr>
                <p:sp>
                  <p:nvSpPr>
                    <p:cNvPr id="4420" name="Rectangle 86"/>
                    <p:cNvSpPr/>
                    <p:nvPr/>
                  </p:nvSpPr>
                  <p:spPr>
                    <a:xfrm>
                      <a:off x="255600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1" name="Rectangle 87"/>
                    <p:cNvSpPr/>
                    <p:nvPr/>
                  </p:nvSpPr>
                  <p:spPr>
                    <a:xfrm>
                      <a:off x="284508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2" name="Rectangle 88"/>
                    <p:cNvSpPr/>
                    <p:nvPr/>
                  </p:nvSpPr>
                  <p:spPr>
                    <a:xfrm>
                      <a:off x="313236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23" name="Group 89"/>
                <p:cNvGrpSpPr/>
                <p:nvPr/>
              </p:nvGrpSpPr>
              <p:grpSpPr>
                <a:xfrm>
                  <a:off x="2556000" y="1919160"/>
                  <a:ext cx="863640" cy="863640"/>
                  <a:chOff x="2556000" y="1919160"/>
                  <a:chExt cx="863640" cy="863640"/>
                </a:xfrm>
              </p:grpSpPr>
              <p:grpSp>
                <p:nvGrpSpPr>
                  <p:cNvPr id="4424" name="Group 90"/>
                  <p:cNvGrpSpPr/>
                  <p:nvPr/>
                </p:nvGrpSpPr>
                <p:grpSpPr>
                  <a:xfrm>
                    <a:off x="2556000" y="1919160"/>
                    <a:ext cx="863640" cy="289080"/>
                    <a:chOff x="2556000" y="1919160"/>
                    <a:chExt cx="863640" cy="289080"/>
                  </a:xfrm>
                </p:grpSpPr>
                <p:sp>
                  <p:nvSpPr>
                    <p:cNvPr id="4425" name="Rectangle 91"/>
                    <p:cNvSpPr/>
                    <p:nvPr/>
                  </p:nvSpPr>
                  <p:spPr>
                    <a:xfrm>
                      <a:off x="255600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6" name="Rectangle 92"/>
                    <p:cNvSpPr/>
                    <p:nvPr/>
                  </p:nvSpPr>
                  <p:spPr>
                    <a:xfrm>
                      <a:off x="284508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7" name="Rectangle 93"/>
                    <p:cNvSpPr/>
                    <p:nvPr/>
                  </p:nvSpPr>
                  <p:spPr>
                    <a:xfrm>
                      <a:off x="313236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8" name="Group 94"/>
                  <p:cNvGrpSpPr/>
                  <p:nvPr/>
                </p:nvGrpSpPr>
                <p:grpSpPr>
                  <a:xfrm>
                    <a:off x="2556000" y="2208240"/>
                    <a:ext cx="863640" cy="288720"/>
                    <a:chOff x="2556000" y="2208240"/>
                    <a:chExt cx="863640" cy="288720"/>
                  </a:xfrm>
                </p:grpSpPr>
                <p:sp>
                  <p:nvSpPr>
                    <p:cNvPr id="4429" name="Rectangle 95"/>
                    <p:cNvSpPr/>
                    <p:nvPr/>
                  </p:nvSpPr>
                  <p:spPr>
                    <a:xfrm>
                      <a:off x="255600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0" name="Rectangle 96"/>
                    <p:cNvSpPr/>
                    <p:nvPr/>
                  </p:nvSpPr>
                  <p:spPr>
                    <a:xfrm>
                      <a:off x="284508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1" name="Rectangle 97"/>
                    <p:cNvSpPr/>
                    <p:nvPr/>
                  </p:nvSpPr>
                  <p:spPr>
                    <a:xfrm>
                      <a:off x="313236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2" name="Group 98"/>
                  <p:cNvGrpSpPr/>
                  <p:nvPr/>
                </p:nvGrpSpPr>
                <p:grpSpPr>
                  <a:xfrm>
                    <a:off x="2556000" y="2493720"/>
                    <a:ext cx="863640" cy="289080"/>
                    <a:chOff x="2556000" y="2493720"/>
                    <a:chExt cx="863640" cy="289080"/>
                  </a:xfrm>
                </p:grpSpPr>
                <p:sp>
                  <p:nvSpPr>
                    <p:cNvPr id="4433" name="Rectangle 99"/>
                    <p:cNvSpPr/>
                    <p:nvPr/>
                  </p:nvSpPr>
                  <p:spPr>
                    <a:xfrm>
                      <a:off x="255600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4" name="Rectangle 100"/>
                    <p:cNvSpPr/>
                    <p:nvPr/>
                  </p:nvSpPr>
                  <p:spPr>
                    <a:xfrm>
                      <a:off x="284508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5" name="Rectangle 101"/>
                    <p:cNvSpPr/>
                    <p:nvPr/>
                  </p:nvSpPr>
                  <p:spPr>
                    <a:xfrm>
                      <a:off x="313236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36" name="Group 102"/>
                <p:cNvGrpSpPr/>
                <p:nvPr/>
              </p:nvGrpSpPr>
              <p:grpSpPr>
                <a:xfrm>
                  <a:off x="2556000" y="2782800"/>
                  <a:ext cx="863640" cy="863640"/>
                  <a:chOff x="2556000" y="2782800"/>
                  <a:chExt cx="863640" cy="863640"/>
                </a:xfrm>
              </p:grpSpPr>
              <p:grpSp>
                <p:nvGrpSpPr>
                  <p:cNvPr id="4437" name="Group 103"/>
                  <p:cNvGrpSpPr/>
                  <p:nvPr/>
                </p:nvGrpSpPr>
                <p:grpSpPr>
                  <a:xfrm>
                    <a:off x="2556000" y="2782800"/>
                    <a:ext cx="863640" cy="289080"/>
                    <a:chOff x="2556000" y="2782800"/>
                    <a:chExt cx="863640" cy="289080"/>
                  </a:xfrm>
                </p:grpSpPr>
                <p:sp>
                  <p:nvSpPr>
                    <p:cNvPr id="4438" name="Rectangle 104"/>
                    <p:cNvSpPr/>
                    <p:nvPr/>
                  </p:nvSpPr>
                  <p:spPr>
                    <a:xfrm>
                      <a:off x="255600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9" name="Rectangle 105"/>
                    <p:cNvSpPr/>
                    <p:nvPr/>
                  </p:nvSpPr>
                  <p:spPr>
                    <a:xfrm>
                      <a:off x="284508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0" name="Rectangle 106"/>
                    <p:cNvSpPr/>
                    <p:nvPr/>
                  </p:nvSpPr>
                  <p:spPr>
                    <a:xfrm>
                      <a:off x="313236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1" name="Group 107"/>
                  <p:cNvGrpSpPr/>
                  <p:nvPr/>
                </p:nvGrpSpPr>
                <p:grpSpPr>
                  <a:xfrm>
                    <a:off x="2556000" y="3071880"/>
                    <a:ext cx="863640" cy="288720"/>
                    <a:chOff x="2556000" y="3071880"/>
                    <a:chExt cx="863640" cy="288720"/>
                  </a:xfrm>
                </p:grpSpPr>
                <p:sp>
                  <p:nvSpPr>
                    <p:cNvPr id="4442" name="Rectangle 108"/>
                    <p:cNvSpPr/>
                    <p:nvPr/>
                  </p:nvSpPr>
                  <p:spPr>
                    <a:xfrm>
                      <a:off x="255600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3" name="Rectangle 109"/>
                    <p:cNvSpPr/>
                    <p:nvPr/>
                  </p:nvSpPr>
                  <p:spPr>
                    <a:xfrm>
                      <a:off x="284508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4" name="Rectangle 110"/>
                    <p:cNvSpPr/>
                    <p:nvPr/>
                  </p:nvSpPr>
                  <p:spPr>
                    <a:xfrm>
                      <a:off x="313236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5" name="Group 111"/>
                  <p:cNvGrpSpPr/>
                  <p:nvPr/>
                </p:nvGrpSpPr>
                <p:grpSpPr>
                  <a:xfrm>
                    <a:off x="2556000" y="3357360"/>
                    <a:ext cx="863640" cy="289080"/>
                    <a:chOff x="2556000" y="3357360"/>
                    <a:chExt cx="863640" cy="289080"/>
                  </a:xfrm>
                </p:grpSpPr>
                <p:sp>
                  <p:nvSpPr>
                    <p:cNvPr id="4446" name="Rectangle 112"/>
                    <p:cNvSpPr/>
                    <p:nvPr/>
                  </p:nvSpPr>
                  <p:spPr>
                    <a:xfrm>
                      <a:off x="255600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7" name="Rectangle 113"/>
                    <p:cNvSpPr/>
                    <p:nvPr/>
                  </p:nvSpPr>
                  <p:spPr>
                    <a:xfrm>
                      <a:off x="284508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8" name="Rectangle 114"/>
                    <p:cNvSpPr/>
                    <p:nvPr/>
                  </p:nvSpPr>
                  <p:spPr>
                    <a:xfrm>
                      <a:off x="313236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49" name="Group 115"/>
                <p:cNvGrpSpPr/>
                <p:nvPr/>
              </p:nvGrpSpPr>
              <p:grpSpPr>
                <a:xfrm>
                  <a:off x="2556000" y="3646440"/>
                  <a:ext cx="863640" cy="863640"/>
                  <a:chOff x="2556000" y="3646440"/>
                  <a:chExt cx="863640" cy="863640"/>
                </a:xfrm>
              </p:grpSpPr>
              <p:grpSp>
                <p:nvGrpSpPr>
                  <p:cNvPr id="4450" name="Group 116"/>
                  <p:cNvGrpSpPr/>
                  <p:nvPr/>
                </p:nvGrpSpPr>
                <p:grpSpPr>
                  <a:xfrm>
                    <a:off x="2556000" y="3646440"/>
                    <a:ext cx="863640" cy="289080"/>
                    <a:chOff x="2556000" y="3646440"/>
                    <a:chExt cx="863640" cy="289080"/>
                  </a:xfrm>
                </p:grpSpPr>
                <p:sp>
                  <p:nvSpPr>
                    <p:cNvPr id="4451" name="Rectangle 117"/>
                    <p:cNvSpPr/>
                    <p:nvPr/>
                  </p:nvSpPr>
                  <p:spPr>
                    <a:xfrm>
                      <a:off x="255600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2" name="Rectangle 118"/>
                    <p:cNvSpPr/>
                    <p:nvPr/>
                  </p:nvSpPr>
                  <p:spPr>
                    <a:xfrm>
                      <a:off x="284508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3" name="Rectangle 119"/>
                    <p:cNvSpPr/>
                    <p:nvPr/>
                  </p:nvSpPr>
                  <p:spPr>
                    <a:xfrm>
                      <a:off x="313236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4" name="Group 120"/>
                  <p:cNvGrpSpPr/>
                  <p:nvPr/>
                </p:nvGrpSpPr>
                <p:grpSpPr>
                  <a:xfrm>
                    <a:off x="2556000" y="3935520"/>
                    <a:ext cx="863640" cy="288720"/>
                    <a:chOff x="2556000" y="3935520"/>
                    <a:chExt cx="863640" cy="288720"/>
                  </a:xfrm>
                </p:grpSpPr>
                <p:sp>
                  <p:nvSpPr>
                    <p:cNvPr id="4455" name="Rectangle 121"/>
                    <p:cNvSpPr/>
                    <p:nvPr/>
                  </p:nvSpPr>
                  <p:spPr>
                    <a:xfrm>
                      <a:off x="255600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6" name="Rectangle 122"/>
                    <p:cNvSpPr/>
                    <p:nvPr/>
                  </p:nvSpPr>
                  <p:spPr>
                    <a:xfrm>
                      <a:off x="284508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7" name="Rectangle 123"/>
                    <p:cNvSpPr/>
                    <p:nvPr/>
                  </p:nvSpPr>
                  <p:spPr>
                    <a:xfrm>
                      <a:off x="313236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8" name="Group 124"/>
                  <p:cNvGrpSpPr/>
                  <p:nvPr/>
                </p:nvGrpSpPr>
                <p:grpSpPr>
                  <a:xfrm>
                    <a:off x="2556000" y="4221000"/>
                    <a:ext cx="863640" cy="289080"/>
                    <a:chOff x="2556000" y="4221000"/>
                    <a:chExt cx="863640" cy="289080"/>
                  </a:xfrm>
                </p:grpSpPr>
                <p:sp>
                  <p:nvSpPr>
                    <p:cNvPr id="4459" name="Rectangle 125"/>
                    <p:cNvSpPr/>
                    <p:nvPr/>
                  </p:nvSpPr>
                  <p:spPr>
                    <a:xfrm>
                      <a:off x="255600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0" name="Rectangle 126"/>
                    <p:cNvSpPr/>
                    <p:nvPr/>
                  </p:nvSpPr>
                  <p:spPr>
                    <a:xfrm>
                      <a:off x="284508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1" name="Rectangle 127"/>
                    <p:cNvSpPr/>
                    <p:nvPr/>
                  </p:nvSpPr>
                  <p:spPr>
                    <a:xfrm>
                      <a:off x="313236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462" name="Group 129"/>
            <p:cNvGrpSpPr/>
            <p:nvPr/>
          </p:nvGrpSpPr>
          <p:grpSpPr>
            <a:xfrm>
              <a:off x="3421080" y="1054080"/>
              <a:ext cx="863640" cy="3456000"/>
              <a:chOff x="3421080" y="1054080"/>
              <a:chExt cx="863640" cy="3456000"/>
            </a:xfrm>
          </p:grpSpPr>
          <p:grpSp>
            <p:nvGrpSpPr>
              <p:cNvPr id="4463" name="Group 130"/>
              <p:cNvGrpSpPr/>
              <p:nvPr/>
            </p:nvGrpSpPr>
            <p:grpSpPr>
              <a:xfrm>
                <a:off x="3421080" y="1054080"/>
                <a:ext cx="863640" cy="863640"/>
                <a:chOff x="3421080" y="1054080"/>
                <a:chExt cx="863640" cy="863640"/>
              </a:xfrm>
            </p:grpSpPr>
            <p:grpSp>
              <p:nvGrpSpPr>
                <p:cNvPr id="4464" name="Group 131"/>
                <p:cNvGrpSpPr/>
                <p:nvPr/>
              </p:nvGrpSpPr>
              <p:grpSpPr>
                <a:xfrm>
                  <a:off x="3421080" y="1054080"/>
                  <a:ext cx="863640" cy="289080"/>
                  <a:chOff x="3421080" y="1054080"/>
                  <a:chExt cx="863640" cy="289080"/>
                </a:xfrm>
              </p:grpSpPr>
              <p:sp>
                <p:nvSpPr>
                  <p:cNvPr id="4465" name="Rectangle 132"/>
                  <p:cNvSpPr/>
                  <p:nvPr/>
                </p:nvSpPr>
                <p:spPr>
                  <a:xfrm>
                    <a:off x="3421080" y="105408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6" name="Rectangle 133"/>
                  <p:cNvSpPr/>
                  <p:nvPr/>
                </p:nvSpPr>
                <p:spPr>
                  <a:xfrm>
                    <a:off x="3710160" y="105408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7" name="Rectangle 134"/>
                  <p:cNvSpPr/>
                  <p:nvPr/>
                </p:nvSpPr>
                <p:spPr>
                  <a:xfrm>
                    <a:off x="3997440" y="105408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8" name="Group 135"/>
                <p:cNvGrpSpPr/>
                <p:nvPr/>
              </p:nvGrpSpPr>
              <p:grpSpPr>
                <a:xfrm>
                  <a:off x="3421080" y="1343160"/>
                  <a:ext cx="863640" cy="288720"/>
                  <a:chOff x="3421080" y="1343160"/>
                  <a:chExt cx="863640" cy="288720"/>
                </a:xfrm>
              </p:grpSpPr>
              <p:sp>
                <p:nvSpPr>
                  <p:cNvPr id="4469" name="Rectangle 136"/>
                  <p:cNvSpPr/>
                  <p:nvPr/>
                </p:nvSpPr>
                <p:spPr>
                  <a:xfrm>
                    <a:off x="3421080" y="1343160"/>
                    <a:ext cx="2872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0" name="Rectangle 137"/>
                  <p:cNvSpPr/>
                  <p:nvPr/>
                </p:nvSpPr>
                <p:spPr>
                  <a:xfrm>
                    <a:off x="3710160" y="1343160"/>
                    <a:ext cx="2872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1" name="Rectangle 138"/>
                  <p:cNvSpPr/>
                  <p:nvPr/>
                </p:nvSpPr>
                <p:spPr>
                  <a:xfrm>
                    <a:off x="3997440" y="1343160"/>
                    <a:ext cx="2872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2" name="Group 139"/>
                <p:cNvGrpSpPr/>
                <p:nvPr/>
              </p:nvGrpSpPr>
              <p:grpSpPr>
                <a:xfrm>
                  <a:off x="3421080" y="1628640"/>
                  <a:ext cx="863640" cy="289080"/>
                  <a:chOff x="3421080" y="1628640"/>
                  <a:chExt cx="863640" cy="289080"/>
                </a:xfrm>
              </p:grpSpPr>
              <p:sp>
                <p:nvSpPr>
                  <p:cNvPr id="4473" name="Rectangle 140"/>
                  <p:cNvSpPr/>
                  <p:nvPr/>
                </p:nvSpPr>
                <p:spPr>
                  <a:xfrm>
                    <a:off x="3421080" y="162864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4" name="Rectangle 141"/>
                  <p:cNvSpPr/>
                  <p:nvPr/>
                </p:nvSpPr>
                <p:spPr>
                  <a:xfrm>
                    <a:off x="3710160" y="162864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5" name="Rectangle 142"/>
                  <p:cNvSpPr/>
                  <p:nvPr/>
                </p:nvSpPr>
                <p:spPr>
                  <a:xfrm>
                    <a:off x="3997440" y="162864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6" name="Group 143"/>
              <p:cNvGrpSpPr/>
              <p:nvPr/>
            </p:nvGrpSpPr>
            <p:grpSpPr>
              <a:xfrm>
                <a:off x="3421080" y="1919160"/>
                <a:ext cx="863640" cy="863640"/>
                <a:chOff x="3421080" y="1919160"/>
                <a:chExt cx="863640" cy="863640"/>
              </a:xfrm>
            </p:grpSpPr>
            <p:grpSp>
              <p:nvGrpSpPr>
                <p:cNvPr id="4477" name="Group 144"/>
                <p:cNvGrpSpPr/>
                <p:nvPr/>
              </p:nvGrpSpPr>
              <p:grpSpPr>
                <a:xfrm>
                  <a:off x="3421080" y="1919160"/>
                  <a:ext cx="863640" cy="289080"/>
                  <a:chOff x="3421080" y="1919160"/>
                  <a:chExt cx="863640" cy="289080"/>
                </a:xfrm>
              </p:grpSpPr>
              <p:sp>
                <p:nvSpPr>
                  <p:cNvPr id="4478" name="Rectangle 145"/>
                  <p:cNvSpPr/>
                  <p:nvPr/>
                </p:nvSpPr>
                <p:spPr>
                  <a:xfrm>
                    <a:off x="3421080" y="191916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9" name="Rectangle 146"/>
                  <p:cNvSpPr/>
                  <p:nvPr/>
                </p:nvSpPr>
                <p:spPr>
                  <a:xfrm>
                    <a:off x="3710160" y="191916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0" name="Rectangle 147"/>
                  <p:cNvSpPr/>
                  <p:nvPr/>
                </p:nvSpPr>
                <p:spPr>
                  <a:xfrm>
                    <a:off x="3997440" y="191916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1" name="Group 148"/>
                <p:cNvGrpSpPr/>
                <p:nvPr/>
              </p:nvGrpSpPr>
              <p:grpSpPr>
                <a:xfrm>
                  <a:off x="3421080" y="2208240"/>
                  <a:ext cx="863640" cy="288720"/>
                  <a:chOff x="3421080" y="2208240"/>
                  <a:chExt cx="863640" cy="288720"/>
                </a:xfrm>
              </p:grpSpPr>
              <p:sp>
                <p:nvSpPr>
                  <p:cNvPr id="4482" name="Rectangle 149"/>
                  <p:cNvSpPr/>
                  <p:nvPr/>
                </p:nvSpPr>
                <p:spPr>
                  <a:xfrm>
                    <a:off x="3421080" y="2208240"/>
                    <a:ext cx="2872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3" name="Rectangle 150"/>
                  <p:cNvSpPr/>
                  <p:nvPr/>
                </p:nvSpPr>
                <p:spPr>
                  <a:xfrm>
                    <a:off x="3710160" y="2208240"/>
                    <a:ext cx="2872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4" name="Rectangle 151"/>
                  <p:cNvSpPr/>
                  <p:nvPr/>
                </p:nvSpPr>
                <p:spPr>
                  <a:xfrm>
                    <a:off x="3997440" y="2208240"/>
                    <a:ext cx="2872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5" name="Group 152"/>
                <p:cNvGrpSpPr/>
                <p:nvPr/>
              </p:nvGrpSpPr>
              <p:grpSpPr>
                <a:xfrm>
                  <a:off x="3421080" y="2493720"/>
                  <a:ext cx="863640" cy="289080"/>
                  <a:chOff x="3421080" y="2493720"/>
                  <a:chExt cx="863640" cy="289080"/>
                </a:xfrm>
              </p:grpSpPr>
              <p:sp>
                <p:nvSpPr>
                  <p:cNvPr id="4486" name="Rectangle 153"/>
                  <p:cNvSpPr/>
                  <p:nvPr/>
                </p:nvSpPr>
                <p:spPr>
                  <a:xfrm>
                    <a:off x="3421080" y="249372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7" name="Rectangle 154"/>
                  <p:cNvSpPr/>
                  <p:nvPr/>
                </p:nvSpPr>
                <p:spPr>
                  <a:xfrm>
                    <a:off x="3710160" y="249372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8" name="Rectangle 155"/>
                  <p:cNvSpPr/>
                  <p:nvPr/>
                </p:nvSpPr>
                <p:spPr>
                  <a:xfrm>
                    <a:off x="3997440" y="249372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89" name="Group 156"/>
              <p:cNvGrpSpPr/>
              <p:nvPr/>
            </p:nvGrpSpPr>
            <p:grpSpPr>
              <a:xfrm>
                <a:off x="3421080" y="2782800"/>
                <a:ext cx="863640" cy="863640"/>
                <a:chOff x="3421080" y="2782800"/>
                <a:chExt cx="863640" cy="863640"/>
              </a:xfrm>
            </p:grpSpPr>
            <p:grpSp>
              <p:nvGrpSpPr>
                <p:cNvPr id="4490" name="Group 157"/>
                <p:cNvGrpSpPr/>
                <p:nvPr/>
              </p:nvGrpSpPr>
              <p:grpSpPr>
                <a:xfrm>
                  <a:off x="3421080" y="2782800"/>
                  <a:ext cx="863640" cy="289080"/>
                  <a:chOff x="3421080" y="2782800"/>
                  <a:chExt cx="863640" cy="289080"/>
                </a:xfrm>
              </p:grpSpPr>
              <p:sp>
                <p:nvSpPr>
                  <p:cNvPr id="4491" name="Rectangle 158"/>
                  <p:cNvSpPr/>
                  <p:nvPr/>
                </p:nvSpPr>
                <p:spPr>
                  <a:xfrm>
                    <a:off x="3421080" y="278280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2" name="Rectangle 159"/>
                  <p:cNvSpPr/>
                  <p:nvPr/>
                </p:nvSpPr>
                <p:spPr>
                  <a:xfrm>
                    <a:off x="3710160" y="278280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3" name="Rectangle 160"/>
                  <p:cNvSpPr/>
                  <p:nvPr/>
                </p:nvSpPr>
                <p:spPr>
                  <a:xfrm>
                    <a:off x="3997440" y="278280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4" name="Group 161"/>
                <p:cNvGrpSpPr/>
                <p:nvPr/>
              </p:nvGrpSpPr>
              <p:grpSpPr>
                <a:xfrm>
                  <a:off x="3421080" y="3071880"/>
                  <a:ext cx="863640" cy="288720"/>
                  <a:chOff x="3421080" y="3071880"/>
                  <a:chExt cx="863640" cy="288720"/>
                </a:xfrm>
              </p:grpSpPr>
              <p:sp>
                <p:nvSpPr>
                  <p:cNvPr id="4495" name="Rectangle 162"/>
                  <p:cNvSpPr/>
                  <p:nvPr/>
                </p:nvSpPr>
                <p:spPr>
                  <a:xfrm>
                    <a:off x="3421080" y="3071880"/>
                    <a:ext cx="2872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6" name="Rectangle 163"/>
                  <p:cNvSpPr/>
                  <p:nvPr/>
                </p:nvSpPr>
                <p:spPr>
                  <a:xfrm>
                    <a:off x="3710160" y="3071880"/>
                    <a:ext cx="2872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7" name="Rectangle 164"/>
                  <p:cNvSpPr/>
                  <p:nvPr/>
                </p:nvSpPr>
                <p:spPr>
                  <a:xfrm>
                    <a:off x="3997440" y="3071880"/>
                    <a:ext cx="2872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8" name="Group 165"/>
                <p:cNvGrpSpPr/>
                <p:nvPr/>
              </p:nvGrpSpPr>
              <p:grpSpPr>
                <a:xfrm>
                  <a:off x="3421080" y="3357360"/>
                  <a:ext cx="863640" cy="289080"/>
                  <a:chOff x="3421080" y="3357360"/>
                  <a:chExt cx="863640" cy="289080"/>
                </a:xfrm>
              </p:grpSpPr>
              <p:sp>
                <p:nvSpPr>
                  <p:cNvPr id="4499" name="Rectangle 166"/>
                  <p:cNvSpPr/>
                  <p:nvPr/>
                </p:nvSpPr>
                <p:spPr>
                  <a:xfrm>
                    <a:off x="3421080" y="335736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0" name="Rectangle 167"/>
                  <p:cNvSpPr/>
                  <p:nvPr/>
                </p:nvSpPr>
                <p:spPr>
                  <a:xfrm>
                    <a:off x="3710160" y="335736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1" name="Rectangle 168"/>
                  <p:cNvSpPr/>
                  <p:nvPr/>
                </p:nvSpPr>
                <p:spPr>
                  <a:xfrm>
                    <a:off x="3997440" y="335736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02" name="Group 169"/>
              <p:cNvGrpSpPr/>
              <p:nvPr/>
            </p:nvGrpSpPr>
            <p:grpSpPr>
              <a:xfrm>
                <a:off x="3421080" y="3646440"/>
                <a:ext cx="863640" cy="863640"/>
                <a:chOff x="3421080" y="3646440"/>
                <a:chExt cx="863640" cy="863640"/>
              </a:xfrm>
            </p:grpSpPr>
            <p:grpSp>
              <p:nvGrpSpPr>
                <p:cNvPr id="4503" name="Group 170"/>
                <p:cNvGrpSpPr/>
                <p:nvPr/>
              </p:nvGrpSpPr>
              <p:grpSpPr>
                <a:xfrm>
                  <a:off x="3421080" y="3646440"/>
                  <a:ext cx="863640" cy="289080"/>
                  <a:chOff x="3421080" y="3646440"/>
                  <a:chExt cx="863640" cy="289080"/>
                </a:xfrm>
              </p:grpSpPr>
              <p:sp>
                <p:nvSpPr>
                  <p:cNvPr id="4504" name="Rectangle 171"/>
                  <p:cNvSpPr/>
                  <p:nvPr/>
                </p:nvSpPr>
                <p:spPr>
                  <a:xfrm>
                    <a:off x="3421080" y="364644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5" name="Rectangle 172"/>
                  <p:cNvSpPr/>
                  <p:nvPr/>
                </p:nvSpPr>
                <p:spPr>
                  <a:xfrm>
                    <a:off x="3710160" y="364644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6" name="Rectangle 173"/>
                  <p:cNvSpPr/>
                  <p:nvPr/>
                </p:nvSpPr>
                <p:spPr>
                  <a:xfrm>
                    <a:off x="3997440" y="364644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7" name="Group 174"/>
                <p:cNvGrpSpPr/>
                <p:nvPr/>
              </p:nvGrpSpPr>
              <p:grpSpPr>
                <a:xfrm>
                  <a:off x="3421080" y="3935520"/>
                  <a:ext cx="863640" cy="288720"/>
                  <a:chOff x="3421080" y="3935520"/>
                  <a:chExt cx="863640" cy="288720"/>
                </a:xfrm>
              </p:grpSpPr>
              <p:sp>
                <p:nvSpPr>
                  <p:cNvPr id="4508" name="Rectangle 175"/>
                  <p:cNvSpPr/>
                  <p:nvPr/>
                </p:nvSpPr>
                <p:spPr>
                  <a:xfrm>
                    <a:off x="3421080" y="3935520"/>
                    <a:ext cx="2872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9" name="Rectangle 176"/>
                  <p:cNvSpPr/>
                  <p:nvPr/>
                </p:nvSpPr>
                <p:spPr>
                  <a:xfrm>
                    <a:off x="3710160" y="3935520"/>
                    <a:ext cx="2872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0" name="Rectangle 177"/>
                  <p:cNvSpPr/>
                  <p:nvPr/>
                </p:nvSpPr>
                <p:spPr>
                  <a:xfrm>
                    <a:off x="3997440" y="3935520"/>
                    <a:ext cx="2872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1" name="Group 178"/>
                <p:cNvGrpSpPr/>
                <p:nvPr/>
              </p:nvGrpSpPr>
              <p:grpSpPr>
                <a:xfrm>
                  <a:off x="3421080" y="4221000"/>
                  <a:ext cx="863640" cy="289080"/>
                  <a:chOff x="3421080" y="4221000"/>
                  <a:chExt cx="863640" cy="289080"/>
                </a:xfrm>
              </p:grpSpPr>
              <p:sp>
                <p:nvSpPr>
                  <p:cNvPr id="4512" name="Rectangle 179"/>
                  <p:cNvSpPr/>
                  <p:nvPr/>
                </p:nvSpPr>
                <p:spPr>
                  <a:xfrm>
                    <a:off x="3421080" y="422100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3" name="Rectangle 180"/>
                  <p:cNvSpPr/>
                  <p:nvPr/>
                </p:nvSpPr>
                <p:spPr>
                  <a:xfrm>
                    <a:off x="3710160" y="422100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4" name="Rectangle 181"/>
                  <p:cNvSpPr/>
                  <p:nvPr/>
                </p:nvSpPr>
                <p:spPr>
                  <a:xfrm>
                    <a:off x="3997440" y="4221000"/>
                    <a:ext cx="2872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15" name="Group 182"/>
            <p:cNvGrpSpPr/>
            <p:nvPr/>
          </p:nvGrpSpPr>
          <p:grpSpPr>
            <a:xfrm>
              <a:off x="4284720" y="1054080"/>
              <a:ext cx="1727280" cy="3456000"/>
              <a:chOff x="4284720" y="1054080"/>
              <a:chExt cx="1727280" cy="3456000"/>
            </a:xfrm>
          </p:grpSpPr>
          <p:grpSp>
            <p:nvGrpSpPr>
              <p:cNvPr id="4516" name="Group 183"/>
              <p:cNvGrpSpPr/>
              <p:nvPr/>
            </p:nvGrpSpPr>
            <p:grpSpPr>
              <a:xfrm>
                <a:off x="4284720" y="1054080"/>
                <a:ext cx="863640" cy="3456000"/>
                <a:chOff x="4284720" y="1054080"/>
                <a:chExt cx="863640" cy="3456000"/>
              </a:xfrm>
            </p:grpSpPr>
            <p:grpSp>
              <p:nvGrpSpPr>
                <p:cNvPr id="4517" name="Group 184"/>
                <p:cNvGrpSpPr/>
                <p:nvPr/>
              </p:nvGrpSpPr>
              <p:grpSpPr>
                <a:xfrm>
                  <a:off x="4284720" y="1054080"/>
                  <a:ext cx="863640" cy="863640"/>
                  <a:chOff x="4284720" y="1054080"/>
                  <a:chExt cx="863640" cy="863640"/>
                </a:xfrm>
              </p:grpSpPr>
              <p:grpSp>
                <p:nvGrpSpPr>
                  <p:cNvPr id="4518" name="Group 185"/>
                  <p:cNvGrpSpPr/>
                  <p:nvPr/>
                </p:nvGrpSpPr>
                <p:grpSpPr>
                  <a:xfrm>
                    <a:off x="4284720" y="1054080"/>
                    <a:ext cx="863640" cy="289080"/>
                    <a:chOff x="4284720" y="1054080"/>
                    <a:chExt cx="863640" cy="289080"/>
                  </a:xfrm>
                </p:grpSpPr>
                <p:sp>
                  <p:nvSpPr>
                    <p:cNvPr id="4519" name="Rectangle 186"/>
                    <p:cNvSpPr/>
                    <p:nvPr/>
                  </p:nvSpPr>
                  <p:spPr>
                    <a:xfrm>
                      <a:off x="428472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0" name="Rectangle 187"/>
                    <p:cNvSpPr/>
                    <p:nvPr/>
                  </p:nvSpPr>
                  <p:spPr>
                    <a:xfrm>
                      <a:off x="457380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1" name="Rectangle 188"/>
                    <p:cNvSpPr/>
                    <p:nvPr/>
                  </p:nvSpPr>
                  <p:spPr>
                    <a:xfrm>
                      <a:off x="486108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2" name="Group 189"/>
                  <p:cNvGrpSpPr/>
                  <p:nvPr/>
                </p:nvGrpSpPr>
                <p:grpSpPr>
                  <a:xfrm>
                    <a:off x="4284720" y="1343160"/>
                    <a:ext cx="863640" cy="288720"/>
                    <a:chOff x="4284720" y="1343160"/>
                    <a:chExt cx="863640" cy="288720"/>
                  </a:xfrm>
                </p:grpSpPr>
                <p:sp>
                  <p:nvSpPr>
                    <p:cNvPr id="4523" name="Rectangle 190"/>
                    <p:cNvSpPr/>
                    <p:nvPr/>
                  </p:nvSpPr>
                  <p:spPr>
                    <a:xfrm>
                      <a:off x="428472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4" name="Rectangle 191"/>
                    <p:cNvSpPr/>
                    <p:nvPr/>
                  </p:nvSpPr>
                  <p:spPr>
                    <a:xfrm>
                      <a:off x="457380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5" name="Rectangle 192"/>
                    <p:cNvSpPr/>
                    <p:nvPr/>
                  </p:nvSpPr>
                  <p:spPr>
                    <a:xfrm>
                      <a:off x="486108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6" name="Group 193"/>
                  <p:cNvGrpSpPr/>
                  <p:nvPr/>
                </p:nvGrpSpPr>
                <p:grpSpPr>
                  <a:xfrm>
                    <a:off x="4284720" y="1628640"/>
                    <a:ext cx="863640" cy="289080"/>
                    <a:chOff x="4284720" y="1628640"/>
                    <a:chExt cx="863640" cy="289080"/>
                  </a:xfrm>
                </p:grpSpPr>
                <p:sp>
                  <p:nvSpPr>
                    <p:cNvPr id="4527" name="Rectangle 194"/>
                    <p:cNvSpPr/>
                    <p:nvPr/>
                  </p:nvSpPr>
                  <p:spPr>
                    <a:xfrm>
                      <a:off x="428472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8" name="Rectangle 195"/>
                    <p:cNvSpPr/>
                    <p:nvPr/>
                  </p:nvSpPr>
                  <p:spPr>
                    <a:xfrm>
                      <a:off x="457380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9" name="Rectangle 196"/>
                    <p:cNvSpPr/>
                    <p:nvPr/>
                  </p:nvSpPr>
                  <p:spPr>
                    <a:xfrm>
                      <a:off x="486108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30" name="Group 197"/>
                <p:cNvGrpSpPr/>
                <p:nvPr/>
              </p:nvGrpSpPr>
              <p:grpSpPr>
                <a:xfrm>
                  <a:off x="4284720" y="1919160"/>
                  <a:ext cx="863640" cy="863640"/>
                  <a:chOff x="4284720" y="1919160"/>
                  <a:chExt cx="863640" cy="863640"/>
                </a:xfrm>
              </p:grpSpPr>
              <p:grpSp>
                <p:nvGrpSpPr>
                  <p:cNvPr id="4531" name="Group 198"/>
                  <p:cNvGrpSpPr/>
                  <p:nvPr/>
                </p:nvGrpSpPr>
                <p:grpSpPr>
                  <a:xfrm>
                    <a:off x="4284720" y="1919160"/>
                    <a:ext cx="863640" cy="289080"/>
                    <a:chOff x="4284720" y="1919160"/>
                    <a:chExt cx="863640" cy="289080"/>
                  </a:xfrm>
                </p:grpSpPr>
                <p:sp>
                  <p:nvSpPr>
                    <p:cNvPr id="4532" name="Rectangle 199"/>
                    <p:cNvSpPr/>
                    <p:nvPr/>
                  </p:nvSpPr>
                  <p:spPr>
                    <a:xfrm>
                      <a:off x="428472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3" name="Rectangle 200"/>
                    <p:cNvSpPr/>
                    <p:nvPr/>
                  </p:nvSpPr>
                  <p:spPr>
                    <a:xfrm>
                      <a:off x="457380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4" name="Rectangle 201"/>
                    <p:cNvSpPr/>
                    <p:nvPr/>
                  </p:nvSpPr>
                  <p:spPr>
                    <a:xfrm>
                      <a:off x="486108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5" name="Group 202"/>
                  <p:cNvGrpSpPr/>
                  <p:nvPr/>
                </p:nvGrpSpPr>
                <p:grpSpPr>
                  <a:xfrm>
                    <a:off x="4284720" y="2208240"/>
                    <a:ext cx="863640" cy="288720"/>
                    <a:chOff x="4284720" y="2208240"/>
                    <a:chExt cx="863640" cy="288720"/>
                  </a:xfrm>
                </p:grpSpPr>
                <p:sp>
                  <p:nvSpPr>
                    <p:cNvPr id="4536" name="Rectangle 203"/>
                    <p:cNvSpPr/>
                    <p:nvPr/>
                  </p:nvSpPr>
                  <p:spPr>
                    <a:xfrm>
                      <a:off x="428472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7" name="Rectangle 204"/>
                    <p:cNvSpPr/>
                    <p:nvPr/>
                  </p:nvSpPr>
                  <p:spPr>
                    <a:xfrm>
                      <a:off x="457380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8" name="Rectangle 205"/>
                    <p:cNvSpPr/>
                    <p:nvPr/>
                  </p:nvSpPr>
                  <p:spPr>
                    <a:xfrm>
                      <a:off x="486108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9" name="Group 206"/>
                  <p:cNvGrpSpPr/>
                  <p:nvPr/>
                </p:nvGrpSpPr>
                <p:grpSpPr>
                  <a:xfrm>
                    <a:off x="4284720" y="2493720"/>
                    <a:ext cx="863640" cy="289080"/>
                    <a:chOff x="4284720" y="2493720"/>
                    <a:chExt cx="863640" cy="289080"/>
                  </a:xfrm>
                </p:grpSpPr>
                <p:sp>
                  <p:nvSpPr>
                    <p:cNvPr id="4540" name="Rectangle 207"/>
                    <p:cNvSpPr/>
                    <p:nvPr/>
                  </p:nvSpPr>
                  <p:spPr>
                    <a:xfrm>
                      <a:off x="428472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1" name="Rectangle 208"/>
                    <p:cNvSpPr/>
                    <p:nvPr/>
                  </p:nvSpPr>
                  <p:spPr>
                    <a:xfrm>
                      <a:off x="457380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2" name="Rectangle 209"/>
                    <p:cNvSpPr/>
                    <p:nvPr/>
                  </p:nvSpPr>
                  <p:spPr>
                    <a:xfrm>
                      <a:off x="486108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43" name="Group 210"/>
                <p:cNvGrpSpPr/>
                <p:nvPr/>
              </p:nvGrpSpPr>
              <p:grpSpPr>
                <a:xfrm>
                  <a:off x="4284720" y="2782800"/>
                  <a:ext cx="863640" cy="863640"/>
                  <a:chOff x="4284720" y="2782800"/>
                  <a:chExt cx="863640" cy="863640"/>
                </a:xfrm>
              </p:grpSpPr>
              <p:grpSp>
                <p:nvGrpSpPr>
                  <p:cNvPr id="4544" name="Group 211"/>
                  <p:cNvGrpSpPr/>
                  <p:nvPr/>
                </p:nvGrpSpPr>
                <p:grpSpPr>
                  <a:xfrm>
                    <a:off x="4284720" y="2782800"/>
                    <a:ext cx="863640" cy="289080"/>
                    <a:chOff x="4284720" y="2782800"/>
                    <a:chExt cx="863640" cy="289080"/>
                  </a:xfrm>
                </p:grpSpPr>
                <p:sp>
                  <p:nvSpPr>
                    <p:cNvPr id="4545" name="Rectangle 212"/>
                    <p:cNvSpPr/>
                    <p:nvPr/>
                  </p:nvSpPr>
                  <p:spPr>
                    <a:xfrm>
                      <a:off x="428472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6" name="Rectangle 213"/>
                    <p:cNvSpPr/>
                    <p:nvPr/>
                  </p:nvSpPr>
                  <p:spPr>
                    <a:xfrm>
                      <a:off x="457380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7" name="Rectangle 214"/>
                    <p:cNvSpPr/>
                    <p:nvPr/>
                  </p:nvSpPr>
                  <p:spPr>
                    <a:xfrm>
                      <a:off x="486108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8" name="Group 215"/>
                  <p:cNvGrpSpPr/>
                  <p:nvPr/>
                </p:nvGrpSpPr>
                <p:grpSpPr>
                  <a:xfrm>
                    <a:off x="4284720" y="3071880"/>
                    <a:ext cx="863640" cy="288720"/>
                    <a:chOff x="4284720" y="3071880"/>
                    <a:chExt cx="863640" cy="288720"/>
                  </a:xfrm>
                </p:grpSpPr>
                <p:sp>
                  <p:nvSpPr>
                    <p:cNvPr id="4549" name="Rectangle 216"/>
                    <p:cNvSpPr/>
                    <p:nvPr/>
                  </p:nvSpPr>
                  <p:spPr>
                    <a:xfrm>
                      <a:off x="428472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0" name="Rectangle 217"/>
                    <p:cNvSpPr/>
                    <p:nvPr/>
                  </p:nvSpPr>
                  <p:spPr>
                    <a:xfrm>
                      <a:off x="457380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1" name="Rectangle 218"/>
                    <p:cNvSpPr/>
                    <p:nvPr/>
                  </p:nvSpPr>
                  <p:spPr>
                    <a:xfrm>
                      <a:off x="486108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2" name="Group 219"/>
                  <p:cNvGrpSpPr/>
                  <p:nvPr/>
                </p:nvGrpSpPr>
                <p:grpSpPr>
                  <a:xfrm>
                    <a:off x="4284720" y="3357360"/>
                    <a:ext cx="863640" cy="289080"/>
                    <a:chOff x="4284720" y="3357360"/>
                    <a:chExt cx="863640" cy="289080"/>
                  </a:xfrm>
                </p:grpSpPr>
                <p:sp>
                  <p:nvSpPr>
                    <p:cNvPr id="4553" name="Rectangle 220"/>
                    <p:cNvSpPr/>
                    <p:nvPr/>
                  </p:nvSpPr>
                  <p:spPr>
                    <a:xfrm>
                      <a:off x="428472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4" name="Rectangle 221"/>
                    <p:cNvSpPr/>
                    <p:nvPr/>
                  </p:nvSpPr>
                  <p:spPr>
                    <a:xfrm>
                      <a:off x="457380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5" name="Rectangle 222"/>
                    <p:cNvSpPr/>
                    <p:nvPr/>
                  </p:nvSpPr>
                  <p:spPr>
                    <a:xfrm>
                      <a:off x="486108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56" name="Group 223"/>
                <p:cNvGrpSpPr/>
                <p:nvPr/>
              </p:nvGrpSpPr>
              <p:grpSpPr>
                <a:xfrm>
                  <a:off x="4284720" y="3646440"/>
                  <a:ext cx="863640" cy="863640"/>
                  <a:chOff x="4284720" y="3646440"/>
                  <a:chExt cx="863640" cy="863640"/>
                </a:xfrm>
              </p:grpSpPr>
              <p:grpSp>
                <p:nvGrpSpPr>
                  <p:cNvPr id="4557" name="Group 224"/>
                  <p:cNvGrpSpPr/>
                  <p:nvPr/>
                </p:nvGrpSpPr>
                <p:grpSpPr>
                  <a:xfrm>
                    <a:off x="4284720" y="3646440"/>
                    <a:ext cx="863640" cy="289080"/>
                    <a:chOff x="4284720" y="3646440"/>
                    <a:chExt cx="863640" cy="289080"/>
                  </a:xfrm>
                </p:grpSpPr>
                <p:sp>
                  <p:nvSpPr>
                    <p:cNvPr id="4558" name="Rectangle 225"/>
                    <p:cNvSpPr/>
                    <p:nvPr/>
                  </p:nvSpPr>
                  <p:spPr>
                    <a:xfrm>
                      <a:off x="428472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9" name="Rectangle 226"/>
                    <p:cNvSpPr/>
                    <p:nvPr/>
                  </p:nvSpPr>
                  <p:spPr>
                    <a:xfrm>
                      <a:off x="457380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0" name="Rectangle 227"/>
                    <p:cNvSpPr/>
                    <p:nvPr/>
                  </p:nvSpPr>
                  <p:spPr>
                    <a:xfrm>
                      <a:off x="486108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1" name="Group 228"/>
                  <p:cNvGrpSpPr/>
                  <p:nvPr/>
                </p:nvGrpSpPr>
                <p:grpSpPr>
                  <a:xfrm>
                    <a:off x="4284720" y="3935520"/>
                    <a:ext cx="863640" cy="288720"/>
                    <a:chOff x="4284720" y="3935520"/>
                    <a:chExt cx="863640" cy="288720"/>
                  </a:xfrm>
                </p:grpSpPr>
                <p:sp>
                  <p:nvSpPr>
                    <p:cNvPr id="4562" name="Rectangle 229"/>
                    <p:cNvSpPr/>
                    <p:nvPr/>
                  </p:nvSpPr>
                  <p:spPr>
                    <a:xfrm>
                      <a:off x="428472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3" name="Rectangle 230"/>
                    <p:cNvSpPr/>
                    <p:nvPr/>
                  </p:nvSpPr>
                  <p:spPr>
                    <a:xfrm>
                      <a:off x="457380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4" name="Rectangle 231"/>
                    <p:cNvSpPr/>
                    <p:nvPr/>
                  </p:nvSpPr>
                  <p:spPr>
                    <a:xfrm>
                      <a:off x="486108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5" name="Group 232"/>
                  <p:cNvGrpSpPr/>
                  <p:nvPr/>
                </p:nvGrpSpPr>
                <p:grpSpPr>
                  <a:xfrm>
                    <a:off x="4284720" y="4221000"/>
                    <a:ext cx="863640" cy="289080"/>
                    <a:chOff x="4284720" y="4221000"/>
                    <a:chExt cx="863640" cy="289080"/>
                  </a:xfrm>
                </p:grpSpPr>
                <p:sp>
                  <p:nvSpPr>
                    <p:cNvPr id="4566" name="Rectangle 233"/>
                    <p:cNvSpPr/>
                    <p:nvPr/>
                  </p:nvSpPr>
                  <p:spPr>
                    <a:xfrm>
                      <a:off x="428472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7" name="Rectangle 234"/>
                    <p:cNvSpPr/>
                    <p:nvPr/>
                  </p:nvSpPr>
                  <p:spPr>
                    <a:xfrm>
                      <a:off x="457380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8" name="Rectangle 235"/>
                    <p:cNvSpPr/>
                    <p:nvPr/>
                  </p:nvSpPr>
                  <p:spPr>
                    <a:xfrm>
                      <a:off x="486108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69" name="Group 236"/>
              <p:cNvGrpSpPr/>
              <p:nvPr/>
            </p:nvGrpSpPr>
            <p:grpSpPr>
              <a:xfrm>
                <a:off x="5148360" y="1054080"/>
                <a:ext cx="863640" cy="3456000"/>
                <a:chOff x="5148360" y="1054080"/>
                <a:chExt cx="863640" cy="3456000"/>
              </a:xfrm>
            </p:grpSpPr>
            <p:grpSp>
              <p:nvGrpSpPr>
                <p:cNvPr id="4570" name="Group 237"/>
                <p:cNvGrpSpPr/>
                <p:nvPr/>
              </p:nvGrpSpPr>
              <p:grpSpPr>
                <a:xfrm>
                  <a:off x="5148360" y="1054080"/>
                  <a:ext cx="863640" cy="863640"/>
                  <a:chOff x="5148360" y="1054080"/>
                  <a:chExt cx="863640" cy="863640"/>
                </a:xfrm>
              </p:grpSpPr>
              <p:grpSp>
                <p:nvGrpSpPr>
                  <p:cNvPr id="4571" name="Group 238"/>
                  <p:cNvGrpSpPr/>
                  <p:nvPr/>
                </p:nvGrpSpPr>
                <p:grpSpPr>
                  <a:xfrm>
                    <a:off x="5148360" y="1054080"/>
                    <a:ext cx="863640" cy="289080"/>
                    <a:chOff x="5148360" y="1054080"/>
                    <a:chExt cx="863640" cy="289080"/>
                  </a:xfrm>
                </p:grpSpPr>
                <p:sp>
                  <p:nvSpPr>
                    <p:cNvPr id="4572" name="Rectangle 239"/>
                    <p:cNvSpPr/>
                    <p:nvPr/>
                  </p:nvSpPr>
                  <p:spPr>
                    <a:xfrm>
                      <a:off x="514836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3" name="Rectangle 240"/>
                    <p:cNvSpPr/>
                    <p:nvPr/>
                  </p:nvSpPr>
                  <p:spPr>
                    <a:xfrm>
                      <a:off x="543744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4" name="Rectangle 241"/>
                    <p:cNvSpPr/>
                    <p:nvPr/>
                  </p:nvSpPr>
                  <p:spPr>
                    <a:xfrm>
                      <a:off x="572472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5" name="Group 242"/>
                  <p:cNvGrpSpPr/>
                  <p:nvPr/>
                </p:nvGrpSpPr>
                <p:grpSpPr>
                  <a:xfrm>
                    <a:off x="5148360" y="1343160"/>
                    <a:ext cx="863640" cy="288720"/>
                    <a:chOff x="5148360" y="1343160"/>
                    <a:chExt cx="863640" cy="288720"/>
                  </a:xfrm>
                </p:grpSpPr>
                <p:sp>
                  <p:nvSpPr>
                    <p:cNvPr id="4576" name="Rectangle 243"/>
                    <p:cNvSpPr/>
                    <p:nvPr/>
                  </p:nvSpPr>
                  <p:spPr>
                    <a:xfrm>
                      <a:off x="514836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7" name="Rectangle 244"/>
                    <p:cNvSpPr/>
                    <p:nvPr/>
                  </p:nvSpPr>
                  <p:spPr>
                    <a:xfrm>
                      <a:off x="543744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8" name="Rectangle 245"/>
                    <p:cNvSpPr/>
                    <p:nvPr/>
                  </p:nvSpPr>
                  <p:spPr>
                    <a:xfrm>
                      <a:off x="572472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9" name="Group 246"/>
                  <p:cNvGrpSpPr/>
                  <p:nvPr/>
                </p:nvGrpSpPr>
                <p:grpSpPr>
                  <a:xfrm>
                    <a:off x="5148360" y="1628640"/>
                    <a:ext cx="863640" cy="289080"/>
                    <a:chOff x="5148360" y="1628640"/>
                    <a:chExt cx="863640" cy="289080"/>
                  </a:xfrm>
                </p:grpSpPr>
                <p:sp>
                  <p:nvSpPr>
                    <p:cNvPr id="4580" name="Rectangle 247"/>
                    <p:cNvSpPr/>
                    <p:nvPr/>
                  </p:nvSpPr>
                  <p:spPr>
                    <a:xfrm>
                      <a:off x="514836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1" name="Rectangle 248"/>
                    <p:cNvSpPr/>
                    <p:nvPr/>
                  </p:nvSpPr>
                  <p:spPr>
                    <a:xfrm>
                      <a:off x="543744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2" name="Rectangle 249"/>
                    <p:cNvSpPr/>
                    <p:nvPr/>
                  </p:nvSpPr>
                  <p:spPr>
                    <a:xfrm>
                      <a:off x="572472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83" name="Group 250"/>
                <p:cNvGrpSpPr/>
                <p:nvPr/>
              </p:nvGrpSpPr>
              <p:grpSpPr>
                <a:xfrm>
                  <a:off x="5148360" y="1919160"/>
                  <a:ext cx="863640" cy="863640"/>
                  <a:chOff x="5148360" y="1919160"/>
                  <a:chExt cx="863640" cy="863640"/>
                </a:xfrm>
              </p:grpSpPr>
              <p:grpSp>
                <p:nvGrpSpPr>
                  <p:cNvPr id="4584" name="Group 251"/>
                  <p:cNvGrpSpPr/>
                  <p:nvPr/>
                </p:nvGrpSpPr>
                <p:grpSpPr>
                  <a:xfrm>
                    <a:off x="5148360" y="1919160"/>
                    <a:ext cx="863640" cy="289080"/>
                    <a:chOff x="5148360" y="1919160"/>
                    <a:chExt cx="863640" cy="289080"/>
                  </a:xfrm>
                </p:grpSpPr>
                <p:sp>
                  <p:nvSpPr>
                    <p:cNvPr id="4585" name="Rectangle 252"/>
                    <p:cNvSpPr/>
                    <p:nvPr/>
                  </p:nvSpPr>
                  <p:spPr>
                    <a:xfrm>
                      <a:off x="514836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6" name="Rectangle 253"/>
                    <p:cNvSpPr/>
                    <p:nvPr/>
                  </p:nvSpPr>
                  <p:spPr>
                    <a:xfrm>
                      <a:off x="543744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7" name="Rectangle 254"/>
                    <p:cNvSpPr/>
                    <p:nvPr/>
                  </p:nvSpPr>
                  <p:spPr>
                    <a:xfrm>
                      <a:off x="572472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8" name="Group 255"/>
                  <p:cNvGrpSpPr/>
                  <p:nvPr/>
                </p:nvGrpSpPr>
                <p:grpSpPr>
                  <a:xfrm>
                    <a:off x="5148360" y="2208240"/>
                    <a:ext cx="863640" cy="288720"/>
                    <a:chOff x="5148360" y="2208240"/>
                    <a:chExt cx="863640" cy="288720"/>
                  </a:xfrm>
                </p:grpSpPr>
                <p:sp>
                  <p:nvSpPr>
                    <p:cNvPr id="4589" name="Rectangle 256"/>
                    <p:cNvSpPr/>
                    <p:nvPr/>
                  </p:nvSpPr>
                  <p:spPr>
                    <a:xfrm>
                      <a:off x="514836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0" name="Rectangle 257"/>
                    <p:cNvSpPr/>
                    <p:nvPr/>
                  </p:nvSpPr>
                  <p:spPr>
                    <a:xfrm>
                      <a:off x="543744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1" name="Rectangle 258"/>
                    <p:cNvSpPr/>
                    <p:nvPr/>
                  </p:nvSpPr>
                  <p:spPr>
                    <a:xfrm>
                      <a:off x="572472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2" name="Group 259"/>
                  <p:cNvGrpSpPr/>
                  <p:nvPr/>
                </p:nvGrpSpPr>
                <p:grpSpPr>
                  <a:xfrm>
                    <a:off x="5148360" y="2493720"/>
                    <a:ext cx="863640" cy="289080"/>
                    <a:chOff x="5148360" y="2493720"/>
                    <a:chExt cx="863640" cy="289080"/>
                  </a:xfrm>
                </p:grpSpPr>
                <p:sp>
                  <p:nvSpPr>
                    <p:cNvPr id="4593" name="Rectangle 260"/>
                    <p:cNvSpPr/>
                    <p:nvPr/>
                  </p:nvSpPr>
                  <p:spPr>
                    <a:xfrm>
                      <a:off x="514836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4" name="Rectangle 261"/>
                    <p:cNvSpPr/>
                    <p:nvPr/>
                  </p:nvSpPr>
                  <p:spPr>
                    <a:xfrm>
                      <a:off x="543744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5" name="Rectangle 262"/>
                    <p:cNvSpPr/>
                    <p:nvPr/>
                  </p:nvSpPr>
                  <p:spPr>
                    <a:xfrm>
                      <a:off x="572472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96" name="Group 263"/>
                <p:cNvGrpSpPr/>
                <p:nvPr/>
              </p:nvGrpSpPr>
              <p:grpSpPr>
                <a:xfrm>
                  <a:off x="5148360" y="2782800"/>
                  <a:ext cx="863640" cy="863640"/>
                  <a:chOff x="5148360" y="2782800"/>
                  <a:chExt cx="863640" cy="863640"/>
                </a:xfrm>
              </p:grpSpPr>
              <p:grpSp>
                <p:nvGrpSpPr>
                  <p:cNvPr id="4597" name="Group 264"/>
                  <p:cNvGrpSpPr/>
                  <p:nvPr/>
                </p:nvGrpSpPr>
                <p:grpSpPr>
                  <a:xfrm>
                    <a:off x="5148360" y="2782800"/>
                    <a:ext cx="863640" cy="289080"/>
                    <a:chOff x="5148360" y="2782800"/>
                    <a:chExt cx="863640" cy="289080"/>
                  </a:xfrm>
                </p:grpSpPr>
                <p:sp>
                  <p:nvSpPr>
                    <p:cNvPr id="4598" name="Rectangle 265"/>
                    <p:cNvSpPr/>
                    <p:nvPr/>
                  </p:nvSpPr>
                  <p:spPr>
                    <a:xfrm>
                      <a:off x="514836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9" name="Rectangle 266"/>
                    <p:cNvSpPr/>
                    <p:nvPr/>
                  </p:nvSpPr>
                  <p:spPr>
                    <a:xfrm>
                      <a:off x="543744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0" name="Rectangle 267"/>
                    <p:cNvSpPr/>
                    <p:nvPr/>
                  </p:nvSpPr>
                  <p:spPr>
                    <a:xfrm>
                      <a:off x="572472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1" name="Group 268"/>
                  <p:cNvGrpSpPr/>
                  <p:nvPr/>
                </p:nvGrpSpPr>
                <p:grpSpPr>
                  <a:xfrm>
                    <a:off x="5148360" y="3071880"/>
                    <a:ext cx="863640" cy="288720"/>
                    <a:chOff x="5148360" y="3071880"/>
                    <a:chExt cx="863640" cy="288720"/>
                  </a:xfrm>
                </p:grpSpPr>
                <p:sp>
                  <p:nvSpPr>
                    <p:cNvPr id="4602" name="Rectangle 269"/>
                    <p:cNvSpPr/>
                    <p:nvPr/>
                  </p:nvSpPr>
                  <p:spPr>
                    <a:xfrm>
                      <a:off x="514836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3" name="Rectangle 270"/>
                    <p:cNvSpPr/>
                    <p:nvPr/>
                  </p:nvSpPr>
                  <p:spPr>
                    <a:xfrm>
                      <a:off x="543744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4" name="Rectangle 271"/>
                    <p:cNvSpPr/>
                    <p:nvPr/>
                  </p:nvSpPr>
                  <p:spPr>
                    <a:xfrm>
                      <a:off x="572472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5" name="Group 272"/>
                  <p:cNvGrpSpPr/>
                  <p:nvPr/>
                </p:nvGrpSpPr>
                <p:grpSpPr>
                  <a:xfrm>
                    <a:off x="5148360" y="3357360"/>
                    <a:ext cx="863640" cy="289080"/>
                    <a:chOff x="5148360" y="3357360"/>
                    <a:chExt cx="863640" cy="289080"/>
                  </a:xfrm>
                </p:grpSpPr>
                <p:sp>
                  <p:nvSpPr>
                    <p:cNvPr id="4606" name="Rectangle 273"/>
                    <p:cNvSpPr/>
                    <p:nvPr/>
                  </p:nvSpPr>
                  <p:spPr>
                    <a:xfrm>
                      <a:off x="514836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7" name="Rectangle 274"/>
                    <p:cNvSpPr/>
                    <p:nvPr/>
                  </p:nvSpPr>
                  <p:spPr>
                    <a:xfrm>
                      <a:off x="543744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8" name="Rectangle 275"/>
                    <p:cNvSpPr/>
                    <p:nvPr/>
                  </p:nvSpPr>
                  <p:spPr>
                    <a:xfrm>
                      <a:off x="572472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09" name="Group 276"/>
                <p:cNvGrpSpPr/>
                <p:nvPr/>
              </p:nvGrpSpPr>
              <p:grpSpPr>
                <a:xfrm>
                  <a:off x="5148360" y="3646440"/>
                  <a:ext cx="863640" cy="863640"/>
                  <a:chOff x="5148360" y="3646440"/>
                  <a:chExt cx="863640" cy="863640"/>
                </a:xfrm>
              </p:grpSpPr>
              <p:grpSp>
                <p:nvGrpSpPr>
                  <p:cNvPr id="4610" name="Group 277"/>
                  <p:cNvGrpSpPr/>
                  <p:nvPr/>
                </p:nvGrpSpPr>
                <p:grpSpPr>
                  <a:xfrm>
                    <a:off x="5148360" y="3646440"/>
                    <a:ext cx="863640" cy="289080"/>
                    <a:chOff x="5148360" y="3646440"/>
                    <a:chExt cx="863640" cy="289080"/>
                  </a:xfrm>
                </p:grpSpPr>
                <p:sp>
                  <p:nvSpPr>
                    <p:cNvPr id="4611" name="Rectangle 278"/>
                    <p:cNvSpPr/>
                    <p:nvPr/>
                  </p:nvSpPr>
                  <p:spPr>
                    <a:xfrm>
                      <a:off x="514836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2" name="Rectangle 279"/>
                    <p:cNvSpPr/>
                    <p:nvPr/>
                  </p:nvSpPr>
                  <p:spPr>
                    <a:xfrm>
                      <a:off x="543744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3" name="Rectangle 280"/>
                    <p:cNvSpPr/>
                    <p:nvPr/>
                  </p:nvSpPr>
                  <p:spPr>
                    <a:xfrm>
                      <a:off x="572472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4" name="Group 281"/>
                  <p:cNvGrpSpPr/>
                  <p:nvPr/>
                </p:nvGrpSpPr>
                <p:grpSpPr>
                  <a:xfrm>
                    <a:off x="5148360" y="3935520"/>
                    <a:ext cx="863640" cy="288720"/>
                    <a:chOff x="5148360" y="3935520"/>
                    <a:chExt cx="863640" cy="288720"/>
                  </a:xfrm>
                </p:grpSpPr>
                <p:sp>
                  <p:nvSpPr>
                    <p:cNvPr id="4615" name="Rectangle 282"/>
                    <p:cNvSpPr/>
                    <p:nvPr/>
                  </p:nvSpPr>
                  <p:spPr>
                    <a:xfrm>
                      <a:off x="514836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6" name="Rectangle 283"/>
                    <p:cNvSpPr/>
                    <p:nvPr/>
                  </p:nvSpPr>
                  <p:spPr>
                    <a:xfrm>
                      <a:off x="543744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7" name="Rectangle 284"/>
                    <p:cNvSpPr/>
                    <p:nvPr/>
                  </p:nvSpPr>
                  <p:spPr>
                    <a:xfrm>
                      <a:off x="572472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8" name="Group 285"/>
                  <p:cNvGrpSpPr/>
                  <p:nvPr/>
                </p:nvGrpSpPr>
                <p:grpSpPr>
                  <a:xfrm>
                    <a:off x="5148360" y="4221000"/>
                    <a:ext cx="863640" cy="289080"/>
                    <a:chOff x="5148360" y="4221000"/>
                    <a:chExt cx="863640" cy="289080"/>
                  </a:xfrm>
                </p:grpSpPr>
                <p:sp>
                  <p:nvSpPr>
                    <p:cNvPr id="4619" name="Rectangle 286"/>
                    <p:cNvSpPr/>
                    <p:nvPr/>
                  </p:nvSpPr>
                  <p:spPr>
                    <a:xfrm>
                      <a:off x="514836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0" name="Rectangle 287"/>
                    <p:cNvSpPr/>
                    <p:nvPr/>
                  </p:nvSpPr>
                  <p:spPr>
                    <a:xfrm>
                      <a:off x="543744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1" name="Rectangle 288"/>
                    <p:cNvSpPr/>
                    <p:nvPr/>
                  </p:nvSpPr>
                  <p:spPr>
                    <a:xfrm>
                      <a:off x="572472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622" name="Group 289"/>
            <p:cNvGrpSpPr/>
            <p:nvPr/>
          </p:nvGrpSpPr>
          <p:grpSpPr>
            <a:xfrm>
              <a:off x="6013440" y="1054080"/>
              <a:ext cx="1727280" cy="3456000"/>
              <a:chOff x="6013440" y="1054080"/>
              <a:chExt cx="1727280" cy="3456000"/>
            </a:xfrm>
          </p:grpSpPr>
          <p:grpSp>
            <p:nvGrpSpPr>
              <p:cNvPr id="4623" name="Group 290"/>
              <p:cNvGrpSpPr/>
              <p:nvPr/>
            </p:nvGrpSpPr>
            <p:grpSpPr>
              <a:xfrm>
                <a:off x="6013440" y="1054080"/>
                <a:ext cx="863640" cy="3456000"/>
                <a:chOff x="6013440" y="1054080"/>
                <a:chExt cx="863640" cy="3456000"/>
              </a:xfrm>
            </p:grpSpPr>
            <p:grpSp>
              <p:nvGrpSpPr>
                <p:cNvPr id="4624" name="Group 291"/>
                <p:cNvGrpSpPr/>
                <p:nvPr/>
              </p:nvGrpSpPr>
              <p:grpSpPr>
                <a:xfrm>
                  <a:off x="6013440" y="1054080"/>
                  <a:ext cx="863640" cy="863640"/>
                  <a:chOff x="6013440" y="1054080"/>
                  <a:chExt cx="863640" cy="863640"/>
                </a:xfrm>
              </p:grpSpPr>
              <p:grpSp>
                <p:nvGrpSpPr>
                  <p:cNvPr id="4625" name="Group 292"/>
                  <p:cNvGrpSpPr/>
                  <p:nvPr/>
                </p:nvGrpSpPr>
                <p:grpSpPr>
                  <a:xfrm>
                    <a:off x="6013440" y="1054080"/>
                    <a:ext cx="863640" cy="289080"/>
                    <a:chOff x="6013440" y="1054080"/>
                    <a:chExt cx="863640" cy="289080"/>
                  </a:xfrm>
                </p:grpSpPr>
                <p:sp>
                  <p:nvSpPr>
                    <p:cNvPr id="4626" name="Rectangle 293"/>
                    <p:cNvSpPr/>
                    <p:nvPr/>
                  </p:nvSpPr>
                  <p:spPr>
                    <a:xfrm>
                      <a:off x="601344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7" name="Rectangle 294"/>
                    <p:cNvSpPr/>
                    <p:nvPr/>
                  </p:nvSpPr>
                  <p:spPr>
                    <a:xfrm>
                      <a:off x="630252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8" name="Rectangle 295"/>
                    <p:cNvSpPr/>
                    <p:nvPr/>
                  </p:nvSpPr>
                  <p:spPr>
                    <a:xfrm>
                      <a:off x="658980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9" name="Group 296"/>
                  <p:cNvGrpSpPr/>
                  <p:nvPr/>
                </p:nvGrpSpPr>
                <p:grpSpPr>
                  <a:xfrm>
                    <a:off x="6013440" y="1343160"/>
                    <a:ext cx="863640" cy="288720"/>
                    <a:chOff x="6013440" y="1343160"/>
                    <a:chExt cx="863640" cy="288720"/>
                  </a:xfrm>
                </p:grpSpPr>
                <p:sp>
                  <p:nvSpPr>
                    <p:cNvPr id="4630" name="Rectangle 297"/>
                    <p:cNvSpPr/>
                    <p:nvPr/>
                  </p:nvSpPr>
                  <p:spPr>
                    <a:xfrm>
                      <a:off x="601344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1" name="Rectangle 298"/>
                    <p:cNvSpPr/>
                    <p:nvPr/>
                  </p:nvSpPr>
                  <p:spPr>
                    <a:xfrm>
                      <a:off x="630252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2" name="Rectangle 299"/>
                    <p:cNvSpPr/>
                    <p:nvPr/>
                  </p:nvSpPr>
                  <p:spPr>
                    <a:xfrm>
                      <a:off x="658980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3" name="Group 300"/>
                  <p:cNvGrpSpPr/>
                  <p:nvPr/>
                </p:nvGrpSpPr>
                <p:grpSpPr>
                  <a:xfrm>
                    <a:off x="6013440" y="1628640"/>
                    <a:ext cx="863640" cy="289080"/>
                    <a:chOff x="6013440" y="1628640"/>
                    <a:chExt cx="863640" cy="289080"/>
                  </a:xfrm>
                </p:grpSpPr>
                <p:sp>
                  <p:nvSpPr>
                    <p:cNvPr id="4634" name="Rectangle 301"/>
                    <p:cNvSpPr/>
                    <p:nvPr/>
                  </p:nvSpPr>
                  <p:spPr>
                    <a:xfrm>
                      <a:off x="601344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5" name="Rectangle 302"/>
                    <p:cNvSpPr/>
                    <p:nvPr/>
                  </p:nvSpPr>
                  <p:spPr>
                    <a:xfrm>
                      <a:off x="630252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6" name="Rectangle 303"/>
                    <p:cNvSpPr/>
                    <p:nvPr/>
                  </p:nvSpPr>
                  <p:spPr>
                    <a:xfrm>
                      <a:off x="658980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37" name="Group 304"/>
                <p:cNvGrpSpPr/>
                <p:nvPr/>
              </p:nvGrpSpPr>
              <p:grpSpPr>
                <a:xfrm>
                  <a:off x="6013440" y="1919160"/>
                  <a:ext cx="863640" cy="863640"/>
                  <a:chOff x="6013440" y="1919160"/>
                  <a:chExt cx="863640" cy="863640"/>
                </a:xfrm>
              </p:grpSpPr>
              <p:grpSp>
                <p:nvGrpSpPr>
                  <p:cNvPr id="4638" name="Group 305"/>
                  <p:cNvGrpSpPr/>
                  <p:nvPr/>
                </p:nvGrpSpPr>
                <p:grpSpPr>
                  <a:xfrm>
                    <a:off x="6013440" y="1919160"/>
                    <a:ext cx="863640" cy="289080"/>
                    <a:chOff x="6013440" y="1919160"/>
                    <a:chExt cx="863640" cy="289080"/>
                  </a:xfrm>
                </p:grpSpPr>
                <p:sp>
                  <p:nvSpPr>
                    <p:cNvPr id="4639" name="Rectangle 306"/>
                    <p:cNvSpPr/>
                    <p:nvPr/>
                  </p:nvSpPr>
                  <p:spPr>
                    <a:xfrm>
                      <a:off x="601344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0" name="Rectangle 307"/>
                    <p:cNvSpPr/>
                    <p:nvPr/>
                  </p:nvSpPr>
                  <p:spPr>
                    <a:xfrm>
                      <a:off x="630252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1" name="Rectangle 308"/>
                    <p:cNvSpPr/>
                    <p:nvPr/>
                  </p:nvSpPr>
                  <p:spPr>
                    <a:xfrm>
                      <a:off x="658980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2" name="Group 309"/>
                  <p:cNvGrpSpPr/>
                  <p:nvPr/>
                </p:nvGrpSpPr>
                <p:grpSpPr>
                  <a:xfrm>
                    <a:off x="6013440" y="2208240"/>
                    <a:ext cx="863640" cy="288720"/>
                    <a:chOff x="6013440" y="2208240"/>
                    <a:chExt cx="863640" cy="288720"/>
                  </a:xfrm>
                </p:grpSpPr>
                <p:sp>
                  <p:nvSpPr>
                    <p:cNvPr id="4643" name="Rectangle 310"/>
                    <p:cNvSpPr/>
                    <p:nvPr/>
                  </p:nvSpPr>
                  <p:spPr>
                    <a:xfrm>
                      <a:off x="601344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4" name="Rectangle 311"/>
                    <p:cNvSpPr/>
                    <p:nvPr/>
                  </p:nvSpPr>
                  <p:spPr>
                    <a:xfrm>
                      <a:off x="630252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5" name="Rectangle 312"/>
                    <p:cNvSpPr/>
                    <p:nvPr/>
                  </p:nvSpPr>
                  <p:spPr>
                    <a:xfrm>
                      <a:off x="658980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6" name="Group 313"/>
                  <p:cNvGrpSpPr/>
                  <p:nvPr/>
                </p:nvGrpSpPr>
                <p:grpSpPr>
                  <a:xfrm>
                    <a:off x="6013440" y="2493720"/>
                    <a:ext cx="863640" cy="289080"/>
                    <a:chOff x="6013440" y="2493720"/>
                    <a:chExt cx="863640" cy="289080"/>
                  </a:xfrm>
                </p:grpSpPr>
                <p:sp>
                  <p:nvSpPr>
                    <p:cNvPr id="4647" name="Rectangle 314"/>
                    <p:cNvSpPr/>
                    <p:nvPr/>
                  </p:nvSpPr>
                  <p:spPr>
                    <a:xfrm>
                      <a:off x="601344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8" name="Rectangle 315"/>
                    <p:cNvSpPr/>
                    <p:nvPr/>
                  </p:nvSpPr>
                  <p:spPr>
                    <a:xfrm>
                      <a:off x="630252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9" name="Rectangle 316"/>
                    <p:cNvSpPr/>
                    <p:nvPr/>
                  </p:nvSpPr>
                  <p:spPr>
                    <a:xfrm>
                      <a:off x="658980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50" name="Group 317"/>
                <p:cNvGrpSpPr/>
                <p:nvPr/>
              </p:nvGrpSpPr>
              <p:grpSpPr>
                <a:xfrm>
                  <a:off x="6013440" y="2782800"/>
                  <a:ext cx="863640" cy="863640"/>
                  <a:chOff x="6013440" y="2782800"/>
                  <a:chExt cx="863640" cy="863640"/>
                </a:xfrm>
              </p:grpSpPr>
              <p:grpSp>
                <p:nvGrpSpPr>
                  <p:cNvPr id="4651" name="Group 318"/>
                  <p:cNvGrpSpPr/>
                  <p:nvPr/>
                </p:nvGrpSpPr>
                <p:grpSpPr>
                  <a:xfrm>
                    <a:off x="6013440" y="2782800"/>
                    <a:ext cx="863640" cy="289080"/>
                    <a:chOff x="6013440" y="2782800"/>
                    <a:chExt cx="863640" cy="289080"/>
                  </a:xfrm>
                </p:grpSpPr>
                <p:sp>
                  <p:nvSpPr>
                    <p:cNvPr id="4652" name="Rectangle 319"/>
                    <p:cNvSpPr/>
                    <p:nvPr/>
                  </p:nvSpPr>
                  <p:spPr>
                    <a:xfrm>
                      <a:off x="601344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3" name="Rectangle 320"/>
                    <p:cNvSpPr/>
                    <p:nvPr/>
                  </p:nvSpPr>
                  <p:spPr>
                    <a:xfrm>
                      <a:off x="630252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4" name="Rectangle 321"/>
                    <p:cNvSpPr/>
                    <p:nvPr/>
                  </p:nvSpPr>
                  <p:spPr>
                    <a:xfrm>
                      <a:off x="658980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5" name="Group 322"/>
                  <p:cNvGrpSpPr/>
                  <p:nvPr/>
                </p:nvGrpSpPr>
                <p:grpSpPr>
                  <a:xfrm>
                    <a:off x="6013440" y="3071880"/>
                    <a:ext cx="863640" cy="288720"/>
                    <a:chOff x="6013440" y="3071880"/>
                    <a:chExt cx="863640" cy="288720"/>
                  </a:xfrm>
                </p:grpSpPr>
                <p:sp>
                  <p:nvSpPr>
                    <p:cNvPr id="4656" name="Rectangle 323"/>
                    <p:cNvSpPr/>
                    <p:nvPr/>
                  </p:nvSpPr>
                  <p:spPr>
                    <a:xfrm>
                      <a:off x="601344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7" name="Rectangle 324"/>
                    <p:cNvSpPr/>
                    <p:nvPr/>
                  </p:nvSpPr>
                  <p:spPr>
                    <a:xfrm>
                      <a:off x="630252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8" name="Rectangle 325"/>
                    <p:cNvSpPr/>
                    <p:nvPr/>
                  </p:nvSpPr>
                  <p:spPr>
                    <a:xfrm>
                      <a:off x="658980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9" name="Group 326"/>
                  <p:cNvGrpSpPr/>
                  <p:nvPr/>
                </p:nvGrpSpPr>
                <p:grpSpPr>
                  <a:xfrm>
                    <a:off x="6013440" y="3357360"/>
                    <a:ext cx="863640" cy="289080"/>
                    <a:chOff x="6013440" y="3357360"/>
                    <a:chExt cx="863640" cy="289080"/>
                  </a:xfrm>
                </p:grpSpPr>
                <p:sp>
                  <p:nvSpPr>
                    <p:cNvPr id="4660" name="Rectangle 327"/>
                    <p:cNvSpPr/>
                    <p:nvPr/>
                  </p:nvSpPr>
                  <p:spPr>
                    <a:xfrm>
                      <a:off x="601344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1" name="Rectangle 328"/>
                    <p:cNvSpPr/>
                    <p:nvPr/>
                  </p:nvSpPr>
                  <p:spPr>
                    <a:xfrm>
                      <a:off x="630252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2" name="Rectangle 329"/>
                    <p:cNvSpPr/>
                    <p:nvPr/>
                  </p:nvSpPr>
                  <p:spPr>
                    <a:xfrm>
                      <a:off x="658980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63" name="Group 330"/>
                <p:cNvGrpSpPr/>
                <p:nvPr/>
              </p:nvGrpSpPr>
              <p:grpSpPr>
                <a:xfrm>
                  <a:off x="6013440" y="3646440"/>
                  <a:ext cx="863640" cy="863640"/>
                  <a:chOff x="6013440" y="3646440"/>
                  <a:chExt cx="863640" cy="863640"/>
                </a:xfrm>
              </p:grpSpPr>
              <p:grpSp>
                <p:nvGrpSpPr>
                  <p:cNvPr id="4664" name="Group 331"/>
                  <p:cNvGrpSpPr/>
                  <p:nvPr/>
                </p:nvGrpSpPr>
                <p:grpSpPr>
                  <a:xfrm>
                    <a:off x="6013440" y="3646440"/>
                    <a:ext cx="863640" cy="289080"/>
                    <a:chOff x="6013440" y="3646440"/>
                    <a:chExt cx="863640" cy="289080"/>
                  </a:xfrm>
                </p:grpSpPr>
                <p:sp>
                  <p:nvSpPr>
                    <p:cNvPr id="4665" name="Rectangle 332"/>
                    <p:cNvSpPr/>
                    <p:nvPr/>
                  </p:nvSpPr>
                  <p:spPr>
                    <a:xfrm>
                      <a:off x="601344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6" name="Rectangle 333"/>
                    <p:cNvSpPr/>
                    <p:nvPr/>
                  </p:nvSpPr>
                  <p:spPr>
                    <a:xfrm>
                      <a:off x="630252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7" name="Rectangle 334"/>
                    <p:cNvSpPr/>
                    <p:nvPr/>
                  </p:nvSpPr>
                  <p:spPr>
                    <a:xfrm>
                      <a:off x="658980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8" name="Group 335"/>
                  <p:cNvGrpSpPr/>
                  <p:nvPr/>
                </p:nvGrpSpPr>
                <p:grpSpPr>
                  <a:xfrm>
                    <a:off x="6013440" y="3935520"/>
                    <a:ext cx="863640" cy="288720"/>
                    <a:chOff x="6013440" y="3935520"/>
                    <a:chExt cx="863640" cy="288720"/>
                  </a:xfrm>
                </p:grpSpPr>
                <p:sp>
                  <p:nvSpPr>
                    <p:cNvPr id="4669" name="Rectangle 336"/>
                    <p:cNvSpPr/>
                    <p:nvPr/>
                  </p:nvSpPr>
                  <p:spPr>
                    <a:xfrm>
                      <a:off x="601344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0" name="Rectangle 337"/>
                    <p:cNvSpPr/>
                    <p:nvPr/>
                  </p:nvSpPr>
                  <p:spPr>
                    <a:xfrm>
                      <a:off x="630252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1" name="Rectangle 338"/>
                    <p:cNvSpPr/>
                    <p:nvPr/>
                  </p:nvSpPr>
                  <p:spPr>
                    <a:xfrm>
                      <a:off x="658980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2" name="Group 339"/>
                  <p:cNvGrpSpPr/>
                  <p:nvPr/>
                </p:nvGrpSpPr>
                <p:grpSpPr>
                  <a:xfrm>
                    <a:off x="6013440" y="4221000"/>
                    <a:ext cx="863640" cy="289080"/>
                    <a:chOff x="6013440" y="4221000"/>
                    <a:chExt cx="863640" cy="289080"/>
                  </a:xfrm>
                </p:grpSpPr>
                <p:sp>
                  <p:nvSpPr>
                    <p:cNvPr id="4673" name="Rectangle 340"/>
                    <p:cNvSpPr/>
                    <p:nvPr/>
                  </p:nvSpPr>
                  <p:spPr>
                    <a:xfrm>
                      <a:off x="601344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4" name="Rectangle 341"/>
                    <p:cNvSpPr/>
                    <p:nvPr/>
                  </p:nvSpPr>
                  <p:spPr>
                    <a:xfrm>
                      <a:off x="630252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5" name="Rectangle 342"/>
                    <p:cNvSpPr/>
                    <p:nvPr/>
                  </p:nvSpPr>
                  <p:spPr>
                    <a:xfrm>
                      <a:off x="658980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76" name="Group 343"/>
              <p:cNvGrpSpPr/>
              <p:nvPr/>
            </p:nvGrpSpPr>
            <p:grpSpPr>
              <a:xfrm>
                <a:off x="6877080" y="1054080"/>
                <a:ext cx="863640" cy="3456000"/>
                <a:chOff x="6877080" y="1054080"/>
                <a:chExt cx="863640" cy="3456000"/>
              </a:xfrm>
            </p:grpSpPr>
            <p:grpSp>
              <p:nvGrpSpPr>
                <p:cNvPr id="4677" name="Group 344"/>
                <p:cNvGrpSpPr/>
                <p:nvPr/>
              </p:nvGrpSpPr>
              <p:grpSpPr>
                <a:xfrm>
                  <a:off x="6877080" y="1054080"/>
                  <a:ext cx="863640" cy="863640"/>
                  <a:chOff x="6877080" y="1054080"/>
                  <a:chExt cx="863640" cy="863640"/>
                </a:xfrm>
              </p:grpSpPr>
              <p:grpSp>
                <p:nvGrpSpPr>
                  <p:cNvPr id="4678" name="Group 345"/>
                  <p:cNvGrpSpPr/>
                  <p:nvPr/>
                </p:nvGrpSpPr>
                <p:grpSpPr>
                  <a:xfrm>
                    <a:off x="6877080" y="1054080"/>
                    <a:ext cx="863640" cy="289080"/>
                    <a:chOff x="6877080" y="1054080"/>
                    <a:chExt cx="863640" cy="289080"/>
                  </a:xfrm>
                </p:grpSpPr>
                <p:sp>
                  <p:nvSpPr>
                    <p:cNvPr id="4679" name="Rectangle 346"/>
                    <p:cNvSpPr/>
                    <p:nvPr/>
                  </p:nvSpPr>
                  <p:spPr>
                    <a:xfrm>
                      <a:off x="687708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0" name="Rectangle 347"/>
                    <p:cNvSpPr/>
                    <p:nvPr/>
                  </p:nvSpPr>
                  <p:spPr>
                    <a:xfrm>
                      <a:off x="716616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1" name="Rectangle 348"/>
                    <p:cNvSpPr/>
                    <p:nvPr/>
                  </p:nvSpPr>
                  <p:spPr>
                    <a:xfrm>
                      <a:off x="7453440" y="105408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2" name="Group 349"/>
                  <p:cNvGrpSpPr/>
                  <p:nvPr/>
                </p:nvGrpSpPr>
                <p:grpSpPr>
                  <a:xfrm>
                    <a:off x="6877080" y="1343160"/>
                    <a:ext cx="863640" cy="288720"/>
                    <a:chOff x="6877080" y="1343160"/>
                    <a:chExt cx="863640" cy="288720"/>
                  </a:xfrm>
                </p:grpSpPr>
                <p:sp>
                  <p:nvSpPr>
                    <p:cNvPr id="4683" name="Rectangle 350"/>
                    <p:cNvSpPr/>
                    <p:nvPr/>
                  </p:nvSpPr>
                  <p:spPr>
                    <a:xfrm>
                      <a:off x="687708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4" name="Rectangle 351"/>
                    <p:cNvSpPr/>
                    <p:nvPr/>
                  </p:nvSpPr>
                  <p:spPr>
                    <a:xfrm>
                      <a:off x="716616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5" name="Rectangle 352"/>
                    <p:cNvSpPr/>
                    <p:nvPr/>
                  </p:nvSpPr>
                  <p:spPr>
                    <a:xfrm>
                      <a:off x="7453440" y="134316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6" name="Group 353"/>
                  <p:cNvGrpSpPr/>
                  <p:nvPr/>
                </p:nvGrpSpPr>
                <p:grpSpPr>
                  <a:xfrm>
                    <a:off x="6877080" y="1628640"/>
                    <a:ext cx="863640" cy="289080"/>
                    <a:chOff x="6877080" y="1628640"/>
                    <a:chExt cx="863640" cy="289080"/>
                  </a:xfrm>
                </p:grpSpPr>
                <p:sp>
                  <p:nvSpPr>
                    <p:cNvPr id="4687" name="Rectangle 354"/>
                    <p:cNvSpPr/>
                    <p:nvPr/>
                  </p:nvSpPr>
                  <p:spPr>
                    <a:xfrm>
                      <a:off x="687708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8" name="Rectangle 355"/>
                    <p:cNvSpPr/>
                    <p:nvPr/>
                  </p:nvSpPr>
                  <p:spPr>
                    <a:xfrm>
                      <a:off x="716616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9" name="Rectangle 356"/>
                    <p:cNvSpPr/>
                    <p:nvPr/>
                  </p:nvSpPr>
                  <p:spPr>
                    <a:xfrm>
                      <a:off x="7453440" y="16286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90" name="Group 357"/>
                <p:cNvGrpSpPr/>
                <p:nvPr/>
              </p:nvGrpSpPr>
              <p:grpSpPr>
                <a:xfrm>
                  <a:off x="6877080" y="1919160"/>
                  <a:ext cx="863640" cy="863640"/>
                  <a:chOff x="6877080" y="1919160"/>
                  <a:chExt cx="863640" cy="863640"/>
                </a:xfrm>
              </p:grpSpPr>
              <p:grpSp>
                <p:nvGrpSpPr>
                  <p:cNvPr id="4691" name="Group 358"/>
                  <p:cNvGrpSpPr/>
                  <p:nvPr/>
                </p:nvGrpSpPr>
                <p:grpSpPr>
                  <a:xfrm>
                    <a:off x="6877080" y="1919160"/>
                    <a:ext cx="863640" cy="289080"/>
                    <a:chOff x="6877080" y="1919160"/>
                    <a:chExt cx="863640" cy="289080"/>
                  </a:xfrm>
                </p:grpSpPr>
                <p:sp>
                  <p:nvSpPr>
                    <p:cNvPr id="4692" name="Rectangle 359"/>
                    <p:cNvSpPr/>
                    <p:nvPr/>
                  </p:nvSpPr>
                  <p:spPr>
                    <a:xfrm>
                      <a:off x="687708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3" name="Rectangle 360"/>
                    <p:cNvSpPr/>
                    <p:nvPr/>
                  </p:nvSpPr>
                  <p:spPr>
                    <a:xfrm>
                      <a:off x="716616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4" name="Rectangle 361"/>
                    <p:cNvSpPr/>
                    <p:nvPr/>
                  </p:nvSpPr>
                  <p:spPr>
                    <a:xfrm>
                      <a:off x="7453440" y="19191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5" name="Group 362"/>
                  <p:cNvGrpSpPr/>
                  <p:nvPr/>
                </p:nvGrpSpPr>
                <p:grpSpPr>
                  <a:xfrm>
                    <a:off x="6877080" y="2208240"/>
                    <a:ext cx="863640" cy="288720"/>
                    <a:chOff x="6877080" y="2208240"/>
                    <a:chExt cx="863640" cy="288720"/>
                  </a:xfrm>
                </p:grpSpPr>
                <p:sp>
                  <p:nvSpPr>
                    <p:cNvPr id="4696" name="Rectangle 363"/>
                    <p:cNvSpPr/>
                    <p:nvPr/>
                  </p:nvSpPr>
                  <p:spPr>
                    <a:xfrm>
                      <a:off x="687708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7" name="Rectangle 364"/>
                    <p:cNvSpPr/>
                    <p:nvPr/>
                  </p:nvSpPr>
                  <p:spPr>
                    <a:xfrm>
                      <a:off x="716616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8" name="Rectangle 365"/>
                    <p:cNvSpPr/>
                    <p:nvPr/>
                  </p:nvSpPr>
                  <p:spPr>
                    <a:xfrm>
                      <a:off x="7453440" y="220824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9" name="Group 366"/>
                  <p:cNvGrpSpPr/>
                  <p:nvPr/>
                </p:nvGrpSpPr>
                <p:grpSpPr>
                  <a:xfrm>
                    <a:off x="6877080" y="2493720"/>
                    <a:ext cx="863640" cy="289080"/>
                    <a:chOff x="6877080" y="2493720"/>
                    <a:chExt cx="863640" cy="289080"/>
                  </a:xfrm>
                </p:grpSpPr>
                <p:sp>
                  <p:nvSpPr>
                    <p:cNvPr id="4700" name="Rectangle 367"/>
                    <p:cNvSpPr/>
                    <p:nvPr/>
                  </p:nvSpPr>
                  <p:spPr>
                    <a:xfrm>
                      <a:off x="687708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1" name="Rectangle 368"/>
                    <p:cNvSpPr/>
                    <p:nvPr/>
                  </p:nvSpPr>
                  <p:spPr>
                    <a:xfrm>
                      <a:off x="716616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2" name="Rectangle 369"/>
                    <p:cNvSpPr/>
                    <p:nvPr/>
                  </p:nvSpPr>
                  <p:spPr>
                    <a:xfrm>
                      <a:off x="7453440" y="249372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03" name="Group 370"/>
                <p:cNvGrpSpPr/>
                <p:nvPr/>
              </p:nvGrpSpPr>
              <p:grpSpPr>
                <a:xfrm>
                  <a:off x="6877080" y="2782800"/>
                  <a:ext cx="863640" cy="863640"/>
                  <a:chOff x="6877080" y="2782800"/>
                  <a:chExt cx="863640" cy="863640"/>
                </a:xfrm>
              </p:grpSpPr>
              <p:grpSp>
                <p:nvGrpSpPr>
                  <p:cNvPr id="4704" name="Group 371"/>
                  <p:cNvGrpSpPr/>
                  <p:nvPr/>
                </p:nvGrpSpPr>
                <p:grpSpPr>
                  <a:xfrm>
                    <a:off x="6877080" y="2782800"/>
                    <a:ext cx="863640" cy="289080"/>
                    <a:chOff x="6877080" y="2782800"/>
                    <a:chExt cx="863640" cy="289080"/>
                  </a:xfrm>
                </p:grpSpPr>
                <p:sp>
                  <p:nvSpPr>
                    <p:cNvPr id="4705" name="Rectangle 372"/>
                    <p:cNvSpPr/>
                    <p:nvPr/>
                  </p:nvSpPr>
                  <p:spPr>
                    <a:xfrm>
                      <a:off x="687708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6" name="Rectangle 373"/>
                    <p:cNvSpPr/>
                    <p:nvPr/>
                  </p:nvSpPr>
                  <p:spPr>
                    <a:xfrm>
                      <a:off x="716616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7" name="Rectangle 374"/>
                    <p:cNvSpPr/>
                    <p:nvPr/>
                  </p:nvSpPr>
                  <p:spPr>
                    <a:xfrm>
                      <a:off x="7453440" y="27828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8" name="Group 375"/>
                  <p:cNvGrpSpPr/>
                  <p:nvPr/>
                </p:nvGrpSpPr>
                <p:grpSpPr>
                  <a:xfrm>
                    <a:off x="6877080" y="3071880"/>
                    <a:ext cx="863640" cy="288720"/>
                    <a:chOff x="6877080" y="3071880"/>
                    <a:chExt cx="863640" cy="288720"/>
                  </a:xfrm>
                </p:grpSpPr>
                <p:sp>
                  <p:nvSpPr>
                    <p:cNvPr id="4709" name="Rectangle 376"/>
                    <p:cNvSpPr/>
                    <p:nvPr/>
                  </p:nvSpPr>
                  <p:spPr>
                    <a:xfrm>
                      <a:off x="687708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0" name="Rectangle 377"/>
                    <p:cNvSpPr/>
                    <p:nvPr/>
                  </p:nvSpPr>
                  <p:spPr>
                    <a:xfrm>
                      <a:off x="716616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1" name="Rectangle 378"/>
                    <p:cNvSpPr/>
                    <p:nvPr/>
                  </p:nvSpPr>
                  <p:spPr>
                    <a:xfrm>
                      <a:off x="7453440" y="307188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2" name="Group 379"/>
                  <p:cNvGrpSpPr/>
                  <p:nvPr/>
                </p:nvGrpSpPr>
                <p:grpSpPr>
                  <a:xfrm>
                    <a:off x="6877080" y="3357360"/>
                    <a:ext cx="863640" cy="289080"/>
                    <a:chOff x="6877080" y="3357360"/>
                    <a:chExt cx="863640" cy="289080"/>
                  </a:xfrm>
                </p:grpSpPr>
                <p:sp>
                  <p:nvSpPr>
                    <p:cNvPr id="4713" name="Rectangle 380"/>
                    <p:cNvSpPr/>
                    <p:nvPr/>
                  </p:nvSpPr>
                  <p:spPr>
                    <a:xfrm>
                      <a:off x="687708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4" name="Rectangle 381"/>
                    <p:cNvSpPr/>
                    <p:nvPr/>
                  </p:nvSpPr>
                  <p:spPr>
                    <a:xfrm>
                      <a:off x="716616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5" name="Rectangle 382"/>
                    <p:cNvSpPr/>
                    <p:nvPr/>
                  </p:nvSpPr>
                  <p:spPr>
                    <a:xfrm>
                      <a:off x="7453440" y="335736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16" name="Group 383"/>
                <p:cNvGrpSpPr/>
                <p:nvPr/>
              </p:nvGrpSpPr>
              <p:grpSpPr>
                <a:xfrm>
                  <a:off x="6877080" y="3646440"/>
                  <a:ext cx="863640" cy="863640"/>
                  <a:chOff x="6877080" y="3646440"/>
                  <a:chExt cx="863640" cy="863640"/>
                </a:xfrm>
              </p:grpSpPr>
              <p:grpSp>
                <p:nvGrpSpPr>
                  <p:cNvPr id="4717" name="Group 384"/>
                  <p:cNvGrpSpPr/>
                  <p:nvPr/>
                </p:nvGrpSpPr>
                <p:grpSpPr>
                  <a:xfrm>
                    <a:off x="6877080" y="3646440"/>
                    <a:ext cx="863640" cy="289080"/>
                    <a:chOff x="6877080" y="3646440"/>
                    <a:chExt cx="863640" cy="289080"/>
                  </a:xfrm>
                </p:grpSpPr>
                <p:sp>
                  <p:nvSpPr>
                    <p:cNvPr id="4718" name="Rectangle 385"/>
                    <p:cNvSpPr/>
                    <p:nvPr/>
                  </p:nvSpPr>
                  <p:spPr>
                    <a:xfrm>
                      <a:off x="687708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9" name="Rectangle 386"/>
                    <p:cNvSpPr/>
                    <p:nvPr/>
                  </p:nvSpPr>
                  <p:spPr>
                    <a:xfrm>
                      <a:off x="716616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0" name="Rectangle 387"/>
                    <p:cNvSpPr/>
                    <p:nvPr/>
                  </p:nvSpPr>
                  <p:spPr>
                    <a:xfrm>
                      <a:off x="7453440" y="364644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1" name="Group 388"/>
                  <p:cNvGrpSpPr/>
                  <p:nvPr/>
                </p:nvGrpSpPr>
                <p:grpSpPr>
                  <a:xfrm>
                    <a:off x="6877080" y="3935520"/>
                    <a:ext cx="863640" cy="288720"/>
                    <a:chOff x="6877080" y="3935520"/>
                    <a:chExt cx="863640" cy="288720"/>
                  </a:xfrm>
                </p:grpSpPr>
                <p:sp>
                  <p:nvSpPr>
                    <p:cNvPr id="4722" name="Rectangle 389"/>
                    <p:cNvSpPr/>
                    <p:nvPr/>
                  </p:nvSpPr>
                  <p:spPr>
                    <a:xfrm>
                      <a:off x="687708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3" name="Rectangle 390"/>
                    <p:cNvSpPr/>
                    <p:nvPr/>
                  </p:nvSpPr>
                  <p:spPr>
                    <a:xfrm>
                      <a:off x="716616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4" name="Rectangle 391"/>
                    <p:cNvSpPr/>
                    <p:nvPr/>
                  </p:nvSpPr>
                  <p:spPr>
                    <a:xfrm>
                      <a:off x="7453440" y="3935520"/>
                      <a:ext cx="2872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5" name="Group 392"/>
                  <p:cNvGrpSpPr/>
                  <p:nvPr/>
                </p:nvGrpSpPr>
                <p:grpSpPr>
                  <a:xfrm>
                    <a:off x="6877080" y="4221000"/>
                    <a:ext cx="863640" cy="289080"/>
                    <a:chOff x="6877080" y="4221000"/>
                    <a:chExt cx="863640" cy="289080"/>
                  </a:xfrm>
                </p:grpSpPr>
                <p:sp>
                  <p:nvSpPr>
                    <p:cNvPr id="4726" name="Rectangle 393"/>
                    <p:cNvSpPr/>
                    <p:nvPr/>
                  </p:nvSpPr>
                  <p:spPr>
                    <a:xfrm>
                      <a:off x="687708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7" name="Rectangle 394"/>
                    <p:cNvSpPr/>
                    <p:nvPr/>
                  </p:nvSpPr>
                  <p:spPr>
                    <a:xfrm>
                      <a:off x="716616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8" name="Rectangle 395"/>
                    <p:cNvSpPr/>
                    <p:nvPr/>
                  </p:nvSpPr>
                  <p:spPr>
                    <a:xfrm>
                      <a:off x="7453440" y="4221000"/>
                      <a:ext cx="2872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4729" name="Group 400"/>
          <p:cNvGrpSpPr/>
          <p:nvPr/>
        </p:nvGrpSpPr>
        <p:grpSpPr>
          <a:xfrm>
            <a:off x="2268360" y="1917720"/>
            <a:ext cx="574920" cy="865080"/>
            <a:chOff x="2268360" y="1917720"/>
            <a:chExt cx="574920" cy="865080"/>
          </a:xfrm>
        </p:grpSpPr>
        <p:sp>
          <p:nvSpPr>
            <p:cNvPr id="4730" name="Rectangle 397"/>
            <p:cNvSpPr/>
            <p:nvPr/>
          </p:nvSpPr>
          <p:spPr>
            <a:xfrm>
              <a:off x="2268360" y="2206440"/>
              <a:ext cx="574920" cy="576360"/>
            </a:xfrm>
            <a:prstGeom prst="rect">
              <a:avLst/>
            </a:prstGeom>
            <a:solidFill>
              <a:srgbClr val="ff00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AutoShape 398"/>
            <p:cNvSpPr/>
            <p:nvPr/>
          </p:nvSpPr>
          <p:spPr>
            <a:xfrm>
              <a:off x="2268360" y="1917720"/>
              <a:ext cx="287640" cy="288720"/>
            </a:xfrm>
            <a:prstGeom prst="rtTriangle">
              <a:avLst/>
            </a:prstGeom>
            <a:solidFill>
              <a:srgbClr val="ff00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AutoShape 399"/>
            <p:cNvSpPr/>
            <p:nvPr/>
          </p:nvSpPr>
          <p:spPr>
            <a:xfrm flipH="1">
              <a:off x="2556000" y="1917720"/>
              <a:ext cx="287280" cy="288720"/>
            </a:xfrm>
            <a:prstGeom prst="rtTriangle">
              <a:avLst/>
            </a:prstGeom>
            <a:solidFill>
              <a:srgbClr val="ff00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33" name="Group 402" descr=""/>
          <p:cNvPicPr/>
          <p:nvPr/>
        </p:nvPicPr>
        <p:blipFill>
          <a:blip r:embed="rId1"/>
          <a:stretch/>
        </p:blipFill>
        <p:spPr>
          <a:xfrm>
            <a:off x="6010200" y="1328760"/>
            <a:ext cx="866880" cy="573120"/>
          </a:xfrm>
          <a:prstGeom prst="rect">
            <a:avLst/>
          </a:prstGeom>
          <a:ln w="0">
            <a:noFill/>
          </a:ln>
        </p:spPr>
      </p:pic>
      <p:sp>
        <p:nvSpPr>
          <p:cNvPr id="4734" name="Text Box 406"/>
          <p:cNvSpPr/>
          <p:nvPr/>
        </p:nvSpPr>
        <p:spPr>
          <a:xfrm>
            <a:off x="1835280" y="2567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Text Box 407"/>
          <p:cNvSpPr/>
          <p:nvPr/>
        </p:nvSpPr>
        <p:spPr>
          <a:xfrm>
            <a:off x="5362560" y="270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Text Box 408"/>
          <p:cNvSpPr/>
          <p:nvPr/>
        </p:nvSpPr>
        <p:spPr>
          <a:xfrm>
            <a:off x="1835280" y="3718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Text Box 409"/>
          <p:cNvSpPr/>
          <p:nvPr/>
        </p:nvSpPr>
        <p:spPr>
          <a:xfrm>
            <a:off x="6858000" y="14288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8" name="Group 416"/>
          <p:cNvGrpSpPr/>
          <p:nvPr/>
        </p:nvGrpSpPr>
        <p:grpSpPr>
          <a:xfrm>
            <a:off x="2268000" y="3359160"/>
            <a:ext cx="575280" cy="863640"/>
            <a:chOff x="2268000" y="3359160"/>
            <a:chExt cx="575280" cy="863640"/>
          </a:xfrm>
        </p:grpSpPr>
        <p:sp>
          <p:nvSpPr>
            <p:cNvPr id="4739" name="Line 410"/>
            <p:cNvSpPr/>
            <p:nvPr/>
          </p:nvSpPr>
          <p:spPr>
            <a:xfrm flipH="1">
              <a:off x="2268000" y="3359160"/>
              <a:ext cx="287640" cy="28728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Line 411"/>
            <p:cNvSpPr/>
            <p:nvPr/>
          </p:nvSpPr>
          <p:spPr>
            <a:xfrm>
              <a:off x="2556000" y="3359160"/>
              <a:ext cx="287280" cy="28728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Line 412"/>
            <p:cNvSpPr/>
            <p:nvPr/>
          </p:nvSpPr>
          <p:spPr>
            <a:xfrm>
              <a:off x="2268360" y="3646440"/>
              <a:ext cx="0" cy="57636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Line 413"/>
            <p:cNvSpPr/>
            <p:nvPr/>
          </p:nvSpPr>
          <p:spPr>
            <a:xfrm>
              <a:off x="2843280" y="3646440"/>
              <a:ext cx="0" cy="57636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Line 414"/>
            <p:cNvSpPr/>
            <p:nvPr/>
          </p:nvSpPr>
          <p:spPr>
            <a:xfrm flipV="1">
              <a:off x="2268360" y="3934800"/>
              <a:ext cx="287640" cy="28764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415"/>
            <p:cNvSpPr/>
            <p:nvPr/>
          </p:nvSpPr>
          <p:spPr>
            <a:xfrm>
              <a:off x="2556000" y="3935160"/>
              <a:ext cx="287280" cy="28764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Group 417"/>
          <p:cNvGrpSpPr/>
          <p:nvPr/>
        </p:nvGrpSpPr>
        <p:grpSpPr>
          <a:xfrm>
            <a:off x="4863600" y="2478600"/>
            <a:ext cx="575280" cy="862920"/>
            <a:chOff x="4863600" y="2478600"/>
            <a:chExt cx="575280" cy="862920"/>
          </a:xfrm>
        </p:grpSpPr>
        <p:sp>
          <p:nvSpPr>
            <p:cNvPr id="4746" name="Line 418"/>
            <p:cNvSpPr/>
            <p:nvPr/>
          </p:nvSpPr>
          <p:spPr>
            <a:xfrm flipV="1">
              <a:off x="5151240" y="3054600"/>
              <a:ext cx="287640" cy="286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Line 419"/>
            <p:cNvSpPr/>
            <p:nvPr/>
          </p:nvSpPr>
          <p:spPr>
            <a:xfrm flipH="1" flipV="1">
              <a:off x="4863600" y="3054600"/>
              <a:ext cx="287280" cy="286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420"/>
            <p:cNvSpPr/>
            <p:nvPr/>
          </p:nvSpPr>
          <p:spPr>
            <a:xfrm flipV="1">
              <a:off x="5438520" y="2478600"/>
              <a:ext cx="0" cy="57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Line 421"/>
            <p:cNvSpPr/>
            <p:nvPr/>
          </p:nvSpPr>
          <p:spPr>
            <a:xfrm flipV="1">
              <a:off x="4863600" y="2478600"/>
              <a:ext cx="0" cy="57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Line 422"/>
            <p:cNvSpPr/>
            <p:nvPr/>
          </p:nvSpPr>
          <p:spPr>
            <a:xfrm flipH="1">
              <a:off x="5150880" y="2478600"/>
              <a:ext cx="287640" cy="287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Line 423"/>
            <p:cNvSpPr/>
            <p:nvPr/>
          </p:nvSpPr>
          <p:spPr>
            <a:xfrm flipH="1" flipV="1">
              <a:off x="4863600" y="2478600"/>
              <a:ext cx="287280" cy="287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2" name="Text Box 424"/>
          <p:cNvSpPr/>
          <p:nvPr/>
        </p:nvSpPr>
        <p:spPr>
          <a:xfrm>
            <a:off x="250920" y="458136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①是先向右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3" name="Group 425"/>
          <p:cNvGrpSpPr/>
          <p:nvPr/>
        </p:nvGrpSpPr>
        <p:grpSpPr>
          <a:xfrm>
            <a:off x="6300720" y="1917720"/>
            <a:ext cx="574920" cy="865080"/>
            <a:chOff x="6300720" y="1917720"/>
            <a:chExt cx="574920" cy="865080"/>
          </a:xfrm>
        </p:grpSpPr>
        <p:sp>
          <p:nvSpPr>
            <p:cNvPr id="4754" name="Rectangle 426"/>
            <p:cNvSpPr/>
            <p:nvPr/>
          </p:nvSpPr>
          <p:spPr>
            <a:xfrm>
              <a:off x="6300720" y="2206440"/>
              <a:ext cx="574920" cy="57636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AutoShape 427"/>
            <p:cNvSpPr/>
            <p:nvPr/>
          </p:nvSpPr>
          <p:spPr>
            <a:xfrm>
              <a:off x="6300720" y="1917720"/>
              <a:ext cx="287640" cy="288720"/>
            </a:xfrm>
            <a:prstGeom prst="rtTriangle">
              <a:avLst/>
            </a:prstGeom>
            <a:solidFill>
              <a:srgbClr val="99cc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AutoShape 428"/>
            <p:cNvSpPr/>
            <p:nvPr/>
          </p:nvSpPr>
          <p:spPr>
            <a:xfrm flipH="1">
              <a:off x="6588360" y="1917720"/>
              <a:ext cx="287280" cy="288720"/>
            </a:xfrm>
            <a:prstGeom prst="rtTriangle">
              <a:avLst/>
            </a:prstGeom>
            <a:solidFill>
              <a:srgbClr val="99cc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7" name="Group 429" descr=""/>
          <p:cNvPicPr/>
          <p:nvPr/>
        </p:nvPicPr>
        <p:blipFill>
          <a:blip r:embed="rId2"/>
          <a:stretch/>
        </p:blipFill>
        <p:spPr>
          <a:xfrm>
            <a:off x="6284880" y="1000080"/>
            <a:ext cx="609480" cy="932040"/>
          </a:xfrm>
          <a:prstGeom prst="rect">
            <a:avLst/>
          </a:prstGeom>
          <a:ln w="0">
            <a:noFill/>
          </a:ln>
        </p:spPr>
      </p:pic>
      <p:grpSp>
        <p:nvGrpSpPr>
          <p:cNvPr id="4758" name="Group 433"/>
          <p:cNvGrpSpPr/>
          <p:nvPr/>
        </p:nvGrpSpPr>
        <p:grpSpPr>
          <a:xfrm>
            <a:off x="4859280" y="2494080"/>
            <a:ext cx="574560" cy="863640"/>
            <a:chOff x="4859280" y="2494080"/>
            <a:chExt cx="574560" cy="863640"/>
          </a:xfrm>
        </p:grpSpPr>
        <p:sp>
          <p:nvSpPr>
            <p:cNvPr id="4759" name="Line 434"/>
            <p:cNvSpPr/>
            <p:nvPr/>
          </p:nvSpPr>
          <p:spPr>
            <a:xfrm flipH="1">
              <a:off x="4859280" y="2494080"/>
              <a:ext cx="287280" cy="2872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435"/>
            <p:cNvSpPr/>
            <p:nvPr/>
          </p:nvSpPr>
          <p:spPr>
            <a:xfrm>
              <a:off x="5146560" y="2494080"/>
              <a:ext cx="286920" cy="2872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Line 436"/>
            <p:cNvSpPr/>
            <p:nvPr/>
          </p:nvSpPr>
          <p:spPr>
            <a:xfrm>
              <a:off x="4859280" y="2781360"/>
              <a:ext cx="0" cy="576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437"/>
            <p:cNvSpPr/>
            <p:nvPr/>
          </p:nvSpPr>
          <p:spPr>
            <a:xfrm>
              <a:off x="5433840" y="2781360"/>
              <a:ext cx="0" cy="576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Line 438"/>
            <p:cNvSpPr/>
            <p:nvPr/>
          </p:nvSpPr>
          <p:spPr>
            <a:xfrm flipV="1">
              <a:off x="4859280" y="3069720"/>
              <a:ext cx="287280" cy="2876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439"/>
            <p:cNvSpPr/>
            <p:nvPr/>
          </p:nvSpPr>
          <p:spPr>
            <a:xfrm>
              <a:off x="5146560" y="3070080"/>
              <a:ext cx="286920" cy="2876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5" name="Group 440"/>
          <p:cNvGrpSpPr/>
          <p:nvPr/>
        </p:nvGrpSpPr>
        <p:grpSpPr>
          <a:xfrm>
            <a:off x="4861080" y="3357720"/>
            <a:ext cx="574560" cy="862920"/>
            <a:chOff x="4861080" y="3357720"/>
            <a:chExt cx="574560" cy="862920"/>
          </a:xfrm>
        </p:grpSpPr>
        <p:sp>
          <p:nvSpPr>
            <p:cNvPr id="4766" name="Line 441"/>
            <p:cNvSpPr/>
            <p:nvPr/>
          </p:nvSpPr>
          <p:spPr>
            <a:xfrm flipH="1">
              <a:off x="4861080" y="3357720"/>
              <a:ext cx="287280" cy="28692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Line 442"/>
            <p:cNvSpPr/>
            <p:nvPr/>
          </p:nvSpPr>
          <p:spPr>
            <a:xfrm>
              <a:off x="5148360" y="3357720"/>
              <a:ext cx="286920" cy="28692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Line 443"/>
            <p:cNvSpPr/>
            <p:nvPr/>
          </p:nvSpPr>
          <p:spPr>
            <a:xfrm>
              <a:off x="4861080" y="3644640"/>
              <a:ext cx="0" cy="57600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Line 444"/>
            <p:cNvSpPr/>
            <p:nvPr/>
          </p:nvSpPr>
          <p:spPr>
            <a:xfrm>
              <a:off x="5435640" y="3644640"/>
              <a:ext cx="0" cy="57600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Line 445"/>
            <p:cNvSpPr/>
            <p:nvPr/>
          </p:nvSpPr>
          <p:spPr>
            <a:xfrm flipV="1">
              <a:off x="4861080" y="3933360"/>
              <a:ext cx="287280" cy="28728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Line 446"/>
            <p:cNvSpPr/>
            <p:nvPr/>
          </p:nvSpPr>
          <p:spPr>
            <a:xfrm>
              <a:off x="5148360" y="3933360"/>
              <a:ext cx="286920" cy="28728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2" name="Text Box 447"/>
          <p:cNvSpPr/>
          <p:nvPr/>
        </p:nvSpPr>
        <p:spPr>
          <a:xfrm>
            <a:off x="4572000" y="456552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②是先向右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Text Box 448"/>
          <p:cNvSpPr/>
          <p:nvPr/>
        </p:nvSpPr>
        <p:spPr>
          <a:xfrm>
            <a:off x="1330200" y="515772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向上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Text Box 449"/>
          <p:cNvSpPr/>
          <p:nvPr/>
        </p:nvSpPr>
        <p:spPr>
          <a:xfrm>
            <a:off x="144360" y="580536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向左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到图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Text Box 450"/>
          <p:cNvSpPr/>
          <p:nvPr/>
        </p:nvSpPr>
        <p:spPr>
          <a:xfrm>
            <a:off x="179280" y="90792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Text Box 451"/>
          <p:cNvSpPr/>
          <p:nvPr/>
        </p:nvSpPr>
        <p:spPr>
          <a:xfrm>
            <a:off x="5651640" y="5157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向上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Text Box 452"/>
          <p:cNvSpPr/>
          <p:nvPr/>
        </p:nvSpPr>
        <p:spPr>
          <a:xfrm>
            <a:off x="4427640" y="580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向右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到图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500"/>
                                        <p:tgtEl>
                                          <p:spTgt spid="4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4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500"/>
                                        <p:tgtEl>
                                          <p:spTgt spid="4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4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4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4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500"/>
                                        <p:tgtEl>
                                          <p:spTgt spid="4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8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Text Box 133"/>
          <p:cNvSpPr/>
          <p:nvPr/>
        </p:nvSpPr>
        <p:spPr>
          <a:xfrm>
            <a:off x="539640" y="477216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时针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到图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图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向下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，得到图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以直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对称轴，作图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轴对称图形，得到图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0" name=""/>
          <p:cNvGraphicFramePr/>
          <p:nvPr/>
        </p:nvGraphicFramePr>
        <p:xfrm>
          <a:off x="1692360" y="528480"/>
          <a:ext cx="6192720" cy="4260960"/>
        </p:xfrm>
        <a:graphic>
          <a:graphicData uri="http://schemas.openxmlformats.org/drawingml/2006/table">
            <a:tbl>
              <a:tblPr/>
              <a:tblGrid>
                <a:gridCol w="512640"/>
                <a:gridCol w="517680"/>
                <a:gridCol w="519120"/>
                <a:gridCol w="514080"/>
                <a:gridCol w="514440"/>
                <a:gridCol w="519120"/>
                <a:gridCol w="517680"/>
                <a:gridCol w="514080"/>
                <a:gridCol w="514440"/>
                <a:gridCol w="519120"/>
                <a:gridCol w="517680"/>
                <a:gridCol w="512640"/>
              </a:tblGrid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1" name="Line 497"/>
          <p:cNvSpPr/>
          <p:nvPr/>
        </p:nvSpPr>
        <p:spPr>
          <a:xfrm>
            <a:off x="5292720" y="404640"/>
            <a:ext cx="0" cy="439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Text Box 498"/>
          <p:cNvSpPr/>
          <p:nvPr/>
        </p:nvSpPr>
        <p:spPr>
          <a:xfrm>
            <a:off x="5292720" y="6224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AutoShape 499"/>
          <p:cNvSpPr/>
          <p:nvPr/>
        </p:nvSpPr>
        <p:spPr>
          <a:xfrm>
            <a:off x="2700360" y="1127160"/>
            <a:ext cx="1079640" cy="122400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Text Box 500"/>
          <p:cNvSpPr/>
          <p:nvPr/>
        </p:nvSpPr>
        <p:spPr>
          <a:xfrm>
            <a:off x="3780000" y="22795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AutoShape 501"/>
          <p:cNvSpPr/>
          <p:nvPr/>
        </p:nvSpPr>
        <p:spPr>
          <a:xfrm rot="5400000">
            <a:off x="3672000" y="1235160"/>
            <a:ext cx="1224000" cy="100800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Text Box 503"/>
          <p:cNvSpPr/>
          <p:nvPr/>
        </p:nvSpPr>
        <p:spPr>
          <a:xfrm>
            <a:off x="3924360" y="12715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AutoShape 504"/>
          <p:cNvSpPr/>
          <p:nvPr/>
        </p:nvSpPr>
        <p:spPr>
          <a:xfrm rot="5400000">
            <a:off x="3672000" y="3035160"/>
            <a:ext cx="1223640" cy="100800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Text Box 505"/>
          <p:cNvSpPr/>
          <p:nvPr/>
        </p:nvSpPr>
        <p:spPr>
          <a:xfrm>
            <a:off x="3922560" y="30560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AutoShape 507"/>
          <p:cNvSpPr/>
          <p:nvPr/>
        </p:nvSpPr>
        <p:spPr>
          <a:xfrm flipH="1" rot="16200000">
            <a:off x="5758560" y="3035160"/>
            <a:ext cx="1223640" cy="100836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Text Box 508"/>
          <p:cNvSpPr/>
          <p:nvPr/>
        </p:nvSpPr>
        <p:spPr>
          <a:xfrm>
            <a:off x="6227640" y="29988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4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4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4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4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1" name="Rectangle 2"/>
          <p:cNvSpPr/>
          <p:nvPr/>
        </p:nvSpPr>
        <p:spPr>
          <a:xfrm>
            <a:off x="609480" y="1111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按图中位置、尺寸修筑两条路，则草皮面积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2" name="Group 3"/>
          <p:cNvGrpSpPr/>
          <p:nvPr/>
        </p:nvGrpSpPr>
        <p:grpSpPr>
          <a:xfrm>
            <a:off x="3962520" y="3048120"/>
            <a:ext cx="1218960" cy="1066680"/>
            <a:chOff x="3962520" y="3048120"/>
            <a:chExt cx="1218960" cy="1066680"/>
          </a:xfrm>
        </p:grpSpPr>
        <p:sp>
          <p:nvSpPr>
            <p:cNvPr id="4793" name="AutoShape 4"/>
            <p:cNvSpPr/>
            <p:nvPr/>
          </p:nvSpPr>
          <p:spPr>
            <a:xfrm>
              <a:off x="3962520" y="3657600"/>
              <a:ext cx="1218960" cy="457200"/>
            </a:xfrm>
            <a:custGeom>
              <a:avLst/>
              <a:gdLst>
                <a:gd name="textAreaLeft" fmla="*/ 189720 w 1218960"/>
                <a:gd name="textAreaRight" fmla="*/ 1066680 w 121896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Text Box 5"/>
            <p:cNvSpPr/>
            <p:nvPr/>
          </p:nvSpPr>
          <p:spPr>
            <a:xfrm>
              <a:off x="3962520" y="304812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平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5" name="Group 6"/>
          <p:cNvGrpSpPr/>
          <p:nvPr/>
        </p:nvGrpSpPr>
        <p:grpSpPr>
          <a:xfrm>
            <a:off x="46080" y="2514600"/>
            <a:ext cx="3923640" cy="2705040"/>
            <a:chOff x="46080" y="2514600"/>
            <a:chExt cx="3923640" cy="2705040"/>
          </a:xfrm>
        </p:grpSpPr>
        <p:grpSp>
          <p:nvGrpSpPr>
            <p:cNvPr id="4796" name="Group 7"/>
            <p:cNvGrpSpPr/>
            <p:nvPr/>
          </p:nvGrpSpPr>
          <p:grpSpPr>
            <a:xfrm>
              <a:off x="681120" y="2514600"/>
              <a:ext cx="3288600" cy="1911240"/>
              <a:chOff x="681120" y="2514600"/>
              <a:chExt cx="3288600" cy="1911240"/>
            </a:xfrm>
          </p:grpSpPr>
          <p:sp>
            <p:nvSpPr>
              <p:cNvPr id="4797" name="Freeform 8"/>
              <p:cNvSpPr/>
              <p:nvPr/>
            </p:nvSpPr>
            <p:spPr>
              <a:xfrm>
                <a:off x="681120" y="2931840"/>
                <a:ext cx="1471320" cy="744840"/>
              </a:xfrm>
              <a:custGeom>
                <a:avLst/>
                <a:gdLst>
                  <a:gd name="textAreaLeft" fmla="*/ 0 w 1471320"/>
                  <a:gd name="textAreaRight" fmla="*/ 1471320 w 1471320"/>
                  <a:gd name="textAreaTop" fmla="*/ 0 h 744840"/>
                  <a:gd name="textAreaBottom" fmla="*/ 745200 h 744840"/>
                </a:gdLst>
                <a:ahLst/>
                <a:rect l="textAreaLeft" t="textAreaTop" r="textAreaRight" b="textAreaBottom"/>
                <a:pathLst>
                  <a:path w="744" h="377">
                    <a:moveTo>
                      <a:pt x="0" y="0"/>
                    </a:moveTo>
                    <a:lnTo>
                      <a:pt x="0" y="377"/>
                    </a:lnTo>
                    <a:lnTo>
                      <a:pt x="744" y="255"/>
                    </a:lnTo>
                    <a:lnTo>
                      <a:pt x="7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9"/>
              <p:cNvSpPr/>
              <p:nvPr/>
            </p:nvSpPr>
            <p:spPr>
              <a:xfrm>
                <a:off x="681120" y="3852720"/>
                <a:ext cx="1471320" cy="571680"/>
              </a:xfrm>
              <a:custGeom>
                <a:avLst/>
                <a:gdLst>
                  <a:gd name="textAreaLeft" fmla="*/ 0 w 1471320"/>
                  <a:gd name="textAreaRight" fmla="*/ 1471320 w 1471320"/>
                  <a:gd name="textAreaTop" fmla="*/ 0 h 571680"/>
                  <a:gd name="textAreaBottom" fmla="*/ 572040 h 571680"/>
                </a:gdLst>
                <a:ahLst/>
                <a:rect l="textAreaLeft" t="textAreaTop" r="textAreaRight" b="textAreaBottom"/>
                <a:pathLst>
                  <a:path w="744" h="289">
                    <a:moveTo>
                      <a:pt x="0" y="122"/>
                    </a:moveTo>
                    <a:lnTo>
                      <a:pt x="0" y="289"/>
                    </a:lnTo>
                    <a:lnTo>
                      <a:pt x="744" y="289"/>
                    </a:lnTo>
                    <a:lnTo>
                      <a:pt x="744" y="0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Freeform 10"/>
              <p:cNvSpPr/>
              <p:nvPr/>
            </p:nvSpPr>
            <p:spPr>
              <a:xfrm>
                <a:off x="2590920" y="3654360"/>
                <a:ext cx="877680" cy="770040"/>
              </a:xfrm>
              <a:custGeom>
                <a:avLst/>
                <a:gdLst>
                  <a:gd name="textAreaLeft" fmla="*/ 0 w 877680"/>
                  <a:gd name="textAreaRight" fmla="*/ 878040 w 877680"/>
                  <a:gd name="textAreaTop" fmla="*/ 0 h 770040"/>
                  <a:gd name="textAreaBottom" fmla="*/ 770400 h 770040"/>
                </a:gdLst>
                <a:ahLst/>
                <a:rect l="textAreaLeft" t="textAreaTop" r="textAreaRight" b="textAreaBottom"/>
                <a:pathLst>
                  <a:path w="444" h="389">
                    <a:moveTo>
                      <a:pt x="0" y="67"/>
                    </a:moveTo>
                    <a:lnTo>
                      <a:pt x="0" y="389"/>
                    </a:lnTo>
                    <a:lnTo>
                      <a:pt x="444" y="389"/>
                    </a:lnTo>
                    <a:lnTo>
                      <a:pt x="4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11"/>
              <p:cNvSpPr/>
              <p:nvPr/>
            </p:nvSpPr>
            <p:spPr>
              <a:xfrm>
                <a:off x="2590920" y="2931840"/>
                <a:ext cx="877680" cy="438480"/>
              </a:xfrm>
              <a:custGeom>
                <a:avLst/>
                <a:gdLst>
                  <a:gd name="textAreaLeft" fmla="*/ 0 w 877680"/>
                  <a:gd name="textAreaRight" fmla="*/ 878040 w 877680"/>
                  <a:gd name="textAreaTop" fmla="*/ 0 h 438480"/>
                  <a:gd name="textAreaBottom" fmla="*/ 438840 h 438480"/>
                </a:gdLst>
                <a:ahLst/>
                <a:rect l="textAreaLeft" t="textAreaTop" r="textAreaRight" b="textAreaBottom"/>
                <a:pathLst>
                  <a:path w="444" h="222">
                    <a:moveTo>
                      <a:pt x="444" y="133"/>
                    </a:moveTo>
                    <a:lnTo>
                      <a:pt x="444" y="0"/>
                    </a:lnTo>
                    <a:lnTo>
                      <a:pt x="0" y="11"/>
                    </a:lnTo>
                    <a:lnTo>
                      <a:pt x="0" y="222"/>
                    </a:lnTo>
                    <a:lnTo>
                      <a:pt x="444" y="13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12"/>
              <p:cNvSpPr/>
              <p:nvPr/>
            </p:nvSpPr>
            <p:spPr>
              <a:xfrm>
                <a:off x="681120" y="3216240"/>
                <a:ext cx="2787480" cy="877680"/>
              </a:xfrm>
              <a:custGeom>
                <a:avLst/>
                <a:gdLst>
                  <a:gd name="textAreaLeft" fmla="*/ 0 w 2787480"/>
                  <a:gd name="textAreaRight" fmla="*/ 2787840 w 2787480"/>
                  <a:gd name="textAreaTop" fmla="*/ 0 h 877680"/>
                  <a:gd name="textAreaBottom" fmla="*/ 878040 h 877680"/>
                </a:gdLst>
                <a:ahLst/>
                <a:rect l="textAreaLeft" t="textAreaTop" r="textAreaRight" b="textAreaBottom"/>
                <a:pathLst>
                  <a:path w="1410" h="444">
                    <a:moveTo>
                      <a:pt x="0" y="233"/>
                    </a:moveTo>
                    <a:lnTo>
                      <a:pt x="0" y="444"/>
                    </a:lnTo>
                    <a:lnTo>
                      <a:pt x="1410" y="211"/>
                    </a:lnTo>
                    <a:lnTo>
                      <a:pt x="1410" y="0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Rectangle 13"/>
              <p:cNvSpPr/>
              <p:nvPr/>
            </p:nvSpPr>
            <p:spPr>
              <a:xfrm>
                <a:off x="2152440" y="2931840"/>
                <a:ext cx="438480" cy="149256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Line 14"/>
              <p:cNvSpPr/>
              <p:nvPr/>
            </p:nvSpPr>
            <p:spPr>
              <a:xfrm>
                <a:off x="681120" y="2931840"/>
                <a:ext cx="2787480" cy="1800"/>
              </a:xfrm>
              <a:prstGeom prst="line">
                <a:avLst/>
              </a:prstGeom>
              <a:ln w="176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Line 15"/>
              <p:cNvSpPr/>
              <p:nvPr/>
            </p:nvSpPr>
            <p:spPr>
              <a:xfrm>
                <a:off x="681120" y="2931840"/>
                <a:ext cx="1440" cy="1492560"/>
              </a:xfrm>
              <a:prstGeom prst="line">
                <a:avLst/>
              </a:prstGeom>
              <a:ln w="176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Line 16"/>
              <p:cNvSpPr/>
              <p:nvPr/>
            </p:nvSpPr>
            <p:spPr>
              <a:xfrm>
                <a:off x="681120" y="4424400"/>
                <a:ext cx="2787480" cy="1440"/>
              </a:xfrm>
              <a:prstGeom prst="line">
                <a:avLst/>
              </a:prstGeom>
              <a:ln w="176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Line 17"/>
              <p:cNvSpPr/>
              <p:nvPr/>
            </p:nvSpPr>
            <p:spPr>
              <a:xfrm>
                <a:off x="3468600" y="2931840"/>
                <a:ext cx="1800" cy="1492560"/>
              </a:xfrm>
              <a:prstGeom prst="line">
                <a:avLst/>
              </a:prstGeom>
              <a:ln w="176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Line 18"/>
              <p:cNvSpPr/>
              <p:nvPr/>
            </p:nvSpPr>
            <p:spPr>
              <a:xfrm>
                <a:off x="3468600" y="3216240"/>
                <a:ext cx="417600" cy="1440"/>
              </a:xfrm>
              <a:prstGeom prst="line">
                <a:avLst/>
              </a:prstGeom>
              <a:ln w="176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Line 19"/>
              <p:cNvSpPr/>
              <p:nvPr/>
            </p:nvSpPr>
            <p:spPr>
              <a:xfrm>
                <a:off x="3468600" y="3633840"/>
                <a:ext cx="417600" cy="1440"/>
              </a:xfrm>
              <a:prstGeom prst="line">
                <a:avLst/>
              </a:prstGeom>
              <a:ln w="176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Line 20"/>
              <p:cNvSpPr/>
              <p:nvPr/>
            </p:nvSpPr>
            <p:spPr>
              <a:xfrm>
                <a:off x="2152440" y="2603520"/>
                <a:ext cx="1800" cy="328320"/>
              </a:xfrm>
              <a:prstGeom prst="line">
                <a:avLst/>
              </a:prstGeom>
              <a:ln w="176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Line 21"/>
              <p:cNvSpPr/>
              <p:nvPr/>
            </p:nvSpPr>
            <p:spPr>
              <a:xfrm>
                <a:off x="2590920" y="2603520"/>
                <a:ext cx="1440" cy="328320"/>
              </a:xfrm>
              <a:prstGeom prst="line">
                <a:avLst/>
              </a:prstGeom>
              <a:ln w="176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Rectangle 22"/>
              <p:cNvSpPr/>
              <p:nvPr/>
            </p:nvSpPr>
            <p:spPr>
              <a:xfrm>
                <a:off x="3515040" y="3262320"/>
                <a:ext cx="454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Rectangle 23"/>
              <p:cNvSpPr/>
              <p:nvPr/>
            </p:nvSpPr>
            <p:spPr>
              <a:xfrm>
                <a:off x="2197440" y="2514600"/>
                <a:ext cx="454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Rectangle 24"/>
              <p:cNvSpPr/>
              <p:nvPr/>
            </p:nvSpPr>
            <p:spPr>
              <a:xfrm>
                <a:off x="3556080" y="282240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Rectangle 25"/>
              <p:cNvSpPr/>
              <p:nvPr/>
            </p:nvSpPr>
            <p:spPr>
              <a:xfrm>
                <a:off x="3533760" y="372240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Rectangle 26"/>
              <p:cNvSpPr/>
              <p:nvPr/>
            </p:nvSpPr>
            <p:spPr>
              <a:xfrm>
                <a:off x="2657160" y="2579400"/>
                <a:ext cx="355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Rectangle 27"/>
              <p:cNvSpPr/>
              <p:nvPr/>
            </p:nvSpPr>
            <p:spPr>
              <a:xfrm>
                <a:off x="1758600" y="2579400"/>
                <a:ext cx="355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7" name="Group 28"/>
            <p:cNvGrpSpPr/>
            <p:nvPr/>
          </p:nvGrpSpPr>
          <p:grpSpPr>
            <a:xfrm>
              <a:off x="46080" y="2933640"/>
              <a:ext cx="3429000" cy="2286000"/>
              <a:chOff x="46080" y="2933640"/>
              <a:chExt cx="3429000" cy="2286000"/>
            </a:xfrm>
          </p:grpSpPr>
          <p:sp>
            <p:nvSpPr>
              <p:cNvPr id="4818" name="Line 29"/>
              <p:cNvSpPr/>
              <p:nvPr/>
            </p:nvSpPr>
            <p:spPr>
              <a:xfrm>
                <a:off x="655560" y="46101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Line 30"/>
              <p:cNvSpPr/>
              <p:nvPr/>
            </p:nvSpPr>
            <p:spPr>
              <a:xfrm>
                <a:off x="3475080" y="453384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Line 31"/>
              <p:cNvSpPr/>
              <p:nvPr/>
            </p:nvSpPr>
            <p:spPr>
              <a:xfrm>
                <a:off x="2560680" y="483876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Line 32"/>
              <p:cNvSpPr/>
              <p:nvPr/>
            </p:nvSpPr>
            <p:spPr>
              <a:xfrm flipH="1">
                <a:off x="655200" y="483876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Text Box 33"/>
              <p:cNvSpPr/>
              <p:nvPr/>
            </p:nvSpPr>
            <p:spPr>
              <a:xfrm>
                <a:off x="1798560" y="461016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Line 34"/>
              <p:cNvSpPr/>
              <p:nvPr/>
            </p:nvSpPr>
            <p:spPr>
              <a:xfrm>
                <a:off x="274680" y="2933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Line 35"/>
              <p:cNvSpPr/>
              <p:nvPr/>
            </p:nvSpPr>
            <p:spPr>
              <a:xfrm>
                <a:off x="274680" y="44578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Line 36"/>
              <p:cNvSpPr/>
              <p:nvPr/>
            </p:nvSpPr>
            <p:spPr>
              <a:xfrm>
                <a:off x="426960" y="40006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Line 37"/>
              <p:cNvSpPr/>
              <p:nvPr/>
            </p:nvSpPr>
            <p:spPr>
              <a:xfrm flipV="1">
                <a:off x="426960" y="30099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Text Box 38"/>
              <p:cNvSpPr/>
              <p:nvPr/>
            </p:nvSpPr>
            <p:spPr>
              <a:xfrm>
                <a:off x="46080" y="342108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8" name="Group 39"/>
          <p:cNvGrpSpPr/>
          <p:nvPr/>
        </p:nvGrpSpPr>
        <p:grpSpPr>
          <a:xfrm>
            <a:off x="5105520" y="2590920"/>
            <a:ext cx="2971800" cy="1752480"/>
            <a:chOff x="5105520" y="2590920"/>
            <a:chExt cx="2971800" cy="1752480"/>
          </a:xfrm>
        </p:grpSpPr>
        <p:grpSp>
          <p:nvGrpSpPr>
            <p:cNvPr id="4829" name="Group 40"/>
            <p:cNvGrpSpPr/>
            <p:nvPr/>
          </p:nvGrpSpPr>
          <p:grpSpPr>
            <a:xfrm>
              <a:off x="5334120" y="2667240"/>
              <a:ext cx="2743200" cy="1676160"/>
              <a:chOff x="5334120" y="2667240"/>
              <a:chExt cx="2743200" cy="1676160"/>
            </a:xfrm>
          </p:grpSpPr>
          <p:sp>
            <p:nvSpPr>
              <p:cNvPr id="4830" name="Line 41"/>
              <p:cNvSpPr/>
              <p:nvPr/>
            </p:nvSpPr>
            <p:spPr>
              <a:xfrm>
                <a:off x="5715360" y="274320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Line 42"/>
              <p:cNvSpPr/>
              <p:nvPr/>
            </p:nvSpPr>
            <p:spPr>
              <a:xfrm>
                <a:off x="8077320" y="266724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Line 43"/>
              <p:cNvSpPr/>
              <p:nvPr/>
            </p:nvSpPr>
            <p:spPr>
              <a:xfrm>
                <a:off x="7391520" y="297180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Line 44"/>
              <p:cNvSpPr/>
              <p:nvPr/>
            </p:nvSpPr>
            <p:spPr>
              <a:xfrm flipH="1">
                <a:off x="5715360" y="29718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Line 45"/>
              <p:cNvSpPr/>
              <p:nvPr/>
            </p:nvSpPr>
            <p:spPr>
              <a:xfrm>
                <a:off x="5334120" y="32763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Line 46"/>
              <p:cNvSpPr/>
              <p:nvPr/>
            </p:nvSpPr>
            <p:spPr>
              <a:xfrm>
                <a:off x="5334120" y="43434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Line 47"/>
              <p:cNvSpPr/>
              <p:nvPr/>
            </p:nvSpPr>
            <p:spPr>
              <a:xfrm>
                <a:off x="5486760" y="39621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Line 48"/>
              <p:cNvSpPr/>
              <p:nvPr/>
            </p:nvSpPr>
            <p:spPr>
              <a:xfrm flipV="1">
                <a:off x="5486760" y="3352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8" name="Text Box 49"/>
            <p:cNvSpPr/>
            <p:nvPr/>
          </p:nvSpPr>
          <p:spPr>
            <a:xfrm>
              <a:off x="6629760" y="259092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Text Box 50"/>
            <p:cNvSpPr/>
            <p:nvPr/>
          </p:nvSpPr>
          <p:spPr>
            <a:xfrm>
              <a:off x="5105520" y="33829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0" name="Group 51"/>
          <p:cNvGrpSpPr/>
          <p:nvPr/>
        </p:nvGrpSpPr>
        <p:grpSpPr>
          <a:xfrm>
            <a:off x="5710320" y="2857680"/>
            <a:ext cx="3288240" cy="2240640"/>
            <a:chOff x="5710320" y="2857680"/>
            <a:chExt cx="3288240" cy="2240640"/>
          </a:xfrm>
        </p:grpSpPr>
        <p:sp>
          <p:nvSpPr>
            <p:cNvPr id="4841" name="Line 52"/>
            <p:cNvSpPr/>
            <p:nvPr/>
          </p:nvSpPr>
          <p:spPr>
            <a:xfrm>
              <a:off x="5710320" y="3275280"/>
              <a:ext cx="2787480" cy="1800"/>
            </a:xfrm>
            <a:prstGeom prst="line">
              <a:avLst/>
            </a:prstGeom>
            <a:ln w="176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Line 53"/>
            <p:cNvSpPr/>
            <p:nvPr/>
          </p:nvSpPr>
          <p:spPr>
            <a:xfrm>
              <a:off x="5710320" y="3275280"/>
              <a:ext cx="1440" cy="1492200"/>
            </a:xfrm>
            <a:prstGeom prst="line">
              <a:avLst/>
            </a:prstGeom>
            <a:ln w="176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Freeform 54"/>
            <p:cNvSpPr/>
            <p:nvPr/>
          </p:nvSpPr>
          <p:spPr>
            <a:xfrm>
              <a:off x="5710320" y="3275280"/>
              <a:ext cx="1471320" cy="801720"/>
            </a:xfrm>
            <a:custGeom>
              <a:avLst/>
              <a:gdLst>
                <a:gd name="textAreaLeft" fmla="*/ 0 w 1471320"/>
                <a:gd name="textAreaRight" fmla="*/ 1471320 w 147132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44" h="377">
                  <a:moveTo>
                    <a:pt x="0" y="0"/>
                  </a:moveTo>
                  <a:lnTo>
                    <a:pt x="0" y="377"/>
                  </a:lnTo>
                  <a:lnTo>
                    <a:pt x="744" y="255"/>
                  </a:lnTo>
                  <a:lnTo>
                    <a:pt x="7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Freeform 55"/>
            <p:cNvSpPr/>
            <p:nvPr/>
          </p:nvSpPr>
          <p:spPr>
            <a:xfrm>
              <a:off x="5710320" y="3772080"/>
              <a:ext cx="1471320" cy="533520"/>
            </a:xfrm>
            <a:custGeom>
              <a:avLst/>
              <a:gdLst>
                <a:gd name="textAreaLeft" fmla="*/ 0 w 1471320"/>
                <a:gd name="textAreaRight" fmla="*/ 1471320 w 14713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744" h="289">
                  <a:moveTo>
                    <a:pt x="0" y="122"/>
                  </a:moveTo>
                  <a:lnTo>
                    <a:pt x="0" y="289"/>
                  </a:lnTo>
                  <a:lnTo>
                    <a:pt x="744" y="289"/>
                  </a:lnTo>
                  <a:lnTo>
                    <a:pt x="744" y="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Freeform 56"/>
            <p:cNvSpPr/>
            <p:nvPr/>
          </p:nvSpPr>
          <p:spPr>
            <a:xfrm>
              <a:off x="7194240" y="3543480"/>
              <a:ext cx="877680" cy="76212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44" h="389">
                  <a:moveTo>
                    <a:pt x="0" y="67"/>
                  </a:moveTo>
                  <a:lnTo>
                    <a:pt x="0" y="389"/>
                  </a:lnTo>
                  <a:lnTo>
                    <a:pt x="444" y="389"/>
                  </a:lnTo>
                  <a:lnTo>
                    <a:pt x="444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Freeform 57"/>
            <p:cNvSpPr/>
            <p:nvPr/>
          </p:nvSpPr>
          <p:spPr>
            <a:xfrm>
              <a:off x="7194240" y="3275280"/>
              <a:ext cx="877680" cy="4208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44" h="222">
                  <a:moveTo>
                    <a:pt x="444" y="133"/>
                  </a:moveTo>
                  <a:lnTo>
                    <a:pt x="444" y="0"/>
                  </a:lnTo>
                  <a:lnTo>
                    <a:pt x="0" y="11"/>
                  </a:lnTo>
                  <a:lnTo>
                    <a:pt x="0" y="222"/>
                  </a:lnTo>
                  <a:lnTo>
                    <a:pt x="444" y="13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Line 58"/>
            <p:cNvSpPr/>
            <p:nvPr/>
          </p:nvSpPr>
          <p:spPr>
            <a:xfrm>
              <a:off x="5710320" y="4767480"/>
              <a:ext cx="2787480" cy="1800"/>
            </a:xfrm>
            <a:prstGeom prst="line">
              <a:avLst/>
            </a:prstGeom>
            <a:ln w="176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Line 59"/>
            <p:cNvSpPr/>
            <p:nvPr/>
          </p:nvSpPr>
          <p:spPr>
            <a:xfrm>
              <a:off x="8497800" y="3275280"/>
              <a:ext cx="1080" cy="1492200"/>
            </a:xfrm>
            <a:prstGeom prst="line">
              <a:avLst/>
            </a:prstGeom>
            <a:ln w="176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Line 60"/>
            <p:cNvSpPr/>
            <p:nvPr/>
          </p:nvSpPr>
          <p:spPr>
            <a:xfrm>
              <a:off x="8497800" y="4378680"/>
              <a:ext cx="417240" cy="1440"/>
            </a:xfrm>
            <a:prstGeom prst="line">
              <a:avLst/>
            </a:prstGeom>
            <a:ln w="176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Line 61"/>
            <p:cNvSpPr/>
            <p:nvPr/>
          </p:nvSpPr>
          <p:spPr>
            <a:xfrm>
              <a:off x="8497800" y="4758120"/>
              <a:ext cx="417240" cy="1440"/>
            </a:xfrm>
            <a:prstGeom prst="line">
              <a:avLst/>
            </a:prstGeom>
            <a:ln w="176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Line 62"/>
            <p:cNvSpPr/>
            <p:nvPr/>
          </p:nvSpPr>
          <p:spPr>
            <a:xfrm>
              <a:off x="8072280" y="2934000"/>
              <a:ext cx="1080" cy="328680"/>
            </a:xfrm>
            <a:prstGeom prst="line">
              <a:avLst/>
            </a:prstGeom>
            <a:ln w="176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Line 63"/>
            <p:cNvSpPr/>
            <p:nvPr/>
          </p:nvSpPr>
          <p:spPr>
            <a:xfrm>
              <a:off x="8515080" y="2934000"/>
              <a:ext cx="1440" cy="328680"/>
            </a:xfrm>
            <a:prstGeom prst="line">
              <a:avLst/>
            </a:prstGeom>
            <a:ln w="176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Rectangle 64"/>
            <p:cNvSpPr/>
            <p:nvPr/>
          </p:nvSpPr>
          <p:spPr>
            <a:xfrm>
              <a:off x="8543880" y="4374000"/>
              <a:ext cx="454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Rectangle 65"/>
            <p:cNvSpPr/>
            <p:nvPr/>
          </p:nvSpPr>
          <p:spPr>
            <a:xfrm>
              <a:off x="8175600" y="2857680"/>
              <a:ext cx="454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Rectangle 66"/>
            <p:cNvSpPr/>
            <p:nvPr/>
          </p:nvSpPr>
          <p:spPr>
            <a:xfrm>
              <a:off x="8607240" y="3984840"/>
              <a:ext cx="23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宋体"/>
                </a:rPr>
                <a:t>↓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Rectangle 67"/>
            <p:cNvSpPr/>
            <p:nvPr/>
          </p:nvSpPr>
          <p:spPr>
            <a:xfrm>
              <a:off x="8585280" y="4762800"/>
              <a:ext cx="23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宋体"/>
                </a:rPr>
                <a:t>↑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Rectangle 68"/>
            <p:cNvSpPr/>
            <p:nvPr/>
          </p:nvSpPr>
          <p:spPr>
            <a:xfrm>
              <a:off x="8628120" y="2922840"/>
              <a:ext cx="23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宋体"/>
                </a:rPr>
                <a:t>←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Rectangle 69"/>
            <p:cNvSpPr/>
            <p:nvPr/>
          </p:nvSpPr>
          <p:spPr>
            <a:xfrm>
              <a:off x="7789680" y="2922840"/>
              <a:ext cx="23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宋体"/>
                </a:rPr>
                <a:t>→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9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AutoShape 2">
            <a:hlinkClick r:id="" action="ppaction://hlinkshowjump?jump=previousslide"/>
          </p:cNvPr>
          <p:cNvSpPr/>
          <p:nvPr/>
        </p:nvSpPr>
        <p:spPr>
          <a:xfrm>
            <a:off x="5580000" y="5781600"/>
            <a:ext cx="1908360" cy="523800"/>
          </a:xfrm>
          <a:custGeom>
            <a:avLst/>
            <a:gdLst>
              <a:gd name="textAreaLeft" fmla="*/ 33840 w 1908360"/>
              <a:gd name="textAreaRight" fmla="*/ 1874520 w 190836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78656" h="21600">
                <a:moveTo>
                  <a:pt x="0" y="0"/>
                </a:moveTo>
                <a:lnTo>
                  <a:pt x="78656" y="0"/>
                </a:lnTo>
                <a:lnTo>
                  <a:pt x="78656" y="21600"/>
                </a:lnTo>
                <a:lnTo>
                  <a:pt x="0" y="21600"/>
                </a:lnTo>
                <a:close/>
              </a:path>
              <a:path fill="lightenLess" w="78656" h="21600">
                <a:moveTo>
                  <a:pt x="0" y="0"/>
                </a:moveTo>
                <a:lnTo>
                  <a:pt x="78656" y="0"/>
                </a:lnTo>
                <a:lnTo>
                  <a:pt x="77256" y="1400"/>
                </a:lnTo>
                <a:lnTo>
                  <a:pt x="1400" y="1400"/>
                </a:lnTo>
                <a:close/>
              </a:path>
              <a:path fill="darken" w="78656" h="21600">
                <a:moveTo>
                  <a:pt x="78656" y="0"/>
                </a:moveTo>
                <a:lnTo>
                  <a:pt x="78656" y="21600"/>
                </a:lnTo>
                <a:lnTo>
                  <a:pt x="77256" y="20200"/>
                </a:lnTo>
                <a:lnTo>
                  <a:pt x="77256" y="1400"/>
                </a:lnTo>
                <a:close/>
              </a:path>
              <a:path fill="darkenLess" w="78656" h="21600">
                <a:moveTo>
                  <a:pt x="78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256" y="20200"/>
                </a:lnTo>
                <a:close/>
              </a:path>
              <a:path fill="lighten" w="78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Rectangle 3"/>
          <p:cNvSpPr/>
          <p:nvPr/>
        </p:nvSpPr>
        <p:spPr>
          <a:xfrm>
            <a:off x="34920" y="0"/>
            <a:ext cx="626580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一、轴对称图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Text Box 4"/>
          <p:cNvSpPr/>
          <p:nvPr/>
        </p:nvSpPr>
        <p:spPr>
          <a:xfrm>
            <a:off x="0" y="907920"/>
            <a:ext cx="63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把一个图形沿着某一条直线对折，若直线两侧的部分能够互相重合，则这样的图形称之为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形，这条直线叫做这个图形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Text Box 5"/>
          <p:cNvSpPr/>
          <p:nvPr/>
        </p:nvSpPr>
        <p:spPr>
          <a:xfrm>
            <a:off x="2819520" y="16765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轴对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Text Box 6"/>
          <p:cNvSpPr/>
          <p:nvPr/>
        </p:nvSpPr>
        <p:spPr>
          <a:xfrm>
            <a:off x="3048120" y="22096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对称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Text Box 7"/>
          <p:cNvSpPr/>
          <p:nvPr/>
        </p:nvSpPr>
        <p:spPr>
          <a:xfrm>
            <a:off x="5851440" y="39196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Rectangle 8"/>
          <p:cNvSpPr/>
          <p:nvPr/>
        </p:nvSpPr>
        <p:spPr>
          <a:xfrm>
            <a:off x="0" y="2666880"/>
            <a:ext cx="60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形中能够完全重合的两个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Rectangle 9"/>
          <p:cNvSpPr/>
          <p:nvPr/>
        </p:nvSpPr>
        <p:spPr>
          <a:xfrm>
            <a:off x="838080" y="30481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对称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Text Box 10"/>
          <p:cNvSpPr/>
          <p:nvPr/>
        </p:nvSpPr>
        <p:spPr>
          <a:xfrm>
            <a:off x="0" y="4495680"/>
            <a:ext cx="83707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轴对称图形的性质：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对称轴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垂直平分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连结两个对称点之间的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7" name="Picture 16" descr="504ec7f9207e234a252df2cd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6407280" y="1066680"/>
            <a:ext cx="2736720" cy="3168720"/>
          </a:xfrm>
          <a:prstGeom prst="rect">
            <a:avLst/>
          </a:prstGeom>
          <a:ln w="0">
            <a:noFill/>
          </a:ln>
        </p:spPr>
      </p:pic>
      <p:sp>
        <p:nvSpPr>
          <p:cNvPr id="3338" name="Line 17"/>
          <p:cNvSpPr/>
          <p:nvPr/>
        </p:nvSpPr>
        <p:spPr>
          <a:xfrm>
            <a:off x="7761240" y="1066680"/>
            <a:ext cx="0" cy="302436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3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3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宋体"/>
              </a:rPr>
              <a:t>性质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Text Box 3"/>
          <p:cNvSpPr/>
          <p:nvPr/>
        </p:nvSpPr>
        <p:spPr>
          <a:xfrm>
            <a:off x="250920" y="75708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画出下列轴对称图形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等腰梯形）的对称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1" name="Group 4"/>
          <p:cNvGrpSpPr/>
          <p:nvPr/>
        </p:nvGrpSpPr>
        <p:grpSpPr>
          <a:xfrm>
            <a:off x="3864960" y="3952800"/>
            <a:ext cx="2716200" cy="1899360"/>
            <a:chOff x="3864960" y="3952800"/>
            <a:chExt cx="2716200" cy="1899360"/>
          </a:xfrm>
        </p:grpSpPr>
        <p:sp>
          <p:nvSpPr>
            <p:cNvPr id="3342" name="AutoShape 5"/>
            <p:cNvSpPr/>
            <p:nvPr/>
          </p:nvSpPr>
          <p:spPr>
            <a:xfrm rot="10748400">
              <a:off x="4161600" y="4292280"/>
              <a:ext cx="1984680" cy="1139760"/>
            </a:xfrm>
            <a:custGeom>
              <a:avLst/>
              <a:gdLst>
                <a:gd name="textAreaLeft" fmla="*/ 412560 w 1984680"/>
                <a:gd name="textAreaRight" fmla="*/ 1572120 w 1984680"/>
                <a:gd name="textAreaTop" fmla="*/ 237960 h 1139760"/>
                <a:gd name="textAreaBottom" fmla="*/ 901800 h 11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Text Box 6"/>
            <p:cNvSpPr/>
            <p:nvPr/>
          </p:nvSpPr>
          <p:spPr>
            <a:xfrm>
              <a:off x="4296960" y="3952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Text Box 7"/>
            <p:cNvSpPr/>
            <p:nvPr/>
          </p:nvSpPr>
          <p:spPr>
            <a:xfrm>
              <a:off x="5801040" y="3952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Text Box 8"/>
            <p:cNvSpPr/>
            <p:nvPr/>
          </p:nvSpPr>
          <p:spPr>
            <a:xfrm>
              <a:off x="3864960" y="5392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Text Box 9"/>
            <p:cNvSpPr/>
            <p:nvPr/>
          </p:nvSpPr>
          <p:spPr>
            <a:xfrm>
              <a:off x="6180840" y="537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7" name="Group 10"/>
          <p:cNvGrpSpPr/>
          <p:nvPr/>
        </p:nvGrpSpPr>
        <p:grpSpPr>
          <a:xfrm>
            <a:off x="5170320" y="3160800"/>
            <a:ext cx="505800" cy="3147480"/>
            <a:chOff x="5170320" y="3160800"/>
            <a:chExt cx="505800" cy="3147480"/>
          </a:xfrm>
        </p:grpSpPr>
        <p:sp>
          <p:nvSpPr>
            <p:cNvPr id="3348" name="Line 11"/>
            <p:cNvSpPr/>
            <p:nvPr/>
          </p:nvSpPr>
          <p:spPr>
            <a:xfrm>
              <a:off x="5170320" y="3357360"/>
              <a:ext cx="0" cy="29509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Text Box 12"/>
            <p:cNvSpPr/>
            <p:nvPr/>
          </p:nvSpPr>
          <p:spPr>
            <a:xfrm>
              <a:off x="5297400" y="3160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0" name="Oval 13"/>
          <p:cNvSpPr/>
          <p:nvPr/>
        </p:nvSpPr>
        <p:spPr>
          <a:xfrm>
            <a:off x="4667400" y="479736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Text Box 14"/>
          <p:cNvSpPr/>
          <p:nvPr/>
        </p:nvSpPr>
        <p:spPr>
          <a:xfrm>
            <a:off x="4162320" y="45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Line 15"/>
          <p:cNvSpPr/>
          <p:nvPr/>
        </p:nvSpPr>
        <p:spPr>
          <a:xfrm>
            <a:off x="4738680" y="4797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3" name="Group 16"/>
          <p:cNvGrpSpPr/>
          <p:nvPr/>
        </p:nvGrpSpPr>
        <p:grpSpPr>
          <a:xfrm>
            <a:off x="5603760" y="4529160"/>
            <a:ext cx="631800" cy="581400"/>
            <a:chOff x="5603760" y="4529160"/>
            <a:chExt cx="631800" cy="581400"/>
          </a:xfrm>
        </p:grpSpPr>
        <p:sp>
          <p:nvSpPr>
            <p:cNvPr id="3354" name="Text Box 17"/>
            <p:cNvSpPr/>
            <p:nvPr/>
          </p:nvSpPr>
          <p:spPr>
            <a:xfrm>
              <a:off x="5811120" y="45291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8000"/>
                  </a:solidFill>
                  <a:latin typeface="Times New Roman"/>
                </a:rPr>
                <a:t>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Oval 18"/>
            <p:cNvSpPr/>
            <p:nvPr/>
          </p:nvSpPr>
          <p:spPr>
            <a:xfrm>
              <a:off x="5603760" y="47782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6" name="Group 19"/>
          <p:cNvGrpSpPr/>
          <p:nvPr/>
        </p:nvGrpSpPr>
        <p:grpSpPr>
          <a:xfrm>
            <a:off x="5027760" y="4797360"/>
            <a:ext cx="592560" cy="520560"/>
            <a:chOff x="5027760" y="4797360"/>
            <a:chExt cx="592560" cy="520560"/>
          </a:xfrm>
        </p:grpSpPr>
        <p:sp>
          <p:nvSpPr>
            <p:cNvPr id="3357" name="Text Box 20"/>
            <p:cNvSpPr/>
            <p:nvPr/>
          </p:nvSpPr>
          <p:spPr>
            <a:xfrm>
              <a:off x="5226120" y="4797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8" name="Group 21"/>
            <p:cNvGrpSpPr/>
            <p:nvPr/>
          </p:nvGrpSpPr>
          <p:grpSpPr>
            <a:xfrm>
              <a:off x="5027760" y="4797360"/>
              <a:ext cx="142560" cy="144720"/>
              <a:chOff x="5027760" y="4797360"/>
              <a:chExt cx="142560" cy="144720"/>
            </a:xfrm>
          </p:grpSpPr>
          <p:sp>
            <p:nvSpPr>
              <p:cNvPr id="3359" name="Line 22"/>
              <p:cNvSpPr/>
              <p:nvPr/>
            </p:nvSpPr>
            <p:spPr>
              <a:xfrm>
                <a:off x="5027760" y="4797360"/>
                <a:ext cx="0" cy="1447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Line 23"/>
              <p:cNvSpPr/>
              <p:nvPr/>
            </p:nvSpPr>
            <p:spPr>
              <a:xfrm>
                <a:off x="5027760" y="4942080"/>
                <a:ext cx="14256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1" name="Rectangle 24"/>
          <p:cNvSpPr/>
          <p:nvPr/>
        </p:nvSpPr>
        <p:spPr>
          <a:xfrm>
            <a:off x="1834560" y="1871640"/>
            <a:ext cx="55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画出下列轴对称图形中已知点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对称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2" name="Group 7"/>
          <p:cNvGrpSpPr/>
          <p:nvPr/>
        </p:nvGrpSpPr>
        <p:grpSpPr>
          <a:xfrm>
            <a:off x="3276720" y="0"/>
            <a:ext cx="2302920" cy="1081080"/>
            <a:chOff x="3276720" y="0"/>
            <a:chExt cx="2302920" cy="1081080"/>
          </a:xfrm>
        </p:grpSpPr>
        <p:sp>
          <p:nvSpPr>
            <p:cNvPr id="3363" name="AutoShape 8"/>
            <p:cNvSpPr/>
            <p:nvPr/>
          </p:nvSpPr>
          <p:spPr>
            <a:xfrm>
              <a:off x="3276720" y="0"/>
              <a:ext cx="2040480" cy="1081080"/>
            </a:xfrm>
            <a:prstGeom prst="cloudCallout">
              <a:avLst>
                <a:gd name="adj1" fmla="val -21143"/>
                <a:gd name="adj2" fmla="val 110120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Text Box 9"/>
            <p:cNvSpPr/>
            <p:nvPr/>
          </p:nvSpPr>
          <p:spPr>
            <a:xfrm>
              <a:off x="3475080" y="268560"/>
              <a:ext cx="21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cc99"/>
                  </a:solidFill>
                  <a:latin typeface="宋体"/>
                </a:rPr>
                <a:t>如何做？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5" name="AutoShape 13"/>
          <p:cNvSpPr/>
          <p:nvPr/>
        </p:nvSpPr>
        <p:spPr>
          <a:xfrm>
            <a:off x="684360" y="5445000"/>
            <a:ext cx="3456000" cy="1152720"/>
          </a:xfrm>
          <a:prstGeom prst="wedgeEllipseCallout">
            <a:avLst>
              <a:gd name="adj1" fmla="val 81833"/>
              <a:gd name="adj2" fmla="val -125342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看成两个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AutoShape 14"/>
          <p:cNvSpPr/>
          <p:nvPr/>
        </p:nvSpPr>
        <p:spPr>
          <a:xfrm>
            <a:off x="4716360" y="5445000"/>
            <a:ext cx="4211640" cy="1224000"/>
          </a:xfrm>
          <a:prstGeom prst="wedgeEllipseCallout">
            <a:avLst>
              <a:gd name="adj1" fmla="val -5106"/>
              <a:gd name="adj2" fmla="val -114851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两个图形成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轴对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7" name="Picture 15" descr="504ec7f9207e234a252df2cd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5291280" y="1268280"/>
            <a:ext cx="2736720" cy="3168720"/>
          </a:xfrm>
          <a:prstGeom prst="rect">
            <a:avLst/>
          </a:prstGeom>
          <a:ln w="0">
            <a:noFill/>
          </a:ln>
        </p:spPr>
      </p:pic>
      <p:sp>
        <p:nvSpPr>
          <p:cNvPr id="3368" name="Rectangle 16"/>
          <p:cNvSpPr/>
          <p:nvPr/>
        </p:nvSpPr>
        <p:spPr>
          <a:xfrm>
            <a:off x="6629400" y="1295280"/>
            <a:ext cx="1368360" cy="3168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Line 12"/>
          <p:cNvSpPr/>
          <p:nvPr/>
        </p:nvSpPr>
        <p:spPr>
          <a:xfrm flipH="1">
            <a:off x="6607080" y="906120"/>
            <a:ext cx="28800" cy="467892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0" name="Picture 17" descr="504ec7f9207e234a252df2cd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84360" y="1341360"/>
            <a:ext cx="2736720" cy="3168720"/>
          </a:xfrm>
          <a:prstGeom prst="rect">
            <a:avLst/>
          </a:prstGeom>
          <a:ln w="0">
            <a:noFill/>
          </a:ln>
        </p:spPr>
      </p:pic>
      <p:sp>
        <p:nvSpPr>
          <p:cNvPr id="3371" name="Line 6"/>
          <p:cNvSpPr/>
          <p:nvPr/>
        </p:nvSpPr>
        <p:spPr>
          <a:xfrm flipH="1" flipV="1">
            <a:off x="2052720" y="907560"/>
            <a:ext cx="1440" cy="44658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2000"/>
                                        <p:tgtEl>
                                          <p:spTgt spid="3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20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Text Box 2"/>
          <p:cNvSpPr/>
          <p:nvPr/>
        </p:nvSpPr>
        <p:spPr>
          <a:xfrm>
            <a:off x="179280" y="992160"/>
            <a:ext cx="54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由一个图形变为另一个图形，使这两个图形关于某条直线成轴对称，这样的图形改变叫做图形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，也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，经变换所得的新图形叫做原图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Text Box 3"/>
          <p:cNvSpPr/>
          <p:nvPr/>
        </p:nvSpPr>
        <p:spPr>
          <a:xfrm>
            <a:off x="5456160" y="2068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Text Box 4"/>
          <p:cNvSpPr/>
          <p:nvPr/>
        </p:nvSpPr>
        <p:spPr>
          <a:xfrm>
            <a:off x="762120" y="220968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轴对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Text Box 5"/>
          <p:cNvSpPr/>
          <p:nvPr/>
        </p:nvSpPr>
        <p:spPr>
          <a:xfrm>
            <a:off x="4038480" y="2286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反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Text Box 6"/>
          <p:cNvSpPr/>
          <p:nvPr/>
        </p:nvSpPr>
        <p:spPr>
          <a:xfrm>
            <a:off x="2133720" y="3124080"/>
            <a:ext cx="7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Rectangle 7"/>
          <p:cNvSpPr/>
          <p:nvPr/>
        </p:nvSpPr>
        <p:spPr>
          <a:xfrm>
            <a:off x="1720800" y="0"/>
            <a:ext cx="41400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二、轴对称变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Line 8"/>
          <p:cNvSpPr/>
          <p:nvPr/>
        </p:nvSpPr>
        <p:spPr>
          <a:xfrm>
            <a:off x="6659640" y="141444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9"/>
          <p:cNvSpPr/>
          <p:nvPr/>
        </p:nvSpPr>
        <p:spPr>
          <a:xfrm flipV="1">
            <a:off x="6946920" y="1258200"/>
            <a:ext cx="152280" cy="152280"/>
          </a:xfrm>
          <a:prstGeom prst="rect">
            <a:avLst/>
          </a:prstGeom>
          <a:noFill/>
          <a:ln cap="sq"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Line 10"/>
          <p:cNvSpPr/>
          <p:nvPr/>
        </p:nvSpPr>
        <p:spPr>
          <a:xfrm flipV="1">
            <a:off x="6083280" y="2998440"/>
            <a:ext cx="2160720" cy="20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Rectangle 11"/>
          <p:cNvSpPr/>
          <p:nvPr/>
        </p:nvSpPr>
        <p:spPr>
          <a:xfrm flipV="1">
            <a:off x="6948360" y="2897280"/>
            <a:ext cx="125640" cy="125280"/>
          </a:xfrm>
          <a:prstGeom prst="rect">
            <a:avLst/>
          </a:prstGeom>
          <a:noFill/>
          <a:ln cap="sq"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Line 12"/>
          <p:cNvSpPr/>
          <p:nvPr/>
        </p:nvSpPr>
        <p:spPr>
          <a:xfrm>
            <a:off x="7093080" y="620640"/>
            <a:ext cx="0" cy="33530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3" name="Object 2"/>
          <p:cNvGraphicFramePr/>
          <p:nvPr/>
        </p:nvGraphicFramePr>
        <p:xfrm>
          <a:off x="7183440" y="3421080"/>
          <a:ext cx="36828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83440" y="3421080"/>
                    <a:ext cx="3682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5" name="Line 14"/>
          <p:cNvSpPr/>
          <p:nvPr/>
        </p:nvSpPr>
        <p:spPr>
          <a:xfrm>
            <a:off x="7524720" y="1414440"/>
            <a:ext cx="504720" cy="1584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Rectangle 15"/>
          <p:cNvSpPr/>
          <p:nvPr/>
        </p:nvSpPr>
        <p:spPr>
          <a:xfrm>
            <a:off x="7464240" y="90972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Rectangle 16"/>
          <p:cNvSpPr/>
          <p:nvPr/>
        </p:nvSpPr>
        <p:spPr>
          <a:xfrm>
            <a:off x="7812000" y="3141720"/>
            <a:ext cx="7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AutoShape 17"/>
          <p:cNvSpPr/>
          <p:nvPr/>
        </p:nvSpPr>
        <p:spPr>
          <a:xfrm>
            <a:off x="6012000" y="728640"/>
            <a:ext cx="119196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Line 18"/>
          <p:cNvSpPr/>
          <p:nvPr/>
        </p:nvSpPr>
        <p:spPr>
          <a:xfrm flipH="1">
            <a:off x="6048360" y="1415880"/>
            <a:ext cx="627120" cy="1603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Rectangle 19"/>
          <p:cNvSpPr/>
          <p:nvPr/>
        </p:nvSpPr>
        <p:spPr>
          <a:xfrm>
            <a:off x="6516360" y="90972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20"/>
          <p:cNvSpPr/>
          <p:nvPr/>
        </p:nvSpPr>
        <p:spPr>
          <a:xfrm>
            <a:off x="5724000" y="321480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Oval 21"/>
          <p:cNvSpPr/>
          <p:nvPr/>
        </p:nvSpPr>
        <p:spPr>
          <a:xfrm>
            <a:off x="6588000" y="1341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Oval 22"/>
          <p:cNvSpPr/>
          <p:nvPr/>
        </p:nvSpPr>
        <p:spPr>
          <a:xfrm>
            <a:off x="7451640" y="1341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Oval 23"/>
          <p:cNvSpPr/>
          <p:nvPr/>
        </p:nvSpPr>
        <p:spPr>
          <a:xfrm>
            <a:off x="5940360" y="2925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Oval 24"/>
          <p:cNvSpPr/>
          <p:nvPr/>
        </p:nvSpPr>
        <p:spPr>
          <a:xfrm>
            <a:off x="7956720" y="2925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Text Box 25"/>
          <p:cNvSpPr/>
          <p:nvPr/>
        </p:nvSpPr>
        <p:spPr>
          <a:xfrm>
            <a:off x="228600" y="426708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如图线段</a:t>
            </a:r>
            <a:r>
              <a:rPr b="1" lang="en-US" sz="2800" spc="-1" strike="noStrike">
                <a:solidFill>
                  <a:srgbClr val="660033"/>
                </a:solidFill>
                <a:latin typeface="宋体"/>
              </a:rPr>
              <a:t>AB’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就是线段</a:t>
            </a:r>
            <a:r>
              <a:rPr b="1" lang="en-US" sz="2800" spc="-1" strike="noStrike">
                <a:solidFill>
                  <a:srgbClr val="660033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经轴对称变换后所得的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26"/>
          <p:cNvSpPr/>
          <p:nvPr/>
        </p:nvSpPr>
        <p:spPr>
          <a:xfrm>
            <a:off x="304920" y="4952880"/>
            <a:ext cx="799308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轴对称变换的性质：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轴对称变换不改变原图形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形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大小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3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3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3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Text Box 2"/>
          <p:cNvSpPr/>
          <p:nvPr/>
        </p:nvSpPr>
        <p:spPr>
          <a:xfrm>
            <a:off x="0" y="907920"/>
            <a:ext cx="450072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由一个图形改变为另一个图形，在改变过程中，原图形上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所有的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都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，且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这样的图形改变叫做图形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平移变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简称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平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Text Box 3"/>
          <p:cNvSpPr/>
          <p:nvPr/>
        </p:nvSpPr>
        <p:spPr>
          <a:xfrm>
            <a:off x="0" y="0"/>
            <a:ext cx="478800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三、平移变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"/>
          <p:cNvSpPr/>
          <p:nvPr/>
        </p:nvSpPr>
        <p:spPr>
          <a:xfrm>
            <a:off x="0" y="228600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同一个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Rectangle 5"/>
          <p:cNvSpPr/>
          <p:nvPr/>
        </p:nvSpPr>
        <p:spPr>
          <a:xfrm>
            <a:off x="0" y="2895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相等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2" name="Picture 7" descr="滑梯"/>
          <p:cNvPicPr/>
          <p:nvPr/>
        </p:nvPicPr>
        <p:blipFill>
          <a:blip r:embed="rId2"/>
          <a:stretch/>
        </p:blipFill>
        <p:spPr>
          <a:xfrm>
            <a:off x="4759200" y="0"/>
            <a:ext cx="4384800" cy="4537080"/>
          </a:xfrm>
          <a:prstGeom prst="rect">
            <a:avLst/>
          </a:prstGeom>
          <a:ln w="0">
            <a:noFill/>
          </a:ln>
        </p:spPr>
      </p:pic>
      <p:pic>
        <p:nvPicPr>
          <p:cNvPr id="3403" name="Picture 8" descr="小孩"/>
          <p:cNvPicPr/>
          <p:nvPr/>
        </p:nvPicPr>
        <p:blipFill>
          <a:blip r:embed="rId3"/>
          <a:stretch/>
        </p:blipFill>
        <p:spPr>
          <a:xfrm flipH="1" rot="18559200">
            <a:off x="6091560" y="972000"/>
            <a:ext cx="1747800" cy="14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02312E-006 L -0.22552 0.19792 E">
                                      <p:cBhvr>
                                        <p:cTn id="178" dur="3000" fill="hold"/>
                                        <p:tgtEl>
                                          <p:spTgt spid="3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Text Box 2"/>
          <p:cNvSpPr/>
          <p:nvPr/>
        </p:nvSpPr>
        <p:spPr>
          <a:xfrm>
            <a:off x="1116000" y="342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Text Box 3"/>
          <p:cNvSpPr/>
          <p:nvPr/>
        </p:nvSpPr>
        <p:spPr>
          <a:xfrm>
            <a:off x="1044720" y="4294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Text Box 4"/>
          <p:cNvSpPr/>
          <p:nvPr/>
        </p:nvSpPr>
        <p:spPr>
          <a:xfrm>
            <a:off x="2700360" y="43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Text Box 5"/>
          <p:cNvSpPr/>
          <p:nvPr/>
        </p:nvSpPr>
        <p:spPr>
          <a:xfrm>
            <a:off x="2771640" y="3502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Text Box 6"/>
          <p:cNvSpPr/>
          <p:nvPr/>
        </p:nvSpPr>
        <p:spPr>
          <a:xfrm>
            <a:off x="4427640" y="2565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Text Box 7"/>
          <p:cNvSpPr/>
          <p:nvPr/>
        </p:nvSpPr>
        <p:spPr>
          <a:xfrm>
            <a:off x="2556000" y="24940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</a:t>
            </a:r>
            <a:r>
              <a:rPr b="1" lang="en-US" sz="1800" spc="-1" strike="noStrike">
                <a:solidFill>
                  <a:srgbClr val="cc0000"/>
                </a:solidFill>
                <a:latin typeface="宋体"/>
              </a:rPr>
              <a:t>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Text Box 8"/>
          <p:cNvSpPr/>
          <p:nvPr/>
        </p:nvSpPr>
        <p:spPr>
          <a:xfrm>
            <a:off x="4427640" y="3429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Text Box 9"/>
          <p:cNvSpPr/>
          <p:nvPr/>
        </p:nvSpPr>
        <p:spPr>
          <a:xfrm>
            <a:off x="3060720" y="3429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Freeform 10"/>
          <p:cNvSpPr/>
          <p:nvPr/>
        </p:nvSpPr>
        <p:spPr>
          <a:xfrm>
            <a:off x="1447920" y="2811600"/>
            <a:ext cx="3047760" cy="155412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1920" h="979">
                <a:moveTo>
                  <a:pt x="0" y="979"/>
                </a:moveTo>
                <a:lnTo>
                  <a:pt x="1920" y="0"/>
                </a:ln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reeform 11"/>
          <p:cNvSpPr/>
          <p:nvPr/>
        </p:nvSpPr>
        <p:spPr>
          <a:xfrm>
            <a:off x="2676600" y="2278080"/>
            <a:ext cx="4127400" cy="2087640"/>
          </a:xfrm>
          <a:custGeom>
            <a:avLst/>
            <a:gdLst>
              <a:gd name="textAreaLeft" fmla="*/ 0 w 4127400"/>
              <a:gd name="textAreaRight" fmla="*/ 4127760 w 412740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920" h="979">
                <a:moveTo>
                  <a:pt x="0" y="979"/>
                </a:moveTo>
                <a:lnTo>
                  <a:pt x="1920" y="0"/>
                </a:ln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Freeform 12"/>
          <p:cNvSpPr/>
          <p:nvPr/>
        </p:nvSpPr>
        <p:spPr>
          <a:xfrm>
            <a:off x="1476360" y="1630440"/>
            <a:ext cx="4127400" cy="2087640"/>
          </a:xfrm>
          <a:custGeom>
            <a:avLst/>
            <a:gdLst>
              <a:gd name="textAreaLeft" fmla="*/ 0 w 4127400"/>
              <a:gd name="textAreaRight" fmla="*/ 4127760 w 412740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920" h="979">
                <a:moveTo>
                  <a:pt x="0" y="979"/>
                </a:moveTo>
                <a:lnTo>
                  <a:pt x="1920" y="0"/>
                </a:ln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Freeform 13"/>
          <p:cNvSpPr/>
          <p:nvPr/>
        </p:nvSpPr>
        <p:spPr>
          <a:xfrm>
            <a:off x="1424160" y="3429000"/>
            <a:ext cx="1852560" cy="936720"/>
          </a:xfrm>
          <a:custGeom>
            <a:avLst/>
            <a:gdLst>
              <a:gd name="textAreaLeft" fmla="*/ 0 w 1852560"/>
              <a:gd name="textAreaRight" fmla="*/ 1852920 w 18525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1121" h="561">
                <a:moveTo>
                  <a:pt x="0" y="561"/>
                </a:moveTo>
                <a:lnTo>
                  <a:pt x="1121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Freeform 14"/>
          <p:cNvSpPr/>
          <p:nvPr/>
        </p:nvSpPr>
        <p:spPr>
          <a:xfrm>
            <a:off x="1476360" y="2827440"/>
            <a:ext cx="1779480" cy="890640"/>
          </a:xfrm>
          <a:custGeom>
            <a:avLst/>
            <a:gdLst>
              <a:gd name="textAreaLeft" fmla="*/ 0 w 1779480"/>
              <a:gd name="textAreaRight" fmla="*/ 1779840 w 17794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1121" h="561">
                <a:moveTo>
                  <a:pt x="0" y="561"/>
                </a:moveTo>
                <a:lnTo>
                  <a:pt x="1121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Freeform 15"/>
          <p:cNvSpPr/>
          <p:nvPr/>
        </p:nvSpPr>
        <p:spPr>
          <a:xfrm>
            <a:off x="2700360" y="2827440"/>
            <a:ext cx="1779480" cy="890640"/>
          </a:xfrm>
          <a:custGeom>
            <a:avLst/>
            <a:gdLst>
              <a:gd name="textAreaLeft" fmla="*/ 0 w 1779480"/>
              <a:gd name="textAreaRight" fmla="*/ 1779840 w 17794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1121" h="561">
                <a:moveTo>
                  <a:pt x="0" y="561"/>
                </a:moveTo>
                <a:lnTo>
                  <a:pt x="1121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Freeform 16"/>
          <p:cNvSpPr/>
          <p:nvPr/>
        </p:nvSpPr>
        <p:spPr>
          <a:xfrm>
            <a:off x="2627280" y="3429000"/>
            <a:ext cx="1873440" cy="96372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1121" h="561">
                <a:moveTo>
                  <a:pt x="0" y="561"/>
                </a:moveTo>
                <a:lnTo>
                  <a:pt x="1121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Freeform 17"/>
          <p:cNvSpPr/>
          <p:nvPr/>
        </p:nvSpPr>
        <p:spPr>
          <a:xfrm>
            <a:off x="3252960" y="2811600"/>
            <a:ext cx="1247760" cy="15840"/>
          </a:xfrm>
          <a:custGeom>
            <a:avLst/>
            <a:gdLst>
              <a:gd name="textAreaLeft" fmla="*/ 0 w 1247760"/>
              <a:gd name="textAreaRight" fmla="*/ 1248120 w 1247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86" h="10">
                <a:moveTo>
                  <a:pt x="0" y="10"/>
                </a:moveTo>
                <a:lnTo>
                  <a:pt x="786" y="0"/>
                </a:lnTo>
              </a:path>
            </a:pathLst>
          </a:cu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Freeform 18"/>
          <p:cNvSpPr/>
          <p:nvPr/>
        </p:nvSpPr>
        <p:spPr>
          <a:xfrm>
            <a:off x="3252960" y="3429000"/>
            <a:ext cx="1247760" cy="15840"/>
          </a:xfrm>
          <a:custGeom>
            <a:avLst/>
            <a:gdLst>
              <a:gd name="textAreaLeft" fmla="*/ 0 w 1247760"/>
              <a:gd name="textAreaRight" fmla="*/ 1248120 w 1247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86" h="10">
                <a:moveTo>
                  <a:pt x="0" y="10"/>
                </a:moveTo>
                <a:lnTo>
                  <a:pt x="786" y="0"/>
                </a:lnTo>
              </a:path>
            </a:pathLst>
          </a:cu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Line 19"/>
          <p:cNvSpPr/>
          <p:nvPr/>
        </p:nvSpPr>
        <p:spPr>
          <a:xfrm>
            <a:off x="3276720" y="2781360"/>
            <a:ext cx="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20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Text Box 21"/>
          <p:cNvSpPr/>
          <p:nvPr/>
        </p:nvSpPr>
        <p:spPr>
          <a:xfrm>
            <a:off x="4967280" y="306864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长方形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′B′C′D′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就是所求平移变换后得到的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Rectangle 22"/>
          <p:cNvSpPr/>
          <p:nvPr/>
        </p:nvSpPr>
        <p:spPr>
          <a:xfrm>
            <a:off x="1476360" y="3718080"/>
            <a:ext cx="122400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Text Box 23"/>
          <p:cNvSpPr/>
          <p:nvPr/>
        </p:nvSpPr>
        <p:spPr>
          <a:xfrm>
            <a:off x="6156360" y="234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Text Box 24"/>
          <p:cNvSpPr/>
          <p:nvPr/>
        </p:nvSpPr>
        <p:spPr>
          <a:xfrm>
            <a:off x="5580000" y="1557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Object 2"/>
          <p:cNvGraphicFramePr/>
          <p:nvPr/>
        </p:nvGraphicFramePr>
        <p:xfrm>
          <a:off x="3203640" y="2781360"/>
          <a:ext cx="114120" cy="1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781360"/>
                    <a:ext cx="11412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9" name="Object 3"/>
          <p:cNvGraphicFramePr/>
          <p:nvPr/>
        </p:nvGraphicFramePr>
        <p:xfrm>
          <a:off x="3203640" y="3387600"/>
          <a:ext cx="114120" cy="1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387600"/>
                    <a:ext cx="11412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1" name="Object 4"/>
          <p:cNvGraphicFramePr/>
          <p:nvPr/>
        </p:nvGraphicFramePr>
        <p:xfrm>
          <a:off x="4457880" y="2781360"/>
          <a:ext cx="114120" cy="11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57880" y="2781360"/>
                    <a:ext cx="11412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3" name="Object 5"/>
          <p:cNvGraphicFramePr/>
          <p:nvPr/>
        </p:nvGraphicFramePr>
        <p:xfrm>
          <a:off x="4457880" y="3387600"/>
          <a:ext cx="114120" cy="11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57880" y="3387600"/>
                    <a:ext cx="11412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5" name="Text Box 29"/>
          <p:cNvSpPr/>
          <p:nvPr/>
        </p:nvSpPr>
        <p:spPr>
          <a:xfrm>
            <a:off x="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把长方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沿箭头所指的方向平移，使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落在点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求经这一平移变换后所得的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Text Box 30"/>
          <p:cNvSpPr/>
          <p:nvPr/>
        </p:nvSpPr>
        <p:spPr>
          <a:xfrm>
            <a:off x="0" y="0"/>
            <a:ext cx="5219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平移变换的作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Text Box 31"/>
          <p:cNvSpPr/>
          <p:nvPr/>
        </p:nvSpPr>
        <p:spPr>
          <a:xfrm>
            <a:off x="324000" y="4724280"/>
            <a:ext cx="8820000" cy="1068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平移变换的性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移变换不改变图形的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形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大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方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Rectangle 32"/>
          <p:cNvSpPr/>
          <p:nvPr/>
        </p:nvSpPr>
        <p:spPr>
          <a:xfrm>
            <a:off x="324000" y="5805360"/>
            <a:ext cx="8820000" cy="5814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连结对应点的线段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平行且相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3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3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3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3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1.04046E-006 L 0.19705 -0.1311 E">
                                      <p:cBhvr>
                                        <p:cTn id="308" dur="2000" fill="hold"/>
                                        <p:tgtEl>
                                          <p:spTgt spid="3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33" dur="2000" fill="hold"/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Text Box 2"/>
          <p:cNvSpPr/>
          <p:nvPr/>
        </p:nvSpPr>
        <p:spPr>
          <a:xfrm>
            <a:off x="324000" y="83664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一个图形改变为另一个图形，在改变过程中，原图形上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所有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都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转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这样的图形改变叫做图形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旋转变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简称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旋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Rectangle 3"/>
          <p:cNvSpPr/>
          <p:nvPr/>
        </p:nvSpPr>
        <p:spPr>
          <a:xfrm>
            <a:off x="0" y="0"/>
            <a:ext cx="464328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四、旋转变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Rectangle 4"/>
          <p:cNvSpPr/>
          <p:nvPr/>
        </p:nvSpPr>
        <p:spPr>
          <a:xfrm>
            <a:off x="3886200" y="1219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固定的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Rectangle 5"/>
          <p:cNvSpPr/>
          <p:nvPr/>
        </p:nvSpPr>
        <p:spPr>
          <a:xfrm>
            <a:off x="6095880" y="1219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同一个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Rectangle 6"/>
          <p:cNvSpPr/>
          <p:nvPr/>
        </p:nvSpPr>
        <p:spPr>
          <a:xfrm>
            <a:off x="685800" y="1676520"/>
            <a:ext cx="29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同一个角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Rectangle 7"/>
          <p:cNvSpPr/>
          <p:nvPr/>
        </p:nvSpPr>
        <p:spPr>
          <a:xfrm>
            <a:off x="304920" y="2514600"/>
            <a:ext cx="119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固定的点叫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旋转中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Text Box 9"/>
          <p:cNvSpPr/>
          <p:nvPr/>
        </p:nvSpPr>
        <p:spPr>
          <a:xfrm>
            <a:off x="246240" y="48657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、旋转的方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Text Box 10"/>
          <p:cNvSpPr/>
          <p:nvPr/>
        </p:nvSpPr>
        <p:spPr>
          <a:xfrm>
            <a:off x="108000" y="3751200"/>
            <a:ext cx="41148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旋转变换三要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Text Box 11"/>
          <p:cNvSpPr/>
          <p:nvPr/>
        </p:nvSpPr>
        <p:spPr>
          <a:xfrm>
            <a:off x="260280" y="4361040"/>
            <a:ext cx="33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、旋转中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12"/>
          <p:cNvSpPr/>
          <p:nvPr/>
        </p:nvSpPr>
        <p:spPr>
          <a:xfrm>
            <a:off x="281160" y="5442120"/>
            <a:ext cx="34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、旋转的角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9" name="Group 13"/>
          <p:cNvGrpSpPr/>
          <p:nvPr/>
        </p:nvGrpSpPr>
        <p:grpSpPr>
          <a:xfrm>
            <a:off x="3352680" y="4572000"/>
            <a:ext cx="3276360" cy="1218960"/>
            <a:chOff x="3352680" y="4572000"/>
            <a:chExt cx="3276360" cy="1218960"/>
          </a:xfrm>
        </p:grpSpPr>
        <p:sp>
          <p:nvSpPr>
            <p:cNvPr id="3450" name="Text Box 14"/>
            <p:cNvSpPr/>
            <p:nvPr/>
          </p:nvSpPr>
          <p:spPr>
            <a:xfrm>
              <a:off x="3657240" y="48006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三者缺一不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AutoShape 15"/>
            <p:cNvSpPr/>
            <p:nvPr/>
          </p:nvSpPr>
          <p:spPr>
            <a:xfrm>
              <a:off x="3352680" y="457200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Text Box 2"/>
          <p:cNvSpPr/>
          <p:nvPr/>
        </p:nvSpPr>
        <p:spPr>
          <a:xfrm>
            <a:off x="0" y="907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△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外一点。以点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旋转中心，将△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按逆时针旋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作出经旋转变换后的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Text Box 3"/>
          <p:cNvSpPr/>
          <p:nvPr/>
        </p:nvSpPr>
        <p:spPr>
          <a:xfrm>
            <a:off x="395280" y="6021360"/>
            <a:ext cx="89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∴△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C′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就是所求作的旋转变换后的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Arc 4"/>
          <p:cNvSpPr/>
          <p:nvPr/>
        </p:nvSpPr>
        <p:spPr>
          <a:xfrm>
            <a:off x="5435640" y="2492280"/>
            <a:ext cx="3522600" cy="2747880"/>
          </a:xfrm>
          <a:custGeom>
            <a:avLst/>
            <a:gdLst>
              <a:gd name="textAreaLeft" fmla="*/ 0 w 3522600"/>
              <a:gd name="textAreaRight" fmla="*/ 3522960 w 3522600"/>
              <a:gd name="textAreaTop" fmla="*/ 0 h 2747880"/>
              <a:gd name="textAreaBottom" fmla="*/ 2747880 h 2747880"/>
            </a:gdLst>
            <a:ahLst/>
            <a:rect l="textAreaLeft" t="textAreaTop" r="textAreaRight" b="textAreaBottom"/>
            <a:pathLst>
              <a:path fill="none" w="21597" h="20416">
                <a:moveTo>
                  <a:pt x="7052" y="-1"/>
                </a:moveTo>
                <a:cubicBezTo>
                  <a:pt x="15640" y="2966"/>
                  <a:pt x="21453" y="10990"/>
                  <a:pt x="21597" y="20074"/>
                </a:cubicBezTo>
              </a:path>
              <a:path stroke="0" w="21597" h="20416">
                <a:moveTo>
                  <a:pt x="7052" y="-1"/>
                </a:moveTo>
                <a:cubicBezTo>
                  <a:pt x="15640" y="2966"/>
                  <a:pt x="21453" y="10990"/>
                  <a:pt x="21597" y="20074"/>
                </a:cubicBezTo>
                <a:lnTo>
                  <a:pt x="0" y="20416"/>
                </a:lnTo>
                <a:lnTo>
                  <a:pt x="7052" y="-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Arc 5"/>
          <p:cNvSpPr/>
          <p:nvPr/>
        </p:nvSpPr>
        <p:spPr>
          <a:xfrm>
            <a:off x="5410080" y="3095640"/>
            <a:ext cx="2441520" cy="212868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2128680"/>
              <a:gd name="textAreaBottom" fmla="*/ 2129040 h 2128680"/>
            </a:gdLst>
            <a:ahLst/>
            <a:rect l="textAreaLeft" t="textAreaTop" r="textAreaRight" b="textAreaBottom"/>
            <a:pathLst>
              <a:path fill="none" w="20428" h="21596">
                <a:moveTo>
                  <a:pt x="437" y="0"/>
                </a:moveTo>
                <a:cubicBezTo>
                  <a:pt x="9499" y="184"/>
                  <a:pt x="17482" y="6005"/>
                  <a:pt x="20427" y="14577"/>
                </a:cubicBezTo>
              </a:path>
              <a:path stroke="0" w="20428" h="21596">
                <a:moveTo>
                  <a:pt x="437" y="0"/>
                </a:moveTo>
                <a:cubicBezTo>
                  <a:pt x="9499" y="184"/>
                  <a:pt x="17482" y="6005"/>
                  <a:pt x="20427" y="14577"/>
                </a:cubicBezTo>
                <a:lnTo>
                  <a:pt x="0" y="21596"/>
                </a:lnTo>
                <a:lnTo>
                  <a:pt x="437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Arc 6"/>
          <p:cNvSpPr/>
          <p:nvPr/>
        </p:nvSpPr>
        <p:spPr>
          <a:xfrm>
            <a:off x="5424480" y="3700440"/>
            <a:ext cx="2163600" cy="1868400"/>
          </a:xfrm>
          <a:custGeom>
            <a:avLst/>
            <a:gdLst>
              <a:gd name="textAreaLeft" fmla="*/ 0 w 2163600"/>
              <a:gd name="textAreaRight" fmla="*/ 2163960 w 216360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fill="none" w="21600" h="22610">
                <a:moveTo>
                  <a:pt x="10951" y="-1"/>
                </a:moveTo>
                <a:cubicBezTo>
                  <a:pt x="17548" y="3880"/>
                  <a:pt x="21600" y="10963"/>
                  <a:pt x="21600" y="18618"/>
                </a:cubicBezTo>
                <a:cubicBezTo>
                  <a:pt x="21600" y="19957"/>
                  <a:pt x="21475" y="21293"/>
                  <a:pt x="21227" y="22609"/>
                </a:cubicBezTo>
              </a:path>
              <a:path stroke="0" w="21600" h="22610">
                <a:moveTo>
                  <a:pt x="10951" y="-1"/>
                </a:moveTo>
                <a:cubicBezTo>
                  <a:pt x="17548" y="3880"/>
                  <a:pt x="21600" y="10963"/>
                  <a:pt x="21600" y="18618"/>
                </a:cubicBezTo>
                <a:cubicBezTo>
                  <a:pt x="21600" y="19957"/>
                  <a:pt x="21475" y="21293"/>
                  <a:pt x="21227" y="22609"/>
                </a:cubicBezTo>
                <a:lnTo>
                  <a:pt x="0" y="18618"/>
                </a:lnTo>
                <a:lnTo>
                  <a:pt x="10951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Line 7"/>
          <p:cNvSpPr/>
          <p:nvPr/>
        </p:nvSpPr>
        <p:spPr>
          <a:xfrm>
            <a:off x="5410080" y="5222880"/>
            <a:ext cx="2127240" cy="331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Line 8"/>
          <p:cNvSpPr/>
          <p:nvPr/>
        </p:nvSpPr>
        <p:spPr>
          <a:xfrm flipH="1">
            <a:off x="5410080" y="4532400"/>
            <a:ext cx="2441520" cy="6904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Line 9"/>
          <p:cNvSpPr/>
          <p:nvPr/>
        </p:nvSpPr>
        <p:spPr>
          <a:xfrm flipH="1">
            <a:off x="5410080" y="5180040"/>
            <a:ext cx="3522960" cy="42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Oval 10"/>
          <p:cNvSpPr/>
          <p:nvPr/>
        </p:nvSpPr>
        <p:spPr>
          <a:xfrm>
            <a:off x="6526080" y="2446200"/>
            <a:ext cx="87480" cy="71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Oval 11"/>
          <p:cNvSpPr/>
          <p:nvPr/>
        </p:nvSpPr>
        <p:spPr>
          <a:xfrm>
            <a:off x="5427720" y="3063960"/>
            <a:ext cx="87120" cy="730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Oval 12"/>
          <p:cNvSpPr/>
          <p:nvPr/>
        </p:nvSpPr>
        <p:spPr>
          <a:xfrm>
            <a:off x="6473880" y="3654360"/>
            <a:ext cx="87120" cy="730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Line 13"/>
          <p:cNvSpPr/>
          <p:nvPr/>
        </p:nvSpPr>
        <p:spPr>
          <a:xfrm flipH="1">
            <a:off x="5364000" y="3068640"/>
            <a:ext cx="52560" cy="21286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Line 14"/>
          <p:cNvSpPr/>
          <p:nvPr/>
        </p:nvSpPr>
        <p:spPr>
          <a:xfrm flipH="1">
            <a:off x="5410080" y="3683160"/>
            <a:ext cx="1098720" cy="1539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Line 15"/>
          <p:cNvSpPr/>
          <p:nvPr/>
        </p:nvSpPr>
        <p:spPr>
          <a:xfrm flipH="1">
            <a:off x="5409720" y="2475000"/>
            <a:ext cx="1150920" cy="2747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6" name="Group 16"/>
          <p:cNvGrpSpPr/>
          <p:nvPr/>
        </p:nvGrpSpPr>
        <p:grpSpPr>
          <a:xfrm>
            <a:off x="5435280" y="2492280"/>
            <a:ext cx="1098360" cy="1207800"/>
            <a:chOff x="5435280" y="2492280"/>
            <a:chExt cx="1098360" cy="1207800"/>
          </a:xfrm>
        </p:grpSpPr>
        <p:sp>
          <p:nvSpPr>
            <p:cNvPr id="3467" name="Line 17"/>
            <p:cNvSpPr/>
            <p:nvPr/>
          </p:nvSpPr>
          <p:spPr>
            <a:xfrm flipH="1">
              <a:off x="5435280" y="2492280"/>
              <a:ext cx="1098360" cy="61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Line 18"/>
            <p:cNvSpPr/>
            <p:nvPr/>
          </p:nvSpPr>
          <p:spPr>
            <a:xfrm>
              <a:off x="5435640" y="3111120"/>
              <a:ext cx="1045800" cy="588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Line 19"/>
            <p:cNvSpPr/>
            <p:nvPr/>
          </p:nvSpPr>
          <p:spPr>
            <a:xfrm flipH="1">
              <a:off x="6481080" y="2492280"/>
              <a:ext cx="52200" cy="12078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0" name="Rectangle 20"/>
          <p:cNvSpPr/>
          <p:nvPr/>
        </p:nvSpPr>
        <p:spPr>
          <a:xfrm>
            <a:off x="6370200" y="2244600"/>
            <a:ext cx="335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21"/>
          <p:cNvSpPr/>
          <p:nvPr/>
        </p:nvSpPr>
        <p:spPr>
          <a:xfrm>
            <a:off x="5220720" y="2852640"/>
            <a:ext cx="335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Rectangle 22"/>
          <p:cNvSpPr/>
          <p:nvPr/>
        </p:nvSpPr>
        <p:spPr>
          <a:xfrm>
            <a:off x="6517800" y="3500280"/>
            <a:ext cx="335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Oval 23"/>
          <p:cNvSpPr/>
          <p:nvPr/>
        </p:nvSpPr>
        <p:spPr>
          <a:xfrm>
            <a:off x="5375160" y="5194440"/>
            <a:ext cx="87480" cy="72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Rectangle 24"/>
          <p:cNvSpPr/>
          <p:nvPr/>
        </p:nvSpPr>
        <p:spPr>
          <a:xfrm>
            <a:off x="5220000" y="5222880"/>
            <a:ext cx="25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Oval 25"/>
          <p:cNvSpPr/>
          <p:nvPr/>
        </p:nvSpPr>
        <p:spPr>
          <a:xfrm>
            <a:off x="7816680" y="4503600"/>
            <a:ext cx="87480" cy="71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Oval 26"/>
          <p:cNvSpPr/>
          <p:nvPr/>
        </p:nvSpPr>
        <p:spPr>
          <a:xfrm>
            <a:off x="8897760" y="5151600"/>
            <a:ext cx="87480" cy="71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7" name="Group 27"/>
          <p:cNvGrpSpPr/>
          <p:nvPr/>
        </p:nvGrpSpPr>
        <p:grpSpPr>
          <a:xfrm>
            <a:off x="7536960" y="4292640"/>
            <a:ext cx="1755360" cy="1693800"/>
            <a:chOff x="7536960" y="4292640"/>
            <a:chExt cx="1755360" cy="1693800"/>
          </a:xfrm>
        </p:grpSpPr>
        <p:sp>
          <p:nvSpPr>
            <p:cNvPr id="3478" name="Line 28"/>
            <p:cNvSpPr/>
            <p:nvPr/>
          </p:nvSpPr>
          <p:spPr>
            <a:xfrm flipH="1">
              <a:off x="7536960" y="4465800"/>
              <a:ext cx="314280" cy="10224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Line 29"/>
            <p:cNvSpPr/>
            <p:nvPr/>
          </p:nvSpPr>
          <p:spPr>
            <a:xfrm flipH="1">
              <a:off x="7537320" y="5113440"/>
              <a:ext cx="1395360" cy="374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Line 30"/>
            <p:cNvSpPr/>
            <p:nvPr/>
          </p:nvSpPr>
          <p:spPr>
            <a:xfrm>
              <a:off x="7851600" y="4465800"/>
              <a:ext cx="1081080" cy="6476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Rectangle 31"/>
            <p:cNvSpPr/>
            <p:nvPr/>
          </p:nvSpPr>
          <p:spPr>
            <a:xfrm>
              <a:off x="7956720" y="429264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Rectangle 32"/>
            <p:cNvSpPr/>
            <p:nvPr/>
          </p:nvSpPr>
          <p:spPr>
            <a:xfrm>
              <a:off x="7555320" y="555948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Rectangle 33"/>
            <p:cNvSpPr/>
            <p:nvPr/>
          </p:nvSpPr>
          <p:spPr>
            <a:xfrm>
              <a:off x="9055440" y="495612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4" name="Text Box 34"/>
          <p:cNvSpPr/>
          <p:nvPr/>
        </p:nvSpPr>
        <p:spPr>
          <a:xfrm>
            <a:off x="0" y="0"/>
            <a:ext cx="521964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旋转变换的作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Rectangle 35"/>
          <p:cNvSpPr/>
          <p:nvPr/>
        </p:nvSpPr>
        <p:spPr>
          <a:xfrm>
            <a:off x="0" y="2590920"/>
            <a:ext cx="485928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旋转的基本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旋转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不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形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大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形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Rectangle 36"/>
          <p:cNvSpPr/>
          <p:nvPr/>
        </p:nvSpPr>
        <p:spPr>
          <a:xfrm>
            <a:off x="0" y="5105520"/>
            <a:ext cx="4859280" cy="1069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"/>
              </a:rPr>
              <a:t>对应点与旋转中心的连线所成的角度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Arial"/>
              </a:rPr>
              <a:t>等于旋转的角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Rectangle 37"/>
          <p:cNvSpPr/>
          <p:nvPr/>
        </p:nvSpPr>
        <p:spPr>
          <a:xfrm>
            <a:off x="0" y="4191120"/>
            <a:ext cx="485928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应点到旋转中心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距离相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3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2:09:52Z</dcterms:created>
  <dc:creator/>
  <dc:description/>
  <dc:language>en-US</dc:language>
  <cp:lastModifiedBy/>
  <dcterms:modified xsi:type="dcterms:W3CDTF">2015-04-09T06:22:23Z</dcterms:modified>
  <cp:revision>1</cp:revision>
  <dc:subject/>
  <dc:title/>
</cp:coreProperties>
</file>