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png" ContentType="image/png"/>
  <Override PartName="/ppt/media/image13.png" ContentType="image/png"/>
  <Override PartName="/ppt/media/hammer.wav" ContentType="audio/x-wav"/>
  <Override PartName="/ppt/media/image1.jpeg" ContentType="image/jpeg"/>
  <Override PartName="/ppt/media/image7.png" ContentType="image/png"/>
  <Override PartName="/ppt/media/image12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C3D1-5476-4A22-9E07-A6E869AC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C93E-D60C-4F87-82FC-A84824E6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07937-6450-49AD-8D32-1B41572D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8BE26-385B-491F-B08A-69B2A326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D3E39-1C6F-4AC8-A213-93C11723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B11AE-CBA2-4F0E-924A-0F118C27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60FAC-FE41-4AF2-A898-A3635D35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E2622-0BFD-400E-A43D-46BD8817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72B06-561A-4AD9-98C0-A6E4E27F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C6181-F3B8-444B-8E8B-3BC86E52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50799-A608-410D-B5BC-A4F3F88B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F1808-8D64-4AF9-AD81-A301BF46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520-0EE8-4801-A435-5C999FC7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D74C9-2A3F-4D09-A6C8-FB1B38A1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5940E-C729-46C5-BF23-772D347F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7DEB9-FAC8-44CB-B189-EEA70BD3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598E5-C468-4707-86AD-09EC4357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4D946-21C3-44F1-953A-2B62A398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DF444-26EB-4E60-A0BF-BCDFA063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1B64A-2484-424A-A9EE-F4CF972E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C380F-872D-430A-B281-4E6A8645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40791-7276-49E4-8A46-323ECE9A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F17D6-053E-433C-AC6D-BB5F933F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683-EC44-47D8-B1DB-31373BF2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9EACB-A30B-4A61-84F8-E116671E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A91AC-96D1-4DD9-8CE9-3A067F38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812A9-25E4-4677-95AA-595FBF37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13D29-39BE-442A-988C-D8DF264D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8562B-7586-4834-9A9E-A6F0E8DC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F89E9-72E6-41A9-85BF-C6B5D51C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88D30-F88D-427B-BEE1-D3820B8F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5A7CF-79A7-4AA2-93C2-740EAA99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7EED1-33D4-4CCC-B5AB-D9F76397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A7DE0-A77C-4C2B-8162-C246B67E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67F6-0916-46BD-A61D-28E3AFCE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83B86-D831-4EAE-8208-48DA0A90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B269A-90BE-4567-AB99-E7337D60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4A104-D5AA-49E9-B024-B552C22E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9E61A-C931-43BB-8968-482A6A10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DA7A4-BFEC-42A9-8FDF-5AC50127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F1189-4DB0-4744-BD93-99922F14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BDBB6-46FB-444A-A554-725F6F23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D7159-93FF-42B1-8D66-69C67E10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556E8-A523-4C5C-9CB0-DE8F41A3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D8DCF-D8FD-4330-A636-0E5658A1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8E26-753E-4DD1-B125-115EDDA2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88489-3020-4416-8F59-D5BD1E4D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7D1D3-20FB-4762-8A8A-14C3D427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BE152-D0F3-4013-BACF-41625579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64517-DE4B-40B7-A1A0-74B7492D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7B308-4DA0-4565-8CBA-AF71D4E0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AD7E3-13EF-4B51-89AA-07A681F2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42143-264B-4395-8649-EADAD963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2A67B-D145-408D-A96E-987A38B0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CB163-8658-45C2-90B2-B20A7E44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2974FB-A1F7-4A1C-931B-4784532C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76A5-191E-463D-811B-4095B487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3896C-A30D-4991-88BD-963EA785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B27C39-E58E-4DB0-9E17-F323734C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E1CDC-611A-4909-AF5B-395A87ED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FA13F-50A4-4D88-BA5C-C4CBC75B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F7A0E-B92C-4B9E-911E-275A3DC2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73DDE4-08E1-47E6-AEDB-DBF0CD09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8817F-C597-4118-8402-5A6E0F37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DFD9CE-2962-4478-9E30-6A9ED45E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CB4332-A7B5-4A9F-88F3-788747D4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BF488A-E3B0-473C-9160-80E46301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9C04-6288-45CF-9E7F-DFFF089E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EE5A2D-00C2-4EC5-99DF-F836C21E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4AF01D-1A2C-4E24-8C09-1288B943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8ABA3B-B753-415D-9FC7-B26737C1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756E9F-E34D-4C4D-BB1D-475C107E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054B2B-F683-4600-B9C9-FDDFE545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DE0BD8-C49F-4F3E-BE3A-5109AEB2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58CBC-2518-4B13-8530-8252D9BB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9798E1-976E-4455-AA62-19E93016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B787B-F37E-4CF3-A3AC-97A6E0CB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0D39C4-0F5A-4805-8C25-35444AC1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2087-6993-45AE-9A19-E72EB74A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BD5622-5015-4E55-8560-89BA594F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8FAB64-3216-41BD-B2A6-36591D79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07F154-354A-42D7-9BC7-A72FFB34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5911EF-18BB-4CC7-B8C8-4465571D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425D3-3444-4794-9CD0-B3F58F20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D87A2F-B397-4B8E-AFCE-11E83D1F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29FD38-1B5E-4D2E-A617-AD44AEEB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10AFC1-1D79-4047-83A3-46AF7785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D3968C-BFFD-466C-BB13-0567A867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2AAEFA-285B-4202-99F4-642245DF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CF19-E386-4F75-80B1-C521DEF7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54070F-C592-4784-A790-5D73E6DE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5417A3D-68EC-49E7-A6E7-C99BB5DA138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85CA3CA-5B07-45EE-9B70-9AE572572AC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D8337D6-3287-4895-9009-0E29969C4C5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C2DF34C-CD5E-4F75-ABE2-D1CC2A3EB8F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1AA3138-5B85-4DA6-A5C8-AA1BE2B654F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B21141-AA23-4B25-8986-8EABF841EBA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83908CF-D25D-403E-907A-6BDCE803011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C27F856-B858-46B0-875C-3F52999586D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2B271E-51FB-47D2-A92C-80A879E0F6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CB6D-AA6F-4CD7-9B53-D548EB23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CFC50DD-792E-4E67-9428-CEE4EB881B2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DAF59F5-E2E2-4946-8EDB-5D70CE7AE3D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573AE3-4CD3-4AF9-8F3A-07503DB99C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315-C6F6-4A01-95AD-A13BBA85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71F1-C32F-4A43-8A3A-F029FEBD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017C-C14B-4D0F-821A-493E5DFD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63C1-AFA8-44A2-8441-E0E1D914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8E8C-6658-4C50-9542-A6AE1795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879F-1866-4A23-AAFE-6529FE08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99659-30EC-4019-8E8F-5340F110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6CC7B-6111-421D-BCE9-4E0CA259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FB31F-5D26-45A4-8B42-B8C0E4B7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A18A3-D53A-4A12-B008-31B85947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5BFEF-E53B-4557-A488-DAECBEA5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BAF-5F7F-4B47-88E6-C133BEF5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E7829-20C0-41B6-A5CB-AA45573E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23A3D-A2E7-4402-9F5A-CBF2FD55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C64AD-3B6C-452C-A542-872F1403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367EE-1523-4E42-85CA-88C2A684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55276-A6FC-4BC8-8321-BD3E9B9D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7A4C3-3F7A-47DF-95B4-C3D6EF28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9AA69-655A-4A4D-8CC2-2F43FF43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35812-46E5-4AE2-A0EF-0EF0C314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D4E69-8212-4D76-B101-52E76E36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F56EF-2802-4DEF-B627-DCC91889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0F1-5EA6-444C-B345-84F5DCED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50214-A27E-4CC4-B396-35C03116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F4CEB-C106-4783-B312-BBF2D739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28316-17A4-4835-AEF5-12EFE3B9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E545A-2B36-48C2-A216-74AA1E77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904E5-0988-46B3-ADF2-74F471BB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D6932-8831-4D1D-8FD2-387CC9D5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B3FE0-7710-41EE-BD52-C041D8DC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325A1-6ED7-4346-B291-EC838A28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7ED2D-2522-4F5B-8791-1174FA32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22CCD-B520-4951-B87A-AA0440CF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CE1-8F27-472C-8A91-F69CF086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D804A-4299-432D-AD03-C6F3B254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B72BA-A007-4DC1-8517-0C7143AE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A603D-26E8-4529-A7C1-DAA5330F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0D69E-E4CD-46F9-8E67-FB2F5871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52ED5-F385-427F-A894-7E2AD8C3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E9C4A-A60D-43B7-B3B1-2EF4B5E7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8D5C4-63D1-4ED6-A5A3-1F211588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A49B4-57DA-4B45-AC89-64DC0749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85E45-28F0-4ECE-B0C7-99C06253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4AC1A-F260-47D8-8CE1-782D458A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0A1F-2284-414A-B680-D07CC744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36B18-6F97-4DE9-915E-EDDB110A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8F9AF-F04A-42E9-9DD2-674D5DD7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73F0C-1DD2-47CC-BA8D-4B0113CC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65F56-ABFF-48F2-B546-8733DB64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2727B-1382-40E2-AF29-8E7AB812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D168E-16CA-43B2-8770-FAD42E49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8406A-E890-4570-9641-96CE45D1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1312F-852E-4ACB-A9CE-FF812F01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689FF-12CD-41AE-968C-8469BF78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CE908-F5EF-412C-B3E4-BB5E79F7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CDAC-9534-4956-A1A1-D5BF64A9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4502A-80E3-4222-B43A-88AF3236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DC440-7C69-4A8E-8FA9-940D67EE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AD7C9-E2E3-4C5E-A550-0E7DD89F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DA649-3D1A-4C65-8BDC-50EE479D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D7F92-E26B-4EC5-96C1-2CB33DFB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78695-03BB-4907-B870-DF04BEDC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6D273-B4BF-4108-95A2-83DF7BAC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F6322-9773-4103-99B2-6FADBE88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A88CD-89D4-4227-9FF2-26821C48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5BA42-9400-43E5-B510-9A384304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2911-C3C1-4421-9B60-34166CFE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AC5F3-522A-485E-9B22-AA88B94F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88692-FDF6-4E61-A7FD-8E200DF2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E7BE8-8C06-4B04-A456-837C0C1F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28EA3-289E-4D56-AD04-2D23A7F9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BDCEC-D412-42D6-8D9B-9DCD4FE7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0CFEA-C9C7-440C-BA49-3776A831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A7611-C42C-4A09-99A5-8BD18C7D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B0CE5-F87A-46AC-B043-A4F8F0AF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0D489-D68A-4634-8ABB-56CA432C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28700-35F9-4497-8AE2-97632D5E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2228-E893-47ED-A869-536AF0E6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77E5F-9604-43E7-B600-E18FACD5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62F5F-0651-43DF-83EF-98DDB085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D033E-7236-4559-981D-F7E8EC47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D4E23-2B54-4856-8FFC-D1ED3573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DAF46-CC1B-470E-BF35-0915D632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0EB9C-7D30-42E4-881D-457BC126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E6834-CAD4-4322-8BB1-BF879BAE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89C7B-79C1-41D2-81F9-D6F8A44B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8D672-75E7-465F-A001-F6768008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677DD-8E89-43E0-89B9-00EBA01D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210A-386F-4E95-BC2D-930111BB9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8869-D4AA-4C03-A96D-C7C4CB612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B5DE-DB26-41AD-B510-CC70338B0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0307-B643-4A99-92DB-F584E8FDA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BA2D-E511-43F4-85BB-E7DFACB06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5B3A-D9FF-4102-86E4-3E2D6DC9C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9455-B03D-4D08-B507-483AD5858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46"/>
          </p:nvPr>
        </p:nvSpPr>
        <p:spPr>
          <a:xfrm>
            <a:off x="7235640" y="6453360"/>
            <a:ext cx="143964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4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B6D9052-2A3B-408D-B16B-498B91702D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F929-90C6-40EF-993E-2EB27816C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E283-EFD4-43A4-A496-BE27E2E12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A56D-A101-46FB-BD06-EDD08DA44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B568-A33D-4223-9410-72F75E4AA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48BC-F555-422E-830F-FE484AB50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DC39-0A90-433F-AD6E-C8DE18299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D3FC-F26E-4BDE-ABC4-CEFCBE7F0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2767-1919-4966-BB2F-2594BA16A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位置的确定（十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Line 5"/>
          <p:cNvSpPr/>
          <p:nvPr/>
        </p:nvSpPr>
        <p:spPr>
          <a:xfrm>
            <a:off x="871560" y="5108400"/>
            <a:ext cx="287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"/>
          <p:cNvSpPr/>
          <p:nvPr/>
        </p:nvSpPr>
        <p:spPr>
          <a:xfrm>
            <a:off x="853920" y="5559480"/>
            <a:ext cx="2892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"/>
          <p:cNvSpPr/>
          <p:nvPr/>
        </p:nvSpPr>
        <p:spPr>
          <a:xfrm flipH="1">
            <a:off x="3713040" y="5573880"/>
            <a:ext cx="15840" cy="75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8"/>
          <p:cNvSpPr/>
          <p:nvPr/>
        </p:nvSpPr>
        <p:spPr>
          <a:xfrm flipV="1">
            <a:off x="3745080" y="1972800"/>
            <a:ext cx="14040" cy="314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9"/>
          <p:cNvSpPr/>
          <p:nvPr/>
        </p:nvSpPr>
        <p:spPr>
          <a:xfrm>
            <a:off x="4194000" y="351324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10"/>
          <p:cNvSpPr/>
          <p:nvPr/>
        </p:nvSpPr>
        <p:spPr>
          <a:xfrm>
            <a:off x="4194000" y="3164040"/>
            <a:ext cx="236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11"/>
          <p:cNvSpPr/>
          <p:nvPr/>
        </p:nvSpPr>
        <p:spPr>
          <a:xfrm>
            <a:off x="4179960" y="3513240"/>
            <a:ext cx="23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12"/>
          <p:cNvSpPr/>
          <p:nvPr/>
        </p:nvSpPr>
        <p:spPr>
          <a:xfrm flipV="1">
            <a:off x="4208400" y="3527280"/>
            <a:ext cx="2278080" cy="15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3"/>
          <p:cNvSpPr/>
          <p:nvPr/>
        </p:nvSpPr>
        <p:spPr>
          <a:xfrm flipH="1">
            <a:off x="4194000" y="5573880"/>
            <a:ext cx="14400" cy="725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14"/>
          <p:cNvSpPr/>
          <p:nvPr/>
        </p:nvSpPr>
        <p:spPr>
          <a:xfrm flipV="1">
            <a:off x="4208400" y="3963600"/>
            <a:ext cx="2381400" cy="1623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15"/>
          <p:cNvSpPr/>
          <p:nvPr/>
        </p:nvSpPr>
        <p:spPr>
          <a:xfrm>
            <a:off x="6545160" y="1262160"/>
            <a:ext cx="15840" cy="190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16"/>
          <p:cNvSpPr/>
          <p:nvPr/>
        </p:nvSpPr>
        <p:spPr>
          <a:xfrm flipH="1">
            <a:off x="6575400" y="3960720"/>
            <a:ext cx="14400" cy="2192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17"/>
          <p:cNvSpPr/>
          <p:nvPr/>
        </p:nvSpPr>
        <p:spPr>
          <a:xfrm>
            <a:off x="6997680" y="1260360"/>
            <a:ext cx="0" cy="185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8"/>
          <p:cNvSpPr/>
          <p:nvPr/>
        </p:nvSpPr>
        <p:spPr>
          <a:xfrm flipV="1">
            <a:off x="7012080" y="3104640"/>
            <a:ext cx="1800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19"/>
          <p:cNvSpPr/>
          <p:nvPr/>
        </p:nvSpPr>
        <p:spPr>
          <a:xfrm>
            <a:off x="7026120" y="351324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20"/>
          <p:cNvSpPr/>
          <p:nvPr/>
        </p:nvSpPr>
        <p:spPr>
          <a:xfrm>
            <a:off x="7012080" y="3498840"/>
            <a:ext cx="0" cy="265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21"/>
          <p:cNvSpPr/>
          <p:nvPr/>
        </p:nvSpPr>
        <p:spPr>
          <a:xfrm flipV="1">
            <a:off x="4195800" y="1973160"/>
            <a:ext cx="12600" cy="119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23"/>
          <p:cNvSpPr/>
          <p:nvPr/>
        </p:nvSpPr>
        <p:spPr>
          <a:xfrm>
            <a:off x="828720" y="4694400"/>
            <a:ext cx="1170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李伟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24"/>
          <p:cNvSpPr/>
          <p:nvPr/>
        </p:nvSpPr>
        <p:spPr>
          <a:xfrm>
            <a:off x="885960" y="4905360"/>
            <a:ext cx="160200" cy="189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27"/>
          <p:cNvSpPr/>
          <p:nvPr/>
        </p:nvSpPr>
        <p:spPr>
          <a:xfrm>
            <a:off x="2743200" y="4495680"/>
            <a:ext cx="93492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28"/>
          <p:cNvSpPr/>
          <p:nvPr/>
        </p:nvSpPr>
        <p:spPr>
          <a:xfrm rot="5400000">
            <a:off x="4581360" y="3130200"/>
            <a:ext cx="1523880" cy="2292480"/>
          </a:xfrm>
          <a:prstGeom prst="rtTriangle">
            <a:avLst/>
          </a:prstGeom>
          <a:solidFill>
            <a:srgbClr val="ffff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Arc 29"/>
          <p:cNvSpPr/>
          <p:nvPr/>
        </p:nvSpPr>
        <p:spPr>
          <a:xfrm flipH="1">
            <a:off x="4187160" y="4732200"/>
            <a:ext cx="228600" cy="203400"/>
          </a:xfrm>
          <a:custGeom>
            <a:avLst/>
            <a:gdLst>
              <a:gd name="textAreaLeft" fmla="*/ -360 w 228600"/>
              <a:gd name="textAreaRight" fmla="*/ 228600 w 22860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fill="none" w="25931" h="21600">
                <a:moveTo>
                  <a:pt x="0" y="17090"/>
                </a:moveTo>
                <a:cubicBezTo>
                  <a:pt x="2127" y="7123"/>
                  <a:pt x="10932" y="-1"/>
                  <a:pt x="21124" y="0"/>
                </a:cubicBezTo>
                <a:cubicBezTo>
                  <a:pt x="22741" y="0"/>
                  <a:pt x="24354" y="181"/>
                  <a:pt x="25931" y="541"/>
                </a:cubicBezTo>
              </a:path>
              <a:path stroke="0" w="25931" h="21600">
                <a:moveTo>
                  <a:pt x="0" y="17090"/>
                </a:moveTo>
                <a:cubicBezTo>
                  <a:pt x="2127" y="7123"/>
                  <a:pt x="10932" y="-1"/>
                  <a:pt x="21124" y="0"/>
                </a:cubicBezTo>
                <a:cubicBezTo>
                  <a:pt x="22741" y="0"/>
                  <a:pt x="24354" y="181"/>
                  <a:pt x="25931" y="541"/>
                </a:cubicBezTo>
                <a:lnTo>
                  <a:pt x="21124" y="21600"/>
                </a:lnTo>
                <a:lnTo>
                  <a:pt x="0" y="1709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30"/>
          <p:cNvSpPr/>
          <p:nvPr/>
        </p:nvSpPr>
        <p:spPr>
          <a:xfrm>
            <a:off x="4485960" y="3733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街心花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32"/>
          <p:cNvSpPr/>
          <p:nvPr/>
        </p:nvSpPr>
        <p:spPr>
          <a:xfrm>
            <a:off x="4211280" y="44197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宋体"/>
              </a:rPr>
              <a:t>6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4"/>
          <p:cNvSpPr/>
          <p:nvPr/>
        </p:nvSpPr>
        <p:spPr>
          <a:xfrm>
            <a:off x="5479200" y="2590920"/>
            <a:ext cx="8208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敬老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35"/>
          <p:cNvSpPr/>
          <p:nvPr/>
        </p:nvSpPr>
        <p:spPr>
          <a:xfrm>
            <a:off x="7179120" y="3510000"/>
            <a:ext cx="607320" cy="5205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36"/>
          <p:cNvSpPr/>
          <p:nvPr/>
        </p:nvSpPr>
        <p:spPr>
          <a:xfrm>
            <a:off x="857160" y="5327640"/>
            <a:ext cx="8557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37"/>
          <p:cNvSpPr/>
          <p:nvPr/>
        </p:nvSpPr>
        <p:spPr>
          <a:xfrm flipV="1">
            <a:off x="4224240" y="4905000"/>
            <a:ext cx="609840" cy="3920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38"/>
          <p:cNvSpPr/>
          <p:nvPr/>
        </p:nvSpPr>
        <p:spPr>
          <a:xfrm flipV="1">
            <a:off x="6778800" y="2206800"/>
            <a:ext cx="0" cy="900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rc 39"/>
          <p:cNvSpPr/>
          <p:nvPr/>
        </p:nvSpPr>
        <p:spPr>
          <a:xfrm flipH="1" flipV="1">
            <a:off x="6322320" y="4130640"/>
            <a:ext cx="500040" cy="177840"/>
          </a:xfrm>
          <a:custGeom>
            <a:avLst/>
            <a:gdLst>
              <a:gd name="textAreaLeft" fmla="*/ -360 w 500040"/>
              <a:gd name="textAreaRight" fmla="*/ 500040 w 50004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fill="none" w="21155" h="19658">
                <a:moveTo>
                  <a:pt x="8950" y="-1"/>
                </a:moveTo>
                <a:cubicBezTo>
                  <a:pt x="15227" y="2857"/>
                  <a:pt x="19762" y="8541"/>
                  <a:pt x="21154" y="15296"/>
                </a:cubicBezTo>
              </a:path>
              <a:path stroke="0" w="21155" h="19658">
                <a:moveTo>
                  <a:pt x="8950" y="-1"/>
                </a:moveTo>
                <a:cubicBezTo>
                  <a:pt x="15227" y="2857"/>
                  <a:pt x="19762" y="8541"/>
                  <a:pt x="21154" y="15296"/>
                </a:cubicBezTo>
                <a:lnTo>
                  <a:pt x="0" y="19658"/>
                </a:lnTo>
                <a:lnTo>
                  <a:pt x="8950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0"/>
          <p:cNvSpPr/>
          <p:nvPr/>
        </p:nvSpPr>
        <p:spPr>
          <a:xfrm>
            <a:off x="1972440" y="552780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41"/>
          <p:cNvSpPr/>
          <p:nvPr/>
        </p:nvSpPr>
        <p:spPr>
          <a:xfrm>
            <a:off x="5010120" y="4829040"/>
            <a:ext cx="96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2"/>
          <p:cNvSpPr/>
          <p:nvPr/>
        </p:nvSpPr>
        <p:spPr>
          <a:xfrm>
            <a:off x="6920280" y="1890360"/>
            <a:ext cx="485280" cy="7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3"/>
          <p:cNvSpPr/>
          <p:nvPr/>
        </p:nvSpPr>
        <p:spPr>
          <a:xfrm>
            <a:off x="6503400" y="696960"/>
            <a:ext cx="1034280" cy="5205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港小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45"/>
          <p:cNvSpPr/>
          <p:nvPr/>
        </p:nvSpPr>
        <p:spPr>
          <a:xfrm>
            <a:off x="6076440" y="4232160"/>
            <a:ext cx="6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宋体"/>
              </a:rPr>
              <a:t>60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46"/>
          <p:cNvSpPr/>
          <p:nvPr/>
        </p:nvSpPr>
        <p:spPr>
          <a:xfrm>
            <a:off x="2639880" y="77940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说说李伟从家到大港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学行走的方向和路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47" descr="shg"/>
          <p:cNvPicPr/>
          <p:nvPr/>
        </p:nvPicPr>
        <p:blipFill>
          <a:blip r:embed="rId1"/>
          <a:stretch/>
        </p:blipFill>
        <p:spPr>
          <a:xfrm>
            <a:off x="100080" y="488880"/>
            <a:ext cx="1654200" cy="1552680"/>
          </a:xfrm>
          <a:prstGeom prst="rect">
            <a:avLst/>
          </a:prstGeom>
          <a:ln w="0">
            <a:noFill/>
          </a:ln>
        </p:spPr>
      </p:pic>
      <p:sp>
        <p:nvSpPr>
          <p:cNvPr id="904" name="Line 48"/>
          <p:cNvSpPr/>
          <p:nvPr/>
        </p:nvSpPr>
        <p:spPr>
          <a:xfrm>
            <a:off x="853920" y="5559480"/>
            <a:ext cx="2892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4"/>
          <p:cNvSpPr/>
          <p:nvPr/>
        </p:nvSpPr>
        <p:spPr>
          <a:xfrm>
            <a:off x="468360" y="1047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腰梯形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上底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下底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底角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45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建立适当的直角坐标系，求各顶点的坐标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Group 10"/>
          <p:cNvGrpSpPr/>
          <p:nvPr/>
        </p:nvGrpSpPr>
        <p:grpSpPr>
          <a:xfrm>
            <a:off x="5437080" y="2924280"/>
            <a:ext cx="2880000" cy="1008000"/>
            <a:chOff x="5437080" y="2924280"/>
            <a:chExt cx="2880000" cy="1008000"/>
          </a:xfrm>
        </p:grpSpPr>
        <p:sp>
          <p:nvSpPr>
            <p:cNvPr id="908" name="Line 5"/>
            <p:cNvSpPr/>
            <p:nvPr/>
          </p:nvSpPr>
          <p:spPr>
            <a:xfrm>
              <a:off x="5437080" y="3932280"/>
              <a:ext cx="288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6"/>
            <p:cNvSpPr/>
            <p:nvPr/>
          </p:nvSpPr>
          <p:spPr>
            <a:xfrm>
              <a:off x="6085080" y="2924280"/>
              <a:ext cx="143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Line 7"/>
            <p:cNvSpPr/>
            <p:nvPr/>
          </p:nvSpPr>
          <p:spPr>
            <a:xfrm flipH="1">
              <a:off x="5437080" y="2924280"/>
              <a:ext cx="648000" cy="10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9"/>
            <p:cNvSpPr/>
            <p:nvPr/>
          </p:nvSpPr>
          <p:spPr>
            <a:xfrm>
              <a:off x="7524720" y="2924280"/>
              <a:ext cx="792360" cy="10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Text Box 11"/>
          <p:cNvSpPr/>
          <p:nvPr/>
        </p:nvSpPr>
        <p:spPr>
          <a:xfrm>
            <a:off x="5364000" y="242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2"/>
          <p:cNvSpPr/>
          <p:nvPr/>
        </p:nvSpPr>
        <p:spPr>
          <a:xfrm>
            <a:off x="4932360" y="3629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3"/>
          <p:cNvSpPr/>
          <p:nvPr/>
        </p:nvSpPr>
        <p:spPr>
          <a:xfrm>
            <a:off x="7597800" y="2405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4"/>
          <p:cNvSpPr/>
          <p:nvPr/>
        </p:nvSpPr>
        <p:spPr>
          <a:xfrm>
            <a:off x="8532720" y="342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5"/>
          <p:cNvSpPr/>
          <p:nvPr/>
        </p:nvSpPr>
        <p:spPr>
          <a:xfrm>
            <a:off x="5437080" y="3932280"/>
            <a:ext cx="3384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6"/>
          <p:cNvSpPr/>
          <p:nvPr/>
        </p:nvSpPr>
        <p:spPr>
          <a:xfrm flipV="1">
            <a:off x="5437080" y="1773000"/>
            <a:ext cx="0" cy="2158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7"/>
          <p:cNvSpPr/>
          <p:nvPr/>
        </p:nvSpPr>
        <p:spPr>
          <a:xfrm flipH="1">
            <a:off x="5436720" y="2924280"/>
            <a:ext cx="64764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8"/>
          <p:cNvSpPr/>
          <p:nvPr/>
        </p:nvSpPr>
        <p:spPr>
          <a:xfrm>
            <a:off x="8101080" y="3860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9"/>
          <p:cNvSpPr/>
          <p:nvPr/>
        </p:nvSpPr>
        <p:spPr>
          <a:xfrm>
            <a:off x="5076720" y="263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20"/>
          <p:cNvSpPr/>
          <p:nvPr/>
        </p:nvSpPr>
        <p:spPr>
          <a:xfrm>
            <a:off x="108000" y="2133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21"/>
          <p:cNvSpPr/>
          <p:nvPr/>
        </p:nvSpPr>
        <p:spPr>
          <a:xfrm>
            <a:off x="539640" y="458460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22"/>
          <p:cNvSpPr/>
          <p:nvPr/>
        </p:nvSpPr>
        <p:spPr>
          <a:xfrm>
            <a:off x="5076720" y="38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23"/>
          <p:cNvSpPr/>
          <p:nvPr/>
        </p:nvSpPr>
        <p:spPr>
          <a:xfrm>
            <a:off x="6084720" y="2924280"/>
            <a:ext cx="0" cy="100800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24"/>
          <p:cNvSpPr/>
          <p:nvPr/>
        </p:nvSpPr>
        <p:spPr>
          <a:xfrm>
            <a:off x="5869080" y="3860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25"/>
          <p:cNvSpPr/>
          <p:nvPr/>
        </p:nvSpPr>
        <p:spPr>
          <a:xfrm>
            <a:off x="7308720" y="38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26"/>
          <p:cNvSpPr/>
          <p:nvPr/>
        </p:nvSpPr>
        <p:spPr>
          <a:xfrm>
            <a:off x="7524720" y="2924280"/>
            <a:ext cx="0" cy="100800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7"/>
          <p:cNvSpPr/>
          <p:nvPr/>
        </p:nvSpPr>
        <p:spPr>
          <a:xfrm>
            <a:off x="2409840" y="4584600"/>
            <a:ext cx="180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28"/>
          <p:cNvSpPr/>
          <p:nvPr/>
        </p:nvSpPr>
        <p:spPr>
          <a:xfrm>
            <a:off x="4284720" y="458136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29"/>
          <p:cNvSpPr/>
          <p:nvPr/>
        </p:nvSpPr>
        <p:spPr>
          <a:xfrm>
            <a:off x="6156360" y="45846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30"/>
          <p:cNvSpPr/>
          <p:nvPr/>
        </p:nvSpPr>
        <p:spPr>
          <a:xfrm>
            <a:off x="289080" y="278136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立直角坐标系如图所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31"/>
          <p:cNvSpPr/>
          <p:nvPr/>
        </p:nvSpPr>
        <p:spPr>
          <a:xfrm>
            <a:off x="395280" y="3716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顶点坐标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32"/>
          <p:cNvSpPr/>
          <p:nvPr/>
        </p:nvSpPr>
        <p:spPr>
          <a:xfrm>
            <a:off x="179280" y="5516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各顶点坐标分别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，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，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33"/>
          <p:cNvSpPr/>
          <p:nvPr/>
        </p:nvSpPr>
        <p:spPr>
          <a:xfrm>
            <a:off x="5435640" y="2924280"/>
            <a:ext cx="208908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34"/>
          <p:cNvSpPr/>
          <p:nvPr/>
        </p:nvSpPr>
        <p:spPr>
          <a:xfrm>
            <a:off x="5364000" y="386064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35"/>
          <p:cNvSpPr/>
          <p:nvPr/>
        </p:nvSpPr>
        <p:spPr>
          <a:xfrm>
            <a:off x="824400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24"/>
          <p:cNvSpPr/>
          <p:nvPr/>
        </p:nvSpPr>
        <p:spPr>
          <a:xfrm>
            <a:off x="5068800" y="32148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24"/>
          <p:cNvSpPr/>
          <p:nvPr/>
        </p:nvSpPr>
        <p:spPr>
          <a:xfrm>
            <a:off x="6572160" y="38577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Line 10"/>
          <p:cNvSpPr/>
          <p:nvPr/>
        </p:nvSpPr>
        <p:spPr>
          <a:xfrm>
            <a:off x="915840" y="4260960"/>
            <a:ext cx="7053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1"/>
          <p:cNvSpPr/>
          <p:nvPr/>
        </p:nvSpPr>
        <p:spPr>
          <a:xfrm flipH="1" flipV="1">
            <a:off x="4441680" y="1935000"/>
            <a:ext cx="14400" cy="4181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12"/>
          <p:cNvSpPr/>
          <p:nvPr/>
        </p:nvSpPr>
        <p:spPr>
          <a:xfrm>
            <a:off x="4458960" y="419904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3"/>
          <p:cNvSpPr/>
          <p:nvPr/>
        </p:nvSpPr>
        <p:spPr>
          <a:xfrm flipV="1">
            <a:off x="4441680" y="3257640"/>
            <a:ext cx="2961000" cy="985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"/>
          <p:cNvSpPr/>
          <p:nvPr/>
        </p:nvSpPr>
        <p:spPr>
          <a:xfrm flipH="1" flipV="1">
            <a:off x="1784160" y="3633480"/>
            <a:ext cx="2655720" cy="609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5"/>
          <p:cNvSpPr/>
          <p:nvPr/>
        </p:nvSpPr>
        <p:spPr>
          <a:xfrm>
            <a:off x="4456080" y="4259160"/>
            <a:ext cx="247680" cy="1204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Picture 16" descr="图片8"/>
          <p:cNvPicPr/>
          <p:nvPr/>
        </p:nvPicPr>
        <p:blipFill>
          <a:blip r:embed="rId1"/>
          <a:stretch/>
        </p:blipFill>
        <p:spPr>
          <a:xfrm>
            <a:off x="3800520" y="723960"/>
            <a:ext cx="1287360" cy="13064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7" descr="图片9"/>
          <p:cNvPicPr/>
          <p:nvPr/>
        </p:nvPicPr>
        <p:blipFill>
          <a:blip r:embed="rId2"/>
          <a:stretch/>
        </p:blipFill>
        <p:spPr>
          <a:xfrm>
            <a:off x="358920" y="1954080"/>
            <a:ext cx="1557360" cy="220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8" descr="图片7"/>
          <p:cNvPicPr/>
          <p:nvPr/>
        </p:nvPicPr>
        <p:blipFill>
          <a:blip r:embed="rId3"/>
          <a:stretch/>
        </p:blipFill>
        <p:spPr>
          <a:xfrm>
            <a:off x="6888240" y="2017800"/>
            <a:ext cx="1728720" cy="1942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9" descr="图片6"/>
          <p:cNvPicPr/>
          <p:nvPr/>
        </p:nvPicPr>
        <p:blipFill>
          <a:blip r:embed="rId4"/>
          <a:stretch/>
        </p:blipFill>
        <p:spPr>
          <a:xfrm>
            <a:off x="4324320" y="4657680"/>
            <a:ext cx="1716120" cy="1955880"/>
          </a:xfrm>
          <a:prstGeom prst="rect">
            <a:avLst/>
          </a:prstGeom>
          <a:ln w="0">
            <a:noFill/>
          </a:ln>
        </p:spPr>
      </p:pic>
      <p:sp>
        <p:nvSpPr>
          <p:cNvPr id="949" name="Text Box 20"/>
          <p:cNvSpPr/>
          <p:nvPr/>
        </p:nvSpPr>
        <p:spPr>
          <a:xfrm>
            <a:off x="4502520" y="19162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rc 21"/>
          <p:cNvSpPr/>
          <p:nvPr/>
        </p:nvSpPr>
        <p:spPr>
          <a:xfrm rot="1935600">
            <a:off x="4901760" y="3908160"/>
            <a:ext cx="563760" cy="890640"/>
          </a:xfrm>
          <a:custGeom>
            <a:avLst/>
            <a:gdLst>
              <a:gd name="textAreaLeft" fmla="*/ 0 w 563760"/>
              <a:gd name="textAreaRight" fmla="*/ 564120 w 56376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fill="none" w="12815" h="21057">
                <a:moveTo>
                  <a:pt x="4812" y="0"/>
                </a:moveTo>
                <a:cubicBezTo>
                  <a:pt x="7703" y="660"/>
                  <a:pt x="10427" y="1909"/>
                  <a:pt x="12814" y="3669"/>
                </a:cubicBezTo>
              </a:path>
              <a:path stroke="0" w="12815" h="21057">
                <a:moveTo>
                  <a:pt x="4812" y="0"/>
                </a:moveTo>
                <a:cubicBezTo>
                  <a:pt x="7703" y="660"/>
                  <a:pt x="10427" y="1909"/>
                  <a:pt x="12814" y="3669"/>
                </a:cubicBezTo>
                <a:lnTo>
                  <a:pt x="0" y="21057"/>
                </a:lnTo>
                <a:lnTo>
                  <a:pt x="4812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Arc 22"/>
          <p:cNvSpPr/>
          <p:nvPr/>
        </p:nvSpPr>
        <p:spPr>
          <a:xfrm>
            <a:off x="3033720" y="4576680"/>
            <a:ext cx="1531800" cy="354240"/>
          </a:xfrm>
          <a:custGeom>
            <a:avLst/>
            <a:gdLst>
              <a:gd name="textAreaLeft" fmla="*/ 0 w 1531800"/>
              <a:gd name="textAreaRight" fmla="*/ 1532160 w 1531800"/>
              <a:gd name="textAreaTop" fmla="*/ 0 h 354240"/>
              <a:gd name="textAreaBottom" fmla="*/ 354600 h 354240"/>
            </a:gdLst>
            <a:ahLst/>
            <a:rect l="textAreaLeft" t="textAreaTop" r="textAreaRight" b="textAreaBottom"/>
            <a:pathLst>
              <a:path fill="none" w="20688" h="10001">
                <a:moveTo>
                  <a:pt x="20688" y="6209"/>
                </a:moveTo>
                <a:cubicBezTo>
                  <a:pt x="20295" y="7519"/>
                  <a:pt x="19778" y="8788"/>
                  <a:pt x="19145" y="10001"/>
                </a:cubicBezTo>
              </a:path>
              <a:path stroke="0" w="20688" h="10001">
                <a:moveTo>
                  <a:pt x="20688" y="6209"/>
                </a:moveTo>
                <a:cubicBezTo>
                  <a:pt x="20295" y="7519"/>
                  <a:pt x="19778" y="8788"/>
                  <a:pt x="19145" y="10001"/>
                </a:cubicBezTo>
                <a:lnTo>
                  <a:pt x="0" y="0"/>
                </a:lnTo>
                <a:lnTo>
                  <a:pt x="20688" y="6209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Arc 23"/>
          <p:cNvSpPr/>
          <p:nvPr/>
        </p:nvSpPr>
        <p:spPr>
          <a:xfrm rot="2101800">
            <a:off x="3403080" y="4075200"/>
            <a:ext cx="668520" cy="336600"/>
          </a:xfrm>
          <a:custGeom>
            <a:avLst/>
            <a:gdLst>
              <a:gd name="textAreaLeft" fmla="*/ 0 w 668520"/>
              <a:gd name="textAreaRight" fmla="*/ 668520 w 66852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fill="none" w="21106" h="12241">
                <a:moveTo>
                  <a:pt x="3309" y="12241"/>
                </a:moveTo>
                <a:cubicBezTo>
                  <a:pt x="1720" y="9931"/>
                  <a:pt x="596" y="7333"/>
                  <a:pt x="0" y="4593"/>
                </a:cubicBezTo>
              </a:path>
              <a:path stroke="0" w="21106" h="12241">
                <a:moveTo>
                  <a:pt x="3309" y="12241"/>
                </a:moveTo>
                <a:cubicBezTo>
                  <a:pt x="1720" y="9931"/>
                  <a:pt x="596" y="7333"/>
                  <a:pt x="0" y="4593"/>
                </a:cubicBezTo>
                <a:lnTo>
                  <a:pt x="21106" y="0"/>
                </a:lnTo>
                <a:lnTo>
                  <a:pt x="3309" y="1224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25"/>
          <p:cNvSpPr/>
          <p:nvPr/>
        </p:nvSpPr>
        <p:spPr>
          <a:xfrm>
            <a:off x="4305240" y="49291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15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27"/>
          <p:cNvSpPr/>
          <p:nvPr/>
        </p:nvSpPr>
        <p:spPr>
          <a:xfrm>
            <a:off x="2710080" y="38545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20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29"/>
          <p:cNvSpPr/>
          <p:nvPr/>
        </p:nvSpPr>
        <p:spPr>
          <a:xfrm>
            <a:off x="5481720" y="38815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30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30"/>
          <p:cNvSpPr/>
          <p:nvPr/>
        </p:nvSpPr>
        <p:spPr>
          <a:xfrm>
            <a:off x="1166760" y="733320"/>
            <a:ext cx="691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说说你进了大门到各       个动物的家应怎样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5"/>
          <p:cNvGrpSpPr/>
          <p:nvPr/>
        </p:nvGrpSpPr>
        <p:grpSpPr>
          <a:xfrm>
            <a:off x="4375440" y="2115000"/>
            <a:ext cx="1451520" cy="1439280"/>
            <a:chOff x="4375440" y="2115000"/>
            <a:chExt cx="1451520" cy="1439280"/>
          </a:xfrm>
        </p:grpSpPr>
        <p:grpSp>
          <p:nvGrpSpPr>
            <p:cNvPr id="657" name="Group 6"/>
            <p:cNvGrpSpPr/>
            <p:nvPr/>
          </p:nvGrpSpPr>
          <p:grpSpPr>
            <a:xfrm>
              <a:off x="4375440" y="2115000"/>
              <a:ext cx="1450800" cy="1431720"/>
              <a:chOff x="4375440" y="2115000"/>
              <a:chExt cx="1450800" cy="1431720"/>
            </a:xfrm>
          </p:grpSpPr>
          <p:sp>
            <p:nvSpPr>
              <p:cNvPr id="658" name="Line 7"/>
              <p:cNvSpPr/>
              <p:nvPr/>
            </p:nvSpPr>
            <p:spPr>
              <a:xfrm flipH="1">
                <a:off x="4375440" y="2115000"/>
                <a:ext cx="1450800" cy="14317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8"/>
              <p:cNvSpPr/>
              <p:nvPr/>
            </p:nvSpPr>
            <p:spPr>
              <a:xfrm flipH="1">
                <a:off x="4664880" y="2121120"/>
                <a:ext cx="1155240" cy="13561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9"/>
              <p:cNvSpPr/>
              <p:nvPr/>
            </p:nvSpPr>
            <p:spPr>
              <a:xfrm flipH="1">
                <a:off x="4387320" y="3471120"/>
                <a:ext cx="272880" cy="745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Group 10"/>
            <p:cNvGrpSpPr/>
            <p:nvPr/>
          </p:nvGrpSpPr>
          <p:grpSpPr>
            <a:xfrm>
              <a:off x="4383360" y="2129400"/>
              <a:ext cx="1443600" cy="1424880"/>
              <a:chOff x="4383360" y="2129400"/>
              <a:chExt cx="1443600" cy="1424880"/>
            </a:xfrm>
          </p:grpSpPr>
          <p:sp>
            <p:nvSpPr>
              <p:cNvPr id="662" name="Line 11"/>
              <p:cNvSpPr/>
              <p:nvPr/>
            </p:nvSpPr>
            <p:spPr>
              <a:xfrm flipH="1">
                <a:off x="4383360" y="2129400"/>
                <a:ext cx="1443600" cy="14248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12"/>
              <p:cNvSpPr/>
              <p:nvPr/>
            </p:nvSpPr>
            <p:spPr>
              <a:xfrm flipH="1">
                <a:off x="4434840" y="2135520"/>
                <a:ext cx="1386000" cy="11095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13"/>
              <p:cNvSpPr/>
              <p:nvPr/>
            </p:nvSpPr>
            <p:spPr>
              <a:xfrm flipH="1">
                <a:off x="4383360" y="3250800"/>
                <a:ext cx="58320" cy="29016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5" name="Group 14"/>
          <p:cNvGrpSpPr/>
          <p:nvPr/>
        </p:nvGrpSpPr>
        <p:grpSpPr>
          <a:xfrm>
            <a:off x="4368240" y="3516120"/>
            <a:ext cx="1499760" cy="1396080"/>
            <a:chOff x="4368240" y="3516120"/>
            <a:chExt cx="1499760" cy="1396080"/>
          </a:xfrm>
        </p:grpSpPr>
        <p:grpSp>
          <p:nvGrpSpPr>
            <p:cNvPr id="666" name="Group 15"/>
            <p:cNvGrpSpPr/>
            <p:nvPr/>
          </p:nvGrpSpPr>
          <p:grpSpPr>
            <a:xfrm>
              <a:off x="4375440" y="3516120"/>
              <a:ext cx="1492560" cy="1395000"/>
              <a:chOff x="4375440" y="3516120"/>
              <a:chExt cx="1492560" cy="1395000"/>
            </a:xfrm>
          </p:grpSpPr>
          <p:sp>
            <p:nvSpPr>
              <p:cNvPr id="667" name="Line 16"/>
              <p:cNvSpPr/>
              <p:nvPr/>
            </p:nvSpPr>
            <p:spPr>
              <a:xfrm flipH="1" flipV="1">
                <a:off x="4375440" y="3516120"/>
                <a:ext cx="1492560" cy="1395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17"/>
              <p:cNvSpPr/>
              <p:nvPr/>
            </p:nvSpPr>
            <p:spPr>
              <a:xfrm flipH="1" flipV="1">
                <a:off x="4457160" y="3803040"/>
                <a:ext cx="1404720" cy="11023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18"/>
              <p:cNvSpPr/>
              <p:nvPr/>
            </p:nvSpPr>
            <p:spPr>
              <a:xfrm flipH="1" flipV="1">
                <a:off x="4376880" y="3528000"/>
                <a:ext cx="86040" cy="270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9"/>
            <p:cNvGrpSpPr/>
            <p:nvPr/>
          </p:nvGrpSpPr>
          <p:grpSpPr>
            <a:xfrm>
              <a:off x="4368240" y="3524040"/>
              <a:ext cx="1485360" cy="1388160"/>
              <a:chOff x="4368240" y="3524040"/>
              <a:chExt cx="1485360" cy="1388160"/>
            </a:xfrm>
          </p:grpSpPr>
          <p:sp>
            <p:nvSpPr>
              <p:cNvPr id="671" name="Line 20"/>
              <p:cNvSpPr/>
              <p:nvPr/>
            </p:nvSpPr>
            <p:spPr>
              <a:xfrm flipH="1" flipV="1">
                <a:off x="4368240" y="3524400"/>
                <a:ext cx="1485360" cy="13878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21"/>
              <p:cNvSpPr/>
              <p:nvPr/>
            </p:nvSpPr>
            <p:spPr>
              <a:xfrm flipH="1" flipV="1">
                <a:off x="4679640" y="3563640"/>
                <a:ext cx="1167480" cy="13428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22"/>
              <p:cNvSpPr/>
              <p:nvPr/>
            </p:nvSpPr>
            <p:spPr>
              <a:xfrm flipH="1" flipV="1">
                <a:off x="4381560" y="3524040"/>
                <a:ext cx="292680" cy="468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Group 23"/>
          <p:cNvGrpSpPr/>
          <p:nvPr/>
        </p:nvGrpSpPr>
        <p:grpSpPr>
          <a:xfrm>
            <a:off x="2928960" y="2104560"/>
            <a:ext cx="1400760" cy="1394280"/>
            <a:chOff x="2928960" y="2104560"/>
            <a:chExt cx="1400760" cy="1394280"/>
          </a:xfrm>
        </p:grpSpPr>
        <p:grpSp>
          <p:nvGrpSpPr>
            <p:cNvPr id="675" name="Group 24"/>
            <p:cNvGrpSpPr/>
            <p:nvPr/>
          </p:nvGrpSpPr>
          <p:grpSpPr>
            <a:xfrm>
              <a:off x="2928960" y="2105640"/>
              <a:ext cx="1393200" cy="1393200"/>
              <a:chOff x="2928960" y="2105640"/>
              <a:chExt cx="1393200" cy="1393200"/>
            </a:xfrm>
          </p:grpSpPr>
          <p:sp>
            <p:nvSpPr>
              <p:cNvPr id="676" name="Line 25"/>
              <p:cNvSpPr/>
              <p:nvPr/>
            </p:nvSpPr>
            <p:spPr>
              <a:xfrm>
                <a:off x="2928960" y="2105640"/>
                <a:ext cx="1393200" cy="13932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26"/>
              <p:cNvSpPr/>
              <p:nvPr/>
            </p:nvSpPr>
            <p:spPr>
              <a:xfrm>
                <a:off x="2935080" y="2111760"/>
                <a:ext cx="1325520" cy="10998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27"/>
              <p:cNvSpPr/>
              <p:nvPr/>
            </p:nvSpPr>
            <p:spPr>
              <a:xfrm>
                <a:off x="4254480" y="3216600"/>
                <a:ext cx="66960" cy="270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9" name="Group 28"/>
            <p:cNvGrpSpPr/>
            <p:nvPr/>
          </p:nvGrpSpPr>
          <p:grpSpPr>
            <a:xfrm>
              <a:off x="2943720" y="2104560"/>
              <a:ext cx="1386000" cy="1386720"/>
              <a:chOff x="2943720" y="2104560"/>
              <a:chExt cx="1386000" cy="1386720"/>
            </a:xfrm>
          </p:grpSpPr>
          <p:sp>
            <p:nvSpPr>
              <p:cNvPr id="680" name="Line 29"/>
              <p:cNvSpPr/>
              <p:nvPr/>
            </p:nvSpPr>
            <p:spPr>
              <a:xfrm>
                <a:off x="2943720" y="2104560"/>
                <a:ext cx="1386000" cy="1386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Line 30"/>
              <p:cNvSpPr/>
              <p:nvPr/>
            </p:nvSpPr>
            <p:spPr>
              <a:xfrm>
                <a:off x="2949480" y="2110320"/>
                <a:ext cx="1072080" cy="134136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31"/>
              <p:cNvSpPr/>
              <p:nvPr/>
            </p:nvSpPr>
            <p:spPr>
              <a:xfrm>
                <a:off x="4027680" y="3444840"/>
                <a:ext cx="289080" cy="464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Group 32"/>
          <p:cNvGrpSpPr/>
          <p:nvPr/>
        </p:nvGrpSpPr>
        <p:grpSpPr>
          <a:xfrm>
            <a:off x="2885040" y="3498480"/>
            <a:ext cx="1477800" cy="1411560"/>
            <a:chOff x="2885040" y="3498480"/>
            <a:chExt cx="1477800" cy="1411560"/>
          </a:xfrm>
        </p:grpSpPr>
        <p:grpSp>
          <p:nvGrpSpPr>
            <p:cNvPr id="684" name="Group 33"/>
            <p:cNvGrpSpPr/>
            <p:nvPr/>
          </p:nvGrpSpPr>
          <p:grpSpPr>
            <a:xfrm>
              <a:off x="2885400" y="3506040"/>
              <a:ext cx="1477440" cy="1404000"/>
              <a:chOff x="2885400" y="3506040"/>
              <a:chExt cx="1477440" cy="1404000"/>
            </a:xfrm>
          </p:grpSpPr>
          <p:sp>
            <p:nvSpPr>
              <p:cNvPr id="685" name="Line 34"/>
              <p:cNvSpPr/>
              <p:nvPr/>
            </p:nvSpPr>
            <p:spPr>
              <a:xfrm flipV="1">
                <a:off x="2885400" y="3506040"/>
                <a:ext cx="1477440" cy="1404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35"/>
              <p:cNvSpPr/>
              <p:nvPr/>
            </p:nvSpPr>
            <p:spPr>
              <a:xfrm flipV="1">
                <a:off x="2891520" y="3570120"/>
                <a:ext cx="1180800" cy="133416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36"/>
              <p:cNvSpPr/>
              <p:nvPr/>
            </p:nvSpPr>
            <p:spPr>
              <a:xfrm flipV="1">
                <a:off x="4076640" y="3507120"/>
                <a:ext cx="274320" cy="691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Group 37"/>
            <p:cNvGrpSpPr/>
            <p:nvPr/>
          </p:nvGrpSpPr>
          <p:grpSpPr>
            <a:xfrm>
              <a:off x="2885040" y="3498480"/>
              <a:ext cx="1470240" cy="1397160"/>
              <a:chOff x="2885040" y="3498480"/>
              <a:chExt cx="1470240" cy="1397160"/>
            </a:xfrm>
          </p:grpSpPr>
          <p:sp>
            <p:nvSpPr>
              <p:cNvPr id="689" name="Line 38"/>
              <p:cNvSpPr/>
              <p:nvPr/>
            </p:nvSpPr>
            <p:spPr>
              <a:xfrm flipV="1">
                <a:off x="2885040" y="3498480"/>
                <a:ext cx="1470240" cy="139716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39"/>
              <p:cNvSpPr/>
              <p:nvPr/>
            </p:nvSpPr>
            <p:spPr>
              <a:xfrm flipV="1">
                <a:off x="2891160" y="3806640"/>
                <a:ext cx="1406880" cy="10828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40"/>
              <p:cNvSpPr/>
              <p:nvPr/>
            </p:nvSpPr>
            <p:spPr>
              <a:xfrm flipV="1">
                <a:off x="4291200" y="3511800"/>
                <a:ext cx="63720" cy="2887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2" name="Text Box 41"/>
          <p:cNvSpPr/>
          <p:nvPr/>
        </p:nvSpPr>
        <p:spPr>
          <a:xfrm>
            <a:off x="4106880" y="1073160"/>
            <a:ext cx="5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  <a:ea typeface="宋体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4190760" y="5423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  <a:ea typeface="宋体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3"/>
          <p:cNvSpPr/>
          <p:nvPr/>
        </p:nvSpPr>
        <p:spPr>
          <a:xfrm>
            <a:off x="1852200" y="3216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  <a:ea typeface="宋体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4"/>
          <p:cNvSpPr/>
          <p:nvPr/>
        </p:nvSpPr>
        <p:spPr>
          <a:xfrm>
            <a:off x="6495480" y="3244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  <a:ea typeface="宋体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5"/>
          <p:cNvSpPr/>
          <p:nvPr/>
        </p:nvSpPr>
        <p:spPr>
          <a:xfrm>
            <a:off x="6703920" y="4354560"/>
            <a:ext cx="11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  <a:ea typeface="宋体"/>
              </a:rPr>
              <a:t>上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6"/>
          <p:cNvSpPr/>
          <p:nvPr/>
        </p:nvSpPr>
        <p:spPr>
          <a:xfrm>
            <a:off x="7727040" y="4340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  <a:ea typeface="宋体"/>
              </a:rPr>
              <a:t>下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7"/>
          <p:cNvSpPr/>
          <p:nvPr/>
        </p:nvSpPr>
        <p:spPr>
          <a:xfrm>
            <a:off x="6942600" y="4933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  <a:ea typeface="宋体"/>
              </a:rPr>
              <a:t>左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8"/>
          <p:cNvSpPr/>
          <p:nvPr/>
        </p:nvSpPr>
        <p:spPr>
          <a:xfrm>
            <a:off x="7771320" y="4919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  <a:ea typeface="宋体"/>
              </a:rPr>
              <a:t>右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9"/>
          <p:cNvSpPr/>
          <p:nvPr/>
        </p:nvSpPr>
        <p:spPr>
          <a:xfrm>
            <a:off x="5661000" y="1697040"/>
            <a:ext cx="10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宋体"/>
                <a:ea typeface="宋体"/>
              </a:rPr>
              <a:t>东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0"/>
          <p:cNvSpPr/>
          <p:nvPr/>
        </p:nvSpPr>
        <p:spPr>
          <a:xfrm>
            <a:off x="2003400" y="170028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宋体"/>
                <a:ea typeface="宋体"/>
              </a:rPr>
              <a:t>西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1"/>
          <p:cNvSpPr/>
          <p:nvPr/>
        </p:nvSpPr>
        <p:spPr>
          <a:xfrm>
            <a:off x="2104920" y="4745160"/>
            <a:ext cx="9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宋体"/>
                <a:ea typeface="宋体"/>
              </a:rPr>
              <a:t>西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2"/>
          <p:cNvSpPr/>
          <p:nvPr/>
        </p:nvSpPr>
        <p:spPr>
          <a:xfrm>
            <a:off x="5500800" y="4757760"/>
            <a:ext cx="12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宋体"/>
                <a:ea typeface="宋体"/>
              </a:rPr>
              <a:t>东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53"/>
          <p:cNvGrpSpPr/>
          <p:nvPr/>
        </p:nvGrpSpPr>
        <p:grpSpPr>
          <a:xfrm>
            <a:off x="2317680" y="1582560"/>
            <a:ext cx="4075200" cy="3905280"/>
            <a:chOff x="2317680" y="1582560"/>
            <a:chExt cx="4075200" cy="3905280"/>
          </a:xfrm>
        </p:grpSpPr>
        <p:grpSp>
          <p:nvGrpSpPr>
            <p:cNvPr id="705" name="Group 54"/>
            <p:cNvGrpSpPr/>
            <p:nvPr/>
          </p:nvGrpSpPr>
          <p:grpSpPr>
            <a:xfrm>
              <a:off x="4179600" y="1582560"/>
              <a:ext cx="338040" cy="1971720"/>
              <a:chOff x="4179600" y="1582560"/>
              <a:chExt cx="338040" cy="1971720"/>
            </a:xfrm>
          </p:grpSpPr>
          <p:grpSp>
            <p:nvGrpSpPr>
              <p:cNvPr id="706" name="Group 55"/>
              <p:cNvGrpSpPr/>
              <p:nvPr/>
            </p:nvGrpSpPr>
            <p:grpSpPr>
              <a:xfrm>
                <a:off x="4358520" y="1582560"/>
                <a:ext cx="159120" cy="1971720"/>
                <a:chOff x="4358520" y="1582560"/>
                <a:chExt cx="159120" cy="1971720"/>
              </a:xfrm>
            </p:grpSpPr>
            <p:sp>
              <p:nvSpPr>
                <p:cNvPr id="707" name="Line 56"/>
                <p:cNvSpPr/>
                <p:nvPr/>
              </p:nvSpPr>
              <p:spPr>
                <a:xfrm>
                  <a:off x="4358520" y="1582560"/>
                  <a:ext cx="0" cy="197172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7"/>
                <p:cNvSpPr/>
                <p:nvPr/>
              </p:nvSpPr>
              <p:spPr>
                <a:xfrm>
                  <a:off x="4358520" y="1590840"/>
                  <a:ext cx="159120" cy="171648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Line 58"/>
                <p:cNvSpPr/>
                <p:nvPr/>
              </p:nvSpPr>
              <p:spPr>
                <a:xfrm flipH="1">
                  <a:off x="4366800" y="3306960"/>
                  <a:ext cx="143280" cy="23832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Group 59"/>
              <p:cNvGrpSpPr/>
              <p:nvPr/>
            </p:nvGrpSpPr>
            <p:grpSpPr>
              <a:xfrm>
                <a:off x="4179600" y="1591920"/>
                <a:ext cx="190440" cy="1962000"/>
                <a:chOff x="4179600" y="1591920"/>
                <a:chExt cx="190440" cy="1962000"/>
              </a:xfrm>
            </p:grpSpPr>
            <p:sp>
              <p:nvSpPr>
                <p:cNvPr id="711" name="Line 60"/>
                <p:cNvSpPr/>
                <p:nvPr/>
              </p:nvSpPr>
              <p:spPr>
                <a:xfrm>
                  <a:off x="4370040" y="1591920"/>
                  <a:ext cx="0" cy="196200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Line 61"/>
                <p:cNvSpPr/>
                <p:nvPr/>
              </p:nvSpPr>
              <p:spPr>
                <a:xfrm flipH="1">
                  <a:off x="4179600" y="1600200"/>
                  <a:ext cx="190440" cy="170820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Line 62"/>
                <p:cNvSpPr/>
                <p:nvPr/>
              </p:nvSpPr>
              <p:spPr>
                <a:xfrm>
                  <a:off x="4188960" y="3307680"/>
                  <a:ext cx="171360" cy="23724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4" name="Group 63"/>
            <p:cNvGrpSpPr/>
            <p:nvPr/>
          </p:nvGrpSpPr>
          <p:grpSpPr>
            <a:xfrm>
              <a:off x="4206960" y="3512880"/>
              <a:ext cx="338040" cy="1974960"/>
              <a:chOff x="4206960" y="3512880"/>
              <a:chExt cx="338040" cy="1974960"/>
            </a:xfrm>
          </p:grpSpPr>
          <p:grpSp>
            <p:nvGrpSpPr>
              <p:cNvPr id="715" name="Group 64"/>
              <p:cNvGrpSpPr/>
              <p:nvPr/>
            </p:nvGrpSpPr>
            <p:grpSpPr>
              <a:xfrm>
                <a:off x="4206960" y="3512880"/>
                <a:ext cx="159120" cy="1974960"/>
                <a:chOff x="4206960" y="3512880"/>
                <a:chExt cx="159120" cy="1974960"/>
              </a:xfrm>
            </p:grpSpPr>
            <p:sp>
              <p:nvSpPr>
                <p:cNvPr id="716" name="Line 65"/>
                <p:cNvSpPr/>
                <p:nvPr/>
              </p:nvSpPr>
              <p:spPr>
                <a:xfrm flipV="1">
                  <a:off x="4366080" y="3512880"/>
                  <a:ext cx="0" cy="197496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Line 66"/>
                <p:cNvSpPr/>
                <p:nvPr/>
              </p:nvSpPr>
              <p:spPr>
                <a:xfrm flipH="1" flipV="1">
                  <a:off x="4206960" y="3760200"/>
                  <a:ext cx="159120" cy="171936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Line 67"/>
                <p:cNvSpPr/>
                <p:nvPr/>
              </p:nvSpPr>
              <p:spPr>
                <a:xfrm flipV="1">
                  <a:off x="4214520" y="3521520"/>
                  <a:ext cx="143280" cy="23904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Group 68"/>
              <p:cNvGrpSpPr/>
              <p:nvPr/>
            </p:nvGrpSpPr>
            <p:grpSpPr>
              <a:xfrm>
                <a:off x="4354560" y="3513240"/>
                <a:ext cx="190440" cy="1965240"/>
                <a:chOff x="4354560" y="3513240"/>
                <a:chExt cx="190440" cy="1965240"/>
              </a:xfrm>
            </p:grpSpPr>
            <p:sp>
              <p:nvSpPr>
                <p:cNvPr id="720" name="Line 69"/>
                <p:cNvSpPr/>
                <p:nvPr/>
              </p:nvSpPr>
              <p:spPr>
                <a:xfrm flipV="1">
                  <a:off x="4354560" y="3513240"/>
                  <a:ext cx="0" cy="196524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Line 70"/>
                <p:cNvSpPr/>
                <p:nvPr/>
              </p:nvSpPr>
              <p:spPr>
                <a:xfrm flipV="1">
                  <a:off x="4354560" y="3759120"/>
                  <a:ext cx="190440" cy="171108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Line 71"/>
                <p:cNvSpPr/>
                <p:nvPr/>
              </p:nvSpPr>
              <p:spPr>
                <a:xfrm flipH="1" flipV="1">
                  <a:off x="4364280" y="3522240"/>
                  <a:ext cx="171360" cy="23760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3" name="Group 72"/>
            <p:cNvGrpSpPr/>
            <p:nvPr/>
          </p:nvGrpSpPr>
          <p:grpSpPr>
            <a:xfrm>
              <a:off x="4354560" y="3342960"/>
              <a:ext cx="2038320" cy="326880"/>
              <a:chOff x="4354560" y="3342960"/>
              <a:chExt cx="2038320" cy="326880"/>
            </a:xfrm>
          </p:grpSpPr>
          <p:grpSp>
            <p:nvGrpSpPr>
              <p:cNvPr id="724" name="Group 73"/>
              <p:cNvGrpSpPr/>
              <p:nvPr/>
            </p:nvGrpSpPr>
            <p:grpSpPr>
              <a:xfrm>
                <a:off x="4354560" y="3516120"/>
                <a:ext cx="2038320" cy="153720"/>
                <a:chOff x="4354560" y="3516120"/>
                <a:chExt cx="2038320" cy="153720"/>
              </a:xfrm>
            </p:grpSpPr>
            <p:sp>
              <p:nvSpPr>
                <p:cNvPr id="725" name="Line 74"/>
                <p:cNvSpPr/>
                <p:nvPr/>
              </p:nvSpPr>
              <p:spPr>
                <a:xfrm flipH="1">
                  <a:off x="4354560" y="3516120"/>
                  <a:ext cx="203832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75"/>
                <p:cNvSpPr/>
                <p:nvPr/>
              </p:nvSpPr>
              <p:spPr>
                <a:xfrm flipH="1">
                  <a:off x="4609440" y="3516120"/>
                  <a:ext cx="1774800" cy="15372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Line 76"/>
                <p:cNvSpPr/>
                <p:nvPr/>
              </p:nvSpPr>
              <p:spPr>
                <a:xfrm flipH="1" flipV="1">
                  <a:off x="4363920" y="3523680"/>
                  <a:ext cx="246600" cy="13860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" name="Group 77"/>
              <p:cNvGrpSpPr/>
              <p:nvPr/>
            </p:nvGrpSpPr>
            <p:grpSpPr>
              <a:xfrm>
                <a:off x="4354920" y="3342960"/>
                <a:ext cx="2028240" cy="183960"/>
                <a:chOff x="4354920" y="3342960"/>
                <a:chExt cx="2028240" cy="183960"/>
              </a:xfrm>
            </p:grpSpPr>
            <p:sp>
              <p:nvSpPr>
                <p:cNvPr id="729" name="Line 78"/>
                <p:cNvSpPr/>
                <p:nvPr/>
              </p:nvSpPr>
              <p:spPr>
                <a:xfrm flipH="1">
                  <a:off x="4354920" y="3526920"/>
                  <a:ext cx="202824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Line 79"/>
                <p:cNvSpPr/>
                <p:nvPr/>
              </p:nvSpPr>
              <p:spPr>
                <a:xfrm flipH="1" flipV="1">
                  <a:off x="4608720" y="3342960"/>
                  <a:ext cx="1765800" cy="18396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Line 80"/>
                <p:cNvSpPr/>
                <p:nvPr/>
              </p:nvSpPr>
              <p:spPr>
                <a:xfrm flipH="1">
                  <a:off x="4364280" y="3351960"/>
                  <a:ext cx="245160" cy="16560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2" name="Group 81"/>
            <p:cNvGrpSpPr/>
            <p:nvPr/>
          </p:nvGrpSpPr>
          <p:grpSpPr>
            <a:xfrm>
              <a:off x="2317680" y="3368520"/>
              <a:ext cx="2038320" cy="326880"/>
              <a:chOff x="2317680" y="3368520"/>
              <a:chExt cx="2038320" cy="326880"/>
            </a:xfrm>
          </p:grpSpPr>
          <p:grpSp>
            <p:nvGrpSpPr>
              <p:cNvPr id="733" name="Group 82"/>
              <p:cNvGrpSpPr/>
              <p:nvPr/>
            </p:nvGrpSpPr>
            <p:grpSpPr>
              <a:xfrm>
                <a:off x="2317680" y="3368520"/>
                <a:ext cx="2038320" cy="154080"/>
                <a:chOff x="2317680" y="3368520"/>
                <a:chExt cx="2038320" cy="154080"/>
              </a:xfrm>
            </p:grpSpPr>
            <p:sp>
              <p:nvSpPr>
                <p:cNvPr id="734" name="Line 83"/>
                <p:cNvSpPr/>
                <p:nvPr/>
              </p:nvSpPr>
              <p:spPr>
                <a:xfrm>
                  <a:off x="2317680" y="3522600"/>
                  <a:ext cx="203832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Line 84"/>
                <p:cNvSpPr/>
                <p:nvPr/>
              </p:nvSpPr>
              <p:spPr>
                <a:xfrm flipV="1">
                  <a:off x="2326320" y="3368520"/>
                  <a:ext cx="1774800" cy="15408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Line 85"/>
                <p:cNvSpPr/>
                <p:nvPr/>
              </p:nvSpPr>
              <p:spPr>
                <a:xfrm>
                  <a:off x="4100040" y="3375720"/>
                  <a:ext cx="246600" cy="13896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Group 86"/>
              <p:cNvGrpSpPr/>
              <p:nvPr/>
            </p:nvGrpSpPr>
            <p:grpSpPr>
              <a:xfrm>
                <a:off x="2327400" y="3511080"/>
                <a:ext cx="2028240" cy="184320"/>
                <a:chOff x="2327400" y="3511080"/>
                <a:chExt cx="2028240" cy="184320"/>
              </a:xfrm>
            </p:grpSpPr>
            <p:sp>
              <p:nvSpPr>
                <p:cNvPr id="738" name="Line 87"/>
                <p:cNvSpPr/>
                <p:nvPr/>
              </p:nvSpPr>
              <p:spPr>
                <a:xfrm>
                  <a:off x="2327400" y="3511080"/>
                  <a:ext cx="202824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88"/>
                <p:cNvSpPr/>
                <p:nvPr/>
              </p:nvSpPr>
              <p:spPr>
                <a:xfrm>
                  <a:off x="2336040" y="3511080"/>
                  <a:ext cx="1765800" cy="18432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89"/>
                <p:cNvSpPr/>
                <p:nvPr/>
              </p:nvSpPr>
              <p:spPr>
                <a:xfrm flipV="1">
                  <a:off x="4101120" y="3520440"/>
                  <a:ext cx="245160" cy="16596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8"/>
          <p:cNvSpPr/>
          <p:nvPr/>
        </p:nvSpPr>
        <p:spPr>
          <a:xfrm flipH="1" flipV="1">
            <a:off x="3527280" y="1653840"/>
            <a:ext cx="14400" cy="2671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rc 16"/>
          <p:cNvSpPr/>
          <p:nvPr/>
        </p:nvSpPr>
        <p:spPr>
          <a:xfrm>
            <a:off x="3541680" y="3745080"/>
            <a:ext cx="216000" cy="174600"/>
          </a:xfrm>
          <a:custGeom>
            <a:avLst/>
            <a:gdLst>
              <a:gd name="textAreaLeft" fmla="*/ 0 w 216000"/>
              <a:gd name="textAreaRight" fmla="*/ 216360 w 2160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4"/>
          <p:cNvSpPr/>
          <p:nvPr/>
        </p:nvSpPr>
        <p:spPr>
          <a:xfrm>
            <a:off x="3501720" y="327492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  <a:ea typeface="宋体"/>
              </a:rPr>
              <a:t>30</a:t>
            </a:r>
            <a:r>
              <a:rPr b="1" lang="en-US" sz="2000" spc="-1" strike="noStrike" baseline="30000">
                <a:solidFill>
                  <a:srgbClr val="ff0066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6"/>
          <p:cNvSpPr/>
          <p:nvPr/>
        </p:nvSpPr>
        <p:spPr>
          <a:xfrm>
            <a:off x="3236760" y="1392120"/>
            <a:ext cx="652680" cy="3477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27"/>
          <p:cNvSpPr/>
          <p:nvPr/>
        </p:nvSpPr>
        <p:spPr>
          <a:xfrm>
            <a:off x="3278160" y="6667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73"/>
          <p:cNvSpPr/>
          <p:nvPr/>
        </p:nvSpPr>
        <p:spPr>
          <a:xfrm>
            <a:off x="3003480" y="4324320"/>
            <a:ext cx="11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轮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74"/>
          <p:cNvSpPr/>
          <p:nvPr/>
        </p:nvSpPr>
        <p:spPr>
          <a:xfrm>
            <a:off x="4496040" y="2063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宝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97"/>
          <p:cNvGrpSpPr/>
          <p:nvPr/>
        </p:nvGrpSpPr>
        <p:grpSpPr>
          <a:xfrm>
            <a:off x="5194800" y="4100400"/>
            <a:ext cx="3607200" cy="544320"/>
            <a:chOff x="5194800" y="4100400"/>
            <a:chExt cx="3607200" cy="544320"/>
          </a:xfrm>
        </p:grpSpPr>
        <p:sp>
          <p:nvSpPr>
            <p:cNvPr id="749" name="Line 89"/>
            <p:cNvSpPr/>
            <p:nvPr/>
          </p:nvSpPr>
          <p:spPr>
            <a:xfrm>
              <a:off x="5319360" y="4644720"/>
              <a:ext cx="265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" name="Group 96"/>
            <p:cNvGrpSpPr/>
            <p:nvPr/>
          </p:nvGrpSpPr>
          <p:grpSpPr>
            <a:xfrm>
              <a:off x="5194800" y="4100400"/>
              <a:ext cx="3607200" cy="543960"/>
              <a:chOff x="5194800" y="4100400"/>
              <a:chExt cx="3607200" cy="543960"/>
            </a:xfrm>
          </p:grpSpPr>
          <p:sp>
            <p:nvSpPr>
              <p:cNvPr id="751" name="Text Box 44"/>
              <p:cNvSpPr/>
              <p:nvPr/>
            </p:nvSpPr>
            <p:spPr>
              <a:xfrm>
                <a:off x="5194800" y="41194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53"/>
              <p:cNvSpPr/>
              <p:nvPr/>
            </p:nvSpPr>
            <p:spPr>
              <a:xfrm>
                <a:off x="7931160" y="4120920"/>
                <a:ext cx="87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千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55"/>
              <p:cNvSpPr/>
              <p:nvPr/>
            </p:nvSpPr>
            <p:spPr>
              <a:xfrm>
                <a:off x="6484680" y="4117680"/>
                <a:ext cx="32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Rectangle 57"/>
              <p:cNvSpPr/>
              <p:nvPr/>
            </p:nvSpPr>
            <p:spPr>
              <a:xfrm>
                <a:off x="5844960" y="4117680"/>
                <a:ext cx="350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90"/>
              <p:cNvSpPr/>
              <p:nvPr/>
            </p:nvSpPr>
            <p:spPr>
              <a:xfrm flipV="1">
                <a:off x="5332320" y="4485600"/>
                <a:ext cx="0" cy="158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91"/>
              <p:cNvSpPr/>
              <p:nvPr/>
            </p:nvSpPr>
            <p:spPr>
              <a:xfrm flipV="1">
                <a:off x="6001920" y="4528800"/>
                <a:ext cx="0" cy="10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92"/>
              <p:cNvSpPr/>
              <p:nvPr/>
            </p:nvSpPr>
            <p:spPr>
              <a:xfrm flipV="1">
                <a:off x="6656040" y="4514400"/>
                <a:ext cx="0" cy="12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93"/>
              <p:cNvSpPr/>
              <p:nvPr/>
            </p:nvSpPr>
            <p:spPr>
              <a:xfrm flipV="1">
                <a:off x="7314840" y="4514400"/>
                <a:ext cx="0" cy="115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94"/>
              <p:cNvSpPr/>
              <p:nvPr/>
            </p:nvSpPr>
            <p:spPr>
              <a:xfrm flipV="1">
                <a:off x="7973640" y="4514400"/>
                <a:ext cx="0" cy="12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Rectangle 95"/>
              <p:cNvSpPr/>
              <p:nvPr/>
            </p:nvSpPr>
            <p:spPr>
              <a:xfrm>
                <a:off x="7151400" y="4100400"/>
                <a:ext cx="32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61" name="Picture 98" descr="图片19"/>
          <p:cNvPicPr/>
          <p:nvPr/>
        </p:nvPicPr>
        <p:blipFill>
          <a:blip r:embed="rId1"/>
          <a:stretch/>
        </p:blipFill>
        <p:spPr>
          <a:xfrm rot="1786200">
            <a:off x="3858840" y="808200"/>
            <a:ext cx="623880" cy="3625560"/>
          </a:xfrm>
          <a:prstGeom prst="rect">
            <a:avLst/>
          </a:prstGeom>
          <a:ln w="0">
            <a:noFill/>
          </a:ln>
        </p:spPr>
      </p:pic>
      <p:sp>
        <p:nvSpPr>
          <p:cNvPr id="762" name="Line 101"/>
          <p:cNvSpPr/>
          <p:nvPr/>
        </p:nvSpPr>
        <p:spPr>
          <a:xfrm flipV="1">
            <a:off x="3554280" y="2585880"/>
            <a:ext cx="986040" cy="171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03"/>
          <p:cNvSpPr/>
          <p:nvPr/>
        </p:nvSpPr>
        <p:spPr>
          <a:xfrm>
            <a:off x="2061000" y="5030640"/>
            <a:ext cx="45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从上图看，宝藏在轮船的北偏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30</a:t>
            </a:r>
            <a:r>
              <a:rPr b="1" lang="en-US" sz="3200" spc="-1" strike="noStrike" baseline="30000">
                <a:solidFill>
                  <a:srgbClr val="3333ff"/>
                </a:solidFill>
                <a:latin typeface="Times New Roman"/>
                <a:ea typeface="宋体"/>
              </a:rPr>
              <a:t>0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的方向上，实际距离是（   ）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04"/>
          <p:cNvSpPr/>
          <p:nvPr/>
        </p:nvSpPr>
        <p:spPr>
          <a:xfrm>
            <a:off x="6712560" y="5010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06"/>
          <p:cNvSpPr/>
          <p:nvPr/>
        </p:nvSpPr>
        <p:spPr>
          <a:xfrm>
            <a:off x="5894640" y="5505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08"/>
          <p:cNvSpPr/>
          <p:nvPr/>
        </p:nvSpPr>
        <p:spPr>
          <a:xfrm>
            <a:off x="1292400" y="1486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藏宝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109"/>
          <p:cNvSpPr/>
          <p:nvPr/>
        </p:nvSpPr>
        <p:spPr>
          <a:xfrm flipH="1" flipV="1">
            <a:off x="4485600" y="2493360"/>
            <a:ext cx="128520" cy="129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110"/>
          <p:cNvSpPr/>
          <p:nvPr/>
        </p:nvSpPr>
        <p:spPr>
          <a:xfrm>
            <a:off x="3498840" y="4224240"/>
            <a:ext cx="103320" cy="1317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111" descr="图片3"/>
          <p:cNvPicPr/>
          <p:nvPr/>
        </p:nvPicPr>
        <p:blipFill>
          <a:blip r:embed="rId2"/>
          <a:stretch/>
        </p:blipFill>
        <p:spPr>
          <a:xfrm>
            <a:off x="5910120" y="1052640"/>
            <a:ext cx="1360800" cy="182880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112"/>
          <p:cNvSpPr/>
          <p:nvPr/>
        </p:nvSpPr>
        <p:spPr>
          <a:xfrm>
            <a:off x="7277040" y="18241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宋体"/>
              </a:rPr>
              <a:t>勇气的钥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Line 10"/>
          <p:cNvSpPr/>
          <p:nvPr/>
        </p:nvSpPr>
        <p:spPr>
          <a:xfrm flipH="1" flipV="1">
            <a:off x="4645080" y="1174320"/>
            <a:ext cx="15840" cy="281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1"/>
          <p:cNvSpPr/>
          <p:nvPr/>
        </p:nvSpPr>
        <p:spPr>
          <a:xfrm flipH="1" flipV="1">
            <a:off x="2279160" y="1931760"/>
            <a:ext cx="2365560" cy="5792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rc 13"/>
          <p:cNvSpPr/>
          <p:nvPr/>
        </p:nvSpPr>
        <p:spPr>
          <a:xfrm flipV="1" rot="11561400">
            <a:off x="4404960" y="2208960"/>
            <a:ext cx="201600" cy="266760"/>
          </a:xfrm>
          <a:custGeom>
            <a:avLst/>
            <a:gdLst>
              <a:gd name="textAreaLeft" fmla="*/ 0 w 201600"/>
              <a:gd name="textAreaRight" fmla="*/ 201960 w 201600"/>
              <a:gd name="textAreaTop" fmla="*/ 0 h 266760"/>
              <a:gd name="textAreaBottom" fmla="*/ 266760 h 266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5"/>
          <p:cNvSpPr/>
          <p:nvPr/>
        </p:nvSpPr>
        <p:spPr>
          <a:xfrm>
            <a:off x="4035600" y="19288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宋体"/>
              </a:rPr>
              <a:t>75</a:t>
            </a:r>
            <a:r>
              <a:rPr b="1" lang="en-US" sz="2800" spc="-1" strike="noStrike" baseline="30000">
                <a:solidFill>
                  <a:srgbClr val="009999"/>
                </a:solidFill>
                <a:latin typeface="Times New Roman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7"/>
          <p:cNvSpPr/>
          <p:nvPr/>
        </p:nvSpPr>
        <p:spPr>
          <a:xfrm>
            <a:off x="4662360" y="2540160"/>
            <a:ext cx="492120" cy="712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rc 18"/>
          <p:cNvSpPr/>
          <p:nvPr/>
        </p:nvSpPr>
        <p:spPr>
          <a:xfrm flipV="1">
            <a:off x="4645080" y="2743920"/>
            <a:ext cx="174600" cy="101880"/>
          </a:xfrm>
          <a:custGeom>
            <a:avLst/>
            <a:gdLst>
              <a:gd name="textAreaLeft" fmla="*/ 0 w 174600"/>
              <a:gd name="textAreaRight" fmla="*/ 174960 w 174600"/>
              <a:gd name="textAreaTop" fmla="*/ -360 h 101880"/>
              <a:gd name="textAreaBottom" fmla="*/ 101880 h 101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20"/>
          <p:cNvSpPr/>
          <p:nvPr/>
        </p:nvSpPr>
        <p:spPr>
          <a:xfrm>
            <a:off x="4590720" y="293220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40</a:t>
            </a:r>
            <a:r>
              <a:rPr b="1" lang="en-US" sz="2000" spc="-1" strike="noStrike" baseline="30000">
                <a:solidFill>
                  <a:srgbClr val="009999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22" descr="图片3"/>
          <p:cNvPicPr/>
          <p:nvPr/>
        </p:nvPicPr>
        <p:blipFill>
          <a:blip r:embed="rId1"/>
          <a:stretch/>
        </p:blipFill>
        <p:spPr>
          <a:xfrm>
            <a:off x="452520" y="995400"/>
            <a:ext cx="1360440" cy="182880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23"/>
          <p:cNvSpPr/>
          <p:nvPr/>
        </p:nvSpPr>
        <p:spPr>
          <a:xfrm>
            <a:off x="2231280" y="8240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藏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24"/>
          <p:cNvSpPr/>
          <p:nvPr/>
        </p:nvSpPr>
        <p:spPr>
          <a:xfrm>
            <a:off x="4325760" y="825480"/>
            <a:ext cx="652680" cy="3477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6"/>
          <p:cNvSpPr/>
          <p:nvPr/>
        </p:nvSpPr>
        <p:spPr>
          <a:xfrm>
            <a:off x="2895480" y="173844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27"/>
          <p:cNvSpPr/>
          <p:nvPr/>
        </p:nvSpPr>
        <p:spPr>
          <a:xfrm>
            <a:off x="4937040" y="2741760"/>
            <a:ext cx="65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8"/>
          <p:cNvSpPr/>
          <p:nvPr/>
        </p:nvSpPr>
        <p:spPr>
          <a:xfrm>
            <a:off x="2249640" y="1886040"/>
            <a:ext cx="88920" cy="8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9"/>
          <p:cNvSpPr/>
          <p:nvPr/>
        </p:nvSpPr>
        <p:spPr>
          <a:xfrm>
            <a:off x="5106960" y="3219480"/>
            <a:ext cx="88920" cy="8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30"/>
          <p:cNvSpPr/>
          <p:nvPr/>
        </p:nvSpPr>
        <p:spPr>
          <a:xfrm>
            <a:off x="735120" y="26654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宋体"/>
              </a:rPr>
              <a:t>智慧的钥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931040" y="16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2"/>
          <p:cNvSpPr/>
          <p:nvPr/>
        </p:nvSpPr>
        <p:spPr>
          <a:xfrm>
            <a:off x="5124600" y="30909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5"/>
          <p:cNvSpPr/>
          <p:nvPr/>
        </p:nvSpPr>
        <p:spPr>
          <a:xfrm>
            <a:off x="638280" y="4160880"/>
            <a:ext cx="78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在轮船的（    ）偏（    ）（     ）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的方向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37"/>
          <p:cNvSpPr/>
          <p:nvPr/>
        </p:nvSpPr>
        <p:spPr>
          <a:xfrm>
            <a:off x="392040" y="5146560"/>
            <a:ext cx="83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在轮船的（    ）偏（    ）（     ）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的方向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39"/>
          <p:cNvSpPr/>
          <p:nvPr/>
        </p:nvSpPr>
        <p:spPr>
          <a:xfrm>
            <a:off x="4716720" y="2125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轮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42"/>
          <p:cNvSpPr/>
          <p:nvPr/>
        </p:nvSpPr>
        <p:spPr>
          <a:xfrm>
            <a:off x="2367720" y="464832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实际距离是（       ）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44"/>
          <p:cNvSpPr/>
          <p:nvPr/>
        </p:nvSpPr>
        <p:spPr>
          <a:xfrm>
            <a:off x="2415960" y="574524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实际距离是（      ）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45"/>
          <p:cNvGrpSpPr/>
          <p:nvPr/>
        </p:nvGrpSpPr>
        <p:grpSpPr>
          <a:xfrm>
            <a:off x="5666760" y="3257640"/>
            <a:ext cx="3138480" cy="544320"/>
            <a:chOff x="5666760" y="3257640"/>
            <a:chExt cx="3138480" cy="544320"/>
          </a:xfrm>
        </p:grpSpPr>
        <p:sp>
          <p:nvSpPr>
            <p:cNvPr id="794" name="Line 46"/>
            <p:cNvSpPr/>
            <p:nvPr/>
          </p:nvSpPr>
          <p:spPr>
            <a:xfrm>
              <a:off x="5794920" y="3801960"/>
              <a:ext cx="243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5" name="Group 47"/>
            <p:cNvGrpSpPr/>
            <p:nvPr/>
          </p:nvGrpSpPr>
          <p:grpSpPr>
            <a:xfrm>
              <a:off x="5666760" y="3257640"/>
              <a:ext cx="3138480" cy="543960"/>
              <a:chOff x="5666760" y="3257640"/>
              <a:chExt cx="3138480" cy="543960"/>
            </a:xfrm>
          </p:grpSpPr>
          <p:sp>
            <p:nvSpPr>
              <p:cNvPr id="796" name="Text Box 48"/>
              <p:cNvSpPr/>
              <p:nvPr/>
            </p:nvSpPr>
            <p:spPr>
              <a:xfrm>
                <a:off x="5666760" y="32767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Rectangle 49"/>
              <p:cNvSpPr/>
              <p:nvPr/>
            </p:nvSpPr>
            <p:spPr>
              <a:xfrm>
                <a:off x="8130600" y="3278160"/>
                <a:ext cx="67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千米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Rectangle 50"/>
              <p:cNvSpPr/>
              <p:nvPr/>
            </p:nvSpPr>
            <p:spPr>
              <a:xfrm>
                <a:off x="6861960" y="3274920"/>
                <a:ext cx="294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Rectangle 51"/>
              <p:cNvSpPr/>
              <p:nvPr/>
            </p:nvSpPr>
            <p:spPr>
              <a:xfrm>
                <a:off x="6276240" y="3274920"/>
                <a:ext cx="321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Line 52"/>
              <p:cNvSpPr/>
              <p:nvPr/>
            </p:nvSpPr>
            <p:spPr>
              <a:xfrm flipV="1">
                <a:off x="5806800" y="3642840"/>
                <a:ext cx="0" cy="158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53"/>
              <p:cNvSpPr/>
              <p:nvPr/>
            </p:nvSpPr>
            <p:spPr>
              <a:xfrm flipV="1">
                <a:off x="6419880" y="3686040"/>
                <a:ext cx="0" cy="10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54"/>
              <p:cNvSpPr/>
              <p:nvPr/>
            </p:nvSpPr>
            <p:spPr>
              <a:xfrm flipV="1">
                <a:off x="7018920" y="3671640"/>
                <a:ext cx="0" cy="12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Line 55"/>
              <p:cNvSpPr/>
              <p:nvPr/>
            </p:nvSpPr>
            <p:spPr>
              <a:xfrm flipV="1">
                <a:off x="7622640" y="3671640"/>
                <a:ext cx="0" cy="115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Line 56"/>
              <p:cNvSpPr/>
              <p:nvPr/>
            </p:nvSpPr>
            <p:spPr>
              <a:xfrm flipV="1">
                <a:off x="8226000" y="3671640"/>
                <a:ext cx="0" cy="12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Rectangle 57"/>
              <p:cNvSpPr/>
              <p:nvPr/>
            </p:nvSpPr>
            <p:spPr>
              <a:xfrm>
                <a:off x="7472880" y="3257640"/>
                <a:ext cx="294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6" name="Line 59"/>
          <p:cNvSpPr/>
          <p:nvPr/>
        </p:nvSpPr>
        <p:spPr>
          <a:xfrm>
            <a:off x="2905200" y="2540160"/>
            <a:ext cx="3251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61"/>
          <p:cNvSpPr/>
          <p:nvPr/>
        </p:nvSpPr>
        <p:spPr>
          <a:xfrm>
            <a:off x="4611600" y="2490840"/>
            <a:ext cx="88920" cy="8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62"/>
          <p:cNvSpPr/>
          <p:nvPr/>
        </p:nvSpPr>
        <p:spPr>
          <a:xfrm>
            <a:off x="4204800" y="4151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63"/>
          <p:cNvSpPr/>
          <p:nvPr/>
        </p:nvSpPr>
        <p:spPr>
          <a:xfrm>
            <a:off x="5297760" y="4141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64"/>
          <p:cNvSpPr/>
          <p:nvPr/>
        </p:nvSpPr>
        <p:spPr>
          <a:xfrm>
            <a:off x="3410280" y="4619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66"/>
          <p:cNvSpPr/>
          <p:nvPr/>
        </p:nvSpPr>
        <p:spPr>
          <a:xfrm>
            <a:off x="2795040" y="4140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67"/>
          <p:cNvSpPr/>
          <p:nvPr/>
        </p:nvSpPr>
        <p:spPr>
          <a:xfrm>
            <a:off x="2636280" y="5176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68"/>
          <p:cNvSpPr/>
          <p:nvPr/>
        </p:nvSpPr>
        <p:spPr>
          <a:xfrm>
            <a:off x="3967200" y="5208480"/>
            <a:ext cx="5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69"/>
          <p:cNvSpPr/>
          <p:nvPr/>
        </p:nvSpPr>
        <p:spPr>
          <a:xfrm>
            <a:off x="5062680" y="5189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70"/>
          <p:cNvSpPr/>
          <p:nvPr/>
        </p:nvSpPr>
        <p:spPr>
          <a:xfrm>
            <a:off x="3506760" y="5745240"/>
            <a:ext cx="3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1"/>
          <p:cNvSpPr/>
          <p:nvPr/>
        </p:nvSpPr>
        <p:spPr>
          <a:xfrm>
            <a:off x="5935320" y="4648320"/>
            <a:ext cx="19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（西偏北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15</a:t>
            </a:r>
            <a:r>
              <a:rPr b="1" lang="en-US" sz="2800" spc="-1" strike="noStrike" baseline="30000">
                <a:solidFill>
                  <a:srgbClr val="cc3300"/>
                </a:solidFill>
                <a:latin typeface="Times New Roman"/>
                <a:ea typeface="宋体"/>
              </a:rPr>
              <a:t>0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4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4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14" descr="图片7"/>
          <p:cNvPicPr/>
          <p:nvPr/>
        </p:nvPicPr>
        <p:blipFill>
          <a:blip r:embed="rId1"/>
          <a:stretch/>
        </p:blipFill>
        <p:spPr>
          <a:xfrm>
            <a:off x="6423120" y="4070520"/>
            <a:ext cx="2439720" cy="3103560"/>
          </a:xfrm>
          <a:prstGeom prst="rect">
            <a:avLst/>
          </a:prstGeom>
          <a:ln w="0">
            <a:noFill/>
          </a:ln>
        </p:spPr>
      </p:pic>
      <p:sp>
        <p:nvSpPr>
          <p:cNvPr id="818" name="AutoShape 15"/>
          <p:cNvSpPr/>
          <p:nvPr/>
        </p:nvSpPr>
        <p:spPr>
          <a:xfrm>
            <a:off x="334800" y="2846520"/>
            <a:ext cx="1976760" cy="873000"/>
          </a:xfrm>
          <a:prstGeom prst="wedgeEllipseCallout">
            <a:avLst>
              <a:gd name="adj1" fmla="val 32569"/>
              <a:gd name="adj2" fmla="val 949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  <a:ea typeface="宋体"/>
              </a:rPr>
              <a:t>我来告诉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9"/>
          <p:cNvSpPr/>
          <p:nvPr/>
        </p:nvSpPr>
        <p:spPr>
          <a:xfrm>
            <a:off x="1452960" y="9349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确定位置时我们要知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27"/>
          <p:cNvGrpSpPr/>
          <p:nvPr/>
        </p:nvGrpSpPr>
        <p:grpSpPr>
          <a:xfrm>
            <a:off x="3892680" y="1687680"/>
            <a:ext cx="2800440" cy="520560"/>
            <a:chOff x="3892680" y="1687680"/>
            <a:chExt cx="2800440" cy="520560"/>
          </a:xfrm>
        </p:grpSpPr>
        <p:sp>
          <p:nvSpPr>
            <p:cNvPr id="821" name="AutoShape 20"/>
            <p:cNvSpPr/>
            <p:nvPr/>
          </p:nvSpPr>
          <p:spPr>
            <a:xfrm>
              <a:off x="3892680" y="1712880"/>
              <a:ext cx="453960" cy="466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0"/>
                  </a:moveTo>
                  <a:lnTo>
                    <a:pt x="3811" y="3810"/>
                  </a:lnTo>
                  <a:lnTo>
                    <a:pt x="5000" y="0"/>
                  </a:lnTo>
                  <a:lnTo>
                    <a:pt x="6189" y="3810"/>
                  </a:lnTo>
                  <a:lnTo>
                    <a:pt x="10000" y="3810"/>
                  </a:lnTo>
                  <a:lnTo>
                    <a:pt x="6923" y="6190"/>
                  </a:lnTo>
                  <a:lnTo>
                    <a:pt x="8077" y="10000"/>
                  </a:lnTo>
                  <a:lnTo>
                    <a:pt x="5000" y="7653"/>
                  </a:lnTo>
                  <a:lnTo>
                    <a:pt x="1923" y="10000"/>
                  </a:lnTo>
                  <a:lnTo>
                    <a:pt x="3077" y="6190"/>
                  </a:lnTo>
                  <a:lnTo>
                    <a:pt x="0" y="381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22"/>
            <p:cNvSpPr/>
            <p:nvPr/>
          </p:nvSpPr>
          <p:spPr>
            <a:xfrm>
              <a:off x="5232240" y="16876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宋体"/>
                  <a:ea typeface="宋体"/>
                </a:rPr>
                <a:t>中心点的位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28"/>
          <p:cNvGrpSpPr/>
          <p:nvPr/>
        </p:nvGrpSpPr>
        <p:grpSpPr>
          <a:xfrm>
            <a:off x="3902040" y="2446200"/>
            <a:ext cx="2464920" cy="520560"/>
            <a:chOff x="3902040" y="2446200"/>
            <a:chExt cx="2464920" cy="520560"/>
          </a:xfrm>
        </p:grpSpPr>
        <p:sp>
          <p:nvSpPr>
            <p:cNvPr id="824" name="AutoShape 23"/>
            <p:cNvSpPr/>
            <p:nvPr/>
          </p:nvSpPr>
          <p:spPr>
            <a:xfrm>
              <a:off x="3902040" y="2449440"/>
              <a:ext cx="453960" cy="466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0"/>
                  </a:moveTo>
                  <a:lnTo>
                    <a:pt x="3811" y="3810"/>
                  </a:lnTo>
                  <a:lnTo>
                    <a:pt x="5000" y="0"/>
                  </a:lnTo>
                  <a:lnTo>
                    <a:pt x="6189" y="3810"/>
                  </a:lnTo>
                  <a:lnTo>
                    <a:pt x="10000" y="3810"/>
                  </a:lnTo>
                  <a:lnTo>
                    <a:pt x="6923" y="6190"/>
                  </a:lnTo>
                  <a:lnTo>
                    <a:pt x="8077" y="10000"/>
                  </a:lnTo>
                  <a:lnTo>
                    <a:pt x="5000" y="7653"/>
                  </a:lnTo>
                  <a:lnTo>
                    <a:pt x="1923" y="10000"/>
                  </a:lnTo>
                  <a:lnTo>
                    <a:pt x="3077" y="6190"/>
                  </a:lnTo>
                  <a:lnTo>
                    <a:pt x="0" y="381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25"/>
            <p:cNvSpPr/>
            <p:nvPr/>
          </p:nvSpPr>
          <p:spPr>
            <a:xfrm>
              <a:off x="5119560" y="2446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宋体"/>
                  <a:ea typeface="宋体"/>
                </a:rPr>
                <a:t>方向和度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29"/>
          <p:cNvGrpSpPr/>
          <p:nvPr/>
        </p:nvGrpSpPr>
        <p:grpSpPr>
          <a:xfrm>
            <a:off x="3905280" y="3292560"/>
            <a:ext cx="3586320" cy="545760"/>
            <a:chOff x="3905280" y="3292560"/>
            <a:chExt cx="3586320" cy="545760"/>
          </a:xfrm>
        </p:grpSpPr>
        <p:sp>
          <p:nvSpPr>
            <p:cNvPr id="827" name="AutoShape 24"/>
            <p:cNvSpPr/>
            <p:nvPr/>
          </p:nvSpPr>
          <p:spPr>
            <a:xfrm>
              <a:off x="3905280" y="3292560"/>
              <a:ext cx="453960" cy="466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0"/>
                  </a:moveTo>
                  <a:lnTo>
                    <a:pt x="3811" y="3810"/>
                  </a:lnTo>
                  <a:lnTo>
                    <a:pt x="5000" y="0"/>
                  </a:lnTo>
                  <a:lnTo>
                    <a:pt x="6189" y="3810"/>
                  </a:lnTo>
                  <a:lnTo>
                    <a:pt x="10000" y="3810"/>
                  </a:lnTo>
                  <a:lnTo>
                    <a:pt x="6923" y="6190"/>
                  </a:lnTo>
                  <a:lnTo>
                    <a:pt x="8077" y="10000"/>
                  </a:lnTo>
                  <a:lnTo>
                    <a:pt x="5000" y="7653"/>
                  </a:lnTo>
                  <a:lnTo>
                    <a:pt x="1923" y="10000"/>
                  </a:lnTo>
                  <a:lnTo>
                    <a:pt x="3077" y="6190"/>
                  </a:lnTo>
                  <a:lnTo>
                    <a:pt x="0" y="381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26"/>
            <p:cNvSpPr/>
            <p:nvPr/>
          </p:nvSpPr>
          <p:spPr>
            <a:xfrm>
              <a:off x="5390640" y="331776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宋体"/>
                  <a:ea typeface="宋体"/>
                </a:rPr>
                <a:t>目标到中心点的距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 Box 11"/>
          <p:cNvSpPr/>
          <p:nvPr/>
        </p:nvSpPr>
        <p:spPr>
          <a:xfrm>
            <a:off x="4578840" y="895320"/>
            <a:ext cx="15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海面上有一座灯塔，灯塔北偏东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40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  <a:ea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2"/>
          <p:cNvSpPr/>
          <p:nvPr/>
        </p:nvSpPr>
        <p:spPr>
          <a:xfrm>
            <a:off x="3372840" y="154476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向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处是清凉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13" descr="图片8"/>
          <p:cNvPicPr/>
          <p:nvPr/>
        </p:nvPicPr>
        <p:blipFill>
          <a:blip r:embed="rId1"/>
          <a:stretch/>
        </p:blipFill>
        <p:spPr>
          <a:xfrm>
            <a:off x="230040" y="568440"/>
            <a:ext cx="1608120" cy="1814400"/>
          </a:xfrm>
          <a:prstGeom prst="rect">
            <a:avLst/>
          </a:prstGeom>
          <a:ln w="0">
            <a:noFill/>
          </a:ln>
        </p:spPr>
      </p:pic>
      <p:sp>
        <p:nvSpPr>
          <p:cNvPr id="832" name="Line 15"/>
          <p:cNvSpPr/>
          <p:nvPr/>
        </p:nvSpPr>
        <p:spPr>
          <a:xfrm flipV="1">
            <a:off x="4400640" y="2440080"/>
            <a:ext cx="0" cy="2930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6"/>
          <p:cNvSpPr/>
          <p:nvPr/>
        </p:nvSpPr>
        <p:spPr>
          <a:xfrm>
            <a:off x="4494240" y="3960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灯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1"/>
          <p:cNvSpPr/>
          <p:nvPr/>
        </p:nvSpPr>
        <p:spPr>
          <a:xfrm>
            <a:off x="4232160" y="203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3"/>
          <p:cNvSpPr/>
          <p:nvPr/>
        </p:nvSpPr>
        <p:spPr>
          <a:xfrm>
            <a:off x="6180120" y="3678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41"/>
          <p:cNvGrpSpPr/>
          <p:nvPr/>
        </p:nvGrpSpPr>
        <p:grpSpPr>
          <a:xfrm>
            <a:off x="5608800" y="4421160"/>
            <a:ext cx="3090240" cy="555120"/>
            <a:chOff x="5608800" y="4421160"/>
            <a:chExt cx="3090240" cy="555120"/>
          </a:xfrm>
        </p:grpSpPr>
        <p:grpSp>
          <p:nvGrpSpPr>
            <p:cNvPr id="837" name="Group 40"/>
            <p:cNvGrpSpPr/>
            <p:nvPr/>
          </p:nvGrpSpPr>
          <p:grpSpPr>
            <a:xfrm>
              <a:off x="5608800" y="4421160"/>
              <a:ext cx="2412360" cy="555120"/>
              <a:chOff x="5608800" y="4421160"/>
              <a:chExt cx="2412360" cy="555120"/>
            </a:xfrm>
          </p:grpSpPr>
          <p:sp>
            <p:nvSpPr>
              <p:cNvPr id="838" name="Line 25"/>
              <p:cNvSpPr/>
              <p:nvPr/>
            </p:nvSpPr>
            <p:spPr>
              <a:xfrm>
                <a:off x="5741640" y="4974840"/>
                <a:ext cx="2279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Text Box 27"/>
              <p:cNvSpPr/>
              <p:nvPr/>
            </p:nvSpPr>
            <p:spPr>
              <a:xfrm>
                <a:off x="5608800" y="4421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Rectangle 29"/>
              <p:cNvSpPr/>
              <p:nvPr/>
            </p:nvSpPr>
            <p:spPr>
              <a:xfrm>
                <a:off x="7003800" y="44636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Rectangle 30"/>
              <p:cNvSpPr/>
              <p:nvPr/>
            </p:nvSpPr>
            <p:spPr>
              <a:xfrm>
                <a:off x="6241680" y="4435200"/>
                <a:ext cx="54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Line 31"/>
              <p:cNvSpPr/>
              <p:nvPr/>
            </p:nvSpPr>
            <p:spPr>
              <a:xfrm flipV="1">
                <a:off x="5749560" y="4817880"/>
                <a:ext cx="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Line 32"/>
              <p:cNvSpPr/>
              <p:nvPr/>
            </p:nvSpPr>
            <p:spPr>
              <a:xfrm flipV="1">
                <a:off x="6500520" y="4860360"/>
                <a:ext cx="0" cy="101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Line 33"/>
              <p:cNvSpPr/>
              <p:nvPr/>
            </p:nvSpPr>
            <p:spPr>
              <a:xfrm flipV="1">
                <a:off x="7235640" y="4845960"/>
                <a:ext cx="0" cy="12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Line 34"/>
              <p:cNvSpPr/>
              <p:nvPr/>
            </p:nvSpPr>
            <p:spPr>
              <a:xfrm flipV="1">
                <a:off x="8003880" y="4845960"/>
                <a:ext cx="0" cy="115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Rectangle 36"/>
            <p:cNvSpPr/>
            <p:nvPr/>
          </p:nvSpPr>
          <p:spPr>
            <a:xfrm>
              <a:off x="7777080" y="4485960"/>
              <a:ext cx="92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5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千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Line 43"/>
          <p:cNvSpPr/>
          <p:nvPr/>
        </p:nvSpPr>
        <p:spPr>
          <a:xfrm>
            <a:off x="2771640" y="3948120"/>
            <a:ext cx="336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44"/>
          <p:cNvSpPr/>
          <p:nvPr/>
        </p:nvSpPr>
        <p:spPr>
          <a:xfrm>
            <a:off x="4336920" y="3862440"/>
            <a:ext cx="135000" cy="1317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46"/>
          <p:cNvSpPr/>
          <p:nvPr/>
        </p:nvSpPr>
        <p:spPr>
          <a:xfrm>
            <a:off x="55440" y="2830680"/>
            <a:ext cx="2913120" cy="1987560"/>
          </a:xfrm>
          <a:prstGeom prst="cloudCallout">
            <a:avLst>
              <a:gd name="adj1" fmla="val -24986"/>
              <a:gd name="adj2" fmla="val -8800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在图上指出清凉岛的位置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Picture 21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435480" cy="2900520"/>
          </a:xfrm>
          <a:prstGeom prst="rect">
            <a:avLst/>
          </a:prstGeom>
          <a:ln w="0">
            <a:noFill/>
          </a:ln>
        </p:spPr>
      </p:pic>
      <p:sp>
        <p:nvSpPr>
          <p:cNvPr id="851" name="Text Box 24"/>
          <p:cNvSpPr/>
          <p:nvPr/>
        </p:nvSpPr>
        <p:spPr>
          <a:xfrm>
            <a:off x="380880" y="1295280"/>
            <a:ext cx="443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先确定北偏东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40</a:t>
            </a:r>
            <a:r>
              <a:rPr b="1" lang="en-US" sz="2800" spc="-1" strike="noStrike" baseline="30000">
                <a:solidFill>
                  <a:srgbClr val="cc3300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的方向，画一条射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28"/>
          <p:cNvSpPr/>
          <p:nvPr/>
        </p:nvSpPr>
        <p:spPr>
          <a:xfrm>
            <a:off x="5181480" y="144792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再算出灯塔到清凉岛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图上距离是多少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29"/>
          <p:cNvSpPr/>
          <p:nvPr/>
        </p:nvSpPr>
        <p:spPr>
          <a:xfrm>
            <a:off x="5954040" y="365760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20÷5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Text Box 3"/>
          <p:cNvSpPr/>
          <p:nvPr/>
        </p:nvSpPr>
        <p:spPr>
          <a:xfrm>
            <a:off x="7467480" y="5867280"/>
            <a:ext cx="92556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2"/>
          <p:cNvSpPr/>
          <p:nvPr/>
        </p:nvSpPr>
        <p:spPr>
          <a:xfrm>
            <a:off x="6858000" y="3733920"/>
            <a:ext cx="92556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"/>
          <p:cNvSpPr/>
          <p:nvPr/>
        </p:nvSpPr>
        <p:spPr>
          <a:xfrm>
            <a:off x="4343400" y="5867280"/>
            <a:ext cx="92556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4"/>
          <p:cNvSpPr/>
          <p:nvPr/>
        </p:nvSpPr>
        <p:spPr>
          <a:xfrm flipH="1">
            <a:off x="5410080" y="4343400"/>
            <a:ext cx="2013120" cy="18399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5"/>
          <p:cNvSpPr/>
          <p:nvPr/>
        </p:nvSpPr>
        <p:spPr>
          <a:xfrm>
            <a:off x="0" y="121608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如果将电影票上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号”简记为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那么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号”可表示为（               ）；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表示的含义是（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如图，在一块草地上有三个蒙古包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已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正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米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正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米处，那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7"/>
          <p:cNvSpPr/>
          <p:nvPr/>
        </p:nvSpPr>
        <p:spPr>
          <a:xfrm>
            <a:off x="1277280" y="2470680"/>
            <a:ext cx="338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什么方向上？距离是多少米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0"/>
          <p:cNvSpPr/>
          <p:nvPr/>
        </p:nvSpPr>
        <p:spPr>
          <a:xfrm>
            <a:off x="-228600" y="1871640"/>
            <a:ext cx="3128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8"/>
          <p:cNvSpPr/>
          <p:nvPr/>
        </p:nvSpPr>
        <p:spPr>
          <a:xfrm>
            <a:off x="4040280" y="123660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9"/>
          <p:cNvSpPr/>
          <p:nvPr/>
        </p:nvSpPr>
        <p:spPr>
          <a:xfrm>
            <a:off x="1828800" y="1685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排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0"/>
          <p:cNvSpPr/>
          <p:nvPr/>
        </p:nvSpPr>
        <p:spPr>
          <a:xfrm>
            <a:off x="106200" y="3664080"/>
            <a:ext cx="62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位于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东偏北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方向上，距离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2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15"/>
          <p:cNvSpPr/>
          <p:nvPr/>
        </p:nvSpPr>
        <p:spPr>
          <a:xfrm>
            <a:off x="533520" y="41911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2:01:14Z</dcterms:created>
  <dc:creator/>
  <dc:description/>
  <dc:language>en-US</dc:language>
  <cp:lastModifiedBy/>
  <dcterms:modified xsi:type="dcterms:W3CDTF">2015-04-08T12:01:19Z</dcterms:modified>
  <cp:revision>1</cp:revision>
  <dc:subject/>
  <dc:title/>
</cp:coreProperties>
</file>