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702D-41F4-48A2-9B61-8B5F7A5AB4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905B-EC90-416C-A1BA-A21BF7E9D5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728-1E9B-433A-AA6C-43035E45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B33-945D-42D3-A8EE-90C90A09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F42-7E1C-4995-B9A3-6039A290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8F0-E8ED-4C56-9922-EBC8F6B1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1BF2-3EB1-4399-AA10-BB41EA8C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D9BA-35D0-4377-9267-71B5677F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7501-5D3C-4D2E-AF48-AF004C0F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8346-7E46-4270-A97B-B431175C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E3A3-88E4-4C1A-A494-43677977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4647-654A-41F4-8618-E0F463D7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4FA6-7B9A-47E6-8E6D-525B76D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1D7-E08A-4D1A-B480-1C1BDA06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BADA-9EE5-48E6-AA23-5C152BCA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1827-17CD-4786-ABFF-8BA7C7DD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B55D-1940-4387-A651-FD626C38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9CA7-6BEB-4512-A8FF-FCC17030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F873-5A42-4F78-8286-48892B7C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AB837-F44E-40FE-A5B0-0E369815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DA4EF-BD0E-4DAF-B065-0141E4B5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C0FF5-E860-4BE8-8A20-E65BD067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84CDC-9F3C-4E55-8B68-3070F5A6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79182-0E14-4870-9252-B627FC65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DE0-16D7-4794-B56F-BB7AE85B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934E-B16F-4EE5-B9F2-FF046D83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3984-7F11-4E1F-8751-1D84CFC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8A7C3-6939-4A90-BFC9-431CAA73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7789-8FCD-41ED-943D-7575329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F9BD-A553-4FBD-8F5A-EE0FF733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38BE-6A79-4745-B2F7-5C277D87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8E9D-609B-4442-9F5C-61DCB42C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E2C8-47E8-4A98-9B9A-C7B386DC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8C81C-0498-4882-9D04-4C8D434D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37289-58B3-45D6-BA6E-B7F346A2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F29-4902-453F-A3FA-2D03D701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F3B62-2691-474E-A964-5D2D550E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22BF4-1C6A-4A95-ACE6-E21AAC65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9FA9-708A-4D97-A1CD-54FAC388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CB481-DEAC-4C10-BB96-3853CD4A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E896-F317-40D6-AF68-AABC28F3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CA17D-7F47-4D79-B1DC-CD8E9C43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40702-2DE6-44DD-BBF7-3F35510D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0895-7300-49CF-BB59-94E2CA26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7E23E-6689-40A9-9053-F8FD2B82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B122C-77BB-4DBF-A3F8-9F339AD8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9B3-7699-4353-96AD-0D36316B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A0119-CBD0-4F4A-B653-FCF87047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0B04F-49FF-483D-BE64-0E7B18F0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C6795-7D3B-4A5C-8621-26BDA5C1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41588-462B-4E47-99D9-614657EB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3B5E-D8BC-4444-A000-8C6DAB96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07954-FDF8-49F1-8891-1C778B2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6BC1-C954-40C2-B1EF-6312EB2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4D44-5DC8-4C4A-A908-80592B5B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B40BC-08C1-4328-9FC3-76E7F9A3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FC71-13A5-4689-A34D-47C998BC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9AE-A4F6-424F-841B-0B3930E4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99A8D-C490-4927-987F-C973F435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2F6-A83F-46B9-9A39-4856C34F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DE0-61DE-438E-B5B0-FAB5C43D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82D-7C14-4C98-B8B9-926F95FB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5104-42F6-43D8-A9AF-379963932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99DF-1C9F-4DE0-BF39-B97C04F3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8188-B2B0-4AC5-908F-17EF3B058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B053-4D9F-4DA4-BA70-C71A0FC09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571A-ED64-4EA7-9CC4-1FED3D205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线与角（九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算下面图形的面积。（单位：厘米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rc 6"/>
          <p:cNvSpPr/>
          <p:nvPr/>
        </p:nvSpPr>
        <p:spPr>
          <a:xfrm flipV="1">
            <a:off x="3635280" y="1197000"/>
            <a:ext cx="432000" cy="155520"/>
          </a:xfrm>
          <a:custGeom>
            <a:avLst/>
            <a:gdLst>
              <a:gd name="textAreaLeft" fmla="*/ 0 w 432000"/>
              <a:gd name="textAreaRight" fmla="*/ 432360 w 432000"/>
              <a:gd name="textAreaTop" fmla="*/ 360 h 155520"/>
              <a:gd name="textAreaBottom" fmla="*/ 156240 h 155520"/>
            </a:gdLst>
            <a:ahLst/>
            <a:rect l="textAreaLeft" t="textAreaTop" r="textAreaRight" b="textAreaBottom"/>
            <a:pathLst>
              <a:path fill="none" w="21600" h="2316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120"/>
                  <a:pt x="21581" y="22640"/>
                  <a:pt x="21543" y="23159"/>
                </a:cubicBezTo>
              </a:path>
              <a:path stroke="0" w="21600" h="2316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120"/>
                  <a:pt x="21581" y="22640"/>
                  <a:pt x="21543" y="2315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3637080" y="836640"/>
            <a:ext cx="2663640" cy="251928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3635280" y="126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3637080" y="3070080"/>
            <a:ext cx="21564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3060720" y="1758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285840" y="3284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1714680" y="350208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0°-  90°-  45°=  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1692360" y="41450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三角形是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腰直角三角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539640" y="4913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角形面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7"/>
          <p:cNvGrpSpPr/>
          <p:nvPr/>
        </p:nvGrpSpPr>
        <p:grpSpPr>
          <a:xfrm>
            <a:off x="3203640" y="4626000"/>
            <a:ext cx="5689440" cy="1251000"/>
            <a:chOff x="3203640" y="4626000"/>
            <a:chExt cx="5689440" cy="1251000"/>
          </a:xfrm>
        </p:grpSpPr>
        <p:sp>
          <p:nvSpPr>
            <p:cNvPr id="362" name="Text Box 15"/>
            <p:cNvSpPr/>
            <p:nvPr/>
          </p:nvSpPr>
          <p:spPr>
            <a:xfrm>
              <a:off x="3203640" y="4986360"/>
              <a:ext cx="56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×10×10=50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（平方厘米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16"/>
                <p:cNvSpPr txBox="1"/>
                <p:nvPr/>
              </p:nvSpPr>
              <p:spPr>
                <a:xfrm>
                  <a:off x="3279600" y="4626000"/>
                  <a:ext cx="428760" cy="12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4" name="Text Box 18"/>
          <p:cNvSpPr/>
          <p:nvPr/>
        </p:nvSpPr>
        <p:spPr>
          <a:xfrm>
            <a:off x="1187280" y="581184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三角形面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方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6429240" y="34830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°=  45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450800" y="3432240"/>
            <a:ext cx="5845320" cy="14637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1143000" y="19051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图中有多少线段多少射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矩形 3" descr=""/>
          <p:cNvPicPr/>
          <p:nvPr/>
        </p:nvPicPr>
        <p:blipFill>
          <a:blip r:embed="rId2"/>
          <a:stretch/>
        </p:blipFill>
        <p:spPr>
          <a:xfrm>
            <a:off x="36360" y="225360"/>
            <a:ext cx="24256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57200" y="1706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两点间的所有连线中，（　　 ）的长度最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5105520" y="1676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09480" y="2743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过一点可以画（　　）条直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505320" y="2743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57200" y="379404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过两点可以画（　　）条直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581280" y="38098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250920" y="44280"/>
            <a:ext cx="8588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一条直线上任意确定两点，这两点之间的部分叫做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射线只有（        ）个端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8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角叫做（        ）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两条射线的公共端点叫做角的（        ），组成角的射线叫做角的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下图中的角各是什么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68360" y="5371920"/>
            <a:ext cx="1008000" cy="757080"/>
            <a:chOff x="468360" y="5371920"/>
            <a:chExt cx="1008000" cy="757080"/>
          </a:xfrm>
        </p:grpSpPr>
        <p:sp>
          <p:nvSpPr>
            <p:cNvPr id="225" name="Line 9"/>
            <p:cNvSpPr/>
            <p:nvPr/>
          </p:nvSpPr>
          <p:spPr>
            <a:xfrm>
              <a:off x="468360" y="6019920"/>
              <a:ext cx="100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 flipV="1">
              <a:off x="468360" y="5371920"/>
              <a:ext cx="936360" cy="64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rc 11"/>
            <p:cNvSpPr/>
            <p:nvPr/>
          </p:nvSpPr>
          <p:spPr>
            <a:xfrm flipH="1" rot="2203200">
              <a:off x="564120" y="5927400"/>
              <a:ext cx="244440" cy="142560"/>
            </a:xfrm>
            <a:custGeom>
              <a:avLst/>
              <a:gdLst>
                <a:gd name="textAreaLeft" fmla="*/ -360 w 244440"/>
                <a:gd name="textAreaRight" fmla="*/ 244440 w 2444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fill="none" w="21188" h="21600">
                  <a:moveTo>
                    <a:pt x="0" y="1047"/>
                  </a:moveTo>
                  <a:cubicBezTo>
                    <a:pt x="2146" y="353"/>
                    <a:pt x="4388" y="-1"/>
                    <a:pt x="6645" y="0"/>
                  </a:cubicBezTo>
                  <a:cubicBezTo>
                    <a:pt x="12024" y="0"/>
                    <a:pt x="17210" y="2007"/>
                    <a:pt x="21188" y="5629"/>
                  </a:cubicBezTo>
                </a:path>
                <a:path stroke="0" w="21188" h="21600">
                  <a:moveTo>
                    <a:pt x="0" y="1047"/>
                  </a:moveTo>
                  <a:cubicBezTo>
                    <a:pt x="2146" y="353"/>
                    <a:pt x="4388" y="-1"/>
                    <a:pt x="6645" y="0"/>
                  </a:cubicBezTo>
                  <a:cubicBezTo>
                    <a:pt x="12024" y="0"/>
                    <a:pt x="17210" y="2007"/>
                    <a:pt x="21188" y="5629"/>
                  </a:cubicBezTo>
                  <a:lnTo>
                    <a:pt x="6645" y="21600"/>
                  </a:lnTo>
                  <a:lnTo>
                    <a:pt x="0" y="104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2050920" y="5300640"/>
            <a:ext cx="1081080" cy="863640"/>
            <a:chOff x="2050920" y="5300640"/>
            <a:chExt cx="1081080" cy="863640"/>
          </a:xfrm>
        </p:grpSpPr>
        <p:sp>
          <p:nvSpPr>
            <p:cNvPr id="229" name="Line 13"/>
            <p:cNvSpPr/>
            <p:nvPr/>
          </p:nvSpPr>
          <p:spPr>
            <a:xfrm>
              <a:off x="2050920" y="5300640"/>
              <a:ext cx="108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3132000" y="530064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2996280" y="530064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2996280" y="5443560"/>
              <a:ext cx="1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3564000" y="5443560"/>
            <a:ext cx="1655280" cy="649440"/>
            <a:chOff x="3564000" y="5443560"/>
            <a:chExt cx="1655280" cy="649440"/>
          </a:xfrm>
        </p:grpSpPr>
        <p:sp>
          <p:nvSpPr>
            <p:cNvPr id="234" name="Line 18"/>
            <p:cNvSpPr/>
            <p:nvPr/>
          </p:nvSpPr>
          <p:spPr>
            <a:xfrm>
              <a:off x="4055760" y="6093000"/>
              <a:ext cx="116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9"/>
            <p:cNvSpPr/>
            <p:nvPr/>
          </p:nvSpPr>
          <p:spPr>
            <a:xfrm>
              <a:off x="3564000" y="5443560"/>
              <a:ext cx="491760" cy="64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rc 20"/>
            <p:cNvSpPr/>
            <p:nvPr/>
          </p:nvSpPr>
          <p:spPr>
            <a:xfrm>
              <a:off x="3877200" y="5877360"/>
              <a:ext cx="267840" cy="208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fill="none" w="21600" h="2783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712"/>
                    <a:pt x="21290" y="25812"/>
                    <a:pt x="20680" y="27834"/>
                  </a:cubicBezTo>
                </a:path>
                <a:path stroke="0" w="21600" h="2783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712"/>
                    <a:pt x="21290" y="25812"/>
                    <a:pt x="20680" y="2783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26"/>
          <p:cNvGrpSpPr/>
          <p:nvPr/>
        </p:nvGrpSpPr>
        <p:grpSpPr>
          <a:xfrm>
            <a:off x="5508720" y="5943960"/>
            <a:ext cx="1584360" cy="295560"/>
            <a:chOff x="5508720" y="5943960"/>
            <a:chExt cx="1584360" cy="295560"/>
          </a:xfrm>
        </p:grpSpPr>
        <p:sp>
          <p:nvSpPr>
            <p:cNvPr id="238" name="Line 22"/>
            <p:cNvSpPr/>
            <p:nvPr/>
          </p:nvSpPr>
          <p:spPr>
            <a:xfrm>
              <a:off x="5508720" y="6092640"/>
              <a:ext cx="158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rc 23"/>
            <p:cNvSpPr/>
            <p:nvPr/>
          </p:nvSpPr>
          <p:spPr>
            <a:xfrm flipV="1" rot="16255800">
              <a:off x="6047280" y="5838840"/>
              <a:ext cx="287280" cy="5047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360 h 504720"/>
                <a:gd name="textAreaBottom" fmla="*/ 505440 h 504720"/>
              </a:gdLst>
              <a:ahLst/>
              <a:rect l="textAreaLeft" t="textAreaTop" r="textAreaRight" b="textAreaBottom"/>
              <a:pathLst>
                <a:path fill="none" w="21600" h="38076">
                  <a:moveTo>
                    <a:pt x="10201" y="0"/>
                  </a:moveTo>
                  <a:cubicBezTo>
                    <a:pt x="17219" y="3760"/>
                    <a:pt x="21600" y="11077"/>
                    <a:pt x="21600" y="19039"/>
                  </a:cubicBezTo>
                  <a:cubicBezTo>
                    <a:pt x="21600" y="26999"/>
                    <a:pt x="17221" y="-31221"/>
                    <a:pt x="10205" y="-27460"/>
                  </a:cubicBezTo>
                </a:path>
                <a:path stroke="0" w="21600" h="38076">
                  <a:moveTo>
                    <a:pt x="10201" y="0"/>
                  </a:moveTo>
                  <a:cubicBezTo>
                    <a:pt x="17219" y="3760"/>
                    <a:pt x="21600" y="11077"/>
                    <a:pt x="21600" y="19039"/>
                  </a:cubicBezTo>
                  <a:cubicBezTo>
                    <a:pt x="21600" y="26999"/>
                    <a:pt x="17221" y="-31221"/>
                    <a:pt x="10205" y="-27460"/>
                  </a:cubicBezTo>
                  <a:lnTo>
                    <a:pt x="0" y="19039"/>
                  </a:lnTo>
                  <a:lnTo>
                    <a:pt x="1020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7"/>
          <p:cNvGrpSpPr/>
          <p:nvPr/>
        </p:nvGrpSpPr>
        <p:grpSpPr>
          <a:xfrm>
            <a:off x="7451640" y="6019920"/>
            <a:ext cx="1513080" cy="144360"/>
            <a:chOff x="7451640" y="6019920"/>
            <a:chExt cx="1513080" cy="144360"/>
          </a:xfrm>
        </p:grpSpPr>
        <p:sp>
          <p:nvSpPr>
            <p:cNvPr id="241" name="Line 24"/>
            <p:cNvSpPr/>
            <p:nvPr/>
          </p:nvSpPr>
          <p:spPr>
            <a:xfrm>
              <a:off x="7524720" y="6092640"/>
              <a:ext cx="144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5"/>
            <p:cNvSpPr/>
            <p:nvPr/>
          </p:nvSpPr>
          <p:spPr>
            <a:xfrm>
              <a:off x="7451640" y="6019920"/>
              <a:ext cx="144720" cy="14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28"/>
          <p:cNvSpPr/>
          <p:nvPr/>
        </p:nvSpPr>
        <p:spPr>
          <a:xfrm>
            <a:off x="2700360" y="1268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9"/>
          <p:cNvSpPr/>
          <p:nvPr/>
        </p:nvSpPr>
        <p:spPr>
          <a:xfrm>
            <a:off x="3564000" y="19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5075280" y="270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1"/>
          <p:cNvSpPr/>
          <p:nvPr/>
        </p:nvSpPr>
        <p:spPr>
          <a:xfrm>
            <a:off x="6929280" y="3429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4932360" y="39196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466560" y="6093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2124000" y="609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5"/>
          <p:cNvSpPr/>
          <p:nvPr/>
        </p:nvSpPr>
        <p:spPr>
          <a:xfrm>
            <a:off x="3851280" y="609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6"/>
          <p:cNvSpPr/>
          <p:nvPr/>
        </p:nvSpPr>
        <p:spPr>
          <a:xfrm>
            <a:off x="5724360" y="60897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7"/>
          <p:cNvSpPr/>
          <p:nvPr/>
        </p:nvSpPr>
        <p:spPr>
          <a:xfrm>
            <a:off x="7667640" y="609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685800" y="609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面的图形中有哪几条线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"/>
          <p:cNvSpPr/>
          <p:nvPr/>
        </p:nvSpPr>
        <p:spPr>
          <a:xfrm>
            <a:off x="2286000" y="34592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2286000" y="33066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5410080" y="33066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3048120" y="330660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1981080" y="3535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819520" y="3535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181480" y="345924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2"/>
          <p:cNvSpPr/>
          <p:nvPr/>
        </p:nvSpPr>
        <p:spPr>
          <a:xfrm flipH="1">
            <a:off x="2590920" y="2087640"/>
            <a:ext cx="1371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>
            <a:off x="3962520" y="2087640"/>
            <a:ext cx="175248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2590920" y="40687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3657240" y="2087640"/>
            <a:ext cx="30492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3429000" y="16304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2209680" y="4068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3352680" y="414504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486400" y="4068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7315200" y="11732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0" y="12492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而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8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457200" y="36504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把左右两边合适的条件与结论用线连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5029200" y="1630440"/>
            <a:ext cx="2362320" cy="2209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V="1">
            <a:off x="3048120" y="1477800"/>
            <a:ext cx="4343400" cy="9144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 flipV="1">
            <a:off x="3048120" y="3001680"/>
            <a:ext cx="426708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380880" y="208764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80880" y="28494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380880" y="364176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8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80880" y="437364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6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7315200" y="2011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7315200" y="27734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315200" y="3535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7315200" y="43275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 flipV="1">
            <a:off x="3048120" y="2316240"/>
            <a:ext cx="4343400" cy="167616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 flipV="1">
            <a:off x="3200400" y="4601880"/>
            <a:ext cx="4114800" cy="75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2057400" y="5562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4572000" y="5562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685800" y="5562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352680" y="5562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5791320" y="5562720"/>
            <a:ext cx="1066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力闯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（我能行）（填小于平角的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u=2836229836,1634991332&amp;gp=48"/>
          <p:cNvPicPr/>
          <p:nvPr/>
        </p:nvPicPr>
        <p:blipFill>
          <a:blip r:embed="rId1"/>
          <a:stretch/>
        </p:blipFill>
        <p:spPr>
          <a:xfrm>
            <a:off x="1268280" y="1295280"/>
            <a:ext cx="1552680" cy="15526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636840" y="2906640"/>
            <a:ext cx="27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1773000" y="1655280"/>
            <a:ext cx="288720" cy="446040"/>
            <a:chOff x="1773000" y="1655280"/>
            <a:chExt cx="288720" cy="446040"/>
          </a:xfrm>
        </p:grpSpPr>
        <p:sp>
          <p:nvSpPr>
            <p:cNvPr id="295" name="Line 6"/>
            <p:cNvSpPr/>
            <p:nvPr/>
          </p:nvSpPr>
          <p:spPr>
            <a:xfrm flipH="1" flipV="1">
              <a:off x="1773000" y="1942920"/>
              <a:ext cx="285480" cy="1490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 flipV="1">
              <a:off x="2060640" y="1655280"/>
              <a:ext cx="1080" cy="4460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Picture 8" descr="u=2836229836,1634991332&amp;gp=48"/>
          <p:cNvPicPr/>
          <p:nvPr/>
        </p:nvPicPr>
        <p:blipFill>
          <a:blip r:embed="rId2"/>
          <a:stretch/>
        </p:blipFill>
        <p:spPr>
          <a:xfrm>
            <a:off x="6004080" y="1143000"/>
            <a:ext cx="1552320" cy="15526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9"/>
          <p:cNvSpPr/>
          <p:nvPr/>
        </p:nvSpPr>
        <p:spPr>
          <a:xfrm>
            <a:off x="5732280" y="275436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6581520" y="1534680"/>
            <a:ext cx="215640" cy="733680"/>
            <a:chOff x="6581520" y="1534680"/>
            <a:chExt cx="215640" cy="733680"/>
          </a:xfrm>
        </p:grpSpPr>
        <p:sp>
          <p:nvSpPr>
            <p:cNvPr id="300" name="Line 11"/>
            <p:cNvSpPr/>
            <p:nvPr/>
          </p:nvSpPr>
          <p:spPr>
            <a:xfrm flipH="1">
              <a:off x="6581520" y="1979280"/>
              <a:ext cx="215640" cy="289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 flipV="1">
              <a:off x="6796080" y="1534680"/>
              <a:ext cx="1080" cy="4460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Picture 13" descr="u=2836229836,1634991332&amp;gp=48"/>
          <p:cNvPicPr/>
          <p:nvPr/>
        </p:nvPicPr>
        <p:blipFill>
          <a:blip r:embed="rId3"/>
          <a:stretch/>
        </p:blipFill>
        <p:spPr>
          <a:xfrm>
            <a:off x="3718080" y="3733920"/>
            <a:ext cx="1552320" cy="15523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4"/>
          <p:cNvSpPr/>
          <p:nvPr/>
        </p:nvSpPr>
        <p:spPr>
          <a:xfrm>
            <a:off x="3446280" y="534528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 flipH="1">
            <a:off x="4361040" y="4570560"/>
            <a:ext cx="150480" cy="387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 flipH="1">
            <a:off x="4503600" y="4572000"/>
            <a:ext cx="6480" cy="530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1709280" y="347508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×30°=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6301800" y="332892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×30°=15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4156200" y="591984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°÷2=1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4"/>
          <p:cNvSpPr/>
          <p:nvPr/>
        </p:nvSpPr>
        <p:spPr>
          <a:xfrm>
            <a:off x="395280" y="4953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算角的度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971640" y="1945800"/>
            <a:ext cx="2447640" cy="1656000"/>
            <a:chOff x="971640" y="1945800"/>
            <a:chExt cx="2447640" cy="1656000"/>
          </a:xfrm>
        </p:grpSpPr>
        <p:grpSp>
          <p:nvGrpSpPr>
            <p:cNvPr id="311" name="Group 9"/>
            <p:cNvGrpSpPr/>
            <p:nvPr/>
          </p:nvGrpSpPr>
          <p:grpSpPr>
            <a:xfrm>
              <a:off x="971640" y="1945800"/>
              <a:ext cx="2447640" cy="1573200"/>
              <a:chOff x="971640" y="1945800"/>
              <a:chExt cx="2447640" cy="1573200"/>
            </a:xfrm>
          </p:grpSpPr>
          <p:sp>
            <p:nvSpPr>
              <p:cNvPr id="312" name="Line 6"/>
              <p:cNvSpPr/>
              <p:nvPr/>
            </p:nvSpPr>
            <p:spPr>
              <a:xfrm flipV="1">
                <a:off x="971640" y="1945800"/>
                <a:ext cx="666720" cy="1572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7"/>
              <p:cNvSpPr/>
              <p:nvPr/>
            </p:nvSpPr>
            <p:spPr>
              <a:xfrm>
                <a:off x="971640" y="3519000"/>
                <a:ext cx="244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8"/>
              <p:cNvSpPr/>
              <p:nvPr/>
            </p:nvSpPr>
            <p:spPr>
              <a:xfrm>
                <a:off x="1638360" y="1946160"/>
                <a:ext cx="1780920" cy="1572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Arc 10"/>
            <p:cNvSpPr/>
            <p:nvPr/>
          </p:nvSpPr>
          <p:spPr>
            <a:xfrm>
              <a:off x="1084320" y="3187800"/>
              <a:ext cx="219240" cy="4140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fill="none" w="21359" h="21600">
                  <a:moveTo>
                    <a:pt x="-1" y="0"/>
                  </a:moveTo>
                  <a:cubicBezTo>
                    <a:pt x="10685" y="0"/>
                    <a:pt x="19765" y="7813"/>
                    <a:pt x="21358" y="18380"/>
                  </a:cubicBezTo>
                </a:path>
                <a:path stroke="0" w="21359" h="21600">
                  <a:moveTo>
                    <a:pt x="-1" y="0"/>
                  </a:moveTo>
                  <a:cubicBezTo>
                    <a:pt x="10685" y="0"/>
                    <a:pt x="19765" y="7813"/>
                    <a:pt x="21358" y="1838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rc 11"/>
            <p:cNvSpPr/>
            <p:nvPr/>
          </p:nvSpPr>
          <p:spPr>
            <a:xfrm flipH="1">
              <a:off x="2864880" y="3189240"/>
              <a:ext cx="220680" cy="330120"/>
            </a:xfrm>
            <a:custGeom>
              <a:avLst/>
              <a:gdLst>
                <a:gd name="textAreaLeft" fmla="*/ -360 w 220680"/>
                <a:gd name="textAreaRight" fmla="*/ 220680 w 2206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rc 12"/>
            <p:cNvSpPr/>
            <p:nvPr/>
          </p:nvSpPr>
          <p:spPr>
            <a:xfrm flipV="1">
              <a:off x="1484280" y="2193120"/>
              <a:ext cx="424080" cy="8244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-360 h 82440"/>
                <a:gd name="textAreaBottom" fmla="*/ 82440 h 82440"/>
              </a:gdLst>
              <a:ahLst/>
              <a:rect l="textAreaLeft" t="textAreaTop" r="textAreaRight" b="textAreaBottom"/>
              <a:pathLst>
                <a:path fill="none" w="27451" h="21600">
                  <a:moveTo>
                    <a:pt x="-1" y="807"/>
                  </a:moveTo>
                  <a:cubicBezTo>
                    <a:pt x="1904" y="271"/>
                    <a:pt x="3872" y="-1"/>
                    <a:pt x="5851" y="0"/>
                  </a:cubicBezTo>
                  <a:cubicBezTo>
                    <a:pt x="17780" y="0"/>
                    <a:pt x="27451" y="9670"/>
                    <a:pt x="27451" y="21600"/>
                  </a:cubicBezTo>
                </a:path>
                <a:path stroke="0" w="27451" h="21600">
                  <a:moveTo>
                    <a:pt x="-1" y="807"/>
                  </a:moveTo>
                  <a:cubicBezTo>
                    <a:pt x="1904" y="271"/>
                    <a:pt x="3872" y="-1"/>
                    <a:pt x="5851" y="0"/>
                  </a:cubicBezTo>
                  <a:cubicBezTo>
                    <a:pt x="17780" y="0"/>
                    <a:pt x="27451" y="9670"/>
                    <a:pt x="27451" y="21600"/>
                  </a:cubicBezTo>
                  <a:lnTo>
                    <a:pt x="5851" y="21600"/>
                  </a:lnTo>
                  <a:lnTo>
                    <a:pt x="-1" y="80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5"/>
          <p:cNvSpPr/>
          <p:nvPr/>
        </p:nvSpPr>
        <p:spPr>
          <a:xfrm>
            <a:off x="1187280" y="29574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2268360" y="29574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1908000" y="13017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 flipV="1">
            <a:off x="1908000" y="1733400"/>
            <a:ext cx="64800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2341440" y="12859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0"/>
          <p:cNvSpPr/>
          <p:nvPr/>
        </p:nvSpPr>
        <p:spPr>
          <a:xfrm>
            <a:off x="4859280" y="1857240"/>
            <a:ext cx="2376720" cy="165600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rc 21"/>
          <p:cNvSpPr/>
          <p:nvPr/>
        </p:nvSpPr>
        <p:spPr>
          <a:xfrm flipV="1">
            <a:off x="4859280" y="1999440"/>
            <a:ext cx="216000" cy="289080"/>
          </a:xfrm>
          <a:custGeom>
            <a:avLst/>
            <a:gdLst>
              <a:gd name="textAreaLeft" fmla="*/ 0 w 216000"/>
              <a:gd name="textAreaRight" fmla="*/ 216360 w 216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25"/>
          <p:cNvGrpSpPr/>
          <p:nvPr/>
        </p:nvGrpSpPr>
        <p:grpSpPr>
          <a:xfrm>
            <a:off x="4859280" y="3297240"/>
            <a:ext cx="144360" cy="216000"/>
            <a:chOff x="4859280" y="3297240"/>
            <a:chExt cx="144360" cy="216000"/>
          </a:xfrm>
        </p:grpSpPr>
        <p:sp>
          <p:nvSpPr>
            <p:cNvPr id="326" name="Line 22"/>
            <p:cNvSpPr/>
            <p:nvPr/>
          </p:nvSpPr>
          <p:spPr>
            <a:xfrm>
              <a:off x="4859280" y="3297240"/>
              <a:ext cx="14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3"/>
            <p:cNvSpPr/>
            <p:nvPr/>
          </p:nvSpPr>
          <p:spPr>
            <a:xfrm>
              <a:off x="5003640" y="32972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rc 24"/>
          <p:cNvSpPr/>
          <p:nvPr/>
        </p:nvSpPr>
        <p:spPr>
          <a:xfrm flipH="1">
            <a:off x="6658920" y="3152880"/>
            <a:ext cx="73080" cy="360360"/>
          </a:xfrm>
          <a:custGeom>
            <a:avLst/>
            <a:gdLst>
              <a:gd name="textAreaLeft" fmla="*/ -360 w 73080"/>
              <a:gd name="textAreaRight" fmla="*/ 73080 w 73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7"/>
          <p:cNvSpPr/>
          <p:nvPr/>
        </p:nvSpPr>
        <p:spPr>
          <a:xfrm>
            <a:off x="4859280" y="21448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8"/>
          <p:cNvSpPr/>
          <p:nvPr/>
        </p:nvSpPr>
        <p:spPr>
          <a:xfrm flipV="1">
            <a:off x="7236000" y="279216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9"/>
          <p:cNvSpPr/>
          <p:nvPr/>
        </p:nvSpPr>
        <p:spPr>
          <a:xfrm>
            <a:off x="6516720" y="23464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0"/>
          <p:cNvSpPr/>
          <p:nvPr/>
        </p:nvSpPr>
        <p:spPr>
          <a:xfrm>
            <a:off x="6948360" y="23464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1"/>
          <p:cNvSpPr/>
          <p:nvPr/>
        </p:nvSpPr>
        <p:spPr>
          <a:xfrm>
            <a:off x="1979640" y="5670720"/>
            <a:ext cx="453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2"/>
          <p:cNvSpPr/>
          <p:nvPr/>
        </p:nvSpPr>
        <p:spPr>
          <a:xfrm>
            <a:off x="2843280" y="4375080"/>
            <a:ext cx="1441440" cy="12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2987640" y="5094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rc 34"/>
          <p:cNvSpPr/>
          <p:nvPr/>
        </p:nvSpPr>
        <p:spPr>
          <a:xfrm flipH="1">
            <a:off x="3635280" y="5238720"/>
            <a:ext cx="144720" cy="432000"/>
          </a:xfrm>
          <a:custGeom>
            <a:avLst/>
            <a:gdLst>
              <a:gd name="textAreaLeft" fmla="*/ 360 w 144720"/>
              <a:gd name="textAreaRight" fmla="*/ 145440 w 144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5"/>
          <p:cNvSpPr/>
          <p:nvPr/>
        </p:nvSpPr>
        <p:spPr>
          <a:xfrm>
            <a:off x="2843280" y="4375080"/>
            <a:ext cx="2376360" cy="12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37"/>
          <p:cNvSpPr/>
          <p:nvPr/>
        </p:nvSpPr>
        <p:spPr>
          <a:xfrm>
            <a:off x="3276720" y="4595760"/>
            <a:ext cx="71280" cy="228600"/>
          </a:xfrm>
          <a:custGeom>
            <a:avLst/>
            <a:gdLst>
              <a:gd name="textAreaLeft" fmla="*/ 0 w 71280"/>
              <a:gd name="textAreaRight" fmla="*/ 71640 w 71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fill="none" w="21600" h="3424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6138"/>
                  <a:pt x="20170" y="30561"/>
                  <a:pt x="17513" y="34241"/>
                </a:cubicBezTo>
              </a:path>
              <a:path stroke="0" w="21600" h="3424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6138"/>
                  <a:pt x="20170" y="30561"/>
                  <a:pt x="17513" y="3424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8"/>
          <p:cNvSpPr/>
          <p:nvPr/>
        </p:nvSpPr>
        <p:spPr>
          <a:xfrm>
            <a:off x="3203640" y="41432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39"/>
          <p:cNvSpPr/>
          <p:nvPr/>
        </p:nvSpPr>
        <p:spPr>
          <a:xfrm flipH="1">
            <a:off x="4643280" y="5383080"/>
            <a:ext cx="144720" cy="287640"/>
          </a:xfrm>
          <a:custGeom>
            <a:avLst/>
            <a:gdLst>
              <a:gd name="textAreaLeft" fmla="*/ 360 w 144720"/>
              <a:gd name="textAreaRight" fmla="*/ 145440 w 14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0"/>
          <p:cNvSpPr/>
          <p:nvPr/>
        </p:nvSpPr>
        <p:spPr>
          <a:xfrm flipV="1">
            <a:off x="5148360" y="5094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1"/>
          <p:cNvSpPr/>
          <p:nvPr/>
        </p:nvSpPr>
        <p:spPr>
          <a:xfrm>
            <a:off x="4500720" y="46195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2"/>
          <p:cNvSpPr/>
          <p:nvPr/>
        </p:nvSpPr>
        <p:spPr>
          <a:xfrm>
            <a:off x="4932360" y="4648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38"/>
          <p:cNvSpPr/>
          <p:nvPr/>
        </p:nvSpPr>
        <p:spPr>
          <a:xfrm>
            <a:off x="555480" y="3732120"/>
            <a:ext cx="45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0°-  70°-  40°=  7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39"/>
          <p:cNvSpPr/>
          <p:nvPr/>
        </p:nvSpPr>
        <p:spPr>
          <a:xfrm>
            <a:off x="431640" y="5788080"/>
            <a:ext cx="385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0°-   40°=  1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40"/>
          <p:cNvSpPr/>
          <p:nvPr/>
        </p:nvSpPr>
        <p:spPr>
          <a:xfrm>
            <a:off x="4429080" y="372420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0°-  90°-  55°=  3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弧形 49"/>
          <p:cNvSpPr/>
          <p:nvPr/>
        </p:nvSpPr>
        <p:spPr>
          <a:xfrm>
            <a:off x="3857760" y="5500800"/>
            <a:ext cx="571320" cy="285480"/>
          </a:xfrm>
          <a:custGeom>
            <a:avLst/>
            <a:gdLst/>
            <a:ahLst/>
            <a:rect l="l" t="t" r="r" b="b"/>
            <a:pathLst>
              <a:path stroke="0" w="571500" h="285750">
                <a:moveTo>
                  <a:pt x="285750" y="0"/>
                </a:moveTo>
                <a:cubicBezTo>
                  <a:pt x="443565" y="0"/>
                  <a:pt x="571500" y="63967"/>
                  <a:pt x="571500" y="142875"/>
                </a:cubicBezTo>
                <a:lnTo>
                  <a:pt x="285750" y="142875"/>
                </a:lnTo>
                <a:lnTo>
                  <a:pt x="285750" y="0"/>
                </a:lnTo>
                <a:close/>
              </a:path>
              <a:path fill="none" w="571500" h="285750">
                <a:moveTo>
                  <a:pt x="285750" y="0"/>
                </a:moveTo>
                <a:cubicBezTo>
                  <a:pt x="443565" y="0"/>
                  <a:pt x="571500" y="63967"/>
                  <a:pt x="571500" y="142875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3"/>
          <p:cNvSpPr/>
          <p:nvPr/>
        </p:nvSpPr>
        <p:spPr>
          <a:xfrm>
            <a:off x="4064040" y="5048280"/>
            <a:ext cx="14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4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1"/>
          <p:cNvSpPr/>
          <p:nvPr/>
        </p:nvSpPr>
        <p:spPr>
          <a:xfrm>
            <a:off x="3643200" y="5762520"/>
            <a:ext cx="46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0°-  15°-  140°=  2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1:41:01Z</dcterms:created>
  <dc:creator/>
  <dc:description/>
  <dc:language>en-US</dc:language>
  <cp:lastModifiedBy/>
  <dcterms:modified xsi:type="dcterms:W3CDTF">2015-04-08T11:41:06Z</dcterms:modified>
  <cp:revision>1</cp:revision>
  <dc:subject/>
  <dc:title/>
</cp:coreProperties>
</file>