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24D-3EF3-4730-82EA-9E826649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447-E8FE-47DA-AEB3-70755D50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3F77C-A328-4C7B-9557-ADE46A6E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375AD-CF40-4F95-BAE9-6E1B2CD5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78664-925F-487F-90FF-C4399574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FDF91-7BBB-423C-AA4C-B81D751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65CB5-C605-43A9-AC65-2C1FA06B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2DA29-E9DE-41AC-AC4C-4BDC492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7ADC3-DD16-4ECB-8252-0C42FAFE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89BF3-CDD6-476A-9667-319A1C65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0B616-1F4F-4C26-87EE-DACF5461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41C7B-84E6-4C82-B26F-403E44E4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B93-4751-4948-95C3-73E08A6B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ECF5A-837A-43E0-978E-844E6B64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173BC-997F-492E-ACC7-AD899394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D7992-CF0A-43B4-8BB6-027B64C9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A6607-F681-4817-9B4B-3CC0312A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69ACD-B582-47DB-A198-291607E1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AB923-221E-4F35-BDC8-4128FF95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F40E6-347B-46EE-9290-D5FD394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79B32-CF0D-448F-B9E7-EA027A9B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43689-3E6D-4202-897A-97F7A60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AF8F3-51F9-4A8E-8909-1C3A0439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51A-9C45-4E89-AF9C-8D3D546E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BB755-BA6F-45EE-89FF-82170177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582F-EC14-4EB2-B4A5-65A92830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A9B70-B7EC-4B08-BC5A-815F85C6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00FE1-8380-416D-A7FA-C58AA28D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E9381-ED48-4AE4-84F0-FFDB79AC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6A8EE-77CC-44C9-B347-FCF86BBF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8DEEA-4448-4837-84BE-52545C9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323F5-F8F5-4917-BB80-2AFC4A9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0F6FD-1772-48C5-A547-FDEF35A1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332AD-AF4A-439E-833B-808BB1EA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74DE-5FF7-48F4-8D3A-C4BBE626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CF77B-9678-4AF0-9389-C0AE45C1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7CBCA-F36F-4D21-B2D4-DC68CBA0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8CCB9-738F-4ED7-BEC1-5D52EEC6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B78C3-18C8-4C36-AD93-50AF1D95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E4A11-C4F8-486D-9AC3-4DB3E6EB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36031-79BF-42D7-9023-E64B1E82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6AA66-7A72-4FE5-AD40-A60C7A68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7E6BD-A9CA-4FB9-9919-5DD2489C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54198-153D-4620-BEC9-25E7541E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BD355-C06C-42BF-A00B-D1227B6E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2306-1ABF-4B5F-9428-50C150B0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58131-5469-4137-A360-E3C13D5F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BEABA-FD0E-4D32-AB3A-ABCB1C18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861A2-AC3D-4824-BC4F-13BF9454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2C15C-DFAB-455D-9704-70AD1326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C13F3-374B-4D76-B5D4-68556C49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0296E-B79E-49DC-A02B-BBFAADF8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BB9AE-ECEB-45F1-BBAB-3B7B687D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F7EF3-FC70-4170-961B-F272CC65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77CDD-AA1D-448F-836A-A20C51C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24655-EFC3-42E2-B5A0-44CAC11B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DF46-7F3B-4B17-91E5-0A386E89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8BD86-0AB4-4191-A26D-ED0A1310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C1065-588C-440A-90E0-3FA12AFD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4B33D-D61E-4E70-8357-383A6C1C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D8372-EFF4-4BB2-A233-8F3874D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92D45-0977-489B-B91D-8FFB9C36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E2C53-E18A-4678-BD50-7827D212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6C4DA-0416-4674-9E00-7ABAE7D2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0F5C5-6812-4479-A0AE-22E8DCAE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3FF6B-0425-40FC-8CB0-63A784BA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321A9-8FC5-46B2-9F17-62BEFE10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6EA2-3115-4079-9B2A-09FDBE3F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9CDFE-A409-4E80-A77F-DA77818D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DCDC8-287B-4A2B-B97E-BD07F5BB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BA1AF-4715-41BE-9A1B-191D1929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CFED8-B868-4B16-A07E-A73D53EE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59A61-E16D-4F61-A281-56E36F6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F97BE-4E54-4256-A2B0-5AFCDA29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A6B1A-1FB9-4A4E-822C-63D9AD26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0BE32-7671-4695-A082-70A2C951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DDC02-EF25-43B9-ADFF-5D3A9C14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DA093-4324-490C-8208-9E61964B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A371-F7C4-4E81-A99E-9FDD0E5A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2C868-1DBE-4CA0-8584-39C1978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99F21F-FA28-405E-921C-81067F2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560B1-308B-4E2C-8179-40F32DF4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FB411-0FAF-4777-B3C7-51F2F8D5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CBAA0-E8CD-41D4-95FB-AD56DFC2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5EFBE-7AE7-46D6-A88F-0DC1906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39512-E5B2-4CC4-97A1-1985D1E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064EB-B5D1-453D-AC90-B1F7D48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4A520-8E12-4D26-81C2-AEB5E0DB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E3628-E5FC-4F01-958B-07F8A709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3D7D-136F-492D-96C1-4D24C3E0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0DC90-AE8C-4A03-828A-BD0CBDA8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7DD4B-8A72-4FF3-A04D-EFAC641B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585D9-1067-48BC-A321-CD922BEB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4649F-E5C0-4ECF-AA03-AEB1B952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7410D-51C3-4C2B-8515-ABB1E7EE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C6FA3-D465-4EB1-994D-8D159573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EA070-FD46-405F-B786-7CE81B56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A4B4A-9E32-46C8-8622-3D39136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0F683-B39D-48EF-A5F5-43EB9AD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A5C5C-71C4-4E9E-A0C1-BA6CCBA5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87F8-AF7E-4B83-B617-72F4A2BC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AC0EE-6A50-459E-B441-C1860AE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E2861-9714-40C7-87C7-15F55D71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BC595-5A34-4CDC-A65F-41032C8E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9F8-2F96-4020-A263-56F2F73A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EF56-A17D-4223-B275-0DD0637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64AD-BE7E-4C5D-9376-18D3D2D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7416-E640-446E-A6E6-8D561E43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5B46-28A9-4718-BFD9-154A79E1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DD7D-8336-464A-9ACC-A6CFCB60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157E-D71A-48B2-BF34-A8438B0E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16A0-B473-4976-BCA1-2A66DFAA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526F-51DA-487D-9206-338F38EA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3CC4-C5F9-48FF-92ED-04D56C53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F2B5-82D0-4E5F-BE26-E93406D5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FA6-A2A0-4E5F-91A7-7D216DB8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2866-AE3D-45D4-8961-1602535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DA5A0-7358-450F-8642-717D952F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F45D-DBBB-4521-9BB0-E6BB53A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D629-EB50-4999-8790-4216A14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BED5-A436-4803-B522-591A005F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C02E-3478-453B-B239-CB28ADD3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8C3A-8D00-4468-A542-5F27F3C8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84FDC-C24A-4EAD-806B-61C91D16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3F9C-8994-4072-BF6A-C1BD874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BF506-169D-4B37-BF83-CF000C49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A59-A455-4035-A788-D1EC60A6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D0F5-1F1F-4C50-BF5A-EEA27C33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40D8-06C1-44E9-96E9-C3923E4E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EC68E-32E7-442D-81C8-A238BAC3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9A98-6A40-42F7-9201-A338C48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2B4A-5CAE-492F-B809-0AD75377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C97C-178B-49BD-BC92-CCCE5CB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0C2C-6199-4A1A-8D71-4754365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4CB1-F30A-4228-A4B4-9E85D704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F8AE-A071-4D19-8DDC-7C9371DF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2C9C-B478-48BE-AAB8-BAE56399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7F1-8F15-4FCB-A996-51798BB4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E05B3-1528-4A1C-9646-86667CD5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1045C-3EA5-4CE4-A046-4BEC2973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4902-50F1-478B-9A7D-518DC18E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B85B-8357-462F-B803-AAF16389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4C90F-1BF2-4F9C-BD39-A0300FAA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04B8F-4AFE-461B-AD3F-986FEA46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33E0-5D08-4538-8E9D-5308977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B211-9B27-42B1-876A-228DF8E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187DB-8D9E-48A5-BAA7-FF630149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31C4-EB4B-4D6C-83C3-BDFE0900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E82-052A-4806-97D0-2A098FCA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C50EE-A131-4805-A392-445D7E3B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D4DA-1CA5-4BDB-9140-1C39D183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615F7-56CF-48F5-B435-A55D1D4D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1500-91B7-436A-81EF-B2608B1F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D8084-967F-48D0-A63D-B201D1D8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4E04-73D8-4D00-B8F1-DA97CA72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5A17-FD3F-458B-BBE4-7551EFD8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C7B5-8788-4AB6-AACF-2D13A2C4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0388-0CB8-43BA-9701-A95DBE9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534CC-4D38-4BCD-AA3A-D1BB457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43D-AF08-4261-810F-394DF614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A8D6E-8C4F-482D-BC7D-3405B114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63CB1-57A5-4FDA-878D-42F57930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34974-6D00-4EC5-840C-4407E34C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9AE2B-13F8-4A6D-93F3-E72980B4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A03F-0833-4100-9119-68A88CC3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A4541-3BC1-4C13-B821-3B7663BC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7B55-275C-4023-AFD5-4BF040E0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ECD60-24F6-480A-8E91-20DBA4F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4A655-BA61-4D3C-B3E5-6915DE6B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76EC-3B7D-4D4A-8327-DC123342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7B7-F8B1-4FDC-85C5-ED3DDE63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76916-393E-49F9-AB66-7BB81744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13607-C0FD-4167-A0D4-303FA8D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3A98C-E794-4033-A0C4-9EF38EFE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D9896-1442-4990-96C0-25282E30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52B70-E665-4431-81B2-CA58E02C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EF85-6861-4808-BFC8-A9C88927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84815-1288-4084-A002-78DE376C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D99F6-A862-4D7A-B5CD-BD9B1F1A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C50B-93ED-4C0E-A946-418C2814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6D1B-D0E0-4B4E-BFEA-6A13C2DC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1DA-5DBD-47F6-A827-0A092474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4BA3-DB9D-4581-ABA7-FC0EE2D4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E60BF-16A8-4575-A4A1-A771A941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67F5B-4C35-4AE9-8959-B31ADC0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EAFFC-D57E-4EF8-B10A-749192A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9DC60-07D0-4E58-897B-F6C109AE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E41D-FC27-4900-8F1E-1D0F6150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877CA-6BF8-4C22-8B63-2D8D3CAD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0D194-EEF4-4BC7-BD85-EC4B0618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EB298-0A4F-4C8B-8D6D-4872B095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15233-02D9-4D5F-82C0-7C230CF9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265-A553-4F8D-8D87-D5CBFE4A4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1EA2-9ED9-4D35-B993-BF83E457F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AA4C-FFBC-44E1-A549-12AEBEEF5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2208-DC37-4F69-8C30-B741878E5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3F4-1382-4D05-B203-F0F0CD8D2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6791-FD47-4619-A8B2-7BD1591F6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CC54-9A18-4ECD-848B-B87F42E67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15EC-8CB6-4B3F-A12A-6667BE238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9D32-53D9-4C3A-99A5-793075451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F4E0-F57B-4F12-9683-24AAD0418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9813-2101-40FC-8439-99087DA2A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6A51-3799-4990-B615-71D2B02A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287-BF24-4668-B666-7FF238D18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67C0-9797-4F76-87E1-F0EE85780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6DE6-9E94-4E4E-B82F-5A4433B0E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0226-7EC1-47DB-8640-C06D4063F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应用问题（八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250920" y="44280"/>
            <a:ext cx="86788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施工队修一段地铁，第一队修了全长的    ，第二队修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，第三队修了全长的   后，三队正好完成任务。这段地铁长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5"/>
              <p:cNvSpPr txBox="1"/>
              <p:nvPr/>
            </p:nvSpPr>
            <p:spPr>
              <a:xfrm>
                <a:off x="8143920" y="-142920"/>
                <a:ext cx="4287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6"/>
              <p:cNvSpPr txBox="1"/>
              <p:nvPr/>
            </p:nvSpPr>
            <p:spPr>
              <a:xfrm>
                <a:off x="8143920" y="857160"/>
                <a:ext cx="4287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2" name="Group 11"/>
          <p:cNvGrpSpPr/>
          <p:nvPr/>
        </p:nvGrpSpPr>
        <p:grpSpPr>
          <a:xfrm>
            <a:off x="1442880" y="2936880"/>
            <a:ext cx="7129440" cy="969840"/>
            <a:chOff x="1442880" y="2936880"/>
            <a:chExt cx="7129440" cy="969840"/>
          </a:xfrm>
        </p:grpSpPr>
        <p:sp>
          <p:nvSpPr>
            <p:cNvPr id="713" name="Text Box 7"/>
            <p:cNvSpPr/>
            <p:nvPr/>
          </p:nvSpPr>
          <p:spPr>
            <a:xfrm>
              <a:off x="1442880" y="3114720"/>
              <a:ext cx="712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第二队修的长度占全长的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-    -    =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Object 8"/>
                <p:cNvSpPr txBox="1"/>
                <p:nvPr/>
              </p:nvSpPr>
              <p:spPr>
                <a:xfrm>
                  <a:off x="6411600" y="2936880"/>
                  <a:ext cx="3319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Object 9"/>
                <p:cNvSpPr txBox="1"/>
                <p:nvPr/>
              </p:nvSpPr>
              <p:spPr>
                <a:xfrm>
                  <a:off x="6916680" y="2936880"/>
                  <a:ext cx="33156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6" name="Object 10"/>
                <p:cNvSpPr txBox="1"/>
                <p:nvPr/>
              </p:nvSpPr>
              <p:spPr>
                <a:xfrm>
                  <a:off x="7635600" y="2936880"/>
                  <a:ext cx="3319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7" name="Text Box 12"/>
          <p:cNvSpPr/>
          <p:nvPr/>
        </p:nvSpPr>
        <p:spPr>
          <a:xfrm>
            <a:off x="1932120" y="37846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这段地铁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13"/>
              <p:cNvSpPr txBox="1"/>
              <p:nvPr/>
            </p:nvSpPr>
            <p:spPr>
              <a:xfrm>
                <a:off x="3398760" y="4290840"/>
                <a:ext cx="1927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9" name="Text Box 14"/>
          <p:cNvSpPr/>
          <p:nvPr/>
        </p:nvSpPr>
        <p:spPr>
          <a:xfrm>
            <a:off x="3575160" y="56610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050920" y="61657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这段地铁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179280" y="115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某生产队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社员收割一块双季稻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能割完，但割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以后，由于天气突然发生变化，增加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社员进行抢收，照这样的速度计算，还需多少小时能割完这块双季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1042920" y="3213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设还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时能割完这块双季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"/>
          <p:cNvSpPr/>
          <p:nvPr/>
        </p:nvSpPr>
        <p:spPr>
          <a:xfrm>
            <a:off x="2268360" y="378936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5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-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5+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9"/>
          <p:cNvSpPr/>
          <p:nvPr/>
        </p:nvSpPr>
        <p:spPr>
          <a:xfrm>
            <a:off x="4211640" y="443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75÷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0"/>
          <p:cNvSpPr/>
          <p:nvPr/>
        </p:nvSpPr>
        <p:spPr>
          <a:xfrm>
            <a:off x="4211640" y="5081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1"/>
          <p:cNvSpPr/>
          <p:nvPr/>
        </p:nvSpPr>
        <p:spPr>
          <a:xfrm>
            <a:off x="1332000" y="57294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还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能割完这块双季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4"/>
          <p:cNvSpPr/>
          <p:nvPr/>
        </p:nvSpPr>
        <p:spPr>
          <a:xfrm>
            <a:off x="60948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校在开展“手拉手”活动中，去年“六、一”仅五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就给琼江小学捐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1.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平均每人捐款约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457200" y="2590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星自行车厂原计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生产自行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辆，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每天生产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辆，要按时完成任务，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平均每天生产多少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762120" y="16002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11.52÷61≈1.8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答：平均每人捐款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.8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元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685800" y="3962520"/>
            <a:ext cx="73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2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60×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2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2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800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答：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天平均每天生产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图片 2" descr="小老师.png"/>
          <p:cNvPicPr/>
          <p:nvPr/>
        </p:nvPicPr>
        <p:blipFill>
          <a:blip r:embed="rId1"/>
          <a:stretch/>
        </p:blipFill>
        <p:spPr>
          <a:xfrm>
            <a:off x="6553080" y="2895480"/>
            <a:ext cx="1981440" cy="3543480"/>
          </a:xfrm>
          <a:prstGeom prst="rect">
            <a:avLst/>
          </a:prstGeom>
          <a:ln w="0">
            <a:noFill/>
          </a:ln>
        </p:spPr>
      </p:pic>
      <p:sp>
        <p:nvSpPr>
          <p:cNvPr id="659" name="椭圆 5"/>
          <p:cNvSpPr/>
          <p:nvPr/>
        </p:nvSpPr>
        <p:spPr>
          <a:xfrm>
            <a:off x="5715000" y="3048120"/>
            <a:ext cx="6094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6"/>
          <p:cNvSpPr/>
          <p:nvPr/>
        </p:nvSpPr>
        <p:spPr>
          <a:xfrm>
            <a:off x="6400800" y="3505320"/>
            <a:ext cx="3808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7"/>
          <p:cNvSpPr/>
          <p:nvPr/>
        </p:nvSpPr>
        <p:spPr>
          <a:xfrm>
            <a:off x="0" y="685800"/>
            <a:ext cx="853452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用题型我们在以前的学习过程中都接触过，今天我们来复习应用问题的解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324000" y="1159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买篮球与排球各用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买排球的个数与买篮球个数的比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篮球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排球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买篮球和排球各多少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692360" y="1844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排球的价格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116000" y="249228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篮球的价格为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+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当总价一定时，单价和数量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3419640" y="3284640"/>
                <a:ext cx="1990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Text Box 8"/>
          <p:cNvSpPr/>
          <p:nvPr/>
        </p:nvSpPr>
        <p:spPr>
          <a:xfrm>
            <a:off x="363528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80=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4500720" y="4869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08000" y="53737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00÷80=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3878280" y="5354640"/>
            <a:ext cx="54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00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0+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1979640" y="602136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买篮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排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250920" y="11592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题目，你能说出下面算式所表示的意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甲、乙两个工程队共有工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两队的人数比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甲队有工人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2195640" y="2781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甲队有工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6"/>
              <p:cNvSpPr txBox="1"/>
              <p:nvPr/>
            </p:nvSpPr>
            <p:spPr>
              <a:xfrm>
                <a:off x="3780000" y="3460680"/>
                <a:ext cx="20113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4" name="Text Box 8"/>
          <p:cNvSpPr/>
          <p:nvPr/>
        </p:nvSpPr>
        <p:spPr>
          <a:xfrm>
            <a:off x="108000" y="50007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这个算式表示甲队人数和总人数成正比例。在算式中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甲队人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总人数。甲队的人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总人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=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+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4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客车和货车分别从相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的甲、乙两地相向开出，两车速度相同，相遇时，客车行驶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，货车行驶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。货车行驶了多少千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835280" y="242712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货车行驶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6"/>
              <p:cNvSpPr txBox="1"/>
              <p:nvPr/>
            </p:nvSpPr>
            <p:spPr>
              <a:xfrm>
                <a:off x="3635280" y="3141720"/>
                <a:ext cx="20163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8" name="TextBox 6"/>
          <p:cNvSpPr/>
          <p:nvPr/>
        </p:nvSpPr>
        <p:spPr>
          <a:xfrm>
            <a:off x="357120" y="450072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这个算式表示速度一定时，路程和时间成正比例。在算式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甲、乙两地的路程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货车行驶的时间。甲乙两地总路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货车行驶路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4"/>
          <p:cNvSpPr/>
          <p:nvPr/>
        </p:nvSpPr>
        <p:spPr>
          <a:xfrm>
            <a:off x="22860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线段比例尺，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的线段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的实际距离。在这个地图上，量得甲乙两地的铁路线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一列客车和一列货车同时从甲乙两地相对开出，客车每小时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，货车每小时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，经过几小时两车相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685800" y="307512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）铁路长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0×20.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1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）经过几小时两车相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16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0+7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16÷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4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小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答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经过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4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小时两车相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4"/>
          <p:cNvSpPr/>
          <p:nvPr/>
        </p:nvSpPr>
        <p:spPr>
          <a:xfrm>
            <a:off x="395280" y="3207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妈妈从家去相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的某商场购物，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走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如果继续以这样的速度行走，走到商场还要多少时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781200" y="2017800"/>
            <a:ext cx="69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继续以这样的速度行走”表示速度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18"/>
          <p:cNvGrpSpPr/>
          <p:nvPr/>
        </p:nvGrpSpPr>
        <p:grpSpPr>
          <a:xfrm>
            <a:off x="1720800" y="2349360"/>
            <a:ext cx="5443560" cy="969840"/>
            <a:chOff x="1720800" y="2349360"/>
            <a:chExt cx="5443560" cy="969840"/>
          </a:xfrm>
        </p:grpSpPr>
        <p:sp>
          <p:nvSpPr>
            <p:cNvPr id="685" name="Text Box 6"/>
            <p:cNvSpPr/>
            <p:nvPr/>
          </p:nvSpPr>
          <p:spPr>
            <a:xfrm>
              <a:off x="1720800" y="25653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7"/>
            <p:cNvSpPr/>
            <p:nvPr/>
          </p:nvSpPr>
          <p:spPr>
            <a:xfrm>
              <a:off x="2728800" y="2854080"/>
              <a:ext cx="129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8"/>
            <p:cNvSpPr/>
            <p:nvPr/>
          </p:nvSpPr>
          <p:spPr>
            <a:xfrm>
              <a:off x="3952800" y="2565360"/>
              <a:ext cx="15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9"/>
            <p:cNvSpPr/>
            <p:nvPr/>
          </p:nvSpPr>
          <p:spPr>
            <a:xfrm>
              <a:off x="5392800" y="2854080"/>
              <a:ext cx="13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9" name="Object 10"/>
                <p:cNvSpPr txBox="1"/>
                <p:nvPr/>
              </p:nvSpPr>
              <p:spPr>
                <a:xfrm>
                  <a:off x="6832440" y="2349360"/>
                  <a:ext cx="3319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Group 21"/>
          <p:cNvGrpSpPr/>
          <p:nvPr/>
        </p:nvGrpSpPr>
        <p:grpSpPr>
          <a:xfrm>
            <a:off x="1258920" y="3284640"/>
            <a:ext cx="6192720" cy="534600"/>
            <a:chOff x="1258920" y="3284640"/>
            <a:chExt cx="6192720" cy="534600"/>
          </a:xfrm>
        </p:grpSpPr>
        <p:sp>
          <p:nvSpPr>
            <p:cNvPr id="691" name="Text Box 11"/>
            <p:cNvSpPr/>
            <p:nvPr/>
          </p:nvSpPr>
          <p:spPr>
            <a:xfrm>
              <a:off x="1258920" y="32846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1546200" y="3429000"/>
              <a:ext cx="647640" cy="28836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3"/>
            <p:cNvSpPr/>
            <p:nvPr/>
          </p:nvSpPr>
          <p:spPr>
            <a:xfrm>
              <a:off x="2986200" y="3573360"/>
              <a:ext cx="115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4"/>
            <p:cNvSpPr/>
            <p:nvPr/>
          </p:nvSpPr>
          <p:spPr>
            <a:xfrm>
              <a:off x="4138560" y="3298680"/>
              <a:ext cx="12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5"/>
            <p:cNvSpPr/>
            <p:nvPr/>
          </p:nvSpPr>
          <p:spPr>
            <a:xfrm>
              <a:off x="5219640" y="3585960"/>
              <a:ext cx="180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6"/>
            <p:cNvSpPr/>
            <p:nvPr/>
          </p:nvSpPr>
          <p:spPr>
            <a:xfrm>
              <a:off x="6946920" y="3284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 Box 17"/>
          <p:cNvSpPr/>
          <p:nvPr/>
        </p:nvSpPr>
        <p:spPr>
          <a:xfrm>
            <a:off x="826920" y="393372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设以这样的速度走到商场一共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22"/>
              <p:cNvSpPr txBox="1"/>
              <p:nvPr/>
            </p:nvSpPr>
            <p:spPr>
              <a:xfrm>
                <a:off x="2409840" y="4508640"/>
                <a:ext cx="1425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Text Box 23"/>
          <p:cNvSpPr/>
          <p:nvPr/>
        </p:nvSpPr>
        <p:spPr>
          <a:xfrm>
            <a:off x="2843280" y="5516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1143000" y="60213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5-5=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5076720" y="5516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走到商场还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4"/>
          <p:cNvSpPr/>
          <p:nvPr/>
        </p:nvSpPr>
        <p:spPr>
          <a:xfrm>
            <a:off x="539640" y="320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用地砖铺地，某种方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块可铺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。如果要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，一共要这样的地砖多少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611280" y="21178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当地砖大小一定时，铺地面积和地砖数量成正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1692360" y="278136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设一共要这样的地砖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3635280" y="3429000"/>
                <a:ext cx="2094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6" name="Text Box 8"/>
          <p:cNvSpPr/>
          <p:nvPr/>
        </p:nvSpPr>
        <p:spPr>
          <a:xfrm>
            <a:off x="4141800" y="4581360"/>
            <a:ext cx="34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2000×600÷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414180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8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1692360" y="59500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一共要这样的地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0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38:56Z</dcterms:created>
  <dc:creator/>
  <dc:description/>
  <dc:language>en-US</dc:language>
  <cp:lastModifiedBy/>
  <dcterms:modified xsi:type="dcterms:W3CDTF">2015-04-08T11:39:01Z</dcterms:modified>
  <cp:revision>1</cp:revision>
  <dc:subject/>
  <dc:title/>
</cp:coreProperties>
</file>