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88B-1573-4814-B6CE-869B8990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2A3-61B6-4974-B304-C220100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192-6C45-42FF-81EB-2AF45E61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10E-E172-44F5-9A0F-B8CD4391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E15-E68D-4AF0-9C56-3B92E00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29B-F1C2-4CD3-A68F-CFB2B36A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93E-0BE1-43D4-AF81-A4B46FC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562-28DA-46EA-8DF5-DA521758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A4C-6220-41B9-9D02-36DBDC6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8A9-F850-461C-85F2-8EFB304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75C-679F-43F0-B1B8-3117F8B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5AF-AD40-4E1F-807B-A318156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D2CC-56B2-4798-8F8F-4A291AB55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四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圆柱的表面积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矩形 3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2968920" cy="92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44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做一个无盖的圆柱形铁皮水桶，高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底面直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至少需要多大面积的铁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403280" y="16286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水桶没有盖，说明它只有一个底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692360" y="2060640"/>
            <a:ext cx="61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）水桶的侧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.14 ×4 ×5=62.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63640" y="3284640"/>
            <a:ext cx="700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）水桶的底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.14 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4÷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=12.5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763640" y="4653000"/>
            <a:ext cx="6578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）需要铁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62.8+12.56=75.3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rtg"/>
          <p:cNvPicPr/>
          <p:nvPr/>
        </p:nvPicPr>
        <p:blipFill>
          <a:blip r:embed="rId1"/>
          <a:stretch/>
        </p:blipFill>
        <p:spPr>
          <a:xfrm>
            <a:off x="-171360" y="3933720"/>
            <a:ext cx="2151000" cy="2592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1547640" y="609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至少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5.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分米的铁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539640" y="326880"/>
            <a:ext cx="829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在解答实际问题前一定要先进行分析，看它们求的是哪部分面积，再选择解答的方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39640" y="1917720"/>
            <a:ext cx="3961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动动脑： 一台压路机的滚筒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直径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如果它滚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压路的面积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40687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2400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思考：要求压路机压路的面积其实就是求滚筒的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68360" y="1700280"/>
            <a:ext cx="80643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侧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14×0.8×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01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11280" y="378936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0144×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.14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458136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如果它滚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压路的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.1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矩形 4" descr=""/>
          <p:cNvPicPr/>
          <p:nvPr/>
        </p:nvPicPr>
        <p:blipFill>
          <a:blip r:embed="rId1"/>
          <a:stretch/>
        </p:blipFill>
        <p:spPr>
          <a:xfrm>
            <a:off x="3432240" y="2670120"/>
            <a:ext cx="226692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5791320" y="3552480"/>
            <a:ext cx="2209680" cy="685800"/>
            <a:chOff x="5791320" y="3552480"/>
            <a:chExt cx="2209680" cy="685800"/>
          </a:xfrm>
        </p:grpSpPr>
        <p:sp>
          <p:nvSpPr>
            <p:cNvPr id="44" name="AutoShape 3"/>
            <p:cNvSpPr/>
            <p:nvPr/>
          </p:nvSpPr>
          <p:spPr>
            <a:xfrm rot="16200000">
              <a:off x="6553080" y="2790360"/>
              <a:ext cx="685800" cy="2209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 rot="16200000">
              <a:off x="6975720" y="3983040"/>
              <a:ext cx="24840" cy="266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6" h="168">
                  <a:moveTo>
                    <a:pt x="16" y="0"/>
                  </a:moveTo>
                  <a:cubicBezTo>
                    <a:pt x="6" y="43"/>
                    <a:pt x="20" y="77"/>
                    <a:pt x="7" y="119"/>
                  </a:cubicBezTo>
                  <a:cubicBezTo>
                    <a:pt x="17" y="168"/>
                    <a:pt x="0" y="165"/>
                    <a:pt x="26" y="16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 rot="16200000">
              <a:off x="6923520" y="3372120"/>
              <a:ext cx="37080" cy="6379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39" h="402">
                  <a:moveTo>
                    <a:pt x="24" y="0"/>
                  </a:moveTo>
                  <a:cubicBezTo>
                    <a:pt x="27" y="43"/>
                    <a:pt x="39" y="86"/>
                    <a:pt x="34" y="128"/>
                  </a:cubicBezTo>
                  <a:cubicBezTo>
                    <a:pt x="32" y="147"/>
                    <a:pt x="15" y="73"/>
                    <a:pt x="15" y="73"/>
                  </a:cubicBezTo>
                  <a:cubicBezTo>
                    <a:pt x="0" y="118"/>
                    <a:pt x="6" y="82"/>
                    <a:pt x="15" y="128"/>
                  </a:cubicBezTo>
                  <a:cubicBezTo>
                    <a:pt x="23" y="167"/>
                    <a:pt x="34" y="247"/>
                    <a:pt x="34" y="247"/>
                  </a:cubicBezTo>
                  <a:cubicBezTo>
                    <a:pt x="16" y="295"/>
                    <a:pt x="34" y="402"/>
                    <a:pt x="34" y="40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 rot="16200000">
              <a:off x="7332480" y="3693600"/>
              <a:ext cx="98640" cy="485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04" h="306">
                  <a:moveTo>
                    <a:pt x="31" y="242"/>
                  </a:moveTo>
                  <a:cubicBezTo>
                    <a:pt x="20" y="184"/>
                    <a:pt x="23" y="124"/>
                    <a:pt x="4" y="68"/>
                  </a:cubicBezTo>
                  <a:cubicBezTo>
                    <a:pt x="7" y="50"/>
                    <a:pt x="0" y="0"/>
                    <a:pt x="13" y="13"/>
                  </a:cubicBezTo>
                  <a:cubicBezTo>
                    <a:pt x="30" y="30"/>
                    <a:pt x="18" y="62"/>
                    <a:pt x="22" y="86"/>
                  </a:cubicBezTo>
                  <a:cubicBezTo>
                    <a:pt x="30" y="129"/>
                    <a:pt x="31" y="100"/>
                    <a:pt x="49" y="141"/>
                  </a:cubicBezTo>
                  <a:cubicBezTo>
                    <a:pt x="93" y="238"/>
                    <a:pt x="45" y="162"/>
                    <a:pt x="86" y="223"/>
                  </a:cubicBezTo>
                  <a:cubicBezTo>
                    <a:pt x="76" y="253"/>
                    <a:pt x="72" y="249"/>
                    <a:pt x="86" y="278"/>
                  </a:cubicBezTo>
                  <a:cubicBezTo>
                    <a:pt x="91" y="288"/>
                    <a:pt x="104" y="306"/>
                    <a:pt x="104" y="3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 rot="16200000">
              <a:off x="7248600" y="3388680"/>
              <a:ext cx="47520" cy="82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50" h="522">
                  <a:moveTo>
                    <a:pt x="1" y="0"/>
                  </a:moveTo>
                  <a:cubicBezTo>
                    <a:pt x="11" y="104"/>
                    <a:pt x="9" y="161"/>
                    <a:pt x="38" y="247"/>
                  </a:cubicBezTo>
                  <a:cubicBezTo>
                    <a:pt x="41" y="278"/>
                    <a:pt x="47" y="308"/>
                    <a:pt x="47" y="339"/>
                  </a:cubicBezTo>
                  <a:cubicBezTo>
                    <a:pt x="47" y="351"/>
                    <a:pt x="50" y="371"/>
                    <a:pt x="38" y="375"/>
                  </a:cubicBezTo>
                  <a:cubicBezTo>
                    <a:pt x="28" y="378"/>
                    <a:pt x="25" y="357"/>
                    <a:pt x="19" y="348"/>
                  </a:cubicBezTo>
                  <a:cubicBezTo>
                    <a:pt x="0" y="406"/>
                    <a:pt x="4" y="380"/>
                    <a:pt x="19" y="485"/>
                  </a:cubicBezTo>
                  <a:cubicBezTo>
                    <a:pt x="24" y="522"/>
                    <a:pt x="25" y="514"/>
                    <a:pt x="47" y="50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16200000">
              <a:off x="5832720" y="3696120"/>
              <a:ext cx="456840" cy="3873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73" h="244">
                  <a:moveTo>
                    <a:pt x="443" y="37"/>
                  </a:moveTo>
                  <a:cubicBezTo>
                    <a:pt x="375" y="30"/>
                    <a:pt x="318" y="18"/>
                    <a:pt x="251" y="10"/>
                  </a:cubicBezTo>
                  <a:cubicBezTo>
                    <a:pt x="181" y="15"/>
                    <a:pt x="69" y="0"/>
                    <a:pt x="14" y="55"/>
                  </a:cubicBezTo>
                  <a:cubicBezTo>
                    <a:pt x="1" y="96"/>
                    <a:pt x="0" y="83"/>
                    <a:pt x="14" y="138"/>
                  </a:cubicBezTo>
                  <a:cubicBezTo>
                    <a:pt x="40" y="244"/>
                    <a:pt x="65" y="210"/>
                    <a:pt x="197" y="220"/>
                  </a:cubicBezTo>
                  <a:cubicBezTo>
                    <a:pt x="227" y="222"/>
                    <a:pt x="258" y="226"/>
                    <a:pt x="288" y="229"/>
                  </a:cubicBezTo>
                  <a:cubicBezTo>
                    <a:pt x="337" y="226"/>
                    <a:pt x="386" y="228"/>
                    <a:pt x="434" y="220"/>
                  </a:cubicBezTo>
                  <a:cubicBezTo>
                    <a:pt x="473" y="214"/>
                    <a:pt x="449" y="138"/>
                    <a:pt x="434" y="119"/>
                  </a:cubicBezTo>
                  <a:cubicBezTo>
                    <a:pt x="407" y="84"/>
                    <a:pt x="328" y="86"/>
                    <a:pt x="297" y="83"/>
                  </a:cubicBezTo>
                  <a:cubicBezTo>
                    <a:pt x="252" y="86"/>
                    <a:pt x="118" y="61"/>
                    <a:pt x="96" y="128"/>
                  </a:cubicBezTo>
                  <a:cubicBezTo>
                    <a:pt x="105" y="131"/>
                    <a:pt x="114" y="136"/>
                    <a:pt x="123" y="138"/>
                  </a:cubicBezTo>
                  <a:cubicBezTo>
                    <a:pt x="138" y="142"/>
                    <a:pt x="154" y="142"/>
                    <a:pt x="169" y="147"/>
                  </a:cubicBezTo>
                  <a:cubicBezTo>
                    <a:pt x="179" y="151"/>
                    <a:pt x="187" y="160"/>
                    <a:pt x="197" y="165"/>
                  </a:cubicBezTo>
                  <a:cubicBezTo>
                    <a:pt x="206" y="169"/>
                    <a:pt x="215" y="171"/>
                    <a:pt x="224" y="174"/>
                  </a:cubicBezTo>
                  <a:cubicBezTo>
                    <a:pt x="251" y="171"/>
                    <a:pt x="279" y="168"/>
                    <a:pt x="306" y="165"/>
                  </a:cubicBezTo>
                  <a:cubicBezTo>
                    <a:pt x="338" y="161"/>
                    <a:pt x="404" y="171"/>
                    <a:pt x="352" y="128"/>
                  </a:cubicBezTo>
                  <a:cubicBezTo>
                    <a:pt x="345" y="122"/>
                    <a:pt x="334" y="122"/>
                    <a:pt x="325" y="119"/>
                  </a:cubicBezTo>
                  <a:cubicBezTo>
                    <a:pt x="266" y="129"/>
                    <a:pt x="258" y="114"/>
                    <a:pt x="279" y="13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16200000">
              <a:off x="6614280" y="3781080"/>
              <a:ext cx="106560" cy="533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12" h="336">
                  <a:moveTo>
                    <a:pt x="8" y="0"/>
                  </a:moveTo>
                  <a:cubicBezTo>
                    <a:pt x="4" y="56"/>
                    <a:pt x="0" y="112"/>
                    <a:pt x="8" y="144"/>
                  </a:cubicBezTo>
                  <a:cubicBezTo>
                    <a:pt x="16" y="176"/>
                    <a:pt x="40" y="176"/>
                    <a:pt x="56" y="192"/>
                  </a:cubicBezTo>
                  <a:cubicBezTo>
                    <a:pt x="72" y="208"/>
                    <a:pt x="96" y="216"/>
                    <a:pt x="104" y="240"/>
                  </a:cubicBezTo>
                  <a:cubicBezTo>
                    <a:pt x="112" y="264"/>
                    <a:pt x="108" y="300"/>
                    <a:pt x="104" y="3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16200000">
              <a:off x="7477200" y="3617280"/>
              <a:ext cx="47520" cy="82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50" h="522">
                  <a:moveTo>
                    <a:pt x="1" y="0"/>
                  </a:moveTo>
                  <a:cubicBezTo>
                    <a:pt x="11" y="104"/>
                    <a:pt x="9" y="161"/>
                    <a:pt x="38" y="247"/>
                  </a:cubicBezTo>
                  <a:cubicBezTo>
                    <a:pt x="41" y="278"/>
                    <a:pt x="47" y="308"/>
                    <a:pt x="47" y="339"/>
                  </a:cubicBezTo>
                  <a:cubicBezTo>
                    <a:pt x="47" y="351"/>
                    <a:pt x="50" y="371"/>
                    <a:pt x="38" y="375"/>
                  </a:cubicBezTo>
                  <a:cubicBezTo>
                    <a:pt x="28" y="378"/>
                    <a:pt x="25" y="357"/>
                    <a:pt x="19" y="348"/>
                  </a:cubicBezTo>
                  <a:cubicBezTo>
                    <a:pt x="0" y="406"/>
                    <a:pt x="4" y="380"/>
                    <a:pt x="19" y="485"/>
                  </a:cubicBezTo>
                  <a:cubicBezTo>
                    <a:pt x="24" y="522"/>
                    <a:pt x="25" y="514"/>
                    <a:pt x="47" y="50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rot="16200000">
              <a:off x="6690600" y="3461040"/>
              <a:ext cx="106560" cy="533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12" h="336">
                  <a:moveTo>
                    <a:pt x="8" y="0"/>
                  </a:moveTo>
                  <a:cubicBezTo>
                    <a:pt x="4" y="56"/>
                    <a:pt x="0" y="112"/>
                    <a:pt x="8" y="144"/>
                  </a:cubicBezTo>
                  <a:cubicBezTo>
                    <a:pt x="16" y="176"/>
                    <a:pt x="40" y="176"/>
                    <a:pt x="56" y="192"/>
                  </a:cubicBezTo>
                  <a:cubicBezTo>
                    <a:pt x="72" y="208"/>
                    <a:pt x="96" y="216"/>
                    <a:pt x="104" y="240"/>
                  </a:cubicBezTo>
                  <a:cubicBezTo>
                    <a:pt x="112" y="264"/>
                    <a:pt x="108" y="300"/>
                    <a:pt x="104" y="3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rot="16200000">
              <a:off x="7387200" y="3397680"/>
              <a:ext cx="37080" cy="6382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9" h="402">
                  <a:moveTo>
                    <a:pt x="24" y="0"/>
                  </a:moveTo>
                  <a:cubicBezTo>
                    <a:pt x="27" y="43"/>
                    <a:pt x="39" y="86"/>
                    <a:pt x="34" y="128"/>
                  </a:cubicBezTo>
                  <a:cubicBezTo>
                    <a:pt x="32" y="147"/>
                    <a:pt x="15" y="73"/>
                    <a:pt x="15" y="73"/>
                  </a:cubicBezTo>
                  <a:cubicBezTo>
                    <a:pt x="0" y="118"/>
                    <a:pt x="6" y="82"/>
                    <a:pt x="15" y="128"/>
                  </a:cubicBezTo>
                  <a:cubicBezTo>
                    <a:pt x="23" y="167"/>
                    <a:pt x="34" y="247"/>
                    <a:pt x="34" y="247"/>
                  </a:cubicBezTo>
                  <a:cubicBezTo>
                    <a:pt x="16" y="295"/>
                    <a:pt x="34" y="402"/>
                    <a:pt x="34" y="40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 rot="16200000">
              <a:off x="6746760" y="3671640"/>
              <a:ext cx="99000" cy="4856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04" h="306">
                  <a:moveTo>
                    <a:pt x="31" y="242"/>
                  </a:moveTo>
                  <a:cubicBezTo>
                    <a:pt x="20" y="184"/>
                    <a:pt x="23" y="124"/>
                    <a:pt x="4" y="68"/>
                  </a:cubicBezTo>
                  <a:cubicBezTo>
                    <a:pt x="7" y="50"/>
                    <a:pt x="0" y="0"/>
                    <a:pt x="13" y="13"/>
                  </a:cubicBezTo>
                  <a:cubicBezTo>
                    <a:pt x="30" y="30"/>
                    <a:pt x="18" y="62"/>
                    <a:pt x="22" y="86"/>
                  </a:cubicBezTo>
                  <a:cubicBezTo>
                    <a:pt x="30" y="129"/>
                    <a:pt x="31" y="100"/>
                    <a:pt x="49" y="141"/>
                  </a:cubicBezTo>
                  <a:cubicBezTo>
                    <a:pt x="93" y="238"/>
                    <a:pt x="45" y="162"/>
                    <a:pt x="86" y="223"/>
                  </a:cubicBezTo>
                  <a:cubicBezTo>
                    <a:pt x="76" y="253"/>
                    <a:pt x="72" y="249"/>
                    <a:pt x="86" y="278"/>
                  </a:cubicBezTo>
                  <a:cubicBezTo>
                    <a:pt x="91" y="288"/>
                    <a:pt x="104" y="306"/>
                    <a:pt x="104" y="3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4" descr=""/>
          <p:cNvPicPr/>
          <p:nvPr/>
        </p:nvPicPr>
        <p:blipFill>
          <a:blip r:embed="rId2"/>
          <a:stretch/>
        </p:blipFill>
        <p:spPr>
          <a:xfrm>
            <a:off x="6248520" y="1533600"/>
            <a:ext cx="98568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3"/>
          <a:stretch/>
        </p:blipFill>
        <p:spPr>
          <a:xfrm>
            <a:off x="1905120" y="3200400"/>
            <a:ext cx="59508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1828800" y="1228680"/>
            <a:ext cx="828720" cy="13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4114800" y="1380960"/>
            <a:ext cx="6764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6"/>
          <a:stretch/>
        </p:blipFill>
        <p:spPr>
          <a:xfrm>
            <a:off x="3962520" y="3400560"/>
            <a:ext cx="500040" cy="1171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9"/>
          <p:cNvSpPr/>
          <p:nvPr/>
        </p:nvSpPr>
        <p:spPr>
          <a:xfrm>
            <a:off x="1104840" y="29052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宋体"/>
                <a:ea typeface="宋体"/>
              </a:rPr>
              <a:t>复习：哪些物体的形状是圆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"/>
          <p:cNvPicPr/>
          <p:nvPr/>
        </p:nvPicPr>
        <p:blipFill>
          <a:blip r:embed="rId7"/>
          <a:stretch/>
        </p:blipFill>
        <p:spPr>
          <a:xfrm rot="10388400">
            <a:off x="475920" y="152280"/>
            <a:ext cx="758880" cy="951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1"/>
          <p:cNvSpPr/>
          <p:nvPr/>
        </p:nvSpPr>
        <p:spPr>
          <a:xfrm>
            <a:off x="1600200" y="990720"/>
            <a:ext cx="1295280" cy="1752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6095880" y="1219320"/>
            <a:ext cx="1295640" cy="1752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5638680" y="3295800"/>
            <a:ext cx="2514600" cy="1218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4"/>
          <p:cNvGrpSpPr/>
          <p:nvPr/>
        </p:nvGrpSpPr>
        <p:grpSpPr>
          <a:xfrm>
            <a:off x="225720" y="4095720"/>
            <a:ext cx="1069560" cy="1871640"/>
            <a:chOff x="225720" y="4095720"/>
            <a:chExt cx="1069560" cy="1871640"/>
          </a:xfrm>
        </p:grpSpPr>
        <p:sp>
          <p:nvSpPr>
            <p:cNvPr id="66" name="Oval 25"/>
            <p:cNvSpPr/>
            <p:nvPr/>
          </p:nvSpPr>
          <p:spPr>
            <a:xfrm flipH="1">
              <a:off x="759600" y="4468680"/>
              <a:ext cx="3106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 flipH="1">
              <a:off x="391320" y="4435560"/>
              <a:ext cx="31068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27" descr=""/>
            <p:cNvPicPr/>
            <p:nvPr/>
          </p:nvPicPr>
          <p:blipFill>
            <a:blip r:embed="rId8"/>
            <a:stretch/>
          </p:blipFill>
          <p:spPr>
            <a:xfrm flipH="1">
              <a:off x="225720" y="4095720"/>
              <a:ext cx="10695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AutoShape 28"/>
          <p:cNvSpPr/>
          <p:nvPr/>
        </p:nvSpPr>
        <p:spPr>
          <a:xfrm>
            <a:off x="2057400" y="4724280"/>
            <a:ext cx="4419720" cy="1295640"/>
          </a:xfrm>
          <a:prstGeom prst="wedgeRoundRectCallout">
            <a:avLst>
              <a:gd name="adj1" fmla="val -68138"/>
              <a:gd name="adj2" fmla="val -47796"/>
              <a:gd name="adj3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在生活中，你还见过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些形状是圆柱的物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38120" y="380880"/>
            <a:ext cx="2438280" cy="965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857680" y="647640"/>
            <a:ext cx="62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宋体"/>
                <a:ea typeface="宋体"/>
              </a:rPr>
              <a:t>圆柱有几个面？各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7560" y="1752480"/>
            <a:ext cx="1094760" cy="1980720"/>
            <a:chOff x="457560" y="1752480"/>
            <a:chExt cx="1094760" cy="1980720"/>
          </a:xfrm>
        </p:grpSpPr>
        <p:sp>
          <p:nvSpPr>
            <p:cNvPr id="73" name="Oval 5"/>
            <p:cNvSpPr/>
            <p:nvPr/>
          </p:nvSpPr>
          <p:spPr>
            <a:xfrm flipH="1">
              <a:off x="726120" y="3475800"/>
              <a:ext cx="380520" cy="21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"/>
            <p:cNvSpPr/>
            <p:nvPr/>
          </p:nvSpPr>
          <p:spPr>
            <a:xfrm flipH="1">
              <a:off x="922320" y="3425040"/>
              <a:ext cx="380880" cy="21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7"/>
            <p:cNvGrpSpPr/>
            <p:nvPr/>
          </p:nvGrpSpPr>
          <p:grpSpPr>
            <a:xfrm>
              <a:off x="457560" y="1752480"/>
              <a:ext cx="1094760" cy="1980720"/>
              <a:chOff x="457560" y="1752480"/>
              <a:chExt cx="1094760" cy="1980720"/>
            </a:xfrm>
          </p:grpSpPr>
          <p:sp>
            <p:nvSpPr>
              <p:cNvPr id="76" name="Oval 8"/>
              <p:cNvSpPr/>
              <p:nvPr/>
            </p:nvSpPr>
            <p:spPr>
              <a:xfrm flipH="1" rot="18900000">
                <a:off x="1145880" y="2197080"/>
                <a:ext cx="10944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9"/>
              <p:cNvSpPr/>
              <p:nvPr/>
            </p:nvSpPr>
            <p:spPr>
              <a:xfrm flipH="1" rot="18900000">
                <a:off x="989640" y="2302920"/>
                <a:ext cx="109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Picture 10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457560" y="1752480"/>
                <a:ext cx="1094760" cy="198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" name="AutoShape 11"/>
          <p:cNvSpPr/>
          <p:nvPr/>
        </p:nvSpPr>
        <p:spPr>
          <a:xfrm>
            <a:off x="1828800" y="1600200"/>
            <a:ext cx="3429000" cy="990720"/>
          </a:xfrm>
          <a:prstGeom prst="wedgeRoundRectCallout">
            <a:avLst>
              <a:gd name="adj1" fmla="val -62638"/>
              <a:gd name="adj2" fmla="val 9935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圆柱的上、下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面都是圆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667560" y="1523880"/>
            <a:ext cx="1752480" cy="221004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6667560" y="3289320"/>
            <a:ext cx="1752480" cy="438120"/>
          </a:xfrm>
          <a:prstGeom prst="ellipse">
            <a:avLst/>
          </a:prstGeom>
          <a:solidFill>
            <a:srgbClr val="cc99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7359480" y="3549600"/>
            <a:ext cx="317520" cy="152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667560" y="351144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667560" y="179064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7353360" y="1568520"/>
            <a:ext cx="317520" cy="152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7537320" y="1790640"/>
            <a:ext cx="0" cy="1720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9"/>
          <p:cNvSpPr txBox="1"/>
          <p:nvPr/>
        </p:nvSpPr>
        <p:spPr>
          <a:xfrm>
            <a:off x="8686800" y="252108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88" name="WordArt 20"/>
          <p:cNvSpPr txBox="1"/>
          <p:nvPr/>
        </p:nvSpPr>
        <p:spPr>
          <a:xfrm>
            <a:off x="7848720" y="2597040"/>
            <a:ext cx="317520" cy="152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侧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8413920" y="179064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8420040" y="351144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8610480" y="1782720"/>
            <a:ext cx="0" cy="1736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1371600" y="3543480"/>
            <a:ext cx="7391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圆柱的上、下两个面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。它们是完全相同的两个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圆柱有一个曲面，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侧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。圆柱两底之间的距离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（圆柱的高有无数条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533520" y="1981080"/>
          <a:ext cx="188280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188280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Line 5"/>
          <p:cNvSpPr/>
          <p:nvPr/>
        </p:nvSpPr>
        <p:spPr>
          <a:xfrm flipV="1">
            <a:off x="1751040" y="1905120"/>
            <a:ext cx="10666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674720" y="449568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741760" y="16002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741760" y="5029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751040" y="350532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970360" y="3276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4038480" y="1905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圆柱的侧面积与两个底面面积的和，是圆柱的表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4956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的表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800600" y="3886200"/>
            <a:ext cx="3429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表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侧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+ 2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9280" y="44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计算下面圆柱的表面积。（单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2411280" y="9381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2411280" y="273852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1835280" y="12272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H="1">
            <a:off x="2195280" y="122724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2268000" y="3170160"/>
            <a:ext cx="14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1835280" y="3170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2"/>
          <p:cNvGrpSpPr/>
          <p:nvPr/>
        </p:nvGrpSpPr>
        <p:grpSpPr>
          <a:xfrm>
            <a:off x="1260360" y="836640"/>
            <a:ext cx="1798920" cy="2624040"/>
            <a:chOff x="1260360" y="836640"/>
            <a:chExt cx="1798920" cy="2624040"/>
          </a:xfrm>
        </p:grpSpPr>
        <p:sp>
          <p:nvSpPr>
            <p:cNvPr id="112" name="Line 12"/>
            <p:cNvSpPr/>
            <p:nvPr/>
          </p:nvSpPr>
          <p:spPr>
            <a:xfrm>
              <a:off x="1836720" y="142704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1835280" y="2724120"/>
              <a:ext cx="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56"/>
            <p:cNvGrpSpPr/>
            <p:nvPr/>
          </p:nvGrpSpPr>
          <p:grpSpPr>
            <a:xfrm>
              <a:off x="1835280" y="836640"/>
              <a:ext cx="575640" cy="590400"/>
              <a:chOff x="1835280" y="836640"/>
              <a:chExt cx="575640" cy="590400"/>
            </a:xfrm>
          </p:grpSpPr>
          <p:sp>
            <p:nvSpPr>
              <p:cNvPr id="115" name="Line 11"/>
              <p:cNvSpPr/>
              <p:nvPr/>
            </p:nvSpPr>
            <p:spPr>
              <a:xfrm>
                <a:off x="1835280" y="92376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0"/>
              <p:cNvSpPr/>
              <p:nvPr/>
            </p:nvSpPr>
            <p:spPr>
              <a:xfrm>
                <a:off x="1908000" y="83664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24"/>
            <p:cNvSpPr/>
            <p:nvPr/>
          </p:nvSpPr>
          <p:spPr>
            <a:xfrm>
              <a:off x="2556000" y="142704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71"/>
            <p:cNvGrpSpPr/>
            <p:nvPr/>
          </p:nvGrpSpPr>
          <p:grpSpPr>
            <a:xfrm>
              <a:off x="1260360" y="1282680"/>
              <a:ext cx="1150920" cy="1657440"/>
              <a:chOff x="1260360" y="1282680"/>
              <a:chExt cx="1150920" cy="1657440"/>
            </a:xfrm>
          </p:grpSpPr>
          <p:sp>
            <p:nvSpPr>
              <p:cNvPr id="119" name="Line 10"/>
              <p:cNvSpPr/>
              <p:nvPr/>
            </p:nvSpPr>
            <p:spPr>
              <a:xfrm>
                <a:off x="2411280" y="1498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1260360" y="1282680"/>
                <a:ext cx="115092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6"/>
              <p:cNvSpPr/>
              <p:nvPr/>
            </p:nvSpPr>
            <p:spPr>
              <a:xfrm>
                <a:off x="1260360" y="2506680"/>
                <a:ext cx="115092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9"/>
              <p:cNvSpPr/>
              <p:nvPr/>
            </p:nvSpPr>
            <p:spPr>
              <a:xfrm>
                <a:off x="1260360" y="1498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14"/>
            <p:cNvSpPr/>
            <p:nvPr/>
          </p:nvSpPr>
          <p:spPr>
            <a:xfrm>
              <a:off x="1835280" y="2724120"/>
              <a:ext cx="86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1979640" y="29401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2556000" y="229068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6"/>
            <p:cNvSpPr/>
            <p:nvPr/>
          </p:nvSpPr>
          <p:spPr>
            <a:xfrm>
              <a:off x="2340000" y="17874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42"/>
          <p:cNvSpPr/>
          <p:nvPr/>
        </p:nvSpPr>
        <p:spPr>
          <a:xfrm>
            <a:off x="5940360" y="1154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3"/>
          <p:cNvSpPr/>
          <p:nvPr/>
        </p:nvSpPr>
        <p:spPr>
          <a:xfrm>
            <a:off x="5940360" y="3386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3995640" y="692280"/>
            <a:ext cx="4464000" cy="3038400"/>
            <a:chOff x="3995640" y="692280"/>
            <a:chExt cx="4464000" cy="3038400"/>
          </a:xfrm>
        </p:grpSpPr>
        <p:sp>
          <p:nvSpPr>
            <p:cNvPr id="130" name="Oval 32"/>
            <p:cNvSpPr/>
            <p:nvPr/>
          </p:nvSpPr>
          <p:spPr>
            <a:xfrm>
              <a:off x="5508720" y="779400"/>
              <a:ext cx="863640" cy="790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68"/>
            <p:cNvGrpSpPr/>
            <p:nvPr/>
          </p:nvGrpSpPr>
          <p:grpSpPr>
            <a:xfrm>
              <a:off x="3995640" y="1570320"/>
              <a:ext cx="4464000" cy="2160360"/>
              <a:chOff x="3995640" y="1570320"/>
              <a:chExt cx="4464000" cy="2160360"/>
            </a:xfrm>
          </p:grpSpPr>
          <p:sp>
            <p:nvSpPr>
              <p:cNvPr id="132" name="Oval 33"/>
              <p:cNvSpPr/>
              <p:nvPr/>
            </p:nvSpPr>
            <p:spPr>
              <a:xfrm>
                <a:off x="5508720" y="2940120"/>
                <a:ext cx="863640" cy="790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67"/>
              <p:cNvGrpSpPr/>
              <p:nvPr/>
            </p:nvGrpSpPr>
            <p:grpSpPr>
              <a:xfrm>
                <a:off x="3995640" y="1570320"/>
                <a:ext cx="4464000" cy="1368360"/>
                <a:chOff x="3995640" y="1570320"/>
                <a:chExt cx="4464000" cy="1368360"/>
              </a:xfrm>
            </p:grpSpPr>
            <p:sp>
              <p:nvSpPr>
                <p:cNvPr id="134" name="Rectangle 31"/>
                <p:cNvSpPr/>
                <p:nvPr/>
              </p:nvSpPr>
              <p:spPr>
                <a:xfrm>
                  <a:off x="3995640" y="1570320"/>
                  <a:ext cx="3745080" cy="1368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7740720" y="15703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7740720" y="293868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7885080" y="1570320"/>
                  <a:ext cx="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 flipV="1">
                  <a:off x="7885080" y="257796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38"/>
                <p:cNvSpPr/>
                <p:nvPr/>
              </p:nvSpPr>
              <p:spPr>
                <a:xfrm>
                  <a:off x="7740720" y="2059200"/>
                  <a:ext cx="71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95640" y="221940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 flipH="1">
                  <a:off x="7092720" y="2219400"/>
                  <a:ext cx="64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41"/>
                <p:cNvSpPr/>
                <p:nvPr/>
              </p:nvSpPr>
              <p:spPr>
                <a:xfrm>
                  <a:off x="5003640" y="1930680"/>
                  <a:ext cx="230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×3.14×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 Box 44"/>
              <p:cNvSpPr/>
              <p:nvPr/>
            </p:nvSpPr>
            <p:spPr>
              <a:xfrm>
                <a:off x="5867280" y="2924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45"/>
            <p:cNvSpPr/>
            <p:nvPr/>
          </p:nvSpPr>
          <p:spPr>
            <a:xfrm>
              <a:off x="5869080" y="692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57"/>
          <p:cNvSpPr/>
          <p:nvPr/>
        </p:nvSpPr>
        <p:spPr>
          <a:xfrm>
            <a:off x="179280" y="4221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1044720" y="37130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圆柱的表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两个底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3"/>
          <p:cNvSpPr/>
          <p:nvPr/>
        </p:nvSpPr>
        <p:spPr>
          <a:xfrm>
            <a:off x="971640" y="429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侧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×3.14×5×15=47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4"/>
          <p:cNvSpPr/>
          <p:nvPr/>
        </p:nvSpPr>
        <p:spPr>
          <a:xfrm>
            <a:off x="971640" y="486900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.14×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.14×25=78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5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表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471+78.5×2=6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6"/>
          <p:cNvSpPr/>
          <p:nvPr/>
        </p:nvSpPr>
        <p:spPr>
          <a:xfrm>
            <a:off x="1042920" y="6093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答：圆柱的表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2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平方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选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、有一个圆柱底面半径是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10cm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，高是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0cm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，求表面积的算式是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×3.14×10×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.14×10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×3.14×10×20+2×3.14×10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×3.14×10×20+3.14×10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172200" y="1752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、如图：把一个底面是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6cm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，高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4c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的圆柱沿着高切开，分成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个小圆柱，它的表面积增加（       ）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cm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宋体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"/>
          <p:cNvGraphicFramePr/>
          <p:nvPr/>
        </p:nvGraphicFramePr>
        <p:xfrm>
          <a:off x="1219320" y="2438280"/>
          <a:ext cx="147132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147132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0" y="2361960"/>
            <a:ext cx="2743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D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438280" y="1295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4">
            <a:hlinkClick r:id="" action="ppaction://hlinkshowjump?jump=firstslide"/>
          </p:cNvPr>
          <p:cNvSpPr/>
          <p:nvPr/>
        </p:nvSpPr>
        <p:spPr>
          <a:xfrm>
            <a:off x="5638680" y="57913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12100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1843200" y="1371600"/>
          <a:ext cx="16621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371600"/>
                    <a:ext cx="16621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2"/>
          <p:cNvSpPr/>
          <p:nvPr/>
        </p:nvSpPr>
        <p:spPr>
          <a:xfrm>
            <a:off x="297180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0" y="3581280"/>
            <a:ext cx="5105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 baseline="-25000">
                <a:solidFill>
                  <a:srgbClr val="333399"/>
                </a:solidFill>
                <a:latin typeface="Times New Roman"/>
                <a:ea typeface="宋体"/>
              </a:rPr>
              <a:t>侧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=3.14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宋体"/>
              </a:rPr>
              <a:t>×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 6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宋体"/>
              </a:rPr>
              <a:t>×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 10=188.4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cm</a:t>
            </a:r>
            <a:r>
              <a:rPr b="1" lang="en-US" sz="26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下面两个圆柱体的侧面积、表面积是否相等？（单位：厘米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019920" y="327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5148360" y="1676520"/>
          <a:ext cx="292896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76520"/>
                    <a:ext cx="29289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769608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2096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55800" y="4343400"/>
            <a:ext cx="517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底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=3.14 × 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6/2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）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2=28.26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cm</a:t>
            </a:r>
            <a:r>
              <a:rPr b="1" lang="en-US" sz="26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600" y="5029200"/>
            <a:ext cx="46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表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=</a:t>
            </a:r>
            <a:r>
              <a:rPr b="1" i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侧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+2</a:t>
            </a:r>
            <a:r>
              <a:rPr b="1" i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底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=244.92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cm</a:t>
            </a:r>
            <a:r>
              <a:rPr b="1" lang="en-US" sz="26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3920400" y="3962520"/>
            <a:ext cx="47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侧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=3.14 × 10 × 6=188.4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cm</a:t>
            </a:r>
            <a:r>
              <a:rPr b="1" lang="en-US" sz="2600" spc="-1" strike="noStrike" baseline="30000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3826080" y="4648320"/>
            <a:ext cx="523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底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=3.14 × 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10/2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）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2=78.5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cm</a:t>
            </a:r>
            <a:r>
              <a:rPr b="1" lang="en-US" sz="2600" spc="-1" strike="noStrike" baseline="30000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813480" y="5410080"/>
            <a:ext cx="44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表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=</a:t>
            </a:r>
            <a:r>
              <a:rPr b="1" i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侧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+2</a:t>
            </a:r>
            <a:r>
              <a:rPr b="1" i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底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=345.4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cm</a:t>
            </a:r>
            <a:r>
              <a:rPr b="1" lang="en-US" sz="2600" spc="-1" strike="noStrike" baseline="30000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en-US" sz="2600" spc="-1" strike="noStrike">
                <a:solidFill>
                  <a:srgbClr val="ff3399"/>
                </a:solidFill>
                <a:latin typeface="Times New Roman"/>
                <a:ea typeface="宋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3469680" y="594360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宋体"/>
              </a:rPr>
              <a:t>两个圆柱的侧面积相等，表面积不相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9:32:15Z</dcterms:created>
  <dc:creator/>
  <dc:description/>
  <dc:language>en-US</dc:language>
  <cp:lastModifiedBy/>
  <dcterms:modified xsi:type="dcterms:W3CDTF">2015-04-08T09:32:20Z</dcterms:modified>
  <cp:revision>1</cp:revision>
  <dc:subject/>
  <dc:title/>
</cp:coreProperties>
</file>