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02D-4CCB-40F6-80C4-8583EEF5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75A-2B9A-4794-A6CA-06B1BD6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5E9-75E9-462C-AD9F-C63AF926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5E1-6BF2-4074-BDEE-04205428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E1F-3B93-4F82-A45B-20F9E4E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277-34FD-4317-9333-EF87F8EB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D31-4570-4C92-9C95-18EA7B64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2BD-C17C-4A35-B591-453AAAC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038-820E-4865-9221-02C26017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35A-F65A-4869-9E5A-F2C9722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898-44D4-4025-9242-A5A882F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ACA-FFCD-4408-B118-DB91D9F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D1C-B171-4BD6-8D82-BE23858B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整数与小数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三位数，各位数字分别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互不相等，且都不为零。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排得六个不同的三位数。若这六个三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数之和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4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六个三位数中最大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375560" y="4038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S01316_"/>
          <p:cNvPicPr/>
          <p:nvPr/>
        </p:nvPicPr>
        <p:blipFill>
          <a:blip r:embed="rId1"/>
          <a:stretch/>
        </p:blipFill>
        <p:spPr>
          <a:xfrm>
            <a:off x="-19080" y="1146240"/>
            <a:ext cx="1639800" cy="3565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04920" y="457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概念梳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676520" y="2743200"/>
            <a:ext cx="5638680" cy="15238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2133720" y="1752480"/>
            <a:ext cx="6324480" cy="2286000"/>
          </a:xfrm>
          <a:prstGeom prst="wedgeEllipseCallout">
            <a:avLst>
              <a:gd name="adj1" fmla="val -46143"/>
              <a:gd name="adj2" fmla="val 3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是自然数？计数单位是几？整数呢？自然数与整数的关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2895480" y="4419720"/>
            <a:ext cx="4114800" cy="1523880"/>
            <a:chOff x="2895480" y="4419720"/>
            <a:chExt cx="4114800" cy="1523880"/>
          </a:xfrm>
        </p:grpSpPr>
        <p:grpSp>
          <p:nvGrpSpPr>
            <p:cNvPr id="48" name="Group 11"/>
            <p:cNvGrpSpPr/>
            <p:nvPr/>
          </p:nvGrpSpPr>
          <p:grpSpPr>
            <a:xfrm>
              <a:off x="2895480" y="4419720"/>
              <a:ext cx="4114800" cy="1523880"/>
              <a:chOff x="2895480" y="4419720"/>
              <a:chExt cx="4114800" cy="1523880"/>
            </a:xfrm>
          </p:grpSpPr>
          <p:sp>
            <p:nvSpPr>
              <p:cNvPr id="49" name="Oval 6"/>
              <p:cNvSpPr/>
              <p:nvPr/>
            </p:nvSpPr>
            <p:spPr>
              <a:xfrm>
                <a:off x="2895480" y="4419720"/>
                <a:ext cx="4114800" cy="1523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8"/>
              <p:cNvSpPr/>
              <p:nvPr/>
            </p:nvSpPr>
            <p:spPr>
              <a:xfrm>
                <a:off x="4107960" y="45720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整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Oval 9"/>
            <p:cNvSpPr/>
            <p:nvPr/>
          </p:nvSpPr>
          <p:spPr>
            <a:xfrm>
              <a:off x="4267080" y="4952880"/>
              <a:ext cx="213372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然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43"/>
          <p:cNvGrpSpPr/>
          <p:nvPr/>
        </p:nvGrpSpPr>
        <p:grpSpPr>
          <a:xfrm>
            <a:off x="762120" y="4800600"/>
            <a:ext cx="5532120" cy="1839600"/>
            <a:chOff x="762120" y="4800600"/>
            <a:chExt cx="5532120" cy="1839600"/>
          </a:xfrm>
        </p:grpSpPr>
        <p:sp>
          <p:nvSpPr>
            <p:cNvPr id="53" name="AutoShape 1032"/>
            <p:cNvSpPr/>
            <p:nvPr/>
          </p:nvSpPr>
          <p:spPr>
            <a:xfrm>
              <a:off x="4038840" y="5638680"/>
              <a:ext cx="75960" cy="9140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41"/>
            <p:cNvGrpSpPr/>
            <p:nvPr/>
          </p:nvGrpSpPr>
          <p:grpSpPr>
            <a:xfrm>
              <a:off x="762120" y="4800600"/>
              <a:ext cx="5532120" cy="1839600"/>
              <a:chOff x="762120" y="4800600"/>
              <a:chExt cx="5532120" cy="1839600"/>
            </a:xfrm>
          </p:grpSpPr>
          <p:sp>
            <p:nvSpPr>
              <p:cNvPr id="55" name="Text Box 1033"/>
              <p:cNvSpPr/>
              <p:nvPr/>
            </p:nvSpPr>
            <p:spPr>
              <a:xfrm>
                <a:off x="4547880" y="550980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无限循环小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039"/>
              <p:cNvGrpSpPr/>
              <p:nvPr/>
            </p:nvGrpSpPr>
            <p:grpSpPr>
              <a:xfrm>
                <a:off x="762120" y="4800600"/>
                <a:ext cx="5532120" cy="1839600"/>
                <a:chOff x="762120" y="4800600"/>
                <a:chExt cx="5532120" cy="1839600"/>
              </a:xfrm>
            </p:grpSpPr>
            <p:sp>
              <p:nvSpPr>
                <p:cNvPr id="57" name="Text Box 1028"/>
                <p:cNvSpPr/>
                <p:nvPr/>
              </p:nvSpPr>
              <p:spPr>
                <a:xfrm>
                  <a:off x="762120" y="5181480"/>
                  <a:ext cx="89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小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AutoShape 1029"/>
                <p:cNvSpPr/>
                <p:nvPr/>
              </p:nvSpPr>
              <p:spPr>
                <a:xfrm>
                  <a:off x="1752840" y="4952880"/>
                  <a:ext cx="609480" cy="1218600"/>
                </a:xfrm>
                <a:custGeom>
                  <a:avLst/>
                  <a:gdLst>
                    <a:gd name="textAreaLeft" fmla="*/ 389520 w 609480"/>
                    <a:gd name="textAreaRight" fmla="*/ 609840 w 609480"/>
                    <a:gd name="textAreaTop" fmla="*/ 31680 h 1218600"/>
                    <a:gd name="textAreaBottom" fmla="*/ 1186920 h 121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 Box 1030"/>
                <p:cNvSpPr/>
                <p:nvPr/>
              </p:nvSpPr>
              <p:spPr>
                <a:xfrm>
                  <a:off x="2438640" y="4800600"/>
                  <a:ext cx="251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有限小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Text Box 1031"/>
                <p:cNvSpPr/>
                <p:nvPr/>
              </p:nvSpPr>
              <p:spPr>
                <a:xfrm>
                  <a:off x="2362320" y="5790960"/>
                  <a:ext cx="1828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无限小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Text Box 1034"/>
                <p:cNvSpPr/>
                <p:nvPr/>
              </p:nvSpPr>
              <p:spPr>
                <a:xfrm>
                  <a:off x="4619880" y="6119640"/>
                  <a:ext cx="1674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无限不循环小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" name="Group 1042"/>
          <p:cNvGrpSpPr/>
          <p:nvPr/>
        </p:nvGrpSpPr>
        <p:grpSpPr>
          <a:xfrm>
            <a:off x="762120" y="3048120"/>
            <a:ext cx="2491200" cy="1643040"/>
            <a:chOff x="762120" y="3048120"/>
            <a:chExt cx="2491200" cy="1643040"/>
          </a:xfrm>
        </p:grpSpPr>
        <p:sp>
          <p:nvSpPr>
            <p:cNvPr id="63" name="Text Box 1037"/>
            <p:cNvSpPr/>
            <p:nvPr/>
          </p:nvSpPr>
          <p:spPr>
            <a:xfrm>
              <a:off x="2280240" y="3048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真分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040"/>
            <p:cNvGrpSpPr/>
            <p:nvPr/>
          </p:nvGrpSpPr>
          <p:grpSpPr>
            <a:xfrm>
              <a:off x="762120" y="3332520"/>
              <a:ext cx="2491200" cy="1358640"/>
              <a:chOff x="762120" y="3332520"/>
              <a:chExt cx="2491200" cy="1358640"/>
            </a:xfrm>
          </p:grpSpPr>
          <p:sp>
            <p:nvSpPr>
              <p:cNvPr id="65" name="Text Box 1035"/>
              <p:cNvSpPr/>
              <p:nvPr/>
            </p:nvSpPr>
            <p:spPr>
              <a:xfrm>
                <a:off x="762120" y="3581640"/>
                <a:ext cx="11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分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1036"/>
              <p:cNvSpPr/>
              <p:nvPr/>
            </p:nvSpPr>
            <p:spPr>
              <a:xfrm>
                <a:off x="1676160" y="3332520"/>
                <a:ext cx="456840" cy="1066680"/>
              </a:xfrm>
              <a:custGeom>
                <a:avLst/>
                <a:gdLst>
                  <a:gd name="textAreaLeft" fmla="*/ 291960 w 456840"/>
                  <a:gd name="textAreaRight" fmla="*/ 457200 w 45684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038"/>
              <p:cNvSpPr/>
              <p:nvPr/>
            </p:nvSpPr>
            <p:spPr>
              <a:xfrm>
                <a:off x="2432520" y="41706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假分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AutoShape 1029"/>
          <p:cNvSpPr/>
          <p:nvPr/>
        </p:nvSpPr>
        <p:spPr>
          <a:xfrm>
            <a:off x="1523880" y="1295280"/>
            <a:ext cx="609840" cy="1524240"/>
          </a:xfrm>
          <a:custGeom>
            <a:avLst/>
            <a:gdLst>
              <a:gd name="textAreaLeft" fmla="*/ 389520 w 609840"/>
              <a:gd name="textAreaRight" fmla="*/ 610200 w 609840"/>
              <a:gd name="textAreaTop" fmla="*/ 31680 h 1524240"/>
              <a:gd name="textAreaBottom" fmla="*/ 149256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5400" y="10800"/>
                  <a:pt x="0" y="10800"/>
                </a:cubicBezTo>
                <a:cubicBezTo>
                  <a:pt x="54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60948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2133720" y="1066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236232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2286000" y="24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负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右大括号 28"/>
          <p:cNvSpPr/>
          <p:nvPr/>
        </p:nvSpPr>
        <p:spPr>
          <a:xfrm>
            <a:off x="3581280" y="1295280"/>
            <a:ext cx="304920" cy="83844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838440"/>
              <a:gd name="textAreaBottom" fmla="*/ 830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16200" y="10800"/>
                  <a:pt x="21600" y="10800"/>
                </a:cubicBezTo>
                <a:cubicBezTo>
                  <a:pt x="162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4038480" y="1523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95280" y="404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8300704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这个数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万位上的数字是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在什么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这个数读做什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32000" y="3068640"/>
            <a:ext cx="575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万位上的数字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258920" y="47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个数读做“五十八亿三千零七万零四百二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042920" y="429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403280" y="3933720"/>
            <a:ext cx="42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在亿位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378000"/>
            <a:ext cx="8642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循环小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.12345123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用简便方法记做（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它的小数部分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位上的数字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7"/>
          <p:cNvGrpSpPr/>
          <p:nvPr/>
        </p:nvGrpSpPr>
        <p:grpSpPr>
          <a:xfrm>
            <a:off x="2209680" y="907560"/>
            <a:ext cx="2016360" cy="1242720"/>
            <a:chOff x="2209680" y="907560"/>
            <a:chExt cx="2016360" cy="1242720"/>
          </a:xfrm>
        </p:grpSpPr>
        <p:sp>
          <p:nvSpPr>
            <p:cNvPr id="82" name="Text Box 5"/>
            <p:cNvSpPr/>
            <p:nvPr/>
          </p:nvSpPr>
          <p:spPr>
            <a:xfrm>
              <a:off x="2209680" y="1446840"/>
              <a:ext cx="201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1234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843280" y="92808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>
              <a:off x="3924360" y="90756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4"/>
          <p:cNvSpPr/>
          <p:nvPr/>
        </p:nvSpPr>
        <p:spPr>
          <a:xfrm>
            <a:off x="5410080" y="24375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50920" y="3213000"/>
            <a:ext cx="8642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5.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小数点向左移动两位是原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再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是原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8"/>
              <p:cNvSpPr txBox="1"/>
              <p:nvPr/>
            </p:nvSpPr>
            <p:spPr>
              <a:xfrm>
                <a:off x="2340000" y="3933720"/>
                <a:ext cx="92556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 Box 19"/>
          <p:cNvSpPr/>
          <p:nvPr/>
        </p:nvSpPr>
        <p:spPr>
          <a:xfrm>
            <a:off x="2268360" y="52149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41360" y="345960"/>
            <a:ext cx="7559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说一说你是怎么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90  4005  0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九百零六万零四写作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  7504  9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写成用万作单位是         （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 5622 01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省略亿后面的尾数约是（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066680" y="18288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七百九十亿四千零五万零三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715000" y="2819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060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0666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7504.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447920" y="5791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8920" y="1096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个三位数，个位数上的数字是百位上的数字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十位上的数字刚好是个位与百位上的数字之和。这个三位数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8920" y="33796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个位上的数字是百位上的数字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所以百位上的数字只能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个位上的数字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十位上的数字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+1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71640" y="5589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这个三位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强强在写一个小数时，不小心把小数点向右移动了一位，结果比原数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4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原来这个小数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234936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数点向右移动了一位，则数就变成了原数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981080" y="306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设原来这个小数是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638520" y="378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.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213080" y="450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.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429080" y="522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0.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052720" y="59500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原来这个小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37:18Z</dcterms:created>
  <dc:creator/>
  <dc:description/>
  <dc:language>en-US</dc:language>
  <cp:lastModifiedBy/>
  <dcterms:modified xsi:type="dcterms:W3CDTF">2015-04-08T10:37:23Z</dcterms:modified>
  <cp:revision>1</cp:revision>
  <dc:subject/>
  <dc:title/>
</cp:coreProperties>
</file>