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BD90-4263-484E-B3BD-7EF0EF100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0B09-5256-4EBC-BFD6-8E9EAAC25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34563C-83A5-42DF-849E-340B2D734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8C3A3E-F326-4711-89B0-E10EE3836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E8B84B-5F74-4115-ACA0-2B93F67EF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A83365-53F5-4664-8222-44275A23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261B9C-BA33-4425-BFA6-ACE15DA2C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0B2A9E-5386-4CBE-8B3C-51F767C3D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E1D2EE-2F9D-46C8-AE87-DA5881596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E6E2FF-3BF8-47B0-AC2A-8E272651A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9A6804-8073-4B8E-94D0-18CC10F72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A4A863-1D12-49BE-B292-16AA310E3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8F26-393B-4808-A240-E5180A661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2AEE1F-BE61-4E80-8286-FEA086BE3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5837F9-31A7-48CC-90E1-4C5AAA146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CBBE6F-D20C-4625-A818-9F969F02D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5514B2-812B-4EA2-9CB6-75AA8E9CD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9502EF-CE47-4697-A64E-A116D050D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36FD57-796D-4B49-9D33-CF8DDD24E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79D2FA-D6A6-442A-9839-DCBA294AF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B27FF0-837C-402F-938F-E328A6BB8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362B30-F0B2-461C-823C-4A90350DF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A56544-866D-46BE-8E5F-A5AECDD78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DA23-3B94-4B41-AA73-DB6B47A24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9A2E4F-8082-4899-AEEE-B34AD3766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7EE8D7-634E-466C-A271-56D08939A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1E0E86-0561-42DE-8757-BE9355388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EBEBC2-86EE-4D59-ADFA-0D9B59C8B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3CA918-60BD-4298-919B-ED9BE931A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1CBEBB-D094-470F-835C-880329779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BAAE78-D38B-4B6B-99D3-7ECDDD266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A2C508-D766-43A2-817A-002703E02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E12878-55B2-4E2D-90B1-F3EF3232A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F35EBF-DF29-42B8-B2D5-9482CFA4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43E50-6E92-4B48-B3E3-32214FF1C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1500FC-C785-4CAC-BD79-E7B33E866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16D47E-9870-4AA5-8988-CA7DD4972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5BBA55-82F0-424B-A351-69D8D7B29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12CA16-0819-44D9-8F40-14309985D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163CB0-92AA-4122-B419-6BBA493F9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59398C-E34E-437C-81B9-C20BFA57C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BF3964-BDAA-4058-802C-9B39B310E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3BBA74-D665-43AC-8F4D-A78A346E8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CF98FE-A71B-4F39-B4C9-C7C5114E2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4FDB55-F109-4753-AA5F-CDC34BA74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B7A8A-FDD0-4538-A377-1ECFEA9F1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27BE26-5FDA-4AA2-8F4F-760C44B75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1F2F40-0E1B-4BCC-8B3F-B8E1F2F17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743273-EB0F-4249-B06A-B0E1411B7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FA8623-531E-4AA5-B84B-39C0C871A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3FF5BE-B3F1-415C-BED8-B03752E20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ED647-2E6C-43BE-96F6-EA670E7C2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640F5-5D20-4004-872C-4C9078134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6E4E8-C06F-4EC3-8A19-4C59AF371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03AF6-A10D-4A98-808C-7CE5AAC4E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F7CD5-FFE5-4C40-A52C-1B58FEB6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5851-1D51-490E-9081-7380F1070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C312A-A67F-486A-BE1D-BED3DCB5C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B7B98-1498-4AB1-8AF0-ACA2C334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9B6C4-753B-476B-8CD9-C13C7DDCA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A031D-4BF7-42EB-86D7-AAE41AE45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6A7AC-45F2-40B7-BF6E-EC5B4E8C1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4E62A-0197-4EE3-AD1B-6CFD9E2B3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6C9AE-80D7-4018-AFE5-326E5A43A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CEA66-84C4-4C0D-8383-95E8DB6F1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12604-8FB1-474F-81F7-EEB3FC227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70246-2C36-4A29-96B3-21DCDD36B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DD12-42D5-4A18-AC8B-87E7E17CD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2E4F5-44C9-4D60-84EB-04A2F56CF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404B9-3805-44C6-9402-713B915CF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8A1F2-FEA7-47E0-9742-F7CD89F3E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12783-5AD2-4A82-843C-9A67ED949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9172A-2B43-4AB0-BA08-1A048F184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3495B-2B21-4D90-ABC7-AED45B376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1EBE5-7C0E-4F07-8BB7-99E5B4AE1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62393-9EA7-4A0C-BDE5-86A846D28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488D5-2821-437B-9138-24492C373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17E92-41DF-4D2B-A02C-72C4FCCE7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9166-92B8-4079-B3EF-C79C90C11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E8ED6-4953-4838-8085-C35604B60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EF90D-4FD8-4558-A92F-BE86E7BEF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E6DF6-08F1-4DB7-AC40-8270C686A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849AE-DE12-4EB9-8320-2AA067BE7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ACF44-5C09-404C-B0D9-0F182599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463A4-54ED-470C-BF98-3DAA1A0CD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46B8B-07DD-4879-87D8-48B3AEA29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F0920-F729-4483-AB87-425EE6B6A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3DA14-271C-4071-8210-1B6E39506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F7E4A9-80CA-4552-8137-97931156F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CB35-370B-4614-A949-E11FD3C14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197BAF-F0F7-4D5C-981A-DDC7E5A27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1E7E93-95EC-48B0-9715-E2BEF3D7B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620438-3D3A-4BD0-AC32-5B0BB3685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F4815B-DF5A-46D1-87C3-FFA0301AE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C59572-9531-4898-9898-F56DF1F77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969CE-58DC-46A0-8A31-CD5B05C0E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C30751-48F8-42F9-B032-BC0623507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34638D-AF8E-4C41-B4EF-6F5C6EBD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2966C2-EF42-4644-8FEA-4A7EB6911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354757-C59C-4077-AA14-5682923B0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8D49-66DC-4DA1-AAE7-16591E59A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990FB-3618-4933-B2A7-DCD9617E6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7D3C8A-004D-4FE2-8B19-56FECC77B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A8407A-8F54-4BED-852B-D75CC81F3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A2100D-44E5-490D-A9D8-EA2CD7F62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9E3579-AE24-49E6-9473-5E712565D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7E589D-6172-452D-AE1A-A8C76A625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3BF52E-3636-4AFC-B8A0-C83D53E08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2DEC1E-5CDC-49BF-B32F-5D33616BD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129E58-B845-47D0-A090-3A78D511E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09D94B-3434-4CC5-922A-4D9997462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F8D9-87EA-4021-9754-1F500D65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68C18B-147A-4A69-9C39-89EBA3E57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F68E39-4F97-45D2-9426-84ECF8BF8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8F137F-C48D-4F5A-81C1-3057771E6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FD2868-327F-4A1D-A7B3-04FB12C92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F51BF0-6905-44AF-8E7D-11A967591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FE7803-AC51-4FAF-B898-0AE793481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3907B4-5695-4D68-A868-61495ACA1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CABACB-E094-4372-8C11-EB02FED41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4B85F2-0509-4BCC-BF1F-7891DF854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28650B-DF80-4126-8E80-AFF4829DE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A69F-74B0-4D4B-8805-473258EA9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C019E0-CAD0-41D8-87A7-50E9BA3F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DB461A-7C90-4DA7-BD04-C0201AEDC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AA909D-20C0-4507-8E83-956CFEB4A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5AE2AC-E15B-4489-AB3D-D589354B6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B0C0F9-D8B0-4222-96BD-FCD4A095F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18C586-BB88-4F6E-9472-A6877A537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274ABB-1243-4AD5-932D-E399EB35D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3AF045-98F0-42F6-8BA0-30828F238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17811F-890A-4617-B30F-8D11A761E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7FBA17-1C05-4CB3-84EB-5FACED97A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2E90-1D42-4452-B885-25C2D71DC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17E090-1FF9-409B-B3DE-4A6D5CB8E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BE84E3-F6F5-4414-9F1F-9B3E952C0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71128C-0829-4FF4-870F-06C76142C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842807-AE9B-4672-9527-BB2F6A6F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AED61E-5268-47F1-B3D3-E5D3D17C8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1BBB3D-5F4B-4663-AEF4-DB713077E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5CB0C5-BD48-4247-B0CF-202227492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2DA101-3B72-4573-A4DF-FA0B9A732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3230CE-4F13-4B77-B480-E7E6A8028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0F67D1-8FEA-47A0-AEBE-0899BC227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CEA1F-E89C-4242-879E-4E13151A2D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3F85B-5945-41FD-94BF-BFCF99F5D6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3A7AF-6840-48E2-B3AB-74BEA11E61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C74E4-7C42-485B-BE40-3EFC2CBA44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57BB8-015D-47FF-A84C-892EA29A12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DA11D-A0B6-47B0-933B-A495E4B5CF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84933-33FA-451C-A1C1-D9C2BDA3FA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21105-0EC8-4831-AFF1-F7CA07ED8B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700C7-BF40-429D-ABEF-0591828874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04E37-CC3D-4FEA-BA61-C59F3929E5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B6F97-966E-4FA1-B7FD-5C1DF4F576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2E75E-6054-45CE-82D3-40B51873FB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矩形 3"/>
          <p:cNvSpPr/>
          <p:nvPr/>
        </p:nvSpPr>
        <p:spPr>
          <a:xfrm>
            <a:off x="966600" y="30492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浙教版六年级数学下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矩形 4"/>
          <p:cNvSpPr/>
          <p:nvPr/>
        </p:nvSpPr>
        <p:spPr>
          <a:xfrm>
            <a:off x="1752480" y="2743200"/>
            <a:ext cx="586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第五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整数与小数（一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2"/>
          <p:cNvSpPr/>
          <p:nvPr/>
        </p:nvSpPr>
        <p:spPr>
          <a:xfrm>
            <a:off x="533520" y="838080"/>
            <a:ext cx="84582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地球到月亮相距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  8440  00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米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合（                ） 万米，改写成用亿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单位的数是（          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第五次人口普查，我国人口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十二亿九千五百三十八万人写作（   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Box 2"/>
          <p:cNvSpPr/>
          <p:nvPr/>
        </p:nvSpPr>
        <p:spPr>
          <a:xfrm>
            <a:off x="1981080" y="1600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384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Box 3"/>
          <p:cNvSpPr/>
          <p:nvPr/>
        </p:nvSpPr>
        <p:spPr>
          <a:xfrm>
            <a:off x="3657600" y="22860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3.844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Box 4"/>
          <p:cNvSpPr/>
          <p:nvPr/>
        </p:nvSpPr>
        <p:spPr>
          <a:xfrm>
            <a:off x="6705720" y="380988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129538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矩形 3" descr=""/>
          <p:cNvPicPr/>
          <p:nvPr/>
        </p:nvPicPr>
        <p:blipFill>
          <a:blip r:embed="rId1"/>
          <a:stretch/>
        </p:blipFill>
        <p:spPr>
          <a:xfrm>
            <a:off x="3127320" y="2822400"/>
            <a:ext cx="2962440" cy="92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Text Box 2"/>
          <p:cNvSpPr/>
          <p:nvPr/>
        </p:nvSpPr>
        <p:spPr>
          <a:xfrm>
            <a:off x="1695960" y="762120"/>
            <a:ext cx="5466240" cy="49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实践应用提高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三个连续的自然数，中间的一个为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其余的数分别为（        ）、（ 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675□589≈67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万，那么□里可填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数字有（            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Box 2"/>
          <p:cNvSpPr/>
          <p:nvPr/>
        </p:nvSpPr>
        <p:spPr>
          <a:xfrm>
            <a:off x="4038480" y="26668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n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矩形 3"/>
          <p:cNvSpPr/>
          <p:nvPr/>
        </p:nvSpPr>
        <p:spPr>
          <a:xfrm>
            <a:off x="6164640" y="2698920"/>
            <a:ext cx="9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n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Box 4"/>
          <p:cNvSpPr/>
          <p:nvPr/>
        </p:nvSpPr>
        <p:spPr>
          <a:xfrm>
            <a:off x="2514600" y="419256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矩形 4" descr=""/>
          <p:cNvPicPr/>
          <p:nvPr/>
        </p:nvPicPr>
        <p:blipFill>
          <a:blip r:embed="rId1"/>
          <a:stretch/>
        </p:blipFill>
        <p:spPr>
          <a:xfrm>
            <a:off x="3505320" y="2670120"/>
            <a:ext cx="2273040" cy="920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80600" y="380880"/>
            <a:ext cx="864252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Times New Roman"/>
                <a:ea typeface="楷体_GB2312"/>
              </a:rPr>
              <a:t>自然数、整数的意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提问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:⑴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我们在数物体的时候，怎样来表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物体的个数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⑵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一个物体也没有，用什么数来表示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⑶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举例说明哪些数都是自然数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⑷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举例说明我们已学过的整数有哪些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b050"/>
                </a:solidFill>
                <a:latin typeface="Times New Roman"/>
                <a:ea typeface="楷体_GB2312"/>
              </a:rPr>
              <a:t>自然数</a:t>
            </a:r>
            <a:r>
              <a:rPr b="1" lang="en-US" sz="3600" spc="-1" strike="noStrike">
                <a:solidFill>
                  <a:srgbClr val="00b050"/>
                </a:solidFill>
                <a:latin typeface="Times New Roman"/>
                <a:ea typeface="楷体_GB2312"/>
              </a:rPr>
              <a:t>:0</a:t>
            </a:r>
            <a:r>
              <a:rPr b="1" lang="zh-CN" sz="3600" spc="-1" strike="noStrike">
                <a:solidFill>
                  <a:srgbClr val="00b050"/>
                </a:solidFill>
                <a:latin typeface="Times New Roman"/>
                <a:ea typeface="楷体_GB2312"/>
              </a:rPr>
              <a:t>和</a:t>
            </a:r>
            <a:r>
              <a:rPr b="1" lang="en-US" sz="3600" spc="-1" strike="noStrike">
                <a:solidFill>
                  <a:srgbClr val="00b050"/>
                </a:solidFill>
                <a:latin typeface="Times New Roman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b050"/>
                </a:solidFill>
                <a:latin typeface="Times New Roman"/>
                <a:ea typeface="楷体_GB2312"/>
              </a:rPr>
              <a:t>、</a:t>
            </a:r>
            <a:r>
              <a:rPr b="1" lang="en-US" sz="3600" spc="-1" strike="noStrike">
                <a:solidFill>
                  <a:srgbClr val="00b050"/>
                </a:solidFill>
                <a:latin typeface="Times New Roman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b050"/>
                </a:solidFill>
                <a:latin typeface="Times New Roman"/>
                <a:ea typeface="楷体_GB2312"/>
              </a:rPr>
              <a:t>、</a:t>
            </a:r>
            <a:r>
              <a:rPr b="1" lang="en-US" sz="3600" spc="-1" strike="noStrike">
                <a:solidFill>
                  <a:srgbClr val="00b050"/>
                </a:solidFill>
                <a:latin typeface="Times New Roman"/>
                <a:ea typeface="楷体_GB2312"/>
              </a:rPr>
              <a:t>3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4"/>
          <p:cNvSpPr/>
          <p:nvPr/>
        </p:nvSpPr>
        <p:spPr>
          <a:xfrm>
            <a:off x="314640" y="48610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Times New Roman"/>
                <a:ea typeface="楷体_GB2312"/>
              </a:rPr>
              <a:t>整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5"/>
          <p:cNvSpPr/>
          <p:nvPr/>
        </p:nvSpPr>
        <p:spPr>
          <a:xfrm>
            <a:off x="6953760" y="4365720"/>
            <a:ext cx="96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Times New Roman"/>
                <a:ea typeface="楷体_GB2312"/>
              </a:rPr>
              <a:t>(≥0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6"/>
          <p:cNvSpPr/>
          <p:nvPr/>
        </p:nvSpPr>
        <p:spPr>
          <a:xfrm>
            <a:off x="1583280" y="5254560"/>
            <a:ext cx="188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Times New Roman"/>
                <a:ea typeface="楷体_GB2312"/>
              </a:rPr>
              <a:t>……</a:t>
            </a:r>
            <a:r>
              <a:rPr b="1" lang="en-US" sz="3600" spc="-1" strike="noStrike">
                <a:solidFill>
                  <a:srgbClr val="00b050"/>
                </a:solidFill>
                <a:latin typeface="Times New Roman"/>
                <a:ea typeface="楷体_GB2312"/>
              </a:rPr>
              <a:t>(&lt;0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utoShape 7"/>
          <p:cNvSpPr/>
          <p:nvPr/>
        </p:nvSpPr>
        <p:spPr>
          <a:xfrm>
            <a:off x="1230480" y="4605480"/>
            <a:ext cx="144360" cy="1152360"/>
          </a:xfrm>
          <a:custGeom>
            <a:avLst/>
            <a:gdLst>
              <a:gd name="textAreaLeft" fmla="*/ 92160 w 144360"/>
              <a:gd name="textAreaRight" fmla="*/ 144360 w 1443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4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4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89344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Times New Roman"/>
                <a:ea typeface="宋体"/>
              </a:rPr>
              <a:t>小数的意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⑴</a:t>
            </a:r>
            <a:r>
              <a:rPr b="1" lang="zh-CN" sz="3600" spc="-1" strike="noStrike">
                <a:solidFill>
                  <a:srgbClr val="00b050"/>
                </a:solidFill>
                <a:latin typeface="Times New Roman"/>
                <a:ea typeface="宋体"/>
              </a:rPr>
              <a:t>意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把整数“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平均分成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份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0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份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00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份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……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，这样的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份或几份分别是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分之几、百分之几、千分之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……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，可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用小数来表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⑵</a:t>
            </a:r>
            <a:r>
              <a:rPr b="1" lang="zh-CN" sz="3600" spc="-1" strike="noStrike">
                <a:solidFill>
                  <a:srgbClr val="00b050"/>
                </a:solidFill>
                <a:latin typeface="Times New Roman"/>
                <a:ea typeface="宋体"/>
              </a:rPr>
              <a:t>分数和小数的关系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: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小数是分母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0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000……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的分数的另一种表示形式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⑶</a:t>
            </a:r>
            <a:r>
              <a:rPr b="1" lang="zh-CN" sz="3600" spc="-1" strike="noStrike">
                <a:solidFill>
                  <a:srgbClr val="00b050"/>
                </a:solidFill>
                <a:latin typeface="Times New Roman"/>
                <a:ea typeface="宋体"/>
              </a:rPr>
              <a:t>记数单位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十分之一、百分之一、千分之一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……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1000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1000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1000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1000"/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1000"/>
                                        <p:tgtEl>
                                          <p:spTgt spid="4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1000"/>
                                        <p:tgtEl>
                                          <p:spTgt spid="4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1000"/>
                                        <p:tgtEl>
                                          <p:spTgt spid="4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1000"/>
                                        <p:tgtEl>
                                          <p:spTgt spid="4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04920" y="228240"/>
            <a:ext cx="8642160" cy="597708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⑷</a:t>
            </a:r>
            <a:r>
              <a:rPr b="1" lang="zh-CN" sz="3600" spc="-1" strike="noStrike">
                <a:solidFill>
                  <a:srgbClr val="00b050"/>
                </a:solidFill>
                <a:latin typeface="楷体_GB2312"/>
                <a:ea typeface="楷体_GB2312"/>
              </a:rPr>
              <a:t>分类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小数部分的特征分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8"/>
          <p:cNvSpPr/>
          <p:nvPr/>
        </p:nvSpPr>
        <p:spPr>
          <a:xfrm>
            <a:off x="719640" y="26668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楷体_GB2312"/>
                <a:ea typeface="楷体_GB2312"/>
              </a:rPr>
              <a:t>小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9"/>
          <p:cNvSpPr/>
          <p:nvPr/>
        </p:nvSpPr>
        <p:spPr>
          <a:xfrm>
            <a:off x="2351880" y="19810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楷体_GB2312"/>
                <a:ea typeface="楷体_GB2312"/>
              </a:rPr>
              <a:t>有限小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10"/>
          <p:cNvSpPr/>
          <p:nvPr/>
        </p:nvSpPr>
        <p:spPr>
          <a:xfrm>
            <a:off x="1752480" y="2209680"/>
            <a:ext cx="71640" cy="1511280"/>
          </a:xfrm>
          <a:custGeom>
            <a:avLst/>
            <a:gdLst>
              <a:gd name="textAreaLeft" fmla="*/ 45720 w 71640"/>
              <a:gd name="textAreaRight" fmla="*/ 72000 w 7164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227"/>
                </a:lnTo>
                <a:cubicBezTo>
                  <a:pt x="10800" y="10127"/>
                  <a:pt x="5400" y="11027"/>
                  <a:pt x="0" y="11027"/>
                </a:cubicBezTo>
                <a:cubicBezTo>
                  <a:pt x="5400" y="11027"/>
                  <a:pt x="10800" y="11927"/>
                  <a:pt x="10800" y="12827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1"/>
          <p:cNvSpPr/>
          <p:nvPr/>
        </p:nvSpPr>
        <p:spPr>
          <a:xfrm>
            <a:off x="2427840" y="3048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楷体_GB2312"/>
                <a:ea typeface="楷体_GB2312"/>
              </a:rPr>
              <a:t>无限小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12"/>
          <p:cNvSpPr/>
          <p:nvPr/>
        </p:nvSpPr>
        <p:spPr>
          <a:xfrm>
            <a:off x="4267080" y="2819520"/>
            <a:ext cx="144720" cy="1081080"/>
          </a:xfrm>
          <a:custGeom>
            <a:avLst/>
            <a:gdLst>
              <a:gd name="textAreaLeft" fmla="*/ 92520 w 144720"/>
              <a:gd name="textAreaRight" fmla="*/ 145080 w 14472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13"/>
          <p:cNvSpPr/>
          <p:nvPr/>
        </p:nvSpPr>
        <p:spPr>
          <a:xfrm>
            <a:off x="4866480" y="26668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楷体_GB2312"/>
                <a:ea typeface="楷体_GB2312"/>
              </a:rPr>
              <a:t>循环小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14"/>
          <p:cNvSpPr/>
          <p:nvPr/>
        </p:nvSpPr>
        <p:spPr>
          <a:xfrm>
            <a:off x="4872960" y="342900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50"/>
                </a:solidFill>
                <a:latin typeface="楷体_GB2312"/>
                <a:ea typeface="楷体_GB2312"/>
              </a:rPr>
              <a:t>不循环小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64216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.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整数和小数的数位顺序表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324000" y="1052640"/>
          <a:ext cx="8496000" cy="4956120"/>
        </p:xfrm>
        <a:graphic>
          <a:graphicData uri="http://schemas.openxmlformats.org/drawingml/2006/table">
            <a:tbl>
              <a:tblPr/>
              <a:tblGrid>
                <a:gridCol w="425160"/>
                <a:gridCol w="424080"/>
                <a:gridCol w="446040"/>
                <a:gridCol w="431640"/>
                <a:gridCol w="397080"/>
                <a:gridCol w="425520"/>
                <a:gridCol w="423720"/>
                <a:gridCol w="411120"/>
                <a:gridCol w="438120"/>
                <a:gridCol w="425520"/>
                <a:gridCol w="425520"/>
                <a:gridCol w="438120"/>
                <a:gridCol w="411120"/>
                <a:gridCol w="423720"/>
                <a:gridCol w="425520"/>
                <a:gridCol w="425520"/>
                <a:gridCol w="423720"/>
                <a:gridCol w="425520"/>
                <a:gridCol w="424080"/>
                <a:gridCol w="425160"/>
              </a:tblGrid>
              <a:tr h="57816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1368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00b050"/>
                    </a:solidFill>
                  </a:tcPr>
                </a:tc>
                <a:tc gridSpan="1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整    数    部    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1368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00b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小数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1368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00b050"/>
                    </a:solidFill>
                  </a:tcPr>
                </a:tc>
                <a:tc gridSpan="5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ff00"/>
                      </a:solidFill>
                    </a:lnL>
                    <a:lnR w="13680">
                      <a:solidFill>
                        <a:srgbClr val="00ff00"/>
                      </a:solidFill>
                    </a:lnR>
                    <a:lnT w="13680">
                      <a:solidFill>
                        <a:srgbClr val="00ff00"/>
                      </a:solidFill>
                    </a:lnT>
                    <a:lnB>
                      <a:noFill/>
                    </a:lnB>
                    <a:solidFill>
                      <a:srgbClr val="00b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00b050"/>
                    </a:solidFill>
                  </a:tcPr>
                </a:tc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亿  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00b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万  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00b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个  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00b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ff00"/>
                      </a:solidFill>
                    </a:lnL>
                    <a:lnR w="13680">
                      <a:solidFill>
                        <a:srgbClr val="00ff00"/>
                      </a:solidFill>
                    </a:lnR>
                    <a:lnT>
                      <a:noFill/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00b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8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Arial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00b050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十分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百分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千分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万分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ff00"/>
                      </a:solidFill>
                    </a:lnL>
                    <a:lnR w="1368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1598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计数单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Arial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00b05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十分之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百分之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千分之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万分之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ff00"/>
                      </a:solidFill>
                    </a:lnL>
                    <a:lnR w="1368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00b050"/>
                    </a:solidFill>
                  </a:tcPr>
                </a:tc>
              </a:tr>
            </a:tbl>
          </a:graphicData>
        </a:graphic>
      </p:graphicFrame>
      <p:sp>
        <p:nvSpPr>
          <p:cNvPr id="510" name="Text Box 357"/>
          <p:cNvSpPr/>
          <p:nvPr/>
        </p:nvSpPr>
        <p:spPr>
          <a:xfrm>
            <a:off x="6921000" y="134136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小 数 部 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361"/>
          <p:cNvSpPr/>
          <p:nvPr/>
        </p:nvSpPr>
        <p:spPr>
          <a:xfrm>
            <a:off x="6373800" y="364500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364"/>
          <p:cNvSpPr/>
          <p:nvPr/>
        </p:nvSpPr>
        <p:spPr>
          <a:xfrm rot="5400000">
            <a:off x="5914800" y="45187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365"/>
          <p:cNvSpPr/>
          <p:nvPr/>
        </p:nvSpPr>
        <p:spPr>
          <a:xfrm rot="16200000">
            <a:off x="5859000" y="53110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10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Text Box 4"/>
          <p:cNvSpPr/>
          <p:nvPr/>
        </p:nvSpPr>
        <p:spPr>
          <a:xfrm>
            <a:off x="395280" y="404640"/>
            <a:ext cx="835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5830070420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这个数中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万位上的数字是几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？“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在什么位上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？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这个数读做什么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6"/>
          <p:cNvSpPr/>
          <p:nvPr/>
        </p:nvSpPr>
        <p:spPr>
          <a:xfrm>
            <a:off x="1332000" y="3068640"/>
            <a:ext cx="54496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万位上的数字是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7"/>
          <p:cNvSpPr/>
          <p:nvPr/>
        </p:nvSpPr>
        <p:spPr>
          <a:xfrm>
            <a:off x="1258920" y="472428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这个数读做“五十八亿三千零七万零四百二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8"/>
          <p:cNvSpPr/>
          <p:nvPr/>
        </p:nvSpPr>
        <p:spPr>
          <a:xfrm>
            <a:off x="1042920" y="4292640"/>
            <a:ext cx="720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9"/>
          <p:cNvSpPr/>
          <p:nvPr/>
        </p:nvSpPr>
        <p:spPr>
          <a:xfrm>
            <a:off x="1403280" y="3933720"/>
            <a:ext cx="522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在亿位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Text Box 4"/>
          <p:cNvSpPr/>
          <p:nvPr/>
        </p:nvSpPr>
        <p:spPr>
          <a:xfrm>
            <a:off x="250920" y="378000"/>
            <a:ext cx="864216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循环小数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0.1234512345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…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用简便方法记做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（               ），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它的小数部分第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19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位上的数字是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（               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Group 17"/>
          <p:cNvGrpSpPr/>
          <p:nvPr/>
        </p:nvGrpSpPr>
        <p:grpSpPr>
          <a:xfrm>
            <a:off x="2340000" y="907560"/>
            <a:ext cx="2016000" cy="1298520"/>
            <a:chOff x="2340000" y="907560"/>
            <a:chExt cx="2016000" cy="1298520"/>
          </a:xfrm>
        </p:grpSpPr>
        <p:sp>
          <p:nvSpPr>
            <p:cNvPr id="521" name="Text Box 5"/>
            <p:cNvSpPr/>
            <p:nvPr/>
          </p:nvSpPr>
          <p:spPr>
            <a:xfrm>
              <a:off x="2340000" y="1502640"/>
              <a:ext cx="2016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0.1234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Text Box 10"/>
            <p:cNvSpPr/>
            <p:nvPr/>
          </p:nvSpPr>
          <p:spPr>
            <a:xfrm>
              <a:off x="2843280" y="928080"/>
              <a:ext cx="360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.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Text Box 11"/>
            <p:cNvSpPr/>
            <p:nvPr/>
          </p:nvSpPr>
          <p:spPr>
            <a:xfrm>
              <a:off x="3924360" y="907560"/>
              <a:ext cx="287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.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Text Box 14"/>
          <p:cNvSpPr/>
          <p:nvPr/>
        </p:nvSpPr>
        <p:spPr>
          <a:xfrm>
            <a:off x="5508720" y="23565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15"/>
          <p:cNvSpPr/>
          <p:nvPr/>
        </p:nvSpPr>
        <p:spPr>
          <a:xfrm>
            <a:off x="250920" y="3213000"/>
            <a:ext cx="86421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把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25.4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的小数点向左移动两位是原数的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（               ），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再乘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100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是原数的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（               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6" name="Object 18"/>
              <p:cNvSpPr txBox="1"/>
              <p:nvPr/>
            </p:nvSpPr>
            <p:spPr>
              <a:xfrm>
                <a:off x="2340000" y="3933720"/>
                <a:ext cx="925560" cy="130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7" name="Text Box 19"/>
          <p:cNvSpPr/>
          <p:nvPr/>
        </p:nvSpPr>
        <p:spPr>
          <a:xfrm>
            <a:off x="2268360" y="521496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矩形 3" descr=""/>
          <p:cNvPicPr/>
          <p:nvPr/>
        </p:nvPicPr>
        <p:blipFill>
          <a:blip r:embed="rId1"/>
          <a:stretch/>
        </p:blipFill>
        <p:spPr>
          <a:xfrm>
            <a:off x="3048120" y="2895480"/>
            <a:ext cx="2968560" cy="9208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Text Box 2"/>
          <p:cNvSpPr/>
          <p:nvPr/>
        </p:nvSpPr>
        <p:spPr>
          <a:xfrm>
            <a:off x="457200" y="301680"/>
            <a:ext cx="85345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一、填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自然数的单位是（       ），自然数有（        ）个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7423.8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是由（     ）个万、（    ）个千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   ）个百、（     ）个十、（    ）个一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    ）个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.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（     ）个百分之一组成的数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省略万后面的尾数约是（  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  4002  00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亿作单位写作（                ）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四舍五入到亿位是（     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Box 2"/>
          <p:cNvSpPr/>
          <p:nvPr/>
        </p:nvSpPr>
        <p:spPr>
          <a:xfrm>
            <a:off x="4110120" y="114300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Box 3"/>
          <p:cNvSpPr/>
          <p:nvPr/>
        </p:nvSpPr>
        <p:spPr>
          <a:xfrm>
            <a:off x="6934320" y="114300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无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Box 4"/>
          <p:cNvSpPr/>
          <p:nvPr/>
        </p:nvSpPr>
        <p:spPr>
          <a:xfrm>
            <a:off x="3567240" y="19908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Box 5"/>
          <p:cNvSpPr/>
          <p:nvPr/>
        </p:nvSpPr>
        <p:spPr>
          <a:xfrm>
            <a:off x="5715000" y="20239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Box 6"/>
          <p:cNvSpPr/>
          <p:nvPr/>
        </p:nvSpPr>
        <p:spPr>
          <a:xfrm>
            <a:off x="990720" y="240984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Box 7"/>
          <p:cNvSpPr/>
          <p:nvPr/>
        </p:nvSpPr>
        <p:spPr>
          <a:xfrm>
            <a:off x="3141720" y="2444760"/>
            <a:ext cx="2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Box 8"/>
          <p:cNvSpPr/>
          <p:nvPr/>
        </p:nvSpPr>
        <p:spPr>
          <a:xfrm>
            <a:off x="5299200" y="240984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Box 9"/>
          <p:cNvSpPr/>
          <p:nvPr/>
        </p:nvSpPr>
        <p:spPr>
          <a:xfrm>
            <a:off x="990720" y="290196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Box 10"/>
          <p:cNvSpPr/>
          <p:nvPr/>
        </p:nvSpPr>
        <p:spPr>
          <a:xfrm>
            <a:off x="3370320" y="290196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Box 11"/>
          <p:cNvSpPr/>
          <p:nvPr/>
        </p:nvSpPr>
        <p:spPr>
          <a:xfrm>
            <a:off x="4633920" y="32767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6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Box 12"/>
          <p:cNvSpPr/>
          <p:nvPr/>
        </p:nvSpPr>
        <p:spPr>
          <a:xfrm>
            <a:off x="4384800" y="462924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7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Box 13"/>
          <p:cNvSpPr/>
          <p:nvPr/>
        </p:nvSpPr>
        <p:spPr>
          <a:xfrm>
            <a:off x="5886360" y="41148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7.400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亿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9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8T10:34:28Z</dcterms:created>
  <dc:creator/>
  <dc:description/>
  <dc:language>en-US</dc:language>
  <cp:lastModifiedBy/>
  <dcterms:modified xsi:type="dcterms:W3CDTF">2015-04-08T10:34:43Z</dcterms:modified>
  <cp:revision>1</cp:revision>
  <dc:subject/>
  <dc:title/>
</cp:coreProperties>
</file>