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1113-C9A8-4B6E-A1A9-DE8356DD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E795-701A-42DE-9448-B5278FD4505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4ECA-D73E-440D-AC02-CC31D5E88F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DA9-547E-409F-A962-9E7B6CD9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4049-7E2D-4413-8065-EB4AA018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A400-0C64-46B3-96D1-ED0A3DC2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1BB0-6388-42A0-9AE9-2F80758D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9A7-984A-4FD9-B5DB-85FBD0E5B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35E-9991-43FC-BDEE-F3D27ECB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04D3-1BB4-4C80-BE3E-7852535C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DAAD-D93A-4EA2-81C2-E089A1B1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17F-5B0E-47BB-A872-1F99C19C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B8C-E9E8-4AA2-8E8B-414827C9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F8E-3219-4A3B-AD47-98165505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3D9-6512-415A-A683-56795C49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A00A-FF27-4EC0-83CB-515584439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1" descr=""/>
          <p:cNvPicPr/>
          <p:nvPr/>
        </p:nvPicPr>
        <p:blipFill>
          <a:blip r:embed="rId2"/>
          <a:stretch/>
        </p:blipFill>
        <p:spPr>
          <a:xfrm>
            <a:off x="1298520" y="2286000"/>
            <a:ext cx="55292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3"/>
          <p:cNvSpPr/>
          <p:nvPr/>
        </p:nvSpPr>
        <p:spPr>
          <a:xfrm>
            <a:off x="357120" y="428760"/>
            <a:ext cx="80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是一辆汽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: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出发时和行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后里程表上显示的千米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6"/>
          <p:cNvSpPr/>
          <p:nvPr/>
        </p:nvSpPr>
        <p:spPr>
          <a:xfrm>
            <a:off x="611640" y="2344680"/>
            <a:ext cx="541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汽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时行驶了多少千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3479400" y="3773520"/>
            <a:ext cx="109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如果汽车的速度不变，请完成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1214280" y="3130560"/>
            <a:ext cx="493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81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－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72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千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00040" y="4702320"/>
          <a:ext cx="8001000" cy="1036440"/>
        </p:xfrm>
        <a:graphic>
          <a:graphicData uri="http://schemas.openxmlformats.org/drawingml/2006/table">
            <a:tbl>
              <a:tblPr/>
              <a:tblGrid>
                <a:gridCol w="2571840"/>
                <a:gridCol w="1000080"/>
                <a:gridCol w="928800"/>
                <a:gridCol w="857160"/>
                <a:gridCol w="785880"/>
                <a:gridCol w="857160"/>
                <a:gridCol w="1000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（时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路程（千米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 w="5760">
                      <a:solidFill>
                        <a:srgbClr val="7030a0"/>
                      </a:solidFill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7030a0"/>
                      </a:solidFill>
                    </a:lnL>
                    <a:lnR>
                      <a:noFill/>
                    </a:lnR>
                    <a:lnT w="5760">
                      <a:solidFill>
                        <a:srgbClr val="7030a0"/>
                      </a:solidFill>
                    </a:lnT>
                    <a:lnB w="5760">
                      <a:solidFill>
                        <a:srgbClr val="7030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TextBox 16"/>
          <p:cNvSpPr/>
          <p:nvPr/>
        </p:nvSpPr>
        <p:spPr>
          <a:xfrm>
            <a:off x="5786280" y="5202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6643800" y="5202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0"/>
          <p:cNvSpPr/>
          <p:nvPr/>
        </p:nvSpPr>
        <p:spPr>
          <a:xfrm>
            <a:off x="7572240" y="520236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C:\Users\jzzou\Desktop\河北底图\正文(18)1.png"/>
          <p:cNvPicPr/>
          <p:nvPr/>
        </p:nvPicPr>
        <p:blipFill>
          <a:blip r:embed="rId1"/>
          <a:stretch/>
        </p:blipFill>
        <p:spPr>
          <a:xfrm>
            <a:off x="2786040" y="1071720"/>
            <a:ext cx="45007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个成正比例的量，它们的对应数之比也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/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有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1/Y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1/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1"/>
          <p:cNvSpPr/>
          <p:nvPr/>
        </p:nvSpPr>
        <p:spPr>
          <a:xfrm>
            <a:off x="762120" y="114300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回顾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比例是表示两个比相等的式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一个比例中，两端的两项叫做比例的外项，中间的两项叫做比例的内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一个比例中，两个外项的积等于两个內项的积，这叫做比例的基本性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6000" y="189000"/>
            <a:ext cx="87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6858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客车的速度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货车的速度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。两车同时相向而行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后相遇。先写出客车与货车速度的比，再写出相遇时两车行驶路程的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134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87280" y="1341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客车和货车的速度比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03280" y="21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 : 60 = 9 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185840" y="27874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客车和货车行驶路程的比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98560" y="3573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×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×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  270  : 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042920" y="486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一定，速度和行驶路程成正比例，两个速度的比等于对应的两个行驶路程的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42884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4 :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79720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9 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857920" y="3573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70  : 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1403280" y="42274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 9  :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409760" y="42148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 9  :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96"/>
          <p:cNvSpPr/>
          <p:nvPr/>
        </p:nvSpPr>
        <p:spPr>
          <a:xfrm>
            <a:off x="468360" y="21420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练习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客车与货车分别从相距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4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千米的甲、乙两地相向开出，两车速度相同。相遇时，客车与货车行驶的时间比是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: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客车与货车各行驶了多少千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571680" y="39974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1500120" y="438948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速度一定，时间和行驶路程成正比例，两个时间的比等于对应的两个行驶路程的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214200" y="28584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设两车相遇时，客车行驶了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千米，货车行驶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"/>
          <p:cNvSpPr/>
          <p:nvPr/>
        </p:nvSpPr>
        <p:spPr>
          <a:xfrm>
            <a:off x="428760" y="170028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则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9"/>
          <p:cNvGrpSpPr/>
          <p:nvPr/>
        </p:nvGrpSpPr>
        <p:grpSpPr>
          <a:xfrm>
            <a:off x="2928960" y="1622520"/>
            <a:ext cx="2500200" cy="1163520"/>
            <a:chOff x="2928960" y="1622520"/>
            <a:chExt cx="2500200" cy="1163520"/>
          </a:xfrm>
        </p:grpSpPr>
        <mc:AlternateContent>
          <mc:Choice xmlns:a14="http://schemas.microsoft.com/office/drawing/2010/main" Requires="a14">
            <p:sp>
              <p:nvSpPr>
                <p:cNvPr id="69" name="Object 2"/>
                <p:cNvSpPr txBox="1"/>
                <p:nvPr/>
              </p:nvSpPr>
              <p:spPr>
                <a:xfrm>
                  <a:off x="2928960" y="1630440"/>
                  <a:ext cx="395280" cy="115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0" name="TextBox 4"/>
            <p:cNvSpPr/>
            <p:nvPr/>
          </p:nvSpPr>
          <p:spPr>
            <a:xfrm>
              <a:off x="3357360" y="1930320"/>
              <a:ext cx="78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=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" name="Object 3"/>
                <p:cNvSpPr txBox="1"/>
                <p:nvPr/>
              </p:nvSpPr>
              <p:spPr>
                <a:xfrm>
                  <a:off x="3867120" y="1622520"/>
                  <a:ext cx="1562040" cy="116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40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" name="TextBox 6"/>
          <p:cNvSpPr/>
          <p:nvPr/>
        </p:nvSpPr>
        <p:spPr>
          <a:xfrm>
            <a:off x="1857240" y="3071880"/>
            <a:ext cx="557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×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"/>
          <p:cNvSpPr/>
          <p:nvPr/>
        </p:nvSpPr>
        <p:spPr>
          <a:xfrm>
            <a:off x="2857680" y="40006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-71280" y="4929120"/>
            <a:ext cx="94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货车行驶路程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千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-71280" y="57834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答：客车行驶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千米，货车行驶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千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文本框 1"/>
          <p:cNvSpPr/>
          <p:nvPr/>
        </p:nvSpPr>
        <p:spPr>
          <a:xfrm>
            <a:off x="762120" y="5335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工作效率一定，两个工作时间数值的比等于对应的两个（    ）数值的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457200" y="3276720"/>
          <a:ext cx="8077320" cy="1036440"/>
        </p:xfrm>
        <a:graphic>
          <a:graphicData uri="http://schemas.openxmlformats.org/drawingml/2006/table">
            <a:tbl>
              <a:tblPr/>
              <a:tblGrid>
                <a:gridCol w="2265480"/>
                <a:gridCol w="1084320"/>
                <a:gridCol w="1180800"/>
                <a:gridCol w="1281240"/>
                <a:gridCol w="1181160"/>
                <a:gridCol w="108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工作时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作总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8" name="文本框 3"/>
          <p:cNvSpPr/>
          <p:nvPr/>
        </p:nvSpPr>
        <p:spPr>
          <a:xfrm>
            <a:off x="6172200" y="18111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609480" y="137160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数量一定，总价与单价成（   ）比例，两个总价数值的比等于对应的两个（       ）数值的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6705720" y="20415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2666880" y="32004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单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85880" y="1297080"/>
          <a:ext cx="7786800" cy="1066680"/>
        </p:xfrm>
        <a:graphic>
          <a:graphicData uri="http://schemas.openxmlformats.org/drawingml/2006/table">
            <a:tbl>
              <a:tblPr/>
              <a:tblGrid>
                <a:gridCol w="2571840"/>
                <a:gridCol w="928440"/>
                <a:gridCol w="928800"/>
                <a:gridCol w="857160"/>
                <a:gridCol w="857160"/>
                <a:gridCol w="928800"/>
                <a:gridCol w="714600"/>
              </a:tblGrid>
              <a:tr h="533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 w="5760">
                      <a:solidFill>
                        <a:srgbClr val="00b0f0"/>
                      </a:solidFill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b0f0"/>
                      </a:solidFill>
                    </a:lnL>
                    <a:lnR>
                      <a:noFill/>
                    </a:lnR>
                    <a:lnT w="5760">
                      <a:solidFill>
                        <a:srgbClr val="00b0f0"/>
                      </a:solidFill>
                    </a:lnT>
                    <a:lnB w="5760">
                      <a:solidFill>
                        <a:srgbClr val="00b0f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TextBox 13"/>
          <p:cNvSpPr/>
          <p:nvPr/>
        </p:nvSpPr>
        <p:spPr>
          <a:xfrm>
            <a:off x="357120" y="51120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淘气的身高随年龄变化情况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93"/>
          <p:cNvGrpSpPr/>
          <p:nvPr/>
        </p:nvGrpSpPr>
        <p:grpSpPr>
          <a:xfrm>
            <a:off x="714240" y="1344600"/>
            <a:ext cx="8072640" cy="1046160"/>
            <a:chOff x="714240" y="1344600"/>
            <a:chExt cx="8072640" cy="1046160"/>
          </a:xfrm>
        </p:grpSpPr>
        <p:sp>
          <p:nvSpPr>
            <p:cNvPr id="85" name="TextBox 5"/>
            <p:cNvSpPr/>
            <p:nvPr/>
          </p:nvSpPr>
          <p:spPr>
            <a:xfrm>
              <a:off x="784080" y="1344600"/>
              <a:ext cx="2716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淘气的年龄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80"/>
            <p:cNvSpPr/>
            <p:nvPr/>
          </p:nvSpPr>
          <p:spPr>
            <a:xfrm>
              <a:off x="714240" y="1870200"/>
              <a:ext cx="271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淘气的身高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c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82"/>
            <p:cNvSpPr/>
            <p:nvPr/>
          </p:nvSpPr>
          <p:spPr>
            <a:xfrm>
              <a:off x="3643200" y="1368360"/>
              <a:ext cx="500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        5        6       7        8        9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83"/>
            <p:cNvSpPr/>
            <p:nvPr/>
          </p:nvSpPr>
          <p:spPr>
            <a:xfrm>
              <a:off x="3571920" y="184644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       53      55     57      60      6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13"/>
          <p:cNvSpPr/>
          <p:nvPr/>
        </p:nvSpPr>
        <p:spPr>
          <a:xfrm>
            <a:off x="214200" y="2743200"/>
            <a:ext cx="842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淘气的年龄和身高成正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100"/>
          <p:cNvGrpSpPr/>
          <p:nvPr/>
        </p:nvGrpSpPr>
        <p:grpSpPr>
          <a:xfrm>
            <a:off x="142920" y="3559320"/>
            <a:ext cx="8572320" cy="1460880"/>
            <a:chOff x="142920" y="3559320"/>
            <a:chExt cx="8572320" cy="1460880"/>
          </a:xfrm>
        </p:grpSpPr>
        <p:sp>
          <p:nvSpPr>
            <p:cNvPr id="91" name="TextBox 61"/>
            <p:cNvSpPr/>
            <p:nvPr/>
          </p:nvSpPr>
          <p:spPr>
            <a:xfrm>
              <a:off x="142920" y="3559320"/>
              <a:ext cx="8572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  <a:ea typeface="Times New Roman"/>
                </a:rPr>
                <a:t>答：淘气的年龄和身高不成正比例，因为他们的比例值不相等，例如       与      不相等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组合 99"/>
            <p:cNvGrpSpPr/>
            <p:nvPr/>
          </p:nvGrpSpPr>
          <p:grpSpPr>
            <a:xfrm>
              <a:off x="2847960" y="3916800"/>
              <a:ext cx="2663640" cy="1103400"/>
              <a:chOff x="2847960" y="3916800"/>
              <a:chExt cx="2663640" cy="1103400"/>
            </a:xfrm>
          </p:grpSpPr>
          <p:grpSp>
            <p:nvGrpSpPr>
              <p:cNvPr id="93" name="组合 68"/>
              <p:cNvGrpSpPr/>
              <p:nvPr/>
            </p:nvGrpSpPr>
            <p:grpSpPr>
              <a:xfrm>
                <a:off x="2847960" y="3916800"/>
                <a:ext cx="1347480" cy="1041480"/>
                <a:chOff x="2847960" y="3916800"/>
                <a:chExt cx="1347480" cy="1041480"/>
              </a:xfrm>
            </p:grpSpPr>
            <p:sp>
              <p:nvSpPr>
                <p:cNvPr id="94" name="矩形 88"/>
                <p:cNvSpPr/>
                <p:nvPr/>
              </p:nvSpPr>
              <p:spPr>
                <a:xfrm>
                  <a:off x="2847960" y="3916800"/>
                  <a:ext cx="571320" cy="73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4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矩形 89"/>
                <p:cNvSpPr/>
                <p:nvPr/>
              </p:nvSpPr>
              <p:spPr>
                <a:xfrm>
                  <a:off x="2847960" y="4224600"/>
                  <a:ext cx="723600" cy="73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矩形 24"/>
                <p:cNvSpPr/>
                <p:nvPr/>
              </p:nvSpPr>
              <p:spPr>
                <a:xfrm>
                  <a:off x="3624120" y="4059000"/>
                  <a:ext cx="571320" cy="74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组合 97"/>
              <p:cNvGrpSpPr/>
              <p:nvPr/>
            </p:nvGrpSpPr>
            <p:grpSpPr>
              <a:xfrm>
                <a:off x="4788000" y="3916800"/>
                <a:ext cx="723600" cy="1103400"/>
                <a:chOff x="4788000" y="3916800"/>
                <a:chExt cx="723600" cy="1103400"/>
              </a:xfrm>
            </p:grpSpPr>
            <p:sp>
              <p:nvSpPr>
                <p:cNvPr id="98" name="矩形 88"/>
                <p:cNvSpPr/>
                <p:nvPr/>
              </p:nvSpPr>
              <p:spPr>
                <a:xfrm>
                  <a:off x="4788000" y="3916800"/>
                  <a:ext cx="571320" cy="73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 </a:t>
                  </a:r>
                  <a:r>
                    <a:rPr b="1" lang="en-US" sz="28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8  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矩形 96"/>
                <p:cNvSpPr/>
                <p:nvPr/>
              </p:nvSpPr>
              <p:spPr>
                <a:xfrm>
                  <a:off x="4788000" y="4286520"/>
                  <a:ext cx="723600" cy="733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0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10:59:14Z</dcterms:created>
  <dc:creator/>
  <dc:description/>
  <cp:keywords/>
  <dc:language>en-US</dc:language>
  <cp:lastModifiedBy/>
  <dcterms:modified xsi:type="dcterms:W3CDTF">2015-05-14T08:30:12Z</dcterms:modified>
  <cp:revision>1</cp:revision>
  <dc:subject/>
  <dc:title/>
</cp:coreProperties>
</file>