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2F5AC-72E5-4963-8542-FD89E4FCE8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8F72E-6EC8-480D-8F76-2CCEE124538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5BB46-5433-468F-A49A-FDD35DC6E06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EC917-FDDC-49E8-870D-B7372E7AB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98E0-D609-4CB1-9741-E2548112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507E-BA88-4984-BC53-DCA0A068C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ECFD6-6E4A-4F76-9063-EFEA84F47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28E7-F726-4BF8-8EC4-75A3F2E294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1E96-FE2F-41E9-A899-0D369A3D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30F84-3822-4D68-A3BF-FAF0CC9FE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28D9-FBE0-4779-B5E1-E6CDEB0DB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93A7-73EB-4CBB-865D-B0AC90D41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1AAF-0F1C-481C-8C6B-5A8F79D20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9361-60BD-44C6-A452-CFA487BE4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F82B-5928-4F09-8401-6DC39400E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CBA6-8CE1-4B6D-ABA7-EDB0DDB93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WordArt 4"/>
          <p:cNvSpPr txBox="1"/>
          <p:nvPr/>
        </p:nvSpPr>
        <p:spPr>
          <a:xfrm>
            <a:off x="1066680" y="2286000"/>
            <a:ext cx="6162840" cy="15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宋体"/>
              </a:rPr>
              <a:t>正比例（二）</a:t>
            </a:r>
            <a:endParaRPr b="1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Arial"/>
              </a:rPr>
              <a:t>课堂小结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两个成正比例的量，它们的对应数之比也相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如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/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则有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Y1/Y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X1/X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WordArt 4"/>
          <p:cNvSpPr txBox="1"/>
          <p:nvPr/>
        </p:nvSpPr>
        <p:spPr>
          <a:xfrm>
            <a:off x="1905120" y="2514600"/>
            <a:ext cx="521964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谢谢大家！</a:t>
            </a:r>
            <a:endParaRPr b="1" lang="en-US" sz="8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7560" y="1143000"/>
            <a:ext cx="9288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回顾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两种相依变化的量，如果它们相对应的两个数的比值（也就是商）一定，这两种量就叫做成正比例的量，他们的关系叫做正比例关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216000" y="189000"/>
            <a:ext cx="874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457200" y="685800"/>
            <a:ext cx="813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客车的速度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千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，货车的速度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千米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。两车同时相向而行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小时后相遇。先写出客车与货车速度的比，再写出相遇时两车行驶路程的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250920" y="1341360"/>
            <a:ext cx="13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解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5"/>
          <p:cNvSpPr/>
          <p:nvPr/>
        </p:nvSpPr>
        <p:spPr>
          <a:xfrm>
            <a:off x="1187280" y="134136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客车和货车的速度比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1403280" y="213372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4 : 60 = 9 :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1185840" y="2787480"/>
            <a:ext cx="763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客车和货车行驶路程的比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898560" y="3573360"/>
            <a:ext cx="792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4×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0×5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  270  :  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1042920" y="4869000"/>
            <a:ext cx="777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时间一定，速度和行驶路程成正比例，两个速度的比等于对应的两个行驶路程的比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1428840" y="21337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54 : 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2797200" y="213372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= 9 :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5857920" y="3573360"/>
            <a:ext cx="26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70  :  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9"/>
          <p:cNvSpPr/>
          <p:nvPr/>
        </p:nvSpPr>
        <p:spPr>
          <a:xfrm>
            <a:off x="1403280" y="4227480"/>
            <a:ext cx="26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 9  : 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1409760" y="4214880"/>
            <a:ext cx="24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=  9  :  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文本框 1"/>
          <p:cNvSpPr/>
          <p:nvPr/>
        </p:nvSpPr>
        <p:spPr>
          <a:xfrm>
            <a:off x="762120" y="533520"/>
            <a:ext cx="7772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例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工作效率一定，两个工作时间数值的比等于对应的两个（    ）数值的比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3276720"/>
          <a:ext cx="8077320" cy="1036440"/>
        </p:xfrm>
        <a:graphic>
          <a:graphicData uri="http://schemas.openxmlformats.org/drawingml/2006/table">
            <a:tbl>
              <a:tblPr/>
              <a:tblGrid>
                <a:gridCol w="2265480"/>
                <a:gridCol w="1084320"/>
                <a:gridCol w="1180800"/>
                <a:gridCol w="1281240"/>
                <a:gridCol w="1181160"/>
                <a:gridCol w="108432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工作时间</a:t>
                      </a: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工作总量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件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6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  <p:sp>
        <p:nvSpPr>
          <p:cNvPr id="65" name="文本框 3"/>
          <p:cNvSpPr/>
          <p:nvPr/>
        </p:nvSpPr>
        <p:spPr>
          <a:xfrm>
            <a:off x="6172200" y="181116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时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Box 13"/>
          <p:cNvSpPr/>
          <p:nvPr/>
        </p:nvSpPr>
        <p:spPr>
          <a:xfrm>
            <a:off x="235080" y="457200"/>
            <a:ext cx="870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练习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小玲用计算机打字的数量和所用的时间如下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13"/>
          <p:cNvSpPr/>
          <p:nvPr/>
        </p:nvSpPr>
        <p:spPr>
          <a:xfrm>
            <a:off x="34920" y="2330280"/>
            <a:ext cx="9109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小玲打字的数量和所用的时间成正比例吗？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在下图中描出打字数量和时间所对应的点，再按顺序连接起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576360" y="1150920"/>
          <a:ext cx="7848360" cy="1036800"/>
        </p:xfrm>
        <a:graphic>
          <a:graphicData uri="http://schemas.openxmlformats.org/drawingml/2006/table">
            <a:tbl>
              <a:tblPr/>
              <a:tblGrid>
                <a:gridCol w="1512720"/>
                <a:gridCol w="790560"/>
                <a:gridCol w="865440"/>
                <a:gridCol w="792000"/>
                <a:gridCol w="792000"/>
                <a:gridCol w="816120"/>
                <a:gridCol w="766800"/>
                <a:gridCol w="792000"/>
                <a:gridCol w="720720"/>
              </a:tblGrid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e8e8ed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数量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/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个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2d2d8a"/>
                      </a:solidFill>
                    </a:lnL>
                    <a:lnR w="5760">
                      <a:solidFill>
                        <a:srgbClr val="2d2d8a"/>
                      </a:solidFill>
                    </a:lnR>
                    <a:lnT w="5760">
                      <a:solidFill>
                        <a:srgbClr val="2d2d8a"/>
                      </a:solidFill>
                    </a:lnT>
                    <a:lnB w="5760">
                      <a:solidFill>
                        <a:srgbClr val="2d2d8a"/>
                      </a:solidFill>
                    </a:lnB>
                    <a:solidFill>
                      <a:srgbClr val="cdcdda"/>
                    </a:solidFill>
                  </a:tcPr>
                </a:tc>
              </a:tr>
            </a:tbl>
          </a:graphicData>
        </a:graphic>
      </p:graphicFrame>
      <p:sp>
        <p:nvSpPr>
          <p:cNvPr id="69" name="矩形 26"/>
          <p:cNvSpPr/>
          <p:nvPr/>
        </p:nvSpPr>
        <p:spPr>
          <a:xfrm>
            <a:off x="324000" y="4889520"/>
            <a:ext cx="867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答：（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）小玲打字的数量和所用的时间成正比例。因为它们的比值一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Box 13"/>
          <p:cNvSpPr/>
          <p:nvPr/>
        </p:nvSpPr>
        <p:spPr>
          <a:xfrm>
            <a:off x="34920" y="369900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根据图像判断，小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分钟可以打多少个字？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5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字需要多少分钟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1001880" y="2374920"/>
          <a:ext cx="5298840" cy="2927160"/>
        </p:xfrm>
        <a:graphic>
          <a:graphicData uri="http://schemas.openxmlformats.org/drawingml/2006/table">
            <a:tbl>
              <a:tblPr/>
              <a:tblGrid>
                <a:gridCol w="331560"/>
                <a:gridCol w="330120"/>
                <a:gridCol w="331920"/>
                <a:gridCol w="330120"/>
                <a:gridCol w="331920"/>
                <a:gridCol w="331920"/>
                <a:gridCol w="330120"/>
                <a:gridCol w="331560"/>
                <a:gridCol w="331920"/>
                <a:gridCol w="330120"/>
                <a:gridCol w="331920"/>
                <a:gridCol w="330120"/>
                <a:gridCol w="331920"/>
                <a:gridCol w="331560"/>
                <a:gridCol w="330480"/>
                <a:gridCol w="331560"/>
              </a:tblGrid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70c0"/>
                      </a:solidFill>
                    </a:lnL>
                    <a:lnR w="5760">
                      <a:solidFill>
                        <a:srgbClr val="0070c0"/>
                      </a:solidFill>
                    </a:lnR>
                    <a:lnT w="5760">
                      <a:solidFill>
                        <a:srgbClr val="0070c0"/>
                      </a:solidFill>
                    </a:lnT>
                    <a:lnB w="5760">
                      <a:solidFill>
                        <a:srgbClr val="0070c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2" name="直接连接符 88"/>
          <p:cNvSpPr/>
          <p:nvPr/>
        </p:nvSpPr>
        <p:spPr>
          <a:xfrm flipV="1">
            <a:off x="1639800" y="2725200"/>
            <a:ext cx="3956040" cy="2232360"/>
          </a:xfrm>
          <a:prstGeom prst="line">
            <a:avLst/>
          </a:prstGeom>
          <a:ln w="28440">
            <a:solidFill>
              <a:srgbClr val="2626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组合 20"/>
          <p:cNvGrpSpPr/>
          <p:nvPr/>
        </p:nvGrpSpPr>
        <p:grpSpPr>
          <a:xfrm>
            <a:off x="324000" y="1841400"/>
            <a:ext cx="7399080" cy="3879720"/>
            <a:chOff x="324000" y="1841400"/>
            <a:chExt cx="7399080" cy="3879720"/>
          </a:xfrm>
        </p:grpSpPr>
        <p:sp>
          <p:nvSpPr>
            <p:cNvPr id="74" name="TextBox 5"/>
            <p:cNvSpPr/>
            <p:nvPr/>
          </p:nvSpPr>
          <p:spPr>
            <a:xfrm>
              <a:off x="1146240" y="5200560"/>
              <a:ext cx="5846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 2  3  4  5  6 7  8  910111213141516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Box 5"/>
            <p:cNvSpPr/>
            <p:nvPr/>
          </p:nvSpPr>
          <p:spPr>
            <a:xfrm>
              <a:off x="324000" y="2104920"/>
              <a:ext cx="1000080" cy="352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8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7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6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5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4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3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200 10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ts val="2999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Box 5"/>
            <p:cNvSpPr/>
            <p:nvPr/>
          </p:nvSpPr>
          <p:spPr>
            <a:xfrm>
              <a:off x="6261120" y="4741920"/>
              <a:ext cx="146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时间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TextBox 5"/>
            <p:cNvSpPr/>
            <p:nvPr/>
          </p:nvSpPr>
          <p:spPr>
            <a:xfrm>
              <a:off x="923760" y="1841400"/>
              <a:ext cx="2143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数量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/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78" name="直接箭头连接符 94"/>
          <p:cNvCxnSpPr/>
          <p:nvPr/>
        </p:nvCxnSpPr>
        <p:spPr>
          <a:xfrm flipV="1">
            <a:off x="996480" y="1773000"/>
            <a:ext cx="1080" cy="3572640"/>
          </a:xfrm>
          <a:prstGeom prst="straightConnector1">
            <a:avLst/>
          </a:prstGeom>
          <a:ln w="28440">
            <a:solidFill>
              <a:srgbClr val="b6dcdf"/>
            </a:solidFill>
            <a:miter/>
            <a:tailEnd len="med" type="arrow" w="med"/>
          </a:ln>
        </p:spPr>
      </p:cxnSp>
      <p:grpSp>
        <p:nvGrpSpPr>
          <p:cNvPr id="79" name="组合 22"/>
          <p:cNvGrpSpPr/>
          <p:nvPr/>
        </p:nvGrpSpPr>
        <p:grpSpPr>
          <a:xfrm>
            <a:off x="1517760" y="2365200"/>
            <a:ext cx="4201920" cy="2733840"/>
            <a:chOff x="1517760" y="2365200"/>
            <a:chExt cx="4201920" cy="2733840"/>
          </a:xfrm>
        </p:grpSpPr>
        <p:sp>
          <p:nvSpPr>
            <p:cNvPr id="80" name="TextBox 96"/>
            <p:cNvSpPr/>
            <p:nvPr/>
          </p:nvSpPr>
          <p:spPr>
            <a:xfrm>
              <a:off x="1517760" y="4578480"/>
              <a:ext cx="24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TextBox 97"/>
            <p:cNvSpPr/>
            <p:nvPr/>
          </p:nvSpPr>
          <p:spPr>
            <a:xfrm>
              <a:off x="4826160" y="2725560"/>
              <a:ext cx="24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TextBox 98"/>
            <p:cNvSpPr/>
            <p:nvPr/>
          </p:nvSpPr>
          <p:spPr>
            <a:xfrm>
              <a:off x="5473800" y="2365200"/>
              <a:ext cx="24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Box 99"/>
            <p:cNvSpPr/>
            <p:nvPr/>
          </p:nvSpPr>
          <p:spPr>
            <a:xfrm>
              <a:off x="2195640" y="4219560"/>
              <a:ext cx="24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Box 100"/>
            <p:cNvSpPr/>
            <p:nvPr/>
          </p:nvSpPr>
          <p:spPr>
            <a:xfrm>
              <a:off x="2843280" y="3859200"/>
              <a:ext cx="24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TextBox 101"/>
            <p:cNvSpPr/>
            <p:nvPr/>
          </p:nvSpPr>
          <p:spPr>
            <a:xfrm>
              <a:off x="3529080" y="3446280"/>
              <a:ext cx="24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TextBox 102"/>
            <p:cNvSpPr/>
            <p:nvPr/>
          </p:nvSpPr>
          <p:spPr>
            <a:xfrm>
              <a:off x="4178160" y="3085920"/>
              <a:ext cx="245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  <a:ea typeface="Times New Roman"/>
                </a:rPr>
                <a:t>.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87" name="直接箭头连接符 103"/>
          <p:cNvCxnSpPr/>
          <p:nvPr/>
        </p:nvCxnSpPr>
        <p:spPr>
          <a:xfrm flipV="1">
            <a:off x="971280" y="5300280"/>
            <a:ext cx="5545800" cy="2160"/>
          </a:xfrm>
          <a:prstGeom prst="straightConnector1">
            <a:avLst/>
          </a:prstGeom>
          <a:ln w="28440">
            <a:solidFill>
              <a:srgbClr val="b6dcdf"/>
            </a:solidFill>
            <a:miter/>
            <a:tailEnd len="med" type="arrow" w="med"/>
          </a:ln>
        </p:spPr>
      </p:cxnSp>
      <p:sp>
        <p:nvSpPr>
          <p:cNvPr id="88" name="矩形 26"/>
          <p:cNvSpPr/>
          <p:nvPr/>
        </p:nvSpPr>
        <p:spPr>
          <a:xfrm>
            <a:off x="2700360" y="620640"/>
            <a:ext cx="356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）如图所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26"/>
          <p:cNvSpPr/>
          <p:nvPr/>
        </p:nvSpPr>
        <p:spPr>
          <a:xfrm>
            <a:off x="2700360" y="105264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）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分钟可以打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250</a:t>
            </a:r>
            <a:r>
              <a:rPr b="1" lang="zh-CN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个字，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750</a:t>
            </a:r>
            <a:r>
              <a:rPr b="1" lang="zh-CN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个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 </a:t>
            </a:r>
            <a:r>
              <a:rPr b="1" lang="zh-CN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需要</a:t>
            </a:r>
            <a:r>
              <a:rPr b="1" lang="en-US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15</a:t>
            </a:r>
            <a:r>
              <a:rPr b="1" lang="zh-CN" sz="28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分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6"/>
          <p:cNvSpPr/>
          <p:nvPr/>
        </p:nvSpPr>
        <p:spPr>
          <a:xfrm>
            <a:off x="428760" y="500040"/>
            <a:ext cx="828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练习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判断下面每题中的两种量是不是成正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7"/>
          <p:cNvSpPr/>
          <p:nvPr/>
        </p:nvSpPr>
        <p:spPr>
          <a:xfrm>
            <a:off x="-103320" y="928800"/>
            <a:ext cx="8533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轮船行驶的速度一定，行驶的路程和时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每小时织布的米数一定，织布总米数和时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每天看书的页数一定，看书的总页数和时间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小明跳高的高度和他的身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幼儿园的阿姨分给每个小朋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块糖，小朋友的人数和需要糖的总块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1225080" y="16430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成正比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1225080" y="2467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成正比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11"/>
          <p:cNvSpPr/>
          <p:nvPr/>
        </p:nvSpPr>
        <p:spPr>
          <a:xfrm>
            <a:off x="1296360" y="3357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成正比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2"/>
          <p:cNvSpPr/>
          <p:nvPr/>
        </p:nvSpPr>
        <p:spPr>
          <a:xfrm>
            <a:off x="1298880" y="42148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不成正比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13"/>
          <p:cNvSpPr/>
          <p:nvPr/>
        </p:nvSpPr>
        <p:spPr>
          <a:xfrm>
            <a:off x="1368000" y="5715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成正比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>
            <a:off x="228600" y="1197000"/>
            <a:ext cx="859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练习</a:t>
            </a: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每箱葡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千克，葡萄的箱数和数量如下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187280" y="1916280"/>
          <a:ext cx="7080480" cy="2060280"/>
        </p:xfrm>
        <a:graphic>
          <a:graphicData uri="http://schemas.openxmlformats.org/drawingml/2006/table">
            <a:tbl>
              <a:tblPr/>
              <a:tblGrid>
                <a:gridCol w="2203560"/>
                <a:gridCol w="1219320"/>
                <a:gridCol w="1219320"/>
                <a:gridCol w="1218960"/>
                <a:gridCol w="1219320"/>
              </a:tblGrid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箱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（箱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楷体_GB2312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楷体_GB2312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楷体_GB2312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楷体_GB2312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楷体_GB2312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3920">
                <a:tc>
                  <a:txBody>
                    <a:bodyPr lIns="90000" rIns="900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数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00ff"/>
                          </a:solidFill>
                          <a:latin typeface="宋体"/>
                        </a:rPr>
                        <a:t>（千克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楷体_GB2312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Times New Roman"/>
                          <a:ea typeface="楷体_GB2312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Rectangle 7"/>
          <p:cNvSpPr/>
          <p:nvPr/>
        </p:nvSpPr>
        <p:spPr>
          <a:xfrm>
            <a:off x="4937400" y="31417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6232680" y="314172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7456680" y="318780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0"/>
          <p:cNvSpPr/>
          <p:nvPr/>
        </p:nvSpPr>
        <p:spPr>
          <a:xfrm>
            <a:off x="1908360" y="422100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葡萄的数量和箱数成正比例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1"/>
          <p:cNvSpPr/>
          <p:nvPr/>
        </p:nvSpPr>
        <p:spPr>
          <a:xfrm>
            <a:off x="2627280" y="486900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成正比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24T08:13:53Z</dcterms:created>
  <dc:creator/>
  <dc:description/>
  <dc:language>en-US</dc:language>
  <cp:lastModifiedBy/>
  <dcterms:modified xsi:type="dcterms:W3CDTF">2015-05-19T02:08:46Z</dcterms:modified>
  <cp:revision>1</cp:revision>
  <dc:subject/>
  <dc:title/>
</cp:coreProperties>
</file>