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5.png" ContentType="image/png"/>
  <Override PartName="/ppt/media/image6.png" ContentType="image/png"/>
  <Override PartName="/ppt/media/image7.png" ContentType="image/png"/>
  <Override PartName="/ppt/media/image8.gif" ContentType="image/gi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7092-8927-4C40-92D8-AB4B2FBAF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B3E4-8596-463D-BFD0-249421E2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ECFD-E20D-484F-ADBB-5D36A368E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D2BA-BB60-4757-BBB2-AD52BD527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A0AF-80F5-468D-8E3F-594751946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7417-9D09-4B3B-B29C-8069EC8B1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8F5A-F7A3-4F92-BEE5-3627512B2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4D49-F129-4EF8-A84E-B1095C0D4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3B99-4FA1-4C20-9392-4AACB7CB8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1E62-2EE5-4186-84C0-85FD3E0F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E48F-FE3E-4499-8693-FE40E45A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D0DA-5D00-4A96-9B8F-08E31949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B1334-4C2F-4CC7-A6AB-688444AA35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6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14600" y="1676520"/>
            <a:ext cx="4724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05120" y="1371600"/>
            <a:ext cx="5562360" cy="29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（二） 方    程</a:t>
            </a:r>
            <a:br>
              <a:rPr sz="4400"/>
            </a:b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76520" y="48006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52280"/>
            <a:ext cx="3505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六年级数学下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4572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219320"/>
            <a:ext cx="914400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判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=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方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3200" spc="-1" strike="noStrike" baseline="50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+X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-1=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X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＞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方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长方形的周长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米，长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米，那么宽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(m-2n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解方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X+2X=125         60%X=4.2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X-1/6+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=1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只列方程，不解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一个数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倍与它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/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和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6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这个数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一个正方形的边长增加它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后，得到的新正方形的周长是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4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厘米，原来正方形的边长是多少厘米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09680" y="45720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当堂检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6561000"/>
            <a:ext cx="9144000" cy="297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谢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1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886200" y="1676520"/>
            <a:ext cx="4800600" cy="1828800"/>
          </a:xfrm>
          <a:prstGeom prst="cloudCallout">
            <a:avLst>
              <a:gd name="adj1" fmla="val -42759"/>
              <a:gd name="adj2" fmla="val 708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谢 谢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黑体"/>
              </a:rPr>
              <a:t>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55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14600" y="99072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2819520"/>
            <a:ext cx="70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复习总结解方程的方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回顾整理列方程解应用题的一般步骤和找等量关系的方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5695920"/>
            <a:ext cx="9144000" cy="1162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3520" y="609480"/>
            <a:ext cx="8076960" cy="40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自学指导（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认真做课本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61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页的“回顾与交流”中的第一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分钟后说一说你是怎么做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286680" y="0"/>
            <a:ext cx="285732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5" descr="13"/>
          <p:cNvPicPr/>
          <p:nvPr/>
        </p:nvPicPr>
        <p:blipFill>
          <a:blip r:embed="rId1"/>
          <a:stretch/>
        </p:blipFill>
        <p:spPr>
          <a:xfrm>
            <a:off x="0" y="71280"/>
            <a:ext cx="9048600" cy="6786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28600" y="152280"/>
            <a:ext cx="868680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自学指导（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认真做“回顾与交流”第二题（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（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（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做完后讨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列方程解应用题的一般步骤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最关键的一步是什么？关键点该怎么突破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自己说一说你是怎么列出方程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分钟后，比一比谁总结的好，谁会做类似的题。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010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果品店购进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箱苹果，苹果的箱数是购进橘子箱数的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4/5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商店购进了多少橘子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837720" y="33523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Arial"/>
              </a:rPr>
              <a:t>苹果的箱数</a:t>
            </a:r>
            <a:r>
              <a:rPr b="0" lang="zh-CN" sz="4000" spc="-1" strike="noStrike">
                <a:solidFill>
                  <a:srgbClr val="009999"/>
                </a:solidFill>
                <a:latin typeface="Arial"/>
              </a:rPr>
              <a:t>是</a:t>
            </a:r>
            <a:r>
              <a:rPr b="0" lang="zh-CN" sz="4000" spc="-1" strike="noStrike">
                <a:solidFill>
                  <a:srgbClr val="cc0000"/>
                </a:solidFill>
                <a:latin typeface="Arial"/>
              </a:rPr>
              <a:t>购进橘子箱数的</a:t>
            </a:r>
            <a:r>
              <a:rPr b="0" lang="zh-CN" sz="4000" spc="-1" strike="noStrike">
                <a:solidFill>
                  <a:srgbClr val="cc0000"/>
                </a:solidFill>
                <a:latin typeface="Arial"/>
              </a:rPr>
              <a:t>4/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00200" y="449568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0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箱  </a:t>
            </a:r>
            <a:r>
              <a:rPr b="0" lang="zh-CN" sz="4000" spc="-1" strike="noStrike">
                <a:solidFill>
                  <a:srgbClr val="009999"/>
                </a:solidFill>
                <a:latin typeface="Arial"/>
              </a:rPr>
              <a:t>=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橘子箱数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×4/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286680" y="0"/>
            <a:ext cx="2857320" cy="1162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5695920"/>
            <a:ext cx="914400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304920" y="479520"/>
            <a:ext cx="8381880" cy="2845080"/>
            <a:chOff x="304920" y="479520"/>
            <a:chExt cx="8381880" cy="2845080"/>
          </a:xfrm>
        </p:grpSpPr>
        <p:sp>
          <p:nvSpPr>
            <p:cNvPr id="60" name=""/>
            <p:cNvSpPr/>
            <p:nvPr/>
          </p:nvSpPr>
          <p:spPr>
            <a:xfrm>
              <a:off x="304920" y="2743200"/>
              <a:ext cx="129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小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1295280" y="479520"/>
              <a:ext cx="7391520" cy="2829960"/>
              <a:chOff x="1295280" y="479520"/>
              <a:chExt cx="7391520" cy="282996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1295280" y="479520"/>
                <a:ext cx="5712480" cy="2468880"/>
                <a:chOff x="1295280" y="479520"/>
                <a:chExt cx="5712480" cy="246888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1295280" y="762120"/>
                  <a:ext cx="2438640" cy="1904760"/>
                </a:xfrm>
                <a:prstGeom prst="cloudCallout">
                  <a:avLst>
                    <a:gd name="adj1" fmla="val -43750"/>
                    <a:gd name="adj2" fmla="val 70000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00"/>
                      </a:solidFill>
                      <a:latin typeface="Arial"/>
                    </a:rPr>
                    <a:t>我和小强一共收集了</a:t>
                  </a:r>
                  <a:r>
                    <a:rPr b="0" lang="zh-CN" sz="2400" spc="-1" strike="noStrike">
                      <a:solidFill>
                        <a:srgbClr val="000000"/>
                      </a:solidFill>
                      <a:latin typeface="Arial"/>
                    </a:rPr>
                    <a:t>128</a:t>
                  </a:r>
                  <a:r>
                    <a:rPr b="0" lang="zh-CN" sz="2400" spc="-1" strike="noStrike">
                      <a:solidFill>
                        <a:srgbClr val="000000"/>
                      </a:solidFill>
                      <a:latin typeface="Arial"/>
                    </a:rPr>
                    <a:t>枚邮票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 rot="15981000">
                  <a:off x="4876920" y="837360"/>
                  <a:ext cx="2361960" cy="1752840"/>
                </a:xfrm>
                <a:prstGeom prst="cloudCallout">
                  <a:avLst>
                    <a:gd name="adj1" fmla="val -43750"/>
                    <a:gd name="adj2" fmla="val 70000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00"/>
                      </a:solidFill>
                      <a:latin typeface="Arial"/>
                    </a:rPr>
                    <a:t>我收集的枚数是小刚的</a:t>
                  </a:r>
                  <a:r>
                    <a:rPr b="0" lang="zh-CN" sz="24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zh-CN" sz="2400" spc="-1" strike="noStrike">
                      <a:solidFill>
                        <a:srgbClr val="000000"/>
                      </a:solidFill>
                      <a:latin typeface="Arial"/>
                    </a:rPr>
                    <a:t>倍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" name=""/>
              <p:cNvSpPr/>
              <p:nvPr/>
            </p:nvSpPr>
            <p:spPr>
              <a:xfrm>
                <a:off x="7543800" y="2666880"/>
                <a:ext cx="114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000000"/>
                    </a:solidFill>
                    <a:latin typeface="Arial"/>
                  </a:rPr>
                  <a:t>小强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"/>
          <p:cNvSpPr/>
          <p:nvPr/>
        </p:nvSpPr>
        <p:spPr>
          <a:xfrm>
            <a:off x="1447920" y="380988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我和小强</a:t>
            </a:r>
            <a:r>
              <a:rPr b="1" lang="zh-CN" sz="4400" spc="-1" strike="noStrike">
                <a:solidFill>
                  <a:srgbClr val="cc0000"/>
                </a:solidFill>
                <a:latin typeface="黑体"/>
                <a:ea typeface="黑体"/>
              </a:rPr>
              <a:t>一共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收集了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28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枚邮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19320" y="4876920"/>
            <a:ext cx="6705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小刚</a:t>
            </a:r>
            <a:r>
              <a:rPr b="0" lang="zh-CN" sz="4000" spc="-1" strike="noStrike">
                <a:solidFill>
                  <a:srgbClr val="cc0000"/>
                </a:solidFill>
                <a:latin typeface="Arial"/>
              </a:rPr>
              <a:t>+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小强   </a:t>
            </a:r>
            <a:r>
              <a:rPr b="0" lang="zh-CN" sz="4800" spc="-1" strike="noStrike">
                <a:solidFill>
                  <a:srgbClr val="cc0000"/>
                </a:solidFill>
                <a:latin typeface="Arial"/>
              </a:rPr>
              <a:t>=</a:t>
            </a:r>
            <a:r>
              <a:rPr b="0" lang="zh-CN" sz="40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128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286680" y="0"/>
            <a:ext cx="2857320" cy="1162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5695920"/>
            <a:ext cx="914400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5328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）小明家和小刚家相距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240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米，一天，两人约定在两家之间的路上回合，小明每分钟走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75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米，小刚每分钟走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米，两人同时出发，多少时间相遇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752480" y="3429000"/>
            <a:ext cx="4878360" cy="2819520"/>
            <a:chOff x="1752480" y="3429000"/>
            <a:chExt cx="4878360" cy="2819520"/>
          </a:xfrm>
        </p:grpSpPr>
        <p:sp>
          <p:nvSpPr>
            <p:cNvPr id="72" name=""/>
            <p:cNvSpPr/>
            <p:nvPr/>
          </p:nvSpPr>
          <p:spPr>
            <a:xfrm>
              <a:off x="1752480" y="4267080"/>
              <a:ext cx="4876920" cy="0"/>
            </a:xfrm>
            <a:prstGeom prst="line">
              <a:avLst/>
            </a:prstGeom>
            <a:ln w="155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752480" y="3429000"/>
              <a:ext cx="2362320" cy="12193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小明走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rot="10800000">
              <a:off x="3048120" y="4343400"/>
              <a:ext cx="3582720" cy="1139760"/>
            </a:xfrm>
            <a:custGeom>
              <a:avLst/>
              <a:gdLst>
                <a:gd name="textAreaLeft" fmla="*/ 626760 w 3582720"/>
                <a:gd name="textAreaRight" fmla="*/ 2597400 w 3582720"/>
                <a:gd name="textAreaTop" fmla="*/ 152640 h 1139760"/>
                <a:gd name="textAreaBottom" fmla="*/ 987120 h 113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小刚走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828800" y="5638680"/>
              <a:ext cx="4800600" cy="609840"/>
            </a:xfrm>
            <a:prstGeom prst="leftRightArrow">
              <a:avLst>
                <a:gd name="adj1" fmla="val 50000"/>
                <a:gd name="adj2" fmla="val 15670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相距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1240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56" descr="7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9360">
            <a:solidFill>
              <a:srgbClr val="000000"/>
            </a:solidFill>
            <a:prstDash val="sysDot"/>
            <a:miter/>
          </a:ln>
        </p:spPr>
      </p:pic>
      <p:sp>
        <p:nvSpPr>
          <p:cNvPr id="77" name=""/>
          <p:cNvSpPr/>
          <p:nvPr/>
        </p:nvSpPr>
        <p:spPr>
          <a:xfrm>
            <a:off x="762120" y="838080"/>
            <a:ext cx="8229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解方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X—1.4+X=2/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只列方程不解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明每分钟走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6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米，小强每分钟走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米，两人同时从家里出发，相向而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两人经过多少分钟相遇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明家—————————————小强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10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今年父亲的年龄是儿子的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倍，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后父亲和儿子年龄的和是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6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岁，问今年父子俩各几岁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考一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286680" y="0"/>
            <a:ext cx="285732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5580000"/>
            <a:ext cx="9144000" cy="127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133720" y="609480"/>
            <a:ext cx="464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总结提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1219320"/>
            <a:ext cx="70106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找等量关系往往有这样几种方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关键的词语往往隐含着等量关系，如：    “是”“一共”“和是”“差是”“正好是”“比…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.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多（少）”等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常见的数量关系中找等量关系，如：原价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折数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=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现价，单价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数量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=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总价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遇到路程类问题往往画线段示意图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286680" y="0"/>
            <a:ext cx="285732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雨林木风</cp:lastModifiedBy>
  <dcterms:modified xsi:type="dcterms:W3CDTF">2013-12-02T16:20:46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