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449-4064-420E-8641-5723E174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0F7-ABEF-48DB-80E8-FAB6371D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85B-398E-46F0-916E-57F7A6D6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682-E71F-4EF0-B374-6130109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2A2-82BA-4006-A49A-4CD8E166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061-9B3B-4174-A8B6-A4F3538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B99-8FE7-443C-8354-DF304BB4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419-9B30-4DFC-8B51-F675DD4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087-BB1D-48D9-92DA-B557032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4D7-A814-47DF-8BFE-CA33A245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118-2494-4574-AF0A-EF7A456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2BC-7C2A-49B1-AF60-558FA23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6D7-B84A-4F81-8665-F648F7CE6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54864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990720"/>
            <a:ext cx="670572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北师大版六年级数学下册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57600" y="2743200"/>
            <a:ext cx="1295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3880" y="2438280"/>
            <a:ext cx="1676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图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38680" y="2286000"/>
            <a:ext cx="1905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测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2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2860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第一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523880"/>
            <a:ext cx="8763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 ）厘米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5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）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立方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  ）立方分米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方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 ）平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  ）立方厘米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方分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             ）平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7600" y="1981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6800" y="19810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720" y="2895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6440" y="2895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6200" y="3809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2760" y="3809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343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结：单位换算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80060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单位间的进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单位化小单位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乘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单位化大单位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除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228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第二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07160" cy="1781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29718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烤烟育苗大棚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横截面是一个半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的半圆，问制作这样一个育苗大棚需要多少平方米的塑料薄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267080"/>
            <a:ext cx="701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×2×2×2+2×3.14×2×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÷2=138.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平方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8.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平方米的塑料薄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第三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市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市打算铺一条路面标准是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厘米的水泥路，两地长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，请你帮工程队算一算，铺完这条路大约需要多少立方米的水泥？如果用车厢长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的大卡车来拉这些水泥，需要拉多少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97180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泥的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0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00×5×0.2=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立方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3124080"/>
            <a:ext cx="3733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车厢的容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×4×2=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立方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495680"/>
            <a:ext cx="5105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泥体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车厢容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00 ÷40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车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7913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需要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1752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学们，通过这节课的学习你有哪些收获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590920" y="1447920"/>
            <a:ext cx="3886200" cy="167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 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29000" y="3276720"/>
            <a:ext cx="21718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 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0"/>
            <a:ext cx="6477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桌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观察图片中的各种图形，要测量这些图形工人需要测量哪些相关数据？根据测量出的这些数据又可以计算出哪些相关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2952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1676520"/>
          <a:ext cx="6858000" cy="37796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   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   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   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38080" y="17524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8006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971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、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8862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581280"/>
            <a:ext cx="14475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495680"/>
            <a:ext cx="14475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4495680"/>
            <a:ext cx="1828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581280"/>
            <a:ext cx="1447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666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长   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96252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4800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09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汇报展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正确使用长度、面积、体积单位，并进行单位间的换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习巩固平面图形面积、周长的计算方法及立体图形表面积、体积的计算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运用所学知识解决生活中的实际问题，体会数学与生活的密切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90920" y="205740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52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动脑，动动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914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于观察的你们刚才在情境图中发现了一个圆柱形垃圾桶，有关这个垃圾桶，你想计算出它的哪些相关的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0880" y="2286000"/>
            <a:ext cx="5715000" cy="3809880"/>
            <a:chOff x="380880" y="2286000"/>
            <a:chExt cx="5715000" cy="3809880"/>
          </a:xfrm>
        </p:grpSpPr>
        <p:sp>
          <p:nvSpPr>
            <p:cNvPr id="70" name=""/>
            <p:cNvSpPr/>
            <p:nvPr/>
          </p:nvSpPr>
          <p:spPr>
            <a:xfrm>
              <a:off x="4343400" y="2362320"/>
              <a:ext cx="1752480" cy="32004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380880" y="2286000"/>
              <a:ext cx="173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514600" y="3429000"/>
              <a:ext cx="1523880" cy="1066680"/>
            </a:xfrm>
            <a:prstGeom prst="rightArrow">
              <a:avLst>
                <a:gd name="adj1" fmla="val 50000"/>
                <a:gd name="adj2" fmla="val 357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95680" y="57150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638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径、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5440" y="3886200"/>
            <a:ext cx="546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77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1828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8360" y="762120"/>
            <a:ext cx="45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99072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438280" y="0"/>
            <a:ext cx="2057400" cy="2514600"/>
            <a:chOff x="2438280" y="0"/>
            <a:chExt cx="2057400" cy="2514600"/>
          </a:xfrm>
        </p:grpSpPr>
        <p:sp>
          <p:nvSpPr>
            <p:cNvPr id="83" name=""/>
            <p:cNvSpPr/>
            <p:nvPr/>
          </p:nvSpPr>
          <p:spPr>
            <a:xfrm>
              <a:off x="3047760" y="1752480"/>
              <a:ext cx="6858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7760" y="0"/>
              <a:ext cx="6858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8280" y="762120"/>
              <a:ext cx="20574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04920" y="2590920"/>
            <a:ext cx="3733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Arial"/>
              </a:rPr>
              <a:t>圆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底面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3.14×r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×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5053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÷2=20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×20×20×100=125600(cm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26708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面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侧面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底面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×2           =3.14×2×r×h+3.14×r×r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4100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4×40×100+3.14×20×20×2=15072(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91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94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97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00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03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06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09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12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15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00200" y="99072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38280" y="0"/>
            <a:ext cx="2057400" cy="2514600"/>
            <a:chOff x="2438280" y="0"/>
            <a:chExt cx="2057400" cy="2514600"/>
          </a:xfrm>
        </p:grpSpPr>
        <p:sp>
          <p:nvSpPr>
            <p:cNvPr id="119" name=""/>
            <p:cNvSpPr/>
            <p:nvPr/>
          </p:nvSpPr>
          <p:spPr>
            <a:xfrm>
              <a:off x="3047760" y="1752480"/>
              <a:ext cx="6858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7760" y="0"/>
              <a:ext cx="685800" cy="762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38280" y="762120"/>
              <a:ext cx="20574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04560" y="304560"/>
            <a:ext cx="1067040" cy="1904760"/>
            <a:chOff x="304560" y="304560"/>
            <a:chExt cx="1067040" cy="1904760"/>
          </a:xfrm>
        </p:grpSpPr>
        <p:sp>
          <p:nvSpPr>
            <p:cNvPr id="123" name=""/>
            <p:cNvSpPr/>
            <p:nvPr/>
          </p:nvSpPr>
          <p:spPr>
            <a:xfrm rot="10800000">
              <a:off x="304560" y="304560"/>
              <a:ext cx="1066680" cy="1904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920" y="3049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6094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于干旱，这两天学校停水了，食堂的宋师傅要用桶去挑水注入学校的水缸，他要挑几次才能把学校的水缸注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lp m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962520"/>
            <a:ext cx="75438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组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：①要解决这一问题必须知道哪些条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说说你的解题思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1600200"/>
            <a:ext cx="7543800" cy="1981080"/>
            <a:chOff x="609480" y="1600200"/>
            <a:chExt cx="7543800" cy="1981080"/>
          </a:xfrm>
        </p:grpSpPr>
        <p:sp>
          <p:nvSpPr>
            <p:cNvPr id="129" name=""/>
            <p:cNvSpPr/>
            <p:nvPr/>
          </p:nvSpPr>
          <p:spPr>
            <a:xfrm>
              <a:off x="609480" y="1904760"/>
              <a:ext cx="761760" cy="12193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360" y="1904760"/>
              <a:ext cx="762120" cy="12193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7960" y="1600200"/>
              <a:ext cx="3505320" cy="19810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09480" y="228600"/>
            <a:ext cx="7543800" cy="1981080"/>
            <a:chOff x="609480" y="228600"/>
            <a:chExt cx="7543800" cy="1981080"/>
          </a:xfrm>
        </p:grpSpPr>
        <p:sp>
          <p:nvSpPr>
            <p:cNvPr id="133" name=""/>
            <p:cNvSpPr/>
            <p:nvPr/>
          </p:nvSpPr>
          <p:spPr>
            <a:xfrm>
              <a:off x="609480" y="533520"/>
              <a:ext cx="762120" cy="121896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228600"/>
              <a:ext cx="3504960" cy="198108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5800" y="18288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5200" y="457200"/>
            <a:ext cx="8229600" cy="2227680"/>
            <a:chOff x="565200" y="457200"/>
            <a:chExt cx="8229600" cy="2227680"/>
          </a:xfrm>
        </p:grpSpPr>
        <p:sp>
          <p:nvSpPr>
            <p:cNvPr id="137" name=""/>
            <p:cNvSpPr/>
            <p:nvPr/>
          </p:nvSpPr>
          <p:spPr>
            <a:xfrm>
              <a:off x="565200" y="1752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=15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06880" y="762120"/>
              <a:ext cx="485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=40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18080" y="228600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长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=1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75480" y="19051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宽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=0.5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76000" y="457200"/>
              <a:ext cx="79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高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=0.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8600" y="2743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桶的容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74320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缸的容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2670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缸容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水桶容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124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×15×15×40=282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8260 ×2=5652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3200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×0.5 ×0.8=0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105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4 ÷0.05652=7.077≈8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724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52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0.05652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7913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桶才能把水缸注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838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学们，通过刚才的学习，请你和同桌交流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图形测量时应该注意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测量出的数据计算相关量的时候又应该注意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819520"/>
            <a:ext cx="7696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确的使用测量工具，采用科学的测量方法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确使用单位，单位不统一时应统一单位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合生活实际，细心、认真的计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8:52:08Z</dcterms:created>
  <dc:creator/>
  <dc:description/>
  <dc:language>en-US</dc:language>
  <cp:lastModifiedBy>雨林木风</cp:lastModifiedBy>
  <dcterms:modified xsi:type="dcterms:W3CDTF">2013-12-02T16:20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