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311C-6B8D-4DF3-8F33-66A8C0050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E468-440F-46EF-8A0D-99EFE189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B553-0DEC-4193-AB89-4620A84CC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F14B-4892-4FC2-8226-362C96402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0514-90A3-40F8-AE6F-59709D4A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D6E7-9DE0-4AE9-AF3D-3B340C71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7041-9F7E-44AD-AFA5-36EE99B7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D76B-515B-4271-BFE8-79CA5269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5ABF-A299-4586-9721-A726B3CF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209E-CA4A-43F8-818D-952727DD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D2FB-A718-46CD-B5DB-8A714BDB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8178-3E9B-44B0-8C57-2CB51B60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8C1C-ECC1-4CD2-A953-8F4043F9E6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92360" y="1844640"/>
            <a:ext cx="5827680" cy="189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解含有两个未知数的方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1187280" y="76464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人教版数学第九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348000" y="2492280"/>
            <a:ext cx="20383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下课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16360" y="620640"/>
            <a:ext cx="57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果园里有桃树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45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棵，杏树的棵数是桃树的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倍。你能提出什么数学问题？该怎样解答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2565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杏树有多少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9842000">
            <a:off x="514440" y="1029960"/>
            <a:ext cx="1911240" cy="1292040"/>
          </a:xfrm>
          <a:prstGeom prst="flowChartPunchedTap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9621800">
            <a:off x="684720" y="1268280"/>
            <a:ext cx="19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课前准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94200" y="2637000"/>
            <a:ext cx="324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9999"/>
                </a:solidFill>
                <a:latin typeface="Arial"/>
              </a:rPr>
              <a:t>45×3=135(</a:t>
            </a:r>
            <a:r>
              <a:rPr b="0" lang="zh-CN" sz="3000" spc="-1" strike="noStrike">
                <a:solidFill>
                  <a:srgbClr val="009999"/>
                </a:solidFill>
                <a:latin typeface="Arial"/>
              </a:rPr>
              <a:t>棵</a:t>
            </a:r>
            <a:r>
              <a:rPr b="0" lang="zh-CN" sz="30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06920" y="3532320"/>
            <a:ext cx="352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ceaaec"/>
                </a:solidFill>
                <a:latin typeface="Arial"/>
              </a:rPr>
              <a:t>45×3+45=180(</a:t>
            </a:r>
            <a:r>
              <a:rPr b="0" lang="zh-CN" sz="3000" spc="-1" strike="noStrike">
                <a:solidFill>
                  <a:srgbClr val="ceaaec"/>
                </a:solidFill>
                <a:latin typeface="Arial"/>
              </a:rPr>
              <a:t>棵</a:t>
            </a:r>
            <a:r>
              <a:rPr b="0" lang="zh-CN" sz="3000" spc="-1" strike="noStrike">
                <a:solidFill>
                  <a:srgbClr val="ceaaec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80000" y="4427640"/>
            <a:ext cx="345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9999"/>
                </a:solidFill>
                <a:latin typeface="Arial"/>
              </a:rPr>
              <a:t>45×3-45=90(</a:t>
            </a:r>
            <a:r>
              <a:rPr b="0" lang="zh-CN" sz="3000" spc="-1" strike="noStrike">
                <a:solidFill>
                  <a:srgbClr val="009999"/>
                </a:solidFill>
                <a:latin typeface="Arial"/>
              </a:rPr>
              <a:t>棵</a:t>
            </a:r>
            <a:r>
              <a:rPr b="0" lang="zh-CN" sz="30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51640" y="5324400"/>
            <a:ext cx="33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ceaaec"/>
                </a:solidFill>
                <a:latin typeface="Arial"/>
              </a:rPr>
              <a:t>45×3-45=90(</a:t>
            </a:r>
            <a:r>
              <a:rPr b="0" lang="zh-CN" sz="3000" spc="-1" strike="noStrike">
                <a:solidFill>
                  <a:srgbClr val="ceaaec"/>
                </a:solidFill>
                <a:latin typeface="Arial"/>
              </a:rPr>
              <a:t>棵</a:t>
            </a:r>
            <a:r>
              <a:rPr b="0" lang="zh-CN" sz="3000" spc="-1" strike="noStrike">
                <a:solidFill>
                  <a:srgbClr val="ceaaec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347508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两种树共有多少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438624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杏树比桃树多多少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52974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桃树比杏树少多少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835280" y="1197000"/>
            <a:ext cx="54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765000"/>
            <a:ext cx="5867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ff0066"/>
                </a:solidFill>
                <a:latin typeface="Arial"/>
              </a:rPr>
              <a:t>果园里有桃树和杏树共</a:t>
            </a:r>
            <a:r>
              <a:rPr b="0" lang="zh-CN" sz="3000" spc="-1" strike="noStrike">
                <a:solidFill>
                  <a:srgbClr val="ff0066"/>
                </a:solidFill>
                <a:latin typeface="Arial"/>
              </a:rPr>
              <a:t>180</a:t>
            </a:r>
            <a:r>
              <a:rPr b="0" lang="zh-CN" sz="3000" spc="-1" strike="noStrike">
                <a:solidFill>
                  <a:srgbClr val="ff0066"/>
                </a:solidFill>
                <a:latin typeface="Arial"/>
              </a:rPr>
              <a:t>棵，杏树的棵数是桃树的</a:t>
            </a:r>
            <a:r>
              <a:rPr b="0" lang="zh-CN" sz="30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0" lang="zh-CN" sz="3000" spc="-1" strike="noStrike">
                <a:solidFill>
                  <a:srgbClr val="ff0066"/>
                </a:solidFill>
                <a:latin typeface="Arial"/>
              </a:rPr>
              <a:t>倍。现在又能提出什么数学问题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2349360"/>
            <a:ext cx="352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桃树有多少棵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549360"/>
          <a:ext cx="2152440" cy="158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549360"/>
                    <a:ext cx="215244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5580000" y="242100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80 ÷(3+1)=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0000" y="34527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45X3=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80000" y="5516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45X3-45=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80000" y="44845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45X3-45=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381480"/>
            <a:ext cx="345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杏树有多少棵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445000"/>
            <a:ext cx="482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桃树比杏树多多少棵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4413240"/>
            <a:ext cx="475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杏树比桃树少多少棵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042920" y="3143160"/>
          <a:ext cx="6769080" cy="2949480"/>
        </p:xfrm>
        <a:graphic>
          <a:graphicData uri="http://schemas.openxmlformats.org/drawingml/2006/table">
            <a:tbl>
              <a:tblPr/>
              <a:tblGrid>
                <a:gridCol w="1009800"/>
                <a:gridCol w="1224000"/>
                <a:gridCol w="453528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题 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相同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同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复习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都知道杏树的棵数是桃树的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知道桃树的棵数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求两种树一共的棵数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 2,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只有一个未知数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例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，知道两种树一共的棵数，求两种树各有多少棵．２，题中有两个未知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971640" y="7650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果园里有桃树和杏树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棵，杏树的棵数是桃树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倍。桃树和杏树各有多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190656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复习题：</a:t>
            </a:r>
            <a:r>
              <a:rPr b="0" lang="zh-CN" sz="2800" spc="-1" strike="noStrike">
                <a:solidFill>
                  <a:srgbClr val="009999"/>
                </a:solidFill>
                <a:latin typeface="宋体"/>
              </a:rPr>
              <a:t>果园里有桃树</a:t>
            </a:r>
            <a:r>
              <a:rPr b="0" lang="zh-CN" sz="2800" spc="-1" strike="noStrike">
                <a:solidFill>
                  <a:srgbClr val="009999"/>
                </a:solidFill>
                <a:latin typeface="宋体"/>
              </a:rPr>
              <a:t>45</a:t>
            </a:r>
            <a:r>
              <a:rPr b="0" lang="zh-CN" sz="2800" spc="-1" strike="noStrike">
                <a:solidFill>
                  <a:srgbClr val="009999"/>
                </a:solidFill>
                <a:latin typeface="宋体"/>
              </a:rPr>
              <a:t>棵，杏树的棵数是桃树的</a:t>
            </a:r>
            <a:r>
              <a:rPr b="0" lang="zh-CN" sz="2800" spc="-1" strike="noStrike">
                <a:solidFill>
                  <a:srgbClr val="009999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9999"/>
                </a:solidFill>
                <a:latin typeface="宋体"/>
              </a:rPr>
              <a:t>倍。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两种树一共有多少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1692360" y="2421000"/>
            <a:ext cx="1657440" cy="360360"/>
            <a:chOff x="1692360" y="2421000"/>
            <a:chExt cx="1657440" cy="360360"/>
          </a:xfrm>
        </p:grpSpPr>
        <p:grpSp>
          <p:nvGrpSpPr>
            <p:cNvPr id="70" name=""/>
            <p:cNvGrpSpPr/>
            <p:nvPr/>
          </p:nvGrpSpPr>
          <p:grpSpPr>
            <a:xfrm>
              <a:off x="1692360" y="2421000"/>
              <a:ext cx="1657440" cy="360360"/>
              <a:chOff x="1692360" y="2421000"/>
              <a:chExt cx="1657440" cy="360360"/>
            </a:xfrm>
          </p:grpSpPr>
          <p:sp>
            <p:nvSpPr>
              <p:cNvPr id="71" name=""/>
              <p:cNvSpPr/>
              <p:nvPr/>
            </p:nvSpPr>
            <p:spPr>
              <a:xfrm>
                <a:off x="1692360" y="2637000"/>
                <a:ext cx="165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692360" y="242100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3349800" y="2421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6732720" y="2492280"/>
            <a:ext cx="360360" cy="1224000"/>
          </a:xfrm>
          <a:custGeom>
            <a:avLst/>
            <a:gdLst>
              <a:gd name="textAreaLeft" fmla="*/ 0 w 360360"/>
              <a:gd name="textAreaRight" fmla="*/ 129960 w 360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2349360"/>
            <a:ext cx="3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桃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321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杏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08720" y="29178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4437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：设桃树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棵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35280" y="537372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47640" y="4508640"/>
            <a:ext cx="230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58920" y="765000"/>
            <a:ext cx="633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果园里有桃树和杏树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棵，杏树的棵数是桃树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倍。桃树和杏树各有多棵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877080" y="3860640"/>
          <a:ext cx="1798560" cy="251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77080" y="3860640"/>
                    <a:ext cx="1798560" cy="25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" name=""/>
          <p:cNvGrpSpPr/>
          <p:nvPr/>
        </p:nvGrpSpPr>
        <p:grpSpPr>
          <a:xfrm>
            <a:off x="1619280" y="3500280"/>
            <a:ext cx="1657440" cy="360360"/>
            <a:chOff x="1619280" y="3500280"/>
            <a:chExt cx="1657440" cy="360360"/>
          </a:xfrm>
        </p:grpSpPr>
        <p:grpSp>
          <p:nvGrpSpPr>
            <p:cNvPr id="85" name=""/>
            <p:cNvGrpSpPr/>
            <p:nvPr/>
          </p:nvGrpSpPr>
          <p:grpSpPr>
            <a:xfrm>
              <a:off x="1619280" y="3500280"/>
              <a:ext cx="1657440" cy="360360"/>
              <a:chOff x="1619280" y="3500280"/>
              <a:chExt cx="1657440" cy="360360"/>
            </a:xfrm>
          </p:grpSpPr>
          <p:sp>
            <p:nvSpPr>
              <p:cNvPr id="86" name=""/>
              <p:cNvSpPr/>
              <p:nvPr/>
            </p:nvSpPr>
            <p:spPr>
              <a:xfrm>
                <a:off x="1619280" y="3716280"/>
                <a:ext cx="165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619280" y="350028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3276720" y="3500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932360" y="3500280"/>
            <a:ext cx="1657440" cy="360360"/>
            <a:chOff x="4932360" y="3500280"/>
            <a:chExt cx="1657440" cy="360360"/>
          </a:xfrm>
        </p:grpSpPr>
        <p:grpSp>
          <p:nvGrpSpPr>
            <p:cNvPr id="90" name=""/>
            <p:cNvGrpSpPr/>
            <p:nvPr/>
          </p:nvGrpSpPr>
          <p:grpSpPr>
            <a:xfrm>
              <a:off x="4932360" y="3500280"/>
              <a:ext cx="1657440" cy="360360"/>
              <a:chOff x="4932360" y="3500280"/>
              <a:chExt cx="1657440" cy="360360"/>
            </a:xfrm>
          </p:grpSpPr>
          <p:sp>
            <p:nvSpPr>
              <p:cNvPr id="91" name=""/>
              <p:cNvSpPr/>
              <p:nvPr/>
            </p:nvSpPr>
            <p:spPr>
              <a:xfrm>
                <a:off x="4932360" y="3716280"/>
                <a:ext cx="165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932360" y="350028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6589800" y="3500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276720" y="3500280"/>
            <a:ext cx="1657080" cy="360360"/>
            <a:chOff x="3276720" y="3500280"/>
            <a:chExt cx="1657080" cy="360360"/>
          </a:xfrm>
        </p:grpSpPr>
        <p:grpSp>
          <p:nvGrpSpPr>
            <p:cNvPr id="95" name=""/>
            <p:cNvGrpSpPr/>
            <p:nvPr/>
          </p:nvGrpSpPr>
          <p:grpSpPr>
            <a:xfrm>
              <a:off x="3276720" y="3500280"/>
              <a:ext cx="1657080" cy="360360"/>
              <a:chOff x="3276720" y="3500280"/>
              <a:chExt cx="1657080" cy="360360"/>
            </a:xfrm>
          </p:grpSpPr>
          <p:sp>
            <p:nvSpPr>
              <p:cNvPr id="96" name=""/>
              <p:cNvSpPr/>
              <p:nvPr/>
            </p:nvSpPr>
            <p:spPr>
              <a:xfrm>
                <a:off x="3276720" y="3716280"/>
                <a:ext cx="165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276720" y="350028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933800" y="3500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332000" y="5425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692360" y="1700280"/>
            <a:ext cx="1584360" cy="648720"/>
            <a:chOff x="1692360" y="1700280"/>
            <a:chExt cx="1584360" cy="648720"/>
          </a:xfrm>
        </p:grpSpPr>
        <p:sp>
          <p:nvSpPr>
            <p:cNvPr id="101" name=""/>
            <p:cNvSpPr/>
            <p:nvPr/>
          </p:nvSpPr>
          <p:spPr>
            <a:xfrm rot="16200000">
              <a:off x="2376720" y="1449000"/>
              <a:ext cx="215640" cy="158436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41040 h 1584360"/>
                <a:gd name="textAreaBottom" fmla="*/ 15433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41800" y="1700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692360" y="2852640"/>
            <a:ext cx="1512720" cy="575640"/>
            <a:chOff x="1692360" y="2852640"/>
            <a:chExt cx="1512720" cy="575640"/>
          </a:xfrm>
        </p:grpSpPr>
        <p:sp>
          <p:nvSpPr>
            <p:cNvPr id="104" name=""/>
            <p:cNvSpPr/>
            <p:nvPr/>
          </p:nvSpPr>
          <p:spPr>
            <a:xfrm rot="16200000">
              <a:off x="2352960" y="2576160"/>
              <a:ext cx="191160" cy="1512720"/>
            </a:xfrm>
            <a:custGeom>
              <a:avLst/>
              <a:gdLst>
                <a:gd name="textAreaLeft" fmla="*/ 0 w 191160"/>
                <a:gd name="textAreaRight" fmla="*/ 69120 w 191160"/>
                <a:gd name="textAreaTop" fmla="*/ 39240 h 1512720"/>
                <a:gd name="textAreaBottom" fmla="*/ 1473480 h 15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11920" y="28526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348000" y="2781360"/>
            <a:ext cx="1440000" cy="646920"/>
            <a:chOff x="3348000" y="2781360"/>
            <a:chExt cx="1440000" cy="646920"/>
          </a:xfrm>
        </p:grpSpPr>
        <p:sp>
          <p:nvSpPr>
            <p:cNvPr id="107" name=""/>
            <p:cNvSpPr/>
            <p:nvPr/>
          </p:nvSpPr>
          <p:spPr>
            <a:xfrm rot="16200000">
              <a:off x="3960360" y="2600640"/>
              <a:ext cx="214920" cy="1440000"/>
            </a:xfrm>
            <a:custGeom>
              <a:avLst/>
              <a:gdLst>
                <a:gd name="textAreaLeft" fmla="*/ 0 w 214920"/>
                <a:gd name="textAreaRight" fmla="*/ 77400 w 214920"/>
                <a:gd name="textAreaTop" fmla="*/ 37440 h 1440000"/>
                <a:gd name="textAreaBottom" fmla="*/ 1402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38040" y="2781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003640" y="2781360"/>
            <a:ext cx="1440000" cy="646920"/>
            <a:chOff x="5003640" y="2781360"/>
            <a:chExt cx="1440000" cy="646920"/>
          </a:xfrm>
        </p:grpSpPr>
        <p:sp>
          <p:nvSpPr>
            <p:cNvPr id="110" name=""/>
            <p:cNvSpPr/>
            <p:nvPr/>
          </p:nvSpPr>
          <p:spPr>
            <a:xfrm rot="16200000">
              <a:off x="5616000" y="2600640"/>
              <a:ext cx="214920" cy="1440000"/>
            </a:xfrm>
            <a:custGeom>
              <a:avLst/>
              <a:gdLst>
                <a:gd name="textAreaLeft" fmla="*/ 0 w 214920"/>
                <a:gd name="textAreaRight" fmla="*/ 77400 w 214920"/>
                <a:gd name="textAreaTop" fmla="*/ 37440 h 1440000"/>
                <a:gd name="textAreaBottom" fmla="*/ 1402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93680" y="2781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910880" y="508464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0-3X=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0160" y="515628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+3X=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78040" y="580536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+1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=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51280" y="4437000"/>
            <a:ext cx="316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想：桃树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棵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4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4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 rot="2035800">
            <a:off x="6948000" y="691920"/>
            <a:ext cx="182880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拓展练习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1413000"/>
            <a:ext cx="67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如果把例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的第一个条件改为：“果园里的杏树比桃树多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90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棵。”大家讨论一下，与例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比较，改变条件后，等量关系发生了哪些变化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637000"/>
            <a:ext cx="47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68360" y="2997360"/>
            <a:ext cx="63374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例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：</a:t>
            </a:r>
            <a:r>
              <a:rPr b="0" lang="zh-CN" sz="2800" spc="-1" strike="noStrike">
                <a:solidFill>
                  <a:srgbClr val="006666"/>
                </a:solidFill>
                <a:latin typeface="Arial"/>
              </a:rPr>
              <a:t>果园里有桃树和杏树共</a:t>
            </a:r>
            <a:r>
              <a:rPr b="0" lang="zh-CN" sz="2800" spc="-1" strike="noStrike">
                <a:solidFill>
                  <a:srgbClr val="006666"/>
                </a:solidFill>
                <a:latin typeface="Arial"/>
              </a:rPr>
              <a:t>180</a:t>
            </a:r>
            <a:r>
              <a:rPr b="0" lang="zh-CN" sz="2800" spc="-1" strike="noStrike">
                <a:solidFill>
                  <a:srgbClr val="006666"/>
                </a:solidFill>
                <a:latin typeface="Arial"/>
              </a:rPr>
              <a:t>棵，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杏树的棵数是桃树的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倍。桃树和杏树各有多棵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8360" y="4365720"/>
            <a:ext cx="65883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改后变为：</a:t>
            </a:r>
            <a:r>
              <a:rPr b="0" lang="zh-CN" sz="2800" spc="-1" strike="noStrike">
                <a:solidFill>
                  <a:srgbClr val="006666"/>
                </a:solidFill>
                <a:latin typeface="Arial"/>
              </a:rPr>
              <a:t>果园里的杏树比桃树多</a:t>
            </a:r>
            <a:r>
              <a:rPr b="0" lang="zh-CN" sz="2800" spc="-1" strike="noStrike">
                <a:solidFill>
                  <a:srgbClr val="006666"/>
                </a:solidFill>
                <a:latin typeface="Arial"/>
              </a:rPr>
              <a:t>90</a:t>
            </a:r>
            <a:r>
              <a:rPr b="0" lang="zh-CN" sz="2800" spc="-1" strike="noStrike">
                <a:solidFill>
                  <a:srgbClr val="006666"/>
                </a:solidFill>
                <a:latin typeface="Arial"/>
              </a:rPr>
              <a:t>棵，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杏树的棵数是桃树的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倍。桃树和杏树各有多棵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79280" y="5084640"/>
            <a:ext cx="133668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050920" y="1268280"/>
            <a:ext cx="497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果园里的杏树比桃树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棵，杏树的棵数是桃树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桃树和杏树各有多少棵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3500280"/>
            <a:ext cx="5689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杏树棵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桃树树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=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桃树棵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-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=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58920" y="234936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请同学们说一说等量关系式有哪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47600" y="324648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08000" y="692280"/>
            <a:ext cx="35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在一个直角三角形中，一个锐角的度数是另一个锐角度数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倍，较小的锐角是多少度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 rot="20101200">
            <a:off x="6948360" y="5013000"/>
            <a:ext cx="18288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思维训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9" name=""/>
          <p:cNvSpPr/>
          <p:nvPr/>
        </p:nvSpPr>
        <p:spPr>
          <a:xfrm>
            <a:off x="5580000" y="549360"/>
            <a:ext cx="3024360" cy="1871640"/>
          </a:xfrm>
          <a:prstGeom prst="triangle">
            <a:avLst>
              <a:gd name="adj" fmla="val 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68360" y="2349360"/>
            <a:ext cx="2158920" cy="4104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276720" y="299736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0-90=90</a:t>
            </a:r>
            <a:r>
              <a:rPr b="0" lang="en-US" sz="1600" spc="-1" strike="noStrike" baseline="100000">
                <a:solidFill>
                  <a:srgbClr val="000000"/>
                </a:solidFill>
                <a:latin typeface="Arial"/>
                <a:ea typeface="Arial"/>
              </a:rPr>
              <a:t>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32000" y="393372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0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30</a:t>
            </a:r>
            <a:r>
              <a:rPr b="0" lang="zh-CN" sz="1600" spc="-1" strike="noStrike" baseline="100000">
                <a:solidFill>
                  <a:srgbClr val="000000"/>
                </a:solidFill>
                <a:latin typeface="Arial"/>
                <a:ea typeface="Arial"/>
              </a:rPr>
              <a:t>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77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2" dur="770" fill="hold"/>
                                        <p:tgtEl>
                                          <p:spTgt spid="1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4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6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627280" y="105264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有两袋大米，甲袋大米的重量是乙袋大米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倍，如果再往乙袋里装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千克大米，两袋就一样重了，原来两袋大米各有多少千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 rot="20101200">
            <a:off x="6948360" y="5013000"/>
            <a:ext cx="18288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思维训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8360" y="2349360"/>
            <a:ext cx="2158920" cy="41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13:54:44Z</dcterms:created>
  <dc:creator/>
  <dc:description/>
  <dc:language>en-US</dc:language>
  <cp:lastModifiedBy>雨林木风</cp:lastModifiedBy>
  <dcterms:modified xsi:type="dcterms:W3CDTF">2013-12-02T16:20:46Z</dcterms:modified>
  <cp:revision>0</cp:revision>
  <dc:subject/>
  <dc:title/>
</cp:coreProperties>
</file>