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chimes.wav" ContentType="audio/x-wav"/>
  <Override PartName="/ppt/media/image4.gif" ContentType="image/gif"/>
  <Override PartName="/ppt/media/laser.wav" ContentType="audio/x-wav"/>
  <Override PartName="/ppt/media/image3.gif" ContentType="image/gif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DA10-5752-4DEC-A1AA-2A0291A213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208080" y="6603840"/>
            <a:ext cx="211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宋体"/>
              </a:rPr>
              <a:t>Copyright 2004-2009 </a:t>
            </a:r>
            <a:r>
              <a:rPr b="0" lang="zh-CN" sz="1000" spc="-1" strike="noStrike">
                <a:solidFill>
                  <a:srgbClr val="ffffff"/>
                </a:solidFill>
                <a:latin typeface="宋体"/>
              </a:rPr>
              <a:t>版权所有 盗版必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26920" y="2060640"/>
            <a:ext cx="72723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0ff"/>
                    </a:gs>
                  </a:gsLst>
                  <a:lin ang="13500000"/>
                </a:gradFill>
                <a:latin typeface="楷体_GB2312"/>
              </a:rPr>
              <a:t>平面图形的认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0ff"/>
                  </a:gs>
                </a:gsLst>
                <a:lin ang="13500000"/>
              </a:gradFill>
              <a:latin typeface="楷体_GB2312"/>
              <a:ea typeface="楷体_GB2312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761760" cy="761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411280" y="765000"/>
            <a:ext cx="47530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六年级数学下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19320" y="2209680"/>
            <a:ext cx="7162560" cy="4496040"/>
          </a:xfrm>
          <a:prstGeom prst="ellipse">
            <a:avLst/>
          </a:prstGeom>
          <a:solidFill>
            <a:srgbClr val="eb3777"/>
          </a:solidFill>
          <a:ln w="38160">
            <a:solidFill>
              <a:srgbClr val="eb3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227016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dd01c"/>
                </a:solidFill>
                <a:latin typeface="Times New Roman"/>
              </a:rPr>
              <a:t>四边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2895480"/>
            <a:ext cx="4038480" cy="320040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3276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3886200"/>
            <a:ext cx="3200400" cy="1905120"/>
          </a:xfrm>
          <a:prstGeom prst="ellipse">
            <a:avLst/>
          </a:prstGeom>
          <a:solidFill>
            <a:srgbClr val="2dd01c"/>
          </a:solidFill>
          <a:ln w="38160">
            <a:solidFill>
              <a:srgbClr val="2dd0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4038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b3777"/>
                </a:solidFill>
                <a:latin typeface="Times New Roman"/>
              </a:rPr>
              <a:t>长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4495680"/>
            <a:ext cx="1905120" cy="1219320"/>
          </a:xfrm>
          <a:prstGeom prst="ellipse">
            <a:avLst/>
          </a:prstGeom>
          <a:solidFill>
            <a:srgbClr val="321490"/>
          </a:solidFill>
          <a:ln w="38160">
            <a:solidFill>
              <a:srgbClr val="3214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4876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3048120"/>
            <a:ext cx="2133720" cy="28191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394040" y="4114800"/>
            <a:ext cx="606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1f85"/>
                </a:solidFill>
                <a:latin typeface="Times New Roman"/>
                <a:ea typeface="楷体_GB2312"/>
              </a:rPr>
              <a:t>梯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3429000"/>
            <a:ext cx="990720" cy="2286000"/>
          </a:xfrm>
          <a:prstGeom prst="ellipse">
            <a:avLst/>
          </a:prstGeom>
          <a:solidFill>
            <a:srgbClr val="f0f76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685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1490"/>
                </a:solidFill>
                <a:latin typeface="楷体_GB2312"/>
                <a:ea typeface="楷体_GB2312"/>
              </a:rPr>
              <a:t>请根据四边形</a:t>
            </a:r>
            <a:r>
              <a:rPr b="1" lang="zh-CN" sz="3600" spc="-1" strike="noStrike">
                <a:solidFill>
                  <a:srgbClr val="32149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21490"/>
                </a:solidFill>
                <a:latin typeface="楷体_GB2312"/>
                <a:ea typeface="楷体_GB2312"/>
              </a:rPr>
              <a:t>四边形、平行四边形、长方形、正方形、梯形）之间的关系填写下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23623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                 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767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889e2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210d63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3889e2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4052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 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48909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4040" y="3733920"/>
            <a:ext cx="6069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b3777"/>
                </a:solidFill>
                <a:latin typeface="Times New Roman"/>
              </a:rPr>
              <a:t>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077320" y="5943600"/>
            <a:ext cx="857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7650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</a:rPr>
              <a:t>线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828800" y="1125000"/>
            <a:ext cx="1523880" cy="152640"/>
            <a:chOff x="1828800" y="1125000"/>
            <a:chExt cx="1523880" cy="152640"/>
          </a:xfrm>
        </p:grpSpPr>
        <p:sp>
          <p:nvSpPr>
            <p:cNvPr id="51" name=""/>
            <p:cNvSpPr/>
            <p:nvPr/>
          </p:nvSpPr>
          <p:spPr>
            <a:xfrm>
              <a:off x="1828800" y="127764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828800" y="1125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352680" y="11250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625760" y="1700280"/>
            <a:ext cx="748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9a08"/>
                </a:solidFill>
                <a:latin typeface="Times New Roman"/>
              </a:rPr>
              <a:t>直的，有两个端点，有限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1760" y="26370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</a:rPr>
              <a:t>射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852560" y="3093840"/>
            <a:ext cx="1447920" cy="75960"/>
            <a:chOff x="1852560" y="3093840"/>
            <a:chExt cx="1447920" cy="75960"/>
          </a:xfrm>
        </p:grpSpPr>
        <p:sp>
          <p:nvSpPr>
            <p:cNvPr id="57" name=""/>
            <p:cNvSpPr/>
            <p:nvPr/>
          </p:nvSpPr>
          <p:spPr>
            <a:xfrm>
              <a:off x="1928880" y="3132000"/>
              <a:ext cx="1371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1852560" y="3093480"/>
              <a:ext cx="152640" cy="75960"/>
            </a:xfrm>
            <a:prstGeom prst="flowChartConnector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698480" y="3573360"/>
            <a:ext cx="69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9a08"/>
                </a:solidFill>
                <a:latin typeface="Times New Roman"/>
              </a:rPr>
              <a:t>直的，有一个端点，无限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1760" y="43639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</a:rPr>
              <a:t>直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6120" y="486900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11440" y="5445000"/>
            <a:ext cx="68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49a08"/>
                </a:solidFill>
                <a:latin typeface="Times New Roman"/>
              </a:rPr>
              <a:t>直的，没有端点，无限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128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二、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58436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一点引出两条射线，就组成一个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581280"/>
            <a:ext cx="152280" cy="15264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581280" y="2819520"/>
            <a:ext cx="15242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657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3352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顶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3886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26668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79268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小知识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角的大小与两边叉开的大小有关，与边的长短无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86920" y="3429000"/>
            <a:ext cx="151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创编题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，时针和分针成（      ）度角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成（      ）度角，下午（      ）时成直角。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时针转动的角度是（      ）度。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分针旋转了（      ）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6160" y="3573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66520" y="162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65800" y="2133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6616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78520" y="3141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68580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角的分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752480"/>
          <a:ext cx="8686800" cy="4800600"/>
        </p:xfrm>
        <a:graphic>
          <a:graphicData uri="http://schemas.openxmlformats.org/drawingml/2006/table">
            <a:tbl>
              <a:tblPr/>
              <a:tblGrid>
                <a:gridCol w="1676520"/>
                <a:gridCol w="1436400"/>
                <a:gridCol w="2082960"/>
                <a:gridCol w="1754280"/>
                <a:gridCol w="173664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292929"/>
                          </a:solidFill>
                          <a:latin typeface="楷体_GB2312"/>
                          <a:ea typeface="楷体_GB2312"/>
                        </a:rPr>
                        <a:t>锐角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292929"/>
                          </a:solidFill>
                          <a:latin typeface="楷体_GB2312"/>
                          <a:ea typeface="楷体_GB2312"/>
                        </a:rPr>
                        <a:t>直角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292929"/>
                          </a:solidFill>
                          <a:latin typeface="楷体_GB2312"/>
                          <a:ea typeface="楷体_GB2312"/>
                        </a:rPr>
                        <a:t>钝角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292929"/>
                          </a:solidFill>
                          <a:latin typeface="楷体_GB2312"/>
                          <a:ea typeface="楷体_GB2312"/>
                        </a:rPr>
                        <a:t>平角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292929"/>
                          </a:solidFill>
                          <a:latin typeface="楷体_GB2312"/>
                          <a:ea typeface="楷体_GB2312"/>
                        </a:rPr>
                        <a:t>周角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292929"/>
                          </a:solidFill>
                          <a:latin typeface="楷体_GB2312"/>
                          <a:ea typeface="楷体_GB2312"/>
                        </a:rPr>
                        <a:t>大于</a:t>
                      </a:r>
                      <a:r>
                        <a:rPr b="1" lang="zh-CN" sz="3200" spc="-1" strike="noStrike">
                          <a:solidFill>
                            <a:srgbClr val="292929"/>
                          </a:solidFill>
                          <a:latin typeface="楷体_GB2312"/>
                          <a:ea typeface="楷体_GB2312"/>
                        </a:rPr>
                        <a:t>0°</a:t>
                      </a:r>
                      <a:r>
                        <a:rPr b="1" lang="zh-CN" sz="1800" spc="-1" strike="noStrike">
                          <a:solidFill>
                            <a:srgbClr val="292929"/>
                          </a:solidFill>
                          <a:latin typeface="楷体_GB2312"/>
                          <a:ea typeface="楷体_GB2312"/>
                        </a:rPr>
                        <a:t>小于</a:t>
                      </a:r>
                      <a:r>
                        <a:rPr b="1" lang="zh-CN" sz="1800" spc="-1" strike="noStrike">
                          <a:solidFill>
                            <a:srgbClr val="292929"/>
                          </a:solidFill>
                          <a:latin typeface="楷体_GB2312"/>
                          <a:ea typeface="楷体_GB2312"/>
                        </a:rPr>
                        <a:t>90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3" name=""/>
          <p:cNvGrpSpPr/>
          <p:nvPr/>
        </p:nvGrpSpPr>
        <p:grpSpPr>
          <a:xfrm>
            <a:off x="685440" y="3429000"/>
            <a:ext cx="1143360" cy="761400"/>
            <a:chOff x="685440" y="3429000"/>
            <a:chExt cx="1143360" cy="761400"/>
          </a:xfrm>
        </p:grpSpPr>
        <p:sp>
          <p:nvSpPr>
            <p:cNvPr id="84" name=""/>
            <p:cNvSpPr/>
            <p:nvPr/>
          </p:nvSpPr>
          <p:spPr>
            <a:xfrm flipH="1">
              <a:off x="685440" y="3429000"/>
              <a:ext cx="1066680" cy="609480"/>
            </a:xfrm>
            <a:prstGeom prst="line">
              <a:avLst/>
            </a:prstGeom>
            <a:ln w="38160">
              <a:solidFill>
                <a:srgbClr val="db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5800" y="4038480"/>
              <a:ext cx="1143000" cy="0"/>
            </a:xfrm>
            <a:prstGeom prst="line">
              <a:avLst/>
            </a:prstGeom>
            <a:ln w="38160">
              <a:solidFill>
                <a:srgbClr val="db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8440" y="3886200"/>
              <a:ext cx="1519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db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590920" y="3352680"/>
            <a:ext cx="685800" cy="762120"/>
            <a:chOff x="2590920" y="3352680"/>
            <a:chExt cx="685800" cy="762120"/>
          </a:xfrm>
        </p:grpSpPr>
        <p:sp>
          <p:nvSpPr>
            <p:cNvPr id="88" name=""/>
            <p:cNvSpPr/>
            <p:nvPr/>
          </p:nvSpPr>
          <p:spPr>
            <a:xfrm>
              <a:off x="2590920" y="3352680"/>
              <a:ext cx="0" cy="762120"/>
            </a:xfrm>
            <a:prstGeom prst="line">
              <a:avLst/>
            </a:prstGeom>
            <a:ln w="38160">
              <a:solidFill>
                <a:srgbClr val="db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90920" y="4114800"/>
              <a:ext cx="685800" cy="0"/>
            </a:xfrm>
            <a:prstGeom prst="line">
              <a:avLst/>
            </a:prstGeom>
            <a:ln w="38160">
              <a:solidFill>
                <a:srgbClr val="db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90920" y="3962160"/>
              <a:ext cx="152640" cy="152640"/>
            </a:xfrm>
            <a:prstGeom prst="rect">
              <a:avLst/>
            </a:prstGeom>
            <a:noFill/>
            <a:ln w="38160">
              <a:solidFill>
                <a:srgbClr val="db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810600" y="3276720"/>
            <a:ext cx="1294920" cy="989280"/>
            <a:chOff x="3810600" y="3276720"/>
            <a:chExt cx="1294920" cy="989280"/>
          </a:xfrm>
        </p:grpSpPr>
        <p:sp>
          <p:nvSpPr>
            <p:cNvPr id="92" name=""/>
            <p:cNvSpPr/>
            <p:nvPr/>
          </p:nvSpPr>
          <p:spPr>
            <a:xfrm>
              <a:off x="3886200" y="3276720"/>
              <a:ext cx="457200" cy="761760"/>
            </a:xfrm>
            <a:prstGeom prst="line">
              <a:avLst/>
            </a:prstGeom>
            <a:ln w="38160">
              <a:solidFill>
                <a:srgbClr val="db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3400" y="4038480"/>
              <a:ext cx="762120" cy="0"/>
            </a:xfrm>
            <a:prstGeom prst="line">
              <a:avLst/>
            </a:prstGeom>
            <a:ln w="38160">
              <a:solidFill>
                <a:srgbClr val="db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10600" y="3809880"/>
              <a:ext cx="76104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db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7772400" y="3716280"/>
            <a:ext cx="1066320" cy="306720"/>
            <a:chOff x="7772400" y="3716280"/>
            <a:chExt cx="1066320" cy="306720"/>
          </a:xfrm>
        </p:grpSpPr>
        <p:sp>
          <p:nvSpPr>
            <p:cNvPr id="96" name=""/>
            <p:cNvSpPr/>
            <p:nvPr/>
          </p:nvSpPr>
          <p:spPr>
            <a:xfrm>
              <a:off x="7878960" y="3849120"/>
              <a:ext cx="959760" cy="0"/>
            </a:xfrm>
            <a:prstGeom prst="line">
              <a:avLst/>
            </a:prstGeom>
            <a:ln w="38160">
              <a:solidFill>
                <a:srgbClr val="db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7772400" y="3716280"/>
              <a:ext cx="285840" cy="306720"/>
              <a:chOff x="7772400" y="3716280"/>
              <a:chExt cx="285840" cy="306720"/>
            </a:xfrm>
          </p:grpSpPr>
          <p:sp>
            <p:nvSpPr>
              <p:cNvPr id="98" name=""/>
              <p:cNvSpPr/>
              <p:nvPr/>
            </p:nvSpPr>
            <p:spPr>
              <a:xfrm>
                <a:off x="7772400" y="3716280"/>
                <a:ext cx="213120" cy="266040"/>
              </a:xfrm>
              <a:prstGeom prst="ellipse">
                <a:avLst/>
              </a:prstGeom>
              <a:noFill/>
              <a:ln w="38160">
                <a:solidFill>
                  <a:srgbClr val="db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2718000">
                <a:off x="7884360" y="3896280"/>
                <a:ext cx="171720" cy="76680"/>
              </a:xfrm>
              <a:prstGeom prst="triangle">
                <a:avLst>
                  <a:gd name="adj" fmla="val 43269"/>
                </a:avLst>
              </a:prstGeom>
              <a:noFill/>
              <a:ln w="9360">
                <a:solidFill>
                  <a:srgbClr val="db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5961240" y="3579120"/>
            <a:ext cx="1094400" cy="1077120"/>
            <a:chOff x="5961240" y="3579120"/>
            <a:chExt cx="1094400" cy="1077120"/>
          </a:xfrm>
        </p:grpSpPr>
        <p:sp>
          <p:nvSpPr>
            <p:cNvPr id="101" name=""/>
            <p:cNvSpPr/>
            <p:nvPr/>
          </p:nvSpPr>
          <p:spPr>
            <a:xfrm flipH="1" flipV="1" rot="8079600">
              <a:off x="6136560" y="3736440"/>
              <a:ext cx="7610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db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961240" y="3809880"/>
              <a:ext cx="1049040" cy="152640"/>
              <a:chOff x="5961240" y="3809880"/>
              <a:chExt cx="1049040" cy="15264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6481800" y="3809880"/>
                <a:ext cx="66600" cy="152640"/>
              </a:xfrm>
              <a:prstGeom prst="flowChartConnector">
                <a:avLst/>
              </a:prstGeom>
              <a:solidFill>
                <a:srgbClr val="bbe0e3"/>
              </a:solidFill>
              <a:ln w="38160">
                <a:solidFill>
                  <a:srgbClr val="db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5961240" y="3809880"/>
                <a:ext cx="1049040" cy="81000"/>
                <a:chOff x="5961240" y="3809880"/>
                <a:chExt cx="1049040" cy="81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961240" y="3886200"/>
                  <a:ext cx="1049040" cy="4680"/>
                </a:xfrm>
                <a:prstGeom prst="line">
                  <a:avLst/>
                </a:prstGeom>
                <a:ln w="38160">
                  <a:solidFill>
                    <a:srgbClr val="db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172200" y="3809880"/>
                  <a:ext cx="76320" cy="76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db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7" name=""/>
          <p:cNvSpPr/>
          <p:nvPr/>
        </p:nvSpPr>
        <p:spPr>
          <a:xfrm>
            <a:off x="2362320" y="4724280"/>
            <a:ext cx="129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等于</a:t>
            </a: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9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4800600"/>
            <a:ext cx="213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大于</a:t>
            </a: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90°</a:t>
            </a: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小于</a:t>
            </a:r>
            <a:r>
              <a:rPr b="1" lang="zh-CN" sz="32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48006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等于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18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4800600"/>
            <a:ext cx="184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等于</a:t>
            </a:r>
            <a:r>
              <a:rPr b="1" lang="zh-CN" sz="3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36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62320" y="76212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三、直线与平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6002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292929"/>
                </a:solidFill>
                <a:latin typeface="Times New Roman"/>
                <a:ea typeface="楷体_GB2312"/>
              </a:rPr>
              <a:t>在同一平面内，两条直线相交成直角时，   这两条直线叫做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互相垂直</a:t>
            </a:r>
            <a:r>
              <a:rPr b="1" lang="zh-CN" sz="3600" spc="-1" strike="noStrike">
                <a:solidFill>
                  <a:srgbClr val="292929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410160" y="2286000"/>
            <a:ext cx="1285560" cy="1447920"/>
            <a:chOff x="6410160" y="2286000"/>
            <a:chExt cx="1285560" cy="1447920"/>
          </a:xfrm>
        </p:grpSpPr>
        <p:grpSp>
          <p:nvGrpSpPr>
            <p:cNvPr id="114" name=""/>
            <p:cNvGrpSpPr/>
            <p:nvPr/>
          </p:nvGrpSpPr>
          <p:grpSpPr>
            <a:xfrm>
              <a:off x="6410160" y="2286000"/>
              <a:ext cx="1285560" cy="1447920"/>
              <a:chOff x="6410160" y="2286000"/>
              <a:chExt cx="1285560" cy="1447920"/>
            </a:xfrm>
          </p:grpSpPr>
          <p:sp>
            <p:nvSpPr>
              <p:cNvPr id="115" name=""/>
              <p:cNvSpPr/>
              <p:nvPr/>
            </p:nvSpPr>
            <p:spPr>
              <a:xfrm>
                <a:off x="6410160" y="3048120"/>
                <a:ext cx="1285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972480" y="2286000"/>
                <a:ext cx="0" cy="1447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6972120" y="2895480"/>
              <a:ext cx="162000" cy="1526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80880" y="396252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2929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292929"/>
                </a:solidFill>
                <a:latin typeface="Times New Roman"/>
                <a:ea typeface="楷体_GB2312"/>
              </a:rPr>
              <a:t>在同一平面内，不相交的两条直线，这两条直线叫做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互相平行</a:t>
            </a:r>
            <a:r>
              <a:rPr b="1" lang="zh-CN" sz="3600" spc="-1" strike="noStrike">
                <a:solidFill>
                  <a:srgbClr val="292929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172200" y="5486400"/>
            <a:ext cx="2057400" cy="685800"/>
            <a:chOff x="6172200" y="5486400"/>
            <a:chExt cx="2057400" cy="685800"/>
          </a:xfrm>
        </p:grpSpPr>
        <p:sp>
          <p:nvSpPr>
            <p:cNvPr id="120" name=""/>
            <p:cNvSpPr/>
            <p:nvPr/>
          </p:nvSpPr>
          <p:spPr>
            <a:xfrm>
              <a:off x="6172200" y="5486400"/>
              <a:ext cx="2057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72200" y="6172200"/>
              <a:ext cx="2057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43200" y="83808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b3375"/>
                </a:solidFill>
                <a:latin typeface="Times New Roman"/>
                <a:ea typeface="楷体_GB2312"/>
              </a:rPr>
              <a:t>四、三角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752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8bd0"/>
                </a:solidFill>
                <a:latin typeface="Times New Roman"/>
                <a:ea typeface="楷体_GB2312"/>
              </a:rPr>
              <a:t>三角形是由三条线段围成的图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352680"/>
            <a:ext cx="3353040" cy="167652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4800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b3375"/>
                </a:solidFill>
                <a:latin typeface="Times New Roman"/>
              </a:rPr>
              <a:t>顶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28195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b3375"/>
                </a:solidFill>
                <a:latin typeface="Times New Roman"/>
              </a:rPr>
              <a:t>顶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4724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b3375"/>
                </a:solidFill>
                <a:latin typeface="Times New Roman"/>
              </a:rPr>
              <a:t>顶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672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d01c"/>
                </a:solidFill>
                <a:latin typeface="Times New Roman"/>
              </a:rPr>
              <a:t>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5029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d01c"/>
                </a:solidFill>
                <a:latin typeface="Times New Roman"/>
              </a:rPr>
              <a:t>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672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d01c"/>
                </a:solidFill>
                <a:latin typeface="Times New Roman"/>
              </a:rPr>
              <a:t>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24080" y="76212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b3777"/>
                </a:solidFill>
                <a:latin typeface="Times New Roman"/>
                <a:ea typeface="楷体_GB2312"/>
              </a:rPr>
              <a:t>按角分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7524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d01c"/>
                </a:solidFill>
                <a:latin typeface="Times New Roman"/>
                <a:ea typeface="楷体_GB2312"/>
              </a:rPr>
              <a:t>锐角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2514600"/>
            <a:ext cx="1371600" cy="12193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1752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d01c"/>
                </a:solidFill>
                <a:latin typeface="Times New Roman"/>
                <a:ea typeface="楷体_GB2312"/>
              </a:rPr>
              <a:t>直角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886200" y="2362320"/>
            <a:ext cx="1600200" cy="1066680"/>
            <a:chOff x="3886200" y="2362320"/>
            <a:chExt cx="1600200" cy="1066680"/>
          </a:xfrm>
        </p:grpSpPr>
        <p:sp>
          <p:nvSpPr>
            <p:cNvPr id="136" name=""/>
            <p:cNvSpPr/>
            <p:nvPr/>
          </p:nvSpPr>
          <p:spPr>
            <a:xfrm>
              <a:off x="3886200" y="2362320"/>
              <a:ext cx="1600200" cy="1066680"/>
            </a:xfrm>
            <a:prstGeom prst="rtTriangle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86200" y="3295440"/>
              <a:ext cx="218160" cy="133200"/>
            </a:xfrm>
            <a:prstGeom prst="rect">
              <a:avLst/>
            </a:prstGeom>
            <a:noFill/>
            <a:ln w="9360">
              <a:solidFill>
                <a:srgbClr val="eb3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553080" y="17524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d01c"/>
                </a:solidFill>
                <a:latin typeface="Times New Roman"/>
                <a:ea typeface="楷体_GB2312"/>
              </a:rPr>
              <a:t>钝角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553080" y="2438280"/>
            <a:ext cx="1981440" cy="914400"/>
            <a:chOff x="6553080" y="2438280"/>
            <a:chExt cx="1981440" cy="914400"/>
          </a:xfrm>
        </p:grpSpPr>
        <p:sp>
          <p:nvSpPr>
            <p:cNvPr id="140" name=""/>
            <p:cNvSpPr/>
            <p:nvPr/>
          </p:nvSpPr>
          <p:spPr>
            <a:xfrm>
              <a:off x="6553080" y="3352680"/>
              <a:ext cx="99072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53080" y="2438280"/>
              <a:ext cx="1981440" cy="9144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543440" y="2438280"/>
              <a:ext cx="990360" cy="9144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00400" y="358128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b3375"/>
                </a:solidFill>
                <a:latin typeface="Times New Roman"/>
              </a:rPr>
              <a:t>按边分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572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d01c"/>
                </a:solidFill>
                <a:latin typeface="Times New Roman"/>
                <a:ea typeface="楷体_GB2312"/>
              </a:rPr>
              <a:t>任意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69240" y="5383440"/>
            <a:ext cx="2695680" cy="680040"/>
            <a:chOff x="669240" y="5383440"/>
            <a:chExt cx="2695680" cy="680040"/>
          </a:xfrm>
        </p:grpSpPr>
        <p:sp>
          <p:nvSpPr>
            <p:cNvPr id="146" name=""/>
            <p:cNvSpPr/>
            <p:nvPr/>
          </p:nvSpPr>
          <p:spPr>
            <a:xfrm flipH="1" flipV="1">
              <a:off x="2644560" y="5383440"/>
              <a:ext cx="720360" cy="679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669240" y="6033600"/>
              <a:ext cx="2695680" cy="298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69600" y="5383440"/>
              <a:ext cx="1975320" cy="65016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886200" y="4572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d01c"/>
                </a:solidFill>
                <a:latin typeface="Times New Roman"/>
                <a:ea typeface="楷体_GB2312"/>
              </a:rPr>
              <a:t>等腰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5257800"/>
            <a:ext cx="1066680" cy="1295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46483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d01c"/>
                </a:solidFill>
                <a:latin typeface="Times New Roman"/>
                <a:ea typeface="楷体_GB2312"/>
              </a:rPr>
              <a:t>等边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5257800"/>
            <a:ext cx="1600200" cy="12193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895480" y="6858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f1f85"/>
                </a:solidFill>
                <a:latin typeface="楷体_GB2312"/>
                <a:ea typeface="楷体_GB2312"/>
              </a:rPr>
              <a:t>五、四边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1523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12f0"/>
                </a:solidFill>
                <a:latin typeface="Times New Roman"/>
                <a:ea typeface="楷体_GB2312"/>
              </a:rPr>
              <a:t>四边形是由四条线段围成的图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33160" y="2408400"/>
            <a:ext cx="8609400" cy="4407840"/>
            <a:chOff x="533160" y="2408400"/>
            <a:chExt cx="8609400" cy="4407840"/>
          </a:xfrm>
        </p:grpSpPr>
        <p:grpSp>
          <p:nvGrpSpPr>
            <p:cNvPr id="156" name=""/>
            <p:cNvGrpSpPr/>
            <p:nvPr/>
          </p:nvGrpSpPr>
          <p:grpSpPr>
            <a:xfrm>
              <a:off x="3375360" y="3325320"/>
              <a:ext cx="83160" cy="832680"/>
              <a:chOff x="3375360" y="3325320"/>
              <a:chExt cx="83160" cy="832680"/>
            </a:xfrm>
          </p:grpSpPr>
          <p:sp>
            <p:nvSpPr>
              <p:cNvPr id="157" name=""/>
              <p:cNvSpPr/>
              <p:nvPr/>
            </p:nvSpPr>
            <p:spPr>
              <a:xfrm>
                <a:off x="3375360" y="3325320"/>
                <a:ext cx="0" cy="832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75360" y="3991320"/>
                <a:ext cx="83160" cy="1666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33160" y="2408400"/>
              <a:ext cx="8609400" cy="4407840"/>
              <a:chOff x="533160" y="2408400"/>
              <a:chExt cx="8609400" cy="440784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3375360" y="5575320"/>
                <a:ext cx="167040" cy="749520"/>
                <a:chOff x="3375360" y="5575320"/>
                <a:chExt cx="167040" cy="7495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375360" y="5575320"/>
                  <a:ext cx="0" cy="749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75360" y="6158160"/>
                  <a:ext cx="167040" cy="1666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533160" y="2408400"/>
                <a:ext cx="8609400" cy="4407840"/>
                <a:chOff x="533160" y="2408400"/>
                <a:chExt cx="8609400" cy="44078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291840" y="4825080"/>
                  <a:ext cx="1170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00ff"/>
                      </a:solidFill>
                      <a:latin typeface="Times New Roman"/>
                      <a:ea typeface="楷体_GB2312"/>
                    </a:rPr>
                    <a:t>梯形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533160" y="2408400"/>
                  <a:ext cx="8609400" cy="4407840"/>
                  <a:chOff x="533160" y="2408400"/>
                  <a:chExt cx="8609400" cy="44078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2706480" y="2408400"/>
                    <a:ext cx="23403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cc00ff"/>
                        </a:solidFill>
                        <a:latin typeface="Times New Roman"/>
                        <a:ea typeface="楷体_GB2312"/>
                      </a:rPr>
                      <a:t>平行四边形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5381280" y="2408400"/>
                    <a:ext cx="15879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cc00ff"/>
                        </a:solidFill>
                        <a:latin typeface="Times New Roman"/>
                        <a:ea typeface="楷体_GB2312"/>
                      </a:rPr>
                      <a:t>长方形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7304040" y="2408400"/>
                    <a:ext cx="1838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cc00ff"/>
                        </a:solidFill>
                        <a:latin typeface="Times New Roman"/>
                        <a:ea typeface="楷体_GB2312"/>
                      </a:rPr>
                      <a:t>正方形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533160" y="3234600"/>
                    <a:ext cx="8107560" cy="3581640"/>
                    <a:chOff x="533160" y="3234600"/>
                    <a:chExt cx="8107560" cy="3581640"/>
                  </a:xfrm>
                </p:grpSpPr>
                <p:grpSp>
                  <p:nvGrpSpPr>
                    <p:cNvPr id="170" name=""/>
                    <p:cNvGrpSpPr/>
                    <p:nvPr/>
                  </p:nvGrpSpPr>
                  <p:grpSpPr>
                    <a:xfrm>
                      <a:off x="533160" y="4519800"/>
                      <a:ext cx="1337400" cy="1101600"/>
                      <a:chOff x="533160" y="4519800"/>
                      <a:chExt cx="1337400" cy="1101600"/>
                    </a:xfrm>
                  </p:grpSpPr>
                  <p:sp>
                    <p:nvSpPr>
                      <p:cNvPr id="171" name=""/>
                      <p:cNvSpPr/>
                      <p:nvPr/>
                    </p:nvSpPr>
                    <p:spPr>
                      <a:xfrm flipH="1">
                        <a:off x="533160" y="4519800"/>
                        <a:ext cx="562680" cy="8812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" name=""/>
                      <p:cNvSpPr/>
                      <p:nvPr/>
                    </p:nvSpPr>
                    <p:spPr>
                      <a:xfrm>
                        <a:off x="1096200" y="4519800"/>
                        <a:ext cx="56304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1659240" y="4519800"/>
                        <a:ext cx="210960" cy="11016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"/>
                      <p:cNvSpPr/>
                      <p:nvPr/>
                    </p:nvSpPr>
                    <p:spPr>
                      <a:xfrm flipH="1" flipV="1">
                        <a:off x="533520" y="5401080"/>
                        <a:ext cx="1337040" cy="2203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205000" y="3601800"/>
                      <a:ext cx="58500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040920" y="3234600"/>
                      <a:ext cx="1253520" cy="918360"/>
                    </a:xfrm>
                    <a:prstGeom prst="parallelogram">
                      <a:avLst>
                        <a:gd name="adj" fmla="val 34124"/>
                      </a:avLst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4461840" y="3601800"/>
                      <a:ext cx="50148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5380920" y="3326400"/>
                      <a:ext cx="1086480" cy="826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6885720" y="3601800"/>
                      <a:ext cx="50148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7721640" y="3326400"/>
                      <a:ext cx="835920" cy="91764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2205000" y="5989320"/>
                      <a:ext cx="501480" cy="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 rot="10800000">
                      <a:off x="3040920" y="5529960"/>
                      <a:ext cx="1420560" cy="826200"/>
                    </a:xfrm>
                    <a:custGeom>
                      <a:avLst/>
                      <a:gdLst>
                        <a:gd name="textAreaLeft" fmla="*/ 312120 w 1420560"/>
                        <a:gd name="textAreaRight" fmla="*/ 1108440 w 1420560"/>
                        <a:gd name="textAreaTop" fmla="*/ 181440 h 826200"/>
                        <a:gd name="textAreaBottom" fmla="*/ 644760 h 8262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21600" y="0"/>
                          </a:lnTo>
                          <a:lnTo>
                            <a:pt x="16200" y="21600"/>
                          </a:lnTo>
                          <a:lnTo>
                            <a:pt x="5400" y="21600"/>
                          </a:lnTo>
                          <a:close/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533520" y="3693240"/>
                      <a:ext cx="150444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ff"/>
                          </a:solidFill>
                          <a:latin typeface="Times New Roman"/>
                          <a:ea typeface="楷体_GB2312"/>
                        </a:rPr>
                        <a:t>四边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3375000" y="3326400"/>
                      <a:ext cx="4179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3375000" y="4062600"/>
                      <a:ext cx="5014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5715360" y="4062600"/>
                      <a:ext cx="5014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6466320" y="3417840"/>
                      <a:ext cx="4190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7972200" y="4154400"/>
                      <a:ext cx="6685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3375000" y="5621760"/>
                      <a:ext cx="3344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3375000" y="6356520"/>
                      <a:ext cx="10029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3542400" y="5070600"/>
                      <a:ext cx="7520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2:40:33Z</dcterms:created>
  <dc:creator/>
  <dc:description/>
  <dc:language>en-US</dc:language>
  <cp:lastModifiedBy>USER</cp:lastModifiedBy>
  <dcterms:modified xsi:type="dcterms:W3CDTF">2013-12-02T16:20:46Z</dcterms:modified>
  <cp:revision>0</cp:revision>
  <dc:subject/>
  <dc:title/>
</cp:coreProperties>
</file>