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BD0-01B7-4C53-A037-661BF268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FAF-7D2C-4484-A19D-4E89B98E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3C3-6BB0-4EA9-878E-8C0A821C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416-007B-489D-A419-DC673DF3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E39C-E8C9-4F8A-8954-BFD3B5C1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ED19-77B7-4C4B-9414-05F4E672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3A1D-EA0A-4834-8A50-87C5F18E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909-BAEB-4CA6-B150-BCB343F3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A6C-1974-4A49-9752-6BD30D5C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7E60-D1B7-49D1-BA7D-0260D5DB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3C31-A1CF-415D-9B5D-5BCBA67D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975-FC07-4796-AE91-4868500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A6E3-6E19-47E9-95E4-6697C1A2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A6C8-9AA1-498A-920C-A2FE682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67C0-B33C-4F4E-B0B6-E9B553AC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412-F556-47BA-B4E0-7BEF7CCB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A98-9430-4736-BCB0-2F17D61D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82C-BF56-4F76-AC5E-0554C24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6E3-118B-4CB1-990B-4F96C736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A29-6EFA-43F0-9343-2CB6B95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4963-B4D3-4C9B-9FDA-F5BEB9C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A46-8839-4E4D-8356-1ECFCD0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3D3-DACE-427F-BBA2-979E642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57B-741A-4BE8-AD0D-834420B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03AD-E73A-4C50-A4D3-6B64A186DDA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C49-D50C-4EFC-9FCE-81DD967913A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2997360"/>
            <a:ext cx="554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整数、小数的意义和读写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24000" y="981000"/>
            <a:ext cx="468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北师大版六年级数学下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0240" y="3110040"/>
            <a:ext cx="8375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分数：真分数、假分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71640" y="443700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假分数：整数、带分数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58920" y="141300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分数的分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92200">
            <a:off x="1834920" y="907920"/>
            <a:ext cx="3816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分数的基本性质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3213000"/>
            <a:ext cx="8137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分数的分子和分母同时乘或者除以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相同的数（零除外）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,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分数的大小不变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88560" y="2995560"/>
            <a:ext cx="76964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分子比分母小的分数叫做真分数。真分数小于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76360" y="1486080"/>
            <a:ext cx="684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真、假分数的意义及有关知识？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33577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分子比分母大或者分子和分母相等的分数，叫做假分数。假分数大于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或者等于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3120" y="422100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分子是分母的倍数的假分数可以化成整数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9080" y="486900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分子不是分母倍数的假分数可以化成带分数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24160" y="5518080"/>
            <a:ext cx="6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⑤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反之，整数和带分数也可以化成假分数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百分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3080" y="2708280"/>
            <a:ext cx="77709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表示一个数是另一个数的百分之几的数叫做百分数，也叫百分率或百分比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％表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9930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76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0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84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都是（ ）数，  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其中自然数有（ ）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47224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把一根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米长的铁丝平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段， 每一段长是这根铁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4857480" cy="8175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8064720" cy="1009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718080"/>
            <a:ext cx="67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个这样的个数单位就成了假分数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2504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.00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（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.0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（ ），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.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（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（ ）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（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最高位是百万位的整数是（ ）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数；最低位是百分位的小数有（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位小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90120" y="2873160"/>
            <a:ext cx="8070840" cy="27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最小的四位数是（ ），最大的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位数是（ ），它们相差（ ）。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进一步认识小数和分数，认识百分数；探索小数、分数、百分数之间的关系，并会进行转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能说出各数位的名称，知道各数位上数字所表示的意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323120" cy="67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08000" y="2925720"/>
            <a:ext cx="3175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数是（ ）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2276640"/>
            <a:ext cx="770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一个数由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.0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个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.00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组成，这个数是（ 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987640" y="2708280"/>
            <a:ext cx="353844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animClr clrSpc="rgb">
                                      <p:cBhvr>
                                        <p:cTn id="2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22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将下列数按整数、分数、小数、百分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进行分类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7632720" cy="69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62120" y="660240"/>
            <a:ext cx="133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整数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5280" y="3068640"/>
            <a:ext cx="8064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最小的自然数是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没有最大的自然数，说明自然数的个数是无限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87280" y="1413000"/>
            <a:ext cx="424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自然数有什么特征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?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4" name="cashreg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小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13600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2523960"/>
            <a:ext cx="72849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e844"/>
                </a:solidFill>
                <a:latin typeface="Arial"/>
              </a:rPr>
              <a:t>按数位分</a:t>
            </a:r>
            <a:r>
              <a:rPr b="0" lang="en-US" sz="2800" spc="-1" strike="noStrike">
                <a:solidFill>
                  <a:srgbClr val="18e844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有限小数；无限小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30560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无限小数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循环小数；无限不循环小数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364500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71de3"/>
                </a:solidFill>
                <a:latin typeface="Times New Roman"/>
              </a:rPr>
              <a:t>循环小数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: 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纯循环小数；混循环小数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4508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e844"/>
                </a:solidFill>
                <a:latin typeface="Times New Roman"/>
              </a:rPr>
              <a:t>按整数与小数部分分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纯小数；带小数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42920" y="836640"/>
            <a:ext cx="3382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小数的分类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763640" y="1125360"/>
            <a:ext cx="50292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小数的基本性质</a:t>
            </a:r>
            <a:endParaRPr b="0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3068640"/>
            <a:ext cx="820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数的末尾添上“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”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或者去掉“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”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数的大小不变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3212640"/>
            <a:ext cx="7848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数点右移一位、两位、三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数分别扩大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左移一位、两位、三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数分别缩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00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倍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55640" y="162864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移动小数点的位置，小数大小会发生怎样的变化</a:t>
            </a: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3333cc"/>
                </a:solidFill>
                <a:latin typeface="Arial"/>
              </a:rPr>
              <a:t>分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个数相除，它们的商可以用分数表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482472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ashreg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0:18:56Z</dcterms:created>
  <dc:creator/>
  <dc:description/>
  <dc:language>en-US</dc:language>
  <cp:lastModifiedBy>雨林木风</cp:lastModifiedBy>
  <cp:lastPrinted>1899-12-30T00:00:00Z</cp:lastPrinted>
  <dcterms:modified xsi:type="dcterms:W3CDTF">2013-12-03T01:43:17Z</dcterms:modified>
  <cp:revision>1</cp:revision>
  <dc:subject/>
  <dc:title>幻灯片 1</dc:title>
</cp:coreProperties>
</file>