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026-1B0A-41EE-8E35-EA2B9F41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FE8-295F-4F36-945E-7D171A1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823-B915-48BE-B1A0-C478EFB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19-2830-4B72-A733-B6308789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278-7688-4B1B-8871-117686B7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1A-24BA-4DF2-8C4D-9A4A857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6C55-EFD8-45FC-9F31-E5C3B41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5A49-8052-472A-A406-5EACE85B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A69-BBF7-45CA-A4B1-8DC1622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4DF5-41C4-4EA5-9964-8B7E5F65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674-D93A-4614-8E85-95D7F78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78B-3C90-4BC0-BE04-6DC3376A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186-1FD7-4046-9330-363C4C7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AD79-9D64-48C4-AD30-7CBE439C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90A-CF87-46BB-9895-1E54503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758-BD7E-44FC-A3C2-303DC08E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F113-4066-4584-9B14-B47B9C7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481-AC67-48B6-997E-AFB3846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F56-10EF-46DA-840C-4886209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8BB-CFB2-4E07-86FD-1DA8DA0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712-64C7-4F17-ABF6-C60EF56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674-82FD-4B66-9D4E-4B14ECE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AC8-4266-4933-87C7-54B7A3C5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01C-4578-40A6-9679-EEF9A44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4664-EAE9-43B6-A940-ACAD4A8E9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CC4-637F-4D1C-81EB-56692F20BB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991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华文新魏"/>
              </a:rPr>
              <a:t>小数、分数、百分数和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5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提升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angle 3" descr=""/>
          <p:cNvPicPr/>
          <p:nvPr/>
        </p:nvPicPr>
        <p:blipFill>
          <a:blip r:embed="rId2"/>
          <a:stretch/>
        </p:blipFill>
        <p:spPr>
          <a:xfrm>
            <a:off x="682560" y="1125360"/>
            <a:ext cx="360360" cy="1017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924360" y="1125360"/>
            <a:ext cx="358560" cy="101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000" y="1486080"/>
            <a:ext cx="878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分数单位是（    ），再加上（   ）个这样的分数单位就是最小的质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面有（    ）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0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数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成，这个数写作（      ），读作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套衣服打八折出售售价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现价与原价的比是（        ），比值是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枝铅笔用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总价与数量的比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，比值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94480" y="14842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1160" y="7826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4680" y="2565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440" y="2565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3760" y="3573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1.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74280" y="36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十一点七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0880" y="4726080"/>
            <a:ext cx="10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8000" y="47260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56520" y="5877000"/>
            <a:ext cx="10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5877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2360" y="58770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培优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516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两位小数，“四舍五入”后的似数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个两位小数最大可能是多少？最小可能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数比乙数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甲数的小数点向左移动一位就正好与乙数相等。甲、乙两数各是多少？（提示：用比的知识解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63600" y="1052640"/>
            <a:ext cx="6616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1763640" y="1506600"/>
            <a:ext cx="56372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415800" y="2276640"/>
            <a:ext cx="8331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4470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用尽可能多的方式解释四分之三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390600" y="1844640"/>
            <a:ext cx="8381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说一说：小数、分数、百分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7868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：（有限小数、无限小数）实际上是十进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：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单位：表示一个具体的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带单位：表示两个量的倍数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数：只能表示一个量是另一个量的百分之几，不能带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、分数和百分数之间可以进行互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说一说：分数、除法和比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7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的前项相当于除法中的被除数，比的后项相当于除法中的除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与分数相比，比的前项相当于分子，比的后项相当于分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表示两个数之间的倍数关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法是一种运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既可以表示具体数量，又可以表示两个量之间的倍数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47952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说一说：商不变的规律与分数基本性质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7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商不变的规律：被除数和除数同时乘以或除以一个相同的数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外），商不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数基本性质：分子和分母同时乘以或除以一个相同的数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外），分数的大小不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它们所叙述的规律是一致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数位顺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701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421000"/>
            <a:ext cx="813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701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77440" y="1701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701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422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7080" y="30700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0360" y="3070080"/>
            <a:ext cx="144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0700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2422440"/>
            <a:ext cx="144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3068640"/>
            <a:ext cx="42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2920" y="3070080"/>
            <a:ext cx="180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61080" y="3068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070080"/>
            <a:ext cx="144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0000" y="1701720"/>
            <a:ext cx="180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1701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2421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97800" y="2422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01080" y="2421000"/>
            <a:ext cx="144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508640"/>
            <a:ext cx="540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508640"/>
            <a:ext cx="208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165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076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数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9280" y="18446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 数 部 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48800" y="184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520" y="2680560"/>
            <a:ext cx="5461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4520" y="44323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数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8000" y="36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1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5080" y="40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01800" y="371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3080" y="53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3240" y="25653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3040" y="2602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  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8880" y="3251160"/>
            <a:ext cx="54612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8880" y="499248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89520" y="495756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6160" y="495756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2880" y="495756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8160" y="495756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1800" y="47588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47055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20800" y="47588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4880" y="3100680"/>
            <a:ext cx="3813840" cy="1358640"/>
            <a:chOff x="1694880" y="3100680"/>
            <a:chExt cx="3813840" cy="1358640"/>
          </a:xfrm>
        </p:grpSpPr>
        <p:sp>
          <p:nvSpPr>
            <p:cNvPr id="140" name=""/>
            <p:cNvSpPr/>
            <p:nvPr/>
          </p:nvSpPr>
          <p:spPr>
            <a:xfrm>
              <a:off x="4962600" y="324720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十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8880" y="324720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百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5240" y="324648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千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9240" y="32648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万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30320" y="310068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十万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98880" y="312156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百万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94880" y="310068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千万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71800" y="2597760"/>
            <a:ext cx="1600560" cy="1518480"/>
            <a:chOff x="6571800" y="2597760"/>
            <a:chExt cx="1600560" cy="1518480"/>
          </a:xfrm>
        </p:grpSpPr>
        <p:sp>
          <p:nvSpPr>
            <p:cNvPr id="148" name=""/>
            <p:cNvSpPr/>
            <p:nvPr/>
          </p:nvSpPr>
          <p:spPr>
            <a:xfrm>
              <a:off x="6571800" y="2597760"/>
              <a:ext cx="5461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十 分 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1880" y="2598120"/>
              <a:ext cx="5461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百 分 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6240" y="2619720"/>
              <a:ext cx="5461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千 分 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90880" y="4488840"/>
            <a:ext cx="1554120" cy="1767960"/>
            <a:chOff x="6590880" y="4488840"/>
            <a:chExt cx="1554120" cy="1767960"/>
          </a:xfrm>
        </p:grpSpPr>
        <p:sp>
          <p:nvSpPr>
            <p:cNvPr id="152" name=""/>
            <p:cNvSpPr/>
            <p:nvPr/>
          </p:nvSpPr>
          <p:spPr>
            <a:xfrm>
              <a:off x="6590880" y="44892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十分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1520" y="448884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百分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98880" y="450432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千分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07:57Z</dcterms:created>
  <dc:creator/>
  <dc:description/>
  <dc:language>en-US</dc:language>
  <cp:lastModifiedBy>雨林木风</cp:lastModifiedBy>
  <cp:lastPrinted>1899-12-30T00:00:00Z</cp:lastPrinted>
  <dcterms:modified xsi:type="dcterms:W3CDTF">2013-12-02T16:20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2</vt:lpwstr>
  </property>
  <property fmtid="{D5CDD505-2E9C-101B-9397-08002B2CF9AE}" pid="3" name="NXTAG2">
    <vt:lpwstr>0008009001000000000001024120</vt:lpwstr>
  </property>
</Properties>
</file>