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4.png" ContentType="image/png"/>
  <Override PartName="/ppt/media/image2.jpeg" ContentType="image/jpeg"/>
  <Override PartName="/ppt/media/image3.jpeg" ContentType="image/jpeg"/>
  <Override PartName="/ppt/media/type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5F3-6365-4CF2-9814-8CB2E602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D63-F671-49CC-870B-3B582CDA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9F44-5ABA-432E-9EBA-90EFCB1A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4AB-3BB2-4419-B9F9-A3F8E1A3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6A94-0998-4832-A5E6-14717041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35F8-9E1A-4262-AF56-AEE6CD8F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A38E-A29F-4A77-BE81-605D924D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8A09-0D8E-44BC-9D41-F3E94C88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511F-F2C8-4708-9B9E-F5C36BB0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9368-6990-41CB-949B-CEA2991E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7DEE-6F59-481E-B215-5E4CE0C9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FD3-4798-4566-9468-15D62D93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57C0-913E-4E92-AD77-1069A7D3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0FC0-65AD-4AF8-8A32-9FAF3E21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8EBF-C4ED-469E-B54F-31201314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8A8E-DE46-4D3C-ABEC-4D9DE2D2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1D73-F444-458E-AE70-D47659A2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584DB-13E5-404F-8789-2D2D8955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F78E1-756B-44F4-9006-5E0FF776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CA7E3-3BC9-46F3-B3D7-9F910943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7C477-530D-4FCF-B10C-CE0C0B49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02EE2-CF6F-45C8-83A5-ED8F58CC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FA6-A09C-4B8A-B313-36D61720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3227F-4157-4E5E-A6E7-174DA36A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56203-7EFD-48F8-A402-EEA92154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9C4B7-A54B-49E1-AABD-351880E6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8C16F-B3CB-4984-B0BC-28FECBC4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D5146-AB18-4918-B7C8-0938D170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F6E63-76A2-4693-A6F1-755D061D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3CDBE-4ABB-43B5-A04F-745CE004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A74BF-C413-4176-825A-23C7FE74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D2503-403C-4FDB-9DEA-839EDFA0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88AB9-6AFB-44A9-9F59-D8DED158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168-2582-44B8-B1F6-1FAD425B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28588-6613-405E-A546-932CFC63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AB57F-1FA9-4C6C-A827-3560A203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C6DEB-A990-4D93-A6EF-18855CC8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E7885-EA8A-4266-A7CD-76FE19B5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8DC17-7B05-4F62-AE2B-04814C49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5BF2A-17E6-425A-9BFE-941DD311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DE2D5-99B0-4D35-89C8-253F8960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E5D6D-97DD-4A66-9E1C-11BE94B4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AE30C-DE83-4900-90DC-6A0FE3ED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AD2-D1D4-4DEC-BFE4-4BE1C49B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5198-20A0-43C7-AD23-8116E97F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ECCB-B425-453D-8D58-B27BCEA6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62B-0359-45FE-8419-900BEA97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F0A-B043-4396-AA05-8E60E9D0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6DA9-8699-482D-899A-A6F845BF46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F6D4-65BF-4CB1-9F18-C50536B77C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b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D759-C8C5-4647-B8F7-BDA194491A42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b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5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7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2A5F-DF32-42D9-A880-8F19D2AF7761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59280" y="2997360"/>
            <a:ext cx="2952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数的运算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3" name=""/>
          <p:cNvSpPr/>
          <p:nvPr/>
        </p:nvSpPr>
        <p:spPr>
          <a:xfrm>
            <a:off x="1684080" y="1197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师大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95280" y="1989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求几个相同加数和的简便运算，用乘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68360" y="278136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求一个数的几倍是多少，用乘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39640" y="36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求一个数的几分之几（或百分之几）是多少，用乘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39640" y="5084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求几何图形的面积、体积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00000" y="404640"/>
            <a:ext cx="712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用到乘法运算的几种情形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b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396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1f08"/>
                </a:solidFill>
                <a:latin typeface="Arial Black"/>
              </a:rPr>
              <a:t>       </a:t>
            </a:r>
            <a:r>
              <a:rPr b="1" lang="zh-CN" sz="4400" spc="-1" strike="noStrike">
                <a:solidFill>
                  <a:srgbClr val="fe1f08"/>
                </a:solidFill>
                <a:latin typeface="Arial Black"/>
              </a:rPr>
              <a:t>四则运算的意义：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"/>
          <p:cNvSpPr/>
          <p:nvPr/>
        </p:nvSpPr>
        <p:spPr>
          <a:xfrm>
            <a:off x="903960" y="69228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宋体"/>
              </a:rPr>
              <a:t>1</a:t>
            </a:r>
            <a:r>
              <a:rPr b="0" lang="zh-CN" sz="4400" spc="-1" strike="noStrike">
                <a:solidFill>
                  <a:srgbClr val="ffcc00"/>
                </a:solidFill>
                <a:latin typeface="宋体"/>
              </a:rPr>
              <a:t>、加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692280"/>
            <a:ext cx="71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宋体"/>
              </a:rPr>
              <a:t>        </a:t>
            </a:r>
            <a:r>
              <a:rPr b="1" lang="zh-CN" sz="4400" spc="-1" strike="noStrike">
                <a:solidFill>
                  <a:srgbClr val="fe1f08"/>
                </a:solidFill>
                <a:latin typeface="宋体"/>
              </a:rPr>
              <a:t>把两个数合并成一个数的运算，叫做加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91640" y="2205000"/>
            <a:ext cx="258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加数＋加数＝和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044360" y="3710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88720" y="4502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260000" y="54370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79560" y="3068640"/>
            <a:ext cx="141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和－一个加数＝另一个加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58000" y="3789360"/>
            <a:ext cx="33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25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＋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75=100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529280" y="4724280"/>
            <a:ext cx="33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100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－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75=25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29280" y="5589720"/>
            <a:ext cx="33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100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－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25=75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b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-31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e1f08"/>
                </a:solidFill>
                <a:latin typeface="Arial Black"/>
              </a:rPr>
              <a:t>2</a:t>
            </a:r>
            <a:r>
              <a:rPr b="0" lang="zh-CN" sz="4400" spc="-1" strike="noStrike">
                <a:solidFill>
                  <a:srgbClr val="fe1f08"/>
                </a:solidFill>
                <a:latin typeface="Arial Black"/>
              </a:rPr>
              <a:t>、</a:t>
            </a:r>
            <a:r>
              <a:rPr b="1" lang="zh-CN" sz="4400" spc="-1" strike="noStrike">
                <a:solidFill>
                  <a:srgbClr val="fe1f08"/>
                </a:solidFill>
                <a:latin typeface="Arial Black"/>
              </a:rPr>
              <a:t>减法：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已知两个加数的和与其中的一个加数，求另一个加数的运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1484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被减数－减数＝差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547640" y="242100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e1f08"/>
                </a:solidFill>
                <a:latin typeface="Arial"/>
              </a:rPr>
              <a:t>被减数－差＝减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19280" y="342900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差＋减数＝被减数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63640" y="422100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85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35=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08000" y="508464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103"/>
                </a:solidFill>
                <a:latin typeface="宋体"/>
              </a:rPr>
              <a:t>85</a:t>
            </a:r>
            <a:r>
              <a:rPr b="1" lang="zh-CN" sz="4400" spc="-1" strike="noStrike">
                <a:solidFill>
                  <a:srgbClr val="ffe103"/>
                </a:solidFill>
                <a:latin typeface="宋体"/>
              </a:rPr>
              <a:t>－</a:t>
            </a:r>
            <a:r>
              <a:rPr b="1" lang="zh-CN" sz="4400" spc="-1" strike="noStrike">
                <a:solidFill>
                  <a:srgbClr val="ffe103"/>
                </a:solidFill>
                <a:latin typeface="宋体"/>
              </a:rPr>
              <a:t>50=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79640" y="580536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50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35=8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b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、乘法：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"/>
          <p:cNvSpPr/>
          <p:nvPr/>
        </p:nvSpPr>
        <p:spPr>
          <a:xfrm>
            <a:off x="2556000" y="0"/>
            <a:ext cx="51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求几个相同加数的和的简便运算叫做乘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90800" y="2133720"/>
            <a:ext cx="32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1f08"/>
                </a:solidFill>
                <a:latin typeface="Arial"/>
              </a:rPr>
              <a:t>因数</a:t>
            </a:r>
            <a:r>
              <a:rPr b="1" lang="zh-CN" sz="4400" spc="-1" strike="noStrike">
                <a:solidFill>
                  <a:srgbClr val="fe1f08"/>
                </a:solidFill>
                <a:latin typeface="Arial"/>
              </a:rPr>
              <a:t>×</a:t>
            </a:r>
            <a:r>
              <a:rPr b="1" lang="zh-CN" sz="4400" spc="-1" strike="noStrike">
                <a:solidFill>
                  <a:srgbClr val="fe1f08"/>
                </a:solidFill>
                <a:latin typeface="Arial"/>
              </a:rPr>
              <a:t>因数＝积 </a:t>
            </a:r>
            <a:r>
              <a:rPr b="1" lang="zh-CN" sz="4400" spc="-1" strike="noStrike">
                <a:solidFill>
                  <a:srgbClr val="fe1f08"/>
                </a:solidFill>
                <a:latin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471480" y="2860560"/>
            <a:ext cx="235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积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÷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个因数＝另一个因数</a:t>
            </a:r>
            <a:r>
              <a:rPr b="1" lang="zh-CN" sz="4400" spc="-1" strike="noStrike">
                <a:solidFill>
                  <a:srgbClr val="af273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976400" y="3573360"/>
            <a:ext cx="28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1f08"/>
                </a:solidFill>
                <a:latin typeface="宋体"/>
              </a:rPr>
              <a:t>25</a:t>
            </a:r>
            <a:r>
              <a:rPr b="1" lang="zh-CN" sz="4400" spc="-1" strike="noStrike">
                <a:solidFill>
                  <a:srgbClr val="fe1f08"/>
                </a:solidFill>
                <a:latin typeface="Arial"/>
              </a:rPr>
              <a:t>×4=100</a:t>
            </a:r>
            <a:r>
              <a:rPr b="1" lang="zh-CN" sz="4400" spc="-1" strike="noStrike">
                <a:solidFill>
                  <a:srgbClr val="fe1f08"/>
                </a:solidFill>
                <a:latin typeface="宋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834560" y="4508640"/>
            <a:ext cx="270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100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÷25=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839240" y="5589720"/>
            <a:ext cx="2706120" cy="764280"/>
          </a:xfrm>
          <a:prstGeom prst="rect">
            <a:avLst/>
          </a:prstGeom>
          <a:noFill/>
          <a:ln w="9360">
            <a:solidFill>
              <a:srgbClr val="ffe1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宋体"/>
              </a:rPr>
              <a:t>100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÷4=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b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-31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e1f0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1f08"/>
                </a:solidFill>
                <a:latin typeface="Arial Black"/>
              </a:rPr>
              <a:t>4</a:t>
            </a:r>
            <a:r>
              <a:rPr b="1" lang="zh-CN" sz="4400" spc="-1" strike="noStrike">
                <a:solidFill>
                  <a:srgbClr val="fe1f08"/>
                </a:solidFill>
                <a:latin typeface="Arial Black"/>
              </a:rPr>
              <a:t>、除法：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"/>
          <p:cNvSpPr/>
          <p:nvPr/>
        </p:nvSpPr>
        <p:spPr>
          <a:xfrm>
            <a:off x="2484360" y="189000"/>
            <a:ext cx="64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已知两个因数的积与其中一个因数，求另一个因数的运算，叫做除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484360" y="234936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1f08"/>
                </a:solidFill>
                <a:latin typeface="Arial"/>
              </a:rPr>
              <a:t>被除数</a:t>
            </a:r>
            <a:r>
              <a:rPr b="1" lang="zh-CN" sz="4400" spc="-1" strike="noStrike">
                <a:solidFill>
                  <a:srgbClr val="fe1f08"/>
                </a:solidFill>
                <a:latin typeface="Arial"/>
              </a:rPr>
              <a:t>÷</a:t>
            </a:r>
            <a:r>
              <a:rPr b="1" lang="zh-CN" sz="4400" spc="-1" strike="noStrike">
                <a:solidFill>
                  <a:srgbClr val="fe1f08"/>
                </a:solidFill>
                <a:latin typeface="Arial"/>
              </a:rPr>
              <a:t>除数＝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484360" y="306864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103"/>
                </a:solidFill>
                <a:latin typeface="Arial"/>
              </a:rPr>
              <a:t>被除数</a:t>
            </a:r>
            <a:r>
              <a:rPr b="1" lang="zh-CN" sz="4400" spc="-1" strike="noStrike">
                <a:solidFill>
                  <a:srgbClr val="ffe103"/>
                </a:solidFill>
                <a:latin typeface="Arial"/>
              </a:rPr>
              <a:t>÷</a:t>
            </a:r>
            <a:r>
              <a:rPr b="1" lang="zh-CN" sz="4400" spc="-1" strike="noStrike">
                <a:solidFill>
                  <a:srgbClr val="ffe103"/>
                </a:solidFill>
                <a:latin typeface="Arial"/>
              </a:rPr>
              <a:t>商＝除数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11280" y="386064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商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除数＝被除数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987640" y="4797360"/>
            <a:ext cx="32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100÷5=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84360" y="57340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1f08"/>
                </a:solidFill>
                <a:latin typeface="华文新魏"/>
                <a:ea typeface="华文新魏"/>
              </a:rPr>
              <a:t>20</a:t>
            </a:r>
            <a:r>
              <a:rPr b="1" lang="zh-CN" sz="4400" spc="-1" strike="noStrike">
                <a:solidFill>
                  <a:srgbClr val="fe1f08"/>
                </a:solidFill>
                <a:latin typeface="Arial"/>
              </a:rPr>
              <a:t>×5=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003640" y="5734080"/>
            <a:ext cx="32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100÷20=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971640" y="549360"/>
            <a:ext cx="680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知识梳理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431640" y="1557360"/>
          <a:ext cx="8390160" cy="4378320"/>
        </p:xfrm>
        <a:graphic>
          <a:graphicData uri="http://schemas.openxmlformats.org/drawingml/2006/table">
            <a:tbl>
              <a:tblPr/>
              <a:tblGrid>
                <a:gridCol w="576360"/>
                <a:gridCol w="1979640"/>
                <a:gridCol w="1944720"/>
                <a:gridCol w="1763640"/>
                <a:gridCol w="2125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求两个数的和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求比一个数多几的数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减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求两个数相差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求比一个数少几的数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求剩余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乘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求几个相同加数的和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求一个数的几倍是多少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除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把一个数平均分成几份，求每份是多少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求一个数里面有几个另一个数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求一个数是另一个数的几倍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已知一个数的几倍是多少，求这个数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方正启体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除法运算的意义是所有运算中学生容易理解不好的，因此教师要作为一个重点来处理，可补充类似于下面的题来加强练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方正启体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1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、小强家的厨房有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12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平方米，用边长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0.4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分米的方砖辅地，至少需要多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方正启体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2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、一个圆锥形的沙堆，重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18.84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吨，底面积是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28.26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平方米，这个沙堆有多高？（ 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1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立方米的沙重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1.5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方正启体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3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、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6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米布做大小一样的裤子能做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5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方正启体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（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1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）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1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米布能做几条裤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方正启体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（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2</a:t>
            </a:r>
            <a:r>
              <a:rPr b="1" lang="zh-CN" sz="3200" spc="-1" strike="noStrike">
                <a:solidFill>
                  <a:srgbClr val="990000"/>
                </a:solidFill>
                <a:latin typeface="方正启体简体"/>
                <a:ea typeface="方正启体简体"/>
              </a:rPr>
              <a:t>）做一条裤子需要几米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539640" y="10476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例说明加减法之间有什么关系。乘除法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9640" y="270828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例说明加法各部分之间有什么关系。减法、乘法、除法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0" y="6138720"/>
            <a:ext cx="14968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95280" y="333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加减法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8360" y="11253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0       +       50        =      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002240" y="1700280"/>
            <a:ext cx="462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8360" y="2276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加数            加数                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9640" y="29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0  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－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50        =       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68360" y="4869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0 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－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0        =     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30960" y="3573360"/>
            <a:ext cx="462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46600" y="5516640"/>
            <a:ext cx="462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627280" y="422100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                加数             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042920" y="609300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                加数             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960320" y="692280"/>
            <a:ext cx="66780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结：减法是加法的逆运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95280" y="333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乘除法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8360" y="11253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.5      ×       4        =      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002240" y="1700280"/>
            <a:ext cx="462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68360" y="2276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因数            因数                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79640" y="2924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0      ÷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2.5      =      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730960" y="3573360"/>
            <a:ext cx="462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146600" y="5516640"/>
            <a:ext cx="462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627280" y="422100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积               因数              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95280" y="4869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0      ÷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4       =       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71640" y="609300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积               因数              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888680" y="620640"/>
            <a:ext cx="66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结：除法是乘法的逆运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39640" y="1063800"/>
            <a:ext cx="5186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、数的运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02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970560" y="2531880"/>
            <a:ext cx="6821280" cy="3846600"/>
            <a:chOff x="970560" y="2531880"/>
            <a:chExt cx="6821280" cy="3846600"/>
          </a:xfrm>
        </p:grpSpPr>
        <p:sp>
          <p:nvSpPr>
            <p:cNvPr id="437" name=""/>
            <p:cNvSpPr/>
            <p:nvPr/>
          </p:nvSpPr>
          <p:spPr>
            <a:xfrm>
              <a:off x="3002400" y="2531880"/>
              <a:ext cx="4789440" cy="38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各种运算的意义 、方法、关系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混合运算的顺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对比不同数的运算特点（整数、分数、小数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特殊情况：（</a:t>
              </a: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0</a:t>
              </a: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和</a:t>
              </a: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在四则运算中的特殊性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计算规律：判断乘以（除以）比</a:t>
              </a: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1</a:t>
              </a: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大（小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          </a:t>
              </a: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的数的结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估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99"/>
                  </a:solidFill>
                  <a:latin typeface="仿宋_GB2312"/>
                  <a:ea typeface="仿宋_GB2312"/>
                </a:rPr>
                <a:t>验算（验算的方法、习惯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70560" y="2919240"/>
              <a:ext cx="215640" cy="331128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86040 h 3311280"/>
                <a:gd name="textAreaBottom" fmla="*/ 3225240 h 33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95280" y="366696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四则运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692360" y="1989000"/>
            <a:ext cx="48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692360" y="4684680"/>
            <a:ext cx="48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19280" y="2019240"/>
            <a:ext cx="0" cy="252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516720" y="2019240"/>
            <a:ext cx="0" cy="252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763280" y="1773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1763280" y="49719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55640" y="134136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加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88000" y="14842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55640" y="4508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乘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443640" y="46116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除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87640" y="20192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互为逆运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916360" y="39639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互为逆运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4000" y="2019240"/>
            <a:ext cx="107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求相同加数和的简便运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59640" y="1989000"/>
            <a:ext cx="107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求相同减数个数的简便运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35280" y="-28440"/>
            <a:ext cx="5400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 个加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另一个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被减数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减数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减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差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被减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35280" y="4941720"/>
            <a:ext cx="5400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积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 个因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另一个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被除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除数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商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除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被除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-828720" y="-17136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324000" y="-171360"/>
            <a:ext cx="3024000" cy="1152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巩固与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9280" y="981000"/>
            <a:ext cx="85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请将奖牌榜补充完整。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你还能提出哪些问题？尝试解答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332000" y="213372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6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第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届亚运会奖牌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0" y="2708280"/>
          <a:ext cx="9143640" cy="3938400"/>
        </p:xfrm>
        <a:graphic>
          <a:graphicData uri="http://schemas.openxmlformats.org/drawingml/2006/table">
            <a:tbl>
              <a:tblPr/>
              <a:tblGrid>
                <a:gridCol w="1510920"/>
                <a:gridCol w="1537560"/>
                <a:gridCol w="1563840"/>
                <a:gridCol w="1483200"/>
                <a:gridCol w="1524960"/>
                <a:gridCol w="1523160"/>
              </a:tblGrid>
              <a:tr h="88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代表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银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铜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</a:tr>
              <a:tr h="101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韩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a7dc"/>
                        </a:gs>
                        <a:gs pos="100000">
                          <a:srgbClr val="714c6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71" name=""/>
          <p:cNvSpPr/>
          <p:nvPr/>
        </p:nvSpPr>
        <p:spPr>
          <a:xfrm>
            <a:off x="7956720" y="38606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716360" y="494172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43280" y="494172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588000" y="5877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932360" y="4941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1476360" y="-316080"/>
            <a:ext cx="7920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250920" y="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692360" y="620640"/>
            <a:ext cx="2087640" cy="13683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内长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.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1460520" cy="176508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4716360" y="260280"/>
            <a:ext cx="1962360" cy="17240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1979640" y="442584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270828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打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，应付多少钱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788000" y="2637000"/>
            <a:ext cx="1944720" cy="720720"/>
          </a:xfrm>
          <a:prstGeom prst="wedgeEllipseCallout">
            <a:avLst>
              <a:gd name="adj1" fmla="val -15712"/>
              <a:gd name="adj2" fmla="val -99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3.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77080" y="404640"/>
            <a:ext cx="2087640" cy="13687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际长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04000" y="2421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了多长时间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4"/>
          <a:stretch/>
        </p:blipFill>
        <p:spPr>
          <a:xfrm>
            <a:off x="179280" y="3789360"/>
            <a:ext cx="1728720" cy="27352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2340000" y="4005360"/>
            <a:ext cx="4968720" cy="1944720"/>
          </a:xfrm>
          <a:prstGeom prst="wedgeEllipseCallout">
            <a:avLst>
              <a:gd name="adj1" fmla="val -68819"/>
              <a:gd name="adj2" fmla="val 9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打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市话，一共花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195640" y="60213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市话每分多少钱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250920" y="11592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支援灾区的学生学习，实验小学开展了捐书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635280" y="1052640"/>
            <a:ext cx="2521080" cy="21222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2556000" cy="21160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7020000" y="981000"/>
            <a:ext cx="1800000" cy="164952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79280" y="3500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年级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276720" y="3213000"/>
            <a:ext cx="31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年级比四年级多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804000" y="278136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年级捐的本数是五年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24000" y="4327560"/>
            <a:ext cx="907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五、六年级各捐多少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五年级捐书的本数是四年级的几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六年级捐书的本数正好是二年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倍，二年级捐书多少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79280" y="47628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分别根据下面的算式，提出一个可以用该算式解决的实际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2421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6        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8.5           90×            36÷9              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×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7164360" y="2349360"/>
                <a:ext cx="504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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468360" y="549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填一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39640" y="119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0=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   ）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0.5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4=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8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0=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   ）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÷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0.5=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80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00=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   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÷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4 =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5280" y="2997360"/>
            <a:ext cx="8352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根据题意列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.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倍是多少？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.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0.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几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6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5%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一个数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倍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.2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这个数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两个因数的积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.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其中一个因数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另一个因数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 rot="1360800">
            <a:off x="5292360" y="620280"/>
            <a:ext cx="3017880" cy="20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330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 能 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2842920" y="2133720"/>
            <a:ext cx="44751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rcRect l="12537" t="22390" r="40554" b="59685"/>
          <a:stretch/>
        </p:blipFill>
        <p:spPr>
          <a:xfrm>
            <a:off x="0" y="2060640"/>
            <a:ext cx="5003640" cy="27367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rcRect l="58558" t="22661" r="7497" b="59718"/>
          <a:stretch/>
        </p:blipFill>
        <p:spPr>
          <a:xfrm>
            <a:off x="4788000" y="2133720"/>
            <a:ext cx="4356000" cy="26827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2268360" y="189000"/>
            <a:ext cx="460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回顾与交流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3" name=""/>
          <p:cNvSpPr/>
          <p:nvPr/>
        </p:nvSpPr>
        <p:spPr>
          <a:xfrm>
            <a:off x="250920" y="148428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庆祝“六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46200" y="479736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能提出哪些数学问题？在解决问题的过程中，你使用了哪些运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0" y="2060640"/>
            <a:ext cx="9144000" cy="2755800"/>
            <a:chOff x="0" y="2060640"/>
            <a:chExt cx="9144000" cy="2755800"/>
          </a:xfrm>
        </p:grpSpPr>
        <p:pic>
          <p:nvPicPr>
            <p:cNvPr id="446" name="" descr=""/>
            <p:cNvPicPr/>
            <p:nvPr/>
          </p:nvPicPr>
          <p:blipFill>
            <a:blip r:embed="rId1"/>
            <a:srcRect l="12537" t="22390" r="40554" b="59685"/>
            <a:stretch/>
          </p:blipFill>
          <p:spPr>
            <a:xfrm>
              <a:off x="0" y="2060640"/>
              <a:ext cx="500364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2"/>
            <a:srcRect l="58558" t="22661" r="7497" b="59718"/>
            <a:stretch/>
          </p:blipFill>
          <p:spPr>
            <a:xfrm>
              <a:off x="4788000" y="2133720"/>
              <a:ext cx="4356000" cy="268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8" name=""/>
          <p:cNvSpPr txBox="1"/>
          <p:nvPr/>
        </p:nvSpPr>
        <p:spPr>
          <a:xfrm>
            <a:off x="2268360" y="189000"/>
            <a:ext cx="460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回顾与交流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9" name=""/>
          <p:cNvSpPr/>
          <p:nvPr/>
        </p:nvSpPr>
        <p:spPr>
          <a:xfrm>
            <a:off x="250920" y="148428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庆祝“六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4000" y="5084640"/>
            <a:ext cx="399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共折了多少纸鹤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还需要折多少纸鹤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435640" y="5084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买这些饮料一共需要多少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rcRect l="58524" t="39790" r="7463" b="42424"/>
          <a:stretch/>
        </p:blipFill>
        <p:spPr>
          <a:xfrm>
            <a:off x="4859280" y="47628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rcRect l="12318" t="39700" r="40565" b="42063"/>
          <a:stretch/>
        </p:blipFill>
        <p:spPr>
          <a:xfrm>
            <a:off x="0" y="476280"/>
            <a:ext cx="4967280" cy="32846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79280" y="4005360"/>
            <a:ext cx="849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能提出哪些数学问题？在解决问题的过程中，你使用了哪些运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0" y="476280"/>
            <a:ext cx="9144000" cy="3284640"/>
            <a:chOff x="0" y="476280"/>
            <a:chExt cx="9144000" cy="3284640"/>
          </a:xfrm>
        </p:grpSpPr>
        <p:pic>
          <p:nvPicPr>
            <p:cNvPr id="456" name="" descr=""/>
            <p:cNvPicPr/>
            <p:nvPr/>
          </p:nvPicPr>
          <p:blipFill>
            <a:blip r:embed="rId1"/>
            <a:srcRect l="12318" t="39700" r="40565" b="42063"/>
            <a:stretch/>
          </p:blipFill>
          <p:spPr>
            <a:xfrm>
              <a:off x="0" y="476280"/>
              <a:ext cx="4967280" cy="32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2"/>
            <a:srcRect l="58524" t="39790" r="7463" b="42424"/>
            <a:stretch/>
          </p:blipFill>
          <p:spPr>
            <a:xfrm>
              <a:off x="4859280" y="476280"/>
              <a:ext cx="4284720" cy="321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8" name=""/>
          <p:cNvSpPr/>
          <p:nvPr/>
        </p:nvSpPr>
        <p:spPr>
          <a:xfrm>
            <a:off x="539640" y="4005360"/>
            <a:ext cx="388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捆扎礼品盒用去多少米彩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扎蝴蝶结用去多少米彩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364000" y="4365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平均每组有多少名同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468360" y="476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针对以上问题，列出算式，并说出算式的意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76360" y="1628640"/>
            <a:ext cx="21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39+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1280" y="2349360"/>
            <a:ext cx="792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表示求两个数的和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把两个数合并成一个数的运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476360" y="3860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120-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39+26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24000" y="4581360"/>
            <a:ext cx="860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表示求两个数的差是多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已知两个数的和与其中的一个加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求另一个加数的运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44360" y="260280"/>
            <a:ext cx="89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针对以上问题，列出算式，并说出算式的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03280" y="981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1.5×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1628640"/>
            <a:ext cx="792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表示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5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个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.5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是多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求几个相同加数和的简便运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042920" y="31417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18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×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1/3               18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×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39640" y="371628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表示求一个数的几分之几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187280" y="4437000"/>
            <a:ext cx="21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48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÷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95280" y="5084640"/>
            <a:ext cx="79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表示已知两数的积与其中一个因数，求另一个因数的运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9640" y="33336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二、解决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55640" y="1125360"/>
            <a:ext cx="76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例说明生活中哪些地方用到乘法运算。其他运算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rcRect l="10461" t="63862" r="5040" b="14585"/>
          <a:stretch/>
        </p:blipFill>
        <p:spPr>
          <a:xfrm>
            <a:off x="324000" y="2492280"/>
            <a:ext cx="8604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4:23:05Z</dcterms:created>
  <dc:creator/>
  <dc:description/>
  <dc:language>en-US</dc:language>
  <cp:lastModifiedBy>雨林木风</cp:lastModifiedBy>
  <dcterms:modified xsi:type="dcterms:W3CDTF">2013-12-03T01:39:58Z</dcterms:modified>
  <cp:revision>1</cp:revision>
  <dc:subject/>
  <dc:title>幻灯片 1</dc:title>
</cp:coreProperties>
</file>