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5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7.jpeg" ContentType="image/jpeg"/>
  <Override PartName="/ppt/media/camera.wav" ContentType="audio/x-wav"/>
  <Override PartName="/ppt/media/image24.jpeg" ContentType="image/jpeg"/>
  <Override PartName="/ppt/media/image22.png" ContentType="image/png"/>
  <Override PartName="/ppt/media/image5.png" ContentType="image/png"/>
  <Override PartName="/ppt/media/image8.jpeg" ContentType="image/jpeg"/>
  <Override PartName="/ppt/media/image17.wmf" ContentType="image/x-wmf"/>
  <Override PartName="/ppt/media/image11.wmf" ContentType="image/x-wmf"/>
  <Override PartName="/ppt/media/image27.jpeg" ContentType="image/jpeg"/>
  <Override PartName="/ppt/media/image4.wmf" ContentType="image/x-wmf"/>
  <Override PartName="/ppt/media/image10.png" ContentType="image/png"/>
  <Override PartName="/ppt/media/image1.jpeg" ContentType="image/jpeg"/>
  <Override PartName="/ppt/media/image9.png" ContentType="image/png"/>
  <Override PartName="/ppt/media/cashreg.wav" ContentType="audio/x-wav"/>
  <Override PartName="/ppt/media/image13.png" ContentType="image/png"/>
  <Override PartName="/ppt/media/image12.png" ContentType="image/png"/>
  <Override PartName="/ppt/media/image20.jpeg" ContentType="image/jpeg"/>
  <Override PartName="/ppt/media/image14.png" ContentType="image/png"/>
  <Override PartName="/ppt/media/image16.png" ContentType="image/png"/>
  <Override PartName="/ppt/media/image18.wmf" ContentType="image/x-wmf"/>
  <Override PartName="/ppt/media/image26.jpeg" ContentType="image/jpeg"/>
  <Override PartName="/ppt/media/image19.wmf" ContentType="image/x-wmf"/>
  <Override PartName="/ppt/media/image6.jpeg" ContentType="image/jpeg"/>
  <Override PartName="/ppt/media/image21.wmf" ContentType="image/x-wmf"/>
  <Override PartName="/ppt/media/type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1E5E-A682-4A29-9C06-D2A8535B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D0A0-DD43-4AE4-A7FD-FB48E8CE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CCB9-EE73-43C0-BBB3-9248C3DA4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1135-C433-431D-B14F-91FF9C204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3EED-2C3D-4A19-8C6E-BB976C1E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D4F5-7BB4-47C0-BDF3-0B405D0A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5168-302F-417D-8F6E-165E649F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D35C-239C-48B4-AD01-9127A05D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66C5-837B-402A-B4D9-75677E7F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3335-A8C2-453F-9A54-1A8DEE24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6420-3CAE-41EC-95BA-0F81C3F2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05BA-E6D1-4E6E-9FE5-91A5CB92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9272-CB19-4299-A5A2-57E0EBE93F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750;%B9%FB%B9%DE&#887;&amp;in=2714&amp;cl=2&amp;cm=1&amp;sc=0&amp;lm=-1&amp;pn=0&amp;rn=1&amp;di=1388012176&amp;ln=1114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216000" y="1557360"/>
            <a:ext cx="89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楷体_GB2312"/>
              </a:rPr>
              <a:t>北师大版六年级数学下册第一单元课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116000" y="3645000"/>
            <a:ext cx="698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Calibri"/>
                <a:ea typeface="黑体"/>
              </a:rPr>
              <a:t>圆柱的表面积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Group 6"/>
          <p:cNvGrpSpPr/>
          <p:nvPr/>
        </p:nvGrpSpPr>
        <p:grpSpPr>
          <a:xfrm>
            <a:off x="971640" y="189000"/>
            <a:ext cx="2305080" cy="3024000"/>
            <a:chOff x="971640" y="189000"/>
            <a:chExt cx="2305080" cy="3024000"/>
          </a:xfrm>
        </p:grpSpPr>
        <p:sp>
          <p:nvSpPr>
            <p:cNvPr id="99" name="AutoShape 4"/>
            <p:cNvSpPr/>
            <p:nvPr/>
          </p:nvSpPr>
          <p:spPr>
            <a:xfrm>
              <a:off x="971640" y="189000"/>
              <a:ext cx="2305080" cy="3024000"/>
            </a:xfrm>
            <a:prstGeom prst="can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Oval 5"/>
            <p:cNvSpPr/>
            <p:nvPr/>
          </p:nvSpPr>
          <p:spPr>
            <a:xfrm>
              <a:off x="971640" y="189000"/>
              <a:ext cx="230508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Line 7"/>
          <p:cNvSpPr/>
          <p:nvPr/>
        </p:nvSpPr>
        <p:spPr>
          <a:xfrm>
            <a:off x="1981080" y="98100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4356000" y="549360"/>
            <a:ext cx="3745080" cy="2376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Group 10"/>
          <p:cNvGrpSpPr/>
          <p:nvPr/>
        </p:nvGrpSpPr>
        <p:grpSpPr>
          <a:xfrm>
            <a:off x="898560" y="3429000"/>
            <a:ext cx="2305080" cy="3024000"/>
            <a:chOff x="898560" y="3429000"/>
            <a:chExt cx="2305080" cy="3024000"/>
          </a:xfrm>
        </p:grpSpPr>
        <p:sp>
          <p:nvSpPr>
            <p:cNvPr id="104" name="AutoShape 11"/>
            <p:cNvSpPr/>
            <p:nvPr/>
          </p:nvSpPr>
          <p:spPr>
            <a:xfrm>
              <a:off x="898560" y="3429000"/>
              <a:ext cx="2305080" cy="3024000"/>
            </a:xfrm>
            <a:prstGeom prst="can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Oval 12"/>
            <p:cNvSpPr/>
            <p:nvPr/>
          </p:nvSpPr>
          <p:spPr>
            <a:xfrm>
              <a:off x="898560" y="3429000"/>
              <a:ext cx="230508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" name="AutoShape 13"/>
          <p:cNvSpPr/>
          <p:nvPr/>
        </p:nvSpPr>
        <p:spPr>
          <a:xfrm>
            <a:off x="3924360" y="3645000"/>
            <a:ext cx="4895640" cy="2377800"/>
          </a:xfrm>
          <a:prstGeom prst="parallelogram">
            <a:avLst>
              <a:gd name="adj" fmla="val 5047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Line 15"/>
          <p:cNvSpPr/>
          <p:nvPr/>
        </p:nvSpPr>
        <p:spPr>
          <a:xfrm flipV="1">
            <a:off x="1332000" y="4149720"/>
            <a:ext cx="1295280" cy="2232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Line 16"/>
          <p:cNvSpPr/>
          <p:nvPr/>
        </p:nvSpPr>
        <p:spPr>
          <a:xfrm>
            <a:off x="4356000" y="2924280"/>
            <a:ext cx="3745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Line 17"/>
          <p:cNvSpPr/>
          <p:nvPr/>
        </p:nvSpPr>
        <p:spPr>
          <a:xfrm>
            <a:off x="3924360" y="6021360"/>
            <a:ext cx="3744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148360" y="3068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</a:rPr>
              <a:t>底面周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4932360" y="60786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</a:rPr>
              <a:t>底面周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20"/>
          <p:cNvSpPr/>
          <p:nvPr/>
        </p:nvSpPr>
        <p:spPr>
          <a:xfrm>
            <a:off x="8101080" y="549360"/>
            <a:ext cx="0" cy="237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21"/>
          <p:cNvSpPr/>
          <p:nvPr/>
        </p:nvSpPr>
        <p:spPr>
          <a:xfrm>
            <a:off x="5148360" y="3645000"/>
            <a:ext cx="0" cy="237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22"/>
          <p:cNvSpPr/>
          <p:nvPr/>
        </p:nvSpPr>
        <p:spPr>
          <a:xfrm>
            <a:off x="8028000" y="1413000"/>
            <a:ext cx="8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23"/>
          <p:cNvSpPr/>
          <p:nvPr/>
        </p:nvSpPr>
        <p:spPr>
          <a:xfrm>
            <a:off x="5219640" y="4508640"/>
            <a:ext cx="8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AutoShape 24">
            <a:hlinkClick r:id="" action="ppaction://hlinkshowjump?jump=previousslide"/>
          </p:cNvPr>
          <p:cNvSpPr/>
          <p:nvPr/>
        </p:nvSpPr>
        <p:spPr>
          <a:xfrm>
            <a:off x="849636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10800"/>
                </a:moveTo>
                <a:lnTo>
                  <a:pt x="19737" y="3794"/>
                </a:lnTo>
                <a:lnTo>
                  <a:pt x="19737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AutoShape 25">
            <a:hlinkClick r:id="" action="ppaction://hlinkshowjump?jump=firstslide"/>
          </p:cNvPr>
          <p:cNvSpPr/>
          <p:nvPr/>
        </p:nvSpPr>
        <p:spPr>
          <a:xfrm>
            <a:off x="7812000" y="6093000"/>
            <a:ext cx="576360" cy="765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65000"/>
              <a:gd name="textAreaBottom" fmla="*/ 727920 h 765000"/>
            </a:gdLst>
            <a:ahLst/>
            <a:rect l="textAreaLeft" t="textAreaTop" r="textAreaRight" b="textAreaBottom"/>
            <a:pathLst>
              <a:path w="21600" h="28665">
                <a:moveTo>
                  <a:pt x="0" y="0"/>
                </a:moveTo>
                <a:lnTo>
                  <a:pt x="21600" y="0"/>
                </a:lnTo>
                <a:lnTo>
                  <a:pt x="21600" y="28665"/>
                </a:lnTo>
                <a:lnTo>
                  <a:pt x="0" y="28665"/>
                </a:lnTo>
                <a:close/>
              </a:path>
              <a:path fill="lightenLess" w="21600" h="286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665">
                <a:moveTo>
                  <a:pt x="21600" y="0"/>
                </a:moveTo>
                <a:lnTo>
                  <a:pt x="21600" y="28665"/>
                </a:lnTo>
                <a:lnTo>
                  <a:pt x="20200" y="27265"/>
                </a:lnTo>
                <a:lnTo>
                  <a:pt x="20200" y="1400"/>
                </a:lnTo>
                <a:close/>
              </a:path>
              <a:path fill="darkenLess" w="21600" h="28665">
                <a:moveTo>
                  <a:pt x="21600" y="28665"/>
                </a:moveTo>
                <a:lnTo>
                  <a:pt x="0" y="28665"/>
                </a:lnTo>
                <a:lnTo>
                  <a:pt x="1400" y="27265"/>
                </a:lnTo>
                <a:lnTo>
                  <a:pt x="20200" y="27265"/>
                </a:lnTo>
                <a:close/>
              </a:path>
              <a:path fill="lighten" w="21600" h="28665">
                <a:moveTo>
                  <a:pt x="0" y="286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7265"/>
                </a:lnTo>
                <a:close/>
              </a:path>
              <a:path fill="darken" w="21600" h="28665">
                <a:moveTo>
                  <a:pt x="10800" y="7370"/>
                </a:moveTo>
                <a:lnTo>
                  <a:pt x="13376" y="9981"/>
                </a:lnTo>
                <a:lnTo>
                  <a:pt x="13376" y="8240"/>
                </a:lnTo>
                <a:lnTo>
                  <a:pt x="15152" y="8240"/>
                </a:lnTo>
                <a:lnTo>
                  <a:pt x="15152" y="11756"/>
                </a:lnTo>
                <a:lnTo>
                  <a:pt x="17763" y="14333"/>
                </a:lnTo>
                <a:lnTo>
                  <a:pt x="16109" y="14333"/>
                </a:lnTo>
                <a:lnTo>
                  <a:pt x="16109" y="21522"/>
                </a:lnTo>
                <a:lnTo>
                  <a:pt x="5491" y="21522"/>
                </a:lnTo>
                <a:lnTo>
                  <a:pt x="5491" y="14333"/>
                </a:lnTo>
                <a:lnTo>
                  <a:pt x="3837" y="14333"/>
                </a:lnTo>
                <a:close/>
              </a:path>
              <a:path fill="darkenLess" w="21600" h="28665">
                <a:moveTo>
                  <a:pt x="13376" y="9981"/>
                </a:moveTo>
                <a:lnTo>
                  <a:pt x="13376" y="8240"/>
                </a:lnTo>
                <a:lnTo>
                  <a:pt x="15152" y="8240"/>
                </a:lnTo>
                <a:lnTo>
                  <a:pt x="15152" y="11756"/>
                </a:lnTo>
                <a:close/>
              </a:path>
              <a:path fill="darkenLess" w="21600" h="28665">
                <a:moveTo>
                  <a:pt x="9877" y="17831"/>
                </a:moveTo>
                <a:lnTo>
                  <a:pt x="11723" y="17831"/>
                </a:lnTo>
                <a:lnTo>
                  <a:pt x="11723" y="21522"/>
                </a:lnTo>
                <a:lnTo>
                  <a:pt x="16109" y="21522"/>
                </a:lnTo>
                <a:lnTo>
                  <a:pt x="16109" y="14333"/>
                </a:lnTo>
                <a:lnTo>
                  <a:pt x="5491" y="14333"/>
                </a:lnTo>
                <a:lnTo>
                  <a:pt x="5491" y="21522"/>
                </a:lnTo>
                <a:lnTo>
                  <a:pt x="9877" y="215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如果要制作一个这样的饮料罐，至少需要多少铁皮？就是计算什么？怎样计算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手测量出所需条件，计算制作一个这样的饮料罐至少需要多少铁皮？（得数保留整十平方厘米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想一想，议一议，量一量，算一算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u=1854379777,3672098242&amp;gp=14"/>
          <p:cNvPicPr/>
          <p:nvPr/>
        </p:nvPicPr>
        <p:blipFill>
          <a:blip r:embed="rId1"/>
          <a:stretch/>
        </p:blipFill>
        <p:spPr>
          <a:xfrm>
            <a:off x="6076800" y="2646360"/>
            <a:ext cx="1654200" cy="206856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6">
            <a:hlinkClick r:id="" action="ppaction://hlinkshowjump?jump=nextslide"/>
          </p:cNvPr>
          <p:cNvSpPr/>
          <p:nvPr/>
        </p:nvSpPr>
        <p:spPr>
          <a:xfrm>
            <a:off x="4932360" y="6210360"/>
            <a:ext cx="1187280" cy="647640"/>
          </a:xfrm>
          <a:custGeom>
            <a:avLst/>
            <a:gdLst>
              <a:gd name="textAreaLeft" fmla="*/ 41760 w 1187280"/>
              <a:gd name="textAreaRight" fmla="*/ 1145520 w 1187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2788" y="3794"/>
                </a:moveTo>
                <a:lnTo>
                  <a:pt x="26800" y="10800"/>
                </a:lnTo>
                <a:lnTo>
                  <a:pt x="1278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表面展开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6443640" y="6308640"/>
            <a:ext cx="792360" cy="549360"/>
          </a:xfrm>
          <a:custGeom>
            <a:avLst/>
            <a:gdLst>
              <a:gd name="textAreaLeft" fmla="*/ 35280 w 792360"/>
              <a:gd name="textAreaRight" fmla="*/ 757080 w 792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148" h="21600">
                <a:moveTo>
                  <a:pt x="0" y="0"/>
                </a:moveTo>
                <a:lnTo>
                  <a:pt x="31148" y="0"/>
                </a:lnTo>
                <a:lnTo>
                  <a:pt x="31148" y="21600"/>
                </a:lnTo>
                <a:lnTo>
                  <a:pt x="0" y="21600"/>
                </a:lnTo>
                <a:close/>
              </a:path>
              <a:path fill="lightenLess" w="31148" h="21600">
                <a:moveTo>
                  <a:pt x="0" y="0"/>
                </a:moveTo>
                <a:lnTo>
                  <a:pt x="31148" y="0"/>
                </a:lnTo>
                <a:lnTo>
                  <a:pt x="29748" y="1400"/>
                </a:lnTo>
                <a:lnTo>
                  <a:pt x="1400" y="1400"/>
                </a:lnTo>
                <a:close/>
              </a:path>
              <a:path fill="darken" w="31148" h="21600">
                <a:moveTo>
                  <a:pt x="31148" y="0"/>
                </a:moveTo>
                <a:lnTo>
                  <a:pt x="31148" y="21600"/>
                </a:lnTo>
                <a:lnTo>
                  <a:pt x="29748" y="20200"/>
                </a:lnTo>
                <a:lnTo>
                  <a:pt x="29748" y="1400"/>
                </a:lnTo>
                <a:close/>
              </a:path>
              <a:path fill="darkenLess" w="31148" h="21600">
                <a:moveTo>
                  <a:pt x="311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48" y="20200"/>
                </a:lnTo>
                <a:close/>
              </a:path>
              <a:path fill="lighten" w="311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48" h="21600">
                <a:moveTo>
                  <a:pt x="8568" y="3794"/>
                </a:moveTo>
                <a:lnTo>
                  <a:pt x="22581" y="10800"/>
                </a:lnTo>
                <a:lnTo>
                  <a:pt x="856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公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7451640" y="6381720"/>
            <a:ext cx="647640" cy="476280"/>
          </a:xfrm>
          <a:custGeom>
            <a:avLst/>
            <a:gdLst>
              <a:gd name="textAreaLeft" fmla="*/ 30600 w 647640"/>
              <a:gd name="textAreaRight" fmla="*/ 617040 w 647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9366" h="21600">
                <a:moveTo>
                  <a:pt x="0" y="0"/>
                </a:moveTo>
                <a:lnTo>
                  <a:pt x="29366" y="0"/>
                </a:lnTo>
                <a:lnTo>
                  <a:pt x="29366" y="21600"/>
                </a:lnTo>
                <a:lnTo>
                  <a:pt x="0" y="21600"/>
                </a:lnTo>
                <a:close/>
              </a:path>
              <a:path fill="lightenLess" w="29366" h="21600">
                <a:moveTo>
                  <a:pt x="0" y="0"/>
                </a:moveTo>
                <a:lnTo>
                  <a:pt x="29366" y="0"/>
                </a:lnTo>
                <a:lnTo>
                  <a:pt x="27966" y="1400"/>
                </a:lnTo>
                <a:lnTo>
                  <a:pt x="1400" y="1400"/>
                </a:lnTo>
                <a:close/>
              </a:path>
              <a:path fill="darken" w="29366" h="21600">
                <a:moveTo>
                  <a:pt x="29366" y="0"/>
                </a:moveTo>
                <a:lnTo>
                  <a:pt x="29366" y="21600"/>
                </a:lnTo>
                <a:lnTo>
                  <a:pt x="27966" y="20200"/>
                </a:lnTo>
                <a:lnTo>
                  <a:pt x="27966" y="1400"/>
                </a:lnTo>
                <a:close/>
              </a:path>
              <a:path fill="darkenLess" w="29366" h="21600">
                <a:moveTo>
                  <a:pt x="29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6" y="20200"/>
                </a:lnTo>
                <a:close/>
              </a:path>
              <a:path fill="lighten" w="29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6" h="21600">
                <a:moveTo>
                  <a:pt x="7676" y="3794"/>
                </a:moveTo>
                <a:lnTo>
                  <a:pt x="21689" y="10800"/>
                </a:lnTo>
                <a:lnTo>
                  <a:pt x="767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注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AutoShape 9">
            <a:hlinkClick r:id="" action="ppaction://hlinkshowjump?jump=firstslide"/>
          </p:cNvPr>
          <p:cNvSpPr/>
          <p:nvPr/>
        </p:nvSpPr>
        <p:spPr>
          <a:xfrm>
            <a:off x="8567640" y="6093000"/>
            <a:ext cx="576360" cy="765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65000"/>
              <a:gd name="textAreaBottom" fmla="*/ 727920 h 765000"/>
            </a:gdLst>
            <a:ahLst/>
            <a:rect l="textAreaLeft" t="textAreaTop" r="textAreaRight" b="textAreaBottom"/>
            <a:pathLst>
              <a:path w="21600" h="28665">
                <a:moveTo>
                  <a:pt x="0" y="0"/>
                </a:moveTo>
                <a:lnTo>
                  <a:pt x="21600" y="0"/>
                </a:lnTo>
                <a:lnTo>
                  <a:pt x="21600" y="28665"/>
                </a:lnTo>
                <a:lnTo>
                  <a:pt x="0" y="28665"/>
                </a:lnTo>
                <a:close/>
              </a:path>
              <a:path fill="lightenLess" w="21600" h="286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665">
                <a:moveTo>
                  <a:pt x="21600" y="0"/>
                </a:moveTo>
                <a:lnTo>
                  <a:pt x="21600" y="28665"/>
                </a:lnTo>
                <a:lnTo>
                  <a:pt x="20200" y="27265"/>
                </a:lnTo>
                <a:lnTo>
                  <a:pt x="20200" y="1400"/>
                </a:lnTo>
                <a:close/>
              </a:path>
              <a:path fill="darkenLess" w="21600" h="28665">
                <a:moveTo>
                  <a:pt x="21600" y="28665"/>
                </a:moveTo>
                <a:lnTo>
                  <a:pt x="0" y="28665"/>
                </a:lnTo>
                <a:lnTo>
                  <a:pt x="1400" y="27265"/>
                </a:lnTo>
                <a:lnTo>
                  <a:pt x="20200" y="27265"/>
                </a:lnTo>
                <a:close/>
              </a:path>
              <a:path fill="lighten" w="21600" h="28665">
                <a:moveTo>
                  <a:pt x="0" y="286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7265"/>
                </a:lnTo>
                <a:close/>
              </a:path>
              <a:path fill="darken" w="21600" h="28665">
                <a:moveTo>
                  <a:pt x="10800" y="7370"/>
                </a:moveTo>
                <a:lnTo>
                  <a:pt x="13376" y="9981"/>
                </a:lnTo>
                <a:lnTo>
                  <a:pt x="13376" y="8240"/>
                </a:lnTo>
                <a:lnTo>
                  <a:pt x="15152" y="8240"/>
                </a:lnTo>
                <a:lnTo>
                  <a:pt x="15152" y="11756"/>
                </a:lnTo>
                <a:lnTo>
                  <a:pt x="17763" y="14333"/>
                </a:lnTo>
                <a:lnTo>
                  <a:pt x="16109" y="14333"/>
                </a:lnTo>
                <a:lnTo>
                  <a:pt x="16109" y="21522"/>
                </a:lnTo>
                <a:lnTo>
                  <a:pt x="5491" y="21522"/>
                </a:lnTo>
                <a:lnTo>
                  <a:pt x="5491" y="14333"/>
                </a:lnTo>
                <a:lnTo>
                  <a:pt x="3837" y="14333"/>
                </a:lnTo>
                <a:close/>
              </a:path>
              <a:path fill="darkenLess" w="21600" h="28665">
                <a:moveTo>
                  <a:pt x="13376" y="9981"/>
                </a:moveTo>
                <a:lnTo>
                  <a:pt x="13376" y="8240"/>
                </a:lnTo>
                <a:lnTo>
                  <a:pt x="15152" y="8240"/>
                </a:lnTo>
                <a:lnTo>
                  <a:pt x="15152" y="11756"/>
                </a:lnTo>
                <a:close/>
              </a:path>
              <a:path fill="darkenLess" w="21600" h="28665">
                <a:moveTo>
                  <a:pt x="9877" y="17831"/>
                </a:moveTo>
                <a:lnTo>
                  <a:pt x="11723" y="17831"/>
                </a:lnTo>
                <a:lnTo>
                  <a:pt x="11723" y="21522"/>
                </a:lnTo>
                <a:lnTo>
                  <a:pt x="16109" y="21522"/>
                </a:lnTo>
                <a:lnTo>
                  <a:pt x="16109" y="14333"/>
                </a:lnTo>
                <a:lnTo>
                  <a:pt x="5491" y="14333"/>
                </a:lnTo>
                <a:lnTo>
                  <a:pt x="5491" y="21522"/>
                </a:lnTo>
                <a:lnTo>
                  <a:pt x="9877" y="215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4"/>
          <p:cNvGrpSpPr/>
          <p:nvPr/>
        </p:nvGrpSpPr>
        <p:grpSpPr>
          <a:xfrm>
            <a:off x="971640" y="1530360"/>
            <a:ext cx="2305080" cy="3024000"/>
            <a:chOff x="971640" y="1530360"/>
            <a:chExt cx="2305080" cy="3024000"/>
          </a:xfrm>
        </p:grpSpPr>
        <p:sp>
          <p:nvSpPr>
            <p:cNvPr id="126" name="AutoShape 5"/>
            <p:cNvSpPr/>
            <p:nvPr/>
          </p:nvSpPr>
          <p:spPr>
            <a:xfrm>
              <a:off x="971640" y="1530360"/>
              <a:ext cx="2305080" cy="3024000"/>
            </a:xfrm>
            <a:prstGeom prst="can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Oval 6"/>
            <p:cNvSpPr/>
            <p:nvPr/>
          </p:nvSpPr>
          <p:spPr>
            <a:xfrm>
              <a:off x="971640" y="1530360"/>
              <a:ext cx="230508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Line 7"/>
          <p:cNvSpPr/>
          <p:nvPr/>
        </p:nvSpPr>
        <p:spPr>
          <a:xfrm>
            <a:off x="1981080" y="2322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4356000" y="1890720"/>
            <a:ext cx="3745080" cy="2376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4356000" y="4265640"/>
            <a:ext cx="3745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5148360" y="4410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</a:rPr>
              <a:t>底面周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8101080" y="1890720"/>
            <a:ext cx="0" cy="237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8028000" y="2754360"/>
            <a:ext cx="8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AutoShape 13">
            <a:hlinkClick r:id="" action="ppaction://hlinkshowjump?jump=previousslide"/>
          </p:cNvPr>
          <p:cNvSpPr/>
          <p:nvPr/>
        </p:nvSpPr>
        <p:spPr>
          <a:xfrm>
            <a:off x="849636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10800"/>
                </a:moveTo>
                <a:lnTo>
                  <a:pt x="19737" y="3794"/>
                </a:lnTo>
                <a:lnTo>
                  <a:pt x="19737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AutoShape 14">
            <a:hlinkClick r:id="" action="ppaction://hlinkshowjump?jump=firstslide"/>
          </p:cNvPr>
          <p:cNvSpPr/>
          <p:nvPr/>
        </p:nvSpPr>
        <p:spPr>
          <a:xfrm>
            <a:off x="7812000" y="6093000"/>
            <a:ext cx="576360" cy="765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65000"/>
              <a:gd name="textAreaBottom" fmla="*/ 727920 h 765000"/>
            </a:gdLst>
            <a:ahLst/>
            <a:rect l="textAreaLeft" t="textAreaTop" r="textAreaRight" b="textAreaBottom"/>
            <a:pathLst>
              <a:path w="21600" h="28665">
                <a:moveTo>
                  <a:pt x="0" y="0"/>
                </a:moveTo>
                <a:lnTo>
                  <a:pt x="21600" y="0"/>
                </a:lnTo>
                <a:lnTo>
                  <a:pt x="21600" y="28665"/>
                </a:lnTo>
                <a:lnTo>
                  <a:pt x="0" y="28665"/>
                </a:lnTo>
                <a:close/>
              </a:path>
              <a:path fill="lightenLess" w="21600" h="286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665">
                <a:moveTo>
                  <a:pt x="21600" y="0"/>
                </a:moveTo>
                <a:lnTo>
                  <a:pt x="21600" y="28665"/>
                </a:lnTo>
                <a:lnTo>
                  <a:pt x="20200" y="27265"/>
                </a:lnTo>
                <a:lnTo>
                  <a:pt x="20200" y="1400"/>
                </a:lnTo>
                <a:close/>
              </a:path>
              <a:path fill="darkenLess" w="21600" h="28665">
                <a:moveTo>
                  <a:pt x="21600" y="28665"/>
                </a:moveTo>
                <a:lnTo>
                  <a:pt x="0" y="28665"/>
                </a:lnTo>
                <a:lnTo>
                  <a:pt x="1400" y="27265"/>
                </a:lnTo>
                <a:lnTo>
                  <a:pt x="20200" y="27265"/>
                </a:lnTo>
                <a:close/>
              </a:path>
              <a:path fill="lighten" w="21600" h="28665">
                <a:moveTo>
                  <a:pt x="0" y="286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7265"/>
                </a:lnTo>
                <a:close/>
              </a:path>
              <a:path fill="darken" w="21600" h="28665">
                <a:moveTo>
                  <a:pt x="10800" y="7370"/>
                </a:moveTo>
                <a:lnTo>
                  <a:pt x="13376" y="9981"/>
                </a:lnTo>
                <a:lnTo>
                  <a:pt x="13376" y="8240"/>
                </a:lnTo>
                <a:lnTo>
                  <a:pt x="15152" y="8240"/>
                </a:lnTo>
                <a:lnTo>
                  <a:pt x="15152" y="11756"/>
                </a:lnTo>
                <a:lnTo>
                  <a:pt x="17763" y="14333"/>
                </a:lnTo>
                <a:lnTo>
                  <a:pt x="16109" y="14333"/>
                </a:lnTo>
                <a:lnTo>
                  <a:pt x="16109" y="21522"/>
                </a:lnTo>
                <a:lnTo>
                  <a:pt x="5491" y="21522"/>
                </a:lnTo>
                <a:lnTo>
                  <a:pt x="5491" y="14333"/>
                </a:lnTo>
                <a:lnTo>
                  <a:pt x="3837" y="14333"/>
                </a:lnTo>
                <a:close/>
              </a:path>
              <a:path fill="darkenLess" w="21600" h="28665">
                <a:moveTo>
                  <a:pt x="13376" y="9981"/>
                </a:moveTo>
                <a:lnTo>
                  <a:pt x="13376" y="8240"/>
                </a:lnTo>
                <a:lnTo>
                  <a:pt x="15152" y="8240"/>
                </a:lnTo>
                <a:lnTo>
                  <a:pt x="15152" y="11756"/>
                </a:lnTo>
                <a:close/>
              </a:path>
              <a:path fill="darkenLess" w="21600" h="28665">
                <a:moveTo>
                  <a:pt x="9877" y="17831"/>
                </a:moveTo>
                <a:lnTo>
                  <a:pt x="11723" y="17831"/>
                </a:lnTo>
                <a:lnTo>
                  <a:pt x="11723" y="21522"/>
                </a:lnTo>
                <a:lnTo>
                  <a:pt x="16109" y="21522"/>
                </a:lnTo>
                <a:lnTo>
                  <a:pt x="16109" y="14333"/>
                </a:lnTo>
                <a:lnTo>
                  <a:pt x="5491" y="14333"/>
                </a:lnTo>
                <a:lnTo>
                  <a:pt x="5491" y="21522"/>
                </a:lnTo>
                <a:lnTo>
                  <a:pt x="9877" y="215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12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Calibri"/>
              </a:rPr>
              <a:t>圆柱的侧面积＝底面周长</a:t>
            </a: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×</a:t>
            </a:r>
            <a:r>
              <a:rPr b="1" lang="zh-CN" sz="4800" spc="-1" strike="noStrike">
                <a:solidFill>
                  <a:srgbClr val="0000ff"/>
                </a:solidFill>
                <a:latin typeface="Calibri"/>
              </a:rPr>
              <a:t>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7956720" y="6281640"/>
            <a:ext cx="936360" cy="576360"/>
          </a:xfrm>
          <a:custGeom>
            <a:avLst/>
            <a:gdLst>
              <a:gd name="textAreaLeft" fmla="*/ 37080 w 936360"/>
              <a:gd name="textAreaRight" fmla="*/ 899280 w 93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5083" h="21600">
                <a:moveTo>
                  <a:pt x="0" y="0"/>
                </a:moveTo>
                <a:lnTo>
                  <a:pt x="35083" y="0"/>
                </a:lnTo>
                <a:lnTo>
                  <a:pt x="35083" y="21600"/>
                </a:lnTo>
                <a:lnTo>
                  <a:pt x="0" y="21600"/>
                </a:lnTo>
                <a:close/>
              </a:path>
              <a:path fill="lightenLess" w="35083" h="21600">
                <a:moveTo>
                  <a:pt x="0" y="0"/>
                </a:moveTo>
                <a:lnTo>
                  <a:pt x="35083" y="0"/>
                </a:lnTo>
                <a:lnTo>
                  <a:pt x="33683" y="1400"/>
                </a:lnTo>
                <a:lnTo>
                  <a:pt x="1400" y="1400"/>
                </a:lnTo>
                <a:close/>
              </a:path>
              <a:path fill="darken" w="35083" h="21600">
                <a:moveTo>
                  <a:pt x="35083" y="0"/>
                </a:moveTo>
                <a:lnTo>
                  <a:pt x="35083" y="21600"/>
                </a:lnTo>
                <a:lnTo>
                  <a:pt x="33683" y="20200"/>
                </a:lnTo>
                <a:lnTo>
                  <a:pt x="33683" y="1400"/>
                </a:lnTo>
                <a:close/>
              </a:path>
              <a:path fill="darkenLess" w="35083" h="21600">
                <a:moveTo>
                  <a:pt x="35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3" y="20200"/>
                </a:lnTo>
                <a:close/>
              </a:path>
              <a:path fill="lighten" w="35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83" h="21600">
                <a:moveTo>
                  <a:pt x="14043" y="10800"/>
                </a:moveTo>
                <a:lnTo>
                  <a:pt x="24548" y="3794"/>
                </a:lnTo>
                <a:lnTo>
                  <a:pt x="24548" y="17806"/>
                </a:lnTo>
                <a:close/>
              </a:path>
              <a:path fill="darken" w="35083" h="21600">
                <a:moveTo>
                  <a:pt x="10535" y="3794"/>
                </a:moveTo>
                <a:lnTo>
                  <a:pt x="12197" y="3794"/>
                </a:lnTo>
                <a:lnTo>
                  <a:pt x="12197" y="17806"/>
                </a:lnTo>
                <a:lnTo>
                  <a:pt x="1053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5">
            <a:hlinkClick r:id="" action="ppaction://hlinkshowjump?jump=firstslide"/>
          </p:cNvPr>
          <p:cNvSpPr/>
          <p:nvPr/>
        </p:nvSpPr>
        <p:spPr>
          <a:xfrm>
            <a:off x="7380360" y="6093000"/>
            <a:ext cx="576360" cy="765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65000"/>
              <a:gd name="textAreaBottom" fmla="*/ 727920 h 765000"/>
            </a:gdLst>
            <a:ahLst/>
            <a:rect l="textAreaLeft" t="textAreaTop" r="textAreaRight" b="textAreaBottom"/>
            <a:pathLst>
              <a:path w="21600" h="28665">
                <a:moveTo>
                  <a:pt x="0" y="0"/>
                </a:moveTo>
                <a:lnTo>
                  <a:pt x="21600" y="0"/>
                </a:lnTo>
                <a:lnTo>
                  <a:pt x="21600" y="28665"/>
                </a:lnTo>
                <a:lnTo>
                  <a:pt x="0" y="28665"/>
                </a:lnTo>
                <a:close/>
              </a:path>
              <a:path fill="lightenLess" w="21600" h="286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665">
                <a:moveTo>
                  <a:pt x="21600" y="0"/>
                </a:moveTo>
                <a:lnTo>
                  <a:pt x="21600" y="28665"/>
                </a:lnTo>
                <a:lnTo>
                  <a:pt x="20200" y="27265"/>
                </a:lnTo>
                <a:lnTo>
                  <a:pt x="20200" y="1400"/>
                </a:lnTo>
                <a:close/>
              </a:path>
              <a:path fill="darkenLess" w="21600" h="28665">
                <a:moveTo>
                  <a:pt x="21600" y="28665"/>
                </a:moveTo>
                <a:lnTo>
                  <a:pt x="0" y="28665"/>
                </a:lnTo>
                <a:lnTo>
                  <a:pt x="1400" y="27265"/>
                </a:lnTo>
                <a:lnTo>
                  <a:pt x="20200" y="27265"/>
                </a:lnTo>
                <a:close/>
              </a:path>
              <a:path fill="lighten" w="21600" h="28665">
                <a:moveTo>
                  <a:pt x="0" y="286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7265"/>
                </a:lnTo>
                <a:close/>
              </a:path>
              <a:path fill="darken" w="21600" h="28665">
                <a:moveTo>
                  <a:pt x="10800" y="7370"/>
                </a:moveTo>
                <a:lnTo>
                  <a:pt x="13376" y="9981"/>
                </a:lnTo>
                <a:lnTo>
                  <a:pt x="13376" y="8240"/>
                </a:lnTo>
                <a:lnTo>
                  <a:pt x="15152" y="8240"/>
                </a:lnTo>
                <a:lnTo>
                  <a:pt x="15152" y="11756"/>
                </a:lnTo>
                <a:lnTo>
                  <a:pt x="17763" y="14333"/>
                </a:lnTo>
                <a:lnTo>
                  <a:pt x="16109" y="14333"/>
                </a:lnTo>
                <a:lnTo>
                  <a:pt x="16109" y="21522"/>
                </a:lnTo>
                <a:lnTo>
                  <a:pt x="5491" y="21522"/>
                </a:lnTo>
                <a:lnTo>
                  <a:pt x="5491" y="14333"/>
                </a:lnTo>
                <a:lnTo>
                  <a:pt x="3837" y="14333"/>
                </a:lnTo>
                <a:close/>
              </a:path>
              <a:path fill="darkenLess" w="21600" h="28665">
                <a:moveTo>
                  <a:pt x="13376" y="9981"/>
                </a:moveTo>
                <a:lnTo>
                  <a:pt x="13376" y="8240"/>
                </a:lnTo>
                <a:lnTo>
                  <a:pt x="15152" y="8240"/>
                </a:lnTo>
                <a:lnTo>
                  <a:pt x="15152" y="11756"/>
                </a:lnTo>
                <a:close/>
              </a:path>
              <a:path fill="darkenLess" w="21600" h="28665">
                <a:moveTo>
                  <a:pt x="9877" y="17831"/>
                </a:moveTo>
                <a:lnTo>
                  <a:pt x="11723" y="17831"/>
                </a:lnTo>
                <a:lnTo>
                  <a:pt x="11723" y="21522"/>
                </a:lnTo>
                <a:lnTo>
                  <a:pt x="16109" y="21522"/>
                </a:lnTo>
                <a:lnTo>
                  <a:pt x="16109" y="14333"/>
                </a:lnTo>
                <a:lnTo>
                  <a:pt x="5491" y="14333"/>
                </a:lnTo>
                <a:lnTo>
                  <a:pt x="5491" y="21522"/>
                </a:lnTo>
                <a:lnTo>
                  <a:pt x="9877" y="215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470880" y="2475000"/>
            <a:ext cx="3576240" cy="1761840"/>
            <a:chOff x="470880" y="2475000"/>
            <a:chExt cx="3576240" cy="1761840"/>
          </a:xfrm>
        </p:grpSpPr>
        <p:grpSp>
          <p:nvGrpSpPr>
            <p:cNvPr id="140" name="Group 3"/>
            <p:cNvGrpSpPr/>
            <p:nvPr/>
          </p:nvGrpSpPr>
          <p:grpSpPr>
            <a:xfrm>
              <a:off x="1110600" y="2475000"/>
              <a:ext cx="2936520" cy="1761840"/>
              <a:chOff x="1110600" y="2475000"/>
              <a:chExt cx="2936520" cy="1761840"/>
            </a:xfrm>
          </p:grpSpPr>
          <p:sp>
            <p:nvSpPr>
              <p:cNvPr id="141" name="Oval 4"/>
              <p:cNvSpPr/>
              <p:nvPr/>
            </p:nvSpPr>
            <p:spPr>
              <a:xfrm>
                <a:off x="1120680" y="3783240"/>
                <a:ext cx="2872080" cy="451080"/>
              </a:xfrm>
              <a:prstGeom prst="ellipse">
                <a:avLst/>
              </a:prstGeom>
              <a:gradFill rotWithShape="0">
                <a:gsLst>
                  <a:gs pos="0">
                    <a:srgbClr val="ff66ff"/>
                  </a:gs>
                  <a:gs pos="100000">
                    <a:srgbClr val="ffcc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AutoShape 5"/>
              <p:cNvSpPr/>
              <p:nvPr/>
            </p:nvSpPr>
            <p:spPr>
              <a:xfrm>
                <a:off x="1120680" y="2480040"/>
                <a:ext cx="2926440" cy="17568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33cc"/>
                  </a:gs>
                  <a:gs pos="50000">
                    <a:srgbClr val="ffccff"/>
                  </a:gs>
                  <a:gs pos="100000">
                    <a:srgbClr val="ff33cc"/>
                  </a:gs>
                </a:gsLst>
                <a:lin ang="0"/>
              </a:gradFill>
              <a:ln w="12600">
                <a:solidFill>
                  <a:srgbClr val="eeec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Oval 6"/>
              <p:cNvSpPr/>
              <p:nvPr/>
            </p:nvSpPr>
            <p:spPr>
              <a:xfrm>
                <a:off x="1110600" y="2475000"/>
                <a:ext cx="2931840" cy="449640"/>
              </a:xfrm>
              <a:prstGeom prst="ellipse">
                <a:avLst/>
              </a:prstGeom>
              <a:gradFill rotWithShape="0">
                <a:gsLst>
                  <a:gs pos="0">
                    <a:srgbClr val="ff66ff"/>
                  </a:gs>
                  <a:gs pos="100000">
                    <a:srgbClr val="ffcc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Times New Roman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Line 7"/>
              <p:cNvSpPr/>
              <p:nvPr/>
            </p:nvSpPr>
            <p:spPr>
              <a:xfrm>
                <a:off x="2794320" y="2716920"/>
                <a:ext cx="11394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Line 8"/>
              <p:cNvSpPr/>
              <p:nvPr/>
            </p:nvSpPr>
            <p:spPr>
              <a:xfrm flipH="1">
                <a:off x="1166400" y="2716920"/>
                <a:ext cx="11390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6" name="Text Box 9"/>
            <p:cNvSpPr/>
            <p:nvPr/>
          </p:nvSpPr>
          <p:spPr>
            <a:xfrm>
              <a:off x="470880" y="3242880"/>
              <a:ext cx="91152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oup 10"/>
          <p:cNvGrpSpPr/>
          <p:nvPr/>
        </p:nvGrpSpPr>
        <p:grpSpPr>
          <a:xfrm>
            <a:off x="4621320" y="765000"/>
            <a:ext cx="2737800" cy="3839760"/>
            <a:chOff x="4621320" y="765000"/>
            <a:chExt cx="2737800" cy="3839760"/>
          </a:xfrm>
        </p:grpSpPr>
        <p:sp>
          <p:nvSpPr>
            <p:cNvPr id="148" name="Oval 11"/>
            <p:cNvSpPr/>
            <p:nvPr/>
          </p:nvSpPr>
          <p:spPr>
            <a:xfrm>
              <a:off x="5349960" y="3617640"/>
              <a:ext cx="1972440" cy="981000"/>
            </a:xfrm>
            <a:prstGeom prst="ellipse">
              <a:avLst/>
            </a:prstGeom>
            <a:gradFill rotWithShape="0">
              <a:gsLst>
                <a:gs pos="0">
                  <a:srgbClr val="ff66ff"/>
                </a:gs>
                <a:gs pos="100000">
                  <a:srgbClr val="ffcc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AutoShape 12"/>
            <p:cNvSpPr/>
            <p:nvPr/>
          </p:nvSpPr>
          <p:spPr>
            <a:xfrm>
              <a:off x="5349960" y="777240"/>
              <a:ext cx="2009160" cy="3827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33cc"/>
                </a:gs>
                <a:gs pos="50000">
                  <a:srgbClr val="ffccff"/>
                </a:gs>
                <a:gs pos="100000">
                  <a:srgbClr val="ff33cc"/>
                </a:gs>
              </a:gsLst>
              <a:lin ang="0"/>
            </a:gradFill>
            <a:ln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Oval 13"/>
            <p:cNvSpPr/>
            <p:nvPr/>
          </p:nvSpPr>
          <p:spPr>
            <a:xfrm>
              <a:off x="5343120" y="765000"/>
              <a:ext cx="2013120" cy="981360"/>
            </a:xfrm>
            <a:prstGeom prst="ellipse">
              <a:avLst/>
            </a:prstGeom>
            <a:gradFill rotWithShape="0">
              <a:gsLst>
                <a:gs pos="0">
                  <a:srgbClr val="ff66ff"/>
                </a:gs>
                <a:gs pos="100000">
                  <a:srgbClr val="ffcc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 Box 14"/>
            <p:cNvSpPr/>
            <p:nvPr/>
          </p:nvSpPr>
          <p:spPr>
            <a:xfrm>
              <a:off x="4621320" y="2369520"/>
              <a:ext cx="850680" cy="65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Line 15"/>
            <p:cNvSpPr/>
            <p:nvPr/>
          </p:nvSpPr>
          <p:spPr>
            <a:xfrm>
              <a:off x="6559200" y="1224720"/>
              <a:ext cx="72324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Line 16"/>
            <p:cNvSpPr/>
            <p:nvPr/>
          </p:nvSpPr>
          <p:spPr>
            <a:xfrm flipH="1">
              <a:off x="5411520" y="1224720"/>
              <a:ext cx="72324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5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57120" y="1357200"/>
            <a:ext cx="835344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小组合作学习、探究、讨论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可以将圆柱侧面转化为已学过的哪些平面图形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转化后的平面图形与圆柱的底面周长和高有什么联系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2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56" name="Picture 3" descr="sgh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Rectangle 4"/>
            <p:cNvSpPr/>
            <p:nvPr/>
          </p:nvSpPr>
          <p:spPr>
            <a:xfrm>
              <a:off x="7866000" y="6526080"/>
              <a:ext cx="1122120" cy="16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AutoShape 5"/>
          <p:cNvSpPr/>
          <p:nvPr/>
        </p:nvSpPr>
        <p:spPr>
          <a:xfrm>
            <a:off x="179280" y="620640"/>
            <a:ext cx="8820360" cy="59770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3059280" y="1089000"/>
            <a:ext cx="2089080" cy="828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7"/>
          <p:cNvSpPr/>
          <p:nvPr/>
        </p:nvSpPr>
        <p:spPr>
          <a:xfrm>
            <a:off x="3130560" y="5300640"/>
            <a:ext cx="2089080" cy="828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8" descr="2"/>
          <p:cNvPicPr/>
          <p:nvPr/>
        </p:nvPicPr>
        <p:blipFill>
          <a:blip r:embed="rId2"/>
          <a:stretch/>
        </p:blipFill>
        <p:spPr>
          <a:xfrm>
            <a:off x="2771640" y="1773360"/>
            <a:ext cx="2676600" cy="41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grpSp>
          <p:nvGrpSpPr>
            <p:cNvPr id="163" name="Group 3"/>
            <p:cNvGrpSpPr/>
            <p:nvPr/>
          </p:nvGrpSpPr>
          <p:grpSpPr>
            <a:xfrm>
              <a:off x="0" y="0"/>
              <a:ext cx="9111960" cy="6857280"/>
              <a:chOff x="0" y="0"/>
              <a:chExt cx="9111960" cy="6857280"/>
            </a:xfrm>
          </p:grpSpPr>
          <p:pic>
            <p:nvPicPr>
              <p:cNvPr id="164" name="Picture 4" descr="sgh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11960" cy="685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Rectangle 5"/>
              <p:cNvSpPr/>
              <p:nvPr/>
            </p:nvSpPr>
            <p:spPr>
              <a:xfrm>
                <a:off x="7839000" y="6525720"/>
                <a:ext cx="1118160" cy="1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6" name="AutoShape 6"/>
            <p:cNvSpPr/>
            <p:nvPr/>
          </p:nvSpPr>
          <p:spPr>
            <a:xfrm>
              <a:off x="3240" y="0"/>
              <a:ext cx="9140400" cy="68576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7" name="Oval 7"/>
          <p:cNvSpPr/>
          <p:nvPr/>
        </p:nvSpPr>
        <p:spPr>
          <a:xfrm>
            <a:off x="3419640" y="623880"/>
            <a:ext cx="1800000" cy="16527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1547640" y="2276640"/>
            <a:ext cx="5761080" cy="2736720"/>
          </a:xfrm>
          <a:prstGeom prst="rect">
            <a:avLst/>
          </a:prstGeom>
          <a:solidFill>
            <a:srgbClr val="3287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Oval 9"/>
          <p:cNvSpPr/>
          <p:nvPr/>
        </p:nvSpPr>
        <p:spPr>
          <a:xfrm>
            <a:off x="3492360" y="5013360"/>
            <a:ext cx="1800360" cy="1652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3637440" y="3235320"/>
            <a:ext cx="138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楷体_GB2312"/>
              </a:rPr>
              <a:t>侧   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11"/>
          <p:cNvSpPr/>
          <p:nvPr/>
        </p:nvSpPr>
        <p:spPr>
          <a:xfrm>
            <a:off x="3492360" y="5013360"/>
            <a:ext cx="1800360" cy="1652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3664800" y="43657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Calibri"/>
                <a:ea typeface="黑体"/>
              </a:rPr>
              <a:t>长方形的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Line 13"/>
          <p:cNvSpPr/>
          <p:nvPr/>
        </p:nvSpPr>
        <p:spPr>
          <a:xfrm>
            <a:off x="1547640" y="5013360"/>
            <a:ext cx="5761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3717000" y="5445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Calibri"/>
                <a:ea typeface="黑体"/>
              </a:rPr>
              <a:t>底面周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Object 4"/>
          <p:cNvGraphicFramePr/>
          <p:nvPr/>
        </p:nvGraphicFramePr>
        <p:xfrm>
          <a:off x="1330200" y="2635200"/>
          <a:ext cx="35892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0200" y="2635200"/>
                    <a:ext cx="3589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Oval 6"/>
          <p:cNvSpPr/>
          <p:nvPr/>
        </p:nvSpPr>
        <p:spPr>
          <a:xfrm>
            <a:off x="395280" y="692280"/>
            <a:ext cx="1655640" cy="574560"/>
          </a:xfrm>
          <a:prstGeom prst="ellipse">
            <a:avLst/>
          </a:prstGeom>
          <a:solidFill>
            <a:srgbClr val="4f81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Oval 7"/>
          <p:cNvSpPr/>
          <p:nvPr/>
        </p:nvSpPr>
        <p:spPr>
          <a:xfrm>
            <a:off x="395280" y="2203560"/>
            <a:ext cx="1655640" cy="574560"/>
          </a:xfrm>
          <a:prstGeom prst="ellipse">
            <a:avLst/>
          </a:prstGeom>
          <a:solidFill>
            <a:srgbClr val="4f81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395280" y="979560"/>
            <a:ext cx="1440" cy="149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2050920" y="907920"/>
            <a:ext cx="1800" cy="160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1" name="Object 10"/>
          <p:cNvGraphicFramePr/>
          <p:nvPr/>
        </p:nvGraphicFramePr>
        <p:xfrm>
          <a:off x="2914560" y="692280"/>
          <a:ext cx="2714760" cy="22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4560" y="692280"/>
                    <a:ext cx="271476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Oval 11"/>
          <p:cNvSpPr/>
          <p:nvPr/>
        </p:nvSpPr>
        <p:spPr>
          <a:xfrm>
            <a:off x="3490920" y="2419200"/>
            <a:ext cx="1657440" cy="576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Oval 12"/>
          <p:cNvSpPr/>
          <p:nvPr/>
        </p:nvSpPr>
        <p:spPr>
          <a:xfrm>
            <a:off x="3490920" y="763560"/>
            <a:ext cx="1657440" cy="576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WordArt 13"/>
          <p:cNvSpPr txBox="1"/>
          <p:nvPr/>
        </p:nvSpPr>
        <p:spPr>
          <a:xfrm>
            <a:off x="3911760" y="895320"/>
            <a:ext cx="779400" cy="3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底面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86" name="WordArt 14"/>
          <p:cNvSpPr txBox="1"/>
          <p:nvPr/>
        </p:nvSpPr>
        <p:spPr>
          <a:xfrm>
            <a:off x="3911760" y="2506680"/>
            <a:ext cx="779400" cy="3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底面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87" name="Line 16"/>
          <p:cNvSpPr/>
          <p:nvPr/>
        </p:nvSpPr>
        <p:spPr>
          <a:xfrm>
            <a:off x="2124000" y="1844640"/>
            <a:ext cx="11430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17"/>
          <p:cNvSpPr/>
          <p:nvPr/>
        </p:nvSpPr>
        <p:spPr>
          <a:xfrm>
            <a:off x="4067280" y="3571920"/>
            <a:ext cx="4378320" cy="1584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Oval 18"/>
          <p:cNvSpPr/>
          <p:nvPr/>
        </p:nvSpPr>
        <p:spPr>
          <a:xfrm>
            <a:off x="6083280" y="2274840"/>
            <a:ext cx="1297080" cy="12794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Oval 19"/>
          <p:cNvSpPr/>
          <p:nvPr/>
        </p:nvSpPr>
        <p:spPr>
          <a:xfrm>
            <a:off x="6083280" y="5156280"/>
            <a:ext cx="1152720" cy="1152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WordArt 20"/>
          <p:cNvSpPr txBox="1"/>
          <p:nvPr/>
        </p:nvSpPr>
        <p:spPr>
          <a:xfrm>
            <a:off x="6299280" y="2635200"/>
            <a:ext cx="792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底面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92" name="WordArt 21"/>
          <p:cNvSpPr txBox="1"/>
          <p:nvPr/>
        </p:nvSpPr>
        <p:spPr>
          <a:xfrm>
            <a:off x="6299280" y="5516640"/>
            <a:ext cx="720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底面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93" name="WordArt 23"/>
          <p:cNvSpPr txBox="1"/>
          <p:nvPr/>
        </p:nvSpPr>
        <p:spPr>
          <a:xfrm>
            <a:off x="5651640" y="1627200"/>
            <a:ext cx="331560" cy="42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高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94" name="WordArt 24"/>
          <p:cNvSpPr txBox="1"/>
          <p:nvPr/>
        </p:nvSpPr>
        <p:spPr>
          <a:xfrm>
            <a:off x="8531280" y="4148280"/>
            <a:ext cx="433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高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pSp>
        <p:nvGrpSpPr>
          <p:cNvPr id="195" name="Group 28"/>
          <p:cNvGrpSpPr/>
          <p:nvPr/>
        </p:nvGrpSpPr>
        <p:grpSpPr>
          <a:xfrm>
            <a:off x="4354560" y="3211560"/>
            <a:ext cx="864720" cy="1080720"/>
            <a:chOff x="4354560" y="3211560"/>
            <a:chExt cx="864720" cy="1080720"/>
          </a:xfrm>
        </p:grpSpPr>
        <p:sp>
          <p:nvSpPr>
            <p:cNvPr id="196" name="Line 29"/>
            <p:cNvSpPr/>
            <p:nvPr/>
          </p:nvSpPr>
          <p:spPr>
            <a:xfrm>
              <a:off x="4354560" y="3211560"/>
              <a:ext cx="0" cy="1080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Line 30"/>
            <p:cNvSpPr/>
            <p:nvPr/>
          </p:nvSpPr>
          <p:spPr>
            <a:xfrm>
              <a:off x="4354560" y="4292280"/>
              <a:ext cx="8647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Line 34"/>
          <p:cNvSpPr/>
          <p:nvPr/>
        </p:nvSpPr>
        <p:spPr>
          <a:xfrm>
            <a:off x="1547640" y="1266840"/>
            <a:ext cx="0" cy="1512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35"/>
          <p:cNvSpPr/>
          <p:nvPr/>
        </p:nvSpPr>
        <p:spPr>
          <a:xfrm>
            <a:off x="5219640" y="3933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圆柱的侧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36"/>
          <p:cNvSpPr/>
          <p:nvPr/>
        </p:nvSpPr>
        <p:spPr>
          <a:xfrm>
            <a:off x="3348000" y="15573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圆柱的侧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  <p:sndAc>
      <p:stSnd>
        <p:snd r:embed="rId5" name="cashreg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f3399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27"/>
          <p:cNvSpPr/>
          <p:nvPr/>
        </p:nvSpPr>
        <p:spPr>
          <a:xfrm>
            <a:off x="3924360" y="1197000"/>
            <a:ext cx="4895640" cy="532764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3" name="Group 2"/>
          <p:cNvGrpSpPr/>
          <p:nvPr/>
        </p:nvGrpSpPr>
        <p:grpSpPr>
          <a:xfrm>
            <a:off x="684360" y="1484280"/>
            <a:ext cx="2798280" cy="2832480"/>
            <a:chOff x="684360" y="1484280"/>
            <a:chExt cx="2798280" cy="2832480"/>
          </a:xfrm>
        </p:grpSpPr>
        <p:grpSp>
          <p:nvGrpSpPr>
            <p:cNvPr id="204" name="Group 3"/>
            <p:cNvGrpSpPr/>
            <p:nvPr/>
          </p:nvGrpSpPr>
          <p:grpSpPr>
            <a:xfrm>
              <a:off x="684360" y="1484280"/>
              <a:ext cx="2797920" cy="2832480"/>
              <a:chOff x="684360" y="1484280"/>
              <a:chExt cx="2797920" cy="2832480"/>
            </a:xfrm>
          </p:grpSpPr>
          <p:sp>
            <p:nvSpPr>
              <p:cNvPr id="205" name="Oval 4"/>
              <p:cNvSpPr/>
              <p:nvPr/>
            </p:nvSpPr>
            <p:spPr>
              <a:xfrm>
                <a:off x="684360" y="1484280"/>
                <a:ext cx="2797920" cy="686880"/>
              </a:xfrm>
              <a:prstGeom prst="ellipse">
                <a:avLst/>
              </a:prstGeom>
              <a:solidFill>
                <a:srgbClr val="ff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06" name="Group 5"/>
              <p:cNvGrpSpPr/>
              <p:nvPr/>
            </p:nvGrpSpPr>
            <p:grpSpPr>
              <a:xfrm>
                <a:off x="684360" y="3630600"/>
                <a:ext cx="2797560" cy="686160"/>
                <a:chOff x="684360" y="3630600"/>
                <a:chExt cx="2797560" cy="686160"/>
              </a:xfrm>
            </p:grpSpPr>
            <p:sp>
              <p:nvSpPr>
                <p:cNvPr id="207" name="Oval 6"/>
                <p:cNvSpPr/>
                <p:nvPr/>
              </p:nvSpPr>
              <p:spPr>
                <a:xfrm>
                  <a:off x="684360" y="3630600"/>
                  <a:ext cx="2797560" cy="686160"/>
                </a:xfrm>
                <a:prstGeom prst="ellipse">
                  <a:avLst/>
                </a:prstGeom>
                <a:solidFill>
                  <a:srgbClr val="ffcc99"/>
                </a:solidFill>
                <a:ln w="381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8" name="Freeform 7"/>
                <p:cNvSpPr/>
                <p:nvPr/>
              </p:nvSpPr>
              <p:spPr>
                <a:xfrm>
                  <a:off x="684360" y="3924720"/>
                  <a:ext cx="2797560" cy="392040"/>
                </a:xfrm>
                <a:prstGeom prst="pie">
                  <a:avLst/>
                </a:prstGeom>
                <a:solidFill>
                  <a:srgbClr val="ffcc99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09" name="Line 8"/>
              <p:cNvSpPr/>
              <p:nvPr/>
            </p:nvSpPr>
            <p:spPr>
              <a:xfrm>
                <a:off x="3482280" y="1827720"/>
                <a:ext cx="0" cy="214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Line 9"/>
              <p:cNvSpPr/>
              <p:nvPr/>
            </p:nvSpPr>
            <p:spPr>
              <a:xfrm>
                <a:off x="684360" y="1827720"/>
                <a:ext cx="0" cy="214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1" name="Freeform 10"/>
            <p:cNvSpPr/>
            <p:nvPr/>
          </p:nvSpPr>
          <p:spPr>
            <a:xfrm>
              <a:off x="684360" y="1827720"/>
              <a:ext cx="2798280" cy="248652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Oval 11"/>
            <p:cNvSpPr/>
            <p:nvPr/>
          </p:nvSpPr>
          <p:spPr>
            <a:xfrm>
              <a:off x="938880" y="1569960"/>
              <a:ext cx="2289240" cy="515160"/>
            </a:xfrm>
            <a:prstGeom prst="ellipse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Oval 12"/>
            <p:cNvSpPr/>
            <p:nvPr/>
          </p:nvSpPr>
          <p:spPr>
            <a:xfrm>
              <a:off x="1702080" y="1741680"/>
              <a:ext cx="762840" cy="171720"/>
            </a:xfrm>
            <a:prstGeom prst="ellipse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3"/>
            <p:cNvSpPr/>
            <p:nvPr/>
          </p:nvSpPr>
          <p:spPr>
            <a:xfrm>
              <a:off x="684360" y="1999440"/>
              <a:ext cx="2798280" cy="3916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14"/>
            <p:cNvSpPr/>
            <p:nvPr/>
          </p:nvSpPr>
          <p:spPr>
            <a:xfrm>
              <a:off x="684360" y="2171160"/>
              <a:ext cx="2798280" cy="3913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15"/>
            <p:cNvSpPr/>
            <p:nvPr/>
          </p:nvSpPr>
          <p:spPr>
            <a:xfrm>
              <a:off x="684360" y="3717000"/>
              <a:ext cx="2798280" cy="3913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16"/>
            <p:cNvSpPr/>
            <p:nvPr/>
          </p:nvSpPr>
          <p:spPr>
            <a:xfrm>
              <a:off x="684360" y="3802320"/>
              <a:ext cx="2798280" cy="3916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17"/>
            <p:cNvSpPr/>
            <p:nvPr/>
          </p:nvSpPr>
          <p:spPr>
            <a:xfrm>
              <a:off x="1129320" y="2972520"/>
              <a:ext cx="1674360" cy="471960"/>
            </a:xfrm>
            <a:prstGeom prst="pi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800080"/>
                </a:gs>
              </a:gsLst>
              <a:lin ang="0"/>
            </a:gra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18"/>
            <p:cNvSpPr/>
            <p:nvPr/>
          </p:nvSpPr>
          <p:spPr>
            <a:xfrm>
              <a:off x="1264680" y="3144600"/>
              <a:ext cx="161640" cy="9288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19"/>
            <p:cNvSpPr/>
            <p:nvPr/>
          </p:nvSpPr>
          <p:spPr>
            <a:xfrm>
              <a:off x="1468800" y="3087000"/>
              <a:ext cx="108000" cy="275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20"/>
            <p:cNvSpPr/>
            <p:nvPr/>
          </p:nvSpPr>
          <p:spPr>
            <a:xfrm>
              <a:off x="1638360" y="2986920"/>
              <a:ext cx="550800" cy="9972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21"/>
            <p:cNvSpPr/>
            <p:nvPr/>
          </p:nvSpPr>
          <p:spPr>
            <a:xfrm>
              <a:off x="1572480" y="3359160"/>
              <a:ext cx="333360" cy="12312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22"/>
            <p:cNvSpPr/>
            <p:nvPr/>
          </p:nvSpPr>
          <p:spPr>
            <a:xfrm>
              <a:off x="2507400" y="3129840"/>
              <a:ext cx="267840" cy="2023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" name="Freeform 24"/>
          <p:cNvSpPr/>
          <p:nvPr/>
        </p:nvSpPr>
        <p:spPr>
          <a:xfrm>
            <a:off x="1214280" y="2084400"/>
            <a:ext cx="1397160" cy="2279520"/>
          </a:xfrm>
          <a:prstGeom prst="pie">
            <a:avLst/>
          </a:prstGeom>
          <a:solidFill>
            <a:srgbClr val="c7ac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 25"/>
          <p:cNvSpPr/>
          <p:nvPr/>
        </p:nvSpPr>
        <p:spPr>
          <a:xfrm>
            <a:off x="2414520" y="2093760"/>
            <a:ext cx="312840" cy="2511720"/>
          </a:xfrm>
          <a:prstGeom prst="pie">
            <a:avLst/>
          </a:prstGeom>
          <a:solidFill>
            <a:srgbClr val="0000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reeform 26"/>
          <p:cNvSpPr/>
          <p:nvPr/>
        </p:nvSpPr>
        <p:spPr>
          <a:xfrm flipV="1" rot="10800000">
            <a:off x="998280" y="2115000"/>
            <a:ext cx="423720" cy="2489400"/>
          </a:xfrm>
          <a:prstGeom prst="pie">
            <a:avLst/>
          </a:prstGeom>
          <a:solidFill>
            <a:srgbClr val="666699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Line 23"/>
          <p:cNvSpPr/>
          <p:nvPr/>
        </p:nvSpPr>
        <p:spPr>
          <a:xfrm>
            <a:off x="1935000" y="2157480"/>
            <a:ext cx="3240" cy="2222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32"/>
          <p:cNvSpPr/>
          <p:nvPr/>
        </p:nvSpPr>
        <p:spPr>
          <a:xfrm>
            <a:off x="4643280" y="-36684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33"/>
          <p:cNvSpPr/>
          <p:nvPr/>
        </p:nvSpPr>
        <p:spPr>
          <a:xfrm>
            <a:off x="4919760" y="1673280"/>
            <a:ext cx="292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Calibri"/>
              </a:rPr>
              <a:t>问题：圆柱的侧面展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Calibri"/>
              </a:rPr>
              <a:t>图中的长与圆柱底面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Calibri"/>
              </a:rPr>
              <a:t>周长有什么关系，宽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Calibri"/>
              </a:rPr>
              <a:t>圆柱的高有什么关系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4"/>
          <p:cNvSpPr/>
          <p:nvPr/>
        </p:nvSpPr>
        <p:spPr>
          <a:xfrm>
            <a:off x="1332000" y="3068640"/>
            <a:ext cx="2016000" cy="287964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31680">
            <a:solidFill>
              <a:srgbClr val="000000"/>
            </a:solidFill>
            <a:miter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816200" y="5810400"/>
            <a:ext cx="491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0" dur="25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" dur="25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" dur="25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2021040" y="2286000"/>
            <a:ext cx="5790960" cy="195732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Oval 3"/>
          <p:cNvSpPr/>
          <p:nvPr/>
        </p:nvSpPr>
        <p:spPr>
          <a:xfrm>
            <a:off x="4154400" y="4248000"/>
            <a:ext cx="1676520" cy="16750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Oval 4"/>
          <p:cNvSpPr/>
          <p:nvPr/>
        </p:nvSpPr>
        <p:spPr>
          <a:xfrm flipV="1">
            <a:off x="4154400" y="684720"/>
            <a:ext cx="1676520" cy="16002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461160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4611600" y="1371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AutoShape 7"/>
          <p:cNvSpPr/>
          <p:nvPr/>
        </p:nvSpPr>
        <p:spPr>
          <a:xfrm>
            <a:off x="252360" y="1916280"/>
            <a:ext cx="1728720" cy="2592360"/>
          </a:xfrm>
          <a:prstGeom prst="can">
            <a:avLst>
              <a:gd name="adj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021040" y="2286000"/>
            <a:ext cx="5790960" cy="195732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val 3"/>
          <p:cNvSpPr/>
          <p:nvPr/>
        </p:nvSpPr>
        <p:spPr>
          <a:xfrm>
            <a:off x="4154400" y="4248000"/>
            <a:ext cx="1676520" cy="16750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461160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9" name="Group 5"/>
          <p:cNvGrpSpPr/>
          <p:nvPr/>
        </p:nvGrpSpPr>
        <p:grpSpPr>
          <a:xfrm>
            <a:off x="1182600" y="685440"/>
            <a:ext cx="1676160" cy="1600200"/>
            <a:chOff x="1182600" y="685440"/>
            <a:chExt cx="1676160" cy="1600200"/>
          </a:xfrm>
        </p:grpSpPr>
        <p:sp>
          <p:nvSpPr>
            <p:cNvPr id="240" name="Oval 6"/>
            <p:cNvSpPr/>
            <p:nvPr/>
          </p:nvSpPr>
          <p:spPr>
            <a:xfrm flipV="1">
              <a:off x="1182600" y="684720"/>
              <a:ext cx="1676160" cy="1600200"/>
            </a:xfrm>
            <a:prstGeom prst="ellipse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Text Box 7"/>
            <p:cNvSpPr/>
            <p:nvPr/>
          </p:nvSpPr>
          <p:spPr>
            <a:xfrm>
              <a:off x="1639800" y="13716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底面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2" name="Line 8"/>
          <p:cNvSpPr/>
          <p:nvPr/>
        </p:nvSpPr>
        <p:spPr>
          <a:xfrm>
            <a:off x="2021040" y="1981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AutoShape 9"/>
          <p:cNvSpPr/>
          <p:nvPr/>
        </p:nvSpPr>
        <p:spPr>
          <a:xfrm>
            <a:off x="252360" y="1916280"/>
            <a:ext cx="1728720" cy="2592360"/>
          </a:xfrm>
          <a:prstGeom prst="can">
            <a:avLst>
              <a:gd name="adj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2021040" y="2286000"/>
            <a:ext cx="5790960" cy="195732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Oval 3"/>
          <p:cNvSpPr/>
          <p:nvPr/>
        </p:nvSpPr>
        <p:spPr>
          <a:xfrm>
            <a:off x="4154400" y="4248000"/>
            <a:ext cx="1676520" cy="16750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461160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7" name="Group 5"/>
          <p:cNvGrpSpPr/>
          <p:nvPr/>
        </p:nvGrpSpPr>
        <p:grpSpPr>
          <a:xfrm>
            <a:off x="1525320" y="265320"/>
            <a:ext cx="2363400" cy="2363400"/>
            <a:chOff x="1525320" y="265320"/>
            <a:chExt cx="2363400" cy="2363400"/>
          </a:xfrm>
        </p:grpSpPr>
        <p:grpSp>
          <p:nvGrpSpPr>
            <p:cNvPr id="248" name="Group 6"/>
            <p:cNvGrpSpPr/>
            <p:nvPr/>
          </p:nvGrpSpPr>
          <p:grpSpPr>
            <a:xfrm>
              <a:off x="1525320" y="265320"/>
              <a:ext cx="2363400" cy="2363400"/>
              <a:chOff x="1525320" y="265320"/>
              <a:chExt cx="2363400" cy="2363400"/>
            </a:xfrm>
          </p:grpSpPr>
          <p:sp>
            <p:nvSpPr>
              <p:cNvPr id="249" name="Oval 7"/>
              <p:cNvSpPr/>
              <p:nvPr/>
            </p:nvSpPr>
            <p:spPr>
              <a:xfrm flipV="1" rot="2437200">
                <a:off x="1868760" y="608400"/>
                <a:ext cx="1676160" cy="1675800"/>
              </a:xfrm>
              <a:prstGeom prst="ellipse">
                <a:avLst/>
              </a:prstGeom>
              <a:solidFill>
                <a:srgbClr val="ff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" name="Text Box 8"/>
              <p:cNvSpPr/>
              <p:nvPr/>
            </p:nvSpPr>
            <p:spPr>
              <a:xfrm rot="2437200">
                <a:off x="2244600" y="13255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底面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1" name="Line 9"/>
            <p:cNvSpPr/>
            <p:nvPr/>
          </p:nvSpPr>
          <p:spPr>
            <a:xfrm flipH="1">
              <a:off x="2160720" y="1841400"/>
              <a:ext cx="208080" cy="24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2" name="Line 10"/>
          <p:cNvSpPr/>
          <p:nvPr/>
        </p:nvSpPr>
        <p:spPr>
          <a:xfrm>
            <a:off x="2021040" y="22860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reeform 11"/>
          <p:cNvSpPr/>
          <p:nvPr/>
        </p:nvSpPr>
        <p:spPr>
          <a:xfrm>
            <a:off x="2127240" y="2075040"/>
            <a:ext cx="539640" cy="2030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AutoShape 12"/>
          <p:cNvSpPr/>
          <p:nvPr/>
        </p:nvSpPr>
        <p:spPr>
          <a:xfrm>
            <a:off x="252360" y="1916280"/>
            <a:ext cx="1728720" cy="2592360"/>
          </a:xfrm>
          <a:prstGeom prst="can">
            <a:avLst>
              <a:gd name="adj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2021040" y="2286000"/>
            <a:ext cx="5790960" cy="195732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Oval 3"/>
          <p:cNvSpPr/>
          <p:nvPr/>
        </p:nvSpPr>
        <p:spPr>
          <a:xfrm>
            <a:off x="4154400" y="4248000"/>
            <a:ext cx="1676520" cy="16750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461160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8" name="Group 5"/>
          <p:cNvGrpSpPr/>
          <p:nvPr/>
        </p:nvGrpSpPr>
        <p:grpSpPr>
          <a:xfrm>
            <a:off x="2136240" y="343080"/>
            <a:ext cx="2208600" cy="2208600"/>
            <a:chOff x="2136240" y="343080"/>
            <a:chExt cx="2208600" cy="2208600"/>
          </a:xfrm>
        </p:grpSpPr>
        <p:grpSp>
          <p:nvGrpSpPr>
            <p:cNvPr id="259" name="Group 6"/>
            <p:cNvGrpSpPr/>
            <p:nvPr/>
          </p:nvGrpSpPr>
          <p:grpSpPr>
            <a:xfrm>
              <a:off x="2136240" y="343080"/>
              <a:ext cx="2208600" cy="2208600"/>
              <a:chOff x="2136240" y="343080"/>
              <a:chExt cx="2208600" cy="2208600"/>
            </a:xfrm>
          </p:grpSpPr>
          <p:sp>
            <p:nvSpPr>
              <p:cNvPr id="260" name="Oval 7"/>
              <p:cNvSpPr/>
              <p:nvPr/>
            </p:nvSpPr>
            <p:spPr>
              <a:xfrm flipV="1" rot="3976200">
                <a:off x="2402280" y="609120"/>
                <a:ext cx="1676160" cy="1675800"/>
              </a:xfrm>
              <a:prstGeom prst="ellipse">
                <a:avLst/>
              </a:prstGeom>
              <a:solidFill>
                <a:srgbClr val="ff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Text Box 8"/>
              <p:cNvSpPr/>
              <p:nvPr/>
            </p:nvSpPr>
            <p:spPr>
              <a:xfrm rot="3976800">
                <a:off x="2735280" y="12967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底面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2" name="Line 9"/>
            <p:cNvSpPr/>
            <p:nvPr/>
          </p:nvSpPr>
          <p:spPr>
            <a:xfrm flipH="1">
              <a:off x="2472840" y="1656360"/>
              <a:ext cx="292320" cy="128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3" name="Line 10"/>
          <p:cNvSpPr/>
          <p:nvPr/>
        </p:nvSpPr>
        <p:spPr>
          <a:xfrm>
            <a:off x="2021040" y="2286000"/>
            <a:ext cx="12189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Freeform 11"/>
          <p:cNvSpPr/>
          <p:nvPr/>
        </p:nvSpPr>
        <p:spPr>
          <a:xfrm>
            <a:off x="2478240" y="1785960"/>
            <a:ext cx="682560" cy="50796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AutoShape 12"/>
          <p:cNvSpPr/>
          <p:nvPr/>
        </p:nvSpPr>
        <p:spPr>
          <a:xfrm>
            <a:off x="252360" y="1916280"/>
            <a:ext cx="1728720" cy="2592360"/>
          </a:xfrm>
          <a:prstGeom prst="can">
            <a:avLst>
              <a:gd name="adj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2021040" y="2286000"/>
            <a:ext cx="5790960" cy="195732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Oval 3"/>
          <p:cNvSpPr/>
          <p:nvPr/>
        </p:nvSpPr>
        <p:spPr>
          <a:xfrm>
            <a:off x="4154400" y="4248000"/>
            <a:ext cx="1676520" cy="16750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461160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9" name="Group 5"/>
          <p:cNvGrpSpPr/>
          <p:nvPr/>
        </p:nvGrpSpPr>
        <p:grpSpPr>
          <a:xfrm>
            <a:off x="2841840" y="591480"/>
            <a:ext cx="1712160" cy="1712520"/>
            <a:chOff x="2841840" y="591480"/>
            <a:chExt cx="1712160" cy="1712520"/>
          </a:xfrm>
        </p:grpSpPr>
        <p:grpSp>
          <p:nvGrpSpPr>
            <p:cNvPr id="270" name="Group 6"/>
            <p:cNvGrpSpPr/>
            <p:nvPr/>
          </p:nvGrpSpPr>
          <p:grpSpPr>
            <a:xfrm>
              <a:off x="2841840" y="591480"/>
              <a:ext cx="1712160" cy="1712520"/>
              <a:chOff x="2841840" y="591480"/>
              <a:chExt cx="1712160" cy="1712520"/>
            </a:xfrm>
          </p:grpSpPr>
          <p:sp>
            <p:nvSpPr>
              <p:cNvPr id="271" name="Oval 7"/>
              <p:cNvSpPr/>
              <p:nvPr/>
            </p:nvSpPr>
            <p:spPr>
              <a:xfrm flipV="1" rot="5324400">
                <a:off x="2859840" y="609480"/>
                <a:ext cx="1676160" cy="1675800"/>
              </a:xfrm>
              <a:prstGeom prst="ellipse">
                <a:avLst/>
              </a:prstGeom>
              <a:solidFill>
                <a:srgbClr val="ff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Text Box 8"/>
              <p:cNvSpPr/>
              <p:nvPr/>
            </p:nvSpPr>
            <p:spPr>
              <a:xfrm rot="5324400">
                <a:off x="3169080" y="125820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底面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3" name="Line 9"/>
            <p:cNvSpPr/>
            <p:nvPr/>
          </p:nvSpPr>
          <p:spPr>
            <a:xfrm flipH="1">
              <a:off x="2859480" y="1459080"/>
              <a:ext cx="318960" cy="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4" name="Line 10"/>
          <p:cNvSpPr/>
          <p:nvPr/>
        </p:nvSpPr>
        <p:spPr>
          <a:xfrm>
            <a:off x="2021040" y="2286000"/>
            <a:ext cx="16761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Freeform 11"/>
          <p:cNvSpPr/>
          <p:nvPr/>
        </p:nvSpPr>
        <p:spPr>
          <a:xfrm>
            <a:off x="2844720" y="1486080"/>
            <a:ext cx="781200" cy="79056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AutoShape 12"/>
          <p:cNvSpPr/>
          <p:nvPr/>
        </p:nvSpPr>
        <p:spPr>
          <a:xfrm>
            <a:off x="252360" y="1916280"/>
            <a:ext cx="1728720" cy="2592360"/>
          </a:xfrm>
          <a:prstGeom prst="can">
            <a:avLst>
              <a:gd name="adj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2021040" y="2286000"/>
            <a:ext cx="5790960" cy="195732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Oval 3"/>
          <p:cNvSpPr/>
          <p:nvPr/>
        </p:nvSpPr>
        <p:spPr>
          <a:xfrm>
            <a:off x="4154400" y="4248000"/>
            <a:ext cx="1676520" cy="16750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461160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0" name="Group 5"/>
          <p:cNvGrpSpPr/>
          <p:nvPr/>
        </p:nvGrpSpPr>
        <p:grpSpPr>
          <a:xfrm>
            <a:off x="2974680" y="267840"/>
            <a:ext cx="2359800" cy="2360160"/>
            <a:chOff x="2974680" y="267840"/>
            <a:chExt cx="2359800" cy="2360160"/>
          </a:xfrm>
        </p:grpSpPr>
        <p:grpSp>
          <p:nvGrpSpPr>
            <p:cNvPr id="281" name="Group 6"/>
            <p:cNvGrpSpPr/>
            <p:nvPr/>
          </p:nvGrpSpPr>
          <p:grpSpPr>
            <a:xfrm>
              <a:off x="2974680" y="267840"/>
              <a:ext cx="2359800" cy="2360160"/>
              <a:chOff x="2974680" y="267840"/>
              <a:chExt cx="2359800" cy="2360160"/>
            </a:xfrm>
          </p:grpSpPr>
          <p:sp>
            <p:nvSpPr>
              <p:cNvPr id="282" name="Oval 7"/>
              <p:cNvSpPr/>
              <p:nvPr/>
            </p:nvSpPr>
            <p:spPr>
              <a:xfrm flipV="1" rot="7779600">
                <a:off x="3316320" y="609840"/>
                <a:ext cx="1676160" cy="1675800"/>
              </a:xfrm>
              <a:prstGeom prst="ellipse">
                <a:avLst/>
              </a:prstGeom>
              <a:solidFill>
                <a:srgbClr val="ff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" name="Text Box 8"/>
              <p:cNvSpPr/>
              <p:nvPr/>
            </p:nvSpPr>
            <p:spPr>
              <a:xfrm rot="7780200">
                <a:off x="3626280" y="117648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底面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4" name="Line 9"/>
            <p:cNvSpPr/>
            <p:nvPr/>
          </p:nvSpPr>
          <p:spPr>
            <a:xfrm flipH="1" flipV="1">
              <a:off x="3509280" y="912600"/>
              <a:ext cx="245880" cy="20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5" name="Line 10"/>
          <p:cNvSpPr/>
          <p:nvPr/>
        </p:nvSpPr>
        <p:spPr>
          <a:xfrm>
            <a:off x="2021040" y="2286000"/>
            <a:ext cx="2133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Freeform 11"/>
          <p:cNvSpPr/>
          <p:nvPr/>
        </p:nvSpPr>
        <p:spPr>
          <a:xfrm>
            <a:off x="3316320" y="928800"/>
            <a:ext cx="795240" cy="135720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AutoShape 12"/>
          <p:cNvSpPr/>
          <p:nvPr/>
        </p:nvSpPr>
        <p:spPr>
          <a:xfrm>
            <a:off x="252360" y="1916280"/>
            <a:ext cx="1728720" cy="2592360"/>
          </a:xfrm>
          <a:prstGeom prst="can">
            <a:avLst>
              <a:gd name="adj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2021040" y="2286000"/>
            <a:ext cx="5790960" cy="195732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Oval 3"/>
          <p:cNvSpPr/>
          <p:nvPr/>
        </p:nvSpPr>
        <p:spPr>
          <a:xfrm>
            <a:off x="4154400" y="4248000"/>
            <a:ext cx="1676520" cy="16750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461160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1" name="Group 5"/>
          <p:cNvGrpSpPr/>
          <p:nvPr/>
        </p:nvGrpSpPr>
        <p:grpSpPr>
          <a:xfrm>
            <a:off x="3999960" y="608400"/>
            <a:ext cx="1680120" cy="1679760"/>
            <a:chOff x="3999960" y="608400"/>
            <a:chExt cx="1680120" cy="1679760"/>
          </a:xfrm>
        </p:grpSpPr>
        <p:grpSp>
          <p:nvGrpSpPr>
            <p:cNvPr id="292" name="Group 6"/>
            <p:cNvGrpSpPr/>
            <p:nvPr/>
          </p:nvGrpSpPr>
          <p:grpSpPr>
            <a:xfrm>
              <a:off x="3999960" y="608400"/>
              <a:ext cx="1680120" cy="1679760"/>
              <a:chOff x="3999960" y="608400"/>
              <a:chExt cx="1680120" cy="1679760"/>
            </a:xfrm>
          </p:grpSpPr>
          <p:sp>
            <p:nvSpPr>
              <p:cNvPr id="293" name="Oval 7"/>
              <p:cNvSpPr/>
              <p:nvPr/>
            </p:nvSpPr>
            <p:spPr>
              <a:xfrm flipV="1" rot="10791600">
                <a:off x="4001760" y="610200"/>
                <a:ext cx="1676160" cy="1675800"/>
              </a:xfrm>
              <a:prstGeom prst="ellipse">
                <a:avLst/>
              </a:prstGeom>
              <a:solidFill>
                <a:srgbClr val="ff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Text Box 8"/>
              <p:cNvSpPr/>
              <p:nvPr/>
            </p:nvSpPr>
            <p:spPr>
              <a:xfrm rot="10791600">
                <a:off x="4382640" y="110736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底面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5" name="Line 9"/>
            <p:cNvSpPr/>
            <p:nvPr/>
          </p:nvSpPr>
          <p:spPr>
            <a:xfrm flipH="1" flipV="1">
              <a:off x="4838040" y="609480"/>
              <a:ext cx="720" cy="3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6" name="Line 10"/>
          <p:cNvSpPr/>
          <p:nvPr/>
        </p:nvSpPr>
        <p:spPr>
          <a:xfrm>
            <a:off x="2021040" y="2286000"/>
            <a:ext cx="28191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Freeform 11"/>
          <p:cNvSpPr/>
          <p:nvPr/>
        </p:nvSpPr>
        <p:spPr>
          <a:xfrm>
            <a:off x="3997440" y="619200"/>
            <a:ext cx="838080" cy="16574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AutoShape 12"/>
          <p:cNvSpPr/>
          <p:nvPr/>
        </p:nvSpPr>
        <p:spPr>
          <a:xfrm>
            <a:off x="252360" y="1916280"/>
            <a:ext cx="1728720" cy="2592360"/>
          </a:xfrm>
          <a:prstGeom prst="can">
            <a:avLst>
              <a:gd name="adj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2021040" y="2286000"/>
            <a:ext cx="5790960" cy="195732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Oval 3"/>
          <p:cNvSpPr/>
          <p:nvPr/>
        </p:nvSpPr>
        <p:spPr>
          <a:xfrm>
            <a:off x="4154400" y="4248000"/>
            <a:ext cx="1676520" cy="16750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461160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Oval 5"/>
          <p:cNvSpPr/>
          <p:nvPr/>
        </p:nvSpPr>
        <p:spPr>
          <a:xfrm flipV="1" rot="13211400">
            <a:off x="4763880" y="608400"/>
            <a:ext cx="1676160" cy="167652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 Box 6"/>
          <p:cNvSpPr/>
          <p:nvPr/>
        </p:nvSpPr>
        <p:spPr>
          <a:xfrm rot="13210800">
            <a:off x="5224680" y="1102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Line 7"/>
          <p:cNvSpPr/>
          <p:nvPr/>
        </p:nvSpPr>
        <p:spPr>
          <a:xfrm flipV="1">
            <a:off x="5937480" y="805680"/>
            <a:ext cx="205920" cy="24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Line 8"/>
          <p:cNvSpPr/>
          <p:nvPr/>
        </p:nvSpPr>
        <p:spPr>
          <a:xfrm>
            <a:off x="2021040" y="2286000"/>
            <a:ext cx="358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Freeform 9"/>
          <p:cNvSpPr/>
          <p:nvPr/>
        </p:nvSpPr>
        <p:spPr>
          <a:xfrm>
            <a:off x="5602320" y="814320"/>
            <a:ext cx="842760" cy="147168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AutoShape 10"/>
          <p:cNvSpPr/>
          <p:nvPr/>
        </p:nvSpPr>
        <p:spPr>
          <a:xfrm>
            <a:off x="252360" y="1916280"/>
            <a:ext cx="1728720" cy="2592360"/>
          </a:xfrm>
          <a:prstGeom prst="can">
            <a:avLst>
              <a:gd name="adj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2021040" y="2286000"/>
            <a:ext cx="5790960" cy="195732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Oval 3"/>
          <p:cNvSpPr/>
          <p:nvPr/>
        </p:nvSpPr>
        <p:spPr>
          <a:xfrm>
            <a:off x="4154400" y="4248000"/>
            <a:ext cx="1676520" cy="16750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461160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Oval 5"/>
          <p:cNvSpPr/>
          <p:nvPr/>
        </p:nvSpPr>
        <p:spPr>
          <a:xfrm flipV="1" rot="16178400">
            <a:off x="5525640" y="608760"/>
            <a:ext cx="1676520" cy="167652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 Box 6"/>
          <p:cNvSpPr/>
          <p:nvPr/>
        </p:nvSpPr>
        <p:spPr>
          <a:xfrm rot="16178400">
            <a:off x="6053760" y="1177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Line 7"/>
          <p:cNvSpPr/>
          <p:nvPr/>
        </p:nvSpPr>
        <p:spPr>
          <a:xfrm flipV="1">
            <a:off x="6881760" y="1441800"/>
            <a:ext cx="319320" cy="2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8"/>
          <p:cNvSpPr/>
          <p:nvPr/>
        </p:nvSpPr>
        <p:spPr>
          <a:xfrm>
            <a:off x="2021040" y="2286000"/>
            <a:ext cx="4343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Freeform 9"/>
          <p:cNvSpPr/>
          <p:nvPr/>
        </p:nvSpPr>
        <p:spPr>
          <a:xfrm>
            <a:off x="6343560" y="1452600"/>
            <a:ext cx="858960" cy="83340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AutoShape 10"/>
          <p:cNvSpPr/>
          <p:nvPr/>
        </p:nvSpPr>
        <p:spPr>
          <a:xfrm>
            <a:off x="252360" y="1916280"/>
            <a:ext cx="1728720" cy="2592360"/>
          </a:xfrm>
          <a:prstGeom prst="can">
            <a:avLst>
              <a:gd name="adj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2021040" y="2286000"/>
            <a:ext cx="5790960" cy="195732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Oval 3"/>
          <p:cNvSpPr/>
          <p:nvPr/>
        </p:nvSpPr>
        <p:spPr>
          <a:xfrm>
            <a:off x="4154400" y="4248000"/>
            <a:ext cx="1676520" cy="16750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461160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Oval 5"/>
          <p:cNvSpPr/>
          <p:nvPr/>
        </p:nvSpPr>
        <p:spPr>
          <a:xfrm flipV="1" rot="18407400">
            <a:off x="6059160" y="609120"/>
            <a:ext cx="1676520" cy="167652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 Box 6"/>
          <p:cNvSpPr/>
          <p:nvPr/>
        </p:nvSpPr>
        <p:spPr>
          <a:xfrm rot="18406800">
            <a:off x="6589080" y="1253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Line 7"/>
          <p:cNvSpPr/>
          <p:nvPr/>
        </p:nvSpPr>
        <p:spPr>
          <a:xfrm>
            <a:off x="7311960" y="1758960"/>
            <a:ext cx="255600" cy="190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8"/>
          <p:cNvSpPr/>
          <p:nvPr/>
        </p:nvSpPr>
        <p:spPr>
          <a:xfrm>
            <a:off x="2021040" y="2286000"/>
            <a:ext cx="4876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reeform 9"/>
          <p:cNvSpPr/>
          <p:nvPr/>
        </p:nvSpPr>
        <p:spPr>
          <a:xfrm>
            <a:off x="6902280" y="1947960"/>
            <a:ext cx="662040" cy="338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10"/>
          <p:cNvSpPr/>
          <p:nvPr/>
        </p:nvSpPr>
        <p:spPr>
          <a:xfrm>
            <a:off x="252360" y="1916280"/>
            <a:ext cx="1728720" cy="2592360"/>
          </a:xfrm>
          <a:prstGeom prst="can">
            <a:avLst>
              <a:gd name="adj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4"/>
          <p:cNvSpPr/>
          <p:nvPr/>
        </p:nvSpPr>
        <p:spPr>
          <a:xfrm>
            <a:off x="1000080" y="2214720"/>
            <a:ext cx="76042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华文楷体"/>
                <a:ea typeface="华文楷体"/>
              </a:rPr>
              <a:t>1</a:t>
            </a:r>
            <a:r>
              <a:rPr b="1" lang="zh-CN" sz="30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．理解圆柱的侧面积和表面积的含义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华文楷体"/>
                <a:ea typeface="华文楷体"/>
              </a:rPr>
              <a:t>2</a:t>
            </a:r>
            <a:r>
              <a:rPr b="1" lang="zh-CN" sz="30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．掌握圆柱侧面积和表面积的计算方法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华文楷体"/>
                <a:ea typeface="华文楷体"/>
              </a:rPr>
              <a:t>3 </a:t>
            </a:r>
            <a:r>
              <a:rPr b="1" lang="zh-CN" sz="30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．能灵活运用求表面积、侧面积的有关知识解决一些实际问题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403280" y="1052640"/>
            <a:ext cx="648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楷体_GB2312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2019240" y="2286000"/>
            <a:ext cx="5791320" cy="195732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Oval 3"/>
          <p:cNvSpPr/>
          <p:nvPr/>
        </p:nvSpPr>
        <p:spPr>
          <a:xfrm>
            <a:off x="4152960" y="4248000"/>
            <a:ext cx="1676520" cy="16750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461016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Oval 5"/>
          <p:cNvSpPr/>
          <p:nvPr/>
        </p:nvSpPr>
        <p:spPr>
          <a:xfrm flipV="1" rot="15600">
            <a:off x="6972120" y="609480"/>
            <a:ext cx="1676160" cy="167652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 Box 6"/>
          <p:cNvSpPr/>
          <p:nvPr/>
        </p:nvSpPr>
        <p:spPr>
          <a:xfrm rot="15000">
            <a:off x="7427880" y="13287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Line 7"/>
          <p:cNvSpPr/>
          <p:nvPr/>
        </p:nvSpPr>
        <p:spPr>
          <a:xfrm flipH="1">
            <a:off x="7806600" y="1965240"/>
            <a:ext cx="1440" cy="3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Line 8"/>
          <p:cNvSpPr/>
          <p:nvPr/>
        </p:nvSpPr>
        <p:spPr>
          <a:xfrm>
            <a:off x="2019240" y="2286000"/>
            <a:ext cx="5791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9"/>
          <p:cNvSpPr/>
          <p:nvPr/>
        </p:nvSpPr>
        <p:spPr>
          <a:xfrm>
            <a:off x="250920" y="1916280"/>
            <a:ext cx="1728720" cy="2592360"/>
          </a:xfrm>
          <a:prstGeom prst="can">
            <a:avLst>
              <a:gd name="adj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2019240" y="2286000"/>
            <a:ext cx="5791320" cy="195732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Oval 3"/>
          <p:cNvSpPr/>
          <p:nvPr/>
        </p:nvSpPr>
        <p:spPr>
          <a:xfrm>
            <a:off x="4152960" y="4248000"/>
            <a:ext cx="1676520" cy="16750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6" name="Group 4"/>
          <p:cNvGrpSpPr/>
          <p:nvPr/>
        </p:nvGrpSpPr>
        <p:grpSpPr>
          <a:xfrm>
            <a:off x="2018880" y="2286000"/>
            <a:ext cx="5715360" cy="459720"/>
            <a:chOff x="2018880" y="2286000"/>
            <a:chExt cx="5715360" cy="459720"/>
          </a:xfrm>
        </p:grpSpPr>
        <p:sp>
          <p:nvSpPr>
            <p:cNvPr id="337" name="Text Box 5"/>
            <p:cNvSpPr/>
            <p:nvPr/>
          </p:nvSpPr>
          <p:spPr>
            <a:xfrm>
              <a:off x="4076640" y="22860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  <a:ea typeface="楷体_GB2312"/>
                </a:rPr>
                <a:t>底面的周长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Line 6"/>
            <p:cNvSpPr/>
            <p:nvPr/>
          </p:nvSpPr>
          <p:spPr>
            <a:xfrm>
              <a:off x="5829120" y="2514600"/>
              <a:ext cx="190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Line 7"/>
            <p:cNvSpPr/>
            <p:nvPr/>
          </p:nvSpPr>
          <p:spPr>
            <a:xfrm flipH="1">
              <a:off x="2018880" y="251460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0" name="Text Box 8"/>
          <p:cNvSpPr/>
          <p:nvPr/>
        </p:nvSpPr>
        <p:spPr>
          <a:xfrm>
            <a:off x="461016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 Box 9"/>
          <p:cNvSpPr/>
          <p:nvPr/>
        </p:nvSpPr>
        <p:spPr>
          <a:xfrm>
            <a:off x="781056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Oval 10"/>
          <p:cNvSpPr/>
          <p:nvPr/>
        </p:nvSpPr>
        <p:spPr>
          <a:xfrm flipV="1" rot="15600">
            <a:off x="6972120" y="609480"/>
            <a:ext cx="1676160" cy="167652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 Box 11"/>
          <p:cNvSpPr/>
          <p:nvPr/>
        </p:nvSpPr>
        <p:spPr>
          <a:xfrm rot="15000">
            <a:off x="7427880" y="13287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Line 12"/>
          <p:cNvSpPr/>
          <p:nvPr/>
        </p:nvSpPr>
        <p:spPr>
          <a:xfrm flipH="1">
            <a:off x="7806600" y="1965240"/>
            <a:ext cx="1440" cy="3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Line 13"/>
          <p:cNvSpPr/>
          <p:nvPr/>
        </p:nvSpPr>
        <p:spPr>
          <a:xfrm>
            <a:off x="2019240" y="2286000"/>
            <a:ext cx="5791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AutoShape 14"/>
          <p:cNvSpPr/>
          <p:nvPr/>
        </p:nvSpPr>
        <p:spPr>
          <a:xfrm>
            <a:off x="7667640" y="595008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AutoShape 15"/>
          <p:cNvSpPr/>
          <p:nvPr/>
        </p:nvSpPr>
        <p:spPr>
          <a:xfrm>
            <a:off x="250920" y="1916280"/>
            <a:ext cx="1728720" cy="2592360"/>
          </a:xfrm>
          <a:prstGeom prst="can">
            <a:avLst>
              <a:gd name="adj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1371600" y="5089680"/>
            <a:ext cx="7304040" cy="70344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圆柱的侧面积＝底面周长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9" name="Group 3"/>
          <p:cNvGrpSpPr/>
          <p:nvPr/>
        </p:nvGrpSpPr>
        <p:grpSpPr>
          <a:xfrm>
            <a:off x="4343400" y="152280"/>
            <a:ext cx="3733920" cy="4114800"/>
            <a:chOff x="4343400" y="152280"/>
            <a:chExt cx="3733920" cy="4114800"/>
          </a:xfrm>
        </p:grpSpPr>
        <p:sp>
          <p:nvSpPr>
            <p:cNvPr id="350" name="Rectangle 4"/>
            <p:cNvSpPr/>
            <p:nvPr/>
          </p:nvSpPr>
          <p:spPr>
            <a:xfrm>
              <a:off x="4343400" y="1523880"/>
              <a:ext cx="3733920" cy="13716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Oval 5"/>
            <p:cNvSpPr/>
            <p:nvPr/>
          </p:nvSpPr>
          <p:spPr>
            <a:xfrm>
              <a:off x="5562720" y="152280"/>
              <a:ext cx="1371600" cy="1371600"/>
            </a:xfrm>
            <a:prstGeom prst="ellipse">
              <a:avLst/>
            </a:prstGeom>
            <a:solidFill>
              <a:srgbClr val="ffbd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底面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Oval 6"/>
            <p:cNvSpPr/>
            <p:nvPr/>
          </p:nvSpPr>
          <p:spPr>
            <a:xfrm>
              <a:off x="5638680" y="2895480"/>
              <a:ext cx="1371600" cy="1371600"/>
            </a:xfrm>
            <a:prstGeom prst="ellipse">
              <a:avLst/>
            </a:prstGeom>
            <a:solidFill>
              <a:srgbClr val="ffbd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底面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3" name="AutoShape 7"/>
          <p:cNvSpPr/>
          <p:nvPr/>
        </p:nvSpPr>
        <p:spPr>
          <a:xfrm>
            <a:off x="914400" y="1447920"/>
            <a:ext cx="1219320" cy="1447560"/>
          </a:xfrm>
          <a:prstGeom prst="can">
            <a:avLst>
              <a:gd name="adj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Line 8"/>
          <p:cNvSpPr/>
          <p:nvPr/>
        </p:nvSpPr>
        <p:spPr>
          <a:xfrm>
            <a:off x="2743200" y="2209680"/>
            <a:ext cx="10666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AutoShape 9"/>
          <p:cNvSpPr/>
          <p:nvPr/>
        </p:nvSpPr>
        <p:spPr>
          <a:xfrm>
            <a:off x="8153280" y="1600200"/>
            <a:ext cx="152640" cy="1295280"/>
          </a:xfrm>
          <a:custGeom>
            <a:avLst/>
            <a:gdLst>
              <a:gd name="textAreaLeft" fmla="*/ 0 w 152640"/>
              <a:gd name="textAreaRight" fmla="*/ 55080 w 15264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8368560" y="2021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7" name="Group 11"/>
          <p:cNvGrpSpPr/>
          <p:nvPr/>
        </p:nvGrpSpPr>
        <p:grpSpPr>
          <a:xfrm>
            <a:off x="4343400" y="2209680"/>
            <a:ext cx="3733920" cy="0"/>
            <a:chOff x="4343400" y="2209680"/>
            <a:chExt cx="3733920" cy="0"/>
          </a:xfrm>
        </p:grpSpPr>
        <p:sp>
          <p:nvSpPr>
            <p:cNvPr id="358" name="Line 12"/>
            <p:cNvSpPr/>
            <p:nvPr/>
          </p:nvSpPr>
          <p:spPr>
            <a:xfrm>
              <a:off x="7086600" y="2209680"/>
              <a:ext cx="99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Line 13"/>
            <p:cNvSpPr/>
            <p:nvPr/>
          </p:nvSpPr>
          <p:spPr>
            <a:xfrm flipH="1">
              <a:off x="4343400" y="2209680"/>
              <a:ext cx="99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0" name="Text Box 14"/>
          <p:cNvSpPr/>
          <p:nvPr/>
        </p:nvSpPr>
        <p:spPr>
          <a:xfrm>
            <a:off x="5720400" y="1962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底面的周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Group 9"/>
          <p:cNvGrpSpPr/>
          <p:nvPr/>
        </p:nvGrpSpPr>
        <p:grpSpPr>
          <a:xfrm>
            <a:off x="2052720" y="3009960"/>
            <a:ext cx="2952720" cy="1656720"/>
            <a:chOff x="2052720" y="3009960"/>
            <a:chExt cx="2952720" cy="1656720"/>
          </a:xfrm>
        </p:grpSpPr>
        <p:sp>
          <p:nvSpPr>
            <p:cNvPr id="363" name="AutoShape 8"/>
            <p:cNvSpPr/>
            <p:nvPr/>
          </p:nvSpPr>
          <p:spPr>
            <a:xfrm>
              <a:off x="2052720" y="3009960"/>
              <a:ext cx="2879640" cy="1081080"/>
            </a:xfrm>
            <a:prstGeom prst="downArrowCallout">
              <a:avLst>
                <a:gd name="adj1" fmla="val 66598"/>
                <a:gd name="adj2" fmla="val 66592"/>
                <a:gd name="adj3" fmla="val 16667"/>
                <a:gd name="adj4" fmla="val 6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Text Box 6"/>
            <p:cNvSpPr/>
            <p:nvPr/>
          </p:nvSpPr>
          <p:spPr>
            <a:xfrm>
              <a:off x="2052720" y="4024080"/>
              <a:ext cx="295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Calibri"/>
                </a:rPr>
                <a:t>底面周长</a:t>
              </a:r>
              <a:r>
                <a:rPr b="1" lang="en-US" sz="3600" spc="-1" strike="noStrike">
                  <a:solidFill>
                    <a:srgbClr val="ffff00"/>
                  </a:solidFill>
                  <a:latin typeface="Calibri"/>
                </a:rPr>
                <a:t>×</a:t>
              </a:r>
              <a:r>
                <a:rPr b="1" lang="zh-CN" sz="3600" spc="-1" strike="noStrike">
                  <a:solidFill>
                    <a:srgbClr val="ffff00"/>
                  </a:solidFill>
                  <a:latin typeface="Calibri"/>
                </a:rPr>
                <a:t>高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2052360" y="3009960"/>
            <a:ext cx="7056360" cy="11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ff00"/>
                </a:solidFill>
                <a:latin typeface="Calibri"/>
              </a:rPr>
              <a:t>圆柱的侧面积 </a:t>
            </a:r>
            <a:r>
              <a:rPr b="1" lang="en-US" sz="3700" spc="-1" strike="noStrike">
                <a:solidFill>
                  <a:srgbClr val="ffff00"/>
                </a:solidFill>
                <a:latin typeface="Calibri"/>
              </a:rPr>
              <a:t>+ </a:t>
            </a:r>
            <a:r>
              <a:rPr b="1" lang="zh-CN" sz="3700" spc="-1" strike="noStrike">
                <a:solidFill>
                  <a:srgbClr val="ffff00"/>
                </a:solidFill>
                <a:latin typeface="Calibri"/>
              </a:rPr>
              <a:t>两个底面的面积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1116000" y="207324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Calibri"/>
              </a:rPr>
              <a:t>圆柱的表面积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7" name="Group 44"/>
          <p:cNvGrpSpPr/>
          <p:nvPr/>
        </p:nvGrpSpPr>
        <p:grpSpPr>
          <a:xfrm>
            <a:off x="1397160" y="3657600"/>
            <a:ext cx="5901480" cy="2725920"/>
            <a:chOff x="1397160" y="3657600"/>
            <a:chExt cx="5901480" cy="2725920"/>
          </a:xfrm>
        </p:grpSpPr>
        <p:sp>
          <p:nvSpPr>
            <p:cNvPr id="368" name="AutoShape 11"/>
            <p:cNvSpPr/>
            <p:nvPr/>
          </p:nvSpPr>
          <p:spPr>
            <a:xfrm>
              <a:off x="3348000" y="4737240"/>
              <a:ext cx="360360" cy="718920"/>
            </a:xfrm>
            <a:prstGeom prst="downArrow">
              <a:avLst>
                <a:gd name="adj1" fmla="val 50000"/>
                <a:gd name="adj2" fmla="val 4987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AutoShape 12"/>
            <p:cNvSpPr/>
            <p:nvPr/>
          </p:nvSpPr>
          <p:spPr>
            <a:xfrm>
              <a:off x="6804000" y="3657600"/>
              <a:ext cx="360360" cy="1800360"/>
            </a:xfrm>
            <a:prstGeom prst="downArrow">
              <a:avLst>
                <a:gd name="adj1" fmla="val 50000"/>
                <a:gd name="adj2" fmla="val 1249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Text Box 13"/>
            <p:cNvSpPr/>
            <p:nvPr/>
          </p:nvSpPr>
          <p:spPr>
            <a:xfrm>
              <a:off x="1397160" y="5375160"/>
              <a:ext cx="5901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00"/>
                  </a:solidFill>
                  <a:latin typeface="宋体"/>
                </a:rPr>
                <a:t>S</a:t>
              </a:r>
              <a:r>
                <a:rPr b="0" lang="zh-CN" sz="3200" spc="-1" strike="noStrike">
                  <a:solidFill>
                    <a:srgbClr val="ffff00"/>
                  </a:solidFill>
                  <a:latin typeface="宋体"/>
                </a:rPr>
                <a:t>表面积</a:t>
              </a:r>
              <a:r>
                <a:rPr b="0" lang="en-US" sz="5400" spc="-1" strike="noStrike">
                  <a:solidFill>
                    <a:srgbClr val="ffff00"/>
                  </a:solidFill>
                  <a:latin typeface="Calibri"/>
                </a:rPr>
                <a:t>=</a:t>
              </a:r>
              <a:r>
                <a:rPr b="0" lang="en-US" sz="4800" spc="-1" strike="noStrike">
                  <a:solidFill>
                    <a:srgbClr val="ffff00"/>
                  </a:solidFill>
                  <a:latin typeface="Calibri"/>
                </a:rPr>
                <a:t>2πr×h   +   2×πr</a:t>
              </a:r>
              <a:r>
                <a:rPr b="0" lang="en-US" sz="4800" spc="-1" strike="noStrike" baseline="30000">
                  <a:solidFill>
                    <a:srgbClr val="ffff00"/>
                  </a:solidFill>
                  <a:latin typeface="Calibri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1" name="Rectangle 35"/>
          <p:cNvSpPr/>
          <p:nvPr/>
        </p:nvSpPr>
        <p:spPr>
          <a:xfrm>
            <a:off x="5076720" y="765000"/>
            <a:ext cx="2519640" cy="1008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侧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Oval 37"/>
          <p:cNvSpPr/>
          <p:nvPr/>
        </p:nvSpPr>
        <p:spPr>
          <a:xfrm>
            <a:off x="6012000" y="1773360"/>
            <a:ext cx="720720" cy="718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38"/>
          <p:cNvSpPr/>
          <p:nvPr/>
        </p:nvSpPr>
        <p:spPr>
          <a:xfrm>
            <a:off x="4067280" y="620640"/>
            <a:ext cx="865080" cy="1295640"/>
          </a:xfrm>
          <a:prstGeom prst="can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Oval 42"/>
          <p:cNvSpPr/>
          <p:nvPr/>
        </p:nvSpPr>
        <p:spPr>
          <a:xfrm>
            <a:off x="7236000" y="46080"/>
            <a:ext cx="720720" cy="718920"/>
          </a:xfrm>
          <a:prstGeom prst="ellipse">
            <a:avLst/>
          </a:prstGeom>
          <a:solidFill>
            <a:srgbClr val="3399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Line 43"/>
          <p:cNvSpPr/>
          <p:nvPr/>
        </p:nvSpPr>
        <p:spPr>
          <a:xfrm>
            <a:off x="5076720" y="765000"/>
            <a:ext cx="2590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图片12"/>
          <p:cNvPicPr/>
          <p:nvPr/>
        </p:nvPicPr>
        <p:blipFill>
          <a:blip r:embed="rId1"/>
          <a:stretch/>
        </p:blipFill>
        <p:spPr>
          <a:xfrm>
            <a:off x="0" y="635040"/>
            <a:ext cx="9144000" cy="59626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"/>
          <p:cNvPicPr/>
          <p:nvPr/>
        </p:nvPicPr>
        <p:blipFill>
          <a:blip r:embed="rId2"/>
          <a:stretch/>
        </p:blipFill>
        <p:spPr>
          <a:xfrm>
            <a:off x="179280" y="679320"/>
            <a:ext cx="7632720" cy="58453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C017s"/>
          <p:cNvPicPr/>
          <p:nvPr/>
        </p:nvPicPr>
        <p:blipFill>
          <a:blip r:embed="rId3"/>
          <a:stretch/>
        </p:blipFill>
        <p:spPr>
          <a:xfrm>
            <a:off x="7093080" y="4149720"/>
            <a:ext cx="1338120" cy="237636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5"/>
          <p:cNvSpPr/>
          <p:nvPr/>
        </p:nvSpPr>
        <p:spPr>
          <a:xfrm rot="21450000">
            <a:off x="1835280" y="2552400"/>
            <a:ext cx="53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Calibri"/>
                <a:ea typeface="楷体_GB2312"/>
              </a:rPr>
              <a:t>在解答实际问题前一定要先进行分析，看它们求的是哪部分面积，再选择解答的方法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AutoShape 6"/>
          <p:cNvSpPr/>
          <p:nvPr/>
        </p:nvSpPr>
        <p:spPr>
          <a:xfrm flipH="1">
            <a:off x="538920" y="5661000"/>
            <a:ext cx="1584360" cy="8636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AutoShape 7"/>
          <p:cNvSpPr/>
          <p:nvPr/>
        </p:nvSpPr>
        <p:spPr>
          <a:xfrm flipH="1">
            <a:off x="250200" y="4724280"/>
            <a:ext cx="863640" cy="16560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03040">
            <a:solidFill>
              <a:srgbClr val="c0c0c0"/>
            </a:solidFill>
            <a:miter/>
          </a:ln>
        </p:spPr>
      </p:pic>
      <p:sp>
        <p:nvSpPr>
          <p:cNvPr id="383" name="Text Box 3"/>
          <p:cNvSpPr/>
          <p:nvPr/>
        </p:nvSpPr>
        <p:spPr>
          <a:xfrm>
            <a:off x="7452360" y="282816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Calibri"/>
                <a:ea typeface="楷体_GB2312"/>
              </a:rPr>
              <a:t>努力吧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AutoShape 4"/>
          <p:cNvSpPr/>
          <p:nvPr/>
        </p:nvSpPr>
        <p:spPr>
          <a:xfrm flipV="1">
            <a:off x="4427640" y="620640"/>
            <a:ext cx="14436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AutoShape 5"/>
          <p:cNvSpPr/>
          <p:nvPr/>
        </p:nvSpPr>
        <p:spPr>
          <a:xfrm flipV="1" rot="19694400">
            <a:off x="2987640" y="1051920"/>
            <a:ext cx="144360" cy="24476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AutoShape 6"/>
          <p:cNvSpPr/>
          <p:nvPr/>
        </p:nvSpPr>
        <p:spPr>
          <a:xfrm flipV="1" rot="18542400">
            <a:off x="2053080" y="1914480"/>
            <a:ext cx="144360" cy="244836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AutoShape 7"/>
          <p:cNvSpPr/>
          <p:nvPr/>
        </p:nvSpPr>
        <p:spPr>
          <a:xfrm flipV="1" rot="17506200">
            <a:off x="1474920" y="3068640"/>
            <a:ext cx="144720" cy="24476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AutoShape 8"/>
          <p:cNvSpPr/>
          <p:nvPr/>
        </p:nvSpPr>
        <p:spPr>
          <a:xfrm flipV="1" rot="16534800">
            <a:off x="1259640" y="4221720"/>
            <a:ext cx="14436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9"/>
          <p:cNvSpPr/>
          <p:nvPr/>
        </p:nvSpPr>
        <p:spPr>
          <a:xfrm flipH="1" flipV="1" rot="1905600">
            <a:off x="5868000" y="1051920"/>
            <a:ext cx="14436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AutoShape 10"/>
          <p:cNvSpPr/>
          <p:nvPr/>
        </p:nvSpPr>
        <p:spPr>
          <a:xfrm flipH="1" flipV="1" rot="3057600">
            <a:off x="6803280" y="1917360"/>
            <a:ext cx="144360" cy="244836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AutoShape 11"/>
          <p:cNvSpPr/>
          <p:nvPr/>
        </p:nvSpPr>
        <p:spPr>
          <a:xfrm flipH="1" flipV="1" rot="4093800">
            <a:off x="7381080" y="3068280"/>
            <a:ext cx="14472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AutoShape 12"/>
          <p:cNvSpPr/>
          <p:nvPr/>
        </p:nvSpPr>
        <p:spPr>
          <a:xfrm flipH="1" flipV="1" rot="5065200">
            <a:off x="7596000" y="4221720"/>
            <a:ext cx="14436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Picture 13" descr=""/>
          <p:cNvPicPr/>
          <p:nvPr/>
        </p:nvPicPr>
        <p:blipFill>
          <a:blip r:embed="rId2"/>
          <a:stretch/>
        </p:blipFill>
        <p:spPr>
          <a:xfrm>
            <a:off x="2700360" y="3141720"/>
            <a:ext cx="3527280" cy="2881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zoom dir="out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2" dur="250" autoRev="1" fill="hold"/>
                                        <p:tgtEl>
                                          <p:spTgt spid="3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250" autoRev="1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24" dur="250" autoRev="1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5" dur="250" autoRev="1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250" autoRev="1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28" dur="250" autoRev="1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9" dur="250" autoRev="1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1" dur="250" autoRev="1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32" dur="250" autoRev="1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33" dur="250" autoRev="1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5" dur="250" autoRev="1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36" dur="250" autoRev="1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37" dur="250" autoRev="1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250" autoRev="1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40" dur="250" autoRev="1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1" dur="250" autoRev="1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3" dur="250" autoRev="1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44" dur="250" autoRev="1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5" dur="250" autoRev="1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7" dur="250" autoRev="1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48" dur="250" autoRev="1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9" dur="250" autoRev="1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250" autoRev="1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52" dur="250" autoRev="1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3" dur="250" autoRev="1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5" dur="250" autoRev="1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56" dur="250" autoRev="1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7" dur="250" autoRev="1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0" y="4581360"/>
            <a:ext cx="968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计算各圆柱的表面积。（图中单位：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762120" y="1447920"/>
            <a:ext cx="1523880" cy="2457360"/>
            <a:chOff x="762120" y="1447920"/>
            <a:chExt cx="1523880" cy="2457360"/>
          </a:xfrm>
        </p:grpSpPr>
        <p:graphicFrame>
          <p:nvGraphicFramePr>
            <p:cNvPr id="396" name="Object 4"/>
            <p:cNvGraphicFramePr/>
            <p:nvPr/>
          </p:nvGraphicFramePr>
          <p:xfrm>
            <a:off x="762120" y="1523880"/>
            <a:ext cx="1260360" cy="2381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97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1523880"/>
                      <a:ext cx="1260360" cy="238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8" name="WordArt 5"/>
            <p:cNvSpPr txBox="1"/>
            <p:nvPr/>
          </p:nvSpPr>
          <p:spPr>
            <a:xfrm>
              <a:off x="1295280" y="1447920"/>
              <a:ext cx="22860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399" name="WordArt 6"/>
            <p:cNvSpPr txBox="1"/>
            <p:nvPr/>
          </p:nvSpPr>
          <p:spPr>
            <a:xfrm>
              <a:off x="2057400" y="2590920"/>
              <a:ext cx="22860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1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400" name="Group 7"/>
          <p:cNvGrpSpPr/>
          <p:nvPr/>
        </p:nvGrpSpPr>
        <p:grpSpPr>
          <a:xfrm>
            <a:off x="6172200" y="1371600"/>
            <a:ext cx="2209680" cy="2666880"/>
            <a:chOff x="6172200" y="1371600"/>
            <a:chExt cx="2209680" cy="2666880"/>
          </a:xfrm>
        </p:grpSpPr>
        <p:graphicFrame>
          <p:nvGraphicFramePr>
            <p:cNvPr id="401" name="Object 8"/>
            <p:cNvGraphicFramePr/>
            <p:nvPr/>
          </p:nvGraphicFramePr>
          <p:xfrm>
            <a:off x="6172200" y="1371600"/>
            <a:ext cx="1981080" cy="2666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2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72200" y="1371600"/>
                      <a:ext cx="1981080" cy="266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3" name="WordArt 9"/>
            <p:cNvSpPr txBox="1"/>
            <p:nvPr/>
          </p:nvSpPr>
          <p:spPr>
            <a:xfrm>
              <a:off x="8153280" y="2819520"/>
              <a:ext cx="22860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1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404" name="WordArt 10"/>
            <p:cNvSpPr txBox="1"/>
            <p:nvPr/>
          </p:nvSpPr>
          <p:spPr>
            <a:xfrm>
              <a:off x="7010280" y="1371600"/>
              <a:ext cx="22860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405" name="Group 11"/>
          <p:cNvGrpSpPr/>
          <p:nvPr/>
        </p:nvGrpSpPr>
        <p:grpSpPr>
          <a:xfrm>
            <a:off x="2971800" y="1905120"/>
            <a:ext cx="2611440" cy="838080"/>
            <a:chOff x="2971800" y="1905120"/>
            <a:chExt cx="2611440" cy="838080"/>
          </a:xfrm>
        </p:grpSpPr>
        <p:graphicFrame>
          <p:nvGraphicFramePr>
            <p:cNvPr id="406" name="Object 12"/>
            <p:cNvGraphicFramePr/>
            <p:nvPr/>
          </p:nvGraphicFramePr>
          <p:xfrm>
            <a:off x="3048120" y="1905120"/>
            <a:ext cx="2535120" cy="55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07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48120" y="1905120"/>
                      <a:ext cx="2535120" cy="55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8" name="WordArt 13"/>
            <p:cNvSpPr txBox="1"/>
            <p:nvPr/>
          </p:nvSpPr>
          <p:spPr>
            <a:xfrm>
              <a:off x="4267080" y="2514600"/>
              <a:ext cx="22860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2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409" name="WordArt 14"/>
            <p:cNvSpPr txBox="1"/>
            <p:nvPr/>
          </p:nvSpPr>
          <p:spPr>
            <a:xfrm>
              <a:off x="2971800" y="2133720"/>
              <a:ext cx="15228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</p:spTree>
  </p:cSld>
  <p:transition>
    <p:random/>
    <p:sndAc>
      <p:stSnd>
        <p:snd r:embed="rId7" name="cashreg.wav"/>
      </p:stSnd>
    </p:sndAc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49280" y="199800"/>
            <a:ext cx="5346720" cy="4921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700" spc="-1" strike="noStrike">
                <a:solidFill>
                  <a:srgbClr val="ff3300"/>
                </a:solidFill>
                <a:latin typeface="Calibri"/>
                <a:ea typeface="隶书"/>
              </a:rPr>
              <a:t>牛刀小试：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 Box 11"/>
          <p:cNvSpPr/>
          <p:nvPr/>
        </p:nvSpPr>
        <p:spPr>
          <a:xfrm>
            <a:off x="612720" y="1268280"/>
            <a:ext cx="80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一张长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宽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长方形纸围成一个圆柱体，这个圆柱体的侧面积是（    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 Box 12"/>
          <p:cNvSpPr/>
          <p:nvPr/>
        </p:nvSpPr>
        <p:spPr>
          <a:xfrm>
            <a:off x="611280" y="342900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根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米长的圆柱形排水钢管，量得横截面圆的半径是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0.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米，如果在钢管的表面喷上防锈油漆，喷漆面积是（          ）平方米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20"/>
          <p:cNvSpPr/>
          <p:nvPr/>
        </p:nvSpPr>
        <p:spPr>
          <a:xfrm>
            <a:off x="3203640" y="242100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 Box 23"/>
          <p:cNvSpPr/>
          <p:nvPr/>
        </p:nvSpPr>
        <p:spPr>
          <a:xfrm>
            <a:off x="5076720" y="5229360"/>
            <a:ext cx="151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 Box 25"/>
          <p:cNvSpPr/>
          <p:nvPr/>
        </p:nvSpPr>
        <p:spPr>
          <a:xfrm>
            <a:off x="3492360" y="530064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alibri"/>
              </a:rPr>
              <a:t>4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9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250920" y="1700280"/>
            <a:ext cx="2808360" cy="30240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AutoShape 3"/>
          <p:cNvSpPr/>
          <p:nvPr/>
        </p:nvSpPr>
        <p:spPr>
          <a:xfrm>
            <a:off x="324000" y="765000"/>
            <a:ext cx="2808000" cy="648000"/>
          </a:xfrm>
          <a:custGeom>
            <a:avLst/>
            <a:gdLst>
              <a:gd name="textAreaLeft" fmla="*/ 0 w 2808000"/>
              <a:gd name="textAreaRight" fmla="*/ 2808360 w 2808000"/>
              <a:gd name="textAreaTop" fmla="*/ 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Picture 5" descr="u=1099516015,270753660&amp;fm=0&amp;gp=26"/>
          <p:cNvPicPr/>
          <p:nvPr/>
        </p:nvPicPr>
        <p:blipFill>
          <a:blip r:embed="rId1"/>
          <a:stretch/>
        </p:blipFill>
        <p:spPr>
          <a:xfrm>
            <a:off x="776160" y="2235240"/>
            <a:ext cx="1824120" cy="197964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6"/>
          <p:cNvSpPr/>
          <p:nvPr/>
        </p:nvSpPr>
        <p:spPr>
          <a:xfrm>
            <a:off x="3203640" y="549360"/>
            <a:ext cx="5545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现在有一个罐头厂计划用铁皮制作一批底面半径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厘米，高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厘米的圆柱形罐头盒。你能不能帮厂长算一算制作一个至少需要多少平方厘米铁皮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324000" y="76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应用与实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5867280" y="1916280"/>
            <a:ext cx="2808360" cy="34574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34560" y="259920"/>
            <a:ext cx="8209080" cy="20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400" spc="-1" strike="noStrike">
                <a:solidFill>
                  <a:srgbClr val="000000"/>
                </a:solidFill>
                <a:latin typeface="Calibri"/>
              </a:rPr>
              <a:t>例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400" spc="-1" strike="noStrike">
                <a:solidFill>
                  <a:srgbClr val="000000"/>
                </a:solidFill>
                <a:latin typeface="Calibri"/>
              </a:rPr>
              <a:t>、一顶圆柱形厨师帽，高</a:t>
            </a:r>
            <a:r>
              <a:rPr b="1" lang="en-US" sz="3400" spc="-1" strike="noStrike">
                <a:solidFill>
                  <a:srgbClr val="ff0000"/>
                </a:solidFill>
                <a:latin typeface="Calibri"/>
              </a:rPr>
              <a:t>28</a:t>
            </a:r>
            <a:r>
              <a:rPr b="1" lang="zh-CN" sz="3400" spc="-1" strike="noStrike">
                <a:solidFill>
                  <a:srgbClr val="000000"/>
                </a:solidFill>
                <a:latin typeface="Calibri"/>
              </a:rPr>
              <a:t>厘米，帽顶直径</a:t>
            </a:r>
            <a:r>
              <a:rPr b="1" lang="en-US" sz="3400" spc="-1" strike="noStrike">
                <a:solidFill>
                  <a:srgbClr val="ff0000"/>
                </a:solidFill>
                <a:latin typeface="Calibri"/>
              </a:rPr>
              <a:t>20</a:t>
            </a:r>
            <a:r>
              <a:rPr b="1" lang="zh-CN" sz="3400" spc="-1" strike="noStrike">
                <a:solidFill>
                  <a:srgbClr val="000000"/>
                </a:solidFill>
                <a:latin typeface="Calibri"/>
              </a:rPr>
              <a:t>厘米，做这样一顶帽子需要用多少面料（得数保留整十平方厘米）？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611280" y="2206800"/>
            <a:ext cx="77770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Calibri"/>
              </a:rPr>
              <a:t>解：帽子的侧面积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Calibri"/>
              </a:rPr>
              <a:t>              </a:t>
            </a: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3.14×20×28</a:t>
            </a:r>
            <a:r>
              <a:rPr b="1" lang="zh-CN" sz="2400" spc="-1" strike="noStrike">
                <a:solidFill>
                  <a:srgbClr val="ff3300"/>
                </a:solidFill>
                <a:latin typeface="Calibri"/>
              </a:rPr>
              <a:t>＝</a:t>
            </a: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1758.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      </a:t>
            </a:r>
            <a:r>
              <a:rPr b="1" lang="zh-CN" sz="2400" spc="-1" strike="noStrike">
                <a:solidFill>
                  <a:srgbClr val="ff3300"/>
                </a:solidFill>
                <a:latin typeface="Calibri"/>
              </a:rPr>
              <a:t>帽顶的面积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Calibri"/>
              </a:rPr>
              <a:t>             </a:t>
            </a: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3.14×</a:t>
            </a:r>
            <a:r>
              <a:rPr b="1" lang="zh-CN" sz="2400" spc="-1" strike="noStrike">
                <a:solidFill>
                  <a:srgbClr val="ff33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20÷2</a:t>
            </a:r>
            <a:r>
              <a:rPr b="1" lang="zh-CN" sz="2400" spc="-1" strike="noStrike">
                <a:solidFill>
                  <a:srgbClr val="ff3300"/>
                </a:solidFill>
                <a:latin typeface="Calibri"/>
              </a:rPr>
              <a:t>）</a:t>
            </a:r>
            <a:r>
              <a:rPr b="1" lang="en-US" sz="2400" spc="-1" strike="noStrike" baseline="30000">
                <a:solidFill>
                  <a:srgbClr val="ff33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Calibri"/>
              </a:rPr>
              <a:t>＝</a:t>
            </a: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3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      </a:t>
            </a:r>
            <a:r>
              <a:rPr b="1" lang="zh-CN" sz="2400" spc="-1" strike="noStrike">
                <a:solidFill>
                  <a:srgbClr val="ff3300"/>
                </a:solidFill>
                <a:latin typeface="Calibri"/>
              </a:rPr>
              <a:t>需要用的面料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Calibri"/>
              </a:rPr>
              <a:t>            </a:t>
            </a: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1758.4+314=2072.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     </a:t>
            </a:r>
            <a:r>
              <a:rPr b="1" lang="zh-CN" sz="2400" spc="-1" strike="noStrike">
                <a:solidFill>
                  <a:srgbClr val="ff3300"/>
                </a:solidFill>
                <a:latin typeface="Calibri"/>
              </a:rPr>
              <a:t>答：做这样一顶帽子需要用</a:t>
            </a: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2080</a:t>
            </a:r>
            <a:r>
              <a:rPr b="1" lang="zh-CN" sz="2400" spc="-1" strike="noStrike">
                <a:solidFill>
                  <a:srgbClr val="ff3300"/>
                </a:solidFill>
                <a:latin typeface="Calibri"/>
              </a:rPr>
              <a:t>平方厘米的面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6" descr="001"/>
          <p:cNvPicPr/>
          <p:nvPr/>
        </p:nvPicPr>
        <p:blipFill>
          <a:blip r:embed="rId1"/>
          <a:stretch/>
        </p:blipFill>
        <p:spPr>
          <a:xfrm>
            <a:off x="6012000" y="2060640"/>
            <a:ext cx="2573280" cy="316872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8"/>
          <p:cNvSpPr/>
          <p:nvPr/>
        </p:nvSpPr>
        <p:spPr>
          <a:xfrm>
            <a:off x="4500720" y="49402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≈</a:t>
            </a: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20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AutoShape 9"/>
          <p:cNvSpPr/>
          <p:nvPr/>
        </p:nvSpPr>
        <p:spPr>
          <a:xfrm>
            <a:off x="7236000" y="6093000"/>
            <a:ext cx="1439640" cy="504720"/>
          </a:xfrm>
          <a:custGeom>
            <a:avLst/>
            <a:gdLst>
              <a:gd name="textAreaLeft" fmla="*/ 32400 w 1439640"/>
              <a:gd name="textAreaRight" fmla="*/ 1407240 w 1439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1582" h="21600">
                <a:moveTo>
                  <a:pt x="0" y="0"/>
                </a:moveTo>
                <a:lnTo>
                  <a:pt x="61582" y="0"/>
                </a:lnTo>
                <a:lnTo>
                  <a:pt x="61582" y="21600"/>
                </a:lnTo>
                <a:lnTo>
                  <a:pt x="0" y="21600"/>
                </a:lnTo>
                <a:close/>
              </a:path>
              <a:path fill="lightenLess" w="61582" h="21600">
                <a:moveTo>
                  <a:pt x="0" y="0"/>
                </a:moveTo>
                <a:lnTo>
                  <a:pt x="61582" y="0"/>
                </a:lnTo>
                <a:lnTo>
                  <a:pt x="60182" y="1400"/>
                </a:lnTo>
                <a:lnTo>
                  <a:pt x="1400" y="1400"/>
                </a:lnTo>
                <a:close/>
              </a:path>
              <a:path fill="darken" w="61582" h="21600">
                <a:moveTo>
                  <a:pt x="61582" y="0"/>
                </a:moveTo>
                <a:lnTo>
                  <a:pt x="61582" y="21600"/>
                </a:lnTo>
                <a:lnTo>
                  <a:pt x="60182" y="20200"/>
                </a:lnTo>
                <a:lnTo>
                  <a:pt x="60182" y="1400"/>
                </a:lnTo>
                <a:close/>
              </a:path>
              <a:path fill="darkenLess" w="61582" h="21600">
                <a:moveTo>
                  <a:pt x="61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182" y="20200"/>
                </a:lnTo>
                <a:close/>
              </a:path>
              <a:path fill="lighten" w="61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582" h="21600">
                <a:moveTo>
                  <a:pt x="23785" y="3794"/>
                </a:moveTo>
                <a:lnTo>
                  <a:pt x="37798" y="10800"/>
                </a:lnTo>
                <a:lnTo>
                  <a:pt x="23785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计算下面圆的周长和面积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＝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6cm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）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＝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5d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787680" y="2276640"/>
            <a:ext cx="91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周长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面积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763640" y="227664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6×3.14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＝</a:t>
            </a: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18.84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cm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476360" y="321300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6÷2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）</a:t>
            </a:r>
            <a:r>
              <a:rPr b="1" lang="en-US" sz="3200" spc="-1" strike="noStrike" baseline="30000">
                <a:solidFill>
                  <a:srgbClr val="0000ff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×3.14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＝</a:t>
            </a: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28.26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cm</a:t>
            </a:r>
            <a:r>
              <a:rPr b="1" lang="en-US" sz="3200" spc="-1" strike="noStrike" baseline="30000">
                <a:solidFill>
                  <a:srgbClr val="0000ff"/>
                </a:solidFill>
                <a:latin typeface="Verdana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87680" y="4508640"/>
            <a:ext cx="91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周长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面积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763640" y="450864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2×5×3.14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＝</a:t>
            </a: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31.4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cm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763640" y="544500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5</a:t>
            </a:r>
            <a:r>
              <a:rPr b="1" lang="en-US" sz="3200" spc="-1" strike="noStrike" baseline="30000">
                <a:solidFill>
                  <a:srgbClr val="0000ff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×3.14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＝</a:t>
            </a: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78.5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cm</a:t>
            </a:r>
            <a:r>
              <a:rPr b="1" lang="en-US" sz="3200" spc="-1" strike="noStrike" baseline="30000">
                <a:solidFill>
                  <a:srgbClr val="0000ff"/>
                </a:solidFill>
                <a:latin typeface="Verdana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10">
            <a:hlinkClick r:id="" action="ppaction://hlinkshowjump?jump=firstslide"/>
          </p:cNvPr>
          <p:cNvSpPr/>
          <p:nvPr/>
        </p:nvSpPr>
        <p:spPr>
          <a:xfrm>
            <a:off x="8567640" y="6093000"/>
            <a:ext cx="576360" cy="765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65000"/>
              <a:gd name="textAreaBottom" fmla="*/ 727920 h 765000"/>
            </a:gdLst>
            <a:ahLst/>
            <a:rect l="textAreaLeft" t="textAreaTop" r="textAreaRight" b="textAreaBottom"/>
            <a:pathLst>
              <a:path w="21600" h="28665">
                <a:moveTo>
                  <a:pt x="0" y="0"/>
                </a:moveTo>
                <a:lnTo>
                  <a:pt x="21600" y="0"/>
                </a:lnTo>
                <a:lnTo>
                  <a:pt x="21600" y="28665"/>
                </a:lnTo>
                <a:lnTo>
                  <a:pt x="0" y="28665"/>
                </a:lnTo>
                <a:close/>
              </a:path>
              <a:path fill="lightenLess" w="21600" h="286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665">
                <a:moveTo>
                  <a:pt x="21600" y="0"/>
                </a:moveTo>
                <a:lnTo>
                  <a:pt x="21600" y="28665"/>
                </a:lnTo>
                <a:lnTo>
                  <a:pt x="20200" y="27265"/>
                </a:lnTo>
                <a:lnTo>
                  <a:pt x="20200" y="1400"/>
                </a:lnTo>
                <a:close/>
              </a:path>
              <a:path fill="darkenLess" w="21600" h="28665">
                <a:moveTo>
                  <a:pt x="21600" y="28665"/>
                </a:moveTo>
                <a:lnTo>
                  <a:pt x="0" y="28665"/>
                </a:lnTo>
                <a:lnTo>
                  <a:pt x="1400" y="27265"/>
                </a:lnTo>
                <a:lnTo>
                  <a:pt x="20200" y="27265"/>
                </a:lnTo>
                <a:close/>
              </a:path>
              <a:path fill="lighten" w="21600" h="28665">
                <a:moveTo>
                  <a:pt x="0" y="286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7265"/>
                </a:lnTo>
                <a:close/>
              </a:path>
              <a:path fill="darken" w="21600" h="28665">
                <a:moveTo>
                  <a:pt x="10800" y="7370"/>
                </a:moveTo>
                <a:lnTo>
                  <a:pt x="13376" y="9981"/>
                </a:lnTo>
                <a:lnTo>
                  <a:pt x="13376" y="8240"/>
                </a:lnTo>
                <a:lnTo>
                  <a:pt x="15152" y="8240"/>
                </a:lnTo>
                <a:lnTo>
                  <a:pt x="15152" y="11756"/>
                </a:lnTo>
                <a:lnTo>
                  <a:pt x="17763" y="14333"/>
                </a:lnTo>
                <a:lnTo>
                  <a:pt x="16109" y="14333"/>
                </a:lnTo>
                <a:lnTo>
                  <a:pt x="16109" y="21522"/>
                </a:lnTo>
                <a:lnTo>
                  <a:pt x="5491" y="21522"/>
                </a:lnTo>
                <a:lnTo>
                  <a:pt x="5491" y="14333"/>
                </a:lnTo>
                <a:lnTo>
                  <a:pt x="3837" y="14333"/>
                </a:lnTo>
                <a:close/>
              </a:path>
              <a:path fill="darkenLess" w="21600" h="28665">
                <a:moveTo>
                  <a:pt x="13376" y="9981"/>
                </a:moveTo>
                <a:lnTo>
                  <a:pt x="13376" y="8240"/>
                </a:lnTo>
                <a:lnTo>
                  <a:pt x="15152" y="8240"/>
                </a:lnTo>
                <a:lnTo>
                  <a:pt x="15152" y="11756"/>
                </a:lnTo>
                <a:close/>
              </a:path>
              <a:path fill="darkenLess" w="21600" h="28665">
                <a:moveTo>
                  <a:pt x="9877" y="17831"/>
                </a:moveTo>
                <a:lnTo>
                  <a:pt x="11723" y="17831"/>
                </a:lnTo>
                <a:lnTo>
                  <a:pt x="11723" y="21522"/>
                </a:lnTo>
                <a:lnTo>
                  <a:pt x="16109" y="21522"/>
                </a:lnTo>
                <a:lnTo>
                  <a:pt x="16109" y="14333"/>
                </a:lnTo>
                <a:lnTo>
                  <a:pt x="5491" y="14333"/>
                </a:lnTo>
                <a:lnTo>
                  <a:pt x="5491" y="21522"/>
                </a:lnTo>
                <a:lnTo>
                  <a:pt x="9877" y="215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Calibri"/>
              </a:rPr>
              <a:t>注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9640" y="1857240"/>
            <a:ext cx="8118720" cy="351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在实际生活中，使用材料要比计划得到得结果要多一些，因此要保留整十平方厘米，都要向前一位进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，这种方法叫</a:t>
            </a:r>
            <a:r>
              <a:rPr b="1" lang="zh-CN" sz="4400" spc="-1" strike="noStrike">
                <a:solidFill>
                  <a:srgbClr val="ff3300"/>
                </a:solidFill>
                <a:latin typeface="Calibri"/>
              </a:rPr>
              <a:t>进一法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AutoShape 4">
            <a:hlinkClick r:id="" action="ppaction://hlinkshowjump?jump=firstslide"/>
          </p:cNvPr>
          <p:cNvSpPr/>
          <p:nvPr/>
        </p:nvSpPr>
        <p:spPr>
          <a:xfrm>
            <a:off x="8567640" y="6093000"/>
            <a:ext cx="576360" cy="765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65000"/>
              <a:gd name="textAreaBottom" fmla="*/ 727920 h 765000"/>
            </a:gdLst>
            <a:ahLst/>
            <a:rect l="textAreaLeft" t="textAreaTop" r="textAreaRight" b="textAreaBottom"/>
            <a:pathLst>
              <a:path w="21600" h="28665">
                <a:moveTo>
                  <a:pt x="0" y="0"/>
                </a:moveTo>
                <a:lnTo>
                  <a:pt x="21600" y="0"/>
                </a:lnTo>
                <a:lnTo>
                  <a:pt x="21600" y="28665"/>
                </a:lnTo>
                <a:lnTo>
                  <a:pt x="0" y="28665"/>
                </a:lnTo>
                <a:close/>
              </a:path>
              <a:path fill="lightenLess" w="21600" h="286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665">
                <a:moveTo>
                  <a:pt x="21600" y="0"/>
                </a:moveTo>
                <a:lnTo>
                  <a:pt x="21600" y="28665"/>
                </a:lnTo>
                <a:lnTo>
                  <a:pt x="20200" y="27265"/>
                </a:lnTo>
                <a:lnTo>
                  <a:pt x="20200" y="1400"/>
                </a:lnTo>
                <a:close/>
              </a:path>
              <a:path fill="darkenLess" w="21600" h="28665">
                <a:moveTo>
                  <a:pt x="21600" y="28665"/>
                </a:moveTo>
                <a:lnTo>
                  <a:pt x="0" y="28665"/>
                </a:lnTo>
                <a:lnTo>
                  <a:pt x="1400" y="27265"/>
                </a:lnTo>
                <a:lnTo>
                  <a:pt x="20200" y="27265"/>
                </a:lnTo>
                <a:close/>
              </a:path>
              <a:path fill="lighten" w="21600" h="28665">
                <a:moveTo>
                  <a:pt x="0" y="286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7265"/>
                </a:lnTo>
                <a:close/>
              </a:path>
              <a:path fill="darken" w="21600" h="28665">
                <a:moveTo>
                  <a:pt x="10800" y="7370"/>
                </a:moveTo>
                <a:lnTo>
                  <a:pt x="13376" y="9981"/>
                </a:lnTo>
                <a:lnTo>
                  <a:pt x="13376" y="8240"/>
                </a:lnTo>
                <a:lnTo>
                  <a:pt x="15152" y="8240"/>
                </a:lnTo>
                <a:lnTo>
                  <a:pt x="15152" y="11756"/>
                </a:lnTo>
                <a:lnTo>
                  <a:pt x="17763" y="14333"/>
                </a:lnTo>
                <a:lnTo>
                  <a:pt x="16109" y="14333"/>
                </a:lnTo>
                <a:lnTo>
                  <a:pt x="16109" y="21522"/>
                </a:lnTo>
                <a:lnTo>
                  <a:pt x="5491" y="21522"/>
                </a:lnTo>
                <a:lnTo>
                  <a:pt x="5491" y="14333"/>
                </a:lnTo>
                <a:lnTo>
                  <a:pt x="3837" y="14333"/>
                </a:lnTo>
                <a:close/>
              </a:path>
              <a:path fill="darkenLess" w="21600" h="28665">
                <a:moveTo>
                  <a:pt x="13376" y="9981"/>
                </a:moveTo>
                <a:lnTo>
                  <a:pt x="13376" y="8240"/>
                </a:lnTo>
                <a:lnTo>
                  <a:pt x="15152" y="8240"/>
                </a:lnTo>
                <a:lnTo>
                  <a:pt x="15152" y="11756"/>
                </a:lnTo>
                <a:close/>
              </a:path>
              <a:path fill="darkenLess" w="21600" h="28665">
                <a:moveTo>
                  <a:pt x="9877" y="17831"/>
                </a:moveTo>
                <a:lnTo>
                  <a:pt x="11723" y="17831"/>
                </a:lnTo>
                <a:lnTo>
                  <a:pt x="11723" y="21522"/>
                </a:lnTo>
                <a:lnTo>
                  <a:pt x="16109" y="21522"/>
                </a:lnTo>
                <a:lnTo>
                  <a:pt x="16109" y="14333"/>
                </a:lnTo>
                <a:lnTo>
                  <a:pt x="5491" y="14333"/>
                </a:lnTo>
                <a:lnTo>
                  <a:pt x="5491" y="21522"/>
                </a:lnTo>
                <a:lnTo>
                  <a:pt x="9877" y="215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0" y="620640"/>
            <a:ext cx="914400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2" name="Picture 3" descr="BCKLN018"/>
          <p:cNvPicPr/>
          <p:nvPr/>
        </p:nvPicPr>
        <p:blipFill>
          <a:blip r:embed="rId1"/>
          <a:stretch/>
        </p:blipFill>
        <p:spPr>
          <a:xfrm>
            <a:off x="11160" y="1628640"/>
            <a:ext cx="9024840" cy="482472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4"/>
          <p:cNvSpPr/>
          <p:nvPr/>
        </p:nvSpPr>
        <p:spPr>
          <a:xfrm>
            <a:off x="2006640" y="198900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ext Box 5"/>
          <p:cNvSpPr/>
          <p:nvPr/>
        </p:nvSpPr>
        <p:spPr>
          <a:xfrm>
            <a:off x="755640" y="29448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楷体_GB2312"/>
              </a:rPr>
              <a:t>选一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3492360" y="3144960"/>
            <a:ext cx="3168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00"/>
                </a:solidFill>
                <a:latin typeface="Calibri"/>
              </a:rPr>
              <a:t>A</a:t>
            </a:r>
            <a:r>
              <a:rPr b="1" lang="zh-CN" sz="4000" spc="-1" strike="noStrike">
                <a:solidFill>
                  <a:srgbClr val="669900"/>
                </a:solidFill>
                <a:latin typeface="Calibri"/>
              </a:rPr>
              <a:t>：  </a:t>
            </a:r>
            <a:r>
              <a:rPr b="1" lang="en-US" sz="4000" spc="-1" strike="noStrike">
                <a:solidFill>
                  <a:srgbClr val="669900"/>
                </a:solidFill>
                <a:latin typeface="Calibri"/>
                <a:ea typeface="楷体_GB2312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3492360" y="409104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00"/>
                </a:solidFill>
                <a:latin typeface="Calibri"/>
              </a:rPr>
              <a:t>B</a:t>
            </a:r>
            <a:r>
              <a:rPr b="1" lang="zh-CN" sz="4000" spc="-1" strike="noStrike">
                <a:solidFill>
                  <a:srgbClr val="669900"/>
                </a:solidFill>
                <a:latin typeface="Calibri"/>
              </a:rPr>
              <a:t>： </a:t>
            </a:r>
            <a:r>
              <a:rPr b="1" lang="en-US" sz="4000" spc="-1" strike="noStrike">
                <a:solidFill>
                  <a:srgbClr val="669900"/>
                </a:solidFill>
                <a:latin typeface="Calibri"/>
                <a:ea typeface="楷体_GB2312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3492360" y="5032440"/>
            <a:ext cx="42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00"/>
                </a:solidFill>
                <a:latin typeface="Calibri"/>
              </a:rPr>
              <a:t>C</a:t>
            </a:r>
            <a:r>
              <a:rPr b="1" lang="zh-CN" sz="4000" spc="-1" strike="noStrike">
                <a:solidFill>
                  <a:srgbClr val="669900"/>
                </a:solidFill>
                <a:latin typeface="Calibri"/>
              </a:rPr>
              <a:t>： </a:t>
            </a:r>
            <a:r>
              <a:rPr b="1" lang="en-US" sz="4000" spc="-1" strike="noStrike">
                <a:solidFill>
                  <a:srgbClr val="669900"/>
                </a:solidFill>
                <a:latin typeface="Calibri"/>
                <a:ea typeface="楷体_GB2312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9"/>
          <p:cNvSpPr/>
          <p:nvPr/>
        </p:nvSpPr>
        <p:spPr>
          <a:xfrm>
            <a:off x="611280" y="907920"/>
            <a:ext cx="809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Calibri"/>
                <a:ea typeface="楷体_GB2312"/>
              </a:rPr>
              <a:t>一个圆柱形木棒，底面半径</a:t>
            </a:r>
            <a:r>
              <a:rPr b="1" lang="en-US" sz="3600" spc="-1" strike="noStrike">
                <a:solidFill>
                  <a:srgbClr val="0033cc"/>
                </a:solidFill>
                <a:latin typeface="Calibri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Calibri"/>
                <a:ea typeface="楷体_GB2312"/>
              </a:rPr>
              <a:t>厘米，高</a:t>
            </a:r>
            <a:r>
              <a:rPr b="1" lang="en-US" sz="3600" spc="-1" strike="noStrike">
                <a:solidFill>
                  <a:srgbClr val="0033cc"/>
                </a:solidFill>
                <a:latin typeface="Calibri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Calibri"/>
                <a:ea typeface="楷体_GB2312"/>
              </a:rPr>
              <a:t>厘米，沿底面直径纵剖后，表面积之和增加（   ）平方厘米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179280" y="62064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3" descr=""/>
          <p:cNvPicPr/>
          <p:nvPr/>
        </p:nvPicPr>
        <p:blipFill>
          <a:blip r:embed="rId1"/>
          <a:stretch/>
        </p:blipFill>
        <p:spPr>
          <a:xfrm>
            <a:off x="4932360" y="3171960"/>
            <a:ext cx="4068720" cy="3641760"/>
          </a:xfrm>
          <a:prstGeom prst="rect">
            <a:avLst/>
          </a:prstGeom>
          <a:ln w="0">
            <a:noFill/>
          </a:ln>
        </p:spPr>
      </p:pic>
      <p:grpSp>
        <p:nvGrpSpPr>
          <p:cNvPr id="441" name="Group 4"/>
          <p:cNvGrpSpPr/>
          <p:nvPr/>
        </p:nvGrpSpPr>
        <p:grpSpPr>
          <a:xfrm>
            <a:off x="468360" y="765000"/>
            <a:ext cx="4680000" cy="5185080"/>
            <a:chOff x="468360" y="765000"/>
            <a:chExt cx="4680000" cy="5185080"/>
          </a:xfrm>
        </p:grpSpPr>
        <p:sp>
          <p:nvSpPr>
            <p:cNvPr id="442" name="AutoShape 5"/>
            <p:cNvSpPr/>
            <p:nvPr/>
          </p:nvSpPr>
          <p:spPr>
            <a:xfrm>
              <a:off x="468360" y="765000"/>
              <a:ext cx="4680000" cy="5185080"/>
            </a:xfrm>
            <a:prstGeom prst="foldedCorner">
              <a:avLst>
                <a:gd name="adj" fmla="val 12500"/>
              </a:avLst>
            </a:prstGeom>
            <a:solidFill>
              <a:srgbClr val="f2f6da"/>
            </a:solidFill>
            <a:ln w="9360">
              <a:solidFill>
                <a:srgbClr val="eeece1"/>
              </a:solidFill>
              <a:miter/>
            </a:ln>
            <a:effectLst>
              <a:outerShdw dist="107932" dir="189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Text Box 6"/>
            <p:cNvSpPr/>
            <p:nvPr/>
          </p:nvSpPr>
          <p:spPr>
            <a:xfrm>
              <a:off x="719280" y="1311120"/>
              <a:ext cx="4284360" cy="20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一台压路机的滚筒宽</a:t>
              </a:r>
              <a:r>
                <a:rPr b="1" lang="en-US" sz="3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1.2</a:t>
              </a:r>
              <a:r>
                <a:rPr b="1" lang="zh-CN" sz="3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米，直径为</a:t>
              </a:r>
              <a:r>
                <a:rPr b="1" lang="en-US" sz="3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0.8</a:t>
              </a:r>
              <a:r>
                <a:rPr b="1" lang="zh-CN" sz="3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米。如果它滚动</a:t>
              </a:r>
              <a:r>
                <a:rPr b="1" lang="en-US" sz="3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10</a:t>
              </a:r>
              <a:r>
                <a:rPr b="1" lang="zh-CN" sz="3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周，压路的面积是多少平方米？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2" descr="图片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3"/>
          <p:cNvSpPr/>
          <p:nvPr/>
        </p:nvSpPr>
        <p:spPr>
          <a:xfrm>
            <a:off x="1582560" y="1615680"/>
            <a:ext cx="738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如果一段圆柱形的木头，截成两截，它的表面积会有什么变化呢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6" name="Group 4"/>
          <p:cNvGrpSpPr/>
          <p:nvPr/>
        </p:nvGrpSpPr>
        <p:grpSpPr>
          <a:xfrm>
            <a:off x="4572000" y="3506760"/>
            <a:ext cx="3096720" cy="1290240"/>
            <a:chOff x="4572000" y="3506760"/>
            <a:chExt cx="3096720" cy="1290240"/>
          </a:xfrm>
        </p:grpSpPr>
        <p:sp>
          <p:nvSpPr>
            <p:cNvPr id="447" name="AutoShape 5"/>
            <p:cNvSpPr/>
            <p:nvPr/>
          </p:nvSpPr>
          <p:spPr>
            <a:xfrm rot="16200000">
              <a:off x="5484600" y="2612160"/>
              <a:ext cx="1289520" cy="3078720"/>
            </a:xfrm>
            <a:prstGeom prst="can">
              <a:avLst>
                <a:gd name="adj" fmla="val 13111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Oval 6"/>
            <p:cNvSpPr/>
            <p:nvPr/>
          </p:nvSpPr>
          <p:spPr>
            <a:xfrm>
              <a:off x="4572000" y="3507480"/>
              <a:ext cx="462240" cy="128952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AutoShape 7"/>
          <p:cNvSpPr/>
          <p:nvPr/>
        </p:nvSpPr>
        <p:spPr>
          <a:xfrm rot="16200000">
            <a:off x="2904120" y="2552760"/>
            <a:ext cx="1289160" cy="3198960"/>
          </a:xfrm>
          <a:prstGeom prst="can">
            <a:avLst>
              <a:gd name="adj" fmla="val 13111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7.40741E-007 L 0.07864 -7.40741E-007 E">
                                      <p:cBhvr>
                                        <p:cTn id="582" dur="2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7.40741E-007 L -0.05503 -7.40741E-007 E">
                                      <p:cBhvr>
                                        <p:cTn id="584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4"/>
          <p:cNvSpPr/>
          <p:nvPr/>
        </p:nvSpPr>
        <p:spPr>
          <a:xfrm>
            <a:off x="611280" y="981000"/>
            <a:ext cx="813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一个圆柱形的无盖铁皮水桶，底面直径是</a:t>
            </a:r>
            <a:r>
              <a:rPr b="1" lang="en-US" sz="4000" spc="-1" strike="noStrike">
                <a:solidFill>
                  <a:srgbClr val="0000cc"/>
                </a:solidFill>
                <a:latin typeface="Calibri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分米，高是</a:t>
            </a:r>
            <a:r>
              <a:rPr b="1" lang="en-US" sz="4000" spc="-1" strike="noStrike">
                <a:solidFill>
                  <a:srgbClr val="0000cc"/>
                </a:solidFill>
                <a:latin typeface="Calibri"/>
              </a:rPr>
              <a:t>4.5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分米，为了防止生锈，要在水桶里外两面都涂上防锈漆，涂漆的 面积是多少平方分米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AutoShape 5"/>
          <p:cNvSpPr/>
          <p:nvPr/>
        </p:nvSpPr>
        <p:spPr>
          <a:xfrm>
            <a:off x="6012000" y="4076640"/>
            <a:ext cx="1657080" cy="2232000"/>
          </a:xfrm>
          <a:prstGeom prst="can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Freeform 7"/>
          <p:cNvSpPr/>
          <p:nvPr/>
        </p:nvSpPr>
        <p:spPr>
          <a:xfrm>
            <a:off x="6300720" y="3357720"/>
            <a:ext cx="1150920" cy="12236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 Box 8"/>
          <p:cNvSpPr/>
          <p:nvPr/>
        </p:nvSpPr>
        <p:spPr>
          <a:xfrm>
            <a:off x="468360" y="11592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Calibri"/>
                <a:ea typeface="隶书"/>
              </a:rPr>
              <a:t>再接再厉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250920" y="1197000"/>
            <a:ext cx="84247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23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700" spc="-1" strike="noStrike">
                <a:solidFill>
                  <a:srgbClr val="000000"/>
                </a:solidFill>
                <a:latin typeface="Calibri"/>
              </a:rPr>
              <a:t>一个圆柱体的侧面展开是个边长</a:t>
            </a:r>
            <a:r>
              <a:rPr b="1" lang="en-US" sz="3700" spc="-1" strike="noStrike">
                <a:solidFill>
                  <a:srgbClr val="000000"/>
                </a:solidFill>
                <a:latin typeface="Calibri"/>
              </a:rPr>
              <a:t>9.42 cm</a:t>
            </a:r>
            <a:r>
              <a:rPr b="1" lang="zh-CN" sz="3700" spc="-1" strike="noStrike">
                <a:solidFill>
                  <a:srgbClr val="000000"/>
                </a:solidFill>
                <a:latin typeface="Calibri"/>
              </a:rPr>
              <a:t>的正方形，这个圆柱体的表面积是多少</a:t>
            </a:r>
            <a:r>
              <a:rPr b="1" lang="en-US" sz="37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1" lang="en-US" sz="3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700" spc="-1" strike="noStrike">
                <a:solidFill>
                  <a:srgbClr val="000000"/>
                </a:solidFill>
                <a:latin typeface="Calibri"/>
              </a:rPr>
              <a:t>？（得数保留两位小数）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431640" y="3068640"/>
            <a:ext cx="871236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解：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9.42×9.42+3.14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9.42÷3.14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÷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）</a:t>
            </a:r>
            <a:r>
              <a:rPr b="0" lang="en-US" sz="32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×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=88.728+14.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≈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02.86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（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m</a:t>
            </a:r>
            <a:r>
              <a:rPr b="0" lang="en-US" sz="32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答：这个圆柱体的表面积是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02.86 cm</a:t>
            </a:r>
            <a:r>
              <a:rPr b="0" lang="en-US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AutoShape 5"/>
          <p:cNvSpPr/>
          <p:nvPr/>
        </p:nvSpPr>
        <p:spPr>
          <a:xfrm>
            <a:off x="7524720" y="5950080"/>
            <a:ext cx="1079640" cy="503280"/>
          </a:xfrm>
          <a:custGeom>
            <a:avLst/>
            <a:gdLst>
              <a:gd name="textAreaLeft" fmla="*/ 32400 w 1079640"/>
              <a:gd name="textAreaRight" fmla="*/ 1047240 w 1079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19" h="21600">
                <a:moveTo>
                  <a:pt x="0" y="0"/>
                </a:moveTo>
                <a:lnTo>
                  <a:pt x="46319" y="0"/>
                </a:lnTo>
                <a:lnTo>
                  <a:pt x="46319" y="21600"/>
                </a:lnTo>
                <a:lnTo>
                  <a:pt x="0" y="21600"/>
                </a:lnTo>
                <a:close/>
              </a:path>
              <a:path fill="lightenLess" w="46319" h="21600">
                <a:moveTo>
                  <a:pt x="0" y="0"/>
                </a:moveTo>
                <a:lnTo>
                  <a:pt x="46319" y="0"/>
                </a:lnTo>
                <a:lnTo>
                  <a:pt x="44919" y="1400"/>
                </a:lnTo>
                <a:lnTo>
                  <a:pt x="1400" y="1400"/>
                </a:lnTo>
                <a:close/>
              </a:path>
              <a:path fill="darken" w="46319" h="21600">
                <a:moveTo>
                  <a:pt x="46319" y="0"/>
                </a:moveTo>
                <a:lnTo>
                  <a:pt x="46319" y="21600"/>
                </a:lnTo>
                <a:lnTo>
                  <a:pt x="44919" y="20200"/>
                </a:lnTo>
                <a:lnTo>
                  <a:pt x="44919" y="1400"/>
                </a:lnTo>
                <a:close/>
              </a:path>
              <a:path fill="darkenLess" w="46319" h="21600">
                <a:moveTo>
                  <a:pt x="46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19" y="20200"/>
                </a:lnTo>
                <a:close/>
              </a:path>
              <a:path fill="lighten" w="46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19" h="21600">
                <a:moveTo>
                  <a:pt x="16153" y="3794"/>
                </a:moveTo>
                <a:lnTo>
                  <a:pt x="30166" y="10800"/>
                </a:lnTo>
                <a:lnTo>
                  <a:pt x="16153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395280" y="26028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隶书"/>
              </a:rPr>
              <a:t>挑战自我：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50920" y="-2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ff3300"/>
                </a:solidFill>
                <a:latin typeface="Calibri"/>
                <a:ea typeface="隶书"/>
              </a:rPr>
              <a:t>挑战自我：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468360" y="3933720"/>
            <a:ext cx="8207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6"/>
          <p:cNvSpPr/>
          <p:nvPr/>
        </p:nvSpPr>
        <p:spPr>
          <a:xfrm>
            <a:off x="611280" y="98100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一个圆柱体的侧面积是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72</a:t>
            </a:r>
            <a:r>
              <a:rPr b="0" lang="en-US" sz="5400" spc="-1" strike="noStrike">
                <a:solidFill>
                  <a:srgbClr val="ff0000"/>
                </a:solidFill>
                <a:latin typeface="Calibri"/>
              </a:rPr>
              <a:t>π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cm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底面半径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4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它的高是多少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 Box 7"/>
          <p:cNvSpPr/>
          <p:nvPr/>
        </p:nvSpPr>
        <p:spPr>
          <a:xfrm>
            <a:off x="1403280" y="2565360"/>
            <a:ext cx="684072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解：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72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π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÷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2×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π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×4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=72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π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÷8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π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=9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cm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答：它的高是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9 cm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2"/>
          <p:cNvSpPr/>
          <p:nvPr/>
        </p:nvSpPr>
        <p:spPr>
          <a:xfrm>
            <a:off x="468360" y="43956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一个圆柱，底面周长是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94.2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厘米，高是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厘米，求它的侧面积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539640" y="378936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砌一个圆柱形沼气池，底面直径是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米，深是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米。在池的周围与底面抹上水泥，抹水泥部分的面积是多少平方米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1763640" y="981000"/>
            <a:ext cx="44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alibri"/>
              </a:rPr>
              <a:t>94.2×25=235.5</a:t>
            </a:r>
            <a:r>
              <a:rPr b="0" lang="zh-CN" sz="2400" spc="-1" strike="noStrike">
                <a:solidFill>
                  <a:srgbClr val="ff3300"/>
                </a:solidFill>
                <a:latin typeface="Calibri"/>
              </a:rPr>
              <a:t>（平方厘米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 Box 5"/>
          <p:cNvSpPr/>
          <p:nvPr/>
        </p:nvSpPr>
        <p:spPr>
          <a:xfrm>
            <a:off x="611280" y="162864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一个圆柱，底面直径是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分米，高是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分米，求它的表面积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971640" y="2133720"/>
            <a:ext cx="75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alibri"/>
              </a:rPr>
              <a:t>3.14×2×45+3.14×1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alibri"/>
              </a:rPr>
              <a:t>×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alibri"/>
              </a:rPr>
              <a:t>=282.6+6.2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alibri"/>
              </a:rPr>
              <a:t>=288.88</a:t>
            </a:r>
            <a:r>
              <a:rPr b="0" lang="zh-CN" sz="2400" spc="-1" strike="noStrike">
                <a:solidFill>
                  <a:srgbClr val="ff3300"/>
                </a:solidFill>
                <a:latin typeface="Calibri"/>
              </a:rPr>
              <a:t>（平方分米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 Box 7"/>
          <p:cNvSpPr/>
          <p:nvPr/>
        </p:nvSpPr>
        <p:spPr>
          <a:xfrm>
            <a:off x="755640" y="4365720"/>
            <a:ext cx="7561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alibri"/>
              </a:rPr>
              <a:t>3.14×4×2+3.14×2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alibri"/>
              </a:rPr>
              <a:t>=25.12+12.5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alibri"/>
              </a:rPr>
              <a:t>=37.68</a:t>
            </a:r>
            <a:r>
              <a:rPr b="0" lang="zh-CN" sz="2400" spc="-1" strike="noStrike">
                <a:solidFill>
                  <a:srgbClr val="ff3300"/>
                </a:solidFill>
                <a:latin typeface="Calibri"/>
              </a:rPr>
              <a:t>（平方米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Calibri"/>
              </a:rPr>
              <a:t>                   </a:t>
            </a:r>
            <a:r>
              <a:rPr b="0" lang="zh-CN" sz="2400" spc="-1" strike="noStrike">
                <a:solidFill>
                  <a:srgbClr val="ff3300"/>
                </a:solidFill>
                <a:latin typeface="Calibri"/>
              </a:rPr>
              <a:t>答：抹水泥的面积是</a:t>
            </a:r>
            <a:r>
              <a:rPr b="0" lang="en-US" sz="2400" spc="-1" strike="noStrike">
                <a:solidFill>
                  <a:srgbClr val="ff3300"/>
                </a:solidFill>
                <a:latin typeface="Calibri"/>
              </a:rPr>
              <a:t>37.68</a:t>
            </a:r>
            <a:r>
              <a:rPr b="0" lang="zh-CN" sz="2400" spc="-1" strike="noStrike">
                <a:solidFill>
                  <a:srgbClr val="ff3300"/>
                </a:solidFill>
                <a:latin typeface="Calibri"/>
              </a:rPr>
              <a:t>平方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5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Calibri"/>
              </a:rPr>
              <a:t>实践练习：测量并计算圆柱形（无盖）纸杯的用料面积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52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小组讨论、合作测量并计算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）要计算制做这个圆柱形物体的用料面积，求哪些面的面积？需要知道哪些数据？怎样测量这些数据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）测量所需的数据（取整厘米数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）根据量得的数据，列出算式并计算结果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0" name="Picture 4" descr="u=4049422849,786426539&amp;gp=14"/>
          <p:cNvPicPr/>
          <p:nvPr/>
        </p:nvPicPr>
        <p:blipFill>
          <a:blip r:embed="rId1"/>
          <a:stretch/>
        </p:blipFill>
        <p:spPr>
          <a:xfrm>
            <a:off x="6732720" y="907920"/>
            <a:ext cx="1726920" cy="1471680"/>
          </a:xfrm>
          <a:prstGeom prst="rect">
            <a:avLst/>
          </a:prstGeom>
          <a:ln w="0">
            <a:noFill/>
          </a:ln>
        </p:spPr>
      </p:pic>
      <p:sp>
        <p:nvSpPr>
          <p:cNvPr id="471" name="AutoShape 5">
            <a:hlinkClick r:id="" action="ppaction://hlinkshowjump?jump=firstslide"/>
          </p:cNvPr>
          <p:cNvSpPr/>
          <p:nvPr/>
        </p:nvSpPr>
        <p:spPr>
          <a:xfrm>
            <a:off x="8567640" y="6093000"/>
            <a:ext cx="576360" cy="765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65000"/>
              <a:gd name="textAreaBottom" fmla="*/ 727920 h 765000"/>
            </a:gdLst>
            <a:ahLst/>
            <a:rect l="textAreaLeft" t="textAreaTop" r="textAreaRight" b="textAreaBottom"/>
            <a:pathLst>
              <a:path w="21600" h="28665">
                <a:moveTo>
                  <a:pt x="0" y="0"/>
                </a:moveTo>
                <a:lnTo>
                  <a:pt x="21600" y="0"/>
                </a:lnTo>
                <a:lnTo>
                  <a:pt x="21600" y="28665"/>
                </a:lnTo>
                <a:lnTo>
                  <a:pt x="0" y="28665"/>
                </a:lnTo>
                <a:close/>
              </a:path>
              <a:path fill="lightenLess" w="21600" h="286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665">
                <a:moveTo>
                  <a:pt x="21600" y="0"/>
                </a:moveTo>
                <a:lnTo>
                  <a:pt x="21600" y="28665"/>
                </a:lnTo>
                <a:lnTo>
                  <a:pt x="20200" y="27265"/>
                </a:lnTo>
                <a:lnTo>
                  <a:pt x="20200" y="1400"/>
                </a:lnTo>
                <a:close/>
              </a:path>
              <a:path fill="darkenLess" w="21600" h="28665">
                <a:moveTo>
                  <a:pt x="21600" y="28665"/>
                </a:moveTo>
                <a:lnTo>
                  <a:pt x="0" y="28665"/>
                </a:lnTo>
                <a:lnTo>
                  <a:pt x="1400" y="27265"/>
                </a:lnTo>
                <a:lnTo>
                  <a:pt x="20200" y="27265"/>
                </a:lnTo>
                <a:close/>
              </a:path>
              <a:path fill="lighten" w="21600" h="28665">
                <a:moveTo>
                  <a:pt x="0" y="286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7265"/>
                </a:lnTo>
                <a:close/>
              </a:path>
              <a:path fill="darken" w="21600" h="28665">
                <a:moveTo>
                  <a:pt x="10800" y="7370"/>
                </a:moveTo>
                <a:lnTo>
                  <a:pt x="13376" y="9981"/>
                </a:lnTo>
                <a:lnTo>
                  <a:pt x="13376" y="8240"/>
                </a:lnTo>
                <a:lnTo>
                  <a:pt x="15152" y="8240"/>
                </a:lnTo>
                <a:lnTo>
                  <a:pt x="15152" y="11756"/>
                </a:lnTo>
                <a:lnTo>
                  <a:pt x="17763" y="14333"/>
                </a:lnTo>
                <a:lnTo>
                  <a:pt x="16109" y="14333"/>
                </a:lnTo>
                <a:lnTo>
                  <a:pt x="16109" y="21522"/>
                </a:lnTo>
                <a:lnTo>
                  <a:pt x="5491" y="21522"/>
                </a:lnTo>
                <a:lnTo>
                  <a:pt x="5491" y="14333"/>
                </a:lnTo>
                <a:lnTo>
                  <a:pt x="3837" y="14333"/>
                </a:lnTo>
                <a:close/>
              </a:path>
              <a:path fill="darkenLess" w="21600" h="28665">
                <a:moveTo>
                  <a:pt x="13376" y="9981"/>
                </a:moveTo>
                <a:lnTo>
                  <a:pt x="13376" y="8240"/>
                </a:lnTo>
                <a:lnTo>
                  <a:pt x="15152" y="8240"/>
                </a:lnTo>
                <a:lnTo>
                  <a:pt x="15152" y="11756"/>
                </a:lnTo>
                <a:close/>
              </a:path>
              <a:path fill="darkenLess" w="21600" h="28665">
                <a:moveTo>
                  <a:pt x="9877" y="17831"/>
                </a:moveTo>
                <a:lnTo>
                  <a:pt x="11723" y="17831"/>
                </a:lnTo>
                <a:lnTo>
                  <a:pt x="11723" y="21522"/>
                </a:lnTo>
                <a:lnTo>
                  <a:pt x="16109" y="21522"/>
                </a:lnTo>
                <a:lnTo>
                  <a:pt x="16109" y="14333"/>
                </a:lnTo>
                <a:lnTo>
                  <a:pt x="5491" y="14333"/>
                </a:lnTo>
                <a:lnTo>
                  <a:pt x="5491" y="21522"/>
                </a:lnTo>
                <a:lnTo>
                  <a:pt x="9877" y="215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思考题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我们家里常用的卫生卷纸是一个近似的圆柱，你能看出它的表面由哪些面组成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4" descr="u=1386111626,3578842896&amp;gp=40"/>
          <p:cNvPicPr/>
          <p:nvPr/>
        </p:nvPicPr>
        <p:blipFill>
          <a:blip r:embed="rId1"/>
          <a:srcRect l="0" t="19569" r="5587" b="10275"/>
          <a:stretch/>
        </p:blipFill>
        <p:spPr>
          <a:xfrm>
            <a:off x="4716360" y="4214880"/>
            <a:ext cx="3213360" cy="1785960"/>
          </a:xfrm>
          <a:prstGeom prst="rect">
            <a:avLst/>
          </a:prstGeom>
          <a:ln w="0">
            <a:noFill/>
          </a:ln>
        </p:spPr>
      </p:pic>
      <p:sp>
        <p:nvSpPr>
          <p:cNvPr id="475" name="AutoShape 6">
            <a:hlinkClick r:id="" action="ppaction://hlinkshowjump?jump=firstslide"/>
          </p:cNvPr>
          <p:cNvSpPr/>
          <p:nvPr/>
        </p:nvSpPr>
        <p:spPr>
          <a:xfrm>
            <a:off x="8567640" y="6093000"/>
            <a:ext cx="576360" cy="765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65000"/>
              <a:gd name="textAreaBottom" fmla="*/ 727920 h 765000"/>
            </a:gdLst>
            <a:ahLst/>
            <a:rect l="textAreaLeft" t="textAreaTop" r="textAreaRight" b="textAreaBottom"/>
            <a:pathLst>
              <a:path w="21600" h="28665">
                <a:moveTo>
                  <a:pt x="0" y="0"/>
                </a:moveTo>
                <a:lnTo>
                  <a:pt x="21600" y="0"/>
                </a:lnTo>
                <a:lnTo>
                  <a:pt x="21600" y="28665"/>
                </a:lnTo>
                <a:lnTo>
                  <a:pt x="0" y="28665"/>
                </a:lnTo>
                <a:close/>
              </a:path>
              <a:path fill="lightenLess" w="21600" h="286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665">
                <a:moveTo>
                  <a:pt x="21600" y="0"/>
                </a:moveTo>
                <a:lnTo>
                  <a:pt x="21600" y="28665"/>
                </a:lnTo>
                <a:lnTo>
                  <a:pt x="20200" y="27265"/>
                </a:lnTo>
                <a:lnTo>
                  <a:pt x="20200" y="1400"/>
                </a:lnTo>
                <a:close/>
              </a:path>
              <a:path fill="darkenLess" w="21600" h="28665">
                <a:moveTo>
                  <a:pt x="21600" y="28665"/>
                </a:moveTo>
                <a:lnTo>
                  <a:pt x="0" y="28665"/>
                </a:lnTo>
                <a:lnTo>
                  <a:pt x="1400" y="27265"/>
                </a:lnTo>
                <a:lnTo>
                  <a:pt x="20200" y="27265"/>
                </a:lnTo>
                <a:close/>
              </a:path>
              <a:path fill="lighten" w="21600" h="28665">
                <a:moveTo>
                  <a:pt x="0" y="286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7265"/>
                </a:lnTo>
                <a:close/>
              </a:path>
              <a:path fill="darken" w="21600" h="28665">
                <a:moveTo>
                  <a:pt x="10800" y="7370"/>
                </a:moveTo>
                <a:lnTo>
                  <a:pt x="13376" y="9981"/>
                </a:lnTo>
                <a:lnTo>
                  <a:pt x="13376" y="8240"/>
                </a:lnTo>
                <a:lnTo>
                  <a:pt x="15152" y="8240"/>
                </a:lnTo>
                <a:lnTo>
                  <a:pt x="15152" y="11756"/>
                </a:lnTo>
                <a:lnTo>
                  <a:pt x="17763" y="14333"/>
                </a:lnTo>
                <a:lnTo>
                  <a:pt x="16109" y="14333"/>
                </a:lnTo>
                <a:lnTo>
                  <a:pt x="16109" y="21522"/>
                </a:lnTo>
                <a:lnTo>
                  <a:pt x="5491" y="21522"/>
                </a:lnTo>
                <a:lnTo>
                  <a:pt x="5491" y="14333"/>
                </a:lnTo>
                <a:lnTo>
                  <a:pt x="3837" y="14333"/>
                </a:lnTo>
                <a:close/>
              </a:path>
              <a:path fill="darkenLess" w="21600" h="28665">
                <a:moveTo>
                  <a:pt x="13376" y="9981"/>
                </a:moveTo>
                <a:lnTo>
                  <a:pt x="13376" y="8240"/>
                </a:lnTo>
                <a:lnTo>
                  <a:pt x="15152" y="8240"/>
                </a:lnTo>
                <a:lnTo>
                  <a:pt x="15152" y="11756"/>
                </a:lnTo>
                <a:close/>
              </a:path>
              <a:path fill="darkenLess" w="21600" h="28665">
                <a:moveTo>
                  <a:pt x="9877" y="17831"/>
                </a:moveTo>
                <a:lnTo>
                  <a:pt x="11723" y="17831"/>
                </a:lnTo>
                <a:lnTo>
                  <a:pt x="11723" y="21522"/>
                </a:lnTo>
                <a:lnTo>
                  <a:pt x="16109" y="21522"/>
                </a:lnTo>
                <a:lnTo>
                  <a:pt x="16109" y="14333"/>
                </a:lnTo>
                <a:lnTo>
                  <a:pt x="5491" y="14333"/>
                </a:lnTo>
                <a:lnTo>
                  <a:pt x="5491" y="21522"/>
                </a:lnTo>
                <a:lnTo>
                  <a:pt x="9877" y="215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牢记下面的计算公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黑体"/>
              </a:rPr>
              <a:t>圆的周长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黑体"/>
              </a:rPr>
              <a:t>圆的面积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684360" y="2378520"/>
            <a:ext cx="57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  </a:t>
            </a: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C=πd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或</a:t>
            </a:r>
            <a:r>
              <a:rPr b="1" lang="zh-CN" sz="4400" spc="-1" strike="noStrike">
                <a:solidFill>
                  <a:srgbClr val="ff3300"/>
                </a:solidFill>
                <a:latin typeface="Calibri"/>
              </a:rPr>
              <a:t>   </a:t>
            </a: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C=2π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971640" y="39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S=πr</a:t>
            </a:r>
            <a:r>
              <a:rPr b="1" lang="en-US" sz="4400" spc="-1" strike="noStrike" baseline="30000">
                <a:solidFill>
                  <a:srgbClr val="ff33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6">
            <a:hlinkClick r:id="" action="ppaction://hlinkshowjump?jump=firstslide"/>
          </p:cNvPr>
          <p:cNvSpPr/>
          <p:nvPr/>
        </p:nvSpPr>
        <p:spPr>
          <a:xfrm>
            <a:off x="8567640" y="6093000"/>
            <a:ext cx="576360" cy="765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65000"/>
              <a:gd name="textAreaBottom" fmla="*/ 727920 h 765000"/>
            </a:gdLst>
            <a:ahLst/>
            <a:rect l="textAreaLeft" t="textAreaTop" r="textAreaRight" b="textAreaBottom"/>
            <a:pathLst>
              <a:path w="21600" h="28665">
                <a:moveTo>
                  <a:pt x="0" y="0"/>
                </a:moveTo>
                <a:lnTo>
                  <a:pt x="21600" y="0"/>
                </a:lnTo>
                <a:lnTo>
                  <a:pt x="21600" y="28665"/>
                </a:lnTo>
                <a:lnTo>
                  <a:pt x="0" y="28665"/>
                </a:lnTo>
                <a:close/>
              </a:path>
              <a:path fill="lightenLess" w="21600" h="286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665">
                <a:moveTo>
                  <a:pt x="21600" y="0"/>
                </a:moveTo>
                <a:lnTo>
                  <a:pt x="21600" y="28665"/>
                </a:lnTo>
                <a:lnTo>
                  <a:pt x="20200" y="27265"/>
                </a:lnTo>
                <a:lnTo>
                  <a:pt x="20200" y="1400"/>
                </a:lnTo>
                <a:close/>
              </a:path>
              <a:path fill="darkenLess" w="21600" h="28665">
                <a:moveTo>
                  <a:pt x="21600" y="28665"/>
                </a:moveTo>
                <a:lnTo>
                  <a:pt x="0" y="28665"/>
                </a:lnTo>
                <a:lnTo>
                  <a:pt x="1400" y="27265"/>
                </a:lnTo>
                <a:lnTo>
                  <a:pt x="20200" y="27265"/>
                </a:lnTo>
                <a:close/>
              </a:path>
              <a:path fill="lighten" w="21600" h="28665">
                <a:moveTo>
                  <a:pt x="0" y="286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7265"/>
                </a:lnTo>
                <a:close/>
              </a:path>
              <a:path fill="darken" w="21600" h="28665">
                <a:moveTo>
                  <a:pt x="10800" y="7370"/>
                </a:moveTo>
                <a:lnTo>
                  <a:pt x="13376" y="9981"/>
                </a:lnTo>
                <a:lnTo>
                  <a:pt x="13376" y="8240"/>
                </a:lnTo>
                <a:lnTo>
                  <a:pt x="15152" y="8240"/>
                </a:lnTo>
                <a:lnTo>
                  <a:pt x="15152" y="11756"/>
                </a:lnTo>
                <a:lnTo>
                  <a:pt x="17763" y="14333"/>
                </a:lnTo>
                <a:lnTo>
                  <a:pt x="16109" y="14333"/>
                </a:lnTo>
                <a:lnTo>
                  <a:pt x="16109" y="21522"/>
                </a:lnTo>
                <a:lnTo>
                  <a:pt x="5491" y="21522"/>
                </a:lnTo>
                <a:lnTo>
                  <a:pt x="5491" y="14333"/>
                </a:lnTo>
                <a:lnTo>
                  <a:pt x="3837" y="14333"/>
                </a:lnTo>
                <a:close/>
              </a:path>
              <a:path fill="darkenLess" w="21600" h="28665">
                <a:moveTo>
                  <a:pt x="13376" y="9981"/>
                </a:moveTo>
                <a:lnTo>
                  <a:pt x="13376" y="8240"/>
                </a:lnTo>
                <a:lnTo>
                  <a:pt x="15152" y="8240"/>
                </a:lnTo>
                <a:lnTo>
                  <a:pt x="15152" y="11756"/>
                </a:lnTo>
                <a:close/>
              </a:path>
              <a:path fill="darkenLess" w="21600" h="28665">
                <a:moveTo>
                  <a:pt x="9877" y="17831"/>
                </a:moveTo>
                <a:lnTo>
                  <a:pt x="11723" y="17831"/>
                </a:lnTo>
                <a:lnTo>
                  <a:pt x="11723" y="21522"/>
                </a:lnTo>
                <a:lnTo>
                  <a:pt x="16109" y="21522"/>
                </a:lnTo>
                <a:lnTo>
                  <a:pt x="16109" y="14333"/>
                </a:lnTo>
                <a:lnTo>
                  <a:pt x="5491" y="14333"/>
                </a:lnTo>
                <a:lnTo>
                  <a:pt x="5491" y="21522"/>
                </a:lnTo>
                <a:lnTo>
                  <a:pt x="9877" y="215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4"/>
          <p:cNvSpPr/>
          <p:nvPr/>
        </p:nvSpPr>
        <p:spPr>
          <a:xfrm>
            <a:off x="1332000" y="141300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Calibri"/>
                <a:ea typeface="隶书"/>
              </a:rPr>
              <a:t>应用本节课你所学到的知识，结合生活中实际问题，能否编写一道你认为合理的应用题并与同学交流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3120" y="632880"/>
            <a:ext cx="8229600" cy="1140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隶书"/>
              </a:rPr>
              <a:t>创新与实践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谈谈收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通过今天的学习，你有什么收获？你还有什么数学问题？同学们相互交流一下吧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1692360" y="1628640"/>
          <a:ext cx="312408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628640"/>
                    <a:ext cx="312408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Line 3"/>
          <p:cNvSpPr/>
          <p:nvPr/>
        </p:nvSpPr>
        <p:spPr>
          <a:xfrm flipV="1">
            <a:off x="4206960" y="239076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Line 4"/>
          <p:cNvSpPr/>
          <p:nvPr/>
        </p:nvSpPr>
        <p:spPr>
          <a:xfrm>
            <a:off x="3216240" y="2543040"/>
            <a:ext cx="0" cy="281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WordArt 5"/>
          <p:cNvSpPr txBox="1"/>
          <p:nvPr/>
        </p:nvSpPr>
        <p:spPr>
          <a:xfrm>
            <a:off x="2835360" y="2619360"/>
            <a:ext cx="22860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6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仿宋_GB2312"/>
              </a:rPr>
              <a:t>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仿宋_GB2312"/>
              <a:ea typeface="仿宋_GB2312"/>
            </a:endParaRPr>
          </a:p>
        </p:txBody>
      </p:sp>
      <p:sp>
        <p:nvSpPr>
          <p:cNvPr id="67" name="WordArt 6"/>
          <p:cNvSpPr txBox="1"/>
          <p:nvPr/>
        </p:nvSpPr>
        <p:spPr>
          <a:xfrm>
            <a:off x="2835360" y="5133960"/>
            <a:ext cx="22860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6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仿宋_GB2312"/>
              </a:rPr>
              <a:t>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仿宋_GB2312"/>
              <a:ea typeface="仿宋_GB2312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2759040" y="19335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底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2759040" y="52862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底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Group 9"/>
          <p:cNvGrpSpPr/>
          <p:nvPr/>
        </p:nvGrpSpPr>
        <p:grpSpPr>
          <a:xfrm>
            <a:off x="4359240" y="2467080"/>
            <a:ext cx="1190520" cy="2935080"/>
            <a:chOff x="4359240" y="2467080"/>
            <a:chExt cx="1190520" cy="2935080"/>
          </a:xfrm>
        </p:grpSpPr>
        <p:sp>
          <p:nvSpPr>
            <p:cNvPr id="71" name="Line 10"/>
            <p:cNvSpPr/>
            <p:nvPr/>
          </p:nvSpPr>
          <p:spPr>
            <a:xfrm flipH="1" flipV="1">
              <a:off x="5044680" y="2467080"/>
              <a:ext cx="1800" cy="121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Line 11"/>
            <p:cNvSpPr/>
            <p:nvPr/>
          </p:nvSpPr>
          <p:spPr>
            <a:xfrm>
              <a:off x="5045040" y="4143240"/>
              <a:ext cx="180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Line 12"/>
            <p:cNvSpPr/>
            <p:nvPr/>
          </p:nvSpPr>
          <p:spPr>
            <a:xfrm>
              <a:off x="4359240" y="24670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4406760" y="5400720"/>
              <a:ext cx="1143000" cy="14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 Box 14"/>
            <p:cNvSpPr/>
            <p:nvPr/>
          </p:nvSpPr>
          <p:spPr>
            <a:xfrm>
              <a:off x="4740120" y="36100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Text Box 15"/>
          <p:cNvSpPr/>
          <p:nvPr/>
        </p:nvSpPr>
        <p:spPr>
          <a:xfrm>
            <a:off x="2073240" y="3533760"/>
            <a:ext cx="533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16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1f497d"/>
                </a:solidFill>
                <a:latin typeface="Garamond"/>
              </a:rPr>
              <a:t>圆柱的各部分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17">
            <a:hlinkClick r:id="" action="ppaction://hlinkshowjump?jump=firstslide"/>
          </p:cNvPr>
          <p:cNvSpPr/>
          <p:nvPr/>
        </p:nvSpPr>
        <p:spPr>
          <a:xfrm>
            <a:off x="8567640" y="6093000"/>
            <a:ext cx="576360" cy="765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65000"/>
              <a:gd name="textAreaBottom" fmla="*/ 727920 h 765000"/>
            </a:gdLst>
            <a:ahLst/>
            <a:rect l="textAreaLeft" t="textAreaTop" r="textAreaRight" b="textAreaBottom"/>
            <a:pathLst>
              <a:path w="21600" h="28665">
                <a:moveTo>
                  <a:pt x="0" y="0"/>
                </a:moveTo>
                <a:lnTo>
                  <a:pt x="21600" y="0"/>
                </a:lnTo>
                <a:lnTo>
                  <a:pt x="21600" y="28665"/>
                </a:lnTo>
                <a:lnTo>
                  <a:pt x="0" y="28665"/>
                </a:lnTo>
                <a:close/>
              </a:path>
              <a:path fill="lightenLess" w="21600" h="286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665">
                <a:moveTo>
                  <a:pt x="21600" y="0"/>
                </a:moveTo>
                <a:lnTo>
                  <a:pt x="21600" y="28665"/>
                </a:lnTo>
                <a:lnTo>
                  <a:pt x="20200" y="27265"/>
                </a:lnTo>
                <a:lnTo>
                  <a:pt x="20200" y="1400"/>
                </a:lnTo>
                <a:close/>
              </a:path>
              <a:path fill="darkenLess" w="21600" h="28665">
                <a:moveTo>
                  <a:pt x="21600" y="28665"/>
                </a:moveTo>
                <a:lnTo>
                  <a:pt x="0" y="28665"/>
                </a:lnTo>
                <a:lnTo>
                  <a:pt x="1400" y="27265"/>
                </a:lnTo>
                <a:lnTo>
                  <a:pt x="20200" y="27265"/>
                </a:lnTo>
                <a:close/>
              </a:path>
              <a:path fill="lighten" w="21600" h="28665">
                <a:moveTo>
                  <a:pt x="0" y="286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7265"/>
                </a:lnTo>
                <a:close/>
              </a:path>
              <a:path fill="darken" w="21600" h="28665">
                <a:moveTo>
                  <a:pt x="10800" y="7370"/>
                </a:moveTo>
                <a:lnTo>
                  <a:pt x="13376" y="9981"/>
                </a:lnTo>
                <a:lnTo>
                  <a:pt x="13376" y="8240"/>
                </a:lnTo>
                <a:lnTo>
                  <a:pt x="15152" y="8240"/>
                </a:lnTo>
                <a:lnTo>
                  <a:pt x="15152" y="11756"/>
                </a:lnTo>
                <a:lnTo>
                  <a:pt x="17763" y="14333"/>
                </a:lnTo>
                <a:lnTo>
                  <a:pt x="16109" y="14333"/>
                </a:lnTo>
                <a:lnTo>
                  <a:pt x="16109" y="21522"/>
                </a:lnTo>
                <a:lnTo>
                  <a:pt x="5491" y="21522"/>
                </a:lnTo>
                <a:lnTo>
                  <a:pt x="5491" y="14333"/>
                </a:lnTo>
                <a:lnTo>
                  <a:pt x="3837" y="14333"/>
                </a:lnTo>
                <a:close/>
              </a:path>
              <a:path fill="darkenLess" w="21600" h="28665">
                <a:moveTo>
                  <a:pt x="13376" y="9981"/>
                </a:moveTo>
                <a:lnTo>
                  <a:pt x="13376" y="8240"/>
                </a:lnTo>
                <a:lnTo>
                  <a:pt x="15152" y="8240"/>
                </a:lnTo>
                <a:lnTo>
                  <a:pt x="15152" y="11756"/>
                </a:lnTo>
                <a:close/>
              </a:path>
              <a:path fill="darkenLess" w="21600" h="28665">
                <a:moveTo>
                  <a:pt x="9877" y="17831"/>
                </a:moveTo>
                <a:lnTo>
                  <a:pt x="11723" y="17831"/>
                </a:lnTo>
                <a:lnTo>
                  <a:pt x="11723" y="21522"/>
                </a:lnTo>
                <a:lnTo>
                  <a:pt x="16109" y="21522"/>
                </a:lnTo>
                <a:lnTo>
                  <a:pt x="16109" y="14333"/>
                </a:lnTo>
                <a:lnTo>
                  <a:pt x="5491" y="14333"/>
                </a:lnTo>
                <a:lnTo>
                  <a:pt x="5491" y="21522"/>
                </a:lnTo>
                <a:lnTo>
                  <a:pt x="9877" y="215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图片146236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5"/>
          <p:cNvGrpSpPr/>
          <p:nvPr/>
        </p:nvGrpSpPr>
        <p:grpSpPr>
          <a:xfrm>
            <a:off x="3030480" y="3519360"/>
            <a:ext cx="1796760" cy="2265480"/>
            <a:chOff x="3030480" y="3519360"/>
            <a:chExt cx="1796760" cy="2265480"/>
          </a:xfrm>
        </p:grpSpPr>
        <p:graphicFrame>
          <p:nvGraphicFramePr>
            <p:cNvPr id="81" name="Object 6"/>
            <p:cNvGraphicFramePr/>
            <p:nvPr/>
          </p:nvGraphicFramePr>
          <p:xfrm>
            <a:off x="3030480" y="3519360"/>
            <a:ext cx="1544400" cy="2265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2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30480" y="3519360"/>
                      <a:ext cx="1544400" cy="226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" name="WordArt 7"/>
            <p:cNvSpPr txBox="1"/>
            <p:nvPr/>
          </p:nvSpPr>
          <p:spPr>
            <a:xfrm>
              <a:off x="4543560" y="4624560"/>
              <a:ext cx="283680" cy="289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3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84" name="WordArt 8"/>
            <p:cNvSpPr txBox="1"/>
            <p:nvPr/>
          </p:nvSpPr>
          <p:spPr>
            <a:xfrm>
              <a:off x="3692520" y="3610080"/>
              <a:ext cx="188640" cy="21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1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85" name="WordArt 9"/>
            <p:cNvSpPr txBox="1"/>
            <p:nvPr/>
          </p:nvSpPr>
          <p:spPr>
            <a:xfrm>
              <a:off x="3692520" y="5421960"/>
              <a:ext cx="188640" cy="21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1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86" name="Text Box 10"/>
          <p:cNvSpPr/>
          <p:nvPr/>
        </p:nvSpPr>
        <p:spPr>
          <a:xfrm>
            <a:off x="1198440" y="1898640"/>
            <a:ext cx="66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做一个圆柱形纸盒，至少需要用多大面积的纸板？（接口处不计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642960" y="155592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Calibri"/>
                <a:ea typeface="楷体_GB2312"/>
              </a:rPr>
              <a:t>这是要求圆柱的表面积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998960" y="898560"/>
            <a:ext cx="3643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Calibri"/>
                <a:ea typeface="楷体_GB2312"/>
              </a:rPr>
              <a:t>圆柱的底面积容易求，圆柱的侧面积怎么求呢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2"/>
          <p:cNvSpPr/>
          <p:nvPr/>
        </p:nvSpPr>
        <p:spPr>
          <a:xfrm>
            <a:off x="250920" y="1700280"/>
            <a:ext cx="2808360" cy="30240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324000" y="765000"/>
            <a:ext cx="2808000" cy="648000"/>
          </a:xfrm>
          <a:custGeom>
            <a:avLst/>
            <a:gdLst>
              <a:gd name="textAreaLeft" fmla="*/ 0 w 2808000"/>
              <a:gd name="textAreaRight" fmla="*/ 2808360 w 2808000"/>
              <a:gd name="textAreaTop" fmla="*/ 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u=1099516015,270753660&amp;fm=0&amp;gp=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846440"/>
            <a:ext cx="2519280" cy="27349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3203640" y="549360"/>
            <a:ext cx="5545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现在有一个罐头厂计划用铁皮制作一批底面半径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厘米，高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厘米的圆柱形罐头盒。你能不能帮厂长算一算制作一个至少需要多少平方厘米铁皮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324000" y="76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实 际 问 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24T22:53:54Z</dcterms:created>
  <dc:creator>User</dc:creator>
  <dc:description/>
  <dc:language>en-US</dc:language>
  <cp:lastModifiedBy>User</cp:lastModifiedBy>
  <dcterms:modified xsi:type="dcterms:W3CDTF">2017-08-24T22:54:05Z</dcterms:modified>
  <cp:revision>1</cp:revision>
  <dc:subject/>
  <dc:title>幻灯片 1</dc:title>
</cp:coreProperties>
</file>