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7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137200" y="577800"/>
            <a:ext cx="351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第一单元     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BS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4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6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66560" y="1339920"/>
            <a:ext cx="815364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面的旋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与圆锥的形成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8538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的立体图形按如图所示的方式切开，想一想切开后的面分别是什么形状，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41600" y="2859120"/>
            <a:ext cx="5860800" cy="2955960"/>
          </a:xfrm>
          <a:prstGeom prst="rect">
            <a:avLst/>
          </a:prstGeom>
          <a:ln w="0">
            <a:noFill/>
          </a:ln>
        </p:spPr>
      </p:pic>
      <p:sp>
        <p:nvSpPr>
          <p:cNvPr id="153" name="直接连接符 2"/>
          <p:cNvSpPr/>
          <p:nvPr/>
        </p:nvSpPr>
        <p:spPr>
          <a:xfrm>
            <a:off x="2556000" y="4076640"/>
            <a:ext cx="1368360" cy="9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"/>
          <p:cNvSpPr/>
          <p:nvPr/>
        </p:nvSpPr>
        <p:spPr>
          <a:xfrm flipH="1">
            <a:off x="2411280" y="4076640"/>
            <a:ext cx="2081520" cy="9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7"/>
          <p:cNvSpPr/>
          <p:nvPr/>
        </p:nvSpPr>
        <p:spPr>
          <a:xfrm flipH="1">
            <a:off x="5403960" y="4076640"/>
            <a:ext cx="1689120" cy="9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9"/>
          <p:cNvSpPr/>
          <p:nvPr/>
        </p:nvSpPr>
        <p:spPr>
          <a:xfrm>
            <a:off x="5973840" y="4076640"/>
            <a:ext cx="974520" cy="792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圆锥的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沿着圆锥的高把它切成两半，得到的两个切面是什么形状？一个切面的面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"/>
          <p:cNvSpPr/>
          <p:nvPr/>
        </p:nvSpPr>
        <p:spPr>
          <a:xfrm>
            <a:off x="2212920" y="3438360"/>
            <a:ext cx="47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得到的两个切面是等腰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×2)×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个切面的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927000" y="19335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一张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7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方形卷成一个圆柱，当圆柱的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圆柱的底面半径是多少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63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矩形 7"/>
          <p:cNvSpPr/>
          <p:nvPr/>
        </p:nvSpPr>
        <p:spPr>
          <a:xfrm>
            <a:off x="2360520" y="3933720"/>
            <a:ext cx="56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.7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5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圆柱的底面半径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92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"/>
          <p:cNvSpPr/>
          <p:nvPr/>
        </p:nvSpPr>
        <p:spPr>
          <a:xfrm>
            <a:off x="1233360" y="2136600"/>
            <a:ext cx="693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平面图形的旋转想象立体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立体图形想象平面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观察法解决“嵌入”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932040" y="19670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上面一排图形旋转后会得到下面的哪个图形？想一想，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98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11" descr="BS5"/>
          <p:cNvPicPr/>
          <p:nvPr/>
        </p:nvPicPr>
        <p:blipFill>
          <a:blip r:embed="rId2"/>
          <a:stretch/>
        </p:blipFill>
        <p:spPr>
          <a:xfrm>
            <a:off x="2138400" y="3097080"/>
            <a:ext cx="4867200" cy="3135600"/>
          </a:xfrm>
          <a:prstGeom prst="rect">
            <a:avLst/>
          </a:prstGeom>
          <a:ln w="0">
            <a:noFill/>
          </a:ln>
        </p:spPr>
      </p:pic>
      <p:sp>
        <p:nvSpPr>
          <p:cNvPr id="102" name="直接连接符 11"/>
          <p:cNvSpPr/>
          <p:nvPr/>
        </p:nvSpPr>
        <p:spPr>
          <a:xfrm>
            <a:off x="2386080" y="4459320"/>
            <a:ext cx="2833560" cy="841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>
            <a:off x="3851280" y="4365720"/>
            <a:ext cx="0" cy="841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5"/>
          <p:cNvSpPr/>
          <p:nvPr/>
        </p:nvSpPr>
        <p:spPr>
          <a:xfrm>
            <a:off x="5249880" y="4427640"/>
            <a:ext cx="1409760" cy="7794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7"/>
          <p:cNvSpPr/>
          <p:nvPr/>
        </p:nvSpPr>
        <p:spPr>
          <a:xfrm flipH="1">
            <a:off x="2385720" y="4459320"/>
            <a:ext cx="4265640" cy="7794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立体图形是由怎样的平面图形旋转而成的？请画出平面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EF86"/>
          <p:cNvPicPr/>
          <p:nvPr/>
        </p:nvPicPr>
        <p:blipFill>
          <a:blip r:embed="rId1"/>
          <a:stretch/>
        </p:blipFill>
        <p:spPr>
          <a:xfrm>
            <a:off x="6796080" y="2492280"/>
            <a:ext cx="1403280" cy="217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3780000" y="3355920"/>
            <a:ext cx="1238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物体既能嵌入甲图中的空洞，又能嵌入乙图中的空洞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LXBS6"/>
          <p:cNvPicPr/>
          <p:nvPr/>
        </p:nvPicPr>
        <p:blipFill>
          <a:blip r:embed="rId1"/>
          <a:stretch/>
        </p:blipFill>
        <p:spPr>
          <a:xfrm>
            <a:off x="2098800" y="3213000"/>
            <a:ext cx="4929120" cy="2737080"/>
          </a:xfrm>
          <a:prstGeom prst="rect">
            <a:avLst/>
          </a:prstGeom>
          <a:ln w="0">
            <a:noFill/>
          </a:ln>
        </p:spPr>
      </p:pic>
      <p:sp>
        <p:nvSpPr>
          <p:cNvPr id="111" name="矩形 3"/>
          <p:cNvSpPr/>
          <p:nvPr/>
        </p:nvSpPr>
        <p:spPr>
          <a:xfrm>
            <a:off x="3903840" y="21654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927000" y="193356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右面的立体图形是由一个平面图形绕着它的对称轴旋转而成的，请画出这个平面图形及它的对称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14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BS8"/>
          <p:cNvPicPr/>
          <p:nvPr/>
        </p:nvPicPr>
        <p:blipFill>
          <a:blip r:embed="rId2"/>
          <a:stretch/>
        </p:blipFill>
        <p:spPr>
          <a:xfrm>
            <a:off x="6948360" y="3336840"/>
            <a:ext cx="10558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076640" y="3164040"/>
            <a:ext cx="9889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21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137200" y="577800"/>
            <a:ext cx="351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第一单元     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BS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1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2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33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34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495360" y="1347840"/>
            <a:ext cx="81532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面的旋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与圆锥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38538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138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"/>
          <p:cNvSpPr/>
          <p:nvPr/>
        </p:nvSpPr>
        <p:spPr>
          <a:xfrm>
            <a:off x="1233360" y="2136600"/>
            <a:ext cx="693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利用圆柱的底面直径和高解决生活中的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圆柱和圆锥的切割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认识圆锥沿高截开的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932040" y="1844640"/>
            <a:ext cx="72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某种饮料罐的形状为圆柱形，底面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这种饮料放在纸箱里，每排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，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，放上、下两层，刚刚放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这个箱子内部的长、宽、高分别是多少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4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0" descr="BS6"/>
          <p:cNvPicPr/>
          <p:nvPr/>
        </p:nvPicPr>
        <p:blipFill>
          <a:blip r:embed="rId2"/>
          <a:stretch/>
        </p:blipFill>
        <p:spPr>
          <a:xfrm>
            <a:off x="6804000" y="4205160"/>
            <a:ext cx="1057320" cy="1373400"/>
          </a:xfrm>
          <a:prstGeom prst="rect">
            <a:avLst/>
          </a:prstGeom>
          <a:ln w="0">
            <a:noFill/>
          </a:ln>
        </p:spPr>
      </p:pic>
      <p:sp>
        <p:nvSpPr>
          <p:cNvPr id="149" name="矩形 2"/>
          <p:cNvSpPr/>
          <p:nvPr/>
        </p:nvSpPr>
        <p:spPr>
          <a:xfrm>
            <a:off x="1422360" y="4011480"/>
            <a:ext cx="551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.5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.5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.5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箱子内部的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.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相忘于江湖</cp:lastModifiedBy>
  <dcterms:modified xsi:type="dcterms:W3CDTF">2018-01-07T16:27:35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