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png" ContentType="image/png"/>
  <Override PartName="/ppt/media/image5.png" ContentType="image/png"/>
  <Override PartName="/ppt/media/image2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6004-7FE3-48AA-8A4A-61A60375734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BBF8-6407-4114-B24B-62DCA59639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117D-6B0B-4792-9AEB-6B3E49AC36E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6042-DBBA-4B30-AD07-997488809C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2.wmf"/><Relationship Id="rId6" Type="http://schemas.openxmlformats.org/officeDocument/2006/relationships/image" Target="../media/image14.wmf"/><Relationship Id="rId7" Type="http://schemas.openxmlformats.org/officeDocument/2006/relationships/image" Target="../media/image16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79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5137200" y="577800"/>
            <a:ext cx="3510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第一单元      圆柱与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84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BS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8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9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0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1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92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826920" y="1433520"/>
            <a:ext cx="74901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圆锥的体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385380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96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"/>
          <p:cNvSpPr/>
          <p:nvPr/>
        </p:nvSpPr>
        <p:spPr>
          <a:xfrm>
            <a:off x="1233360" y="2136600"/>
            <a:ext cx="693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利用圆柱和圆锥的体积关系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利用“等积变形”的数学思想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正方体体积与圆锥体积的综合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求平面图形旋转后所成的立体图形的体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932040" y="1967040"/>
            <a:ext cx="72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有一根底面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圆柱形钢材，要把它削成与它等底等高的圆锥形零件。要削去多少立方厘米钢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03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组合 4"/>
          <p:cNvGrpSpPr/>
          <p:nvPr/>
        </p:nvGrpSpPr>
        <p:grpSpPr>
          <a:xfrm>
            <a:off x="1692360" y="4041720"/>
            <a:ext cx="5759280" cy="1191240"/>
            <a:chOff x="1692360" y="4041720"/>
            <a:chExt cx="5759280" cy="1191240"/>
          </a:xfrm>
        </p:grpSpPr>
        <p:pic>
          <p:nvPicPr>
            <p:cNvPr id="107" name="对象 2" descr=""/>
            <p:cNvPicPr/>
            <p:nvPr/>
          </p:nvPicPr>
          <p:blipFill>
            <a:blip r:embed="rId2"/>
            <a:stretch/>
          </p:blipFill>
          <p:spPr>
            <a:xfrm>
              <a:off x="1869840" y="4047480"/>
              <a:ext cx="82980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矩形 3"/>
            <p:cNvSpPr/>
            <p:nvPr/>
          </p:nvSpPr>
          <p:spPr>
            <a:xfrm>
              <a:off x="1692360" y="4041720"/>
              <a:ext cx="575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3.14×(6÷2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1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82.6(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答：要削去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82.6 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的钢材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927000" y="16002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一个底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14 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d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圆柱形铁块熔铸成一个底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.84 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圆锥，这个圆锥的高是多少分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2143080" y="3429000"/>
            <a:ext cx="484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14×9×3÷18.8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5(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个圆锥的高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5 d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927000" y="16002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个圆锥形沙堆，底面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56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8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将这堆沙子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宽的公路上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厚，能铺多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4"/>
          <p:cNvGrpSpPr/>
          <p:nvPr/>
        </p:nvGrpSpPr>
        <p:grpSpPr>
          <a:xfrm>
            <a:off x="1692360" y="3452760"/>
            <a:ext cx="6696000" cy="2288520"/>
            <a:chOff x="1692360" y="3452760"/>
            <a:chExt cx="6696000" cy="2288520"/>
          </a:xfrm>
        </p:grpSpPr>
        <p:pic>
          <p:nvPicPr>
            <p:cNvPr id="115" name="对象 1" descr=""/>
            <p:cNvPicPr/>
            <p:nvPr/>
          </p:nvPicPr>
          <p:blipFill>
            <a:blip r:embed="rId1"/>
            <a:stretch/>
          </p:blipFill>
          <p:spPr>
            <a:xfrm>
              <a:off x="1812600" y="4027680"/>
              <a:ext cx="2286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2"/>
            <p:cNvSpPr/>
            <p:nvPr/>
          </p:nvSpPr>
          <p:spPr>
            <a:xfrm>
              <a:off x="1692360" y="3452760"/>
              <a:ext cx="6696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2.56÷3.14÷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3.14×2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4.8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.096 (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 c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.02 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.096÷(10×0.02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0.48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答：能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0.48 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图片 45" descr="枫叶副本.gif"/>
          <p:cNvPicPr/>
          <p:nvPr/>
        </p:nvPicPr>
        <p:blipFill>
          <a:blip r:embed="rId2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927000" y="1600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一个正方体木块削成一个最大的圆锥。正方体木块的棱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d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被削去部分的体积是多少立方分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5"/>
          <p:cNvGrpSpPr/>
          <p:nvPr/>
        </p:nvGrpSpPr>
        <p:grpSpPr>
          <a:xfrm>
            <a:off x="1476360" y="3809880"/>
            <a:ext cx="6297480" cy="1191240"/>
            <a:chOff x="1476360" y="3809880"/>
            <a:chExt cx="6297480" cy="1191240"/>
          </a:xfrm>
        </p:grpSpPr>
        <p:pic>
          <p:nvPicPr>
            <p:cNvPr id="120" name="对象 2" descr=""/>
            <p:cNvPicPr/>
            <p:nvPr/>
          </p:nvPicPr>
          <p:blipFill>
            <a:blip r:embed="rId1"/>
            <a:stretch/>
          </p:blipFill>
          <p:spPr>
            <a:xfrm>
              <a:off x="2189160" y="3809880"/>
              <a:ext cx="2491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矩形 3"/>
            <p:cNvSpPr/>
            <p:nvPr/>
          </p:nvSpPr>
          <p:spPr>
            <a:xfrm>
              <a:off x="1476360" y="3809880"/>
              <a:ext cx="6297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3.14×(6÷2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59.48(d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答：被削去部分的体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59.48 d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图片 45" descr="枫叶副本.gif"/>
          <p:cNvPicPr/>
          <p:nvPr/>
        </p:nvPicPr>
        <p:blipFill>
          <a:blip r:embed="rId2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927000" y="1600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如图，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在的直线为轴，把这个梯形旋转一周，得到一个立体图形，它的体积是多少立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EF3"/>
          <p:cNvPicPr/>
          <p:nvPr/>
        </p:nvPicPr>
        <p:blipFill>
          <a:blip r:embed="rId1"/>
          <a:stretch/>
        </p:blipFill>
        <p:spPr>
          <a:xfrm>
            <a:off x="6516720" y="2708280"/>
            <a:ext cx="147492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3"/>
          <p:cNvGrpSpPr/>
          <p:nvPr/>
        </p:nvGrpSpPr>
        <p:grpSpPr>
          <a:xfrm>
            <a:off x="1432080" y="4869000"/>
            <a:ext cx="6956280" cy="1191240"/>
            <a:chOff x="1432080" y="4869000"/>
            <a:chExt cx="6956280" cy="1191240"/>
          </a:xfrm>
        </p:grpSpPr>
        <p:sp>
          <p:nvSpPr>
            <p:cNvPr id="126" name="矩形 2"/>
            <p:cNvSpPr/>
            <p:nvPr/>
          </p:nvSpPr>
          <p:spPr>
            <a:xfrm>
              <a:off x="1432080" y="4869000"/>
              <a:ext cx="6956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.14×3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3.14×3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×(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41.3(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答：它的体积是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41.3 cm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对象 6" descr=""/>
            <p:cNvPicPr/>
            <p:nvPr/>
          </p:nvPicPr>
          <p:blipFill>
            <a:blip r:embed="rId2"/>
            <a:stretch/>
          </p:blipFill>
          <p:spPr>
            <a:xfrm>
              <a:off x="3406680" y="4879800"/>
              <a:ext cx="24912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927000" y="1933560"/>
            <a:ext cx="7272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一个圆柱和一个圆锥的体积之和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30 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圆锥的高是圆柱高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倍，圆锥的底面积是圆柱底面积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圆柱和圆锥的体积各是多少立方厘米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31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组合 3"/>
          <p:cNvGrpSpPr/>
          <p:nvPr/>
        </p:nvGrpSpPr>
        <p:grpSpPr>
          <a:xfrm>
            <a:off x="1460520" y="3444840"/>
            <a:ext cx="6711840" cy="3230640"/>
            <a:chOff x="1460520" y="3444840"/>
            <a:chExt cx="6711840" cy="3230640"/>
          </a:xfrm>
        </p:grpSpPr>
        <p:pic>
          <p:nvPicPr>
            <p:cNvPr id="135" name="对象 2" descr=""/>
            <p:cNvPicPr/>
            <p:nvPr/>
          </p:nvPicPr>
          <p:blipFill>
            <a:blip r:embed="rId2"/>
            <a:stretch/>
          </p:blipFill>
          <p:spPr>
            <a:xfrm>
              <a:off x="4068360" y="4425840"/>
              <a:ext cx="2214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矩形 8"/>
            <p:cNvSpPr/>
            <p:nvPr/>
          </p:nvSpPr>
          <p:spPr>
            <a:xfrm>
              <a:off x="1460520" y="3444840"/>
              <a:ext cx="6711840" cy="32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设圆锥的底面积和高分别是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cm</a:t>
              </a:r>
              <a:r>
                <a:rPr b="1" lang="en-US" sz="2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cm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圆柱的底面积和高分别是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cm</a:t>
              </a:r>
              <a:r>
                <a:rPr b="1" lang="en-US" sz="2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cm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3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×  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×2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3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30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30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40(cm</a:t>
              </a:r>
              <a:r>
                <a:rPr b="1" lang="en-US" sz="22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答：圆柱的体积是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90 cm</a:t>
              </a:r>
              <a:r>
                <a:rPr b="1" lang="en-US" sz="22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，圆锥的体积是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40 cm</a:t>
              </a:r>
              <a:r>
                <a:rPr b="1" lang="en-US" sz="22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对象 9" descr=""/>
            <p:cNvPicPr/>
            <p:nvPr/>
          </p:nvPicPr>
          <p:blipFill>
            <a:blip r:embed="rId3"/>
            <a:stretch/>
          </p:blipFill>
          <p:spPr>
            <a:xfrm>
              <a:off x="3271320" y="4398480"/>
              <a:ext cx="2214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对象 10" descr=""/>
            <p:cNvPicPr/>
            <p:nvPr/>
          </p:nvPicPr>
          <p:blipFill>
            <a:blip r:embed="rId4"/>
            <a:stretch/>
          </p:blipFill>
          <p:spPr>
            <a:xfrm>
              <a:off x="1592640" y="5354640"/>
              <a:ext cx="3132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对象 11" descr=""/>
            <p:cNvPicPr/>
            <p:nvPr/>
          </p:nvPicPr>
          <p:blipFill>
            <a:blip r:embed="rId5"/>
            <a:stretch/>
          </p:blipFill>
          <p:spPr>
            <a:xfrm>
              <a:off x="1615680" y="4858920"/>
              <a:ext cx="2214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对象 12" descr=""/>
            <p:cNvPicPr/>
            <p:nvPr/>
          </p:nvPicPr>
          <p:blipFill>
            <a:blip r:embed="rId6"/>
            <a:stretch/>
          </p:blipFill>
          <p:spPr>
            <a:xfrm>
              <a:off x="1986120" y="4864320"/>
              <a:ext cx="221400" cy="5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对象 4" descr=""/>
          <p:cNvPicPr/>
          <p:nvPr/>
        </p:nvPicPr>
        <p:blipFill>
          <a:blip r:embed="rId7"/>
          <a:stretch/>
        </p:blipFill>
        <p:spPr>
          <a:xfrm>
            <a:off x="7736040" y="2406600"/>
            <a:ext cx="222120" cy="5763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5" descr="枫叶副本.gif"/>
          <p:cNvPicPr/>
          <p:nvPr/>
        </p:nvPicPr>
        <p:blipFill>
          <a:blip r:embed="rId8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相忘于江湖</cp:lastModifiedBy>
  <dcterms:modified xsi:type="dcterms:W3CDTF">2018-01-07T16:31:33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