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suction.wav" ContentType="audio/x-wav"/>
  <Override PartName="/ppt/media/hammer.wav" ContentType="audio/x-wav"/>
  <Override PartName="/ppt/media/click.wav" ContentType="audio/x-wav"/>
  <Override PartName="/ppt/media/applause.wav" ContentType="audio/x-wav"/>
  <Override PartName="/ppt/media/whoosh.wav" ContentType="audio/x-wav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自定义放映1" id="0">
      <p:sldLst>
        <p:sld r:id="rId3"/>
        <p:sld r:id="rId4"/>
        <p:sld r:id="rId5"/>
        <p:sld r:id="rId6"/>
        <p:sld r:id="rId7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4E3-90F4-4BDE-AE6B-FB841B43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E5B-8308-4113-B004-3483ED85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CB1-F995-488D-8C4B-69AAA429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696-EE5F-4580-906F-B1640E40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84B-27FB-4C2B-AF57-6FCBDC60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816-83B1-4FBF-94D0-0453651C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3F4-8A61-42B6-AB81-49EBC2A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DB9-BCE2-4129-BBA1-97280BF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C59-F2C1-433A-BABF-92C84BA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D24-C1E7-4F1F-81C9-D884AC1E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6F5-F294-46C2-BBD1-71C570ED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720-DF18-46DC-8D4D-4B3913D8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7690-1C36-4C06-8042-B106077DA8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applause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hammer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981080"/>
            <a:ext cx="60199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圆  柱  的  体  积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685800"/>
            <a:ext cx="5029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义务教育数学第十二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5157720"/>
            <a:ext cx="60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庆市巴南区鱼洞南区学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陈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2195640" y="1413000"/>
            <a:ext cx="504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宋体"/>
              </a:rPr>
              <a:t>圆柱的体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609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根圆柱形钢材，底面积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厘米，高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。他的体积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480" y="1905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想：由于底面积和高的单位不统一，先要进行单位换算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43000" y="3124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2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43000" y="40384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方厘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4038480" y="4038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48769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它的体积是             立方厘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038480" y="4876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1117800" y="133200"/>
            <a:ext cx="3017520" cy="6505920"/>
            <a:chOff x="1117800" y="133200"/>
            <a:chExt cx="3017520" cy="6505920"/>
          </a:xfrm>
        </p:grpSpPr>
        <p:grpSp>
          <p:nvGrpSpPr>
            <p:cNvPr id="580" name=""/>
            <p:cNvGrpSpPr/>
            <p:nvPr/>
          </p:nvGrpSpPr>
          <p:grpSpPr>
            <a:xfrm>
              <a:off x="1188360" y="405000"/>
              <a:ext cx="2946960" cy="6234120"/>
              <a:chOff x="1188360" y="405000"/>
              <a:chExt cx="2946960" cy="623412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1216800" y="2702160"/>
                <a:ext cx="888480" cy="799920"/>
                <a:chOff x="1216800" y="2702160"/>
                <a:chExt cx="888480" cy="79992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1216800" y="2702160"/>
                  <a:ext cx="819000" cy="5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216800" y="2702160"/>
                  <a:ext cx="616320" cy="74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 flipV="1" rot="12909000">
                  <a:off x="1608840" y="302472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1623960" y="2241000"/>
                <a:ext cx="888480" cy="799920"/>
                <a:chOff x="1623960" y="2241000"/>
                <a:chExt cx="888480" cy="79992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1623960" y="2241000"/>
                  <a:ext cx="81828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623960" y="2241000"/>
                  <a:ext cx="615960" cy="74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 flipV="1" rot="12909000">
                  <a:off x="2016720" y="2563920"/>
                  <a:ext cx="421560" cy="39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1420920" y="2469960"/>
                <a:ext cx="889200" cy="800280"/>
                <a:chOff x="1420920" y="2469960"/>
                <a:chExt cx="889200" cy="8002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1420920" y="2469960"/>
                  <a:ext cx="81864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420920" y="2469960"/>
                  <a:ext cx="615240" cy="74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 flipV="1" rot="12909000">
                  <a:off x="1813680" y="2791080"/>
                  <a:ext cx="421560" cy="39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2029680" y="1782360"/>
                <a:ext cx="887760" cy="799560"/>
                <a:chOff x="2029680" y="1782360"/>
                <a:chExt cx="887760" cy="7995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029680" y="1782360"/>
                  <a:ext cx="81828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029680" y="1782360"/>
                  <a:ext cx="615960" cy="74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H="1" flipV="1" rot="12909000">
                  <a:off x="2421000" y="210456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1826640" y="2011320"/>
                <a:ext cx="888480" cy="799560"/>
                <a:chOff x="1826640" y="2011320"/>
                <a:chExt cx="888480" cy="7995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826640" y="2011320"/>
                  <a:ext cx="81828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826640" y="2011320"/>
                  <a:ext cx="615960" cy="74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 rot="12909000">
                  <a:off x="2219400" y="2333880"/>
                  <a:ext cx="421560" cy="39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2229480" y="1555200"/>
                <a:ext cx="888840" cy="800280"/>
                <a:chOff x="2229480" y="1555200"/>
                <a:chExt cx="888840" cy="8002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2229480" y="1555200"/>
                  <a:ext cx="818640" cy="51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229480" y="1555200"/>
                  <a:ext cx="615240" cy="74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 rot="12909000">
                  <a:off x="2621880" y="1876320"/>
                  <a:ext cx="421560" cy="39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2434680" y="1324080"/>
                <a:ext cx="888840" cy="799560"/>
                <a:chOff x="2434680" y="1324080"/>
                <a:chExt cx="888840" cy="7995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2434680" y="1324080"/>
                  <a:ext cx="81864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434680" y="1324080"/>
                  <a:ext cx="615960" cy="74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 rot="12909000">
                  <a:off x="2827800" y="1646640"/>
                  <a:ext cx="421560" cy="39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2638800" y="1095120"/>
                <a:ext cx="888480" cy="799920"/>
                <a:chOff x="2638800" y="1095120"/>
                <a:chExt cx="888480" cy="7999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2638800" y="1095120"/>
                  <a:ext cx="81828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638800" y="1095120"/>
                  <a:ext cx="615600" cy="74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 rot="12909000">
                  <a:off x="3031560" y="1418040"/>
                  <a:ext cx="421560" cy="39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043800" y="636840"/>
                <a:ext cx="889200" cy="799920"/>
                <a:chOff x="3043800" y="636840"/>
                <a:chExt cx="889200" cy="7999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043800" y="636840"/>
                  <a:ext cx="818640" cy="518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043800" y="636840"/>
                  <a:ext cx="615240" cy="74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flipV="1" rot="12909000">
                  <a:off x="3436560" y="957600"/>
                  <a:ext cx="421560" cy="393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2840760" y="865080"/>
                <a:ext cx="888480" cy="799560"/>
                <a:chOff x="2840760" y="865080"/>
                <a:chExt cx="888480" cy="7995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2840760" y="865080"/>
                  <a:ext cx="81864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840760" y="865080"/>
                  <a:ext cx="615960" cy="74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 flipV="1" rot="12909000">
                  <a:off x="3233520" y="1187640"/>
                  <a:ext cx="421560" cy="39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3247200" y="405000"/>
                <a:ext cx="888120" cy="799920"/>
                <a:chOff x="3247200" y="405000"/>
                <a:chExt cx="888120" cy="7999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247200" y="405000"/>
                  <a:ext cx="81864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247200" y="405000"/>
                  <a:ext cx="615960" cy="74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flipV="1" rot="12909000">
                  <a:off x="3639600" y="727920"/>
                  <a:ext cx="421560" cy="390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 flipH="1">
                <a:off x="4021560" y="871560"/>
                <a:ext cx="10080" cy="31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831320" y="3444120"/>
                <a:ext cx="936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 rot="12648600">
                <a:off x="1624320" y="6168600"/>
                <a:ext cx="40932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1831320" y="3444120"/>
                <a:ext cx="936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 rot="12648600">
                <a:off x="3614400" y="3831840"/>
                <a:ext cx="40932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 rot="12648600">
                <a:off x="3416040" y="4065480"/>
                <a:ext cx="40932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 rot="12648600">
                <a:off x="3216240" y="4298760"/>
                <a:ext cx="40932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 rot="12648600">
                <a:off x="3016440" y="4534200"/>
                <a:ext cx="40932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 rot="12648600">
                <a:off x="2817720" y="4766400"/>
                <a:ext cx="40932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12648600">
                <a:off x="2620080" y="5000040"/>
                <a:ext cx="40932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12648600">
                <a:off x="2420640" y="5232960"/>
                <a:ext cx="40932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12648600">
                <a:off x="2220840" y="5468400"/>
                <a:ext cx="40932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 rot="12648600">
                <a:off x="2022480" y="5700600"/>
                <a:ext cx="40932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12648600">
                <a:off x="1823400" y="5935320"/>
                <a:ext cx="40932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21760" y="1105200"/>
                <a:ext cx="10080" cy="31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623040" y="1339560"/>
                <a:ext cx="936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3423600" y="1572840"/>
                <a:ext cx="10080" cy="31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3224520" y="1807560"/>
                <a:ext cx="936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3025800" y="2040840"/>
                <a:ext cx="972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2827440" y="2275200"/>
                <a:ext cx="8280" cy="311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2628000" y="2507400"/>
                <a:ext cx="10080" cy="31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2429280" y="2741400"/>
                <a:ext cx="936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2229120" y="2975040"/>
                <a:ext cx="10440" cy="31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2030760" y="3209400"/>
                <a:ext cx="9360" cy="31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188360" y="2760480"/>
                <a:ext cx="12960" cy="312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>
                <a:off x="1203840" y="5864400"/>
                <a:ext cx="608760" cy="71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 flipH="1" flipV="1" rot="2044200">
              <a:off x="3267000" y="213480"/>
              <a:ext cx="406440" cy="38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 rot="2137800">
              <a:off x="2853000" y="690840"/>
              <a:ext cx="48204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 rot="2137800">
              <a:off x="3033360" y="446400"/>
              <a:ext cx="48564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 rot="2137800">
              <a:off x="2451600" y="1140480"/>
              <a:ext cx="484920" cy="3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 rot="2137800">
              <a:off x="2653200" y="915120"/>
              <a:ext cx="4856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 rot="2137800">
              <a:off x="2249640" y="1366920"/>
              <a:ext cx="485640" cy="3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 rot="2137800">
              <a:off x="2045520" y="1590120"/>
              <a:ext cx="485640" cy="3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 rot="2137800">
              <a:off x="1846080" y="1816920"/>
              <a:ext cx="48276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 rot="2137800">
              <a:off x="1403640" y="2250720"/>
              <a:ext cx="48564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 rot="2137800">
              <a:off x="1643760" y="2040480"/>
              <a:ext cx="484920" cy="39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 flipV="1" rot="2137800">
              <a:off x="1187280" y="2480400"/>
              <a:ext cx="4921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1216080" y="2672640"/>
              <a:ext cx="81648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85880" y="237600"/>
              <a:ext cx="5284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370840" y="457200"/>
            <a:ext cx="1563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拼成长方体的长、宽、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与半径和高的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854360" y="4065480"/>
            <a:ext cx="220968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997360" y="4370400"/>
            <a:ext cx="914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168560" y="589428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00000" y="57420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06480" y="3397320"/>
            <a:ext cx="0" cy="3200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01760" y="433224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900000" y="1916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圆柱体积的计算公式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3276720"/>
            <a:ext cx="100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V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0" y="3198240"/>
            <a:ext cx="4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3200400"/>
            <a:ext cx="3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81480" y="3276720"/>
            <a:ext cx="3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34120" y="3200400"/>
            <a:ext cx="46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914400" y="457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圆柱形水桶，从里面量得底面直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高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求这个水桶的容积是多少立方分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水桶底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14400" y="2971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268360" y="2781360"/>
            <a:ext cx="704520" cy="1177560"/>
            <a:chOff x="2268360" y="2781360"/>
            <a:chExt cx="704520" cy="1177560"/>
          </a:xfrm>
        </p:grpSpPr>
        <p:sp>
          <p:nvSpPr>
            <p:cNvPr id="681" name=""/>
            <p:cNvSpPr/>
            <p:nvPr/>
          </p:nvSpPr>
          <p:spPr>
            <a:xfrm>
              <a:off x="2268360" y="2781360"/>
              <a:ext cx="70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55120" y="3221640"/>
              <a:ext cx="352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56560" y="3133440"/>
              <a:ext cx="35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971640" y="357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.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414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厘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67080" y="2362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水桶容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0" y="29718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25280" y="37162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850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方厘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4267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7.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立方分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14400" y="53341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这个水桶的容积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7.8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762120" y="685800"/>
            <a:ext cx="1828800" cy="561960"/>
            <a:chOff x="762120" y="685800"/>
            <a:chExt cx="1828800" cy="561960"/>
          </a:xfrm>
        </p:grpSpPr>
        <p:sp>
          <p:nvSpPr>
            <p:cNvPr id="692" name=""/>
            <p:cNvSpPr/>
            <p:nvPr/>
          </p:nvSpPr>
          <p:spPr>
            <a:xfrm>
              <a:off x="762120" y="685800"/>
              <a:ext cx="1600200" cy="56196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2120" y="685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914400" y="1523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根圆柱形的木料，底面积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厘米，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0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。它的体积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523880" y="2590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5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90=6750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立方厘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3429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圆柱形的罐头底面半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。它的容积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00200" y="4800600"/>
            <a:ext cx="57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3.14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²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5=1177.5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立方厘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533520" y="333360"/>
            <a:ext cx="1904760" cy="704880"/>
            <a:chOff x="533520" y="333360"/>
            <a:chExt cx="1904760" cy="704880"/>
          </a:xfrm>
        </p:grpSpPr>
        <p:sp>
          <p:nvSpPr>
            <p:cNvPr id="699" name=""/>
            <p:cNvSpPr/>
            <p:nvPr/>
          </p:nvSpPr>
          <p:spPr>
            <a:xfrm>
              <a:off x="533520" y="333360"/>
              <a:ext cx="1828800" cy="704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8080" y="4093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练一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042920" y="1197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填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1652760" y="1959120"/>
          <a:ext cx="6095880" cy="3600360"/>
        </p:xfrm>
        <a:graphic>
          <a:graphicData uri="http://schemas.openxmlformats.org/drawingml/2006/table">
            <a:tbl>
              <a:tblPr/>
              <a:tblGrid>
                <a:gridCol w="2133720"/>
                <a:gridCol w="1930320"/>
                <a:gridCol w="203184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²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柱的体积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m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6300720" y="3940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48440" y="500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2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611280" y="476280"/>
            <a:ext cx="685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下面各圆柱体的体积（单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3079800" y="2006640"/>
            <a:ext cx="2057400" cy="1523880"/>
            <a:chOff x="3079800" y="2006640"/>
            <a:chExt cx="2057400" cy="1523880"/>
          </a:xfrm>
        </p:grpSpPr>
        <p:sp>
          <p:nvSpPr>
            <p:cNvPr id="707" name=""/>
            <p:cNvSpPr/>
            <p:nvPr/>
          </p:nvSpPr>
          <p:spPr>
            <a:xfrm>
              <a:off x="3079800" y="2540160"/>
              <a:ext cx="1828800" cy="990360"/>
            </a:xfrm>
            <a:prstGeom prst="flowChartMagneticDrum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3384360" y="2006640"/>
              <a:ext cx="1752840" cy="1523880"/>
              <a:chOff x="3384360" y="2006640"/>
              <a:chExt cx="1752840" cy="1523880"/>
            </a:xfrm>
          </p:grpSpPr>
          <p:sp>
            <p:nvSpPr>
              <p:cNvPr id="709" name=""/>
              <p:cNvSpPr/>
              <p:nvPr/>
            </p:nvSpPr>
            <p:spPr>
              <a:xfrm>
                <a:off x="3384360" y="21589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603680" y="21589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384360" y="23875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680000" y="2540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680000" y="3530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55960" y="25401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841560" y="200664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680000" y="27687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>
            <a:off x="826920" y="4724280"/>
            <a:ext cx="21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.1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059280" y="4653000"/>
            <a:ext cx="2519280" cy="764640"/>
            <a:chOff x="3059280" y="4653000"/>
            <a:chExt cx="2519280" cy="764640"/>
          </a:xfrm>
        </p:grpSpPr>
        <p:sp>
          <p:nvSpPr>
            <p:cNvPr id="719" name=""/>
            <p:cNvSpPr/>
            <p:nvPr/>
          </p:nvSpPr>
          <p:spPr>
            <a:xfrm>
              <a:off x="3059280" y="4795920"/>
              <a:ext cx="25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3.14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×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(    )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²×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067280" y="4653000"/>
              <a:ext cx="504360" cy="764640"/>
              <a:chOff x="4067280" y="4653000"/>
              <a:chExt cx="504360" cy="764640"/>
            </a:xfrm>
          </p:grpSpPr>
          <p:sp>
            <p:nvSpPr>
              <p:cNvPr id="721" name=""/>
              <p:cNvSpPr/>
              <p:nvPr/>
            </p:nvSpPr>
            <p:spPr>
              <a:xfrm>
                <a:off x="4067280" y="46530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67280" y="5034240"/>
                <a:ext cx="33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068720" y="495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5506920" y="4653000"/>
            <a:ext cx="3168720" cy="764280"/>
            <a:chOff x="5506920" y="4653000"/>
            <a:chExt cx="3168720" cy="764280"/>
          </a:xfrm>
        </p:grpSpPr>
        <p:sp>
          <p:nvSpPr>
            <p:cNvPr id="725" name=""/>
            <p:cNvSpPr/>
            <p:nvPr/>
          </p:nvSpPr>
          <p:spPr>
            <a:xfrm>
              <a:off x="5506920" y="479736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3.14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×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 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²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×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6582960" y="4653000"/>
              <a:ext cx="1061640" cy="764280"/>
              <a:chOff x="6582960" y="4653000"/>
              <a:chExt cx="1061640" cy="764280"/>
            </a:xfrm>
          </p:grpSpPr>
          <p:sp>
            <p:nvSpPr>
              <p:cNvPr id="727" name=""/>
              <p:cNvSpPr/>
              <p:nvPr/>
            </p:nvSpPr>
            <p:spPr>
              <a:xfrm>
                <a:off x="6755040" y="4653000"/>
                <a:ext cx="88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3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95200" y="5033520"/>
                <a:ext cx="87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582960" y="4957560"/>
                <a:ext cx="104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×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</a:rPr>
                  <a:t>3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0" name=""/>
          <p:cNvSpPr/>
          <p:nvPr/>
        </p:nvSpPr>
        <p:spPr>
          <a:xfrm>
            <a:off x="826920" y="544500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=602.88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3056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=401.9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80000" y="5445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=1570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160640" y="1413000"/>
            <a:ext cx="1449360" cy="2971800"/>
            <a:chOff x="1160640" y="1413000"/>
            <a:chExt cx="1449360" cy="2971800"/>
          </a:xfrm>
        </p:grpSpPr>
        <p:sp>
          <p:nvSpPr>
            <p:cNvPr id="734" name=""/>
            <p:cNvSpPr/>
            <p:nvPr/>
          </p:nvSpPr>
          <p:spPr>
            <a:xfrm>
              <a:off x="1846440" y="1565280"/>
              <a:ext cx="762120" cy="2819520"/>
            </a:xfrm>
            <a:prstGeom prst="flowChartMagneticDisk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89240" y="194652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89240" y="400392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41520" y="3165480"/>
              <a:ext cx="1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1541520" y="1946520"/>
              <a:ext cx="1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60640" y="270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46440" y="164160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08560" y="1641600"/>
              <a:ext cx="1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76120" y="141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27320" y="1946520"/>
              <a:ext cx="381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518080" y="2235240"/>
            <a:ext cx="2438280" cy="1600200"/>
            <a:chOff x="5518080" y="2235240"/>
            <a:chExt cx="2438280" cy="1600200"/>
          </a:xfrm>
        </p:grpSpPr>
        <p:sp>
          <p:nvSpPr>
            <p:cNvPr id="745" name=""/>
            <p:cNvSpPr/>
            <p:nvPr/>
          </p:nvSpPr>
          <p:spPr>
            <a:xfrm>
              <a:off x="5594400" y="2616480"/>
              <a:ext cx="1752480" cy="1218960"/>
            </a:xfrm>
            <a:prstGeom prst="flowChartMagneticDisk">
              <a:avLst/>
            </a:prstGeom>
            <a:solidFill>
              <a:srgbClr val="33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46880" y="284508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6880" y="368316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23200" y="2845080"/>
              <a:ext cx="1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27560" y="2235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3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46880" y="2997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18080" y="2616480"/>
              <a:ext cx="190512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94400" y="2616480"/>
              <a:ext cx="1752480" cy="3045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080" y="1371600"/>
            <a:ext cx="2971800" cy="441972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057400"/>
            <a:ext cx="29718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447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32004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057400"/>
            <a:ext cx="0" cy="30481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80000" y="1989000"/>
            <a:ext cx="2514600" cy="396252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2920" y="692280"/>
            <a:ext cx="5791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怎样求圆柱体的体积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124000" y="1484280"/>
            <a:ext cx="4465440" cy="3893040"/>
            <a:chOff x="2124000" y="1484280"/>
            <a:chExt cx="4465440" cy="3893040"/>
          </a:xfrm>
        </p:grpSpPr>
        <p:grpSp>
          <p:nvGrpSpPr>
            <p:cNvPr id="54" name=""/>
            <p:cNvGrpSpPr/>
            <p:nvPr/>
          </p:nvGrpSpPr>
          <p:grpSpPr>
            <a:xfrm>
              <a:off x="2124000" y="1484280"/>
              <a:ext cx="2209680" cy="3733920"/>
              <a:chOff x="2124000" y="1484280"/>
              <a:chExt cx="2209680" cy="3733920"/>
            </a:xfrm>
          </p:grpSpPr>
          <p:sp>
            <p:nvSpPr>
              <p:cNvPr id="55" name=""/>
              <p:cNvSpPr/>
              <p:nvPr/>
            </p:nvSpPr>
            <p:spPr>
              <a:xfrm>
                <a:off x="2124000" y="1484280"/>
                <a:ext cx="2209680" cy="3733920"/>
              </a:xfrm>
              <a:prstGeom prst="flowChartMagneticDisk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124000" y="2094120"/>
                <a:ext cx="220968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356000" y="1484280"/>
              <a:ext cx="2209680" cy="3733920"/>
              <a:chOff x="4356000" y="1484280"/>
              <a:chExt cx="2209680" cy="3733920"/>
            </a:xfrm>
          </p:grpSpPr>
          <p:sp>
            <p:nvSpPr>
              <p:cNvPr id="58" name=""/>
              <p:cNvSpPr/>
              <p:nvPr/>
            </p:nvSpPr>
            <p:spPr>
              <a:xfrm>
                <a:off x="4356000" y="1484280"/>
                <a:ext cx="2209680" cy="3733920"/>
              </a:xfrm>
              <a:prstGeom prst="flowChartMagneticDisk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56000" y="2094120"/>
                <a:ext cx="220968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24000" y="2131920"/>
              <a:ext cx="4464000" cy="25909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4000" y="4724280"/>
              <a:ext cx="446400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56000" y="2131920"/>
              <a:ext cx="0" cy="259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6720" y="4795920"/>
              <a:ext cx="4392720" cy="58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沿直径把圆柱一分为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340000" y="1413000"/>
            <a:ext cx="4464000" cy="3744720"/>
            <a:chOff x="2340000" y="1413000"/>
            <a:chExt cx="4464000" cy="3744720"/>
          </a:xfrm>
        </p:grpSpPr>
        <p:grpSp>
          <p:nvGrpSpPr>
            <p:cNvPr id="65" name=""/>
            <p:cNvGrpSpPr/>
            <p:nvPr/>
          </p:nvGrpSpPr>
          <p:grpSpPr>
            <a:xfrm>
              <a:off x="2340000" y="1413000"/>
              <a:ext cx="2209680" cy="3733560"/>
              <a:chOff x="2340000" y="1413000"/>
              <a:chExt cx="2209680" cy="3733560"/>
            </a:xfrm>
          </p:grpSpPr>
          <p:sp>
            <p:nvSpPr>
              <p:cNvPr id="66" name=""/>
              <p:cNvSpPr/>
              <p:nvPr/>
            </p:nvSpPr>
            <p:spPr>
              <a:xfrm>
                <a:off x="2340000" y="1413000"/>
                <a:ext cx="2209680" cy="3733560"/>
              </a:xfrm>
              <a:prstGeom prst="flowChartMagneticDisk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40000" y="1992240"/>
                <a:ext cx="2209680" cy="10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444840" y="1413000"/>
                <a:ext cx="0" cy="115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1680" y="1413000"/>
                <a:ext cx="525960" cy="115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3181320" y="1413000"/>
                <a:ext cx="525960" cy="115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71080" y="1477440"/>
                <a:ext cx="946800" cy="10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971080" y="1477440"/>
                <a:ext cx="946800" cy="10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2760120" y="1541520"/>
                <a:ext cx="1315080" cy="90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60480" y="1541520"/>
                <a:ext cx="1420560" cy="90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550240" y="1670400"/>
                <a:ext cx="1841400" cy="64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602800" y="1605960"/>
                <a:ext cx="1630800" cy="77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92560" y="1798920"/>
                <a:ext cx="2104200" cy="38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392560" y="1798920"/>
                <a:ext cx="2051640" cy="38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96760" y="218520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602800" y="237852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760480" y="2442960"/>
                <a:ext cx="0" cy="257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71080" y="250704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181680" y="257148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444840" y="257148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07640" y="257148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918240" y="250704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81400" y="2442960"/>
                <a:ext cx="0" cy="257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91640" y="231408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92560" y="218520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572000" y="1413000"/>
              <a:ext cx="2209680" cy="3733560"/>
              <a:chOff x="4572000" y="1413000"/>
              <a:chExt cx="2209680" cy="3733560"/>
            </a:xfrm>
          </p:grpSpPr>
          <p:sp>
            <p:nvSpPr>
              <p:cNvPr id="91" name=""/>
              <p:cNvSpPr/>
              <p:nvPr/>
            </p:nvSpPr>
            <p:spPr>
              <a:xfrm>
                <a:off x="4572000" y="1413000"/>
                <a:ext cx="2209680" cy="3733560"/>
              </a:xfrm>
              <a:prstGeom prst="flowChartMagneticDisk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72000" y="1992240"/>
                <a:ext cx="2209680" cy="10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76840" y="1413000"/>
                <a:ext cx="0" cy="115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413680" y="1413000"/>
                <a:ext cx="525960" cy="115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5413320" y="1413000"/>
                <a:ext cx="525960" cy="115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03080" y="1477440"/>
                <a:ext cx="946800" cy="10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203080" y="1477440"/>
                <a:ext cx="946800" cy="102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4992120" y="1541520"/>
                <a:ext cx="1315080" cy="90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992480" y="1541520"/>
                <a:ext cx="1420560" cy="90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82240" y="1670400"/>
                <a:ext cx="1841400" cy="64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834800" y="1605960"/>
                <a:ext cx="1630800" cy="77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24560" y="1798920"/>
                <a:ext cx="2104200" cy="38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4624560" y="1798920"/>
                <a:ext cx="2051640" cy="38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28760" y="218520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34800" y="237852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92480" y="2442960"/>
                <a:ext cx="0" cy="257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03080" y="250704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13680" y="257148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76840" y="257148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39640" y="257148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50240" y="250704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13400" y="2442960"/>
                <a:ext cx="0" cy="257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23640" y="231408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24560" y="2185200"/>
                <a:ext cx="0" cy="25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340000" y="1989000"/>
              <a:ext cx="4464000" cy="2590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40000" y="4581720"/>
              <a:ext cx="446400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40000" y="4581720"/>
              <a:ext cx="446400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把圆柱的两半分成若干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1989000"/>
              <a:ext cx="0" cy="259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19280" y="1989000"/>
              <a:ext cx="0" cy="2592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53080" y="1989000"/>
              <a:ext cx="0" cy="2592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189800" y="78480"/>
            <a:ext cx="2879640" cy="6229080"/>
            <a:chOff x="1189800" y="78480"/>
            <a:chExt cx="2879640" cy="6229080"/>
          </a:xfrm>
        </p:grpSpPr>
        <p:sp>
          <p:nvSpPr>
            <p:cNvPr id="122" name=""/>
            <p:cNvSpPr/>
            <p:nvPr/>
          </p:nvSpPr>
          <p:spPr>
            <a:xfrm flipH="1" flipV="1">
              <a:off x="3901680" y="3846960"/>
              <a:ext cx="16740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3030120" y="78480"/>
              <a:ext cx="886680" cy="720360"/>
              <a:chOff x="3030120" y="78480"/>
              <a:chExt cx="886680" cy="720360"/>
            </a:xfrm>
          </p:grpSpPr>
          <p:sp>
            <p:nvSpPr>
              <p:cNvPr id="124" name=""/>
              <p:cNvSpPr/>
              <p:nvPr/>
            </p:nvSpPr>
            <p:spPr>
              <a:xfrm flipH="1" flipV="1">
                <a:off x="3095640" y="36828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3279960" y="12492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 rot="1848000">
                <a:off x="3101400" y="15372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662560" y="564120"/>
              <a:ext cx="886320" cy="720360"/>
              <a:chOff x="2662560" y="564120"/>
              <a:chExt cx="886320" cy="720360"/>
            </a:xfrm>
          </p:grpSpPr>
          <p:sp>
            <p:nvSpPr>
              <p:cNvPr id="128" name=""/>
              <p:cNvSpPr/>
              <p:nvPr/>
            </p:nvSpPr>
            <p:spPr>
              <a:xfrm flipH="1" flipV="1">
                <a:off x="2727720" y="85392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 flipV="1">
                <a:off x="2912040" y="610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flipV="1" rot="1848000">
                <a:off x="2733840" y="639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846520" y="321480"/>
              <a:ext cx="886320" cy="720360"/>
              <a:chOff x="2846520" y="321480"/>
              <a:chExt cx="886320" cy="720360"/>
            </a:xfrm>
          </p:grpSpPr>
          <p:sp>
            <p:nvSpPr>
              <p:cNvPr id="132" name=""/>
              <p:cNvSpPr/>
              <p:nvPr/>
            </p:nvSpPr>
            <p:spPr>
              <a:xfrm flipH="1" flipV="1">
                <a:off x="2911320" y="61128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3096000" y="36792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 rot="1848000">
                <a:off x="2917800" y="39672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294280" y="1050120"/>
              <a:ext cx="886320" cy="720360"/>
              <a:chOff x="2294280" y="1050120"/>
              <a:chExt cx="886320" cy="720360"/>
            </a:xfrm>
          </p:grpSpPr>
          <p:sp>
            <p:nvSpPr>
              <p:cNvPr id="136" name=""/>
              <p:cNvSpPr/>
              <p:nvPr/>
            </p:nvSpPr>
            <p:spPr>
              <a:xfrm flipH="1" flipV="1">
                <a:off x="2359080" y="133992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2543760" y="1096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 rot="1848000">
                <a:off x="2365560" y="1125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478600" y="807120"/>
              <a:ext cx="885960" cy="720360"/>
              <a:chOff x="2478600" y="807120"/>
              <a:chExt cx="885960" cy="720360"/>
            </a:xfrm>
          </p:grpSpPr>
          <p:sp>
            <p:nvSpPr>
              <p:cNvPr id="140" name=""/>
              <p:cNvSpPr/>
              <p:nvPr/>
            </p:nvSpPr>
            <p:spPr>
              <a:xfrm flipH="1" flipV="1">
                <a:off x="2543400" y="109692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2727720" y="853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848000">
                <a:off x="2549880" y="882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110320" y="1293120"/>
              <a:ext cx="886320" cy="720360"/>
              <a:chOff x="2110320" y="1293120"/>
              <a:chExt cx="886320" cy="720360"/>
            </a:xfrm>
          </p:grpSpPr>
          <p:sp>
            <p:nvSpPr>
              <p:cNvPr id="144" name=""/>
              <p:cNvSpPr/>
              <p:nvPr/>
            </p:nvSpPr>
            <p:spPr>
              <a:xfrm flipH="1" flipV="1">
                <a:off x="2175480" y="158292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2359800" y="1339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 rot="1848000">
                <a:off x="2181600" y="1368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926360" y="1536120"/>
              <a:ext cx="885960" cy="720360"/>
              <a:chOff x="1926360" y="1536120"/>
              <a:chExt cx="885960" cy="720360"/>
            </a:xfrm>
          </p:grpSpPr>
          <p:sp>
            <p:nvSpPr>
              <p:cNvPr id="148" name=""/>
              <p:cNvSpPr/>
              <p:nvPr/>
            </p:nvSpPr>
            <p:spPr>
              <a:xfrm flipH="1" flipV="1">
                <a:off x="1991160" y="182592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2175480" y="1582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 rot="1848000">
                <a:off x="1997640" y="1611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742040" y="1779120"/>
              <a:ext cx="886320" cy="720360"/>
              <a:chOff x="1742040" y="1779120"/>
              <a:chExt cx="886320" cy="72036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1807200" y="206892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991520" y="1825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 rot="1848000">
                <a:off x="1813320" y="1854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374120" y="2264760"/>
              <a:ext cx="885960" cy="720360"/>
              <a:chOff x="1374120" y="2264760"/>
              <a:chExt cx="885960" cy="720360"/>
            </a:xfrm>
          </p:grpSpPr>
          <p:sp>
            <p:nvSpPr>
              <p:cNvPr id="156" name=""/>
              <p:cNvSpPr/>
              <p:nvPr/>
            </p:nvSpPr>
            <p:spPr>
              <a:xfrm flipH="1" flipV="1">
                <a:off x="1438920" y="255456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1623240" y="231120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 rot="1848000">
                <a:off x="1445400" y="234000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558080" y="2021760"/>
              <a:ext cx="886320" cy="720360"/>
              <a:chOff x="1558080" y="2021760"/>
              <a:chExt cx="886320" cy="72036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1623240" y="231156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1807560" y="206820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 rot="1848000">
                <a:off x="1629360" y="209700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H="1" flipV="1">
              <a:off x="1254960" y="2797560"/>
              <a:ext cx="820800" cy="43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1439280" y="2554200"/>
              <a:ext cx="636840" cy="67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 rot="1848000">
              <a:off x="1261080" y="2583000"/>
              <a:ext cx="402840" cy="38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6800" y="798840"/>
              <a:ext cx="15264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32840" y="1041840"/>
              <a:ext cx="15228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8520" y="1284840"/>
              <a:ext cx="15264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64560" y="1527840"/>
              <a:ext cx="15264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0600" y="1770840"/>
              <a:ext cx="15228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96280" y="2013840"/>
              <a:ext cx="15264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2320" y="2256480"/>
              <a:ext cx="15264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8360" y="2499480"/>
              <a:ext cx="15228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4040" y="2742480"/>
              <a:ext cx="15264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60440" y="2985480"/>
              <a:ext cx="15228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6120" y="3228480"/>
              <a:ext cx="15228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5320" y="2797560"/>
              <a:ext cx="15228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1407600" y="5876640"/>
              <a:ext cx="820800" cy="43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717720" y="4089600"/>
              <a:ext cx="16704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533400" y="4332600"/>
              <a:ext cx="16740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349440" y="4575600"/>
              <a:ext cx="16740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165480" y="4818600"/>
              <a:ext cx="16704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2981160" y="5061600"/>
              <a:ext cx="16776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2797200" y="5304600"/>
              <a:ext cx="16740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2613240" y="5547240"/>
              <a:ext cx="16740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2428920" y="5790240"/>
              <a:ext cx="16776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2244960" y="6033240"/>
              <a:ext cx="16740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815360" y="370800"/>
            <a:ext cx="2958480" cy="6306840"/>
            <a:chOff x="4815360" y="370800"/>
            <a:chExt cx="2958480" cy="6306840"/>
          </a:xfrm>
        </p:grpSpPr>
        <p:grpSp>
          <p:nvGrpSpPr>
            <p:cNvPr id="189" name=""/>
            <p:cNvGrpSpPr/>
            <p:nvPr/>
          </p:nvGrpSpPr>
          <p:grpSpPr>
            <a:xfrm>
              <a:off x="4825080" y="2855880"/>
              <a:ext cx="919080" cy="721800"/>
              <a:chOff x="4825080" y="2855880"/>
              <a:chExt cx="919080" cy="721800"/>
            </a:xfrm>
          </p:grpSpPr>
          <p:sp>
            <p:nvSpPr>
              <p:cNvPr id="190" name=""/>
              <p:cNvSpPr/>
              <p:nvPr/>
            </p:nvSpPr>
            <p:spPr>
              <a:xfrm>
                <a:off x="4825440" y="2855880"/>
                <a:ext cx="8528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25080" y="2856240"/>
                <a:ext cx="673560" cy="67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 rot="12572400">
                <a:off x="5259600" y="3108960"/>
                <a:ext cx="41436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184720" y="2358000"/>
              <a:ext cx="918360" cy="721080"/>
              <a:chOff x="5184720" y="2358000"/>
              <a:chExt cx="918360" cy="721080"/>
            </a:xfrm>
          </p:grpSpPr>
          <p:sp>
            <p:nvSpPr>
              <p:cNvPr id="194" name=""/>
              <p:cNvSpPr/>
              <p:nvPr/>
            </p:nvSpPr>
            <p:spPr>
              <a:xfrm>
                <a:off x="5184720" y="2358000"/>
                <a:ext cx="8524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84720" y="2358000"/>
                <a:ext cx="673200" cy="67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 rot="12572400">
                <a:off x="5619240" y="261108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005440" y="2604960"/>
              <a:ext cx="919080" cy="722160"/>
              <a:chOff x="5005440" y="2604960"/>
              <a:chExt cx="919080" cy="722160"/>
            </a:xfrm>
          </p:grpSpPr>
          <p:sp>
            <p:nvSpPr>
              <p:cNvPr id="198" name=""/>
              <p:cNvSpPr/>
              <p:nvPr/>
            </p:nvSpPr>
            <p:spPr>
              <a:xfrm>
                <a:off x="5005440" y="2604960"/>
                <a:ext cx="85320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05440" y="2605320"/>
                <a:ext cx="672480" cy="67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 rot="12572400">
                <a:off x="5439960" y="2857320"/>
                <a:ext cx="41436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5543640" y="1860840"/>
              <a:ext cx="918720" cy="721440"/>
              <a:chOff x="5543640" y="1860840"/>
              <a:chExt cx="918720" cy="721440"/>
            </a:xfrm>
          </p:grpSpPr>
          <p:sp>
            <p:nvSpPr>
              <p:cNvPr id="202" name=""/>
              <p:cNvSpPr/>
              <p:nvPr/>
            </p:nvSpPr>
            <p:spPr>
              <a:xfrm>
                <a:off x="5544000" y="1860840"/>
                <a:ext cx="852480" cy="42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43640" y="1861200"/>
                <a:ext cx="673200" cy="67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 rot="12572400">
                <a:off x="5977800" y="2113560"/>
                <a:ext cx="41436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363640" y="2109240"/>
              <a:ext cx="918720" cy="721080"/>
              <a:chOff x="5363640" y="2109240"/>
              <a:chExt cx="918720" cy="721080"/>
            </a:xfrm>
          </p:grpSpPr>
          <p:sp>
            <p:nvSpPr>
              <p:cNvPr id="206" name=""/>
              <p:cNvSpPr/>
              <p:nvPr/>
            </p:nvSpPr>
            <p:spPr>
              <a:xfrm>
                <a:off x="5363640" y="2109240"/>
                <a:ext cx="852480" cy="42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63640" y="2109240"/>
                <a:ext cx="673200" cy="67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 rot="12572400">
                <a:off x="5798520" y="236232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720400" y="1615320"/>
              <a:ext cx="919080" cy="722160"/>
              <a:chOff x="5720400" y="1615320"/>
              <a:chExt cx="919080" cy="722160"/>
            </a:xfrm>
          </p:grpSpPr>
          <p:sp>
            <p:nvSpPr>
              <p:cNvPr id="210" name=""/>
              <p:cNvSpPr/>
              <p:nvPr/>
            </p:nvSpPr>
            <p:spPr>
              <a:xfrm>
                <a:off x="5720400" y="1615320"/>
                <a:ext cx="853200" cy="42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20400" y="1615320"/>
                <a:ext cx="672480" cy="67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 rot="12572400">
                <a:off x="6154920" y="1867680"/>
                <a:ext cx="41436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901840" y="1365840"/>
              <a:ext cx="918360" cy="721080"/>
              <a:chOff x="5901840" y="1365840"/>
              <a:chExt cx="918360" cy="721080"/>
            </a:xfrm>
          </p:grpSpPr>
          <p:sp>
            <p:nvSpPr>
              <p:cNvPr id="214" name=""/>
              <p:cNvSpPr/>
              <p:nvPr/>
            </p:nvSpPr>
            <p:spPr>
              <a:xfrm>
                <a:off x="5901840" y="1365840"/>
                <a:ext cx="85212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01840" y="1365840"/>
                <a:ext cx="673200" cy="67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 rot="12572400">
                <a:off x="6336360" y="161892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081840" y="1118160"/>
              <a:ext cx="918720" cy="720720"/>
              <a:chOff x="6081840" y="1118160"/>
              <a:chExt cx="918720" cy="720720"/>
            </a:xfrm>
          </p:grpSpPr>
          <p:sp>
            <p:nvSpPr>
              <p:cNvPr id="218" name=""/>
              <p:cNvSpPr/>
              <p:nvPr/>
            </p:nvSpPr>
            <p:spPr>
              <a:xfrm>
                <a:off x="6081840" y="1118160"/>
                <a:ext cx="8524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81840" y="1118160"/>
                <a:ext cx="673200" cy="67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 rot="12572400">
                <a:off x="6516720" y="137088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440760" y="621360"/>
              <a:ext cx="919080" cy="722160"/>
              <a:chOff x="6440760" y="621360"/>
              <a:chExt cx="919080" cy="722160"/>
            </a:xfrm>
          </p:grpSpPr>
          <p:sp>
            <p:nvSpPr>
              <p:cNvPr id="222" name=""/>
              <p:cNvSpPr/>
              <p:nvPr/>
            </p:nvSpPr>
            <p:spPr>
              <a:xfrm>
                <a:off x="6440760" y="621360"/>
                <a:ext cx="853200" cy="42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40760" y="621720"/>
                <a:ext cx="672480" cy="67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 rot="12572400">
                <a:off x="6875280" y="873720"/>
                <a:ext cx="41436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260760" y="869040"/>
              <a:ext cx="918360" cy="721080"/>
              <a:chOff x="6260760" y="869040"/>
              <a:chExt cx="918360" cy="721080"/>
            </a:xfrm>
          </p:grpSpPr>
          <p:sp>
            <p:nvSpPr>
              <p:cNvPr id="226" name=""/>
              <p:cNvSpPr/>
              <p:nvPr/>
            </p:nvSpPr>
            <p:spPr>
              <a:xfrm>
                <a:off x="6260760" y="869040"/>
                <a:ext cx="852120" cy="42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60760" y="869040"/>
                <a:ext cx="673200" cy="67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 rot="12572400">
                <a:off x="6695280" y="112212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620400" y="370800"/>
              <a:ext cx="918720" cy="721080"/>
              <a:chOff x="6620400" y="370800"/>
              <a:chExt cx="918720" cy="721080"/>
            </a:xfrm>
          </p:grpSpPr>
          <p:sp>
            <p:nvSpPr>
              <p:cNvPr id="230" name=""/>
              <p:cNvSpPr/>
              <p:nvPr/>
            </p:nvSpPr>
            <p:spPr>
              <a:xfrm>
                <a:off x="6620400" y="370800"/>
                <a:ext cx="852480" cy="42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20400" y="370800"/>
                <a:ext cx="673560" cy="67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 rot="12572400">
                <a:off x="7055280" y="62388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434720" y="749520"/>
              <a:ext cx="26712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5480" y="3524400"/>
              <a:ext cx="267840" cy="30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 rot="12312600">
              <a:off x="5552280" y="6216480"/>
              <a:ext cx="4028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05480" y="3524400"/>
              <a:ext cx="267840" cy="30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 rot="12312600">
              <a:off x="7306200" y="3696840"/>
              <a:ext cx="4028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 rot="12312600">
              <a:off x="7130160" y="3949920"/>
              <a:ext cx="402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 rot="12312600">
              <a:off x="6954480" y="4200120"/>
              <a:ext cx="4028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 rot="12312600">
              <a:off x="6779520" y="4454280"/>
              <a:ext cx="4028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 rot="12312600">
              <a:off x="6603840" y="4706280"/>
              <a:ext cx="402840" cy="39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 rot="12312600">
              <a:off x="6429600" y="4957560"/>
              <a:ext cx="402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 rot="12312600">
              <a:off x="6253920" y="5209200"/>
              <a:ext cx="402840" cy="39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 rot="12312600">
              <a:off x="6078960" y="5461920"/>
              <a:ext cx="4028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 rot="12312600">
              <a:off x="5903280" y="5712120"/>
              <a:ext cx="4028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 rot="12312600">
              <a:off x="5727960" y="5966280"/>
              <a:ext cx="40284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7258680" y="1001880"/>
              <a:ext cx="267480" cy="30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7082640" y="1255320"/>
              <a:ext cx="268200" cy="30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6907680" y="1506600"/>
              <a:ext cx="26748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6732360" y="1758960"/>
              <a:ext cx="267840" cy="308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557400" y="2010600"/>
              <a:ext cx="267840" cy="308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6381360" y="2264040"/>
              <a:ext cx="268920" cy="308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6207120" y="2514240"/>
              <a:ext cx="26748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6031440" y="2766960"/>
              <a:ext cx="268200" cy="30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856840" y="3018240"/>
              <a:ext cx="267120" cy="30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5680800" y="3271680"/>
              <a:ext cx="268200" cy="30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15360" y="2915280"/>
              <a:ext cx="264600" cy="308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093280" y="5985360"/>
              <a:ext cx="66348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261080" y="78480"/>
            <a:ext cx="2879640" cy="6229080"/>
            <a:chOff x="1261080" y="78480"/>
            <a:chExt cx="2879640" cy="6229080"/>
          </a:xfrm>
        </p:grpSpPr>
        <p:sp>
          <p:nvSpPr>
            <p:cNvPr id="260" name=""/>
            <p:cNvSpPr/>
            <p:nvPr/>
          </p:nvSpPr>
          <p:spPr>
            <a:xfrm flipH="1" flipV="1">
              <a:off x="3972960" y="3846960"/>
              <a:ext cx="16740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102120" y="78480"/>
              <a:ext cx="885960" cy="720360"/>
              <a:chOff x="3102120" y="78480"/>
              <a:chExt cx="885960" cy="720360"/>
            </a:xfrm>
          </p:grpSpPr>
          <p:sp>
            <p:nvSpPr>
              <p:cNvPr id="262" name=""/>
              <p:cNvSpPr/>
              <p:nvPr/>
            </p:nvSpPr>
            <p:spPr>
              <a:xfrm flipH="1" flipV="1">
                <a:off x="3166920" y="36828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3351240" y="12492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 rot="1848000">
                <a:off x="3173400" y="15372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733840" y="564120"/>
              <a:ext cx="886320" cy="720360"/>
              <a:chOff x="2733840" y="564120"/>
              <a:chExt cx="886320" cy="720360"/>
            </a:xfrm>
          </p:grpSpPr>
          <p:sp>
            <p:nvSpPr>
              <p:cNvPr id="266" name=""/>
              <p:cNvSpPr/>
              <p:nvPr/>
            </p:nvSpPr>
            <p:spPr>
              <a:xfrm flipH="1" flipV="1">
                <a:off x="2799000" y="85392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flipV="1">
                <a:off x="2983320" y="610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 rot="1848000">
                <a:off x="2805120" y="639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917800" y="321480"/>
              <a:ext cx="886320" cy="720360"/>
              <a:chOff x="2917800" y="321480"/>
              <a:chExt cx="886320" cy="720360"/>
            </a:xfrm>
          </p:grpSpPr>
          <p:sp>
            <p:nvSpPr>
              <p:cNvPr id="270" name=""/>
              <p:cNvSpPr/>
              <p:nvPr/>
            </p:nvSpPr>
            <p:spPr>
              <a:xfrm flipH="1" flipV="1">
                <a:off x="2982600" y="61128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3167280" y="36792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flipV="1" rot="1848000">
                <a:off x="2989080" y="39672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365560" y="1050120"/>
              <a:ext cx="886320" cy="720360"/>
              <a:chOff x="2365560" y="1050120"/>
              <a:chExt cx="886320" cy="720360"/>
            </a:xfrm>
          </p:grpSpPr>
          <p:sp>
            <p:nvSpPr>
              <p:cNvPr id="274" name=""/>
              <p:cNvSpPr/>
              <p:nvPr/>
            </p:nvSpPr>
            <p:spPr>
              <a:xfrm flipH="1" flipV="1">
                <a:off x="2430360" y="133992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2615040" y="1096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 rot="1848000">
                <a:off x="2436840" y="1125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549880" y="807120"/>
              <a:ext cx="885960" cy="720360"/>
              <a:chOff x="2549880" y="807120"/>
              <a:chExt cx="885960" cy="720360"/>
            </a:xfrm>
          </p:grpSpPr>
          <p:sp>
            <p:nvSpPr>
              <p:cNvPr id="278" name=""/>
              <p:cNvSpPr/>
              <p:nvPr/>
            </p:nvSpPr>
            <p:spPr>
              <a:xfrm flipH="1" flipV="1">
                <a:off x="2614680" y="109692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2799000" y="853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 rot="1848000">
                <a:off x="2621160" y="882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181600" y="1293120"/>
              <a:ext cx="886320" cy="720360"/>
              <a:chOff x="2181600" y="1293120"/>
              <a:chExt cx="886320" cy="720360"/>
            </a:xfrm>
          </p:grpSpPr>
          <p:sp>
            <p:nvSpPr>
              <p:cNvPr id="282" name=""/>
              <p:cNvSpPr/>
              <p:nvPr/>
            </p:nvSpPr>
            <p:spPr>
              <a:xfrm flipH="1" flipV="1">
                <a:off x="2246760" y="158292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2431080" y="1339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 rot="1848000">
                <a:off x="2252880" y="1368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997640" y="1536120"/>
              <a:ext cx="885960" cy="720360"/>
              <a:chOff x="1997640" y="1536120"/>
              <a:chExt cx="885960" cy="720360"/>
            </a:xfrm>
          </p:grpSpPr>
          <p:sp>
            <p:nvSpPr>
              <p:cNvPr id="286" name=""/>
              <p:cNvSpPr/>
              <p:nvPr/>
            </p:nvSpPr>
            <p:spPr>
              <a:xfrm flipH="1" flipV="1">
                <a:off x="2062440" y="182592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2246760" y="1582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 rot="1848000">
                <a:off x="2068920" y="1611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13320" y="1779120"/>
              <a:ext cx="886320" cy="720360"/>
              <a:chOff x="1813320" y="1779120"/>
              <a:chExt cx="886320" cy="720360"/>
            </a:xfrm>
          </p:grpSpPr>
          <p:sp>
            <p:nvSpPr>
              <p:cNvPr id="290" name=""/>
              <p:cNvSpPr/>
              <p:nvPr/>
            </p:nvSpPr>
            <p:spPr>
              <a:xfrm flipH="1" flipV="1">
                <a:off x="1878480" y="206892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2062800" y="182556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 rot="1848000">
                <a:off x="1884600" y="185436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445400" y="2264760"/>
              <a:ext cx="885960" cy="720360"/>
              <a:chOff x="1445400" y="2264760"/>
              <a:chExt cx="885960" cy="720360"/>
            </a:xfrm>
          </p:grpSpPr>
          <p:sp>
            <p:nvSpPr>
              <p:cNvPr id="294" name=""/>
              <p:cNvSpPr/>
              <p:nvPr/>
            </p:nvSpPr>
            <p:spPr>
              <a:xfrm flipH="1" flipV="1">
                <a:off x="1510200" y="2554560"/>
                <a:ext cx="82116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1694520" y="231120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 rot="1848000">
                <a:off x="1516680" y="234000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629360" y="2021760"/>
              <a:ext cx="886320" cy="720360"/>
              <a:chOff x="1629360" y="2021760"/>
              <a:chExt cx="886320" cy="720360"/>
            </a:xfrm>
          </p:grpSpPr>
          <p:sp>
            <p:nvSpPr>
              <p:cNvPr id="298" name=""/>
              <p:cNvSpPr/>
              <p:nvPr/>
            </p:nvSpPr>
            <p:spPr>
              <a:xfrm flipH="1" flipV="1">
                <a:off x="1694520" y="2311560"/>
                <a:ext cx="82080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1878840" y="2068200"/>
                <a:ext cx="636840" cy="67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 rot="1848000">
                <a:off x="1700640" y="2097000"/>
                <a:ext cx="40284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H="1" flipV="1">
              <a:off x="1326240" y="2797560"/>
              <a:ext cx="820800" cy="43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1510560" y="2554200"/>
              <a:ext cx="636840" cy="67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 rot="1848000">
              <a:off x="1332360" y="2583000"/>
              <a:ext cx="402840" cy="38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88080" y="798840"/>
              <a:ext cx="15264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04120" y="1041840"/>
              <a:ext cx="15228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19800" y="1284840"/>
              <a:ext cx="15264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35840" y="1527840"/>
              <a:ext cx="15264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51880" y="1770840"/>
              <a:ext cx="15228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67560" y="2013840"/>
              <a:ext cx="15264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83600" y="2256480"/>
              <a:ext cx="15264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99640" y="2499480"/>
              <a:ext cx="15228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5320" y="2742480"/>
              <a:ext cx="15264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31720" y="2985480"/>
              <a:ext cx="15228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47400" y="3228480"/>
              <a:ext cx="152280" cy="30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6600" y="2797560"/>
              <a:ext cx="152280" cy="30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1478880" y="5876640"/>
              <a:ext cx="820800" cy="43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3789000" y="4089600"/>
              <a:ext cx="16704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3604680" y="4332600"/>
              <a:ext cx="16740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3420720" y="4575600"/>
              <a:ext cx="16740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3236760" y="4818600"/>
              <a:ext cx="16704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052440" y="5061600"/>
              <a:ext cx="16776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2868480" y="5304600"/>
              <a:ext cx="16740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2684520" y="5547240"/>
              <a:ext cx="16740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2500200" y="5790240"/>
              <a:ext cx="16776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2316240" y="6033240"/>
              <a:ext cx="16740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4895280" y="378000"/>
            <a:ext cx="2943360" cy="6293160"/>
            <a:chOff x="4895280" y="378000"/>
            <a:chExt cx="2943360" cy="6293160"/>
          </a:xfrm>
        </p:grpSpPr>
        <p:grpSp>
          <p:nvGrpSpPr>
            <p:cNvPr id="327" name=""/>
            <p:cNvGrpSpPr/>
            <p:nvPr/>
          </p:nvGrpSpPr>
          <p:grpSpPr>
            <a:xfrm>
              <a:off x="4906080" y="2833200"/>
              <a:ext cx="912240" cy="732960"/>
              <a:chOff x="4906080" y="2833200"/>
              <a:chExt cx="912240" cy="732960"/>
            </a:xfrm>
          </p:grpSpPr>
          <p:sp>
            <p:nvSpPr>
              <p:cNvPr id="328" name=""/>
              <p:cNvSpPr/>
              <p:nvPr/>
            </p:nvSpPr>
            <p:spPr>
              <a:xfrm>
                <a:off x="4906080" y="2833200"/>
                <a:ext cx="84600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06080" y="2833560"/>
                <a:ext cx="662040" cy="68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 rot="12627600">
                <a:off x="5332680" y="3096720"/>
                <a:ext cx="41436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274000" y="2341800"/>
              <a:ext cx="912240" cy="732240"/>
              <a:chOff x="5274000" y="2341800"/>
              <a:chExt cx="912240" cy="732240"/>
            </a:xfrm>
          </p:grpSpPr>
          <p:sp>
            <p:nvSpPr>
              <p:cNvPr id="332" name=""/>
              <p:cNvSpPr/>
              <p:nvPr/>
            </p:nvSpPr>
            <p:spPr>
              <a:xfrm>
                <a:off x="5274000" y="2341800"/>
                <a:ext cx="84528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74000" y="2341800"/>
                <a:ext cx="6620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 rot="12627600">
                <a:off x="5700600" y="260496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090760" y="2585520"/>
              <a:ext cx="912960" cy="733680"/>
              <a:chOff x="5090760" y="2585520"/>
              <a:chExt cx="912960" cy="733680"/>
            </a:xfrm>
          </p:grpSpPr>
          <p:sp>
            <p:nvSpPr>
              <p:cNvPr id="336" name=""/>
              <p:cNvSpPr/>
              <p:nvPr/>
            </p:nvSpPr>
            <p:spPr>
              <a:xfrm>
                <a:off x="5091120" y="2585520"/>
                <a:ext cx="845640" cy="44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90760" y="2585880"/>
                <a:ext cx="661320" cy="68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 rot="12627600">
                <a:off x="5518080" y="2847600"/>
                <a:ext cx="41436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641200" y="1850040"/>
              <a:ext cx="911880" cy="732960"/>
              <a:chOff x="5641200" y="1850040"/>
              <a:chExt cx="911880" cy="732960"/>
            </a:xfrm>
          </p:grpSpPr>
          <p:sp>
            <p:nvSpPr>
              <p:cNvPr id="340" name=""/>
              <p:cNvSpPr/>
              <p:nvPr/>
            </p:nvSpPr>
            <p:spPr>
              <a:xfrm>
                <a:off x="5641200" y="1850040"/>
                <a:ext cx="84564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41200" y="1850400"/>
                <a:ext cx="661680" cy="68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 rot="12627600">
                <a:off x="6067440" y="2113560"/>
                <a:ext cx="41436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456880" y="2095920"/>
              <a:ext cx="912240" cy="732600"/>
              <a:chOff x="5456880" y="2095920"/>
              <a:chExt cx="912240" cy="732600"/>
            </a:xfrm>
          </p:grpSpPr>
          <p:sp>
            <p:nvSpPr>
              <p:cNvPr id="344" name=""/>
              <p:cNvSpPr/>
              <p:nvPr/>
            </p:nvSpPr>
            <p:spPr>
              <a:xfrm>
                <a:off x="5456880" y="2095920"/>
                <a:ext cx="84528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56880" y="2095920"/>
                <a:ext cx="6624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 rot="12627600">
                <a:off x="5883480" y="235944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821560" y="1607400"/>
              <a:ext cx="912960" cy="733680"/>
              <a:chOff x="5821560" y="1607400"/>
              <a:chExt cx="912960" cy="733680"/>
            </a:xfrm>
          </p:grpSpPr>
          <p:sp>
            <p:nvSpPr>
              <p:cNvPr id="348" name=""/>
              <p:cNvSpPr/>
              <p:nvPr/>
            </p:nvSpPr>
            <p:spPr>
              <a:xfrm>
                <a:off x="5821560" y="1607400"/>
                <a:ext cx="846000" cy="44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21560" y="1607760"/>
                <a:ext cx="661320" cy="68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 rot="12627600">
                <a:off x="6248880" y="1869480"/>
                <a:ext cx="41436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06960" y="1361160"/>
              <a:ext cx="912240" cy="732600"/>
              <a:chOff x="6006960" y="1361160"/>
              <a:chExt cx="912240" cy="732600"/>
            </a:xfrm>
          </p:grpSpPr>
          <p:sp>
            <p:nvSpPr>
              <p:cNvPr id="352" name=""/>
              <p:cNvSpPr/>
              <p:nvPr/>
            </p:nvSpPr>
            <p:spPr>
              <a:xfrm>
                <a:off x="6006960" y="1361160"/>
                <a:ext cx="84528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06960" y="1361160"/>
                <a:ext cx="6620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 rot="12627600">
                <a:off x="6433560" y="162468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6190920" y="1116000"/>
              <a:ext cx="912240" cy="732600"/>
              <a:chOff x="6190920" y="1116000"/>
              <a:chExt cx="912240" cy="732600"/>
            </a:xfrm>
          </p:grpSpPr>
          <p:sp>
            <p:nvSpPr>
              <p:cNvPr id="356" name=""/>
              <p:cNvSpPr/>
              <p:nvPr/>
            </p:nvSpPr>
            <p:spPr>
              <a:xfrm>
                <a:off x="6190920" y="1116000"/>
                <a:ext cx="84528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90920" y="1116000"/>
                <a:ext cx="662400" cy="68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 rot="12627600">
                <a:off x="6617520" y="137952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6557760" y="625320"/>
              <a:ext cx="912960" cy="733320"/>
              <a:chOff x="6557760" y="625320"/>
              <a:chExt cx="912960" cy="733320"/>
            </a:xfrm>
          </p:grpSpPr>
          <p:sp>
            <p:nvSpPr>
              <p:cNvPr id="360" name=""/>
              <p:cNvSpPr/>
              <p:nvPr/>
            </p:nvSpPr>
            <p:spPr>
              <a:xfrm>
                <a:off x="6558120" y="625320"/>
                <a:ext cx="845640" cy="44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557760" y="625680"/>
                <a:ext cx="661320" cy="68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 rot="12627600">
                <a:off x="6985080" y="887040"/>
                <a:ext cx="41436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373800" y="870120"/>
              <a:ext cx="912240" cy="732600"/>
              <a:chOff x="6373800" y="870120"/>
              <a:chExt cx="912240" cy="73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6373800" y="870120"/>
                <a:ext cx="845280" cy="44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73800" y="870120"/>
                <a:ext cx="662040" cy="68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 rot="12627600">
                <a:off x="6800400" y="113364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741720" y="378000"/>
              <a:ext cx="912240" cy="732240"/>
              <a:chOff x="6741720" y="378000"/>
              <a:chExt cx="912240" cy="732240"/>
            </a:xfrm>
          </p:grpSpPr>
          <p:sp>
            <p:nvSpPr>
              <p:cNvPr id="368" name=""/>
              <p:cNvSpPr/>
              <p:nvPr/>
            </p:nvSpPr>
            <p:spPr>
              <a:xfrm>
                <a:off x="6741720" y="378000"/>
                <a:ext cx="845280" cy="44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41720" y="378000"/>
                <a:ext cx="66204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 rot="12627600">
                <a:off x="7168320" y="641160"/>
                <a:ext cx="414360" cy="3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549200" y="768960"/>
              <a:ext cx="217440" cy="308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75320" y="3512520"/>
              <a:ext cx="218520" cy="30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 rot="12367200">
              <a:off x="5576760" y="6209280"/>
              <a:ext cx="402120" cy="39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75320" y="3512520"/>
              <a:ext cx="218520" cy="30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 rot="12367200">
              <a:off x="7370640" y="3717000"/>
              <a:ext cx="40212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 rot="12367200">
              <a:off x="7190280" y="3967560"/>
              <a:ext cx="402120" cy="3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 rot="12367200">
              <a:off x="7011000" y="4215600"/>
              <a:ext cx="402120" cy="39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 rot="12367200">
              <a:off x="6831720" y="4465800"/>
              <a:ext cx="40212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 rot="12367200">
              <a:off x="6652080" y="4714200"/>
              <a:ext cx="4021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 rot="12367200">
              <a:off x="6473520" y="4964040"/>
              <a:ext cx="402120" cy="3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 rot="12367200">
              <a:off x="6294240" y="5211360"/>
              <a:ext cx="4021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 rot="12367200">
              <a:off x="6115320" y="5461920"/>
              <a:ext cx="402120" cy="39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 rot="12367200">
              <a:off x="5935680" y="5710320"/>
              <a:ext cx="402120" cy="39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 rot="12367200">
              <a:off x="5756040" y="5961240"/>
              <a:ext cx="402120" cy="3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7369560" y="1018800"/>
              <a:ext cx="217080" cy="308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7189200" y="1269000"/>
              <a:ext cx="218520" cy="30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7010280" y="1517760"/>
              <a:ext cx="21744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6831000" y="1767240"/>
              <a:ext cx="217800" cy="30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652080" y="2016000"/>
              <a:ext cx="218160" cy="30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6471720" y="2266560"/>
              <a:ext cx="219240" cy="30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293880" y="2514240"/>
              <a:ext cx="217440" cy="308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6113880" y="2764080"/>
              <a:ext cx="218520" cy="30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5935320" y="3012480"/>
              <a:ext cx="217080" cy="308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5755320" y="3262680"/>
              <a:ext cx="218160" cy="30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95280" y="2892600"/>
              <a:ext cx="214560" cy="309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5123880" y="5966640"/>
              <a:ext cx="653040" cy="6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468360" y="333360"/>
            <a:ext cx="51814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把两半嵌合在一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3901680" y="165600"/>
            <a:ext cx="3031560" cy="6491880"/>
            <a:chOff x="3901680" y="165600"/>
            <a:chExt cx="3031560" cy="6491880"/>
          </a:xfrm>
        </p:grpSpPr>
        <p:grpSp>
          <p:nvGrpSpPr>
            <p:cNvPr id="399" name=""/>
            <p:cNvGrpSpPr/>
            <p:nvPr/>
          </p:nvGrpSpPr>
          <p:grpSpPr>
            <a:xfrm>
              <a:off x="3939840" y="435960"/>
              <a:ext cx="2993400" cy="6221520"/>
              <a:chOff x="3939840" y="435960"/>
              <a:chExt cx="2993400" cy="622152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3998160" y="2714040"/>
                <a:ext cx="884520" cy="806040"/>
                <a:chOff x="3998160" y="2714040"/>
                <a:chExt cx="884520" cy="806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998520" y="2714040"/>
                  <a:ext cx="81396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998160" y="2714400"/>
                  <a:ext cx="609120" cy="75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 rot="12940800">
                  <a:off x="4386240" y="3041640"/>
                  <a:ext cx="421560" cy="39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408920" y="2257560"/>
                <a:ext cx="883440" cy="805680"/>
                <a:chOff x="4408920" y="2257560"/>
                <a:chExt cx="883440" cy="8056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408920" y="225756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08920" y="2257560"/>
                  <a:ext cx="60876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 rot="12940800">
                  <a:off x="4795560" y="258552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4204080" y="2483640"/>
                <a:ext cx="884880" cy="807120"/>
                <a:chOff x="4204080" y="2483640"/>
                <a:chExt cx="884880" cy="80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4204440" y="2483640"/>
                  <a:ext cx="814320" cy="52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204080" y="2484000"/>
                  <a:ext cx="608400" cy="75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 flipV="1" rot="12940800">
                  <a:off x="4591440" y="2810880"/>
                  <a:ext cx="421560" cy="39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819320" y="1801800"/>
                <a:ext cx="884160" cy="805680"/>
                <a:chOff x="4819320" y="1801800"/>
                <a:chExt cx="884160" cy="8056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819680" y="1801800"/>
                  <a:ext cx="813600" cy="52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819320" y="1802160"/>
                  <a:ext cx="60876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 rot="12940800">
                  <a:off x="5207040" y="2129040"/>
                  <a:ext cx="421560" cy="39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4613760" y="2029680"/>
                <a:ext cx="883440" cy="805680"/>
                <a:chOff x="4613760" y="2029680"/>
                <a:chExt cx="883440" cy="8056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613760" y="202968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13760" y="2029680"/>
                  <a:ext cx="60876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 flipV="1" rot="12940800">
                  <a:off x="5000400" y="235764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020920" y="1576440"/>
                <a:ext cx="884880" cy="806760"/>
                <a:chOff x="5020920" y="1576440"/>
                <a:chExt cx="884880" cy="8067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021280" y="1576440"/>
                  <a:ext cx="814320" cy="52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020920" y="1576800"/>
                  <a:ext cx="608400" cy="75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flipV="1" rot="12940800">
                  <a:off x="5408280" y="1903320"/>
                  <a:ext cx="421560" cy="39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228280" y="1347840"/>
                <a:ext cx="883440" cy="805680"/>
                <a:chOff x="5228280" y="1347840"/>
                <a:chExt cx="883440" cy="805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228280" y="134784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228280" y="1347840"/>
                  <a:ext cx="60876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 flipV="1" rot="12940800">
                  <a:off x="5614920" y="167580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5434200" y="1121040"/>
                <a:ext cx="883440" cy="805680"/>
                <a:chOff x="5434200" y="1121040"/>
                <a:chExt cx="883440" cy="8056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434200" y="112104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434200" y="1121040"/>
                  <a:ext cx="60876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 flipV="1" rot="12940800">
                  <a:off x="5820840" y="144900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5843880" y="665640"/>
                <a:ext cx="884880" cy="806760"/>
                <a:chOff x="5843880" y="665640"/>
                <a:chExt cx="884880" cy="8067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844240" y="665640"/>
                  <a:ext cx="814320" cy="52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843880" y="665640"/>
                  <a:ext cx="608400" cy="75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flipV="1" rot="12940800">
                  <a:off x="6231240" y="992520"/>
                  <a:ext cx="421560" cy="39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5638320" y="892800"/>
                <a:ext cx="883800" cy="805680"/>
                <a:chOff x="5638320" y="892800"/>
                <a:chExt cx="883800" cy="8056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5638320" y="89280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638320" y="892800"/>
                  <a:ext cx="60912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 rot="12940800">
                  <a:off x="6025320" y="122076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6049440" y="435960"/>
                <a:ext cx="883800" cy="805680"/>
                <a:chOff x="6049440" y="435960"/>
                <a:chExt cx="883800" cy="80568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6049440" y="43596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6049440" y="435960"/>
                  <a:ext cx="60912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 flipV="1" rot="12940800">
                  <a:off x="6436440" y="76392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 flipH="1">
                <a:off x="6790680" y="909360"/>
                <a:ext cx="39240" cy="31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4576320" y="3462120"/>
                <a:ext cx="38520" cy="31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 rot="12680400">
                <a:off x="4370760" y="6185880"/>
                <a:ext cx="40932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576320" y="3462120"/>
                <a:ext cx="38520" cy="31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 rot="12680400">
                <a:off x="6384240" y="3866760"/>
                <a:ext cx="409320" cy="3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 rot="12680400">
                <a:off x="6181920" y="4100760"/>
                <a:ext cx="40932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 rot="12680400">
                <a:off x="5980320" y="4330800"/>
                <a:ext cx="40932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 rot="12680400">
                <a:off x="5779800" y="4563360"/>
                <a:ext cx="409320" cy="3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 rot="12680400">
                <a:off x="5577840" y="4795560"/>
                <a:ext cx="40932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 rot="12680400">
                <a:off x="5377680" y="5027760"/>
                <a:ext cx="40932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 rot="12680400">
                <a:off x="5176440" y="5258160"/>
                <a:ext cx="40932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 rot="12680400">
                <a:off x="4975200" y="5490360"/>
                <a:ext cx="409320" cy="3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 rot="12680400">
                <a:off x="4773600" y="5721840"/>
                <a:ext cx="40932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 rot="12680400">
                <a:off x="4572360" y="5955840"/>
                <a:ext cx="40932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6588720" y="1141560"/>
                <a:ext cx="39240" cy="31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387480" y="1374480"/>
                <a:ext cx="38520" cy="31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185880" y="1605960"/>
                <a:ext cx="39240" cy="31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985000" y="1838160"/>
                <a:ext cx="3852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784120" y="2069280"/>
                <a:ext cx="3852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583240" y="2302560"/>
                <a:ext cx="37440" cy="311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381640" y="2532600"/>
                <a:ext cx="39240" cy="31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180760" y="2765160"/>
                <a:ext cx="3816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4978800" y="2996280"/>
                <a:ext cx="39600" cy="31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4777920" y="3229200"/>
                <a:ext cx="3816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3939840" y="2772360"/>
                <a:ext cx="42120" cy="312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3955320" y="5876280"/>
                <a:ext cx="601920" cy="72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 flipH="1" flipV="1" rot="2076600">
              <a:off x="6072840" y="245880"/>
              <a:ext cx="405000" cy="38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6264720" y="192960"/>
              <a:ext cx="639720" cy="79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 rot="2169600">
              <a:off x="5654520" y="720000"/>
              <a:ext cx="481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flipV="1" rot="2169600">
              <a:off x="5834160" y="478080"/>
              <a:ext cx="484920" cy="39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 rot="2169600">
              <a:off x="5247360" y="1168200"/>
              <a:ext cx="484920" cy="3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 rot="2169600">
              <a:off x="5449680" y="943920"/>
              <a:ext cx="484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 rot="2169600">
              <a:off x="5041800" y="1391400"/>
              <a:ext cx="484920" cy="39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 rot="2169600">
              <a:off x="4838040" y="1613520"/>
              <a:ext cx="484920" cy="3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 rot="2169600">
              <a:off x="4635360" y="1836360"/>
              <a:ext cx="481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 rot="2169600">
              <a:off x="4187880" y="2266560"/>
              <a:ext cx="4849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 rot="2169600">
              <a:off x="4430520" y="2060280"/>
              <a:ext cx="484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 rot="2169600">
              <a:off x="3971160" y="2496600"/>
              <a:ext cx="49140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3999240" y="2686320"/>
              <a:ext cx="810720" cy="60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623960" y="836640"/>
            <a:ext cx="100332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拼成一个长方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704880" y="235800"/>
            <a:ext cx="3032640" cy="6493320"/>
            <a:chOff x="704880" y="235800"/>
            <a:chExt cx="3032640" cy="6493320"/>
          </a:xfrm>
        </p:grpSpPr>
        <p:grpSp>
          <p:nvGrpSpPr>
            <p:cNvPr id="485" name=""/>
            <p:cNvGrpSpPr/>
            <p:nvPr/>
          </p:nvGrpSpPr>
          <p:grpSpPr>
            <a:xfrm>
              <a:off x="743760" y="507240"/>
              <a:ext cx="2993760" cy="6221880"/>
              <a:chOff x="743760" y="507240"/>
              <a:chExt cx="2993760" cy="622188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802080" y="2785320"/>
                <a:ext cx="884520" cy="806040"/>
                <a:chOff x="802080" y="2785320"/>
                <a:chExt cx="884520" cy="8060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802440" y="2785320"/>
                  <a:ext cx="81396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02080" y="2785680"/>
                  <a:ext cx="609120" cy="75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flipV="1" rot="12940800">
                  <a:off x="1190160" y="3112920"/>
                  <a:ext cx="421560" cy="39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1213200" y="2329200"/>
                <a:ext cx="883440" cy="805680"/>
                <a:chOff x="1213200" y="2329200"/>
                <a:chExt cx="883440" cy="8056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213200" y="232920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213200" y="2329200"/>
                  <a:ext cx="60876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 flipV="1" rot="12940800">
                  <a:off x="1599840" y="265716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1008000" y="2555280"/>
                <a:ext cx="884880" cy="806760"/>
                <a:chOff x="1008000" y="2555280"/>
                <a:chExt cx="884880" cy="806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1008360" y="2555280"/>
                  <a:ext cx="814320" cy="52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008000" y="2555640"/>
                  <a:ext cx="608400" cy="75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 rot="12940800">
                  <a:off x="1395360" y="2882160"/>
                  <a:ext cx="421560" cy="39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1623240" y="1873080"/>
                <a:ext cx="884160" cy="805680"/>
                <a:chOff x="1623240" y="1873080"/>
                <a:chExt cx="884160" cy="8056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623600" y="187308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623240" y="1873440"/>
                  <a:ext cx="608760" cy="75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 rot="12940800">
                  <a:off x="2010960" y="2200320"/>
                  <a:ext cx="421560" cy="39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1417680" y="2100960"/>
                <a:ext cx="883800" cy="805680"/>
                <a:chOff x="1417680" y="2100960"/>
                <a:chExt cx="883800" cy="8056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1417680" y="210096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417680" y="2100960"/>
                  <a:ext cx="60912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 flipV="1" rot="12940800">
                  <a:off x="1804680" y="242892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1825200" y="1647720"/>
                <a:ext cx="884880" cy="807120"/>
                <a:chOff x="1825200" y="1647720"/>
                <a:chExt cx="884880" cy="8071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1825200" y="1647720"/>
                  <a:ext cx="814320" cy="52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825200" y="1648080"/>
                  <a:ext cx="608040" cy="75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flipV="1" rot="12940800">
                  <a:off x="2212560" y="1974960"/>
                  <a:ext cx="421560" cy="39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032560" y="1419480"/>
                <a:ext cx="883440" cy="805680"/>
                <a:chOff x="2032560" y="1419480"/>
                <a:chExt cx="883440" cy="80568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2032560" y="141948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032560" y="1419480"/>
                  <a:ext cx="60876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 flipV="1" rot="12940800">
                  <a:off x="2419200" y="174744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238120" y="1192320"/>
                <a:ext cx="883800" cy="805680"/>
                <a:chOff x="2238120" y="1192320"/>
                <a:chExt cx="883800" cy="8056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238120" y="119232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238120" y="1192320"/>
                  <a:ext cx="60912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 flipV="1" rot="12940800">
                  <a:off x="2625120" y="152028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647800" y="737280"/>
                <a:ext cx="884880" cy="807480"/>
                <a:chOff x="2647800" y="737280"/>
                <a:chExt cx="884880" cy="8074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648160" y="737280"/>
                  <a:ext cx="814320" cy="52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647800" y="738000"/>
                  <a:ext cx="608040" cy="75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 flipV="1" rot="12940800">
                  <a:off x="3035160" y="1064880"/>
                  <a:ext cx="421560" cy="39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442600" y="964080"/>
                <a:ext cx="883440" cy="805680"/>
                <a:chOff x="2442600" y="964080"/>
                <a:chExt cx="883440" cy="8056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2442600" y="964080"/>
                  <a:ext cx="81324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442600" y="964080"/>
                  <a:ext cx="60876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flipV="1" rot="12940800">
                  <a:off x="2829240" y="129204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2853720" y="507240"/>
                <a:ext cx="883800" cy="806040"/>
                <a:chOff x="2853720" y="507240"/>
                <a:chExt cx="883800" cy="80604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854080" y="507240"/>
                  <a:ext cx="813600" cy="52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853720" y="507600"/>
                  <a:ext cx="609120" cy="754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flipV="1" rot="12940800">
                  <a:off x="3240720" y="835560"/>
                  <a:ext cx="421560" cy="39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254" y="2985"/>
                      </a:moveTo>
                      <a:arcTo wR="10800" hR="10800" stAng="-2781149" swAng="66616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254" y="2985"/>
                      </a:moveTo>
                      <a:arcTo wR="10800" hR="10800" stAng="-2781149" swAng="6661674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" name=""/>
              <p:cNvSpPr/>
              <p:nvPr/>
            </p:nvSpPr>
            <p:spPr>
              <a:xfrm flipH="1">
                <a:off x="3594600" y="980640"/>
                <a:ext cx="38880" cy="31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1380600" y="3533400"/>
                <a:ext cx="3780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flipV="1" rot="12680400">
                <a:off x="1175040" y="6257520"/>
                <a:ext cx="40932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1380600" y="3533400"/>
                <a:ext cx="3780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 rot="12680400">
                <a:off x="3188520" y="3938400"/>
                <a:ext cx="409320" cy="3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 rot="12680400">
                <a:off x="2986200" y="4172400"/>
                <a:ext cx="40932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 rot="12680400">
                <a:off x="2784600" y="4402440"/>
                <a:ext cx="40932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 rot="12680400">
                <a:off x="2584080" y="4635000"/>
                <a:ext cx="409320" cy="3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 rot="12680400">
                <a:off x="2382120" y="4867200"/>
                <a:ext cx="40932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 rot="12680400">
                <a:off x="2181960" y="5099400"/>
                <a:ext cx="40932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flipV="1" rot="12680400">
                <a:off x="1980720" y="5329800"/>
                <a:ext cx="409320" cy="39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 rot="12680400">
                <a:off x="1779480" y="5562000"/>
                <a:ext cx="409320" cy="3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 rot="12680400">
                <a:off x="1577880" y="5793480"/>
                <a:ext cx="40932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 rot="12680400">
                <a:off x="1376640" y="6027480"/>
                <a:ext cx="409320" cy="39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254" y="2985"/>
                    </a:moveTo>
                    <a:arcTo wR="10800" hR="10800" stAng="-2781149" swAng="66616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254" y="2985"/>
                    </a:moveTo>
                    <a:arcTo wR="10800" hR="10800" stAng="-2781149" swAng="6661674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3393000" y="1212840"/>
                <a:ext cx="39240" cy="31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191760" y="1445760"/>
                <a:ext cx="3816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2990160" y="1677240"/>
                <a:ext cx="38880" cy="31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2789280" y="1909440"/>
                <a:ext cx="38160" cy="31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2588400" y="2140920"/>
                <a:ext cx="3852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2387520" y="2373840"/>
                <a:ext cx="37080" cy="31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2185920" y="2604240"/>
                <a:ext cx="38880" cy="311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1985040" y="2836440"/>
                <a:ext cx="37800" cy="31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1783080" y="3067560"/>
                <a:ext cx="39240" cy="311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1582200" y="3300840"/>
                <a:ext cx="38160" cy="311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743760" y="2843640"/>
                <a:ext cx="42120" cy="31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759240" y="5947920"/>
                <a:ext cx="602280" cy="72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 flipH="1" flipV="1" rot="2076600">
              <a:off x="2876400" y="316080"/>
              <a:ext cx="405720" cy="38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3068280" y="263880"/>
              <a:ext cx="640080" cy="7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2169600">
              <a:off x="2456280" y="791640"/>
              <a:ext cx="482040" cy="39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 rot="2169600">
              <a:off x="2639160" y="549000"/>
              <a:ext cx="485640" cy="39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 rot="2169600">
              <a:off x="2051280" y="1239840"/>
              <a:ext cx="485640" cy="39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 rot="2169600">
              <a:off x="2253240" y="1014840"/>
              <a:ext cx="4849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 rot="2169600">
              <a:off x="1846800" y="1461960"/>
              <a:ext cx="485640" cy="3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 rot="2169600">
              <a:off x="1641960" y="1685160"/>
              <a:ext cx="485640" cy="39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 rot="2169600">
              <a:off x="1437480" y="1908000"/>
              <a:ext cx="482040" cy="39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 rot="2169600">
              <a:off x="992880" y="2338200"/>
              <a:ext cx="485640" cy="39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 rot="2169600">
              <a:off x="1233720" y="2131200"/>
              <a:ext cx="4849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 rot="2169600">
              <a:off x="774000" y="2567520"/>
              <a:ext cx="4921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254" y="2985"/>
                  </a:moveTo>
                  <a:arcTo wR="10800" hR="10800" stAng="-2781149" swAng="66616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254" y="2985"/>
                  </a:moveTo>
                  <a:arcTo wR="10800" hR="10800" stAng="-2781149" swAng="6661674"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802800" y="2757240"/>
              <a:ext cx="811080" cy="60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290840" y="1039680"/>
            <a:ext cx="381024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方体的体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=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62480" y="3489480"/>
            <a:ext cx="373392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：圆柱体的体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=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1-26T10:48:55Z</dcterms:modified>
  <cp:revision>22</cp:revision>
  <dc:subject/>
  <dc:title>PowerPoint 演示文稿</dc:title>
</cp:coreProperties>
</file>