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55B-4A6C-4DBD-9B5C-EBAD3FA3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001-4277-483E-89E5-3545387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F29-1C1F-4844-A6F4-F02D1809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4A3-DF64-4A05-9287-6838AFFA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06F-FD17-4715-92DF-4A2CBC0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946-BEFF-4A08-9784-E85698B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E8A-5E63-4D39-A2B3-5FDAA8F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2D1-62DA-454C-A200-851EFEE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1E7-5B21-41DF-9BA4-68372D24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1AB-F225-4C2F-96D1-67FEADB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BBD-5428-4FCD-B91C-86DE68B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F16-827A-4AFB-85BC-014589E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9E8B-1717-467E-9F7A-F9B6F2A80F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-111240" y="334332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可能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365840" y="1887480"/>
            <a:ext cx="4389480" cy="1390320"/>
            <a:chOff x="1365840" y="1887480"/>
            <a:chExt cx="43894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365840" y="1887480"/>
              <a:ext cx="43894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统计与概率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085640" y="26964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能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51559"/>
          <p:cNvSpPr/>
          <p:nvPr/>
        </p:nvSpPr>
        <p:spPr>
          <a:xfrm>
            <a:off x="2574720" y="1165320"/>
            <a:ext cx="41263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奇思和妙想做抛硬币的游戏（硬币是均匀的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奇思前三次抛的结果都是正面朝上，第四次一定会是正面朝上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妙想抛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次硬币，一定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次正面朝上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次反面朝上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你的想法与同伴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51560"/>
          <p:cNvSpPr/>
          <p:nvPr/>
        </p:nvSpPr>
        <p:spPr>
          <a:xfrm>
            <a:off x="1791720" y="2916360"/>
            <a:ext cx="16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答：不一定正面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51561"/>
          <p:cNvSpPr/>
          <p:nvPr/>
        </p:nvSpPr>
        <p:spPr>
          <a:xfrm>
            <a:off x="3029760" y="33577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因为硬币是均匀的，所以第四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仍有两种可能，有可能正面朝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也有可能反面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51562"/>
          <p:cNvSpPr/>
          <p:nvPr/>
        </p:nvSpPr>
        <p:spPr>
          <a:xfrm>
            <a:off x="1409760" y="479412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答：不一定正好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次正面朝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次反面朝上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318"/>
          <p:cNvSpPr/>
          <p:nvPr/>
        </p:nvSpPr>
        <p:spPr>
          <a:xfrm>
            <a:off x="3636360" y="627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复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2319"/>
          <p:cNvSpPr/>
          <p:nvPr/>
        </p:nvSpPr>
        <p:spPr>
          <a:xfrm>
            <a:off x="1861560" y="1484280"/>
            <a:ext cx="528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复习“可能性”的知识，在具体情境中，进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步感受简单的随机现象，体会概率知识与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实生活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320"/>
          <p:cNvSpPr/>
          <p:nvPr/>
        </p:nvSpPr>
        <p:spPr>
          <a:xfrm>
            <a:off x="4139280" y="3243240"/>
            <a:ext cx="80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过游戏、实验等活动，感受随机现象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发生的可能性是有大有小的，能对一些简单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随机现象发生的可能性大小做出定性描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我的文档\北六数\北六数大课堂下（学用）\EE113.tif"/>
          <p:cNvPicPr/>
          <p:nvPr/>
        </p:nvPicPr>
        <p:blipFill>
          <a:blip r:embed="rId1"/>
          <a:stretch/>
        </p:blipFill>
        <p:spPr>
          <a:xfrm>
            <a:off x="378000" y="966960"/>
            <a:ext cx="8388000" cy="377172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46200" y="4729320"/>
            <a:ext cx="782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说说上面每种情况下所有可能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图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，摸出哪种颜色球的可能性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图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，转盘停止后，指针落在哪种颜色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域的可能性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523800" y="1436760"/>
            <a:ext cx="807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盒子里有两种颜色的球，因此摸出的球有两种可能，可能是黄球，也可能是白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图钉落地后，可能针尖落地，也可能针帽落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转盘上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颜色，指针可能落在黄色区域，可能落在蓝色区域，可能落在红色区域，也可能落在绿色区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明天的天气可能是晴天，也可能是雨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652320" y="1679400"/>
            <a:ext cx="783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摸出白色球的可能性大，因为盒子里白色球比黄色球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转盘停止后，指针落在绿色区域的可能性大，因为绿色区域在转盘上所占的面积最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785880" y="101268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现象与不确定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现象：生活中有些事件的发生是确定的，一般用“一定”和“不可能”来描述这一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确定现象：生活中有些事件的发生是不确定的，一般用“可能”来描述这一事件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性的大小：在不确定的事件中，有些结果出现的可能性大一些，有些结果出现的可能性小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31078" descr="106"/>
          <p:cNvPicPr/>
          <p:nvPr/>
        </p:nvPicPr>
        <p:blipFill>
          <a:blip r:embed="rId1"/>
          <a:srcRect l="10211" t="60638" r="70025" b="35126"/>
          <a:stretch/>
        </p:blipFill>
        <p:spPr>
          <a:xfrm>
            <a:off x="0" y="1197000"/>
            <a:ext cx="2124000" cy="6476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31079"/>
          <p:cNvSpPr/>
          <p:nvPr/>
        </p:nvSpPr>
        <p:spPr>
          <a:xfrm>
            <a:off x="1666440" y="1773360"/>
            <a:ext cx="59032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口袋里有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个红球和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个白球，球除颜色外完全相同，从中任意摸出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个球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那么摸出（     ）球的可能性大。要使摸出红球和白球的可能性相同，可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怎么做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31080"/>
          <p:cNvSpPr/>
          <p:nvPr/>
        </p:nvSpPr>
        <p:spPr>
          <a:xfrm>
            <a:off x="1669680" y="215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31081"/>
          <p:cNvSpPr/>
          <p:nvPr/>
        </p:nvSpPr>
        <p:spPr>
          <a:xfrm>
            <a:off x="4394880" y="32130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从口袋里拿掉一个红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31082"/>
          <p:cNvSpPr/>
          <p:nvPr/>
        </p:nvSpPr>
        <p:spPr>
          <a:xfrm>
            <a:off x="1937880" y="36957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31083"/>
          <p:cNvSpPr/>
          <p:nvPr/>
        </p:nvSpPr>
        <p:spPr>
          <a:xfrm>
            <a:off x="4803120" y="371304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往口袋里添加一个白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9" descr="9.png"/>
          <p:cNvPicPr/>
          <p:nvPr/>
        </p:nvPicPr>
        <p:blipFill>
          <a:blip r:embed="rId2"/>
          <a:stretch/>
        </p:blipFill>
        <p:spPr>
          <a:xfrm>
            <a:off x="712800" y="3438360"/>
            <a:ext cx="11523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30054" descr="106"/>
          <p:cNvPicPr/>
          <p:nvPr/>
        </p:nvPicPr>
        <p:blipFill>
          <a:blip r:embed="rId1"/>
          <a:srcRect l="10211" t="77252" r="5803" b="5066"/>
          <a:stretch/>
        </p:blipFill>
        <p:spPr>
          <a:xfrm>
            <a:off x="0" y="2103480"/>
            <a:ext cx="9144000" cy="273852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30055"/>
          <p:cNvSpPr/>
          <p:nvPr/>
        </p:nvSpPr>
        <p:spPr>
          <a:xfrm>
            <a:off x="3282480" y="1197000"/>
            <a:ext cx="26949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将下面这些卡片混在一起，从中任意选取一张卡片，这张卡片可能是什么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摸到哪种图案的卡片可能性大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30056"/>
          <p:cNvSpPr/>
          <p:nvPr/>
        </p:nvSpPr>
        <p:spPr>
          <a:xfrm>
            <a:off x="2639520" y="49658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这张卡片可能是“船”、可能是“房子”，也可能是“车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0057"/>
          <p:cNvSpPr/>
          <p:nvPr/>
        </p:nvSpPr>
        <p:spPr>
          <a:xfrm>
            <a:off x="1670040" y="54500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摸到“船”的可能性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29030" descr="107"/>
          <p:cNvPicPr/>
          <p:nvPr/>
        </p:nvPicPr>
        <p:blipFill>
          <a:blip r:embed="rId1"/>
          <a:srcRect l="0" t="9859" r="9929" b="61973"/>
          <a:stretch/>
        </p:blipFill>
        <p:spPr>
          <a:xfrm>
            <a:off x="0" y="436680"/>
            <a:ext cx="9144000" cy="4170240"/>
          </a:xfrm>
          <a:prstGeom prst="rect">
            <a:avLst/>
          </a:prstGeom>
          <a:ln w="0">
            <a:noFill/>
          </a:ln>
        </p:spPr>
      </p:pic>
      <p:sp>
        <p:nvSpPr>
          <p:cNvPr id="68" name="上箭头 129031"/>
          <p:cNvSpPr/>
          <p:nvPr/>
        </p:nvSpPr>
        <p:spPr>
          <a:xfrm>
            <a:off x="6894360" y="2139840"/>
            <a:ext cx="270000" cy="647640"/>
          </a:xfrm>
          <a:prstGeom prst="upArrow">
            <a:avLst>
              <a:gd name="adj1" fmla="val 39213"/>
              <a:gd name="adj2" fmla="val 81854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29032"/>
          <p:cNvSpPr/>
          <p:nvPr/>
        </p:nvSpPr>
        <p:spPr>
          <a:xfrm>
            <a:off x="5803920" y="311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29033"/>
          <p:cNvSpPr/>
          <p:nvPr/>
        </p:nvSpPr>
        <p:spPr>
          <a:xfrm>
            <a:off x="5803920" y="3614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29034"/>
          <p:cNvSpPr/>
          <p:nvPr/>
        </p:nvSpPr>
        <p:spPr>
          <a:xfrm>
            <a:off x="4362480" y="3112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29035"/>
          <p:cNvSpPr/>
          <p:nvPr/>
        </p:nvSpPr>
        <p:spPr>
          <a:xfrm>
            <a:off x="4362480" y="3597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129036"/>
          <p:cNvSpPr/>
          <p:nvPr/>
        </p:nvSpPr>
        <p:spPr>
          <a:xfrm>
            <a:off x="6669000" y="3214800"/>
            <a:ext cx="774720" cy="3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上箭头 129037"/>
          <p:cNvSpPr/>
          <p:nvPr/>
        </p:nvSpPr>
        <p:spPr>
          <a:xfrm rot="17071800">
            <a:off x="3228840" y="534600"/>
            <a:ext cx="381240" cy="3768840"/>
          </a:xfrm>
          <a:prstGeom prst="upArrow">
            <a:avLst>
              <a:gd name="adj1" fmla="val 27741"/>
              <a:gd name="adj2" fmla="val 102656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上箭头 129038"/>
          <p:cNvSpPr/>
          <p:nvPr/>
        </p:nvSpPr>
        <p:spPr>
          <a:xfrm>
            <a:off x="4025880" y="2127240"/>
            <a:ext cx="270000" cy="647640"/>
          </a:xfrm>
          <a:prstGeom prst="upArrow">
            <a:avLst>
              <a:gd name="adj1" fmla="val 39213"/>
              <a:gd name="adj2" fmla="val 81854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29039"/>
          <p:cNvSpPr/>
          <p:nvPr/>
        </p:nvSpPr>
        <p:spPr>
          <a:xfrm>
            <a:off x="4102920" y="45543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淘气抛的最有可能的②号正方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29041"/>
          <p:cNvSpPr/>
          <p:nvPr/>
        </p:nvSpPr>
        <p:spPr>
          <a:xfrm>
            <a:off x="4325760" y="519588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笑笑抛的最有可能是①正方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29042"/>
          <p:cNvSpPr/>
          <p:nvPr/>
        </p:nvSpPr>
        <p:spPr>
          <a:xfrm>
            <a:off x="3946320" y="5891040"/>
            <a:ext cx="10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奇思抛的一定是③号正方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