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F7A-8F4C-4C36-9130-7301F73D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27E-2056-4E5B-9116-74598257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808-4CAA-46F5-AD38-EDD6CD1D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723-FA6B-4FAB-9D55-97F36DD8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482-EB7D-4272-A5EB-2473D401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DED-9CA6-410F-B52B-83F13B7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367-0549-42D0-B009-AB190C28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52D-1BC7-484B-932B-5D883346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86B-A08B-4E15-A29D-907EDF5E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DE9-3ACD-444F-A0E4-104DC43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AEE-FCBA-4713-AAA0-023CC897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725-5E40-4C1C-8562-89A25475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788C-06D4-4DF8-BA67-39A467FADE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-27144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统 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365840" y="1887480"/>
            <a:ext cx="4389480" cy="1390320"/>
            <a:chOff x="1365840" y="1887480"/>
            <a:chExt cx="4389480" cy="1390320"/>
          </a:xfrm>
        </p:grpSpPr>
        <p:sp>
          <p:nvSpPr>
            <p:cNvPr id="44" name="Rectangle 9"/>
            <p:cNvSpPr/>
            <p:nvPr/>
          </p:nvSpPr>
          <p:spPr>
            <a:xfrm>
              <a:off x="1365840" y="1887480"/>
              <a:ext cx="43894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统计与概率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011840" y="2696400"/>
              <a:ext cx="7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 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我的文档\北六数\北六数大课堂下（学用）\EE105.tif"/>
          <p:cNvPicPr/>
          <p:nvPr/>
        </p:nvPicPr>
        <p:blipFill>
          <a:blip r:embed="rId1"/>
          <a:stretch/>
        </p:blipFill>
        <p:spPr>
          <a:xfrm>
            <a:off x="425520" y="3048120"/>
            <a:ext cx="83534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1176480" y="1219320"/>
            <a:ext cx="6600600" cy="134280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1422360" y="47304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六（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班家庭成员人数调查结果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176480" y="1219320"/>
            <a:ext cx="6600600" cy="134280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1422360" y="47304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六（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班家庭成员人数调查结果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57040" y="3933720"/>
            <a:ext cx="50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绘制条形统计图整理六（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班家庭成员人数的调查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我的文档\北六数\北六数大课堂下（学用）\EE106.tif"/>
          <p:cNvPicPr/>
          <p:nvPr/>
        </p:nvPicPr>
        <p:blipFill>
          <a:blip r:embed="rId2"/>
          <a:stretch/>
        </p:blipFill>
        <p:spPr>
          <a:xfrm>
            <a:off x="5214960" y="3903840"/>
            <a:ext cx="3795840" cy="1974600"/>
          </a:xfrm>
          <a:prstGeom prst="rect">
            <a:avLst/>
          </a:prstGeom>
          <a:ln w="0">
            <a:noFill/>
          </a:ln>
        </p:spPr>
      </p:pic>
      <p:sp>
        <p:nvSpPr>
          <p:cNvPr id="91" name="矩形 4"/>
          <p:cNvSpPr/>
          <p:nvPr/>
        </p:nvSpPr>
        <p:spPr>
          <a:xfrm>
            <a:off x="412920" y="2736720"/>
            <a:ext cx="9110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怎样整理六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家庭成员人数的调查结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434880" y="3951360"/>
            <a:ext cx="85075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折线统计图表示月平均气温变化有什么好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笑笑买课外书用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那么笑笑的零花钱共有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可以清楚的看出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14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全年气温的变化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÷50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％＝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：笑笑的零花钱共有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我的文档\北六数\北六数大课堂下（学用）\EE105.tif"/>
          <p:cNvPicPr/>
          <p:nvPr/>
        </p:nvPicPr>
        <p:blipFill>
          <a:blip r:embed="rId1"/>
          <a:stretch/>
        </p:blipFill>
        <p:spPr>
          <a:xfrm>
            <a:off x="336600" y="961920"/>
            <a:ext cx="8353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623880" y="2222640"/>
            <a:ext cx="7896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条形统计图的特点：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一个单位长度表示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定的数量，用直条的长度表示数量的多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用：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以清楚的看出各数量的多少，便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较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874800" y="1120680"/>
            <a:ext cx="7394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举例说明学过的几种统计图各自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668160" y="824040"/>
            <a:ext cx="77724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折线统计图的特点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个单位长度表示一定的数量，用折线的起伏表示数量的增减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用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能清楚的看出数量的增减变化，又能看出数量的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扇形统计图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整个圆表示总数，用圆内各扇形的大小表示各部分占总数的百分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用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清楚的看出各部分与总数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814320" y="930240"/>
            <a:ext cx="75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实例，说说自己对平均数的理解，并收集生活中应用平均数的例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814320" y="2116080"/>
            <a:ext cx="751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平均数的意义：若干个数相加的和，除以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些数的个数所得的结果就是这些数的平均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总数量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÷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总份数＝平均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814320" y="3678120"/>
            <a:ext cx="7515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活中的平均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国居民身高平均数发布：男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7.1cm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5.8cm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②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14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我国人均国民生产总值为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595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武汉八月份白天平均温度是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3℃,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夜晚平均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温是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℃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2"/>
          <p:cNvGraphicFramePr/>
          <p:nvPr/>
        </p:nvGraphicFramePr>
        <p:xfrm>
          <a:off x="1789200" y="431640"/>
          <a:ext cx="556560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431640"/>
                    <a:ext cx="55656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1031760" y="1420920"/>
          <a:ext cx="670428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1760" y="1420920"/>
                    <a:ext cx="670428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947880" y="2494080"/>
          <a:ext cx="6821280" cy="16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7880" y="2494080"/>
                    <a:ext cx="6821280" cy="16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2"/>
          <p:cNvSpPr/>
          <p:nvPr/>
        </p:nvSpPr>
        <p:spPr>
          <a:xfrm>
            <a:off x="1143000" y="43527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、在一组数中，出现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迷你简胖头鱼"/>
              </a:rPr>
              <a:t>次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最多的数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657440" y="5070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众数有可能没有，也有可能不止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474920" y="961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平均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32000" y="1609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中位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474920" y="22575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众   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2897280" y="9669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反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总体平均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897280" y="16160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反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中等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98720" y="22352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反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多数集中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31640" y="30733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平均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431640" y="41274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中位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500040" y="49737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众   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3865680" y="3652920"/>
            <a:ext cx="1511280" cy="73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3967200" y="4589640"/>
            <a:ext cx="1511280" cy="72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5761080" y="5419800"/>
            <a:ext cx="3097080" cy="73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1776240" y="4952880"/>
            <a:ext cx="74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一组数据中如果某个数据出现次数相对较多，一般选它作为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1682640" y="3130560"/>
            <a:ext cx="83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一组数据如果比较接近一般选它作为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1731960" y="4157640"/>
            <a:ext cx="83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一组数据如果相差较大一般选它作为代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890640" y="971640"/>
            <a:ext cx="208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分析数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457200" y="900000"/>
            <a:ext cx="8001000" cy="2448720"/>
            <a:chOff x="457200" y="900000"/>
            <a:chExt cx="8001000" cy="2448720"/>
          </a:xfrm>
        </p:grpSpPr>
        <p:sp>
          <p:nvSpPr>
            <p:cNvPr id="125" name="Rectangle 4"/>
            <p:cNvSpPr/>
            <p:nvPr/>
          </p:nvSpPr>
          <p:spPr>
            <a:xfrm>
              <a:off x="609480" y="900000"/>
              <a:ext cx="2519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457200" y="1557360"/>
              <a:ext cx="8001000" cy="17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统计中，用（</a:t>
              </a:r>
              <a:r>
                <a:rPr b="0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平均数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作为一组数据的代表比较稳定可靠，它与这组数据中的每一个数都有关系，对这组数据所包含的信息的反映也是充分，但容易受极端数据的影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用（</a:t>
              </a:r>
              <a:r>
                <a:rPr b="0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中位数</a:t>
              </a:r>
              <a:r>
                <a:rPr b="0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或（</a:t>
              </a:r>
              <a:r>
                <a:rPr b="0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众数</a:t>
              </a:r>
              <a:r>
                <a:rPr b="0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作为一组数据的代表，可靠性比较差，但它们通常不受极端数据的影响，并且算法简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当一组数据中个别数据变动较大时，适合选择（</a:t>
              </a:r>
              <a:r>
                <a:rPr b="0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中位数</a:t>
              </a:r>
              <a:r>
                <a:rPr b="0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或（</a:t>
              </a:r>
              <a:r>
                <a:rPr b="0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众数</a:t>
              </a:r>
              <a:r>
                <a:rPr b="0" lang="zh-CN" sz="24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来表示这组数据的集中趋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"/>
          <p:cNvGrpSpPr/>
          <p:nvPr/>
        </p:nvGrpSpPr>
        <p:grpSpPr>
          <a:xfrm>
            <a:off x="2355840" y="2868480"/>
            <a:ext cx="6416640" cy="3125880"/>
            <a:chOff x="2355840" y="2868480"/>
            <a:chExt cx="6416640" cy="3125880"/>
          </a:xfrm>
        </p:grpSpPr>
        <p:sp>
          <p:nvSpPr>
            <p:cNvPr id="49" name="云形标注 12"/>
            <p:cNvSpPr/>
            <p:nvPr/>
          </p:nvSpPr>
          <p:spPr>
            <a:xfrm>
              <a:off x="2355840" y="2868480"/>
              <a:ext cx="6416640" cy="3125880"/>
            </a:xfrm>
            <a:prstGeom prst="cloudCallout">
              <a:avLst>
                <a:gd name="adj1" fmla="val 84689"/>
                <a:gd name="adj2" fmla="val 38921"/>
              </a:avLst>
            </a:prstGeom>
            <a:solidFill>
              <a:srgbClr val="f7d1a7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怎样向他们介绍我们班的情况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"/>
          <p:cNvGrpSpPr/>
          <p:nvPr/>
        </p:nvGrpSpPr>
        <p:grpSpPr>
          <a:xfrm>
            <a:off x="368280" y="587520"/>
            <a:ext cx="5565600" cy="3054240"/>
            <a:chOff x="368280" y="587520"/>
            <a:chExt cx="5565600" cy="3054240"/>
          </a:xfrm>
        </p:grpSpPr>
        <p:sp>
          <p:nvSpPr>
            <p:cNvPr id="51" name="云形标注 11"/>
            <p:cNvSpPr/>
            <p:nvPr/>
          </p:nvSpPr>
          <p:spPr>
            <a:xfrm>
              <a:off x="2005560" y="587520"/>
              <a:ext cx="3928320" cy="2073240"/>
            </a:xfrm>
            <a:prstGeom prst="cloudCallout">
              <a:avLst>
                <a:gd name="adj1" fmla="val -57814"/>
                <a:gd name="adj2" fmla="val 15337"/>
              </a:avLst>
            </a:prstGeom>
            <a:solidFill>
              <a:srgbClr val="f7d1a7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们班要和希望小学的六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班建立手拉手班级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6" descr=""/>
            <p:cNvPicPr/>
            <p:nvPr/>
          </p:nvPicPr>
          <p:blipFill>
            <a:blip r:embed="rId1"/>
            <a:stretch/>
          </p:blipFill>
          <p:spPr>
            <a:xfrm>
              <a:off x="368280" y="1848240"/>
              <a:ext cx="1121040" cy="179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9370520" y="5487840"/>
            <a:ext cx="3627720" cy="36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82720" y="1270080"/>
            <a:ext cx="33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整理和描述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1785600" y="1927080"/>
            <a:ext cx="3300840" cy="1150920"/>
            <a:chOff x="1785600" y="1927080"/>
            <a:chExt cx="3300840" cy="1150920"/>
          </a:xfrm>
        </p:grpSpPr>
        <p:sp>
          <p:nvSpPr>
            <p:cNvPr id="56" name="Text Box 4"/>
            <p:cNvSpPr/>
            <p:nvPr/>
          </p:nvSpPr>
          <p:spPr>
            <a:xfrm>
              <a:off x="2927160" y="192708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单式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5"/>
            <p:cNvSpPr/>
            <p:nvPr/>
          </p:nvSpPr>
          <p:spPr>
            <a:xfrm>
              <a:off x="2927160" y="270324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复式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85600" y="2347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统计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7"/>
            <p:cNvSpPr/>
            <p:nvPr/>
          </p:nvSpPr>
          <p:spPr>
            <a:xfrm>
              <a:off x="2784600" y="2143080"/>
              <a:ext cx="142560" cy="9349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1742760" y="3193920"/>
            <a:ext cx="5997960" cy="2671920"/>
            <a:chOff x="1742760" y="3193920"/>
            <a:chExt cx="5997960" cy="2671920"/>
          </a:xfrm>
        </p:grpSpPr>
        <p:sp>
          <p:nvSpPr>
            <p:cNvPr id="61" name="Text Box 9"/>
            <p:cNvSpPr/>
            <p:nvPr/>
          </p:nvSpPr>
          <p:spPr>
            <a:xfrm>
              <a:off x="2844720" y="3552840"/>
              <a:ext cx="21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条形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0"/>
            <p:cNvSpPr/>
            <p:nvPr/>
          </p:nvSpPr>
          <p:spPr>
            <a:xfrm>
              <a:off x="2844720" y="4618080"/>
              <a:ext cx="21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折线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1"/>
            <p:cNvSpPr/>
            <p:nvPr/>
          </p:nvSpPr>
          <p:spPr>
            <a:xfrm>
              <a:off x="2844720" y="5497560"/>
              <a:ext cx="21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扇形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1742760" y="4539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3"/>
            <p:cNvSpPr/>
            <p:nvPr/>
          </p:nvSpPr>
          <p:spPr>
            <a:xfrm>
              <a:off x="5003640" y="319392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单式条形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4"/>
            <p:cNvSpPr/>
            <p:nvPr/>
          </p:nvSpPr>
          <p:spPr>
            <a:xfrm>
              <a:off x="5003640" y="38415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复式条形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5005440" y="440208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单式折线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6"/>
            <p:cNvSpPr/>
            <p:nvPr/>
          </p:nvSpPr>
          <p:spPr>
            <a:xfrm>
              <a:off x="5005440" y="49784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Garamond"/>
                  <a:ea typeface="迷你简胖头鱼"/>
                </a:rPr>
                <a:t>复式折线统计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7"/>
            <p:cNvSpPr/>
            <p:nvPr/>
          </p:nvSpPr>
          <p:spPr>
            <a:xfrm>
              <a:off x="2700360" y="3768480"/>
              <a:ext cx="144360" cy="20894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4360 h 2089440"/>
                <a:gd name="textAreaBottom" fmla="*/ 2035080 h 20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8"/>
            <p:cNvSpPr/>
            <p:nvPr/>
          </p:nvSpPr>
          <p:spPr>
            <a:xfrm>
              <a:off x="4932360" y="3409920"/>
              <a:ext cx="71280" cy="863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9"/>
            <p:cNvSpPr/>
            <p:nvPr/>
          </p:nvSpPr>
          <p:spPr>
            <a:xfrm>
              <a:off x="4932360" y="4562280"/>
              <a:ext cx="71280" cy="863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447840" y="3500280"/>
            <a:ext cx="829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列出几个你想调查的问题，全班交流后，选择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展调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需要收集哪些数据？与同伴交流收集数据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实际开展调查，把数据记录下来，并进行整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上面的数据，你能得到哪些信息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D:\我的文档\北六数\北六数大课堂下（学用）\EE104.tif"/>
          <p:cNvPicPr/>
          <p:nvPr/>
        </p:nvPicPr>
        <p:blipFill>
          <a:blip r:embed="rId1"/>
          <a:srcRect l="0" t="0" r="41983" b="0"/>
          <a:stretch/>
        </p:blipFill>
        <p:spPr>
          <a:xfrm>
            <a:off x="423720" y="942840"/>
            <a:ext cx="5591160" cy="1625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D:\我的文档\北六数\北六数大课堂下（学用）\EE104.tif"/>
          <p:cNvPicPr/>
          <p:nvPr/>
        </p:nvPicPr>
        <p:blipFill>
          <a:blip r:embed="rId2"/>
          <a:srcRect l="60595" t="0" r="0" b="0"/>
          <a:stretch/>
        </p:blipFill>
        <p:spPr>
          <a:xfrm>
            <a:off x="4595760" y="1892160"/>
            <a:ext cx="383220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2316240" y="747720"/>
            <a:ext cx="5827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女生人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女生最喜欢的运动项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同学的身高情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同学的体重情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同学最喜欢的电视节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班同学最喜欢的课外书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1433520" y="792000"/>
            <a:ext cx="73026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男女生人数统计表，需要收集男生的总人数与女生的总人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男女生最喜欢的运动项目统计表，需要收集喜欢篮球项目的男女生分别有多少人，喜欢跳绳的男女生分别有多少人，喜欢乒乓球的男女生分别有多少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"/>
          <p:cNvSpPr/>
          <p:nvPr/>
        </p:nvSpPr>
        <p:spPr>
          <a:xfrm>
            <a:off x="936720" y="595440"/>
            <a:ext cx="638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：六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男女生人数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168640" y="1477800"/>
            <a:ext cx="4562280" cy="134316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1260360" y="2992320"/>
            <a:ext cx="6612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同学最喜欢的运动项目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1623960" y="3878280"/>
            <a:ext cx="58960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714240" y="1089000"/>
            <a:ext cx="77155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六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男女生人数统计表中可知：六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男生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女生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全班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比女生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男生占全班人数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，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占全班人数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六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同学最喜欢的运动项目统计表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：六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男生喜欢篮球项目的人数最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女生喜欢跳绳项目的人数最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995400" y="1486080"/>
            <a:ext cx="72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生活中的例子说说收集数据有哪些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911160" y="2232000"/>
            <a:ext cx="7321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数据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记录。如：了解六年级男、女生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阅资料。如：收集珍稀动物种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实验获取数据。如：研究黄豆发芽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2:2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