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57E-76F8-4D15-83E4-C30B4C2E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D48-87A0-469C-8C1C-93C2FE0E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185-A90E-4F26-A825-E4DE097F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C02-A5DC-43A7-BA1D-3B55C015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77BC-93D7-40B4-B92D-3A0E6FE9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5D3-F262-4F0D-B88B-52C915AC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7C5-42E7-479F-8002-8CF56366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FC8-CEAA-47A1-B512-0A306314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A4B-F96E-4617-87B7-666022A8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CFA-782A-46EC-A68B-7631F347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769-CB98-46DA-A58D-D81328C5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FD1-C782-44ED-9586-B1FE8AE5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E6A2-C915-4F09-B53A-184B568461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795760" y="330984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660240" y="3321000"/>
            <a:ext cx="87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解决问题的策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880280" y="2097000"/>
            <a:ext cx="4923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复习     解决问题的策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38040" y="1998720"/>
            <a:ext cx="84679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横卷形 3"/>
          <p:cNvSpPr/>
          <p:nvPr/>
        </p:nvSpPr>
        <p:spPr>
          <a:xfrm>
            <a:off x="828720" y="927000"/>
            <a:ext cx="7470720" cy="2336760"/>
          </a:xfrm>
          <a:prstGeom prst="horizontalScroll">
            <a:avLst>
              <a:gd name="adj" fmla="val 12500"/>
            </a:avLst>
          </a:prstGeom>
          <a:solidFill>
            <a:srgbClr val="ffc0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1419120" y="1198440"/>
            <a:ext cx="68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组织了足球、航模和电脑兴趣小组，淘气、笑笑和奇思分别参加了其中一项。笑笑不喜欢踢足球，淘气不是电脑兴趣小组的，奇思喜欢航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1052640" y="304632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一个表来帮忙，把信息记录下来，并进行推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401920" y="4000680"/>
            <a:ext cx="44449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657360" y="871560"/>
            <a:ext cx="780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淘气、笑笑和奇思分别参加了其中一项，“笑笑不喜欢踢足球”说明他可能参加航模小组和电脑小组，“淘气不是电脑兴趣小组的”说明淘气可能是足球小组和航模小组，“奇思喜欢航模”说明笑笑和淘气不可能是航模小组，因此笑笑参加电脑小组，淘气参加足球小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08080" y="3693960"/>
            <a:ext cx="5105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3114720" y="87012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表是妙想体重的变化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19240" y="1671480"/>
            <a:ext cx="8705520" cy="1333800"/>
          </a:xfrm>
          <a:prstGeom prst="rect">
            <a:avLst/>
          </a:prstGeom>
          <a:ln w="0">
            <a:noFill/>
          </a:ln>
        </p:spPr>
      </p:pic>
      <p:sp>
        <p:nvSpPr>
          <p:cNvPr id="118" name="矩形 2"/>
          <p:cNvSpPr/>
          <p:nvPr/>
        </p:nvSpPr>
        <p:spPr>
          <a:xfrm>
            <a:off x="0" y="348300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妙想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前体重是如何随年龄增长而变化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914400" y="4417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表中可以看出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岁，小明生长最快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岁生长较快，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岁生长最慢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岁生长较为缓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我的文档\北六数\北六数大课堂下（学用）\EE128.tif"/>
          <p:cNvPicPr/>
          <p:nvPr/>
        </p:nvPicPr>
        <p:blipFill>
          <a:blip r:embed="rId1"/>
          <a:srcRect l="0" t="0" r="51805" b="0"/>
          <a:stretch/>
        </p:blipFill>
        <p:spPr>
          <a:xfrm>
            <a:off x="1549440" y="1309680"/>
            <a:ext cx="604512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>
            <a:off x="635040" y="1455840"/>
            <a:ext cx="787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猜想的方法先将鸡和兔可能出现的情况在表中呈现，然后进行验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表中可知，先假设鸡和兔各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那么它们共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腿，发现比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了，也就是假设的兔的只数多了；再假设鸡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兔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共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腿，还是比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，接着再减少兔的只数，依次类推，发现当鸡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兔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时，共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D:\我的文档\北六数\北六数大课堂下（学用）\EE128.tif"/>
          <p:cNvPicPr/>
          <p:nvPr/>
        </p:nvPicPr>
        <p:blipFill>
          <a:blip r:embed="rId1"/>
          <a:srcRect l="48434" t="0" r="0" b="0"/>
          <a:stretch/>
        </p:blipFill>
        <p:spPr>
          <a:xfrm>
            <a:off x="1438200" y="1390680"/>
            <a:ext cx="626760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725400" y="1049400"/>
            <a:ext cx="769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同学进行乒乓球比赛，如果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同学之间都进行一场比赛，一共要比赛多少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866880" y="2405160"/>
            <a:ext cx="74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852480" y="1251000"/>
            <a:ext cx="7439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点表示参加比赛的人，用连线表示两人之间进行比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表中可知，当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时，比赛场数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时，比赛场数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时，比赛场数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此得出当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赛场数为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照此规律，参赛人数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比赛场数为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61920" y="1447920"/>
            <a:ext cx="89661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在解决问题时，使用一定的策略是非常重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621800" y="22017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的解决问题的策略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067040" y="526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画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3"/>
          <p:cNvGrpSpPr/>
          <p:nvPr/>
        </p:nvGrpSpPr>
        <p:grpSpPr>
          <a:xfrm>
            <a:off x="2592360" y="3089160"/>
            <a:ext cx="2016000" cy="1944720"/>
            <a:chOff x="2592360" y="3089160"/>
            <a:chExt cx="2016000" cy="1944720"/>
          </a:xfrm>
        </p:grpSpPr>
        <p:sp>
          <p:nvSpPr>
            <p:cNvPr id="48" name="Rectangle 14"/>
            <p:cNvSpPr/>
            <p:nvPr/>
          </p:nvSpPr>
          <p:spPr>
            <a:xfrm>
              <a:off x="2592360" y="3089160"/>
              <a:ext cx="2016000" cy="19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5"/>
            <p:cNvSpPr/>
            <p:nvPr/>
          </p:nvSpPr>
          <p:spPr>
            <a:xfrm>
              <a:off x="2952720" y="33778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6"/>
            <p:cNvSpPr/>
            <p:nvPr/>
          </p:nvSpPr>
          <p:spPr>
            <a:xfrm>
              <a:off x="4356000" y="3377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7"/>
            <p:cNvSpPr/>
            <p:nvPr/>
          </p:nvSpPr>
          <p:spPr>
            <a:xfrm>
              <a:off x="2916000" y="38098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8"/>
            <p:cNvSpPr/>
            <p:nvPr/>
          </p:nvSpPr>
          <p:spPr>
            <a:xfrm>
              <a:off x="2916000" y="3377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9"/>
            <p:cNvSpPr/>
            <p:nvPr/>
          </p:nvSpPr>
          <p:spPr>
            <a:xfrm>
              <a:off x="2952720" y="42418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0"/>
            <p:cNvSpPr/>
            <p:nvPr/>
          </p:nvSpPr>
          <p:spPr>
            <a:xfrm>
              <a:off x="2952720" y="467352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1"/>
            <p:cNvSpPr/>
            <p:nvPr/>
          </p:nvSpPr>
          <p:spPr>
            <a:xfrm>
              <a:off x="3673440" y="3377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2"/>
            <p:cNvSpPr/>
            <p:nvPr/>
          </p:nvSpPr>
          <p:spPr>
            <a:xfrm>
              <a:off x="3181320" y="339696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A       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23"/>
          <p:cNvSpPr/>
          <p:nvPr/>
        </p:nvSpPr>
        <p:spPr>
          <a:xfrm>
            <a:off x="3372840" y="5234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2"/>
          <p:cNvGrpSpPr/>
          <p:nvPr/>
        </p:nvGrpSpPr>
        <p:grpSpPr>
          <a:xfrm>
            <a:off x="395280" y="3089160"/>
            <a:ext cx="1944720" cy="1944720"/>
            <a:chOff x="395280" y="3089160"/>
            <a:chExt cx="1944720" cy="1944720"/>
          </a:xfrm>
        </p:grpSpPr>
        <p:sp>
          <p:nvSpPr>
            <p:cNvPr id="59" name="Rectangle 6"/>
            <p:cNvSpPr/>
            <p:nvPr/>
          </p:nvSpPr>
          <p:spPr>
            <a:xfrm>
              <a:off x="395280" y="3089160"/>
              <a:ext cx="1943280" cy="19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7"/>
            <p:cNvSpPr/>
            <p:nvPr/>
          </p:nvSpPr>
          <p:spPr>
            <a:xfrm flipH="1" flipV="1">
              <a:off x="969120" y="4672800"/>
              <a:ext cx="14436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 flipV="1">
              <a:off x="1114560" y="4600080"/>
              <a:ext cx="57636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V="1">
              <a:off x="1690920" y="4168440"/>
              <a:ext cx="7128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 flipV="1">
              <a:off x="1762200" y="3952440"/>
              <a:ext cx="36036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2122560" y="373644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 flipV="1">
              <a:off x="2122560" y="3449520"/>
              <a:ext cx="21744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4"/>
            <p:cNvSpPr/>
            <p:nvPr/>
          </p:nvSpPr>
          <p:spPr>
            <a:xfrm>
              <a:off x="395280" y="3089160"/>
              <a:ext cx="1943280" cy="19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5"/>
            <p:cNvSpPr/>
            <p:nvPr/>
          </p:nvSpPr>
          <p:spPr>
            <a:xfrm flipH="1" flipV="1">
              <a:off x="537120" y="4672800"/>
              <a:ext cx="14436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6"/>
            <p:cNvSpPr/>
            <p:nvPr/>
          </p:nvSpPr>
          <p:spPr>
            <a:xfrm flipH="1" flipV="1">
              <a:off x="1905840" y="3375720"/>
              <a:ext cx="14436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7"/>
            <p:cNvSpPr/>
            <p:nvPr/>
          </p:nvSpPr>
          <p:spPr>
            <a:xfrm flipV="1">
              <a:off x="682560" y="4600080"/>
              <a:ext cx="57636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 flipV="1">
              <a:off x="1258920" y="4168440"/>
              <a:ext cx="7128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 flipV="1">
              <a:off x="1330200" y="3952440"/>
              <a:ext cx="36036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0"/>
            <p:cNvSpPr/>
            <p:nvPr/>
          </p:nvSpPr>
          <p:spPr>
            <a:xfrm flipV="1">
              <a:off x="1690920" y="373644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1"/>
            <p:cNvSpPr/>
            <p:nvPr/>
          </p:nvSpPr>
          <p:spPr>
            <a:xfrm flipV="1">
              <a:off x="1690920" y="3449520"/>
              <a:ext cx="21744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4"/>
          <p:cNvGrpSpPr/>
          <p:nvPr/>
        </p:nvGrpSpPr>
        <p:grpSpPr>
          <a:xfrm>
            <a:off x="4788000" y="3089160"/>
            <a:ext cx="2016000" cy="1944720"/>
            <a:chOff x="4788000" y="3089160"/>
            <a:chExt cx="2016000" cy="1944720"/>
          </a:xfrm>
        </p:grpSpPr>
        <p:sp>
          <p:nvSpPr>
            <p:cNvPr id="75" name="Rectangle 32"/>
            <p:cNvSpPr/>
            <p:nvPr/>
          </p:nvSpPr>
          <p:spPr>
            <a:xfrm>
              <a:off x="4788000" y="3089160"/>
              <a:ext cx="2016000" cy="19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34"/>
            <p:cNvSpPr/>
            <p:nvPr/>
          </p:nvSpPr>
          <p:spPr>
            <a:xfrm>
              <a:off x="5045760" y="330660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5"/>
            <p:cNvSpPr/>
            <p:nvPr/>
          </p:nvSpPr>
          <p:spPr>
            <a:xfrm>
              <a:off x="6048360" y="4052880"/>
              <a:ext cx="48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36"/>
          <p:cNvSpPr/>
          <p:nvPr/>
        </p:nvSpPr>
        <p:spPr>
          <a:xfrm>
            <a:off x="5330880" y="5234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猜想与尝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5"/>
          <p:cNvGrpSpPr/>
          <p:nvPr/>
        </p:nvGrpSpPr>
        <p:grpSpPr>
          <a:xfrm>
            <a:off x="6948360" y="3089160"/>
            <a:ext cx="2016360" cy="1944720"/>
            <a:chOff x="6948360" y="3089160"/>
            <a:chExt cx="2016360" cy="1944720"/>
          </a:xfrm>
        </p:grpSpPr>
        <p:sp>
          <p:nvSpPr>
            <p:cNvPr id="80" name="Rectangle 33"/>
            <p:cNvSpPr/>
            <p:nvPr/>
          </p:nvSpPr>
          <p:spPr>
            <a:xfrm>
              <a:off x="6948360" y="3089160"/>
              <a:ext cx="2016360" cy="19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7"/>
            <p:cNvSpPr/>
            <p:nvPr/>
          </p:nvSpPr>
          <p:spPr>
            <a:xfrm>
              <a:off x="8460000" y="3304800"/>
              <a:ext cx="72720" cy="72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8"/>
            <p:cNvSpPr/>
            <p:nvPr/>
          </p:nvSpPr>
          <p:spPr>
            <a:xfrm>
              <a:off x="7451640" y="3304800"/>
              <a:ext cx="72720" cy="72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>
              <a:off x="7451640" y="3377880"/>
              <a:ext cx="10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40"/>
            <p:cNvSpPr/>
            <p:nvPr/>
          </p:nvSpPr>
          <p:spPr>
            <a:xfrm>
              <a:off x="7667640" y="3522600"/>
              <a:ext cx="504720" cy="360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 flipH="1">
              <a:off x="7235280" y="4170240"/>
              <a:ext cx="43164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>
              <a:off x="7667640" y="4170240"/>
              <a:ext cx="28872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>
              <a:off x="7235640" y="460224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>
              <a:off x="7667640" y="4170240"/>
              <a:ext cx="649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 flipH="1">
              <a:off x="7956000" y="4170240"/>
              <a:ext cx="360360" cy="431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6"/>
            <p:cNvSpPr/>
            <p:nvPr/>
          </p:nvSpPr>
          <p:spPr>
            <a:xfrm flipV="1">
              <a:off x="7235640" y="4169880"/>
              <a:ext cx="1081080" cy="431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47"/>
            <p:cNvSpPr/>
            <p:nvPr/>
          </p:nvSpPr>
          <p:spPr>
            <a:xfrm>
              <a:off x="7288920" y="4448160"/>
              <a:ext cx="99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48"/>
          <p:cNvSpPr/>
          <p:nvPr/>
        </p:nvSpPr>
        <p:spPr>
          <a:xfrm>
            <a:off x="7580520" y="51786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从特例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寻找规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我的文档\北六数\北六数大课堂下（学用）\EE120.tif"/>
          <p:cNvPicPr/>
          <p:nvPr/>
        </p:nvPicPr>
        <p:blipFill>
          <a:blip r:embed="rId1"/>
          <a:stretch/>
        </p:blipFill>
        <p:spPr>
          <a:xfrm>
            <a:off x="358920" y="2917800"/>
            <a:ext cx="8699400" cy="193032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3857760" y="8002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画图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623880" y="172404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图能帮助我们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我的文档\北六数\北六数大课堂下（学用）\EE123.tif"/>
          <p:cNvPicPr/>
          <p:nvPr/>
        </p:nvPicPr>
        <p:blipFill>
          <a:blip r:embed="rId1"/>
          <a:stretch/>
        </p:blipFill>
        <p:spPr>
          <a:xfrm>
            <a:off x="2367000" y="2809800"/>
            <a:ext cx="4778280" cy="183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01560" y="1430280"/>
            <a:ext cx="80298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93800" y="1052640"/>
            <a:ext cx="3876480" cy="447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D:\我的文档\北六数\北六数大课堂下（学用）\EE121.tif"/>
          <p:cNvPicPr/>
          <p:nvPr/>
        </p:nvPicPr>
        <p:blipFill>
          <a:blip r:embed="rId2"/>
          <a:srcRect l="0" t="0" r="40078" b="52179"/>
          <a:stretch/>
        </p:blipFill>
        <p:spPr>
          <a:xfrm>
            <a:off x="933480" y="2273400"/>
            <a:ext cx="727704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D:\我的文档\北六数\北六数大课堂下（学用）\EE121.tif"/>
          <p:cNvPicPr/>
          <p:nvPr/>
        </p:nvPicPr>
        <p:blipFill>
          <a:blip r:embed="rId1"/>
          <a:srcRect l="60054" t="0" r="0" b="51914"/>
          <a:stretch/>
        </p:blipFill>
        <p:spPr>
          <a:xfrm>
            <a:off x="1265400" y="1636560"/>
            <a:ext cx="66132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085760" y="1549440"/>
            <a:ext cx="7039080" cy="140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1085760" y="3130560"/>
            <a:ext cx="4391280" cy="133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5532480" y="3397320"/>
            <a:ext cx="17431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D:\我的文档\北六数\北六数大课堂下（学用）\EE121.tif"/>
          <p:cNvPicPr/>
          <p:nvPr/>
        </p:nvPicPr>
        <p:blipFill>
          <a:blip r:embed="rId1"/>
          <a:srcRect l="3206" t="52770" r="59679" b="17227"/>
          <a:stretch/>
        </p:blipFill>
        <p:spPr>
          <a:xfrm>
            <a:off x="1930320" y="770040"/>
            <a:ext cx="5283360" cy="201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:\我的文档\北六数\北六数大课堂下（学用）\EE121.tif"/>
          <p:cNvPicPr/>
          <p:nvPr/>
        </p:nvPicPr>
        <p:blipFill>
          <a:blip r:embed="rId2"/>
          <a:srcRect l="42173" t="49984" r="4566" b="2786"/>
          <a:stretch/>
        </p:blipFill>
        <p:spPr>
          <a:xfrm>
            <a:off x="1079640" y="3166920"/>
            <a:ext cx="68943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1360" y="963720"/>
            <a:ext cx="6114960" cy="447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D:\我的文档\北六数\北六数大课堂下（学用）\EE122.tif"/>
          <p:cNvPicPr/>
          <p:nvPr/>
        </p:nvPicPr>
        <p:blipFill>
          <a:blip r:embed="rId2"/>
          <a:srcRect l="0" t="0" r="51331" b="0"/>
          <a:stretch/>
        </p:blipFill>
        <p:spPr>
          <a:xfrm>
            <a:off x="1781280" y="1606680"/>
            <a:ext cx="5300640" cy="2050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:\我的文档\北六数\北六数大课堂下（学用）\EE122.tif"/>
          <p:cNvPicPr/>
          <p:nvPr/>
        </p:nvPicPr>
        <p:blipFill>
          <a:blip r:embed="rId3"/>
          <a:srcRect l="56446" t="0" r="0" b="0"/>
          <a:stretch/>
        </p:blipFill>
        <p:spPr>
          <a:xfrm>
            <a:off x="1781280" y="3952800"/>
            <a:ext cx="45417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2:2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