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png" ContentType="image/png"/>
  <Override PartName="/ppt/media/chimes.wav" ContentType="audio/x-wav"/>
  <Override PartName="/ppt/media/image7.wmf" ContentType="image/x-wmf"/>
  <Override PartName="/ppt/media/image15.jpeg" ContentType="image/jpeg"/>
  <Override PartName="/ppt/media/image14.jpeg" ContentType="image/jpeg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939-47A7-49AB-80C3-A14AAE82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995-F138-48CC-8D66-774F2E1F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720F-82D2-4DE1-BF48-54A20656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B160-33A4-4CC0-8E82-293E6399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C6E-3EF8-4D18-A1B8-DE2B0A1D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BC3-89E8-4943-ADC8-D0938325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9B3-981F-462A-846F-3101F365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1EB-93BB-42D3-832F-AB8BF174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1BE-8453-4BE8-B0B6-3494AB26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A92-3AF0-41C8-864D-01FB4EEA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C9C-5FDF-406B-B09A-449E7379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87B-EFA3-4516-8394-70AAA26B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49A7-3718-4B3F-B08B-94E809DFBE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9480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65040" y="3352680"/>
            <a:ext cx="87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运算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3"/>
          <p:cNvGrpSpPr/>
          <p:nvPr/>
        </p:nvGrpSpPr>
        <p:grpSpPr>
          <a:xfrm>
            <a:off x="1499760" y="1887480"/>
            <a:ext cx="4123080" cy="1390320"/>
            <a:chOff x="1499760" y="1887480"/>
            <a:chExt cx="4123080" cy="1390320"/>
          </a:xfrm>
        </p:grpSpPr>
        <p:sp>
          <p:nvSpPr>
            <p:cNvPr id="44" name="Rectangle 9"/>
            <p:cNvSpPr/>
            <p:nvPr/>
          </p:nvSpPr>
          <p:spPr>
            <a:xfrm>
              <a:off x="1499760" y="1887480"/>
              <a:ext cx="41230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</a:t>
              </a:r>
              <a:r>
                <a:rPr b="1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复习     数与代数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文本框 2"/>
            <p:cNvSpPr/>
            <p:nvPr/>
          </p:nvSpPr>
          <p:spPr>
            <a:xfrm>
              <a:off x="4168080" y="26964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数的运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5"/>
          <p:cNvSpPr/>
          <p:nvPr/>
        </p:nvSpPr>
        <p:spPr>
          <a:xfrm>
            <a:off x="4132800" y="45752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求一个数的几分之几是多少用乘法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3026160" y="3814920"/>
            <a:ext cx="18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答：还剩</a:t>
            </a: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18"/>
          <p:cNvGraphicFramePr/>
          <p:nvPr/>
        </p:nvGraphicFramePr>
        <p:xfrm>
          <a:off x="3911760" y="1457280"/>
          <a:ext cx="2952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11760" y="1457280"/>
                    <a:ext cx="2952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9"/>
          <p:cNvGraphicFramePr/>
          <p:nvPr/>
        </p:nvGraphicFramePr>
        <p:xfrm>
          <a:off x="5143680" y="1407960"/>
          <a:ext cx="304560" cy="98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3680" y="1407960"/>
                    <a:ext cx="3045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Group 29"/>
          <p:cNvGrpSpPr/>
          <p:nvPr/>
        </p:nvGrpSpPr>
        <p:grpSpPr>
          <a:xfrm>
            <a:off x="2493720" y="1670040"/>
            <a:ext cx="4454640" cy="1957320"/>
            <a:chOff x="2493720" y="1670040"/>
            <a:chExt cx="4454640" cy="1957320"/>
          </a:xfrm>
        </p:grpSpPr>
        <p:sp>
          <p:nvSpPr>
            <p:cNvPr id="101" name="Rectangle 20"/>
            <p:cNvSpPr/>
            <p:nvPr/>
          </p:nvSpPr>
          <p:spPr>
            <a:xfrm>
              <a:off x="2493720" y="167940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宋体"/>
                  <a:ea typeface="Times New Roman"/>
                </a:rPr>
                <a:t>18-(18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133880" y="167112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宋体"/>
                  <a:ea typeface="Times New Roman"/>
                </a:rPr>
                <a:t>+18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5443560" y="1670040"/>
              <a:ext cx="139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宋体"/>
                  <a:ea typeface="Times New Roman"/>
                </a:rPr>
                <a:t>)=3(</a:t>
              </a:r>
              <a:r>
                <a:rPr b="1" lang="zh-CN" sz="2800" spc="-1" strike="noStrike">
                  <a:solidFill>
                    <a:srgbClr val="ff00ff"/>
                  </a:solidFill>
                  <a:latin typeface="宋体"/>
                  <a:ea typeface="Times New Roman"/>
                </a:rPr>
                <a:t>米</a:t>
              </a:r>
              <a:r>
                <a:rPr b="1" lang="en-US" sz="2800" spc="-1" strike="noStrike">
                  <a:solidFill>
                    <a:srgbClr val="ff00ff"/>
                  </a:solidFill>
                  <a:latin typeface="宋体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6"/>
            <p:cNvSpPr/>
            <p:nvPr/>
          </p:nvSpPr>
          <p:spPr>
            <a:xfrm>
              <a:off x="2678040" y="2868840"/>
              <a:ext cx="42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宋体"/>
                </a:rPr>
                <a:t>18 </a:t>
              </a:r>
              <a:r>
                <a:rPr b="1" lang="en-US" sz="2800" spc="-1" strike="noStrike">
                  <a:solidFill>
                    <a:srgbClr val="ff00ff"/>
                  </a:solidFill>
                  <a:latin typeface="宋体"/>
                </a:rPr>
                <a:t>×(1-</a:t>
              </a:r>
              <a:r>
                <a:rPr b="1" lang="zh-CN" sz="2800" spc="-1" strike="noStrike">
                  <a:solidFill>
                    <a:srgbClr val="ff00ff"/>
                  </a:solidFill>
                  <a:latin typeface="宋体"/>
                </a:rPr>
                <a:t>　</a:t>
              </a:r>
              <a:r>
                <a:rPr b="1" lang="en-US" sz="2800" spc="-1" strike="noStrike">
                  <a:solidFill>
                    <a:srgbClr val="ff00ff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ff00ff"/>
                  </a:solidFill>
                  <a:latin typeface="宋体"/>
                </a:rPr>
                <a:t>　  </a:t>
              </a:r>
              <a:r>
                <a:rPr b="1" lang="en-US" sz="2800" spc="-1" strike="noStrike">
                  <a:solidFill>
                    <a:srgbClr val="ff00ff"/>
                  </a:solidFill>
                  <a:latin typeface="宋体"/>
                </a:rPr>
                <a:t>)=3(</a:t>
              </a:r>
              <a:r>
                <a:rPr b="1" lang="zh-CN" sz="2800" spc="-1" strike="noStrike">
                  <a:solidFill>
                    <a:srgbClr val="ff00ff"/>
                  </a:solidFill>
                  <a:latin typeface="宋体"/>
                </a:rPr>
                <a:t>米</a:t>
              </a:r>
              <a:r>
                <a:rPr b="1" lang="en-US" sz="2800" spc="-1" strike="noStrike">
                  <a:solidFill>
                    <a:srgbClr val="ff00ff"/>
                  </a:solidFill>
                  <a:latin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5" name="Object 27"/>
            <p:cNvGraphicFramePr/>
            <p:nvPr/>
          </p:nvGraphicFramePr>
          <p:xfrm>
            <a:off x="4870440" y="2668680"/>
            <a:ext cx="273240" cy="95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6" name="Object 2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70440" y="2668680"/>
                      <a:ext cx="273240" cy="95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Object 28"/>
            <p:cNvGraphicFramePr/>
            <p:nvPr/>
          </p:nvGraphicFramePr>
          <p:xfrm>
            <a:off x="4275000" y="2660760"/>
            <a:ext cx="284400" cy="966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8" name="Object 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75000" y="2660760"/>
                      <a:ext cx="284400" cy="96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960480" y="2203560"/>
            <a:ext cx="6254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根据以上信息你能提出哪些数学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使用哪种运算？为什么？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076840" y="34099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平均每组多少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201120" y="401148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48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÷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4=12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334680" y="466416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答：平均每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人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240" y="5241960"/>
            <a:ext cx="9144000" cy="825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迷你简胖头鱼"/>
              </a:rPr>
              <a:t>除法的意义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已知两个因数的积与其中的一个因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求另一个因数的计算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D:\我的文档\北六数\北六数大课堂下（学用）\EE11.tif"/>
          <p:cNvPicPr/>
          <p:nvPr/>
        </p:nvPicPr>
        <p:blipFill>
          <a:blip r:embed="rId1"/>
          <a:srcRect l="59616" t="56851" r="1639" b="3739"/>
          <a:stretch/>
        </p:blipFill>
        <p:spPr>
          <a:xfrm>
            <a:off x="2201760" y="476280"/>
            <a:ext cx="47404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965160" y="2305080"/>
            <a:ext cx="712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►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迷你简胖头鱼"/>
              </a:rPr>
              <a:t>加法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把两个数合并成一个数的运算，叫做加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971640" y="3171960"/>
            <a:ext cx="71294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►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迷你简胖头鱼"/>
              </a:rPr>
              <a:t>减法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已知两个加数的和与其中的一个加数，求另一个加数的运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71640" y="4481640"/>
            <a:ext cx="712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►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迷你简胖头鱼"/>
              </a:rPr>
              <a:t>乘法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求几个相同加数的和的简便运算叫做乘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971640" y="5403960"/>
            <a:ext cx="71294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►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迷你简胖头鱼"/>
              </a:rPr>
              <a:t>除法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已知两个因数的积与其中一个因数，求另一个因数的运算，叫做除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484360" y="955800"/>
            <a:ext cx="43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四 则 运 算 的 意 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638280" y="1046160"/>
            <a:ext cx="78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举例说明生活中哪些地方用到乘法运算。其他运算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xxsx6bpage49"/>
          <p:cNvPicPr/>
          <p:nvPr/>
        </p:nvPicPr>
        <p:blipFill>
          <a:blip r:embed="rId1"/>
          <a:srcRect l="10461" t="63862" r="5040" b="14585"/>
          <a:stretch/>
        </p:blipFill>
        <p:spPr>
          <a:xfrm>
            <a:off x="0" y="2036880"/>
            <a:ext cx="8906040" cy="3600360"/>
          </a:xfrm>
          <a:prstGeom prst="rect">
            <a:avLst/>
          </a:prstGeom>
          <a:ln w="0">
            <a:noFill/>
          </a:ln>
        </p:spPr>
      </p:pic>
      <p:grpSp>
        <p:nvGrpSpPr>
          <p:cNvPr id="122" name="组合 2"/>
          <p:cNvGrpSpPr/>
          <p:nvPr/>
        </p:nvGrpSpPr>
        <p:grpSpPr>
          <a:xfrm>
            <a:off x="1737000" y="5302080"/>
            <a:ext cx="4486680" cy="1352880"/>
            <a:chOff x="1737000" y="5302080"/>
            <a:chExt cx="4486680" cy="1352880"/>
          </a:xfrm>
        </p:grpSpPr>
        <p:sp>
          <p:nvSpPr>
            <p:cNvPr id="123" name="文本框 1"/>
            <p:cNvSpPr/>
            <p:nvPr/>
          </p:nvSpPr>
          <p:spPr>
            <a:xfrm>
              <a:off x="1737000" y="5302080"/>
              <a:ext cx="448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（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）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38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×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6=228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（人）  答：六年级一共有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228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人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（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2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）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8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×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6=48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（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m2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）     答：教室的面积是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48m2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（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3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）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8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×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.5=12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（人）    答：喜欢跳绳的有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2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人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（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4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）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400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×     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=240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（元） 答：现价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240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元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组合 87"/>
            <p:cNvGrpSpPr/>
            <p:nvPr/>
          </p:nvGrpSpPr>
          <p:grpSpPr>
            <a:xfrm>
              <a:off x="2572560" y="5975640"/>
              <a:ext cx="562680" cy="679320"/>
              <a:chOff x="2572560" y="5975640"/>
              <a:chExt cx="562680" cy="679320"/>
            </a:xfrm>
          </p:grpSpPr>
          <p:sp>
            <p:nvSpPr>
              <p:cNvPr id="125" name="文本框 88"/>
              <p:cNvSpPr/>
              <p:nvPr/>
            </p:nvSpPr>
            <p:spPr>
              <a:xfrm>
                <a:off x="2572560" y="6256080"/>
                <a:ext cx="54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宋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文本框 89"/>
              <p:cNvSpPr/>
              <p:nvPr/>
            </p:nvSpPr>
            <p:spPr>
              <a:xfrm>
                <a:off x="2592000" y="5975640"/>
                <a:ext cx="54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直接连接符 93"/>
              <p:cNvSpPr/>
              <p:nvPr/>
            </p:nvSpPr>
            <p:spPr>
              <a:xfrm flipV="1">
                <a:off x="2611080" y="6337440"/>
                <a:ext cx="2566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295280" y="10303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迷你简胖头鱼"/>
              </a:rPr>
              <a:t>用到加、减、乘、除法运算的几种情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9"/>
          <p:cNvGrpSpPr/>
          <p:nvPr/>
        </p:nvGrpSpPr>
        <p:grpSpPr>
          <a:xfrm>
            <a:off x="1433520" y="2139840"/>
            <a:ext cx="5514840" cy="1032120"/>
            <a:chOff x="1433520" y="2139840"/>
            <a:chExt cx="5514840" cy="1032120"/>
          </a:xfrm>
        </p:grpSpPr>
        <p:sp>
          <p:nvSpPr>
            <p:cNvPr id="130" name="Rectangle 4"/>
            <p:cNvSpPr/>
            <p:nvPr/>
          </p:nvSpPr>
          <p:spPr>
            <a:xfrm>
              <a:off x="1433520" y="2452680"/>
              <a:ext cx="982440" cy="5130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加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5"/>
            <p:cNvSpPr/>
            <p:nvPr/>
          </p:nvSpPr>
          <p:spPr>
            <a:xfrm>
              <a:off x="2705040" y="2139840"/>
              <a:ext cx="4243320" cy="1032120"/>
            </a:xfrm>
            <a:custGeom>
              <a:avLst/>
              <a:gdLst>
                <a:gd name="textAreaLeft" fmla="*/ 0 w 4243320"/>
                <a:gd name="textAreaRight" fmla="*/ 4243680 w 4243320"/>
                <a:gd name="textAreaTop" fmla="*/ 0 h 1032120"/>
                <a:gd name="textAreaBottom" fmla="*/ 1032480 h 103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50" y="0"/>
                  </a:lnTo>
                  <a:lnTo>
                    <a:pt x="21600" y="10800"/>
                  </a:lnTo>
                  <a:lnTo>
                    <a:pt x="2025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1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、求两个数的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2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、求比一个数多几的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"/>
            <p:cNvSpPr/>
            <p:nvPr/>
          </p:nvSpPr>
          <p:spPr>
            <a:xfrm>
              <a:off x="2404800" y="2664000"/>
              <a:ext cx="31896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8"/>
          <p:cNvGrpSpPr/>
          <p:nvPr/>
        </p:nvGrpSpPr>
        <p:grpSpPr>
          <a:xfrm>
            <a:off x="1433520" y="3722760"/>
            <a:ext cx="5514840" cy="1222200"/>
            <a:chOff x="1433520" y="3722760"/>
            <a:chExt cx="5514840" cy="1222200"/>
          </a:xfrm>
        </p:grpSpPr>
        <p:sp>
          <p:nvSpPr>
            <p:cNvPr id="134" name="AutoShape 5"/>
            <p:cNvSpPr/>
            <p:nvPr/>
          </p:nvSpPr>
          <p:spPr>
            <a:xfrm>
              <a:off x="2716200" y="3722760"/>
              <a:ext cx="4232160" cy="1222200"/>
            </a:xfrm>
            <a:custGeom>
              <a:avLst/>
              <a:gdLst>
                <a:gd name="textAreaLeft" fmla="*/ 0 w 4232160"/>
                <a:gd name="textAreaRight" fmla="*/ 4232520 w 4232160"/>
                <a:gd name="textAreaTop" fmla="*/ 0 h 1222200"/>
                <a:gd name="textAreaBottom" fmla="*/ 1222560 h 12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93" y="0"/>
                  </a:lnTo>
                  <a:lnTo>
                    <a:pt x="21600" y="10800"/>
                  </a:lnTo>
                  <a:lnTo>
                    <a:pt x="2029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1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、求两个数的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2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、求比一个数少几的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3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、求剩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4"/>
            <p:cNvSpPr/>
            <p:nvPr/>
          </p:nvSpPr>
          <p:spPr>
            <a:xfrm>
              <a:off x="2400120" y="4233960"/>
              <a:ext cx="31896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"/>
            <p:cNvSpPr/>
            <p:nvPr/>
          </p:nvSpPr>
          <p:spPr>
            <a:xfrm>
              <a:off x="1433520" y="4037040"/>
              <a:ext cx="1008000" cy="43488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减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357200" y="716040"/>
            <a:ext cx="64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迷你简胖头鱼"/>
              </a:rPr>
              <a:t>用到加、减、乘、除法运算的几种情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7"/>
          <p:cNvGrpSpPr/>
          <p:nvPr/>
        </p:nvGrpSpPr>
        <p:grpSpPr>
          <a:xfrm>
            <a:off x="620640" y="1700280"/>
            <a:ext cx="8199360" cy="1819080"/>
            <a:chOff x="620640" y="1700280"/>
            <a:chExt cx="8199360" cy="1819080"/>
          </a:xfrm>
        </p:grpSpPr>
        <p:sp>
          <p:nvSpPr>
            <p:cNvPr id="139" name="AutoShape 5"/>
            <p:cNvSpPr/>
            <p:nvPr/>
          </p:nvSpPr>
          <p:spPr>
            <a:xfrm>
              <a:off x="620640" y="1700280"/>
              <a:ext cx="8199360" cy="1819080"/>
            </a:xfrm>
            <a:custGeom>
              <a:avLst/>
              <a:gdLst>
                <a:gd name="textAreaLeft" fmla="*/ 0 w 8199360"/>
                <a:gd name="textAreaRight" fmla="*/ 8199720 w 8199360"/>
                <a:gd name="textAreaTop" fmla="*/ 0 h 1819080"/>
                <a:gd name="textAreaBottom" fmla="*/ 1819440 h 181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45" y="0"/>
                  </a:lnTo>
                  <a:lnTo>
                    <a:pt x="21600" y="10800"/>
                  </a:lnTo>
                  <a:lnTo>
                    <a:pt x="2064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1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、求几个相同加数的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2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、求一个数的几倍是多少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3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、求一个数的几分之几（或百分之几）是多少，用乘法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4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、求几何图形的面积、体积用乘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"/>
            <p:cNvSpPr/>
            <p:nvPr/>
          </p:nvSpPr>
          <p:spPr>
            <a:xfrm>
              <a:off x="7467480" y="1700280"/>
              <a:ext cx="995040" cy="57132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乘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6"/>
          <p:cNvGrpSpPr/>
          <p:nvPr/>
        </p:nvGrpSpPr>
        <p:grpSpPr>
          <a:xfrm>
            <a:off x="611280" y="3860640"/>
            <a:ext cx="7345440" cy="1872000"/>
            <a:chOff x="611280" y="3860640"/>
            <a:chExt cx="7345440" cy="1872000"/>
          </a:xfrm>
        </p:grpSpPr>
        <p:sp>
          <p:nvSpPr>
            <p:cNvPr id="142" name="AutoShape 5"/>
            <p:cNvSpPr/>
            <p:nvPr/>
          </p:nvSpPr>
          <p:spPr>
            <a:xfrm>
              <a:off x="611280" y="3860640"/>
              <a:ext cx="7345440" cy="1872000"/>
            </a:xfrm>
            <a:custGeom>
              <a:avLst/>
              <a:gdLst>
                <a:gd name="textAreaLeft" fmla="*/ 0 w 7345440"/>
                <a:gd name="textAreaRight" fmla="*/ 7345800 w 7345440"/>
                <a:gd name="textAreaTop" fmla="*/ 0 h 1872000"/>
                <a:gd name="textAreaBottom" fmla="*/ 1872360 h 18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463" y="0"/>
                  </a:lnTo>
                  <a:lnTo>
                    <a:pt x="21600" y="10800"/>
                  </a:lnTo>
                  <a:lnTo>
                    <a:pt x="2046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1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、把一个数平均分成几份，求每份是多少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2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、求一个数里面有几个另一个数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3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、求一个数是另一个数的几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4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迷你简胖头鱼"/>
                </a:rPr>
                <a:t>、已知一个数的几倍是多少，求这个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6693120" y="4572000"/>
              <a:ext cx="1027080" cy="47448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除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41440" y="169560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迷你简胖头鱼"/>
              </a:rPr>
              <a:t>39   +    26   =   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68360" y="21668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迷你简胖头鱼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迷你简胖头鱼"/>
              </a:rPr>
              <a:t>加数      加数       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492360" y="29811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迷你简胖头鱼"/>
              </a:rPr>
              <a:t>65   —  26   =   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492360" y="4143240"/>
            <a:ext cx="332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迷你简胖头鱼"/>
              </a:rPr>
              <a:t>65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迷你简胖头鱼"/>
              </a:rPr>
              <a:t>39   =   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492360" y="341784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和        加数     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3357720" y="46432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和       加数      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069920" y="642960"/>
            <a:ext cx="6310440" cy="853920"/>
          </a:xfrm>
          <a:custGeom>
            <a:avLst/>
            <a:gdLst>
              <a:gd name="textAreaLeft" fmla="*/ 0 w 6310440"/>
              <a:gd name="textAreaRight" fmla="*/ 6310800 w 6310440"/>
              <a:gd name="textAreaTop" fmla="*/ 0 h 853920"/>
              <a:gd name="textAreaBottom" fmla="*/ 854280 h 85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75" y="0"/>
                </a:lnTo>
                <a:lnTo>
                  <a:pt x="21600" y="10800"/>
                </a:lnTo>
                <a:lnTo>
                  <a:pt x="208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看下面的算式，说明加减法之间有什么关系。乘除法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1292400" y="5286240"/>
            <a:ext cx="6279840" cy="520560"/>
          </a:xfrm>
          <a:prstGeom prst="rect">
            <a:avLst/>
          </a:prstGeom>
          <a:solidFill>
            <a:srgbClr val="99ccff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结：减法是加法的逆运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500280" y="3729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乘除法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79640" y="123984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迷你简胖头鱼"/>
              </a:rPr>
              <a:t>2.5   ×  4    =  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079640" y="1844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因数      因数      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903840" y="2670120"/>
            <a:ext cx="34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迷你简胖头鱼"/>
              </a:rPr>
              <a:t>10   ÷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迷你简胖头鱼"/>
              </a:rPr>
              <a:t> 2.5    = 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064040" y="319572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积        因数     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992400" y="3981600"/>
            <a:ext cx="34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迷你简胖头鱼"/>
              </a:rPr>
              <a:t>10   ÷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迷你简胖头鱼"/>
              </a:rPr>
              <a:t> 4    =    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008600" y="45068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积      因数      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987480" y="5578560"/>
            <a:ext cx="6280200" cy="520560"/>
          </a:xfrm>
          <a:prstGeom prst="rect">
            <a:avLst/>
          </a:prstGeom>
          <a:solidFill>
            <a:srgbClr val="99ccff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结：除法是乘法的逆运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5"/>
          <p:cNvSpPr/>
          <p:nvPr/>
        </p:nvSpPr>
        <p:spPr>
          <a:xfrm>
            <a:off x="1692360" y="746280"/>
            <a:ext cx="6541920" cy="850680"/>
          </a:xfrm>
          <a:custGeom>
            <a:avLst/>
            <a:gdLst>
              <a:gd name="textAreaLeft" fmla="*/ 0 w 6541920"/>
              <a:gd name="textAreaRight" fmla="*/ 6542280 w 654192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40" y="0"/>
                </a:lnTo>
                <a:lnTo>
                  <a:pt x="21600" y="10800"/>
                </a:lnTo>
                <a:lnTo>
                  <a:pt x="20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举例说明加法各部分之间有什么关系。减法、乘法、除法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4"/>
          <p:cNvGrpSpPr/>
          <p:nvPr/>
        </p:nvGrpSpPr>
        <p:grpSpPr>
          <a:xfrm>
            <a:off x="2193840" y="1832040"/>
            <a:ext cx="5092920" cy="1584360"/>
            <a:chOff x="2193840" y="1832040"/>
            <a:chExt cx="5092920" cy="1584360"/>
          </a:xfrm>
        </p:grpSpPr>
        <p:sp>
          <p:nvSpPr>
            <p:cNvPr id="162" name="Text Box 2"/>
            <p:cNvSpPr/>
            <p:nvPr/>
          </p:nvSpPr>
          <p:spPr>
            <a:xfrm>
              <a:off x="2904840" y="2549520"/>
              <a:ext cx="213912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加数 ＋ 加数 ＝ 和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4"/>
            <p:cNvSpPr/>
            <p:nvPr/>
          </p:nvSpPr>
          <p:spPr>
            <a:xfrm>
              <a:off x="2372760" y="1924200"/>
              <a:ext cx="21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75=10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2193840" y="1832040"/>
              <a:ext cx="5092920" cy="1584360"/>
            </a:xfrm>
            <a:prstGeom prst="rect">
              <a:avLst/>
            </a:prstGeom>
            <a:noFill/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5"/>
          <p:cNvGrpSpPr/>
          <p:nvPr/>
        </p:nvGrpSpPr>
        <p:grpSpPr>
          <a:xfrm>
            <a:off x="2087640" y="3681360"/>
            <a:ext cx="5284800" cy="1978200"/>
            <a:chOff x="2087640" y="3681360"/>
            <a:chExt cx="5284800" cy="1978200"/>
          </a:xfrm>
        </p:grpSpPr>
        <p:sp>
          <p:nvSpPr>
            <p:cNvPr id="166" name="Text Box 3"/>
            <p:cNvSpPr/>
            <p:nvPr/>
          </p:nvSpPr>
          <p:spPr>
            <a:xfrm>
              <a:off x="2193840" y="4929120"/>
              <a:ext cx="5092920" cy="520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和 </a:t>
              </a: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  <a:ea typeface="Dotum"/>
                </a:rPr>
                <a:t>—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一个加数 ＝ 另一个加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5"/>
            <p:cNvSpPr/>
            <p:nvPr/>
          </p:nvSpPr>
          <p:spPr>
            <a:xfrm>
              <a:off x="2320560" y="3767040"/>
              <a:ext cx="210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1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75=2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6"/>
            <p:cNvSpPr/>
            <p:nvPr/>
          </p:nvSpPr>
          <p:spPr>
            <a:xfrm>
              <a:off x="2306520" y="4338720"/>
              <a:ext cx="210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1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25=7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0"/>
            <p:cNvSpPr/>
            <p:nvPr/>
          </p:nvSpPr>
          <p:spPr>
            <a:xfrm>
              <a:off x="2087640" y="3681360"/>
              <a:ext cx="5284800" cy="1978200"/>
            </a:xfrm>
            <a:prstGeom prst="rect">
              <a:avLst/>
            </a:prstGeom>
            <a:noFill/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Box 12"/>
          <p:cNvSpPr/>
          <p:nvPr/>
        </p:nvSpPr>
        <p:spPr>
          <a:xfrm>
            <a:off x="1071720" y="1871640"/>
            <a:ext cx="83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1071720" y="3681360"/>
            <a:ext cx="83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1"/>
          <p:cNvSpPr/>
          <p:nvPr/>
        </p:nvSpPr>
        <p:spPr>
          <a:xfrm>
            <a:off x="863640" y="1289160"/>
            <a:ext cx="74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×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   6÷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  6÷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因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另一个因数＝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因数＝另一个因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没有余数的除法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÷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 8÷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  4×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除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数＝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除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＝除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＝被除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余数的除法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÷2=4……1    2×4+1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除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除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900000" y="2104920"/>
            <a:ext cx="7272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迷你简胖头鱼"/>
              </a:rPr>
              <a:t>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结合生活中的具体情境，体会四则运算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128680" y="3800520"/>
            <a:ext cx="5196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迷你简胖头鱼"/>
              </a:rPr>
              <a:t>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在具体运算和解决简单实际问题的过程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体会加与减、乘与除的互逆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413720" y="1725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复习目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133126" descr="71"/>
          <p:cNvPicPr/>
          <p:nvPr/>
        </p:nvPicPr>
        <p:blipFill>
          <a:blip r:embed="rId1"/>
          <a:srcRect l="1160" t="7970" r="16820" b="64101"/>
          <a:stretch/>
        </p:blipFill>
        <p:spPr>
          <a:xfrm>
            <a:off x="0" y="404640"/>
            <a:ext cx="9144000" cy="457380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133127"/>
          <p:cNvSpPr/>
          <p:nvPr/>
        </p:nvSpPr>
        <p:spPr>
          <a:xfrm>
            <a:off x="7899120" y="22766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3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33128"/>
          <p:cNvSpPr/>
          <p:nvPr/>
        </p:nvSpPr>
        <p:spPr>
          <a:xfrm>
            <a:off x="5200560" y="2819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33129"/>
          <p:cNvSpPr/>
          <p:nvPr/>
        </p:nvSpPr>
        <p:spPr>
          <a:xfrm>
            <a:off x="6640200" y="33098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"/>
          <p:cNvSpPr/>
          <p:nvPr/>
        </p:nvSpPr>
        <p:spPr>
          <a:xfrm>
            <a:off x="2248560" y="5070600"/>
            <a:ext cx="340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）中国、韩国和日本的奖牌总数为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342+234+200=77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（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答：中国、韩国和日本的奖牌总数为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77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（答案不唯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132102" descr="71"/>
          <p:cNvPicPr/>
          <p:nvPr/>
        </p:nvPicPr>
        <p:blipFill>
          <a:blip r:embed="rId1"/>
          <a:srcRect l="1160" t="35903" r="9766" b="40969"/>
          <a:stretch/>
        </p:blipFill>
        <p:spPr>
          <a:xfrm>
            <a:off x="0" y="260280"/>
            <a:ext cx="9144000" cy="348768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132103"/>
          <p:cNvSpPr/>
          <p:nvPr/>
        </p:nvSpPr>
        <p:spPr>
          <a:xfrm>
            <a:off x="220320" y="41655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0.7×12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32105"/>
          <p:cNvSpPr/>
          <p:nvPr/>
        </p:nvSpPr>
        <p:spPr>
          <a:xfrm>
            <a:off x="1564920" y="415296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8.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32106"/>
          <p:cNvSpPr/>
          <p:nvPr/>
        </p:nvSpPr>
        <p:spPr>
          <a:xfrm>
            <a:off x="3203280" y="417528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43.2÷7.2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32107"/>
          <p:cNvSpPr/>
          <p:nvPr/>
        </p:nvSpPr>
        <p:spPr>
          <a:xfrm>
            <a:off x="4825800" y="416232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32108"/>
          <p:cNvSpPr/>
          <p:nvPr/>
        </p:nvSpPr>
        <p:spPr>
          <a:xfrm>
            <a:off x="6291360" y="417816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5.4÷27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32109"/>
          <p:cNvSpPr/>
          <p:nvPr/>
        </p:nvSpPr>
        <p:spPr>
          <a:xfrm>
            <a:off x="7668720" y="416556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0.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32110"/>
          <p:cNvSpPr/>
          <p:nvPr/>
        </p:nvSpPr>
        <p:spPr>
          <a:xfrm>
            <a:off x="708840" y="4856040"/>
            <a:ext cx="13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应付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8.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32111"/>
          <p:cNvSpPr/>
          <p:nvPr/>
        </p:nvSpPr>
        <p:spPr>
          <a:xfrm>
            <a:off x="3714120" y="4873680"/>
            <a:ext cx="11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打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32112"/>
          <p:cNvSpPr/>
          <p:nvPr/>
        </p:nvSpPr>
        <p:spPr>
          <a:xfrm>
            <a:off x="6701400" y="4873680"/>
            <a:ext cx="16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市话每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0.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130054" descr="71"/>
          <p:cNvPicPr/>
          <p:nvPr/>
        </p:nvPicPr>
        <p:blipFill>
          <a:blip r:embed="rId1"/>
          <a:srcRect l="1160" t="59035" r="10956" b="22621"/>
          <a:stretch/>
        </p:blipFill>
        <p:spPr>
          <a:xfrm>
            <a:off x="0" y="549360"/>
            <a:ext cx="9144000" cy="280332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130055"/>
          <p:cNvSpPr/>
          <p:nvPr/>
        </p:nvSpPr>
        <p:spPr>
          <a:xfrm>
            <a:off x="1871640" y="339732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五、六年级各捐书多少本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30056"/>
          <p:cNvSpPr/>
          <p:nvPr/>
        </p:nvSpPr>
        <p:spPr>
          <a:xfrm>
            <a:off x="1115280" y="4221000"/>
            <a:ext cx="31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五年级捐书的本书是四年级的几倍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30057"/>
          <p:cNvSpPr/>
          <p:nvPr/>
        </p:nvSpPr>
        <p:spPr>
          <a:xfrm>
            <a:off x="1570320" y="4981680"/>
            <a:ext cx="49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六年级捐书的本书正好是二年级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倍，二年级捐书多少本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30058"/>
          <p:cNvSpPr/>
          <p:nvPr/>
        </p:nvSpPr>
        <p:spPr>
          <a:xfrm>
            <a:off x="758520" y="377676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20+60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30059"/>
          <p:cNvSpPr/>
          <p:nvPr/>
        </p:nvSpPr>
        <p:spPr>
          <a:xfrm>
            <a:off x="2092680" y="376884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8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本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30060"/>
          <p:cNvSpPr/>
          <p:nvPr/>
        </p:nvSpPr>
        <p:spPr>
          <a:xfrm>
            <a:off x="3784680" y="37638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80×3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30061"/>
          <p:cNvSpPr/>
          <p:nvPr/>
        </p:nvSpPr>
        <p:spPr>
          <a:xfrm>
            <a:off x="5055120" y="375588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54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本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30062"/>
          <p:cNvSpPr/>
          <p:nvPr/>
        </p:nvSpPr>
        <p:spPr>
          <a:xfrm>
            <a:off x="1125360" y="453564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80÷120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30063"/>
          <p:cNvSpPr/>
          <p:nvPr/>
        </p:nvSpPr>
        <p:spPr>
          <a:xfrm>
            <a:off x="2546640" y="4527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30064"/>
          <p:cNvSpPr/>
          <p:nvPr/>
        </p:nvSpPr>
        <p:spPr>
          <a:xfrm>
            <a:off x="1030680" y="533088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540÷5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30065"/>
          <p:cNvSpPr/>
          <p:nvPr/>
        </p:nvSpPr>
        <p:spPr>
          <a:xfrm>
            <a:off x="2308680" y="531036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0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本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4"/>
          <p:cNvSpPr/>
          <p:nvPr/>
        </p:nvSpPr>
        <p:spPr>
          <a:xfrm>
            <a:off x="1609560" y="4572000"/>
            <a:ext cx="6283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根据以上信息你能提出哪些数学问题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使用了哪些运算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D:\我的文档\北六数\北六数大课堂下（学用）\EE11.tif"/>
          <p:cNvPicPr/>
          <p:nvPr/>
        </p:nvPicPr>
        <p:blipFill>
          <a:blip r:embed="rId1"/>
          <a:srcRect l="8372" t="0" r="41135" b="45998"/>
          <a:stretch/>
        </p:blipFill>
        <p:spPr>
          <a:xfrm>
            <a:off x="1042920" y="1389240"/>
            <a:ext cx="7416720" cy="316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D:\我的文档\北六数\北六数大课堂下（学用）\EE11.tif"/>
          <p:cNvPicPr/>
          <p:nvPr/>
        </p:nvPicPr>
        <p:blipFill>
          <a:blip r:embed="rId2"/>
          <a:srcRect l="8372" t="0" r="41135" b="45998"/>
          <a:stretch/>
        </p:blipFill>
        <p:spPr>
          <a:xfrm>
            <a:off x="1332000" y="1511280"/>
            <a:ext cx="6840360" cy="2922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D:\我的文档\北六数\北六数大课堂下（学用）\EE11.tif"/>
          <p:cNvPicPr/>
          <p:nvPr/>
        </p:nvPicPr>
        <p:blipFill>
          <a:blip r:embed="rId3"/>
          <a:srcRect l="8372" t="0" r="41135" b="45998"/>
          <a:stretch/>
        </p:blipFill>
        <p:spPr>
          <a:xfrm>
            <a:off x="1468440" y="1544760"/>
            <a:ext cx="6840360" cy="292248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1000080" y="1071720"/>
            <a:ext cx="545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装饰教室一共需要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只纸鹤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4560" y="9716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提出的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249080" y="1670040"/>
            <a:ext cx="95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１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两个同学一共折了多少只纸鹤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Text Box 6"/>
          <p:cNvGrpSpPr/>
          <p:nvPr/>
        </p:nvGrpSpPr>
        <p:grpSpPr>
          <a:xfrm>
            <a:off x="2390760" y="2560680"/>
            <a:ext cx="5203800" cy="493200"/>
            <a:chOff x="2390760" y="2560680"/>
            <a:chExt cx="5203800" cy="493200"/>
          </a:xfrm>
        </p:grpSpPr>
        <p:pic>
          <p:nvPicPr>
            <p:cNvPr id="57" name="Text Box 6" descr=""/>
            <p:cNvPicPr/>
            <p:nvPr/>
          </p:nvPicPr>
          <p:blipFill>
            <a:blip r:embed="rId1"/>
            <a:stretch/>
          </p:blipFill>
          <p:spPr>
            <a:xfrm>
              <a:off x="2390760" y="2562120"/>
              <a:ext cx="5203800" cy="49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970720" y="2560680"/>
              <a:ext cx="4044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你用什么方法来计算呢？为什么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8"/>
          <p:cNvSpPr/>
          <p:nvPr/>
        </p:nvSpPr>
        <p:spPr>
          <a:xfrm>
            <a:off x="2856960" y="3444840"/>
            <a:ext cx="323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算式：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39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6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65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（只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981080" y="4032360"/>
            <a:ext cx="601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答：两个同学一共折了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65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只纸鹤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0" y="4857840"/>
            <a:ext cx="91440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法的意义：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把两个或两个以上的数合并成一个数的运算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4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643040" y="1785960"/>
            <a:ext cx="241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２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还要折多少只纸鹤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4572000"/>
            <a:ext cx="9144000" cy="825480"/>
          </a:xfrm>
          <a:prstGeom prst="rect">
            <a:avLst/>
          </a:prstGeom>
          <a:gradFill rotWithShape="0">
            <a:gsLst>
              <a:gs pos="0">
                <a:srgbClr val="bef397"/>
              </a:gs>
              <a:gs pos="100000">
                <a:srgbClr val="eafa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减法的意义：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已知两个数的和与其中的一个加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求另一个数的运算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230560" y="3200400"/>
            <a:ext cx="35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算式：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120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6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5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（只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558160" y="3849840"/>
            <a:ext cx="25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答：还要折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5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只纸鹤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009960" y="2506680"/>
            <a:ext cx="3152520" cy="489960"/>
          </a:xfrm>
          <a:prstGeom prst="rect">
            <a:avLst/>
          </a:prstGeom>
          <a:gradFill rotWithShape="0">
            <a:gsLst>
              <a:gs pos="0">
                <a:srgbClr val="80ffe9"/>
              </a:gs>
              <a:gs pos="100000">
                <a:srgbClr val="dafff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你用什么方法来计算呢？为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506240" y="1125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提出的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912960" y="2786040"/>
            <a:ext cx="65563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以上信息你能提出哪些数学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哪种运算？为什么？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465800" y="2352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共需要多少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08120" y="4157640"/>
            <a:ext cx="30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算式：</a:t>
            </a:r>
            <a:r>
              <a:rPr b="1" lang="en-US" sz="2400" spc="-1" strike="noStrike">
                <a:solidFill>
                  <a:srgbClr val="ff00ff"/>
                </a:solidFill>
                <a:latin typeface="宋体"/>
              </a:rPr>
              <a:t>52×1.5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ff00ff"/>
                </a:solidFill>
                <a:latin typeface="宋体"/>
              </a:rPr>
              <a:t>78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008160" y="516564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答：一共需要</a:t>
            </a:r>
            <a:r>
              <a:rPr b="1" lang="en-US" sz="2400" spc="-1" strike="noStrike">
                <a:solidFill>
                  <a:srgbClr val="ff00ff"/>
                </a:solidFill>
                <a:latin typeface="宋体"/>
              </a:rPr>
              <a:t>78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元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04280" y="466236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5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是多少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0" y="5742000"/>
            <a:ext cx="91440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乘法的意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求几个相同加数的和的简便运算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D:\我的文档\北六数\北六数大课堂下（学用）\EE11.tif"/>
          <p:cNvPicPr/>
          <p:nvPr/>
        </p:nvPicPr>
        <p:blipFill>
          <a:blip r:embed="rId1"/>
          <a:srcRect l="59995" t="0" r="0" b="48565"/>
          <a:stretch/>
        </p:blipFill>
        <p:spPr>
          <a:xfrm>
            <a:off x="2379600" y="620640"/>
            <a:ext cx="43848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6"/>
          <p:cNvSpPr/>
          <p:nvPr/>
        </p:nvSpPr>
        <p:spPr>
          <a:xfrm>
            <a:off x="3078720" y="35002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共用了多少米彩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1662120" y="4270320"/>
            <a:ext cx="5697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根据以上信息你能提出哪些数学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使用哪种运算？为什么？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D:\我的文档\北六数\北六数大课堂下（学用）\EE11.tif"/>
          <p:cNvPicPr/>
          <p:nvPr/>
        </p:nvPicPr>
        <p:blipFill>
          <a:blip r:embed="rId1"/>
          <a:srcRect l="0" t="55315" r="42257" b="0"/>
          <a:stretch/>
        </p:blipFill>
        <p:spPr>
          <a:xfrm>
            <a:off x="1077840" y="1052640"/>
            <a:ext cx="69883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9"/>
          <p:cNvGrpSpPr/>
          <p:nvPr/>
        </p:nvGrpSpPr>
        <p:grpSpPr>
          <a:xfrm>
            <a:off x="2571480" y="1576440"/>
            <a:ext cx="3836880" cy="1679400"/>
            <a:chOff x="2571480" y="1576440"/>
            <a:chExt cx="3836880" cy="1679400"/>
          </a:xfrm>
        </p:grpSpPr>
        <p:sp>
          <p:nvSpPr>
            <p:cNvPr id="79" name="Text Box 17"/>
            <p:cNvSpPr/>
            <p:nvPr/>
          </p:nvSpPr>
          <p:spPr>
            <a:xfrm>
              <a:off x="2764080" y="1805040"/>
              <a:ext cx="346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Times New Roman"/>
                  <a:ea typeface="迷你简胖头鱼"/>
                </a:rPr>
                <a:t>18×    +18×     =15(</a:t>
              </a:r>
              <a:r>
                <a:rPr b="0" lang="zh-CN" sz="2800" spc="-1" strike="noStrike">
                  <a:solidFill>
                    <a:srgbClr val="ff00ff"/>
                  </a:solidFill>
                  <a:latin typeface="Times New Roman"/>
                  <a:ea typeface="迷你简胖头鱼"/>
                </a:rPr>
                <a:t>米</a:t>
              </a:r>
              <a:r>
                <a:rPr b="0" lang="en-US" sz="2800" spc="-1" strike="noStrike">
                  <a:solidFill>
                    <a:srgbClr val="ff00ff"/>
                  </a:solidFill>
                  <a:latin typeface="Times New Roman"/>
                  <a:ea typeface="迷你简胖头鱼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" name="Object 19"/>
            <p:cNvGraphicFramePr/>
            <p:nvPr/>
          </p:nvGraphicFramePr>
          <p:xfrm>
            <a:off x="3348000" y="1631880"/>
            <a:ext cx="434880" cy="78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" name="Object 1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8000" y="1631880"/>
                      <a:ext cx="434880" cy="7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Object 20"/>
            <p:cNvGraphicFramePr/>
            <p:nvPr/>
          </p:nvGraphicFramePr>
          <p:xfrm>
            <a:off x="4684680" y="1576440"/>
            <a:ext cx="252360" cy="887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" name="Object 2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84680" y="1576440"/>
                      <a:ext cx="252360" cy="88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" name="Text Box 23"/>
            <p:cNvSpPr/>
            <p:nvPr/>
          </p:nvSpPr>
          <p:spPr>
            <a:xfrm>
              <a:off x="2571480" y="2533680"/>
              <a:ext cx="383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迷你简胖头鱼"/>
                </a:rPr>
                <a:t>或</a:t>
              </a:r>
              <a:r>
                <a:rPr b="0" lang="zh-CN" sz="2800" spc="-1" strike="noStrike">
                  <a:solidFill>
                    <a:srgbClr val="ff00ff"/>
                  </a:solidFill>
                  <a:latin typeface="Times New Roman"/>
                  <a:ea typeface="迷你简胖头鱼"/>
                </a:rPr>
                <a:t>：</a:t>
              </a:r>
              <a:r>
                <a:rPr b="0" lang="en-US" sz="2800" spc="-1" strike="noStrike">
                  <a:solidFill>
                    <a:srgbClr val="ff00ff"/>
                  </a:solidFill>
                  <a:latin typeface="Times New Roman"/>
                  <a:ea typeface="迷你简胖头鱼"/>
                </a:rPr>
                <a:t>18× (    +     ) =15(</a:t>
              </a:r>
              <a:r>
                <a:rPr b="0" lang="zh-CN" sz="2800" spc="-1" strike="noStrike">
                  <a:solidFill>
                    <a:srgbClr val="ff00ff"/>
                  </a:solidFill>
                  <a:latin typeface="Times New Roman"/>
                  <a:ea typeface="迷你简胖头鱼"/>
                </a:rPr>
                <a:t>米</a:t>
              </a:r>
              <a:r>
                <a:rPr b="0" lang="en-US" sz="2800" spc="-1" strike="noStrike">
                  <a:solidFill>
                    <a:srgbClr val="ff00ff"/>
                  </a:solidFill>
                  <a:latin typeface="Times New Roman"/>
                  <a:ea typeface="迷你简胖头鱼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" name="Object 24"/>
            <p:cNvGraphicFramePr/>
            <p:nvPr/>
          </p:nvGraphicFramePr>
          <p:xfrm>
            <a:off x="4125960" y="2368440"/>
            <a:ext cx="352440" cy="887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" name="Object 2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25960" y="2368440"/>
                      <a:ext cx="352440" cy="88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Object 25"/>
            <p:cNvGraphicFramePr/>
            <p:nvPr/>
          </p:nvGraphicFramePr>
          <p:xfrm>
            <a:off x="4684680" y="2359080"/>
            <a:ext cx="370080" cy="887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84680" y="2359080"/>
                      <a:ext cx="370080" cy="88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9" name="Text Box 27"/>
          <p:cNvSpPr/>
          <p:nvPr/>
        </p:nvSpPr>
        <p:spPr>
          <a:xfrm>
            <a:off x="4050000" y="43657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迷你简胖头鱼"/>
              </a:rPr>
              <a:t>求一个数的几分之几是多少用乘法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3357360" y="351324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迷你简胖头鱼"/>
              </a:rPr>
              <a:t>答：一共用了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迷你简胖头鱼"/>
              </a:rPr>
              <a:t>15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迷你简胖头鱼"/>
              </a:rPr>
              <a:t>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迷你简胖头鱼"/>
              </a:rPr>
              <a:t>米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4"/>
          <p:cNvSpPr/>
          <p:nvPr/>
        </p:nvSpPr>
        <p:spPr>
          <a:xfrm>
            <a:off x="2484360" y="3281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还剩多少米彩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1852560" y="4075200"/>
            <a:ext cx="5438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以上信息你能提出哪些数学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哪种运算？为什么？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D:\我的文档\北六数\北六数大课堂下（学用）\EE11.tif"/>
          <p:cNvPicPr/>
          <p:nvPr/>
        </p:nvPicPr>
        <p:blipFill>
          <a:blip r:embed="rId1"/>
          <a:srcRect l="0" t="55315" r="42257" b="0"/>
          <a:stretch/>
        </p:blipFill>
        <p:spPr>
          <a:xfrm>
            <a:off x="1077840" y="907920"/>
            <a:ext cx="69883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1:02:3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