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jpeg" ContentType="image/jpeg"/>
  <Override PartName="/ppt/media/chimes.wav" ContentType="audio/x-wav"/>
  <Override PartName="/ppt/media/image6.jpeg" ContentType="image/jpeg"/>
  <Override PartName="/ppt/media/image7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69F7-D361-456E-B509-7E811B947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BFF3-3025-42AC-95F7-462BCA4CE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8EBB-D20C-4C47-9122-652967D1E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92D4-7E21-4DC2-9D71-BEA81916F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AC5D-8117-4C96-B8FF-578C22C4C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7F12-3F53-46B9-81F2-23B8703DB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E38B-382D-4888-95D2-60A363BD0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266B-EE7F-4BF7-9569-FA366EBA7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2357-5692-4BE4-B8DB-FB9BDA299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F0F8-146B-417B-9CB5-314750B1B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A0A3-9073-40AF-9F05-ED62AFEB2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0706-670D-44D0-848F-C7D6536DA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7DA52-5E96-46A1-90F5-EC861A82A01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.wmf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Oval 5"/>
          <p:cNvSpPr/>
          <p:nvPr/>
        </p:nvSpPr>
        <p:spPr>
          <a:xfrm>
            <a:off x="2948040" y="3319560"/>
            <a:ext cx="685800" cy="685800"/>
          </a:xfrm>
          <a:prstGeom prst="ellipse">
            <a:avLst/>
          </a:prstGeom>
          <a:solidFill>
            <a:srgbClr val="8dd2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146160" y="3343320"/>
            <a:ext cx="875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式与方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组合 3"/>
          <p:cNvGrpSpPr/>
          <p:nvPr/>
        </p:nvGrpSpPr>
        <p:grpSpPr>
          <a:xfrm>
            <a:off x="1499760" y="1887480"/>
            <a:ext cx="4123080" cy="1390320"/>
            <a:chOff x="1499760" y="1887480"/>
            <a:chExt cx="4123080" cy="1390320"/>
          </a:xfrm>
        </p:grpSpPr>
        <p:sp>
          <p:nvSpPr>
            <p:cNvPr id="44" name="Rectangle 9"/>
            <p:cNvSpPr/>
            <p:nvPr/>
          </p:nvSpPr>
          <p:spPr>
            <a:xfrm>
              <a:off x="1499760" y="1887480"/>
              <a:ext cx="4123080" cy="62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35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 </a:t>
              </a:r>
              <a:r>
                <a:rPr b="1" sz="35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      </a:t>
              </a:r>
              <a:r>
                <a:rPr b="1" sz="35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总复习     数与代数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文本框 2"/>
            <p:cNvSpPr/>
            <p:nvPr/>
          </p:nvSpPr>
          <p:spPr>
            <a:xfrm>
              <a:off x="4168080" y="2696400"/>
              <a:ext cx="1155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式与方程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矩形 3"/>
          <p:cNvSpPr/>
          <p:nvPr/>
        </p:nvSpPr>
        <p:spPr>
          <a:xfrm>
            <a:off x="4532760" y="747720"/>
            <a:ext cx="57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列方程解决下面的问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4"/>
          <p:cNvSpPr/>
          <p:nvPr/>
        </p:nvSpPr>
        <p:spPr>
          <a:xfrm>
            <a:off x="692280" y="1521000"/>
            <a:ext cx="77943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）果品商店购进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箱苹果。购进苹果的箱数是橘子箱数的       。商店购进了多少箱橘子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Object 5"/>
          <p:cNvGraphicFramePr/>
          <p:nvPr/>
        </p:nvGraphicFramePr>
        <p:xfrm>
          <a:off x="3046320" y="2230560"/>
          <a:ext cx="354240" cy="72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6320" y="2230560"/>
                    <a:ext cx="354240" cy="72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6" name="组合 8"/>
          <p:cNvGrpSpPr/>
          <p:nvPr/>
        </p:nvGrpSpPr>
        <p:grpSpPr>
          <a:xfrm>
            <a:off x="1884240" y="3098880"/>
            <a:ext cx="5375520" cy="2653560"/>
            <a:chOff x="1884240" y="3098880"/>
            <a:chExt cx="5375520" cy="2653560"/>
          </a:xfrm>
        </p:grpSpPr>
        <p:sp>
          <p:nvSpPr>
            <p:cNvPr id="117" name="矩形 5"/>
            <p:cNvSpPr/>
            <p:nvPr/>
          </p:nvSpPr>
          <p:spPr>
            <a:xfrm>
              <a:off x="1884240" y="3098880"/>
              <a:ext cx="5375520" cy="26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ff"/>
                  </a:solidFill>
                  <a:latin typeface="Times New Roman"/>
                  <a:ea typeface="迷你简胖头鱼"/>
                </a:rPr>
                <a:t>解：设商店购进了</a:t>
              </a:r>
              <a:r>
                <a:rPr b="0" i="1" lang="en-US" sz="2800" spc="-1" strike="noStrike">
                  <a:solidFill>
                    <a:srgbClr val="0000ff"/>
                  </a:solidFill>
                  <a:latin typeface="Times New Roman"/>
                  <a:ea typeface="迷你简胖头鱼"/>
                </a:rPr>
                <a:t>x</a:t>
              </a:r>
              <a:r>
                <a:rPr b="0" lang="zh-CN" sz="2800" spc="-1" strike="noStrike">
                  <a:solidFill>
                    <a:srgbClr val="0000ff"/>
                  </a:solidFill>
                  <a:latin typeface="Times New Roman"/>
                  <a:ea typeface="迷你简胖头鱼"/>
                </a:rPr>
                <a:t>箱橘子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迷你简胖头鱼"/>
                </a:rPr>
                <a:t>        </a:t>
              </a:r>
              <a:r>
                <a:rPr b="0" lang="zh-CN" sz="2800" spc="-1" strike="noStrike">
                  <a:solidFill>
                    <a:srgbClr val="0000ff"/>
                  </a:solidFill>
                  <a:latin typeface="Times New Roman"/>
                  <a:ea typeface="迷你简胖头鱼"/>
                </a:rPr>
                <a:t>橘子箱数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迷你简胖头鱼"/>
                </a:rPr>
                <a:t>×    </a:t>
              </a:r>
              <a:r>
                <a:rPr b="0" lang="zh-CN" sz="2800" spc="-1" strike="noStrike">
                  <a:solidFill>
                    <a:srgbClr val="0000ff"/>
                  </a:solidFill>
                  <a:latin typeface="Times New Roman"/>
                  <a:ea typeface="迷你简胖头鱼"/>
                </a:rPr>
                <a:t>＝苹果箱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ff"/>
                  </a:solidFill>
                  <a:latin typeface="Times New Roman"/>
                  <a:ea typeface="迷你简胖头鱼"/>
                </a:rPr>
                <a:t>                              </a:t>
              </a:r>
              <a:r>
                <a:rPr b="0" i="1" lang="en-US" sz="2800" spc="-1" strike="noStrike">
                  <a:solidFill>
                    <a:srgbClr val="0000ff"/>
                  </a:solidFill>
                  <a:latin typeface="Times New Roman"/>
                  <a:ea typeface="迷你简胖头鱼"/>
                </a:rPr>
                <a:t>x</a:t>
              </a:r>
              <a:r>
                <a:rPr b="0" lang="zh-CN" sz="2800" spc="-1" strike="noStrike">
                  <a:solidFill>
                    <a:srgbClr val="0000ff"/>
                  </a:solidFill>
                  <a:latin typeface="Times New Roman"/>
                  <a:ea typeface="迷你简胖头鱼"/>
                </a:rPr>
                <a:t>＝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迷你简胖头鱼"/>
                </a:rPr>
                <a:t>2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迷你简胖头鱼"/>
                </a:rPr>
                <a:t>                              </a:t>
              </a:r>
              <a:r>
                <a:rPr b="0" i="1" lang="en-US" sz="2800" spc="-1" strike="noStrike">
                  <a:solidFill>
                    <a:srgbClr val="0000ff"/>
                  </a:solidFill>
                  <a:latin typeface="Times New Roman"/>
                  <a:ea typeface="迷你简胖头鱼"/>
                </a:rPr>
                <a:t>x</a:t>
              </a:r>
              <a:r>
                <a:rPr b="0" lang="zh-CN" sz="2800" spc="-1" strike="noStrike">
                  <a:solidFill>
                    <a:srgbClr val="0000ff"/>
                  </a:solidFill>
                  <a:latin typeface="Times New Roman"/>
                  <a:ea typeface="迷你简胖头鱼"/>
                </a:rPr>
                <a:t>＝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迷你简胖头鱼"/>
                </a:rPr>
                <a:t>20÷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迷你简胖头鱼"/>
                </a:rPr>
                <a:t>                              </a:t>
              </a:r>
              <a:r>
                <a:rPr b="0" i="1" lang="en-US" sz="2800" spc="-1" strike="noStrike">
                  <a:solidFill>
                    <a:srgbClr val="0000ff"/>
                  </a:solidFill>
                  <a:latin typeface="Times New Roman"/>
                  <a:ea typeface="迷你简胖头鱼"/>
                </a:rPr>
                <a:t>x</a:t>
              </a:r>
              <a:r>
                <a:rPr b="0" lang="zh-CN" sz="2800" spc="-1" strike="noStrike">
                  <a:solidFill>
                    <a:srgbClr val="0000ff"/>
                  </a:solidFill>
                  <a:latin typeface="Times New Roman"/>
                  <a:ea typeface="迷你简胖头鱼"/>
                </a:rPr>
                <a:t>＝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迷你简胖头鱼"/>
                </a:rPr>
                <a:t>2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ff"/>
                  </a:solidFill>
                  <a:latin typeface="Times New Roman"/>
                  <a:ea typeface="迷你简胖头鱼"/>
                </a:rPr>
                <a:t>答：商店购进了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迷你简胖头鱼"/>
                </a:rPr>
                <a:t>25</a:t>
              </a:r>
              <a:r>
                <a:rPr b="0" lang="zh-CN" sz="2800" spc="-1" strike="noStrike">
                  <a:solidFill>
                    <a:srgbClr val="0000ff"/>
                  </a:solidFill>
                  <a:latin typeface="Times New Roman"/>
                  <a:ea typeface="迷你简胖头鱼"/>
                </a:rPr>
                <a:t>箱橘子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18" name="Object 6"/>
            <p:cNvGraphicFramePr/>
            <p:nvPr/>
          </p:nvGraphicFramePr>
          <p:xfrm>
            <a:off x="4455360" y="3480480"/>
            <a:ext cx="353880" cy="7286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19" name="Object 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455360" y="3480480"/>
                      <a:ext cx="353880" cy="728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0" name="Object 7"/>
            <p:cNvGraphicFramePr/>
            <p:nvPr/>
          </p:nvGraphicFramePr>
          <p:xfrm>
            <a:off x="5873040" y="4276080"/>
            <a:ext cx="353880" cy="7286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21" name="Object 7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873040" y="4276080"/>
                      <a:ext cx="353880" cy="728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2" name="Object 8"/>
            <p:cNvGraphicFramePr/>
            <p:nvPr/>
          </p:nvGraphicFramePr>
          <p:xfrm>
            <a:off x="4273200" y="3911760"/>
            <a:ext cx="353880" cy="7286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23" name="Object 8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273200" y="3911760"/>
                      <a:ext cx="353880" cy="728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矩形 3"/>
          <p:cNvSpPr/>
          <p:nvPr/>
        </p:nvSpPr>
        <p:spPr>
          <a:xfrm>
            <a:off x="836640" y="1049400"/>
            <a:ext cx="7226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）妙想和乐乐一共收集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128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枚邮票，妙想收集的邮票数是乐乐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倍。妙想、乐乐各收集了多少枚邮票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4"/>
          <p:cNvSpPr/>
          <p:nvPr/>
        </p:nvSpPr>
        <p:spPr>
          <a:xfrm>
            <a:off x="652320" y="2782800"/>
            <a:ext cx="8001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迷你简胖头鱼"/>
              </a:rPr>
              <a:t>解：设乐乐收集了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  <a:ea typeface="迷你简胖头鱼"/>
              </a:rPr>
              <a:t>x 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迷你简胖头鱼"/>
              </a:rPr>
              <a:t>枚邮票，妙想收集了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迷你简胖头鱼"/>
              </a:rPr>
              <a:t>3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  <a:ea typeface="迷你简胖头鱼"/>
              </a:rPr>
              <a:t>x 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迷你简胖头鱼"/>
              </a:rPr>
              <a:t>枚邮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迷你简胖头鱼"/>
              </a:rPr>
              <a:t>        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迷你简胖头鱼"/>
              </a:rPr>
              <a:t>乐乐收集的邮票＋妙想收集的邮票＝一共收集的邮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迷你简胖头鱼"/>
              </a:rPr>
              <a:t>              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  <a:ea typeface="迷你简胖头鱼"/>
              </a:rPr>
              <a:t>x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迷你简胖头鱼"/>
              </a:rPr>
              <a:t>＋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迷你简胖头鱼"/>
              </a:rPr>
              <a:t>3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  <a:ea typeface="迷你简胖头鱼"/>
              </a:rPr>
              <a:t>x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迷你简胖头鱼"/>
              </a:rPr>
              <a:t>＝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迷你简胖头鱼"/>
              </a:rPr>
              <a:t>1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迷你简胖头鱼"/>
              </a:rPr>
              <a:t>                   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迷你简胖头鱼"/>
              </a:rPr>
              <a:t>4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  <a:ea typeface="迷你简胖头鱼"/>
              </a:rPr>
              <a:t>x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迷你简胖头鱼"/>
              </a:rPr>
              <a:t>＝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迷你简胖头鱼"/>
              </a:rPr>
              <a:t>1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迷你简胖头鱼"/>
              </a:rPr>
              <a:t>                      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  <a:ea typeface="迷你简胖头鱼"/>
              </a:rPr>
              <a:t>x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迷你简胖头鱼"/>
              </a:rPr>
              <a:t>＝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迷你简胖头鱼"/>
              </a:rPr>
              <a:t>128÷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迷你简胖头鱼"/>
              </a:rPr>
              <a:t>                      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  <a:ea typeface="迷你简胖头鱼"/>
              </a:rPr>
              <a:t>x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迷你简胖头鱼"/>
              </a:rPr>
              <a:t>＝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迷你简胖头鱼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迷你简胖头鱼"/>
              </a:rPr>
              <a:t>         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迷你简胖头鱼"/>
              </a:rPr>
              <a:t>妙想：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迷你简胖头鱼"/>
              </a:rPr>
              <a:t>32×3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迷你简胖头鱼"/>
              </a:rPr>
              <a:t>＝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迷你简胖头鱼"/>
              </a:rPr>
              <a:t>96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迷你简胖头鱼"/>
              </a:rPr>
              <a:t>（枚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迷你简胖头鱼"/>
              </a:rPr>
              <a:t>答：乐乐收集了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迷你简胖头鱼"/>
              </a:rPr>
              <a:t>32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迷你简胖头鱼"/>
              </a:rPr>
              <a:t>枚邮票，妙想收集了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迷你简胖头鱼"/>
              </a:rPr>
              <a:t>96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迷你简胖头鱼"/>
              </a:rPr>
              <a:t>枚邮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矩形 1"/>
          <p:cNvSpPr/>
          <p:nvPr/>
        </p:nvSpPr>
        <p:spPr>
          <a:xfrm>
            <a:off x="635040" y="1030320"/>
            <a:ext cx="77058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）淘气家和奇思家相距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1240 m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。一天，两人约定在两家之间的路上会合。淘气每分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75 m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，奇思每分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80 m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。两人同时从家出发，多长时间后能相遇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2"/>
          <p:cNvSpPr/>
          <p:nvPr/>
        </p:nvSpPr>
        <p:spPr>
          <a:xfrm>
            <a:off x="579600" y="3141720"/>
            <a:ext cx="82515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迷你简胖头鱼"/>
              </a:rPr>
              <a:t>解：设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  <a:ea typeface="迷你简胖头鱼"/>
              </a:rPr>
              <a:t>x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迷你简胖头鱼"/>
              </a:rPr>
              <a:t>分钟后相遇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迷你简胖头鱼"/>
              </a:rPr>
              <a:t>淘气走的路程＋奇思走的路程＝淘气家和奇思家相距的距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迷你简胖头鱼"/>
              </a:rPr>
              <a:t>          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迷你简胖头鱼"/>
              </a:rPr>
              <a:t>75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  <a:ea typeface="迷你简胖头鱼"/>
              </a:rPr>
              <a:t>x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迷你简胖头鱼"/>
              </a:rPr>
              <a:t>＋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迷你简胖头鱼"/>
              </a:rPr>
              <a:t>80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  <a:ea typeface="迷你简胖头鱼"/>
              </a:rPr>
              <a:t>x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迷你简胖头鱼"/>
              </a:rPr>
              <a:t>＝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迷你简胖头鱼"/>
              </a:rPr>
              <a:t>12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迷你简胖头鱼"/>
              </a:rPr>
              <a:t>                  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迷你简胖头鱼"/>
              </a:rPr>
              <a:t>155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  <a:ea typeface="迷你简胖头鱼"/>
              </a:rPr>
              <a:t>x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迷你简胖头鱼"/>
              </a:rPr>
              <a:t>＝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迷你简胖头鱼"/>
              </a:rPr>
              <a:t>12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迷你简胖头鱼"/>
              </a:rPr>
              <a:t>                         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  <a:ea typeface="迷你简胖头鱼"/>
              </a:rPr>
              <a:t>x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迷你简胖头鱼"/>
              </a:rPr>
              <a:t>＝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迷你简胖头鱼"/>
              </a:rPr>
              <a:t>1240÷15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迷你简胖头鱼"/>
              </a:rPr>
              <a:t>                         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  <a:ea typeface="迷你简胖头鱼"/>
              </a:rPr>
              <a:t>x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迷你简胖头鱼"/>
              </a:rPr>
              <a:t>＝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迷你简胖头鱼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迷你简胖头鱼"/>
              </a:rPr>
              <a:t>          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迷你简胖头鱼"/>
              </a:rPr>
              <a:t>答：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迷你简胖头鱼"/>
              </a:rPr>
              <a:t>8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迷你简胖头鱼"/>
              </a:rPr>
              <a:t>分钟后相遇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4"/>
          <p:cNvSpPr/>
          <p:nvPr/>
        </p:nvSpPr>
        <p:spPr>
          <a:xfrm>
            <a:off x="993600" y="1069920"/>
            <a:ext cx="253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等式的性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324000" y="1995480"/>
            <a:ext cx="849600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4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在等式的两边同时加上（或减去）一个相同的数，结果仍是等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在等式的两边同时乘（或除以）一个相同的数（零除外），结果仍是等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图片 129030" descr="81"/>
          <p:cNvPicPr/>
          <p:nvPr/>
        </p:nvPicPr>
        <p:blipFill>
          <a:blip r:embed="rId1"/>
          <a:srcRect l="3489" t="0" r="13922" b="71130"/>
          <a:stretch/>
        </p:blipFill>
        <p:spPr>
          <a:xfrm>
            <a:off x="0" y="-27000"/>
            <a:ext cx="9144000" cy="4635360"/>
          </a:xfrm>
          <a:prstGeom prst="rect">
            <a:avLst/>
          </a:prstGeom>
          <a:ln w="0">
            <a:noFill/>
          </a:ln>
        </p:spPr>
      </p:pic>
      <p:sp>
        <p:nvSpPr>
          <p:cNvPr id="131" name="文本框 129031"/>
          <p:cNvSpPr/>
          <p:nvPr/>
        </p:nvSpPr>
        <p:spPr>
          <a:xfrm>
            <a:off x="3156840" y="2278080"/>
            <a:ext cx="107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x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－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文本框 129033"/>
          <p:cNvSpPr/>
          <p:nvPr/>
        </p:nvSpPr>
        <p:spPr>
          <a:xfrm>
            <a:off x="3397680" y="2708280"/>
            <a:ext cx="124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5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n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－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文本框 129034"/>
          <p:cNvSpPr/>
          <p:nvPr/>
        </p:nvSpPr>
        <p:spPr>
          <a:xfrm>
            <a:off x="1189080" y="3570120"/>
            <a:ext cx="90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2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a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+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文本框 129035"/>
          <p:cNvSpPr/>
          <p:nvPr/>
        </p:nvSpPr>
        <p:spPr>
          <a:xfrm>
            <a:off x="5107320" y="3990960"/>
            <a:ext cx="99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80%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8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9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0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0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AutoShape 31"/>
          <p:cNvSpPr/>
          <p:nvPr/>
        </p:nvSpPr>
        <p:spPr>
          <a:xfrm>
            <a:off x="63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33"/>
          <p:cNvSpPr/>
          <p:nvPr/>
        </p:nvSpPr>
        <p:spPr>
          <a:xfrm>
            <a:off x="190440" y="-1764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图片 128006" descr="81"/>
          <p:cNvPicPr/>
          <p:nvPr/>
        </p:nvPicPr>
        <p:blipFill>
          <a:blip r:embed="rId1"/>
          <a:srcRect l="3489" t="28874" r="15102" b="51822"/>
          <a:stretch/>
        </p:blipFill>
        <p:spPr>
          <a:xfrm>
            <a:off x="0" y="0"/>
            <a:ext cx="9144000" cy="3144960"/>
          </a:xfrm>
          <a:prstGeom prst="rect">
            <a:avLst/>
          </a:prstGeom>
          <a:ln w="0">
            <a:noFill/>
          </a:ln>
        </p:spPr>
      </p:pic>
      <p:sp>
        <p:nvSpPr>
          <p:cNvPr id="138" name="文本框 128007"/>
          <p:cNvSpPr/>
          <p:nvPr/>
        </p:nvSpPr>
        <p:spPr>
          <a:xfrm>
            <a:off x="3781440" y="2085840"/>
            <a:ext cx="198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2.5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（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a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+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b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文本框 128008"/>
          <p:cNvSpPr/>
          <p:nvPr/>
        </p:nvSpPr>
        <p:spPr>
          <a:xfrm>
            <a:off x="5648400" y="2157480"/>
            <a:ext cx="52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迷你简胖头鱼"/>
              </a:rPr>
              <a:t>或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文本框 128009"/>
          <p:cNvSpPr/>
          <p:nvPr/>
        </p:nvSpPr>
        <p:spPr>
          <a:xfrm>
            <a:off x="862920" y="3159000"/>
            <a:ext cx="255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2.5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（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a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+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b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）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文本框 128011"/>
          <p:cNvSpPr/>
          <p:nvPr/>
        </p:nvSpPr>
        <p:spPr>
          <a:xfrm>
            <a:off x="3204000" y="4030560"/>
            <a:ext cx="332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答：两地间的距离是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262.5km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文本框 128012"/>
          <p:cNvSpPr/>
          <p:nvPr/>
        </p:nvSpPr>
        <p:spPr>
          <a:xfrm>
            <a:off x="5981760" y="2073240"/>
            <a:ext cx="180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2.5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a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+ 2.5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文本框 128013"/>
          <p:cNvSpPr/>
          <p:nvPr/>
        </p:nvSpPr>
        <p:spPr>
          <a:xfrm>
            <a:off x="3265200" y="3230640"/>
            <a:ext cx="305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2.5×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45 + 60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）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文本框 128014"/>
          <p:cNvSpPr/>
          <p:nvPr/>
        </p:nvSpPr>
        <p:spPr>
          <a:xfrm>
            <a:off x="6234480" y="323064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262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0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0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0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图片 142342" descr="81"/>
          <p:cNvPicPr/>
          <p:nvPr/>
        </p:nvPicPr>
        <p:blipFill>
          <a:blip r:embed="rId1"/>
          <a:srcRect l="4664" t="47332" r="9281" b="40629"/>
          <a:stretch/>
        </p:blipFill>
        <p:spPr>
          <a:xfrm>
            <a:off x="0" y="1268280"/>
            <a:ext cx="9144000" cy="1855800"/>
          </a:xfrm>
          <a:prstGeom prst="rect">
            <a:avLst/>
          </a:prstGeom>
          <a:ln w="0">
            <a:noFill/>
          </a:ln>
        </p:spPr>
      </p:pic>
      <p:sp>
        <p:nvSpPr>
          <p:cNvPr id="146" name="直接连接符 142343"/>
          <p:cNvSpPr/>
          <p:nvPr/>
        </p:nvSpPr>
        <p:spPr>
          <a:xfrm>
            <a:off x="973080" y="2276640"/>
            <a:ext cx="1366920" cy="0"/>
          </a:xfrm>
          <a:prstGeom prst="line">
            <a:avLst/>
          </a:prstGeom>
          <a:ln w="38160">
            <a:solidFill>
              <a:srgbClr val="ff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直接连接符 142344"/>
          <p:cNvSpPr/>
          <p:nvPr/>
        </p:nvSpPr>
        <p:spPr>
          <a:xfrm>
            <a:off x="1633680" y="1646280"/>
            <a:ext cx="0" cy="1295280"/>
          </a:xfrm>
          <a:prstGeom prst="line">
            <a:avLst/>
          </a:prstGeom>
          <a:ln w="38160">
            <a:solidFill>
              <a:srgbClr val="ff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文本框 142345"/>
          <p:cNvSpPr/>
          <p:nvPr/>
        </p:nvSpPr>
        <p:spPr>
          <a:xfrm>
            <a:off x="1067040" y="2692440"/>
            <a:ext cx="33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文本框 142347"/>
          <p:cNvSpPr/>
          <p:nvPr/>
        </p:nvSpPr>
        <p:spPr>
          <a:xfrm>
            <a:off x="1811520" y="2712960"/>
            <a:ext cx="33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文本框 142348"/>
          <p:cNvSpPr/>
          <p:nvPr/>
        </p:nvSpPr>
        <p:spPr>
          <a:xfrm>
            <a:off x="2265480" y="2184480"/>
            <a:ext cx="33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文本框 142349"/>
          <p:cNvSpPr/>
          <p:nvPr/>
        </p:nvSpPr>
        <p:spPr>
          <a:xfrm>
            <a:off x="2283120" y="1577880"/>
            <a:ext cx="33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文本框 142350"/>
          <p:cNvSpPr/>
          <p:nvPr/>
        </p:nvSpPr>
        <p:spPr>
          <a:xfrm>
            <a:off x="1837080" y="1146240"/>
            <a:ext cx="33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文本框 142351"/>
          <p:cNvSpPr/>
          <p:nvPr/>
        </p:nvSpPr>
        <p:spPr>
          <a:xfrm>
            <a:off x="1143360" y="1146240"/>
            <a:ext cx="33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文本框 142352"/>
          <p:cNvSpPr/>
          <p:nvPr/>
        </p:nvSpPr>
        <p:spPr>
          <a:xfrm>
            <a:off x="676440" y="1557360"/>
            <a:ext cx="33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文本框 142353"/>
          <p:cNvSpPr/>
          <p:nvPr/>
        </p:nvSpPr>
        <p:spPr>
          <a:xfrm>
            <a:off x="663840" y="2209680"/>
            <a:ext cx="33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文本框 142355"/>
          <p:cNvSpPr/>
          <p:nvPr/>
        </p:nvSpPr>
        <p:spPr>
          <a:xfrm>
            <a:off x="3511080" y="2997360"/>
            <a:ext cx="1370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C=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8</a:t>
            </a:r>
            <a:r>
              <a:rPr b="1" i="1" lang="en-US" sz="44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142356"/>
          <p:cNvSpPr/>
          <p:nvPr/>
        </p:nvSpPr>
        <p:spPr>
          <a:xfrm>
            <a:off x="1646280" y="2265480"/>
            <a:ext cx="647640" cy="647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142357"/>
          <p:cNvSpPr/>
          <p:nvPr/>
        </p:nvSpPr>
        <p:spPr>
          <a:xfrm>
            <a:off x="1646280" y="1630440"/>
            <a:ext cx="647640" cy="647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142358"/>
          <p:cNvSpPr/>
          <p:nvPr/>
        </p:nvSpPr>
        <p:spPr>
          <a:xfrm>
            <a:off x="985680" y="1638360"/>
            <a:ext cx="648000" cy="647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142359"/>
          <p:cNvSpPr/>
          <p:nvPr/>
        </p:nvSpPr>
        <p:spPr>
          <a:xfrm>
            <a:off x="992160" y="2265480"/>
            <a:ext cx="647640" cy="647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文本框 142360"/>
          <p:cNvSpPr/>
          <p:nvPr/>
        </p:nvSpPr>
        <p:spPr>
          <a:xfrm>
            <a:off x="6041160" y="2997360"/>
            <a:ext cx="147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S=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4</a:t>
            </a:r>
            <a:r>
              <a:rPr b="1" i="1" lang="en-US" sz="44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r</a:t>
            </a:r>
            <a:r>
              <a:rPr b="1" lang="en-US" sz="4400" spc="-1" strike="noStrike" baseline="30000">
                <a:solidFill>
                  <a:srgbClr val="ff0000"/>
                </a:solidFill>
                <a:latin typeface="Times New Roman"/>
                <a:ea typeface="迷你简胖头鱼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文本框 142361"/>
          <p:cNvSpPr/>
          <p:nvPr/>
        </p:nvSpPr>
        <p:spPr>
          <a:xfrm>
            <a:off x="1209960" y="396864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文本框 142362"/>
          <p:cNvSpPr/>
          <p:nvPr/>
        </p:nvSpPr>
        <p:spPr>
          <a:xfrm>
            <a:off x="1813680" y="3962520"/>
            <a:ext cx="143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C=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4</a:t>
            </a:r>
            <a:r>
              <a:rPr b="1" i="1" lang="en-US" sz="44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文本框 142363"/>
          <p:cNvSpPr/>
          <p:nvPr/>
        </p:nvSpPr>
        <p:spPr>
          <a:xfrm>
            <a:off x="3585240" y="3962520"/>
            <a:ext cx="127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4×2</a:t>
            </a:r>
            <a:r>
              <a:rPr b="1" i="1" lang="en-US" sz="44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文本框 142364"/>
          <p:cNvSpPr/>
          <p:nvPr/>
        </p:nvSpPr>
        <p:spPr>
          <a:xfrm>
            <a:off x="5322240" y="3962520"/>
            <a:ext cx="678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8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文本框 142365"/>
          <p:cNvSpPr/>
          <p:nvPr/>
        </p:nvSpPr>
        <p:spPr>
          <a:xfrm>
            <a:off x="1845720" y="4724280"/>
            <a:ext cx="125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S=a</a:t>
            </a:r>
            <a:r>
              <a:rPr b="1" lang="en-US" sz="4400" spc="-1" strike="noStrike" baseline="30000">
                <a:solidFill>
                  <a:srgbClr val="ff0000"/>
                </a:solidFill>
                <a:latin typeface="Times New Roman"/>
                <a:ea typeface="迷你简胖头鱼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文本框 142366"/>
          <p:cNvSpPr/>
          <p:nvPr/>
        </p:nvSpPr>
        <p:spPr>
          <a:xfrm>
            <a:off x="3113280" y="3962520"/>
            <a:ext cx="499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文本框 142367"/>
          <p:cNvSpPr/>
          <p:nvPr/>
        </p:nvSpPr>
        <p:spPr>
          <a:xfrm>
            <a:off x="4845240" y="3962520"/>
            <a:ext cx="499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文本框 142368"/>
          <p:cNvSpPr/>
          <p:nvPr/>
        </p:nvSpPr>
        <p:spPr>
          <a:xfrm>
            <a:off x="3113280" y="4726080"/>
            <a:ext cx="499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文本框 142369"/>
          <p:cNvSpPr/>
          <p:nvPr/>
        </p:nvSpPr>
        <p:spPr>
          <a:xfrm>
            <a:off x="3585960" y="4675320"/>
            <a:ext cx="944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×</a:t>
            </a:r>
            <a:r>
              <a:rPr b="1" i="1" lang="en-US" sz="44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文本框 142370"/>
          <p:cNvSpPr/>
          <p:nvPr/>
        </p:nvSpPr>
        <p:spPr>
          <a:xfrm>
            <a:off x="4478400" y="4749840"/>
            <a:ext cx="499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文本框 142371"/>
          <p:cNvSpPr/>
          <p:nvPr/>
        </p:nvSpPr>
        <p:spPr>
          <a:xfrm>
            <a:off x="5024880" y="4724280"/>
            <a:ext cx="149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2</a:t>
            </a:r>
            <a:r>
              <a:rPr b="1" i="1" lang="en-US" sz="44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r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×2</a:t>
            </a:r>
            <a:r>
              <a:rPr b="1" i="1" lang="en-US" sz="44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文本框 142372"/>
          <p:cNvSpPr/>
          <p:nvPr/>
        </p:nvSpPr>
        <p:spPr>
          <a:xfrm>
            <a:off x="6526440" y="4749840"/>
            <a:ext cx="499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文本框 142373"/>
          <p:cNvSpPr/>
          <p:nvPr/>
        </p:nvSpPr>
        <p:spPr>
          <a:xfrm>
            <a:off x="6885360" y="4716360"/>
            <a:ext cx="84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4</a:t>
            </a:r>
            <a:r>
              <a:rPr b="1" i="1" lang="en-US" sz="44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r</a:t>
            </a:r>
            <a:r>
              <a:rPr b="1" lang="en-US" sz="4400" spc="-1" strike="noStrike" baseline="30000">
                <a:solidFill>
                  <a:srgbClr val="ff0000"/>
                </a:solidFill>
                <a:latin typeface="Times New Roman"/>
                <a:ea typeface="迷你简胖头鱼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2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7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1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1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1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5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1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6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1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6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1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6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9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0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0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4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9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4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2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图片 141318" descr="81"/>
          <p:cNvPicPr/>
          <p:nvPr/>
        </p:nvPicPr>
        <p:blipFill>
          <a:blip r:embed="rId1"/>
          <a:srcRect l="4664" t="58541" r="10438" b="16602"/>
          <a:stretch/>
        </p:blipFill>
        <p:spPr>
          <a:xfrm>
            <a:off x="0" y="7920"/>
            <a:ext cx="9144000" cy="3882960"/>
          </a:xfrm>
          <a:prstGeom prst="rect">
            <a:avLst/>
          </a:prstGeom>
          <a:ln w="0">
            <a:noFill/>
          </a:ln>
        </p:spPr>
      </p:pic>
      <p:sp>
        <p:nvSpPr>
          <p:cNvPr id="176" name="文本框 141319"/>
          <p:cNvSpPr/>
          <p:nvPr/>
        </p:nvSpPr>
        <p:spPr>
          <a:xfrm>
            <a:off x="6382080" y="9302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文本框 141320"/>
          <p:cNvSpPr/>
          <p:nvPr/>
        </p:nvSpPr>
        <p:spPr>
          <a:xfrm>
            <a:off x="6382080" y="14508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文本框 141321"/>
          <p:cNvSpPr/>
          <p:nvPr/>
        </p:nvSpPr>
        <p:spPr>
          <a:xfrm>
            <a:off x="6309000" y="194328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文本框 141322"/>
          <p:cNvSpPr/>
          <p:nvPr/>
        </p:nvSpPr>
        <p:spPr>
          <a:xfrm>
            <a:off x="6868080" y="930240"/>
            <a:ext cx="157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=1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＋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3×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文本框 141323"/>
          <p:cNvSpPr/>
          <p:nvPr/>
        </p:nvSpPr>
        <p:spPr>
          <a:xfrm>
            <a:off x="6880680" y="1476360"/>
            <a:ext cx="157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=1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＋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3×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文本框 141324"/>
          <p:cNvSpPr/>
          <p:nvPr/>
        </p:nvSpPr>
        <p:spPr>
          <a:xfrm>
            <a:off x="6893640" y="1933560"/>
            <a:ext cx="157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=1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＋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3×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文本框 141326"/>
          <p:cNvSpPr/>
          <p:nvPr/>
        </p:nvSpPr>
        <p:spPr>
          <a:xfrm>
            <a:off x="1617480" y="231444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组合 141364"/>
          <p:cNvGrpSpPr/>
          <p:nvPr/>
        </p:nvGrpSpPr>
        <p:grpSpPr>
          <a:xfrm>
            <a:off x="4241880" y="1074600"/>
            <a:ext cx="361440" cy="365040"/>
            <a:chOff x="4241880" y="1074600"/>
            <a:chExt cx="361440" cy="365040"/>
          </a:xfrm>
        </p:grpSpPr>
        <p:sp>
          <p:nvSpPr>
            <p:cNvPr id="184" name="直接连接符 141334"/>
            <p:cNvSpPr/>
            <p:nvPr/>
          </p:nvSpPr>
          <p:spPr>
            <a:xfrm>
              <a:off x="4257720" y="1074600"/>
              <a:ext cx="0" cy="31752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" name="组合 141337"/>
            <p:cNvGrpSpPr/>
            <p:nvPr/>
          </p:nvGrpSpPr>
          <p:grpSpPr>
            <a:xfrm>
              <a:off x="4241880" y="1087560"/>
              <a:ext cx="361440" cy="352080"/>
              <a:chOff x="4241880" y="1087560"/>
              <a:chExt cx="361440" cy="352080"/>
            </a:xfrm>
          </p:grpSpPr>
          <p:sp>
            <p:nvSpPr>
              <p:cNvPr id="186" name="直接连接符 141338"/>
              <p:cNvSpPr/>
              <p:nvPr/>
            </p:nvSpPr>
            <p:spPr>
              <a:xfrm>
                <a:off x="4241880" y="1087560"/>
                <a:ext cx="361440" cy="0"/>
              </a:xfrm>
              <a:prstGeom prst="line">
                <a:avLst/>
              </a:prstGeom>
              <a:ln w="50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直接连接符 141339"/>
              <p:cNvSpPr/>
              <p:nvPr/>
            </p:nvSpPr>
            <p:spPr>
              <a:xfrm>
                <a:off x="4603320" y="1087560"/>
                <a:ext cx="0" cy="352080"/>
              </a:xfrm>
              <a:prstGeom prst="line">
                <a:avLst/>
              </a:prstGeom>
              <a:ln w="50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直接连接符 141340"/>
              <p:cNvSpPr/>
              <p:nvPr/>
            </p:nvSpPr>
            <p:spPr>
              <a:xfrm flipH="1">
                <a:off x="4241880" y="1439640"/>
                <a:ext cx="361440" cy="0"/>
              </a:xfrm>
              <a:prstGeom prst="line">
                <a:avLst/>
              </a:prstGeom>
              <a:ln w="50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组合 141365"/>
          <p:cNvGrpSpPr/>
          <p:nvPr/>
        </p:nvGrpSpPr>
        <p:grpSpPr>
          <a:xfrm>
            <a:off x="4241880" y="1568520"/>
            <a:ext cx="723600" cy="352080"/>
            <a:chOff x="4241880" y="1568520"/>
            <a:chExt cx="723600" cy="352080"/>
          </a:xfrm>
        </p:grpSpPr>
        <p:sp>
          <p:nvSpPr>
            <p:cNvPr id="190" name="直接连接符 141335"/>
            <p:cNvSpPr/>
            <p:nvPr/>
          </p:nvSpPr>
          <p:spPr>
            <a:xfrm>
              <a:off x="4257720" y="1581120"/>
              <a:ext cx="0" cy="31896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1" name="组合 141341"/>
            <p:cNvGrpSpPr/>
            <p:nvPr/>
          </p:nvGrpSpPr>
          <p:grpSpPr>
            <a:xfrm>
              <a:off x="4241880" y="1568520"/>
              <a:ext cx="361440" cy="352080"/>
              <a:chOff x="4241880" y="1568520"/>
              <a:chExt cx="361440" cy="352080"/>
            </a:xfrm>
          </p:grpSpPr>
          <p:sp>
            <p:nvSpPr>
              <p:cNvPr id="192" name="直接连接符 141342"/>
              <p:cNvSpPr/>
              <p:nvPr/>
            </p:nvSpPr>
            <p:spPr>
              <a:xfrm>
                <a:off x="4241880" y="1568520"/>
                <a:ext cx="361440" cy="0"/>
              </a:xfrm>
              <a:prstGeom prst="line">
                <a:avLst/>
              </a:prstGeom>
              <a:ln w="50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直接连接符 141343"/>
              <p:cNvSpPr/>
              <p:nvPr/>
            </p:nvSpPr>
            <p:spPr>
              <a:xfrm>
                <a:off x="4603320" y="1568520"/>
                <a:ext cx="0" cy="352080"/>
              </a:xfrm>
              <a:prstGeom prst="line">
                <a:avLst/>
              </a:prstGeom>
              <a:ln w="50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直接连接符 141344"/>
              <p:cNvSpPr/>
              <p:nvPr/>
            </p:nvSpPr>
            <p:spPr>
              <a:xfrm flipH="1">
                <a:off x="4241880" y="1920600"/>
                <a:ext cx="361440" cy="0"/>
              </a:xfrm>
              <a:prstGeom prst="line">
                <a:avLst/>
              </a:prstGeom>
              <a:ln w="50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5" name="组合 141349"/>
            <p:cNvGrpSpPr/>
            <p:nvPr/>
          </p:nvGrpSpPr>
          <p:grpSpPr>
            <a:xfrm>
              <a:off x="4603320" y="1568520"/>
              <a:ext cx="362160" cy="352080"/>
              <a:chOff x="4603320" y="1568520"/>
              <a:chExt cx="362160" cy="352080"/>
            </a:xfrm>
          </p:grpSpPr>
          <p:sp>
            <p:nvSpPr>
              <p:cNvPr id="196" name="直接连接符 141350"/>
              <p:cNvSpPr/>
              <p:nvPr/>
            </p:nvSpPr>
            <p:spPr>
              <a:xfrm>
                <a:off x="4603680" y="1568520"/>
                <a:ext cx="361800" cy="0"/>
              </a:xfrm>
              <a:prstGeom prst="line">
                <a:avLst/>
              </a:prstGeom>
              <a:ln w="507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直接连接符 141351"/>
              <p:cNvSpPr/>
              <p:nvPr/>
            </p:nvSpPr>
            <p:spPr>
              <a:xfrm>
                <a:off x="4965480" y="1568520"/>
                <a:ext cx="0" cy="352080"/>
              </a:xfrm>
              <a:prstGeom prst="line">
                <a:avLst/>
              </a:prstGeom>
              <a:ln w="507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直接连接符 141352"/>
              <p:cNvSpPr/>
              <p:nvPr/>
            </p:nvSpPr>
            <p:spPr>
              <a:xfrm flipH="1">
                <a:off x="4603320" y="1920600"/>
                <a:ext cx="361800" cy="0"/>
              </a:xfrm>
              <a:prstGeom prst="line">
                <a:avLst/>
              </a:prstGeom>
              <a:ln w="507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9" name="组合 141366"/>
          <p:cNvGrpSpPr/>
          <p:nvPr/>
        </p:nvGrpSpPr>
        <p:grpSpPr>
          <a:xfrm>
            <a:off x="4241880" y="2031840"/>
            <a:ext cx="1058400" cy="365040"/>
            <a:chOff x="4241880" y="2031840"/>
            <a:chExt cx="1058400" cy="365040"/>
          </a:xfrm>
        </p:grpSpPr>
        <p:sp>
          <p:nvSpPr>
            <p:cNvPr id="200" name="直接连接符 141336"/>
            <p:cNvSpPr/>
            <p:nvPr/>
          </p:nvSpPr>
          <p:spPr>
            <a:xfrm>
              <a:off x="4257720" y="2044800"/>
              <a:ext cx="0" cy="31752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1" name="组合 141345"/>
            <p:cNvGrpSpPr/>
            <p:nvPr/>
          </p:nvGrpSpPr>
          <p:grpSpPr>
            <a:xfrm>
              <a:off x="4241880" y="2031840"/>
              <a:ext cx="361440" cy="352080"/>
              <a:chOff x="4241880" y="2031840"/>
              <a:chExt cx="361440" cy="352080"/>
            </a:xfrm>
          </p:grpSpPr>
          <p:sp>
            <p:nvSpPr>
              <p:cNvPr id="202" name="直接连接符 141346"/>
              <p:cNvSpPr/>
              <p:nvPr/>
            </p:nvSpPr>
            <p:spPr>
              <a:xfrm>
                <a:off x="4241880" y="2031840"/>
                <a:ext cx="361440" cy="0"/>
              </a:xfrm>
              <a:prstGeom prst="line">
                <a:avLst/>
              </a:prstGeom>
              <a:ln w="50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直接连接符 141347"/>
              <p:cNvSpPr/>
              <p:nvPr/>
            </p:nvSpPr>
            <p:spPr>
              <a:xfrm>
                <a:off x="4603320" y="2031840"/>
                <a:ext cx="0" cy="352080"/>
              </a:xfrm>
              <a:prstGeom prst="line">
                <a:avLst/>
              </a:prstGeom>
              <a:ln w="50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直接连接符 141348"/>
              <p:cNvSpPr/>
              <p:nvPr/>
            </p:nvSpPr>
            <p:spPr>
              <a:xfrm flipH="1">
                <a:off x="4241880" y="2383920"/>
                <a:ext cx="361440" cy="0"/>
              </a:xfrm>
              <a:prstGeom prst="line">
                <a:avLst/>
              </a:prstGeom>
              <a:ln w="507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5" name="组合 141353"/>
            <p:cNvGrpSpPr/>
            <p:nvPr/>
          </p:nvGrpSpPr>
          <p:grpSpPr>
            <a:xfrm>
              <a:off x="4603320" y="2044800"/>
              <a:ext cx="362160" cy="352080"/>
              <a:chOff x="4603320" y="2044800"/>
              <a:chExt cx="362160" cy="352080"/>
            </a:xfrm>
          </p:grpSpPr>
          <p:sp>
            <p:nvSpPr>
              <p:cNvPr id="206" name="直接连接符 141354"/>
              <p:cNvSpPr/>
              <p:nvPr/>
            </p:nvSpPr>
            <p:spPr>
              <a:xfrm>
                <a:off x="4603680" y="2044800"/>
                <a:ext cx="361800" cy="0"/>
              </a:xfrm>
              <a:prstGeom prst="line">
                <a:avLst/>
              </a:prstGeom>
              <a:ln w="507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直接连接符 141355"/>
              <p:cNvSpPr/>
              <p:nvPr/>
            </p:nvSpPr>
            <p:spPr>
              <a:xfrm>
                <a:off x="4965480" y="2044800"/>
                <a:ext cx="0" cy="352080"/>
              </a:xfrm>
              <a:prstGeom prst="line">
                <a:avLst/>
              </a:prstGeom>
              <a:ln w="507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直接连接符 141356"/>
              <p:cNvSpPr/>
              <p:nvPr/>
            </p:nvSpPr>
            <p:spPr>
              <a:xfrm flipH="1">
                <a:off x="4603320" y="2396880"/>
                <a:ext cx="361800" cy="0"/>
              </a:xfrm>
              <a:prstGeom prst="line">
                <a:avLst/>
              </a:prstGeom>
              <a:ln w="507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9" name="组合 141357"/>
            <p:cNvGrpSpPr/>
            <p:nvPr/>
          </p:nvGrpSpPr>
          <p:grpSpPr>
            <a:xfrm>
              <a:off x="4938840" y="2044800"/>
              <a:ext cx="361440" cy="352080"/>
              <a:chOff x="4938840" y="2044800"/>
              <a:chExt cx="361440" cy="352080"/>
            </a:xfrm>
          </p:grpSpPr>
          <p:sp>
            <p:nvSpPr>
              <p:cNvPr id="210" name="直接连接符 141358"/>
              <p:cNvSpPr/>
              <p:nvPr/>
            </p:nvSpPr>
            <p:spPr>
              <a:xfrm>
                <a:off x="4938840" y="2044800"/>
                <a:ext cx="36144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直接连接符 141359"/>
              <p:cNvSpPr/>
              <p:nvPr/>
            </p:nvSpPr>
            <p:spPr>
              <a:xfrm>
                <a:off x="5300280" y="2044800"/>
                <a:ext cx="0" cy="35208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直接连接符 141360"/>
              <p:cNvSpPr/>
              <p:nvPr/>
            </p:nvSpPr>
            <p:spPr>
              <a:xfrm flipH="1">
                <a:off x="4938840" y="2396880"/>
                <a:ext cx="36144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3" name="文本框 141361"/>
          <p:cNvSpPr/>
          <p:nvPr/>
        </p:nvSpPr>
        <p:spPr>
          <a:xfrm>
            <a:off x="556920" y="3746520"/>
            <a:ext cx="1916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迷你简胖头鱼"/>
              </a:rPr>
              <a:t>(1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迷你简胖头鱼"/>
              </a:rPr>
              <a:t>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迷你简胖头鱼"/>
              </a:rPr>
              <a:t>1+3</a:t>
            </a:r>
            <a:r>
              <a:rPr b="1" i="1" lang="en-US" sz="44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文本框 141362"/>
          <p:cNvSpPr/>
          <p:nvPr/>
        </p:nvSpPr>
        <p:spPr>
          <a:xfrm>
            <a:off x="667080" y="4395960"/>
            <a:ext cx="5070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迷你简胖头鱼"/>
              </a:rPr>
              <a:t>(2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迷你简胖头鱼"/>
              </a:rPr>
              <a:t>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迷你简胖头鱼"/>
              </a:rPr>
              <a:t>1+3</a:t>
            </a:r>
            <a:r>
              <a:rPr b="1" i="1" lang="en-US" sz="44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n=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迷你简胖头鱼"/>
              </a:rPr>
              <a:t>1+3×100=3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文本框 141363"/>
          <p:cNvSpPr/>
          <p:nvPr/>
        </p:nvSpPr>
        <p:spPr>
          <a:xfrm>
            <a:off x="3409920" y="5235480"/>
            <a:ext cx="204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答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: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需要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301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根小棒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5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5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5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nodeType="clickEffect" fill="hold">
                      <p:stCondLst>
                        <p:cond delay="indefinite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3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8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3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文本框 140294"/>
          <p:cNvSpPr/>
          <p:nvPr/>
        </p:nvSpPr>
        <p:spPr>
          <a:xfrm>
            <a:off x="1845000" y="620640"/>
            <a:ext cx="73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迷你简胖头鱼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迷你简胖头鱼"/>
              </a:rPr>
              <a:t>解方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文本框 140295"/>
          <p:cNvSpPr/>
          <p:nvPr/>
        </p:nvSpPr>
        <p:spPr>
          <a:xfrm>
            <a:off x="469440" y="1320840"/>
            <a:ext cx="152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迷你简胖头鱼"/>
              </a:rPr>
              <a:t>15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迷你简胖头鱼"/>
              </a:rPr>
              <a:t>=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文本框 140296"/>
          <p:cNvSpPr/>
          <p:nvPr/>
        </p:nvSpPr>
        <p:spPr>
          <a:xfrm>
            <a:off x="3239280" y="1320840"/>
            <a:ext cx="207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迷你简胖头鱼"/>
              </a:rPr>
              <a:t>+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迷你简胖头鱼"/>
              </a:rPr>
              <a:t>=12.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文本框 140297"/>
          <p:cNvSpPr/>
          <p:nvPr/>
        </p:nvSpPr>
        <p:spPr>
          <a:xfrm>
            <a:off x="5822640" y="1320840"/>
            <a:ext cx="199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迷你简胖头鱼"/>
              </a:rPr>
              <a:t>40%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迷你简胖头鱼"/>
              </a:rPr>
              <a:t>=4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文本框 140298"/>
          <p:cNvSpPr/>
          <p:nvPr/>
        </p:nvSpPr>
        <p:spPr>
          <a:xfrm>
            <a:off x="475200" y="3641760"/>
            <a:ext cx="17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1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迷你简胖头鱼"/>
              </a:rPr>
              <a:t>+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迷你简胖头鱼"/>
              </a:rPr>
              <a:t>=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文本框 140299"/>
          <p:cNvSpPr/>
          <p:nvPr/>
        </p:nvSpPr>
        <p:spPr>
          <a:xfrm>
            <a:off x="3346920" y="3641760"/>
            <a:ext cx="172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迷你简胖头鱼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÷5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迷你简胖头鱼"/>
              </a:rPr>
              <a:t>=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文本框 140300"/>
          <p:cNvSpPr/>
          <p:nvPr/>
        </p:nvSpPr>
        <p:spPr>
          <a:xfrm>
            <a:off x="6213240" y="3641760"/>
            <a:ext cx="248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4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迷你简胖头鱼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迷你简胖头鱼"/>
              </a:rPr>
              <a:t>1.6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迷你简胖头鱼"/>
              </a:rPr>
              <a:t>=3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文本框 140301"/>
          <p:cNvSpPr/>
          <p:nvPr/>
        </p:nvSpPr>
        <p:spPr>
          <a:xfrm>
            <a:off x="316440" y="1989000"/>
            <a:ext cx="233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迷你简胖头鱼"/>
              </a:rPr>
              <a:t>解：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x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迷你简胖头鱼"/>
              </a:rPr>
              <a:t>=60÷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文本框 140302"/>
          <p:cNvSpPr/>
          <p:nvPr/>
        </p:nvSpPr>
        <p:spPr>
          <a:xfrm>
            <a:off x="939600" y="2633760"/>
            <a:ext cx="84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x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迷你简胖头鱼"/>
              </a:rPr>
              <a:t>=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文本框 140303"/>
          <p:cNvSpPr/>
          <p:nvPr/>
        </p:nvSpPr>
        <p:spPr>
          <a:xfrm>
            <a:off x="2972520" y="1844640"/>
            <a:ext cx="222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迷你简胖头鱼"/>
              </a:rPr>
              <a:t>解：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迷你简胖头鱼"/>
              </a:rPr>
              <a:t>3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x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迷你简胖头鱼"/>
              </a:rPr>
              <a:t>=12.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文本框 140304"/>
          <p:cNvSpPr/>
          <p:nvPr/>
        </p:nvSpPr>
        <p:spPr>
          <a:xfrm>
            <a:off x="4004640" y="2344680"/>
            <a:ext cx="186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x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迷你简胖头鱼"/>
              </a:rPr>
              <a:t>=12.6÷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文本框 140305"/>
          <p:cNvSpPr/>
          <p:nvPr/>
        </p:nvSpPr>
        <p:spPr>
          <a:xfrm>
            <a:off x="3912840" y="2921040"/>
            <a:ext cx="118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x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迷你简胖头鱼"/>
              </a:rPr>
              <a:t>=4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文本框 140306"/>
          <p:cNvSpPr/>
          <p:nvPr/>
        </p:nvSpPr>
        <p:spPr>
          <a:xfrm>
            <a:off x="6004800" y="1890720"/>
            <a:ext cx="280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迷你简胖头鱼"/>
              </a:rPr>
              <a:t>解：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x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迷你简胖头鱼"/>
              </a:rPr>
              <a:t>=4.2÷4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文本框 140307"/>
          <p:cNvSpPr/>
          <p:nvPr/>
        </p:nvSpPr>
        <p:spPr>
          <a:xfrm>
            <a:off x="6622560" y="2560680"/>
            <a:ext cx="141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x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迷你简胖头鱼"/>
              </a:rPr>
              <a:t>=10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文本框 140308"/>
          <p:cNvSpPr/>
          <p:nvPr/>
        </p:nvSpPr>
        <p:spPr>
          <a:xfrm>
            <a:off x="169560" y="4218120"/>
            <a:ext cx="275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迷你简胖头鱼"/>
              </a:rPr>
              <a:t>解： 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x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迷你简胖头鱼"/>
              </a:rPr>
              <a:t>=25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迷你简胖头鱼"/>
              </a:rPr>
              <a:t>－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迷你简胖头鱼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文本框 140309"/>
          <p:cNvSpPr/>
          <p:nvPr/>
        </p:nvSpPr>
        <p:spPr>
          <a:xfrm>
            <a:off x="1117440" y="4794120"/>
            <a:ext cx="107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x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迷你简胖头鱼"/>
              </a:rPr>
              <a:t>=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文本框 140310"/>
          <p:cNvSpPr/>
          <p:nvPr/>
        </p:nvSpPr>
        <p:spPr>
          <a:xfrm>
            <a:off x="3246480" y="4214880"/>
            <a:ext cx="23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迷你简胖头鱼"/>
              </a:rPr>
              <a:t>解：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迷你简胖头鱼"/>
              </a:rPr>
              <a:t>2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x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迷你简胖头鱼"/>
              </a:rPr>
              <a:t>=15×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文本框 140311"/>
          <p:cNvSpPr/>
          <p:nvPr/>
        </p:nvSpPr>
        <p:spPr>
          <a:xfrm>
            <a:off x="3880800" y="4721400"/>
            <a:ext cx="129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迷你简胖头鱼"/>
              </a:rPr>
              <a:t>2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x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迷你简胖头鱼"/>
              </a:rPr>
              <a:t>=7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文本框 140312"/>
          <p:cNvSpPr/>
          <p:nvPr/>
        </p:nvSpPr>
        <p:spPr>
          <a:xfrm>
            <a:off x="4120560" y="5264280"/>
            <a:ext cx="141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x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迷你简胖头鱼"/>
              </a:rPr>
              <a:t>=37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文本框 140313"/>
          <p:cNvSpPr/>
          <p:nvPr/>
        </p:nvSpPr>
        <p:spPr>
          <a:xfrm>
            <a:off x="6136200" y="4141800"/>
            <a:ext cx="243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迷你简胖头鱼"/>
              </a:rPr>
              <a:t>解：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迷你简胖头鱼"/>
              </a:rPr>
              <a:t>2.4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x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迷你简胖头鱼"/>
              </a:rPr>
              <a:t>=3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文本框 140316"/>
          <p:cNvSpPr/>
          <p:nvPr/>
        </p:nvSpPr>
        <p:spPr>
          <a:xfrm>
            <a:off x="7635600" y="4721400"/>
            <a:ext cx="107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x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迷你简胖头鱼"/>
              </a:rPr>
              <a:t>=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4" dur="indefinite" restart="never" nodeType="tmRoot">
          <p:childTnLst>
            <p:seq>
              <p:cTn id="715" dur="indefinite" nodeType="mainSeq">
                <p:childTnLst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nodeType="clickEffect" fill="hold">
                      <p:stCondLst>
                        <p:cond delay="indefinite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0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5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0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5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nodeType="clickEffect" fill="hold">
                      <p:stCondLst>
                        <p:cond delay="indefinite"/>
                      </p:stCondLst>
                      <p:childTnLst>
                        <p:par>
                          <p:cTn id="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0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5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nodeType="clickEffect" fill="hold">
                      <p:stCondLst>
                        <p:cond delay="indefinite"/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0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5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nodeType="clickEffect" fill="hold">
                      <p:stCondLst>
                        <p:cond delay="indefinite"/>
                      </p:stCondLst>
                      <p:childTnLst>
                        <p:par>
                          <p:cTn id="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0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5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nodeType="clickEffect" fill="hold">
                      <p:stCondLst>
                        <p:cond delay="indefinite"/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0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nodeType="clickEffect" fill="hold">
                      <p:stCondLst>
                        <p:cond delay="indefinite"/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5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AutoShape 31"/>
          <p:cNvSpPr/>
          <p:nvPr/>
        </p:nvSpPr>
        <p:spPr>
          <a:xfrm>
            <a:off x="63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33"/>
          <p:cNvSpPr/>
          <p:nvPr/>
        </p:nvSpPr>
        <p:spPr>
          <a:xfrm>
            <a:off x="190440" y="-1764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图片 139270" descr="82"/>
          <p:cNvPicPr/>
          <p:nvPr/>
        </p:nvPicPr>
        <p:blipFill>
          <a:blip r:embed="rId1"/>
          <a:srcRect l="6807" t="5661" r="5803" b="79810"/>
          <a:stretch/>
        </p:blipFill>
        <p:spPr>
          <a:xfrm>
            <a:off x="0" y="-4680"/>
            <a:ext cx="9144000" cy="2136600"/>
          </a:xfrm>
          <a:prstGeom prst="rect">
            <a:avLst/>
          </a:prstGeom>
          <a:ln w="0">
            <a:noFill/>
          </a:ln>
        </p:spPr>
      </p:pic>
      <p:pic>
        <p:nvPicPr>
          <p:cNvPr id="240" name="图片 139271" descr="82"/>
          <p:cNvPicPr/>
          <p:nvPr/>
        </p:nvPicPr>
        <p:blipFill>
          <a:blip r:embed="rId2"/>
          <a:srcRect l="6807" t="20194" r="5803" b="70123"/>
          <a:stretch/>
        </p:blipFill>
        <p:spPr>
          <a:xfrm>
            <a:off x="0" y="2133720"/>
            <a:ext cx="9144000" cy="1423800"/>
          </a:xfrm>
          <a:prstGeom prst="rect">
            <a:avLst/>
          </a:prstGeom>
          <a:ln w="0">
            <a:noFill/>
          </a:ln>
        </p:spPr>
      </p:pic>
      <p:sp>
        <p:nvSpPr>
          <p:cNvPr id="241" name="文本框 139272"/>
          <p:cNvSpPr/>
          <p:nvPr/>
        </p:nvSpPr>
        <p:spPr>
          <a:xfrm>
            <a:off x="1887840" y="2138400"/>
            <a:ext cx="179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60%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x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=1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文本框 139273"/>
          <p:cNvSpPr/>
          <p:nvPr/>
        </p:nvSpPr>
        <p:spPr>
          <a:xfrm>
            <a:off x="1731600" y="2492280"/>
            <a:ext cx="272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解：   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x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=1200÷6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文本框 139274"/>
          <p:cNvSpPr/>
          <p:nvPr/>
        </p:nvSpPr>
        <p:spPr>
          <a:xfrm>
            <a:off x="2496960" y="2827440"/>
            <a:ext cx="11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x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=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文本框 139275"/>
          <p:cNvSpPr/>
          <p:nvPr/>
        </p:nvSpPr>
        <p:spPr>
          <a:xfrm>
            <a:off x="5959800" y="2112840"/>
            <a:ext cx="107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7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s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=4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文本框 139276"/>
          <p:cNvSpPr/>
          <p:nvPr/>
        </p:nvSpPr>
        <p:spPr>
          <a:xfrm>
            <a:off x="5594760" y="2454120"/>
            <a:ext cx="175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解：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s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=4.2÷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文本框 139277"/>
          <p:cNvSpPr/>
          <p:nvPr/>
        </p:nvSpPr>
        <p:spPr>
          <a:xfrm>
            <a:off x="6139080" y="2784600"/>
            <a:ext cx="90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s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=0.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文本框 139278"/>
          <p:cNvSpPr/>
          <p:nvPr/>
        </p:nvSpPr>
        <p:spPr>
          <a:xfrm>
            <a:off x="2218680" y="4803840"/>
            <a:ext cx="150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3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x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=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x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文本框 139279"/>
          <p:cNvSpPr/>
          <p:nvPr/>
        </p:nvSpPr>
        <p:spPr>
          <a:xfrm>
            <a:off x="1702440" y="5183280"/>
            <a:ext cx="14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解：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2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x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=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文本框 139281"/>
          <p:cNvSpPr/>
          <p:nvPr/>
        </p:nvSpPr>
        <p:spPr>
          <a:xfrm>
            <a:off x="2392560" y="5538960"/>
            <a:ext cx="68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x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=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文本框 139282"/>
          <p:cNvSpPr/>
          <p:nvPr/>
        </p:nvSpPr>
        <p:spPr>
          <a:xfrm>
            <a:off x="5691960" y="4829040"/>
            <a:ext cx="175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3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x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＋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x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=11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文本框 139283"/>
          <p:cNvSpPr/>
          <p:nvPr/>
        </p:nvSpPr>
        <p:spPr>
          <a:xfrm>
            <a:off x="5318640" y="5259240"/>
            <a:ext cx="202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解：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4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x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=11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文本框 139284"/>
          <p:cNvSpPr/>
          <p:nvPr/>
        </p:nvSpPr>
        <p:spPr>
          <a:xfrm>
            <a:off x="6334200" y="5614920"/>
            <a:ext cx="9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x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=2.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6" dur="indefinite" restart="never" nodeType="tmRoot">
          <p:childTnLst>
            <p:seq>
              <p:cTn id="787" dur="indefinite" nodeType="mainSeq">
                <p:childTnLst>
                  <p:par>
                    <p:cTn id="788" nodeType="clickEffect" fill="hold">
                      <p:stCondLst>
                        <p:cond delay="indefinite"/>
                      </p:stCondLst>
                      <p:childTnLst>
                        <p:par>
                          <p:cTn id="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81481E-006 L 0 0.16922 E">
                                      <p:cBhvr>
                                        <p:cTn id="791" dur="2000" fill="hold"/>
                                        <p:tgtEl>
                                          <p:spTgt spid="2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1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6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nodeType="clickEffect" fill="hold">
                      <p:stCondLst>
                        <p:cond delay="indefinite"/>
                      </p:stCondLst>
                      <p:childTnLst>
                        <p:par>
                          <p:cTn id="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1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nodeType="clickEffect" fill="hold">
                      <p:stCondLst>
                        <p:cond delay="indefinite"/>
                      </p:stCondLst>
                      <p:childTnLst>
                        <p:par>
                          <p:cTn id="8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6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nodeType="clickEffect" fill="hold">
                      <p:stCondLst>
                        <p:cond delay="indefinite"/>
                      </p:stCondLst>
                      <p:childTnLst>
                        <p:par>
                          <p:cTn id="8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1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nodeType="clickEffect" fill="hold">
                      <p:stCondLst>
                        <p:cond delay="indefinite"/>
                      </p:stCondLst>
                      <p:childTnLst>
                        <p:par>
                          <p:cTn id="8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6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nodeType="clickEffect" fill="hold">
                      <p:stCondLst>
                        <p:cond delay="indefinite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1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nodeType="clickEffect" fill="hold">
                      <p:stCondLst>
                        <p:cond delay="indefinite"/>
                      </p:stCondLst>
                      <p:childTnLst>
                        <p:par>
                          <p:cTn id="8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6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1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nodeType="clickEffect" fill="hold">
                      <p:stCondLst>
                        <p:cond delay="indefinite"/>
                      </p:stCondLst>
                      <p:childTnLst>
                        <p:par>
                          <p:cTn id="8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6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nodeType="clickEffect" fill="hold">
                      <p:stCondLst>
                        <p:cond delay="indefinite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1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D:\我的文档\北六数\北六数大课堂下（学用）\EE27.tif"/>
          <p:cNvPicPr/>
          <p:nvPr/>
        </p:nvPicPr>
        <p:blipFill>
          <a:blip r:embed="rId1"/>
          <a:stretch/>
        </p:blipFill>
        <p:spPr>
          <a:xfrm>
            <a:off x="1039680" y="2124000"/>
            <a:ext cx="7064640" cy="1963800"/>
          </a:xfrm>
          <a:prstGeom prst="rect">
            <a:avLst/>
          </a:prstGeom>
          <a:ln w="0">
            <a:noFill/>
          </a:ln>
        </p:spPr>
      </p:pic>
      <p:sp>
        <p:nvSpPr>
          <p:cNvPr id="47" name="矩形 4"/>
          <p:cNvSpPr/>
          <p:nvPr/>
        </p:nvSpPr>
        <p:spPr>
          <a:xfrm>
            <a:off x="876240" y="4421160"/>
            <a:ext cx="73976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n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个图案用多少个圆片？请你用含有字母的式子表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5"/>
          <p:cNvSpPr/>
          <p:nvPr/>
        </p:nvSpPr>
        <p:spPr>
          <a:xfrm>
            <a:off x="995400" y="1362240"/>
            <a:ext cx="527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淘气利用圆片摆出下面的图案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" name="组合 145416"/>
          <p:cNvGrpSpPr/>
          <p:nvPr/>
        </p:nvGrpSpPr>
        <p:grpSpPr>
          <a:xfrm>
            <a:off x="0" y="206280"/>
            <a:ext cx="9144000" cy="3151440"/>
            <a:chOff x="0" y="206280"/>
            <a:chExt cx="9144000" cy="3151440"/>
          </a:xfrm>
        </p:grpSpPr>
        <p:pic>
          <p:nvPicPr>
            <p:cNvPr id="254" name="图片 145414" descr="82"/>
            <p:cNvPicPr/>
            <p:nvPr/>
          </p:nvPicPr>
          <p:blipFill>
            <a:blip r:embed="rId1"/>
            <a:srcRect l="7959" t="29881" r="5803" b="48968"/>
            <a:stretch/>
          </p:blipFill>
          <p:spPr>
            <a:xfrm>
              <a:off x="0" y="206280"/>
              <a:ext cx="9144000" cy="315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" name="图片 145415" descr="82"/>
            <p:cNvPicPr/>
            <p:nvPr/>
          </p:nvPicPr>
          <p:blipFill>
            <a:blip r:embed="rId2"/>
            <a:srcRect l="20439" t="45391" r="63677" b="48968"/>
            <a:stretch/>
          </p:blipFill>
          <p:spPr>
            <a:xfrm>
              <a:off x="0" y="2854440"/>
              <a:ext cx="1332000" cy="503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6" name="文本框 145417"/>
          <p:cNvSpPr/>
          <p:nvPr/>
        </p:nvSpPr>
        <p:spPr>
          <a:xfrm>
            <a:off x="1668600" y="3357720"/>
            <a:ext cx="253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解：设每本丛书有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x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本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文本框 145418"/>
          <p:cNvSpPr/>
          <p:nvPr/>
        </p:nvSpPr>
        <p:spPr>
          <a:xfrm>
            <a:off x="1893600" y="3936960"/>
            <a:ext cx="306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迷你简胖头鱼"/>
              </a:rPr>
              <a:t>8.2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x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迷你简胖头鱼"/>
              </a:rPr>
              <a:t>＋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迷你简胖头鱼"/>
              </a:rPr>
              <a:t>6.8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x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迷你简胖头鱼"/>
              </a:rPr>
              <a:t>=1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文本框 145419"/>
          <p:cNvSpPr/>
          <p:nvPr/>
        </p:nvSpPr>
        <p:spPr>
          <a:xfrm>
            <a:off x="3201480" y="4437000"/>
            <a:ext cx="175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迷你简胖头鱼"/>
              </a:rPr>
              <a:t>15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x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迷你简胖头鱼"/>
              </a:rPr>
              <a:t>=1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文本框 145420"/>
          <p:cNvSpPr/>
          <p:nvPr/>
        </p:nvSpPr>
        <p:spPr>
          <a:xfrm>
            <a:off x="3671640" y="4941720"/>
            <a:ext cx="84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x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迷你简胖头鱼"/>
              </a:rPr>
              <a:t>=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文本框 145421"/>
          <p:cNvSpPr/>
          <p:nvPr/>
        </p:nvSpPr>
        <p:spPr>
          <a:xfrm>
            <a:off x="3668040" y="5543640"/>
            <a:ext cx="209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答：每本丛书有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8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本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2" dur="indefinite" restart="never" nodeType="tmRoot">
          <p:childTnLst>
            <p:seq>
              <p:cTn id="853" dur="indefinite" nodeType="mainSeq">
                <p:childTnLst>
                  <p:par>
                    <p:cTn id="854" nodeType="clickEffect" fill="hold">
                      <p:stCondLst>
                        <p:cond delay="indefinite"/>
                      </p:stCondLst>
                      <p:childTnLst>
                        <p:par>
                          <p:cTn id="8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8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3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nodeType="clickEffect" fill="hold">
                      <p:stCondLst>
                        <p:cond delay="indefinite"/>
                      </p:stCondLst>
                      <p:childTnLst>
                        <p:par>
                          <p:cTn id="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8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nodeType="clickEffect" fill="hold">
                      <p:stCondLst>
                        <p:cond delay="indefinite"/>
                      </p:stCondLst>
                      <p:childTnLst>
                        <p:par>
                          <p:cTn id="8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3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nodeType="clickEffect" fill="hold">
                      <p:stCondLst>
                        <p:cond delay="indefinite"/>
                      </p:stCondLst>
                      <p:childTnLst>
                        <p:par>
                          <p:cTn id="8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8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文本框 143366"/>
          <p:cNvSpPr/>
          <p:nvPr/>
        </p:nvSpPr>
        <p:spPr>
          <a:xfrm>
            <a:off x="3209400" y="1389240"/>
            <a:ext cx="94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迷你简胖头鱼"/>
              </a:rPr>
              <a:t>9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迷你简胖头鱼"/>
              </a:rPr>
              <a:t>甲、乙两个工程队同修一条公路，它们从两端同时施工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文本框 143367"/>
          <p:cNvSpPr/>
          <p:nvPr/>
        </p:nvSpPr>
        <p:spPr>
          <a:xfrm>
            <a:off x="2356920" y="1771560"/>
            <a:ext cx="425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迷你简胖头鱼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迷你简胖头鱼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迷你简胖头鱼"/>
              </a:rPr>
              <a:t>）甲队每天修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a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迷你简胖头鱼"/>
              </a:rPr>
              <a:t>m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迷你简胖头鱼"/>
              </a:rPr>
              <a:t>，乙队每天修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b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迷你简胖头鱼"/>
              </a:rPr>
              <a:t>m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迷你简胖头鱼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迷你简胖头鱼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迷你简胖头鱼"/>
              </a:rPr>
              <a:t>天修完。这条公路长多少米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文本框 143368"/>
          <p:cNvSpPr/>
          <p:nvPr/>
        </p:nvSpPr>
        <p:spPr>
          <a:xfrm>
            <a:off x="1250280" y="2887560"/>
            <a:ext cx="6195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迷你简胖头鱼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迷你简胖头鱼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迷你简胖头鱼"/>
              </a:rPr>
              <a:t>）如果这条公路长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迷你简胖头鱼"/>
              </a:rPr>
              <a:t>3000m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迷你简胖头鱼"/>
              </a:rPr>
              <a:t>，甲队每天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迷你简胖头鱼"/>
              </a:rPr>
              <a:t>85m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迷你简胖头鱼"/>
              </a:rPr>
              <a:t>，乙队每天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迷你简胖头鱼"/>
              </a:rPr>
              <a:t>65m,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迷你简胖头鱼"/>
              </a:rPr>
              <a:t>修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迷你简胖头鱼"/>
              </a:rPr>
              <a:t>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迷你简胖头鱼"/>
              </a:rPr>
              <a:t>这条公路需要多少天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文本框 143369"/>
          <p:cNvSpPr/>
          <p:nvPr/>
        </p:nvSpPr>
        <p:spPr>
          <a:xfrm>
            <a:off x="2042640" y="2133720"/>
            <a:ext cx="187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8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（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a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＋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b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文本框 143370"/>
          <p:cNvSpPr/>
          <p:nvPr/>
        </p:nvSpPr>
        <p:spPr>
          <a:xfrm>
            <a:off x="4898880" y="2421000"/>
            <a:ext cx="33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答：这条公路长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8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（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a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＋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b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）米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迷你简胖头鱼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文本框 143372"/>
          <p:cNvSpPr/>
          <p:nvPr/>
        </p:nvSpPr>
        <p:spPr>
          <a:xfrm>
            <a:off x="1853640" y="3594240"/>
            <a:ext cx="308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解：设修完这条公路需要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x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天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文本框 143373"/>
          <p:cNvSpPr/>
          <p:nvPr/>
        </p:nvSpPr>
        <p:spPr>
          <a:xfrm>
            <a:off x="1912320" y="4173480"/>
            <a:ext cx="364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迷你简胖头鱼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迷你简胖头鱼"/>
              </a:rPr>
              <a:t>85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迷你简胖头鱼"/>
              </a:rPr>
              <a:t>＋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迷你简胖头鱼"/>
              </a:rPr>
              <a:t>65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迷你简胖头鱼"/>
              </a:rPr>
              <a:t>）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x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迷你简胖头鱼"/>
              </a:rPr>
              <a:t>=3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文本框 143374"/>
          <p:cNvSpPr/>
          <p:nvPr/>
        </p:nvSpPr>
        <p:spPr>
          <a:xfrm>
            <a:off x="3344040" y="4673520"/>
            <a:ext cx="220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迷你简胖头鱼"/>
              </a:rPr>
              <a:t>150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x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迷你简胖头鱼"/>
              </a:rPr>
              <a:t>=3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文本框 143375"/>
          <p:cNvSpPr/>
          <p:nvPr/>
        </p:nvSpPr>
        <p:spPr>
          <a:xfrm>
            <a:off x="4052520" y="5178600"/>
            <a:ext cx="107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x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迷你简胖头鱼"/>
              </a:rPr>
              <a:t>=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文本框 143376"/>
          <p:cNvSpPr/>
          <p:nvPr/>
        </p:nvSpPr>
        <p:spPr>
          <a:xfrm>
            <a:off x="3945600" y="5778360"/>
            <a:ext cx="264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答：修完这条公路需要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20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天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9" dur="indefinite" restart="never" nodeType="tmRoot">
          <p:childTnLst>
            <p:seq>
              <p:cTn id="880" dur="indefinite" nodeType="mainSeq">
                <p:childTnLst>
                  <p:par>
                    <p:cTn id="881" nodeType="clickEffect" fill="hold">
                      <p:stCondLst>
                        <p:cond delay="indefinite"/>
                      </p:stCondLst>
                      <p:childTnLst>
                        <p:par>
                          <p:cTn id="8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5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nodeType="clickEffect" fill="hold">
                      <p:stCondLst>
                        <p:cond delay="indefinite"/>
                      </p:stCondLst>
                      <p:childTnLst>
                        <p:par>
                          <p:cTn id="8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0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nodeType="clickEffect" fill="hold">
                      <p:stCondLst>
                        <p:cond delay="indefinite"/>
                      </p:stCondLst>
                      <p:childTnLst>
                        <p:par>
                          <p:cTn id="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5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nodeType="clickEffect" fill="hold">
                      <p:stCondLst>
                        <p:cond delay="indefinite"/>
                      </p:stCondLst>
                      <p:childTnLst>
                        <p:par>
                          <p:cTn id="8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0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nodeType="clickEffect" fill="hold">
                      <p:stCondLst>
                        <p:cond delay="indefinite"/>
                      </p:stCondLst>
                      <p:childTnLst>
                        <p:par>
                          <p:cTn id="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5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nodeType="clickEffect" fill="hold">
                      <p:stCondLst>
                        <p:cond delay="indefinite"/>
                      </p:stCondLst>
                      <p:childTnLst>
                        <p:par>
                          <p:cTn id="9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0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nodeType="clickEffect" fill="hold">
                      <p:stCondLst>
                        <p:cond delay="indefinite"/>
                      </p:stCondLst>
                      <p:childTnLst>
                        <p:par>
                          <p:cTn id="9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5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图片 148486" descr="82"/>
          <p:cNvPicPr/>
          <p:nvPr/>
        </p:nvPicPr>
        <p:blipFill>
          <a:blip r:embed="rId1"/>
          <a:srcRect l="9082" t="76745" r="4680" b="6303"/>
          <a:stretch/>
        </p:blipFill>
        <p:spPr>
          <a:xfrm>
            <a:off x="0" y="1268280"/>
            <a:ext cx="9144000" cy="2525760"/>
          </a:xfrm>
          <a:prstGeom prst="rect">
            <a:avLst/>
          </a:prstGeom>
          <a:ln w="0">
            <a:noFill/>
          </a:ln>
        </p:spPr>
      </p:pic>
      <p:sp>
        <p:nvSpPr>
          <p:cNvPr id="272" name="文本框 148487"/>
          <p:cNvSpPr/>
          <p:nvPr/>
        </p:nvSpPr>
        <p:spPr>
          <a:xfrm>
            <a:off x="3931560" y="3303720"/>
            <a:ext cx="326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解：设原正方形的边长是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x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厘米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文本框 148498"/>
          <p:cNvSpPr/>
          <p:nvPr/>
        </p:nvSpPr>
        <p:spPr>
          <a:xfrm>
            <a:off x="3952080" y="5924520"/>
            <a:ext cx="284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答：原正方形的边长是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9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厘米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组合 6"/>
          <p:cNvGrpSpPr/>
          <p:nvPr/>
        </p:nvGrpSpPr>
        <p:grpSpPr>
          <a:xfrm>
            <a:off x="4156200" y="3833640"/>
            <a:ext cx="2481120" cy="2061360"/>
            <a:chOff x="4156200" y="3833640"/>
            <a:chExt cx="2481120" cy="2061360"/>
          </a:xfrm>
        </p:grpSpPr>
        <p:grpSp>
          <p:nvGrpSpPr>
            <p:cNvPr id="275" name="组合 5"/>
            <p:cNvGrpSpPr/>
            <p:nvPr/>
          </p:nvGrpSpPr>
          <p:grpSpPr>
            <a:xfrm>
              <a:off x="4156200" y="3833640"/>
              <a:ext cx="2481120" cy="2061360"/>
              <a:chOff x="4156200" y="3833640"/>
              <a:chExt cx="2481120" cy="2061360"/>
            </a:xfrm>
          </p:grpSpPr>
          <p:sp>
            <p:nvSpPr>
              <p:cNvPr id="276" name="文本框 148488"/>
              <p:cNvSpPr/>
              <p:nvPr/>
            </p:nvSpPr>
            <p:spPr>
              <a:xfrm>
                <a:off x="4156200" y="3927600"/>
                <a:ext cx="2481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  <a:ea typeface="迷你简胖头鱼"/>
                  </a:rPr>
                  <a:t>x</a:t>
                </a:r>
                <a:r>
                  <a:rPr b="1" lang="zh-CN" sz="3200" spc="-1" strike="noStrike">
                    <a:solidFill>
                      <a:srgbClr val="ff0000"/>
                    </a:solidFill>
                    <a:latin typeface="Arial"/>
                    <a:ea typeface="迷你简胖头鱼"/>
                  </a:rPr>
                  <a:t>＋   </a:t>
                </a: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  <a:ea typeface="迷你简胖头鱼"/>
                  </a:rPr>
                  <a:t>x</a:t>
                </a:r>
                <a:r>
                  <a:rPr b="1" lang="en-US" sz="3200" spc="-1" strike="noStrike">
                    <a:solidFill>
                      <a:srgbClr val="ff0000"/>
                    </a:solidFill>
                    <a:latin typeface="Arial"/>
                    <a:ea typeface="迷你简胖头鱼"/>
                  </a:rPr>
                  <a:t>=48÷4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文本框 148492"/>
              <p:cNvSpPr/>
              <p:nvPr/>
            </p:nvSpPr>
            <p:spPr>
              <a:xfrm>
                <a:off x="4705200" y="4717080"/>
                <a:ext cx="1411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ff0000"/>
                    </a:solidFill>
                    <a:latin typeface="Arial"/>
                    <a:ea typeface="迷你简胖头鱼"/>
                  </a:rPr>
                  <a:t>   </a:t>
                </a: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  <a:ea typeface="迷你简胖头鱼"/>
                  </a:rPr>
                  <a:t>x</a:t>
                </a:r>
                <a:r>
                  <a:rPr b="1" lang="en-US" sz="3200" spc="-1" strike="noStrike">
                    <a:solidFill>
                      <a:srgbClr val="ff0000"/>
                    </a:solidFill>
                    <a:latin typeface="Arial"/>
                    <a:ea typeface="迷你简胖头鱼"/>
                  </a:rPr>
                  <a:t>=1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文本框 148496"/>
              <p:cNvSpPr/>
              <p:nvPr/>
            </p:nvSpPr>
            <p:spPr>
              <a:xfrm>
                <a:off x="4716720" y="5313600"/>
                <a:ext cx="11865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ff0000"/>
                    </a:solidFill>
                    <a:latin typeface="Arial"/>
                    <a:ea typeface="迷你简胖头鱼"/>
                  </a:rPr>
                  <a:t>   </a:t>
                </a: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  <a:ea typeface="迷你简胖头鱼"/>
                  </a:rPr>
                  <a:t>x</a:t>
                </a:r>
                <a:r>
                  <a:rPr b="1" lang="en-US" sz="3200" spc="-1" strike="noStrike">
                    <a:solidFill>
                      <a:srgbClr val="ff0000"/>
                    </a:solidFill>
                    <a:latin typeface="Arial"/>
                    <a:ea typeface="迷你简胖头鱼"/>
                  </a:rPr>
                  <a:t>=9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9" name="组合 25"/>
              <p:cNvGrpSpPr/>
              <p:nvPr/>
            </p:nvGrpSpPr>
            <p:grpSpPr>
              <a:xfrm>
                <a:off x="4728240" y="3833640"/>
                <a:ext cx="352080" cy="833040"/>
                <a:chOff x="4728240" y="3833640"/>
                <a:chExt cx="352080" cy="833040"/>
              </a:xfrm>
            </p:grpSpPr>
            <p:sp>
              <p:nvSpPr>
                <p:cNvPr id="280" name="直接连接符 26"/>
                <p:cNvSpPr/>
                <p:nvPr/>
              </p:nvSpPr>
              <p:spPr>
                <a:xfrm>
                  <a:off x="4795560" y="4246920"/>
                  <a:ext cx="189000" cy="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文本框 27"/>
                <p:cNvSpPr/>
                <p:nvPr/>
              </p:nvSpPr>
              <p:spPr>
                <a:xfrm>
                  <a:off x="4737960" y="4206960"/>
                  <a:ext cx="342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宋体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文本框 28"/>
                <p:cNvSpPr/>
                <p:nvPr/>
              </p:nvSpPr>
              <p:spPr>
                <a:xfrm>
                  <a:off x="4728240" y="3833640"/>
                  <a:ext cx="342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宋体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3" name="组合 1"/>
            <p:cNvGrpSpPr/>
            <p:nvPr/>
          </p:nvGrpSpPr>
          <p:grpSpPr>
            <a:xfrm>
              <a:off x="4789080" y="4621320"/>
              <a:ext cx="352440" cy="833040"/>
              <a:chOff x="4789080" y="4621320"/>
              <a:chExt cx="352440" cy="833040"/>
            </a:xfrm>
          </p:grpSpPr>
          <p:sp>
            <p:nvSpPr>
              <p:cNvPr id="284" name="直接连接符 2"/>
              <p:cNvSpPr/>
              <p:nvPr/>
            </p:nvSpPr>
            <p:spPr>
              <a:xfrm>
                <a:off x="4857480" y="5033520"/>
                <a:ext cx="189000" cy="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文本框 3"/>
              <p:cNvSpPr/>
              <p:nvPr/>
            </p:nvSpPr>
            <p:spPr>
              <a:xfrm>
                <a:off x="4798800" y="4994640"/>
                <a:ext cx="342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宋体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文本框 4"/>
              <p:cNvSpPr/>
              <p:nvPr/>
            </p:nvSpPr>
            <p:spPr>
              <a:xfrm>
                <a:off x="4789080" y="4621320"/>
                <a:ext cx="342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宋体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6" dur="indefinite" restart="never" nodeType="tmRoot">
          <p:childTnLst>
            <p:seq>
              <p:cTn id="917" dur="indefinite" nodeType="mainSeq">
                <p:childTnLst>
                  <p:par>
                    <p:cTn id="918" nodeType="clickEffect" fill="hold">
                      <p:stCondLst>
                        <p:cond delay="indefinite"/>
                      </p:stCondLst>
                      <p:childTnLst>
                        <p:par>
                          <p:cTn id="9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2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nodeType="clickEffect" fill="hold">
                      <p:stCondLst>
                        <p:cond delay="indefinite"/>
                      </p:stCondLst>
                      <p:childTnLst>
                        <p:par>
                          <p:cTn id="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nodeType="clickEffect" fill="hold">
                      <p:stCondLst>
                        <p:cond delay="indefinite"/>
                      </p:stCondLst>
                      <p:childTnLst>
                        <p:par>
                          <p:cTn id="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2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5" descr="未标题-1"/>
          <p:cNvPicPr/>
          <p:nvPr/>
        </p:nvPicPr>
        <p:blipFill>
          <a:blip r:embed="rId1"/>
          <a:stretch/>
        </p:blipFill>
        <p:spPr>
          <a:xfrm>
            <a:off x="2286000" y="2743200"/>
            <a:ext cx="5105520" cy="12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矩形 3"/>
          <p:cNvSpPr/>
          <p:nvPr/>
        </p:nvSpPr>
        <p:spPr>
          <a:xfrm>
            <a:off x="858960" y="3262320"/>
            <a:ext cx="742608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       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通过观察发现圆片数量为：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1×1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，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2×2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，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3×3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，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4×4,……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即第几个图案圆片数量就是“几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×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几”，那么第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n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个图案用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n×n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个圆片，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n×n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n·n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n</a:t>
            </a:r>
            <a:r>
              <a:rPr b="0" lang="en-US" sz="2800" spc="-1" strike="noStrike" baseline="30000">
                <a:solidFill>
                  <a:srgbClr val="ff0000"/>
                </a:solidFill>
                <a:latin typeface="Times New Roman"/>
                <a:ea typeface="迷你简胖头鱼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D:\我的文档\北六数\北六数大课堂下（学用）\EE27.tif"/>
          <p:cNvPicPr/>
          <p:nvPr/>
        </p:nvPicPr>
        <p:blipFill>
          <a:blip r:embed="rId1"/>
          <a:stretch/>
        </p:blipFill>
        <p:spPr>
          <a:xfrm>
            <a:off x="858960" y="1298520"/>
            <a:ext cx="7064280" cy="19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矩形 3"/>
          <p:cNvSpPr/>
          <p:nvPr/>
        </p:nvSpPr>
        <p:spPr>
          <a:xfrm>
            <a:off x="825480" y="1362240"/>
            <a:ext cx="771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生活中还有哪些规律能利用这个式子表示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4"/>
          <p:cNvSpPr/>
          <p:nvPr/>
        </p:nvSpPr>
        <p:spPr>
          <a:xfrm>
            <a:off x="546120" y="2295360"/>
            <a:ext cx="79963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Times New Roman"/>
                <a:ea typeface="迷你简胖头鱼"/>
              </a:rPr>
              <a:t>       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迷你简胖头鱼"/>
              </a:rPr>
              <a:t>正方形的面积可以用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迷你简胖头鱼"/>
              </a:rPr>
              <a:t>n</a:t>
            </a:r>
            <a:r>
              <a:rPr b="0" lang="en-US" sz="3200" spc="-1" strike="noStrike" baseline="30000">
                <a:solidFill>
                  <a:srgbClr val="0000ff"/>
                </a:solidFill>
                <a:latin typeface="Times New Roman"/>
                <a:ea typeface="迷你简胖头鱼"/>
              </a:rPr>
              <a:t>2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迷你简胖头鱼"/>
              </a:rPr>
              <a:t>表示：正方形的边长是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迷你简胖头鱼"/>
              </a:rPr>
              <a:t>n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迷你简胖头鱼"/>
              </a:rPr>
              <a:t>，正方形的面积＝边长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迷你简胖头鱼"/>
              </a:rPr>
              <a:t>×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迷你简胖头鱼"/>
              </a:rPr>
              <a:t>边长＝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迷你简胖头鱼"/>
              </a:rPr>
              <a:t>n×n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迷你简胖头鱼"/>
              </a:rPr>
              <a:t>＝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迷你简胖头鱼"/>
              </a:rPr>
              <a:t>n</a:t>
            </a:r>
            <a:r>
              <a:rPr b="0" lang="en-US" sz="3200" spc="-1" strike="noStrike" baseline="30000">
                <a:solidFill>
                  <a:srgbClr val="0000ff"/>
                </a:solidFill>
                <a:latin typeface="Times New Roman"/>
                <a:ea typeface="迷你简胖头鱼"/>
              </a:rPr>
              <a:t>2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迷你简胖头鱼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迷你简胖头鱼"/>
              </a:rPr>
              <a:t>         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迷你简胖头鱼"/>
              </a:rPr>
              <a:t>方阵的人数可以用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迷你简胖头鱼"/>
              </a:rPr>
              <a:t>n</a:t>
            </a:r>
            <a:r>
              <a:rPr b="0" lang="en-US" sz="3200" spc="-1" strike="noStrike" baseline="30000">
                <a:solidFill>
                  <a:srgbClr val="0000ff"/>
                </a:solidFill>
                <a:latin typeface="Times New Roman"/>
                <a:ea typeface="迷你简胖头鱼"/>
              </a:rPr>
              <a:t>2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迷你简胖头鱼"/>
              </a:rPr>
              <a:t>表示：方阵每排有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迷你简胖头鱼"/>
              </a:rPr>
              <a:t>n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迷你简胖头鱼"/>
              </a:rPr>
              <a:t>人，一共有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迷你简胖头鱼"/>
              </a:rPr>
              <a:t>n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迷你简胖头鱼"/>
              </a:rPr>
              <a:t>排，那么总人数为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迷你简胖头鱼"/>
              </a:rPr>
              <a:t>n×n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迷你简胖头鱼"/>
              </a:rPr>
              <a:t>＝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迷你简胖头鱼"/>
              </a:rPr>
              <a:t>n</a:t>
            </a:r>
            <a:r>
              <a:rPr b="0" lang="en-US" sz="3200" spc="-1" strike="noStrike" baseline="30000">
                <a:solidFill>
                  <a:srgbClr val="0000ff"/>
                </a:solidFill>
                <a:latin typeface="Times New Roman"/>
                <a:ea typeface="迷你简胖头鱼"/>
              </a:rPr>
              <a:t>2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迷你简胖头鱼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AutoShape 31"/>
          <p:cNvSpPr/>
          <p:nvPr/>
        </p:nvSpPr>
        <p:spPr>
          <a:xfrm>
            <a:off x="63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33"/>
          <p:cNvSpPr/>
          <p:nvPr/>
        </p:nvSpPr>
        <p:spPr>
          <a:xfrm>
            <a:off x="63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文本框 135174"/>
          <p:cNvSpPr/>
          <p:nvPr/>
        </p:nvSpPr>
        <p:spPr>
          <a:xfrm>
            <a:off x="4061880" y="1125360"/>
            <a:ext cx="9943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迷你简胖头鱼"/>
              </a:rPr>
              <a:t>2.</a:t>
            </a:r>
            <a:r>
              <a:rPr b="1" lang="zh-CN" sz="2100" spc="-1" strike="noStrike">
                <a:solidFill>
                  <a:srgbClr val="000000"/>
                </a:solidFill>
                <a:latin typeface="Arial"/>
                <a:ea typeface="迷你简胖头鱼"/>
              </a:rPr>
              <a:t>我们已经学过一些公式和规律，请你用含有字母的式子把它们表示出来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文本框 135175"/>
          <p:cNvSpPr/>
          <p:nvPr/>
        </p:nvSpPr>
        <p:spPr>
          <a:xfrm>
            <a:off x="409680" y="198288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迷你简胖头鱼"/>
              </a:rPr>
              <a:t>加法交换律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文本框 135176"/>
          <p:cNvSpPr/>
          <p:nvPr/>
        </p:nvSpPr>
        <p:spPr>
          <a:xfrm>
            <a:off x="409680" y="242424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迷你简胖头鱼"/>
              </a:rPr>
              <a:t>加法结合律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文本框 135177"/>
          <p:cNvSpPr/>
          <p:nvPr/>
        </p:nvSpPr>
        <p:spPr>
          <a:xfrm>
            <a:off x="409680" y="286704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迷你简胖头鱼"/>
              </a:rPr>
              <a:t>乘法交换律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文本框 135178"/>
          <p:cNvSpPr/>
          <p:nvPr/>
        </p:nvSpPr>
        <p:spPr>
          <a:xfrm>
            <a:off x="409680" y="330984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迷你简胖头鱼"/>
              </a:rPr>
              <a:t>乘法结合律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本框 135179"/>
          <p:cNvSpPr/>
          <p:nvPr/>
        </p:nvSpPr>
        <p:spPr>
          <a:xfrm>
            <a:off x="409680" y="375300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迷你简胖头鱼"/>
              </a:rPr>
              <a:t>乘法分配律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文本框 135180"/>
          <p:cNvSpPr/>
          <p:nvPr/>
        </p:nvSpPr>
        <p:spPr>
          <a:xfrm>
            <a:off x="1560960" y="1998720"/>
            <a:ext cx="122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迷你简胖头鱼"/>
              </a:rPr>
              <a:t>a+b=b+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文本框 135181"/>
          <p:cNvSpPr/>
          <p:nvPr/>
        </p:nvSpPr>
        <p:spPr>
          <a:xfrm>
            <a:off x="1542240" y="2446200"/>
            <a:ext cx="214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迷你简胖头鱼"/>
              </a:rPr>
              <a:t>(a+b)+c=a+(b+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文本框 135182"/>
          <p:cNvSpPr/>
          <p:nvPr/>
        </p:nvSpPr>
        <p:spPr>
          <a:xfrm>
            <a:off x="1654200" y="2895480"/>
            <a:ext cx="122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迷你简胖头鱼"/>
              </a:rPr>
              <a:t>a×b=b×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文本框 135183"/>
          <p:cNvSpPr/>
          <p:nvPr/>
        </p:nvSpPr>
        <p:spPr>
          <a:xfrm>
            <a:off x="1756440" y="3344760"/>
            <a:ext cx="214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迷你简胖头鱼"/>
              </a:rPr>
              <a:t>(a×b)×c=a×(b×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文本框 135184"/>
          <p:cNvSpPr/>
          <p:nvPr/>
        </p:nvSpPr>
        <p:spPr>
          <a:xfrm>
            <a:off x="1711800" y="3794040"/>
            <a:ext cx="240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迷你简胖头鱼"/>
              </a:rPr>
              <a:t>(a+b)×c=a×c + b×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文本框 135185"/>
          <p:cNvSpPr/>
          <p:nvPr/>
        </p:nvSpPr>
        <p:spPr>
          <a:xfrm>
            <a:off x="357840" y="162720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ff"/>
                </a:solidFill>
                <a:latin typeface="Arial"/>
                <a:ea typeface="迷你简胖头鱼"/>
              </a:rPr>
              <a:t>运算定律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文本框 135186"/>
          <p:cNvSpPr/>
          <p:nvPr/>
        </p:nvSpPr>
        <p:spPr>
          <a:xfrm>
            <a:off x="357840" y="422100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ff"/>
                </a:solidFill>
                <a:latin typeface="Arial"/>
                <a:ea typeface="迷你简胖头鱼"/>
              </a:rPr>
              <a:t>周长公式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文本框 135187"/>
          <p:cNvSpPr/>
          <p:nvPr/>
        </p:nvSpPr>
        <p:spPr>
          <a:xfrm>
            <a:off x="461160" y="465300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迷你简胖头鱼"/>
              </a:rPr>
              <a:t>长方形的周长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文本框 135188"/>
          <p:cNvSpPr/>
          <p:nvPr/>
        </p:nvSpPr>
        <p:spPr>
          <a:xfrm>
            <a:off x="461160" y="511956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迷你简胖头鱼"/>
              </a:rPr>
              <a:t>正方形的周长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文本框 135189"/>
          <p:cNvSpPr/>
          <p:nvPr/>
        </p:nvSpPr>
        <p:spPr>
          <a:xfrm>
            <a:off x="357840" y="558972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迷你简胖头鱼"/>
              </a:rPr>
              <a:t>圆的周长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文本框 135190"/>
          <p:cNvSpPr/>
          <p:nvPr/>
        </p:nvSpPr>
        <p:spPr>
          <a:xfrm>
            <a:off x="1815120" y="4687920"/>
            <a:ext cx="142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迷你简胖头鱼"/>
              </a:rPr>
              <a:t>C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迷你简胖头鱼"/>
              </a:rPr>
              <a:t>=(a+b)×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文本框 135191"/>
          <p:cNvSpPr/>
          <p:nvPr/>
        </p:nvSpPr>
        <p:spPr>
          <a:xfrm>
            <a:off x="1764000" y="5180040"/>
            <a:ext cx="79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迷你简胖头鱼"/>
              </a:rPr>
              <a:t>C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迷你简胖头鱼"/>
              </a:rPr>
              <a:t>=4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文本框 135192"/>
          <p:cNvSpPr/>
          <p:nvPr/>
        </p:nvSpPr>
        <p:spPr>
          <a:xfrm>
            <a:off x="1801080" y="5581800"/>
            <a:ext cx="90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迷你简胖头鱼"/>
              </a:rPr>
              <a:t>C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迷你简胖头鱼"/>
              </a:rPr>
              <a:t>=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π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迷你简胖头鱼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文本框 135193"/>
          <p:cNvSpPr/>
          <p:nvPr/>
        </p:nvSpPr>
        <p:spPr>
          <a:xfrm>
            <a:off x="2853720" y="5529240"/>
            <a:ext cx="143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迷你简胖头鱼"/>
              </a:rPr>
              <a:t>或  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迷你简胖头鱼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迷你简胖头鱼"/>
              </a:rPr>
              <a:t>C=2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π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迷你简胖头鱼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文本框 135194"/>
          <p:cNvSpPr/>
          <p:nvPr/>
        </p:nvSpPr>
        <p:spPr>
          <a:xfrm>
            <a:off x="4737960" y="155736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ff"/>
                </a:solidFill>
                <a:latin typeface="Arial"/>
                <a:ea typeface="迷你简胖头鱼"/>
              </a:rPr>
              <a:t>面积公式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文本框 135195"/>
          <p:cNvSpPr/>
          <p:nvPr/>
        </p:nvSpPr>
        <p:spPr>
          <a:xfrm>
            <a:off x="4841280" y="184464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迷你简胖头鱼"/>
              </a:rPr>
              <a:t>长方形的面积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文本框 135196"/>
          <p:cNvSpPr/>
          <p:nvPr/>
        </p:nvSpPr>
        <p:spPr>
          <a:xfrm>
            <a:off x="4841280" y="222876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迷你简胖头鱼"/>
              </a:rPr>
              <a:t>正方形的面积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文本框 135197"/>
          <p:cNvSpPr/>
          <p:nvPr/>
        </p:nvSpPr>
        <p:spPr>
          <a:xfrm>
            <a:off x="4944240" y="261144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迷你简胖头鱼"/>
              </a:rPr>
              <a:t>平行四边形的面积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文本框 135198"/>
          <p:cNvSpPr/>
          <p:nvPr/>
        </p:nvSpPr>
        <p:spPr>
          <a:xfrm>
            <a:off x="4841280" y="299556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迷你简胖头鱼"/>
              </a:rPr>
              <a:t>三角形的面积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文本框 135199"/>
          <p:cNvSpPr/>
          <p:nvPr/>
        </p:nvSpPr>
        <p:spPr>
          <a:xfrm>
            <a:off x="4789440" y="337824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迷你简胖头鱼"/>
              </a:rPr>
              <a:t>梯形的面积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文本框 135200"/>
          <p:cNvSpPr/>
          <p:nvPr/>
        </p:nvSpPr>
        <p:spPr>
          <a:xfrm>
            <a:off x="4789440" y="376092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迷你简胖头鱼"/>
              </a:rPr>
              <a:t>圆形的面积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文本框 135201"/>
          <p:cNvSpPr/>
          <p:nvPr/>
        </p:nvSpPr>
        <p:spPr>
          <a:xfrm>
            <a:off x="6660720" y="1865160"/>
            <a:ext cx="79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迷你简胖头鱼"/>
              </a:rPr>
              <a:t>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迷你简胖头鱼"/>
              </a:rPr>
              <a:t>=a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文本框 135202"/>
          <p:cNvSpPr/>
          <p:nvPr/>
        </p:nvSpPr>
        <p:spPr>
          <a:xfrm>
            <a:off x="6665040" y="2243160"/>
            <a:ext cx="72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迷你简胖头鱼"/>
              </a:rPr>
              <a:t>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迷你简胖头鱼"/>
              </a:rPr>
              <a:t>=a</a:t>
            </a:r>
            <a:r>
              <a:rPr b="1" lang="en-US" sz="2000" spc="-1" strike="noStrike" baseline="30000">
                <a:solidFill>
                  <a:srgbClr val="ff0000"/>
                </a:solidFill>
                <a:latin typeface="Arial"/>
                <a:ea typeface="迷你简胖头鱼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135203"/>
          <p:cNvSpPr/>
          <p:nvPr/>
        </p:nvSpPr>
        <p:spPr>
          <a:xfrm>
            <a:off x="6660720" y="2620800"/>
            <a:ext cx="79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迷你简胖头鱼"/>
              </a:rPr>
              <a:t>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迷你简胖头鱼"/>
              </a:rPr>
              <a:t>=a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135204"/>
          <p:cNvSpPr/>
          <p:nvPr/>
        </p:nvSpPr>
        <p:spPr>
          <a:xfrm>
            <a:off x="6717960" y="2998800"/>
            <a:ext cx="107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迷你简胖头鱼"/>
              </a:rPr>
              <a:t>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迷你简胖头鱼"/>
              </a:rPr>
              <a:t>=ah÷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本框 135205"/>
          <p:cNvSpPr/>
          <p:nvPr/>
        </p:nvSpPr>
        <p:spPr>
          <a:xfrm>
            <a:off x="6698880" y="3376440"/>
            <a:ext cx="193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迷你简胖头鱼"/>
              </a:rPr>
              <a:t>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迷你简胖头鱼"/>
              </a:rPr>
              <a:t>=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迷你简胖头鱼"/>
              </a:rPr>
              <a:t>（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迷你简胖头鱼"/>
              </a:rPr>
              <a:t>a+b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迷你简胖头鱼"/>
              </a:rPr>
              <a:t>）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迷你简胖头鱼"/>
              </a:rPr>
              <a:t>h÷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文本框 135206"/>
          <p:cNvSpPr/>
          <p:nvPr/>
        </p:nvSpPr>
        <p:spPr>
          <a:xfrm>
            <a:off x="6701760" y="3754440"/>
            <a:ext cx="91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迷你简胖头鱼"/>
              </a:rPr>
              <a:t>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迷你简胖头鱼"/>
              </a:rPr>
              <a:t>=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π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迷你简胖头鱼"/>
              </a:rPr>
              <a:t>r</a:t>
            </a:r>
            <a:r>
              <a:rPr b="1" lang="en-US" sz="2000" spc="-1" strike="noStrike" baseline="30000">
                <a:solidFill>
                  <a:srgbClr val="ff0000"/>
                </a:solidFill>
                <a:latin typeface="Arial"/>
                <a:ea typeface="迷你简胖头鱼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文本框 135207"/>
          <p:cNvSpPr/>
          <p:nvPr/>
        </p:nvSpPr>
        <p:spPr>
          <a:xfrm>
            <a:off x="4737960" y="414972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ff"/>
                </a:solidFill>
                <a:latin typeface="Arial"/>
                <a:ea typeface="迷你简胖头鱼"/>
              </a:rPr>
              <a:t>体积公式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文本框 135208"/>
          <p:cNvSpPr/>
          <p:nvPr/>
        </p:nvSpPr>
        <p:spPr>
          <a:xfrm>
            <a:off x="4841280" y="450864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迷你简胖头鱼"/>
              </a:rPr>
              <a:t>长方体的体积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文本框 135209"/>
          <p:cNvSpPr/>
          <p:nvPr/>
        </p:nvSpPr>
        <p:spPr>
          <a:xfrm>
            <a:off x="4841280" y="490536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迷你简胖头鱼"/>
              </a:rPr>
              <a:t>正方体的体积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文本框 135210"/>
          <p:cNvSpPr/>
          <p:nvPr/>
        </p:nvSpPr>
        <p:spPr>
          <a:xfrm>
            <a:off x="6228720" y="451944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迷你简胖头鱼"/>
              </a:rPr>
              <a:t>V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迷你简胖头鱼"/>
              </a:rPr>
              <a:t>=ab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文本框 135211"/>
          <p:cNvSpPr/>
          <p:nvPr/>
        </p:nvSpPr>
        <p:spPr>
          <a:xfrm>
            <a:off x="4789440" y="530064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迷你简胖头鱼"/>
              </a:rPr>
              <a:t>圆柱的体积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文本框 135212"/>
          <p:cNvSpPr/>
          <p:nvPr/>
        </p:nvSpPr>
        <p:spPr>
          <a:xfrm>
            <a:off x="4789440" y="569592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迷你简胖头鱼"/>
              </a:rPr>
              <a:t>圆锥的体积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文本框 135213"/>
          <p:cNvSpPr/>
          <p:nvPr/>
        </p:nvSpPr>
        <p:spPr>
          <a:xfrm>
            <a:off x="6233400" y="4946760"/>
            <a:ext cx="72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迷你简胖头鱼"/>
              </a:rPr>
              <a:t>V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迷你简胖头鱼"/>
              </a:rPr>
              <a:t>=a</a:t>
            </a:r>
            <a:r>
              <a:rPr b="1" lang="en-US" sz="2000" spc="-1" strike="noStrike" baseline="30000">
                <a:solidFill>
                  <a:srgbClr val="ff0000"/>
                </a:solidFill>
                <a:latin typeface="Arial"/>
                <a:ea typeface="迷你简胖头鱼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文本框 135214"/>
          <p:cNvSpPr/>
          <p:nvPr/>
        </p:nvSpPr>
        <p:spPr>
          <a:xfrm>
            <a:off x="6269760" y="5284800"/>
            <a:ext cx="106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迷你简胖头鱼"/>
              </a:rPr>
              <a:t>V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迷你简胖头鱼"/>
              </a:rPr>
              <a:t>=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π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迷你简胖头鱼"/>
              </a:rPr>
              <a:t>r</a:t>
            </a:r>
            <a:r>
              <a:rPr b="1" lang="en-US" sz="2000" spc="-1" strike="noStrike" baseline="30000">
                <a:solidFill>
                  <a:srgbClr val="ff0000"/>
                </a:solidFill>
                <a:latin typeface="Arial"/>
                <a:ea typeface="迷你简胖头鱼"/>
              </a:rPr>
              <a:t>2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迷你简胖头鱼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右大括号 135218"/>
          <p:cNvSpPr/>
          <p:nvPr/>
        </p:nvSpPr>
        <p:spPr>
          <a:xfrm>
            <a:off x="7394400" y="4727520"/>
            <a:ext cx="152640" cy="811440"/>
          </a:xfrm>
          <a:custGeom>
            <a:avLst/>
            <a:gdLst>
              <a:gd name="textAreaLeft" fmla="*/ 0 w 152640"/>
              <a:gd name="textAreaRight" fmla="*/ 55080 w 152640"/>
              <a:gd name="textAreaTop" fmla="*/ 20880 h 811440"/>
              <a:gd name="textAreaBottom" fmla="*/ 790560 h 81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98"/>
                  <a:pt x="10800" y="1795"/>
                </a:cubicBezTo>
                <a:lnTo>
                  <a:pt x="10800" y="9005"/>
                </a:lnTo>
                <a:cubicBezTo>
                  <a:pt x="10800" y="9903"/>
                  <a:pt x="16200" y="10800"/>
                  <a:pt x="21600" y="10800"/>
                </a:cubicBezTo>
                <a:cubicBezTo>
                  <a:pt x="16200" y="10800"/>
                  <a:pt x="10800" y="11698"/>
                  <a:pt x="10800" y="12595"/>
                </a:cubicBezTo>
                <a:lnTo>
                  <a:pt x="10800" y="19805"/>
                </a:lnTo>
                <a:cubicBezTo>
                  <a:pt x="10800" y="20703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文本框 135219"/>
          <p:cNvSpPr/>
          <p:nvPr/>
        </p:nvSpPr>
        <p:spPr>
          <a:xfrm>
            <a:off x="7542000" y="4913280"/>
            <a:ext cx="82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迷你简胖头鱼"/>
              </a:rPr>
              <a:t>V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迷你简胖头鱼"/>
              </a:rPr>
              <a:t>=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组合 1"/>
          <p:cNvGrpSpPr/>
          <p:nvPr/>
        </p:nvGrpSpPr>
        <p:grpSpPr>
          <a:xfrm>
            <a:off x="6269400" y="5546880"/>
            <a:ext cx="1279800" cy="807120"/>
            <a:chOff x="6269400" y="5546880"/>
            <a:chExt cx="1279800" cy="807120"/>
          </a:xfrm>
        </p:grpSpPr>
        <p:sp>
          <p:nvSpPr>
            <p:cNvPr id="99" name="文本框 135215"/>
            <p:cNvSpPr/>
            <p:nvPr/>
          </p:nvSpPr>
          <p:spPr>
            <a:xfrm>
              <a:off x="6269400" y="5691600"/>
              <a:ext cx="1279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0000"/>
                  </a:solidFill>
                  <a:latin typeface="Arial"/>
                  <a:ea typeface="迷你简胖头鱼"/>
                </a:rPr>
                <a:t>V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  <a:ea typeface="迷你简胖头鱼"/>
                </a:rPr>
                <a:t>=   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迷你简胖头鱼"/>
                </a:rPr>
                <a:t>π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  <a:ea typeface="迷你简胖头鱼"/>
                </a:rPr>
                <a:t>r</a:t>
              </a:r>
              <a:r>
                <a:rPr b="1" lang="en-US" sz="2000" spc="-1" strike="noStrike" baseline="30000">
                  <a:solidFill>
                    <a:srgbClr val="ff0000"/>
                  </a:solidFill>
                  <a:latin typeface="Arial"/>
                  <a:ea typeface="迷你简胖头鱼"/>
                </a:rPr>
                <a:t>2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  <a:ea typeface="迷你简胖头鱼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组合 87"/>
            <p:cNvGrpSpPr/>
            <p:nvPr/>
          </p:nvGrpSpPr>
          <p:grpSpPr>
            <a:xfrm>
              <a:off x="6604920" y="5546880"/>
              <a:ext cx="543600" cy="807120"/>
              <a:chOff x="6604920" y="5546880"/>
              <a:chExt cx="543600" cy="807120"/>
            </a:xfrm>
          </p:grpSpPr>
          <p:sp>
            <p:nvSpPr>
              <p:cNvPr id="101" name="文本框 88"/>
              <p:cNvSpPr/>
              <p:nvPr/>
            </p:nvSpPr>
            <p:spPr>
              <a:xfrm>
                <a:off x="6604920" y="5894280"/>
                <a:ext cx="54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宋体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文本框 89"/>
              <p:cNvSpPr/>
              <p:nvPr/>
            </p:nvSpPr>
            <p:spPr>
              <a:xfrm>
                <a:off x="6604920" y="5546880"/>
                <a:ext cx="54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宋体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直接连接符 93"/>
              <p:cNvSpPr/>
              <p:nvPr/>
            </p:nvSpPr>
            <p:spPr>
              <a:xfrm>
                <a:off x="6643440" y="5948640"/>
                <a:ext cx="257040" cy="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矩形 3"/>
          <p:cNvSpPr/>
          <p:nvPr/>
        </p:nvSpPr>
        <p:spPr>
          <a:xfrm>
            <a:off x="1301760" y="1193760"/>
            <a:ext cx="715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ff"/>
                </a:solidFill>
                <a:latin typeface="Times New Roman"/>
                <a:ea typeface="迷你简胖头鱼"/>
              </a:rPr>
              <a:t>解下面的方程，并说一说你是怎么解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5"/>
          <p:cNvSpPr/>
          <p:nvPr/>
        </p:nvSpPr>
        <p:spPr>
          <a:xfrm>
            <a:off x="368280" y="1649520"/>
            <a:ext cx="4572000" cy="48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解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9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－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1.8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＋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1.8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5.4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＋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1.8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                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9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7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          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9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x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÷9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7.2÷9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                   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0.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4"/>
          <p:cNvSpPr/>
          <p:nvPr/>
        </p:nvSpPr>
        <p:spPr>
          <a:xfrm>
            <a:off x="1387440" y="1809720"/>
            <a:ext cx="606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9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－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1.8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5.4               0.8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1.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6"/>
          <p:cNvSpPr/>
          <p:nvPr/>
        </p:nvSpPr>
        <p:spPr>
          <a:xfrm>
            <a:off x="4449600" y="2841480"/>
            <a:ext cx="457200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解：（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0.8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＋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1.2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）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                           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2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                     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2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x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÷2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25÷2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                              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12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矩形 3"/>
          <p:cNvSpPr/>
          <p:nvPr/>
        </p:nvSpPr>
        <p:spPr>
          <a:xfrm>
            <a:off x="623880" y="1577880"/>
            <a:ext cx="810720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Times New Roman"/>
                <a:ea typeface="迷你简胖头鱼"/>
              </a:rPr>
              <a:t>1.</a:t>
            </a:r>
            <a:r>
              <a:rPr b="0" lang="zh-CN" sz="2800" spc="-1" strike="noStrike">
                <a:solidFill>
                  <a:srgbClr val="ff00ff"/>
                </a:solidFill>
                <a:latin typeface="Times New Roman"/>
                <a:ea typeface="迷你简胖头鱼"/>
              </a:rPr>
              <a:t>等式与方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）等式的意义：表示相等关系的式子叫作等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）方程的意义：含有未知数的等式叫方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）等式与方程的关系：方程一定是等式，等式不一定是方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0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矩形 3"/>
          <p:cNvSpPr/>
          <p:nvPr/>
        </p:nvSpPr>
        <p:spPr>
          <a:xfrm>
            <a:off x="658800" y="1125360"/>
            <a:ext cx="7738920" cy="47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Times New Roman"/>
                <a:ea typeface="迷你简胖头鱼"/>
              </a:rPr>
              <a:t>2.</a:t>
            </a:r>
            <a:r>
              <a:rPr b="0" lang="zh-CN" sz="2800" spc="-1" strike="noStrike">
                <a:solidFill>
                  <a:srgbClr val="ff00ff"/>
                </a:solidFill>
                <a:latin typeface="Times New Roman"/>
                <a:ea typeface="迷你简胖头鱼"/>
              </a:rPr>
              <a:t>方程的解和解方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）方程的解的意义：使方程左右两边相等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未知数的值，叫作方程的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）解方程的意义：求方程的解的过程叫作解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方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）解方程的依据：等式的基本性质（等式的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左右两边同时加上或减去同一个数，等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的左右两边仍然相等；等式的左右两边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时乘或除以一个不为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的数，等式的左右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边仍然相等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94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97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4"/>
          <p:cNvSpPr/>
          <p:nvPr/>
        </p:nvSpPr>
        <p:spPr>
          <a:xfrm>
            <a:off x="1233360" y="1116000"/>
            <a:ext cx="454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列方程解应用题的步骤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1233360" y="1700280"/>
            <a:ext cx="667728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迷你简胖头鱼"/>
              </a:rPr>
              <a:t>一般分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迷你简胖头鱼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迷你简胖头鱼"/>
              </a:rPr>
              <a:t>步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迷你简胖头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迷你简胖头鱼"/>
              </a:rPr>
              <a:t>）根据题意，解设未知数为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迷你简胖头鱼"/>
              </a:rPr>
              <a:t>x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迷你简胖头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迷你简胖头鱼"/>
              </a:rPr>
              <a:t>）找出具体的数量，列出等量关系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迷你简胖头鱼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迷你简胖头鱼"/>
              </a:rPr>
              <a:t>）根据等量关系式，列出方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迷你简胖头鱼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迷你简胖头鱼"/>
              </a:rPr>
              <a:t>）解方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迷你简胖头鱼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迷你简胖头鱼"/>
              </a:rPr>
              <a:t>）检验并答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30T07:03:06Z</dcterms:created>
  <dc:creator>Administrator</dc:creator>
  <dc:description/>
  <dc:language>en-US</dc:language>
  <cp:lastModifiedBy>Windows 用户</cp:lastModifiedBy>
  <dcterms:modified xsi:type="dcterms:W3CDTF">2018-01-15T01:03:04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