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E35-23BE-4199-801A-F6E58247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8C9-F115-4464-9EA8-AB582082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FFD-AAE7-4D6C-A07F-C1A4815E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EBA-194A-477E-AB20-1B188616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9BF-7075-4CFA-A981-D05FE3AC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092-0418-4F24-9C83-D668B8C4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9F4-4A4C-4B07-998B-A524BB6E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0C6-27AC-422E-AEEF-AD58BE65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AAA-A9DB-42F3-91CA-FEF43670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BC7-EA0B-40EF-B215-F479F43E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1ED-E9DD-4DE7-B0F0-6BD28A08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D95-3848-4C0E-9049-A89E3CF6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220680" y="0"/>
            <a:ext cx="1614600" cy="17971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2DAB-0E0E-4D07-9AFC-D4CCFE3C0E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1979640" y="642960"/>
            <a:ext cx="75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下册 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9" descr="1.png"/>
          <p:cNvPicPr/>
          <p:nvPr/>
        </p:nvPicPr>
        <p:blipFill>
          <a:blip r:embed="rId1"/>
          <a:stretch/>
        </p:blipFill>
        <p:spPr>
          <a:xfrm>
            <a:off x="1515960" y="2133720"/>
            <a:ext cx="6265800" cy="163656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7240" y="4036320"/>
            <a:ext cx="1590120" cy="1057320"/>
            <a:chOff x="1047240" y="4036320"/>
            <a:chExt cx="1590120" cy="1057320"/>
          </a:xfrm>
        </p:grpSpPr>
        <p:sp>
          <p:nvSpPr>
            <p:cNvPr id="710" name="AutoShape 6"/>
            <p:cNvSpPr/>
            <p:nvPr/>
          </p:nvSpPr>
          <p:spPr>
            <a:xfrm rot="720000">
              <a:off x="1111320" y="4179600"/>
              <a:ext cx="14619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0120" y="4204800"/>
              <a:ext cx="14036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活动任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2903400" y="4099320"/>
            <a:ext cx="1453320" cy="819360"/>
            <a:chOff x="2903400" y="4099320"/>
            <a:chExt cx="1453320" cy="819360"/>
          </a:xfrm>
        </p:grpSpPr>
        <p:sp>
          <p:nvSpPr>
            <p:cNvPr id="713" name="AutoShape 9"/>
            <p:cNvSpPr/>
            <p:nvPr/>
          </p:nvSpPr>
          <p:spPr>
            <a:xfrm rot="120000">
              <a:off x="2916360" y="4123800"/>
              <a:ext cx="142704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2951280" y="4149000"/>
              <a:ext cx="134676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设计方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652280" y="4316400"/>
            <a:ext cx="1504800" cy="978120"/>
            <a:chOff x="4652280" y="4316400"/>
            <a:chExt cx="1504800" cy="97812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703400" y="4421160"/>
              <a:ext cx="1401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736880" y="4447080"/>
              <a:ext cx="132300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动手实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560" y="3649320"/>
            <a:ext cx="1672920" cy="1291320"/>
            <a:chOff x="6622560" y="3649320"/>
            <a:chExt cx="1672920" cy="129132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13640" y="3909960"/>
              <a:ext cx="149040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47480" y="3937680"/>
              <a:ext cx="140652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交流反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29" descr=""/>
          <p:cNvPicPr/>
          <p:nvPr/>
        </p:nvPicPr>
        <p:blipFill>
          <a:blip r:embed="rId1"/>
          <a:stretch/>
        </p:blipFill>
        <p:spPr>
          <a:xfrm>
            <a:off x="1190520" y="836640"/>
            <a:ext cx="3165480" cy="40402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30" descr=""/>
          <p:cNvPicPr/>
          <p:nvPr/>
        </p:nvPicPr>
        <p:blipFill>
          <a:blip r:embed="rId2"/>
          <a:stretch/>
        </p:blipFill>
        <p:spPr>
          <a:xfrm>
            <a:off x="5141880" y="700200"/>
            <a:ext cx="3113280" cy="4176720"/>
          </a:xfrm>
          <a:prstGeom prst="rect">
            <a:avLst/>
          </a:prstGeom>
          <a:ln w="0">
            <a:noFill/>
          </a:ln>
        </p:spPr>
      </p:pic>
      <p:sp>
        <p:nvSpPr>
          <p:cNvPr id="739" name="AutoShape 7"/>
          <p:cNvSpPr/>
          <p:nvPr/>
        </p:nvSpPr>
        <p:spPr>
          <a:xfrm>
            <a:off x="395280" y="474012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活动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1"/>
          <p:cNvSpPr/>
          <p:nvPr/>
        </p:nvSpPr>
        <p:spPr>
          <a:xfrm>
            <a:off x="1979640" y="4876920"/>
            <a:ext cx="29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绘制校园平面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0"/>
          <p:cNvSpPr/>
          <p:nvPr/>
        </p:nvSpPr>
        <p:spPr>
          <a:xfrm>
            <a:off x="368280" y="5640480"/>
            <a:ext cx="1403280" cy="70776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3"/>
          <p:cNvSpPr/>
          <p:nvPr/>
        </p:nvSpPr>
        <p:spPr>
          <a:xfrm>
            <a:off x="1866960" y="5589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上面两张平面图，说说这些平面图有什么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24"/>
          <p:cNvSpPr/>
          <p:nvPr/>
        </p:nvSpPr>
        <p:spPr>
          <a:xfrm>
            <a:off x="539640" y="1754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绘制校园平面图前，要先做哪些方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10"/>
          <p:cNvSpPr/>
          <p:nvPr/>
        </p:nvSpPr>
        <p:spPr>
          <a:xfrm>
            <a:off x="1127160" y="955800"/>
            <a:ext cx="1346040" cy="70632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26"/>
          <p:cNvSpPr/>
          <p:nvPr/>
        </p:nvSpPr>
        <p:spPr>
          <a:xfrm>
            <a:off x="539640" y="2708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校园平面图中需要绘制哪些主要建筑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收集哪些数据？如何收集这些数据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确定这幅图的比例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27"/>
          <p:cNvSpPr/>
          <p:nvPr/>
        </p:nvSpPr>
        <p:spPr>
          <a:xfrm>
            <a:off x="539640" y="4481640"/>
            <a:ext cx="82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绘制校园平面图的活动方案，包括主要步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分工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28"/>
          <p:cNvSpPr/>
          <p:nvPr/>
        </p:nvSpPr>
        <p:spPr>
          <a:xfrm>
            <a:off x="684360" y="1754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小组实际收集相关数据，并用适当的方式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10"/>
          <p:cNvSpPr/>
          <p:nvPr/>
        </p:nvSpPr>
        <p:spPr>
          <a:xfrm>
            <a:off x="1127160" y="955800"/>
            <a:ext cx="1346040" cy="70632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动手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图片 30" descr="21.png"/>
          <p:cNvPicPr/>
          <p:nvPr/>
        </p:nvPicPr>
        <p:blipFill>
          <a:blip r:embed="rId1"/>
          <a:stretch/>
        </p:blipFill>
        <p:spPr>
          <a:xfrm>
            <a:off x="915840" y="2708280"/>
            <a:ext cx="7056720" cy="2684520"/>
          </a:xfrm>
          <a:prstGeom prst="rect">
            <a:avLst/>
          </a:prstGeom>
          <a:ln w="0">
            <a:noFill/>
          </a:ln>
        </p:spPr>
      </p:pic>
      <p:sp>
        <p:nvSpPr>
          <p:cNvPr id="771" name="TextBox 31"/>
          <p:cNvSpPr/>
          <p:nvPr/>
        </p:nvSpPr>
        <p:spPr>
          <a:xfrm>
            <a:off x="539640" y="5516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设计方案及收集到的数据，把校园的平面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23"/>
          <p:cNvSpPr/>
          <p:nvPr/>
        </p:nvSpPr>
        <p:spPr>
          <a:xfrm>
            <a:off x="539640" y="175428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班交流一下，观察各小组绘制的平面图，每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是否准确、合理？哪几个小组的图有自己的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1127160" y="955800"/>
            <a:ext cx="1346040" cy="70632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25"/>
          <p:cNvSpPr/>
          <p:nvPr/>
        </p:nvSpPr>
        <p:spPr>
          <a:xfrm>
            <a:off x="539640" y="3068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你们最喜欢的别的小组的平面图画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21"/>
          <p:cNvSpPr/>
          <p:nvPr/>
        </p:nvSpPr>
        <p:spPr>
          <a:xfrm>
            <a:off x="539640" y="35528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上面的活动中，运用了哪些知识？采用了哪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据数据的方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22"/>
          <p:cNvSpPr/>
          <p:nvPr/>
        </p:nvSpPr>
        <p:spPr>
          <a:xfrm>
            <a:off x="539640" y="45068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所绘制的校园平面图，可以帮助人们解决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么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26"/>
          <p:cNvSpPr/>
          <p:nvPr/>
        </p:nvSpPr>
        <p:spPr>
          <a:xfrm>
            <a:off x="539640" y="54608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上面的活动中，你有什么收获？还有哪些想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一步研究的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23"/>
          <p:cNvSpPr/>
          <p:nvPr/>
        </p:nvSpPr>
        <p:spPr>
          <a:xfrm>
            <a:off x="623880" y="179856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次活动中，我的表现是（请把每项后面的☆涂上颜色，涂满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为做得最好的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10"/>
          <p:cNvSpPr/>
          <p:nvPr/>
        </p:nvSpPr>
        <p:spPr>
          <a:xfrm>
            <a:off x="1127160" y="955800"/>
            <a:ext cx="1346040" cy="70632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自我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22" descr="22.png"/>
          <p:cNvPicPr/>
          <p:nvPr/>
        </p:nvPicPr>
        <p:blipFill>
          <a:blip r:embed="rId1"/>
          <a:stretch/>
        </p:blipFill>
        <p:spPr>
          <a:xfrm>
            <a:off x="900000" y="2752560"/>
            <a:ext cx="748836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1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3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1-02T12:41:36Z</dcterms:modified>
  <cp:revision>2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e1a000000000001024140</vt:lpwstr>
  </property>
</Properties>
</file>