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517-2525-44B9-911F-8754C3B6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577-48BA-419F-B0A6-933E9F0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70E-C02A-4773-AE0A-5DB48151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D92-B097-4932-9823-47576EC9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808-0071-4B8B-8AC1-316CE32E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C258-6AA4-437B-ACF3-D115CA9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E949-AD8A-4A6B-9287-227ADA20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071B-B562-4C73-8C30-D09974E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A34-2D09-4086-B222-AD4E5DC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743-38DF-40E0-91F5-7AEAD5B6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BA09-AF42-4FE5-831F-84FB53D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12C-E17D-4DF8-96B2-BD0F8E2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D23-A344-4914-9252-F73F3B7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5CEC-4649-49D0-8F49-DD6D037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577D-1F74-4907-93D3-CBD07895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786B-824C-4006-BE83-9C5E4006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2754-09AD-4597-98E1-A9740CEC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50E52-B3AE-4339-BE7D-BEBB5FFF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1A2BE-A229-4C1D-9666-4B84185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78B0B-241E-48AC-B89B-1BD871B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799F1-30ED-4102-BB27-9920ADC6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A9657-CFC4-4501-902C-A3F06EE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E10-9AB6-4DBD-808D-23211C9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49F37-1BA8-46A7-9F3C-CE9BB244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DA870-A137-46D3-891D-CA1C9E8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77C88-71CC-4774-B6E2-C9C42A4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ACC6D-8B0C-494B-B4D7-7808F6D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DDEF1-CCCB-47E6-9C21-5405D0E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ABFF2-E10B-43BD-904F-0675E2B7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9D3BB-82A2-4421-A3D0-261B343A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00FF-E58E-44B2-96CA-0D0E32A4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DF4E-298E-4A9A-A652-99FD6D5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CBA5-9E50-4FF6-9E8F-2DF3F29B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1AA-A46A-4059-850F-C6CF55FD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5C18-EFF6-489F-95AC-BDBEF0C3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D542-23E6-40CF-B9C7-FB95441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BB1F-8B9C-4092-94E9-18805BF4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41F1-04BE-4669-87B1-9D6DC63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70E1-8AC2-4063-837A-E9FB462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B632-99F0-4296-A7F6-29E1AEA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B507-9BE4-4CC8-BA88-94AC216F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01BD-C6B4-4B00-B225-8EC88699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8576-1081-4968-BD38-7CB8C9E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F027F-CB68-4359-BE43-3E484922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652-1E0E-429F-9004-2F42FE02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82EAF-2CBD-42ED-85CC-B8EE26D9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B5401-0F4F-4F44-B042-6EF34EF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834FE-FEE3-4FD9-8B38-AA84071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B2DDA-706F-4B11-B362-D235B76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A5A6F-F659-4FCB-AFEF-64F0F79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E3198-604A-4890-BE13-0520CC2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4B645-B6B6-4BBA-8A92-89A04B5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89AF5-9752-47D4-9F29-E56D55E3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DA2CD-0CF1-4EA4-83FB-D1AD11E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2D8F8-8D70-4ECE-9887-899D8A86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A4B-52AB-4639-A808-84930EA2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233B-3A7B-4861-B5C5-DE7018D2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595B6-0585-4041-BC04-90181F48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5D161-5C20-4F25-B9E5-FA0F8B4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F34D1-829F-4D3C-BC07-41382CB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16F63-EC22-46B4-89D3-5FE32373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46FE7-F171-4FE5-9F2A-CE24398E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E1F55-E835-477E-8F6E-1CCAAE86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12301-9365-4787-AF15-51815D4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004EE-7CB5-427E-A167-6BB3195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62E46-20C8-4698-AA18-6F323D3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AD3-31D2-46F1-B031-DAEC81D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AE492-B9AD-49C1-A857-424E1C98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E7431-5610-477D-8985-F6197EC0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3B06D-2996-41DC-B0ED-DDC4691B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029EB-8A26-45ED-9434-9908F6D6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955CB-51FD-415B-A983-00C19A65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4E7FB-4F7F-45EE-A8F6-0F0C714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71F93-372C-4CC3-AFCD-8695771D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64D12-38D2-4283-AA7D-5225852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8EE61-28FD-4296-AE02-64D6EC4E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56F1D-038F-445B-AFE3-82C2F0D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ADB-4F46-4141-8652-A186D55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7FC77-D44B-446A-A03B-5A3C444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4B66D-6AA9-4158-9D3F-99F78D6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14F00-CDEE-4D6C-98F1-ECD74CA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D3104-1A8B-449A-8C37-C302E5D0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24651-8E14-43B8-A6E7-E434286D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146-A401-4EE3-A8F3-250E57C0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636-597B-4CB1-A4B6-092276F24B72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3C8-BB91-4EF8-9F1E-AB9AE712FBF6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CCB-BE3D-4455-BCEE-75BB53B98D7D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85E-5CDF-4A59-9E7E-48C1C7FA1231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D81-623B-4FF5-8EFA-62DDB00BAF6D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6E6-7E2E-4795-9443-67236C4167FA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266-C372-4490-AF23-65DD544FBE6B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79280" y="2060280"/>
            <a:ext cx="559908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900" spc="-1" strike="noStrike">
                <a:solidFill>
                  <a:srgbClr val="575f6d"/>
                </a:solidFill>
                <a:latin typeface="Century Schoolbook"/>
              </a:rPr>
              <a:t>绘制校园平面图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200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985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260360" y="1484280"/>
            <a:ext cx="67993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6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577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2:57:26Z</dcterms:created>
  <dc:creator/>
  <dc:description/>
  <dc:language>en-US</dc:language>
  <cp:lastModifiedBy>Administrator</cp:lastModifiedBy>
  <dcterms:modified xsi:type="dcterms:W3CDTF">2015-11-18T09:42:21Z</dcterms:modified>
  <cp:revision>2</cp:revision>
  <dc:subject/>
  <dc:title>绘制校园平面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