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chimes.wav" ContentType="audio/x-wav"/>
  <Override PartName="/ppt/media/image16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3.png" ContentType="image/png"/>
  <Override PartName="/ppt/media/image1.png" ContentType="image/png"/>
  <Override PartName="/ppt/media/image2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065B-F222-4261-80C5-6850276C8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FC8A-F112-4370-A11A-7E38E2DC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54F3-3425-4B8E-A8DE-D3658A66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FA1B-E9A4-4367-9723-4D455636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877C-4564-4657-A590-82C74351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E279-F1DE-4393-B111-30984680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152B-54C9-4941-959D-99928794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61A5-B52C-4A76-A6A4-264A2149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D500-6C9C-4B0C-A808-BD5C6BEC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61B6-E189-476B-B569-735217FB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A25E-C941-4797-998D-DD3FB5FF1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1D7C-2EDD-4DAA-AE4C-511A69D2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220680" y="0"/>
            <a:ext cx="1614600" cy="179712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C687-8626-40AE-A2E3-AEB98AB2BE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3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1979640" y="642960"/>
            <a:ext cx="75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六年级下册 第三单元 图形的运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68" descr="1.png"/>
          <p:cNvPicPr/>
          <p:nvPr/>
        </p:nvPicPr>
        <p:blipFill>
          <a:blip r:embed="rId1"/>
          <a:stretch/>
        </p:blipFill>
        <p:spPr>
          <a:xfrm>
            <a:off x="2224080" y="2394000"/>
            <a:ext cx="4430880" cy="140004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3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3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Picture 2" descr="10"/>
          <p:cNvPicPr/>
          <p:nvPr/>
        </p:nvPicPr>
        <p:blipFill>
          <a:blip r:embed="rId1"/>
          <a:stretch/>
        </p:blipFill>
        <p:spPr>
          <a:xfrm>
            <a:off x="1033560" y="62064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1007" name="TextBox 4"/>
          <p:cNvSpPr/>
          <p:nvPr/>
        </p:nvSpPr>
        <p:spPr>
          <a:xfrm>
            <a:off x="617400" y="1403280"/>
            <a:ext cx="8231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通过卡片的平移和旋转将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原”为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吗？请尝试用一定的方式将“还原”的过程记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来，并与同伴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8" name="组合 15"/>
          <p:cNvGrpSpPr/>
          <p:nvPr/>
        </p:nvGrpSpPr>
        <p:grpSpPr>
          <a:xfrm>
            <a:off x="4732200" y="2997360"/>
            <a:ext cx="1675080" cy="1260360"/>
            <a:chOff x="4732200" y="2997360"/>
            <a:chExt cx="1675080" cy="1260360"/>
          </a:xfrm>
        </p:grpSpPr>
        <p:sp>
          <p:nvSpPr>
            <p:cNvPr id="1009" name="矩形 13"/>
            <p:cNvSpPr/>
            <p:nvPr/>
          </p:nvSpPr>
          <p:spPr>
            <a:xfrm>
              <a:off x="4732200" y="3069720"/>
              <a:ext cx="1621080" cy="1080360"/>
            </a:xfrm>
            <a:prstGeom prst="rect">
              <a:avLst/>
            </a:prstGeom>
            <a:solidFill>
              <a:srgbClr val="e5a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0" name="图片 14" descr="6.png"/>
            <p:cNvPicPr/>
            <p:nvPr/>
          </p:nvPicPr>
          <p:blipFill>
            <a:blip r:embed="rId2"/>
            <a:stretch/>
          </p:blipFill>
          <p:spPr>
            <a:xfrm>
              <a:off x="4821480" y="2997360"/>
              <a:ext cx="1585800" cy="126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1" name="组合 16"/>
          <p:cNvGrpSpPr/>
          <p:nvPr/>
        </p:nvGrpSpPr>
        <p:grpSpPr>
          <a:xfrm>
            <a:off x="1020600" y="3538440"/>
            <a:ext cx="1687680" cy="1258920"/>
            <a:chOff x="1020600" y="3538440"/>
            <a:chExt cx="1687680" cy="1258920"/>
          </a:xfrm>
        </p:grpSpPr>
        <p:sp>
          <p:nvSpPr>
            <p:cNvPr id="1012" name="矩形 17"/>
            <p:cNvSpPr/>
            <p:nvPr/>
          </p:nvSpPr>
          <p:spPr>
            <a:xfrm>
              <a:off x="1020600" y="3610440"/>
              <a:ext cx="1620000" cy="1078920"/>
            </a:xfrm>
            <a:prstGeom prst="rect">
              <a:avLst/>
            </a:prstGeom>
            <a:solidFill>
              <a:srgbClr val="e5a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3" name="图片 18" descr="6.png"/>
            <p:cNvPicPr/>
            <p:nvPr/>
          </p:nvPicPr>
          <p:blipFill>
            <a:blip r:embed="rId3"/>
            <a:stretch/>
          </p:blipFill>
          <p:spPr>
            <a:xfrm>
              <a:off x="1123560" y="3538440"/>
              <a:ext cx="1584720" cy="125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4" name="组合 21"/>
          <p:cNvGrpSpPr/>
          <p:nvPr/>
        </p:nvGrpSpPr>
        <p:grpSpPr>
          <a:xfrm>
            <a:off x="6353280" y="3570120"/>
            <a:ext cx="1636560" cy="1258920"/>
            <a:chOff x="6353280" y="3570120"/>
            <a:chExt cx="1636560" cy="1258920"/>
          </a:xfrm>
        </p:grpSpPr>
        <p:sp>
          <p:nvSpPr>
            <p:cNvPr id="1015" name="矩形 19"/>
            <p:cNvSpPr/>
            <p:nvPr/>
          </p:nvSpPr>
          <p:spPr>
            <a:xfrm>
              <a:off x="6353280" y="3609000"/>
              <a:ext cx="1618560" cy="1079640"/>
            </a:xfrm>
            <a:prstGeom prst="rect">
              <a:avLst/>
            </a:prstGeom>
            <a:solidFill>
              <a:srgbClr val="e5a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6" name="图片 20" descr="7.png"/>
            <p:cNvPicPr/>
            <p:nvPr/>
          </p:nvPicPr>
          <p:blipFill>
            <a:blip r:embed="rId4"/>
            <a:stretch/>
          </p:blipFill>
          <p:spPr>
            <a:xfrm>
              <a:off x="6407280" y="3570120"/>
              <a:ext cx="1582560" cy="125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7" name="组合 22"/>
          <p:cNvGrpSpPr/>
          <p:nvPr/>
        </p:nvGrpSpPr>
        <p:grpSpPr>
          <a:xfrm>
            <a:off x="2593800" y="3586320"/>
            <a:ext cx="1657440" cy="1260360"/>
            <a:chOff x="2593800" y="3586320"/>
            <a:chExt cx="1657440" cy="1260360"/>
          </a:xfrm>
        </p:grpSpPr>
        <p:sp>
          <p:nvSpPr>
            <p:cNvPr id="1018" name="矩形 23"/>
            <p:cNvSpPr/>
            <p:nvPr/>
          </p:nvSpPr>
          <p:spPr>
            <a:xfrm>
              <a:off x="2631600" y="3608640"/>
              <a:ext cx="1619640" cy="1080720"/>
            </a:xfrm>
            <a:prstGeom prst="rect">
              <a:avLst/>
            </a:prstGeom>
            <a:solidFill>
              <a:srgbClr val="e5a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9" name="图片 24" descr="7.png"/>
            <p:cNvPicPr/>
            <p:nvPr/>
          </p:nvPicPr>
          <p:blipFill>
            <a:blip r:embed="rId5"/>
            <a:stretch/>
          </p:blipFill>
          <p:spPr>
            <a:xfrm>
              <a:off x="2593800" y="3586320"/>
              <a:ext cx="1583640" cy="126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0" name="组合 30"/>
          <p:cNvGrpSpPr/>
          <p:nvPr/>
        </p:nvGrpSpPr>
        <p:grpSpPr>
          <a:xfrm>
            <a:off x="2619000" y="4656240"/>
            <a:ext cx="1652760" cy="1154160"/>
            <a:chOff x="2619000" y="4656240"/>
            <a:chExt cx="1652760" cy="1154160"/>
          </a:xfrm>
        </p:grpSpPr>
        <p:sp>
          <p:nvSpPr>
            <p:cNvPr id="1021" name="矩形 28"/>
            <p:cNvSpPr/>
            <p:nvPr/>
          </p:nvSpPr>
          <p:spPr>
            <a:xfrm rot="10800000">
              <a:off x="2619000" y="4692600"/>
              <a:ext cx="1621080" cy="1080720"/>
            </a:xfrm>
            <a:prstGeom prst="rect">
              <a:avLst/>
            </a:prstGeom>
            <a:solidFill>
              <a:srgbClr val="e5a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2" name="图片 29" descr="9.png"/>
            <p:cNvPicPr/>
            <p:nvPr/>
          </p:nvPicPr>
          <p:blipFill>
            <a:blip r:embed="rId6"/>
            <a:stretch/>
          </p:blipFill>
          <p:spPr>
            <a:xfrm rot="5400000">
              <a:off x="2883960" y="4422600"/>
              <a:ext cx="1154160" cy="16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3" name="组合 36"/>
          <p:cNvGrpSpPr/>
          <p:nvPr/>
        </p:nvGrpSpPr>
        <p:grpSpPr>
          <a:xfrm>
            <a:off x="6294600" y="5099040"/>
            <a:ext cx="1979280" cy="1378080"/>
            <a:chOff x="6294600" y="5099040"/>
            <a:chExt cx="1979280" cy="1378080"/>
          </a:xfrm>
        </p:grpSpPr>
        <p:sp>
          <p:nvSpPr>
            <p:cNvPr id="1024" name="矩形 31"/>
            <p:cNvSpPr/>
            <p:nvPr/>
          </p:nvSpPr>
          <p:spPr>
            <a:xfrm>
              <a:off x="6351480" y="5221080"/>
              <a:ext cx="1619640" cy="1080720"/>
            </a:xfrm>
            <a:prstGeom prst="rect">
              <a:avLst/>
            </a:prstGeom>
            <a:solidFill>
              <a:srgbClr val="e5a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5" name="图片 32" descr="8.png"/>
            <p:cNvPicPr/>
            <p:nvPr/>
          </p:nvPicPr>
          <p:blipFill>
            <a:blip r:embed="rId7"/>
            <a:stretch/>
          </p:blipFill>
          <p:spPr>
            <a:xfrm>
              <a:off x="6294600" y="5099040"/>
              <a:ext cx="1979280" cy="137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6" name="矩形 38"/>
          <p:cNvSpPr/>
          <p:nvPr/>
        </p:nvSpPr>
        <p:spPr>
          <a:xfrm>
            <a:off x="1028880" y="4689360"/>
            <a:ext cx="1620720" cy="1079640"/>
          </a:xfrm>
          <a:prstGeom prst="rect">
            <a:avLst/>
          </a:prstGeom>
          <a:solidFill>
            <a:srgbClr val="e5a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图片 39" descr="8.png"/>
          <p:cNvPicPr/>
          <p:nvPr/>
        </p:nvPicPr>
        <p:blipFill>
          <a:blip r:embed="rId8"/>
          <a:stretch/>
        </p:blipFill>
        <p:spPr>
          <a:xfrm>
            <a:off x="971640" y="4581360"/>
            <a:ext cx="1979640" cy="137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8" name=""/>
          <p:cNvGraphicFramePr/>
          <p:nvPr/>
        </p:nvGraphicFramePr>
        <p:xfrm>
          <a:off x="1008000" y="3068640"/>
          <a:ext cx="3240000" cy="3240000"/>
        </p:xfrm>
        <a:graphic>
          <a:graphicData uri="http://schemas.openxmlformats.org/drawingml/2006/table">
            <a:tbl>
              <a:tblPr/>
              <a:tblGrid>
                <a:gridCol w="539640"/>
                <a:gridCol w="540000"/>
                <a:gridCol w="539640"/>
                <a:gridCol w="539640"/>
                <a:gridCol w="541440"/>
                <a:gridCol w="539640"/>
              </a:tblGrid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29" name="组合 44"/>
          <p:cNvGrpSpPr/>
          <p:nvPr/>
        </p:nvGrpSpPr>
        <p:grpSpPr>
          <a:xfrm>
            <a:off x="4705200" y="4121280"/>
            <a:ext cx="1152720" cy="1650960"/>
            <a:chOff x="4705200" y="4121280"/>
            <a:chExt cx="1152720" cy="1650960"/>
          </a:xfrm>
        </p:grpSpPr>
        <p:sp>
          <p:nvSpPr>
            <p:cNvPr id="1030" name="矩形 45"/>
            <p:cNvSpPr/>
            <p:nvPr/>
          </p:nvSpPr>
          <p:spPr>
            <a:xfrm rot="5400000">
              <a:off x="4471560" y="4422960"/>
              <a:ext cx="1619280" cy="1079280"/>
            </a:xfrm>
            <a:prstGeom prst="rect">
              <a:avLst/>
            </a:prstGeom>
            <a:solidFill>
              <a:srgbClr val="e5a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1" name="图片 46" descr="9.png"/>
            <p:cNvPicPr/>
            <p:nvPr/>
          </p:nvPicPr>
          <p:blipFill>
            <a:blip r:embed="rId9"/>
            <a:stretch/>
          </p:blipFill>
          <p:spPr>
            <a:xfrm>
              <a:off x="4705200" y="4121280"/>
              <a:ext cx="1152720" cy="16192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032" name=""/>
          <p:cNvGraphicFramePr/>
          <p:nvPr/>
        </p:nvGraphicFramePr>
        <p:xfrm>
          <a:off x="4732200" y="3068640"/>
          <a:ext cx="3240360" cy="3240000"/>
        </p:xfrm>
        <a:graphic>
          <a:graphicData uri="http://schemas.openxmlformats.org/drawingml/2006/table">
            <a:tbl>
              <a:tblPr/>
              <a:tblGrid>
                <a:gridCol w="540000"/>
                <a:gridCol w="539640"/>
                <a:gridCol w="541440"/>
                <a:gridCol w="539640"/>
                <a:gridCol w="539640"/>
                <a:gridCol w="540000"/>
              </a:tblGrid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3" name="TextBox 47"/>
          <p:cNvSpPr/>
          <p:nvPr/>
        </p:nvSpPr>
        <p:spPr>
          <a:xfrm>
            <a:off x="2124000" y="6384960"/>
            <a:ext cx="10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Box 48"/>
          <p:cNvSpPr/>
          <p:nvPr/>
        </p:nvSpPr>
        <p:spPr>
          <a:xfrm>
            <a:off x="5969160" y="6381720"/>
            <a:ext cx="105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Picture 2" descr="10"/>
          <p:cNvPicPr/>
          <p:nvPr/>
        </p:nvPicPr>
        <p:blipFill>
          <a:blip r:embed="rId1"/>
          <a:stretch/>
        </p:blipFill>
        <p:spPr>
          <a:xfrm>
            <a:off x="1033560" y="62064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1036" name="TextBox 4"/>
          <p:cNvSpPr/>
          <p:nvPr/>
        </p:nvSpPr>
        <p:spPr>
          <a:xfrm>
            <a:off x="617400" y="1403280"/>
            <a:ext cx="823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四个图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何运动得到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7" name=""/>
          <p:cNvGraphicFramePr/>
          <p:nvPr/>
        </p:nvGraphicFramePr>
        <p:xfrm>
          <a:off x="792000" y="2708280"/>
          <a:ext cx="3238560" cy="3240000"/>
        </p:xfrm>
        <a:graphic>
          <a:graphicData uri="http://schemas.openxmlformats.org/drawingml/2006/table">
            <a:tbl>
              <a:tblPr/>
              <a:tblGrid>
                <a:gridCol w="540000"/>
                <a:gridCol w="539640"/>
                <a:gridCol w="539640"/>
                <a:gridCol w="540000"/>
                <a:gridCol w="539640"/>
                <a:gridCol w="539640"/>
              </a:tblGrid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8" name=""/>
          <p:cNvGraphicFramePr/>
          <p:nvPr/>
        </p:nvGraphicFramePr>
        <p:xfrm>
          <a:off x="5076720" y="2708280"/>
          <a:ext cx="3240360" cy="3240000"/>
        </p:xfrm>
        <a:graphic>
          <a:graphicData uri="http://schemas.openxmlformats.org/drawingml/2006/table">
            <a:tbl>
              <a:tblPr/>
              <a:tblGrid>
                <a:gridCol w="540000"/>
                <a:gridCol w="539640"/>
                <a:gridCol w="539640"/>
                <a:gridCol w="540000"/>
                <a:gridCol w="541080"/>
                <a:gridCol w="540000"/>
              </a:tblGrid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9" name="弧形 30"/>
          <p:cNvSpPr/>
          <p:nvPr/>
        </p:nvSpPr>
        <p:spPr>
          <a:xfrm>
            <a:off x="-816120" y="4329000"/>
            <a:ext cx="3240360" cy="3240360"/>
          </a:xfrm>
          <a:custGeom>
            <a:avLst/>
            <a:gdLst>
              <a:gd name="textAreaLeft" fmla="*/ 1620360 w 3240360"/>
              <a:gd name="textAreaRight" fmla="*/ 3240720 w 3240360"/>
              <a:gd name="textAreaTop" fmla="*/ 0 h 3240360"/>
              <a:gd name="textAreaBottom" fmla="*/ 1620360 h 3240360"/>
            </a:gdLst>
            <a:ahLst/>
            <a:rect l="textAreaLeft" t="textAreaTop" r="textAreaRight" b="textAreaBottom"/>
            <a:pathLst>
              <a:path stroke="0" w="3240000" h="3240000">
                <a:moveTo>
                  <a:pt x="1620002" y="0"/>
                </a:moveTo>
                <a:lnTo>
                  <a:pt x="1620002" y="0"/>
                </a:lnTo>
                <a:arcTo wR="1620000" hR="1620000" stAng="-5399996" swAng="5400004"/>
                <a:lnTo>
                  <a:pt x="1620000" y="1620000"/>
                </a:lnTo>
                <a:close/>
              </a:path>
              <a:path fill="none" w="3240000" h="3240000">
                <a:moveTo>
                  <a:pt x="1620002" y="0"/>
                </a:moveTo>
                <a:lnTo>
                  <a:pt x="1620002" y="0"/>
                </a:lnTo>
                <a:arcTo wR="1620000" hR="1620000" stAng="-5399996" swAng="5400004"/>
              </a:path>
            </a:pathLst>
          </a:custGeom>
          <a:noFill/>
          <a:ln w="381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弧形 33"/>
          <p:cNvSpPr/>
          <p:nvPr/>
        </p:nvSpPr>
        <p:spPr>
          <a:xfrm rot="5400000">
            <a:off x="-828720" y="1088640"/>
            <a:ext cx="3240000" cy="3240000"/>
          </a:xfrm>
          <a:custGeom>
            <a:avLst/>
            <a:gdLst>
              <a:gd name="textAreaLeft" fmla="*/ 1620000 w 3240000"/>
              <a:gd name="textAreaRight" fmla="*/ 3240360 w 3240000"/>
              <a:gd name="textAreaTop" fmla="*/ 0 h 3240000"/>
              <a:gd name="textAreaBottom" fmla="*/ 1620000 h 3240000"/>
            </a:gdLst>
            <a:ahLst/>
            <a:rect l="textAreaLeft" t="textAreaTop" r="textAreaRight" b="textAreaBottom"/>
            <a:pathLst>
              <a:path stroke="0" w="3240000" h="3240000">
                <a:moveTo>
                  <a:pt x="1620002" y="0"/>
                </a:moveTo>
                <a:lnTo>
                  <a:pt x="1620002" y="0"/>
                </a:lnTo>
                <a:arcTo wR="1620000" hR="1620000" stAng="-5399996" swAng="5400004"/>
                <a:lnTo>
                  <a:pt x="1620000" y="1620000"/>
                </a:lnTo>
                <a:close/>
              </a:path>
              <a:path fill="none" w="3240000" h="3240000">
                <a:moveTo>
                  <a:pt x="1620002" y="0"/>
                </a:moveTo>
                <a:lnTo>
                  <a:pt x="1620002" y="0"/>
                </a:lnTo>
                <a:arcTo wR="1620000" hR="1620000" stAng="-5399996" swAng="5400004"/>
              </a:path>
            </a:pathLst>
          </a:custGeom>
          <a:noFill/>
          <a:ln w="381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弧形 34"/>
          <p:cNvSpPr/>
          <p:nvPr/>
        </p:nvSpPr>
        <p:spPr>
          <a:xfrm rot="16200000">
            <a:off x="2409480" y="4328640"/>
            <a:ext cx="3240360" cy="3240000"/>
          </a:xfrm>
          <a:custGeom>
            <a:avLst/>
            <a:gdLst>
              <a:gd name="textAreaLeft" fmla="*/ 1620360 w 3240360"/>
              <a:gd name="textAreaRight" fmla="*/ 3240720 w 3240360"/>
              <a:gd name="textAreaTop" fmla="*/ 0 h 3240000"/>
              <a:gd name="textAreaBottom" fmla="*/ 1620000 h 3240000"/>
            </a:gdLst>
            <a:ahLst/>
            <a:rect l="textAreaLeft" t="textAreaTop" r="textAreaRight" b="textAreaBottom"/>
            <a:pathLst>
              <a:path stroke="0" w="3240000" h="3240000">
                <a:moveTo>
                  <a:pt x="1620002" y="0"/>
                </a:moveTo>
                <a:lnTo>
                  <a:pt x="1620002" y="0"/>
                </a:lnTo>
                <a:arcTo wR="1620000" hR="1620000" stAng="-5399996" swAng="5400004"/>
                <a:lnTo>
                  <a:pt x="1620000" y="1620000"/>
                </a:lnTo>
                <a:close/>
              </a:path>
              <a:path fill="none" w="3240000" h="3240000">
                <a:moveTo>
                  <a:pt x="1620002" y="0"/>
                </a:moveTo>
                <a:lnTo>
                  <a:pt x="1620002" y="0"/>
                </a:lnTo>
                <a:arcTo wR="1620000" hR="1620000" stAng="-5399996" swAng="5400004"/>
              </a:path>
            </a:pathLst>
          </a:custGeom>
          <a:noFill/>
          <a:ln w="381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弧形 35"/>
          <p:cNvSpPr/>
          <p:nvPr/>
        </p:nvSpPr>
        <p:spPr>
          <a:xfrm flipV="1" rot="5400000">
            <a:off x="2409840" y="1089000"/>
            <a:ext cx="3240000" cy="3240000"/>
          </a:xfrm>
          <a:custGeom>
            <a:avLst/>
            <a:gdLst>
              <a:gd name="textAreaLeft" fmla="*/ 1620000 w 3240000"/>
              <a:gd name="textAreaRight" fmla="*/ 3240360 w 3240000"/>
              <a:gd name="textAreaTop" fmla="*/ 0 h 3240000"/>
              <a:gd name="textAreaBottom" fmla="*/ 1620000 h 3240000"/>
            </a:gdLst>
            <a:ahLst/>
            <a:rect l="textAreaLeft" t="textAreaTop" r="textAreaRight" b="textAreaBottom"/>
            <a:pathLst>
              <a:path stroke="0" w="3240000" h="3240000">
                <a:moveTo>
                  <a:pt x="1620002" y="0"/>
                </a:moveTo>
                <a:lnTo>
                  <a:pt x="1620002" y="0"/>
                </a:lnTo>
                <a:arcTo wR="1620000" hR="1620000" stAng="-5399996" swAng="5400004"/>
                <a:lnTo>
                  <a:pt x="1620000" y="1620000"/>
                </a:lnTo>
                <a:close/>
              </a:path>
              <a:path fill="none" w="3240000" h="3240000">
                <a:moveTo>
                  <a:pt x="1620002" y="0"/>
                </a:moveTo>
                <a:lnTo>
                  <a:pt x="1620002" y="0"/>
                </a:lnTo>
                <a:arcTo wR="1620000" hR="1620000" stAng="-5399996" swAng="5400004"/>
              </a:path>
            </a:pathLst>
          </a:custGeom>
          <a:noFill/>
          <a:ln w="381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Box 36"/>
          <p:cNvSpPr/>
          <p:nvPr/>
        </p:nvSpPr>
        <p:spPr>
          <a:xfrm>
            <a:off x="1300320" y="3284640"/>
            <a:ext cx="61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Box 37"/>
          <p:cNvSpPr/>
          <p:nvPr/>
        </p:nvSpPr>
        <p:spPr>
          <a:xfrm>
            <a:off x="2916360" y="3271680"/>
            <a:ext cx="61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Box 40"/>
          <p:cNvSpPr/>
          <p:nvPr/>
        </p:nvSpPr>
        <p:spPr>
          <a:xfrm>
            <a:off x="1300320" y="4873680"/>
            <a:ext cx="61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Box 41"/>
          <p:cNvSpPr/>
          <p:nvPr/>
        </p:nvSpPr>
        <p:spPr>
          <a:xfrm>
            <a:off x="2916360" y="4873680"/>
            <a:ext cx="61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Box 42"/>
          <p:cNvSpPr/>
          <p:nvPr/>
        </p:nvSpPr>
        <p:spPr>
          <a:xfrm>
            <a:off x="1906560" y="5943600"/>
            <a:ext cx="10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Box 43"/>
          <p:cNvSpPr/>
          <p:nvPr/>
        </p:nvSpPr>
        <p:spPr>
          <a:xfrm>
            <a:off x="6178680" y="5938920"/>
            <a:ext cx="105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9" name="直接箭头连接符 47"/>
          <p:cNvCxnSpPr/>
          <p:nvPr/>
        </p:nvCxnSpPr>
        <p:spPr>
          <a:xfrm>
            <a:off x="4324320" y="4328640"/>
            <a:ext cx="612000" cy="1080"/>
          </a:xfrm>
          <a:prstGeom prst="straightConnector1">
            <a:avLst/>
          </a:prstGeom>
          <a:ln w="76320">
            <a:solidFill>
              <a:srgbClr val="ff3399"/>
            </a:solidFill>
            <a:miter/>
            <a:tailEnd len="med" type="triangle" w="med"/>
          </a:ln>
        </p:spPr>
      </p:cxnSp>
      <p:sp>
        <p:nvSpPr>
          <p:cNvPr id="1050" name="TextBox 48"/>
          <p:cNvSpPr/>
          <p:nvPr/>
        </p:nvSpPr>
        <p:spPr>
          <a:xfrm>
            <a:off x="4253040" y="3559320"/>
            <a:ext cx="61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椭圆 49"/>
          <p:cNvSpPr/>
          <p:nvPr/>
        </p:nvSpPr>
        <p:spPr>
          <a:xfrm>
            <a:off x="5076720" y="2708280"/>
            <a:ext cx="3238560" cy="324000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2" descr="10"/>
          <p:cNvPicPr/>
          <p:nvPr/>
        </p:nvPicPr>
        <p:blipFill>
          <a:blip r:embed="rId1"/>
          <a:stretch/>
        </p:blipFill>
        <p:spPr>
          <a:xfrm>
            <a:off x="1033560" y="62064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1053" name="TextBox 4"/>
          <p:cNvSpPr/>
          <p:nvPr/>
        </p:nvSpPr>
        <p:spPr>
          <a:xfrm>
            <a:off x="617400" y="1403280"/>
            <a:ext cx="823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剪几个相同的等腰三角形，在方格纸上摆一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后回答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"/>
          <p:cNvGraphicFramePr/>
          <p:nvPr/>
        </p:nvGraphicFramePr>
        <p:xfrm>
          <a:off x="792000" y="2708280"/>
          <a:ext cx="3456000" cy="3456000"/>
        </p:xfrm>
        <a:graphic>
          <a:graphicData uri="http://schemas.openxmlformats.org/drawingml/2006/table">
            <a:tbl>
              <a:tblPr/>
              <a:tblGrid>
                <a:gridCol w="432000"/>
                <a:gridCol w="431640"/>
                <a:gridCol w="432000"/>
                <a:gridCol w="431640"/>
                <a:gridCol w="432000"/>
                <a:gridCol w="431640"/>
                <a:gridCol w="432000"/>
                <a:gridCol w="43308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5" name="TextBox 42"/>
          <p:cNvSpPr/>
          <p:nvPr/>
        </p:nvSpPr>
        <p:spPr>
          <a:xfrm>
            <a:off x="1403280" y="3571920"/>
            <a:ext cx="10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99"/>
                </a:solidFill>
                <a:latin typeface="新宋体"/>
                <a:ea typeface="新宋体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等腰三角形 18"/>
          <p:cNvSpPr/>
          <p:nvPr/>
        </p:nvSpPr>
        <p:spPr>
          <a:xfrm>
            <a:off x="2097000" y="2708280"/>
            <a:ext cx="863640" cy="1297080"/>
          </a:xfrm>
          <a:prstGeom prst="triangle">
            <a:avLst>
              <a:gd name="adj" fmla="val 50000"/>
            </a:avLst>
          </a:prstGeom>
          <a:solidFill>
            <a:srgbClr val="f1ed5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Box 36"/>
          <p:cNvSpPr/>
          <p:nvPr/>
        </p:nvSpPr>
        <p:spPr>
          <a:xfrm>
            <a:off x="2235240" y="3284640"/>
            <a:ext cx="6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等腰三角形 19"/>
          <p:cNvSpPr/>
          <p:nvPr/>
        </p:nvSpPr>
        <p:spPr>
          <a:xfrm rot="16200000">
            <a:off x="1020600" y="3801600"/>
            <a:ext cx="865080" cy="1296720"/>
          </a:xfrm>
          <a:prstGeom prst="triangle">
            <a:avLst>
              <a:gd name="adj" fmla="val 50000"/>
            </a:avLst>
          </a:prstGeom>
          <a:solidFill>
            <a:srgbClr val="f1ed5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Box 41"/>
          <p:cNvSpPr/>
          <p:nvPr/>
        </p:nvSpPr>
        <p:spPr>
          <a:xfrm>
            <a:off x="1457280" y="419580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等腰三角形 20"/>
          <p:cNvSpPr/>
          <p:nvPr/>
        </p:nvSpPr>
        <p:spPr>
          <a:xfrm flipV="1">
            <a:off x="2084400" y="4882320"/>
            <a:ext cx="865080" cy="1295640"/>
          </a:xfrm>
          <a:prstGeom prst="triangle">
            <a:avLst>
              <a:gd name="adj" fmla="val 50000"/>
            </a:avLst>
          </a:prstGeom>
          <a:solidFill>
            <a:srgbClr val="f1ed5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Box 40"/>
          <p:cNvSpPr/>
          <p:nvPr/>
        </p:nvSpPr>
        <p:spPr>
          <a:xfrm>
            <a:off x="2220840" y="5046840"/>
            <a:ext cx="6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等腰三角形 21"/>
          <p:cNvSpPr/>
          <p:nvPr/>
        </p:nvSpPr>
        <p:spPr>
          <a:xfrm rot="5400000">
            <a:off x="3178800" y="3788640"/>
            <a:ext cx="863640" cy="1296720"/>
          </a:xfrm>
          <a:prstGeom prst="triangle">
            <a:avLst>
              <a:gd name="adj" fmla="val 50000"/>
            </a:avLst>
          </a:prstGeom>
          <a:solidFill>
            <a:srgbClr val="f1ed5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Box 37"/>
          <p:cNvSpPr/>
          <p:nvPr/>
        </p:nvSpPr>
        <p:spPr>
          <a:xfrm>
            <a:off x="2989440" y="4183200"/>
            <a:ext cx="6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Box 22"/>
          <p:cNvSpPr/>
          <p:nvPr/>
        </p:nvSpPr>
        <p:spPr>
          <a:xfrm>
            <a:off x="2533680" y="3557520"/>
            <a:ext cx="105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99"/>
                </a:solidFill>
                <a:latin typeface="新宋体"/>
                <a:ea typeface="新宋体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Box 23"/>
          <p:cNvSpPr/>
          <p:nvPr/>
        </p:nvSpPr>
        <p:spPr>
          <a:xfrm>
            <a:off x="1403280" y="4756320"/>
            <a:ext cx="10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99"/>
                </a:solidFill>
                <a:latin typeface="新宋体"/>
                <a:ea typeface="新宋体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Box 24"/>
          <p:cNvSpPr/>
          <p:nvPr/>
        </p:nvSpPr>
        <p:spPr>
          <a:xfrm>
            <a:off x="2519280" y="4732200"/>
            <a:ext cx="10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99"/>
                </a:solidFill>
                <a:latin typeface="新宋体"/>
                <a:ea typeface="新宋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Box 4"/>
          <p:cNvSpPr/>
          <p:nvPr/>
        </p:nvSpPr>
        <p:spPr>
          <a:xfrm>
            <a:off x="4427640" y="3112920"/>
            <a:ext cx="442116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看作图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何运动得到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图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图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通过运动得到图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说分别可以怎样运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0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1071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2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5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6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077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1090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1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4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7" name=""/>
          <p:cNvGraphicFramePr/>
          <p:nvPr/>
        </p:nvGraphicFramePr>
        <p:xfrm>
          <a:off x="876240" y="1720800"/>
          <a:ext cx="7559640" cy="468000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58560"/>
                <a:gridCol w="36036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18" name="图片 7" descr="1.png"/>
          <p:cNvPicPr/>
          <p:nvPr/>
        </p:nvPicPr>
        <p:blipFill>
          <a:blip r:embed="rId1"/>
          <a:stretch/>
        </p:blipFill>
        <p:spPr>
          <a:xfrm>
            <a:off x="1236600" y="3170160"/>
            <a:ext cx="2879640" cy="28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19" name="组合 10"/>
          <p:cNvGrpSpPr/>
          <p:nvPr/>
        </p:nvGrpSpPr>
        <p:grpSpPr>
          <a:xfrm>
            <a:off x="4853160" y="4606920"/>
            <a:ext cx="2124000" cy="720720"/>
            <a:chOff x="4853160" y="4606920"/>
            <a:chExt cx="2124000" cy="720720"/>
          </a:xfrm>
        </p:grpSpPr>
        <p:sp>
          <p:nvSpPr>
            <p:cNvPr id="720" name="平行四边形 8"/>
            <p:cNvSpPr/>
            <p:nvPr/>
          </p:nvSpPr>
          <p:spPr>
            <a:xfrm flipV="1">
              <a:off x="4853160" y="4606920"/>
              <a:ext cx="2124000" cy="720720"/>
            </a:xfrm>
            <a:prstGeom prst="parallelogram">
              <a:avLst>
                <a:gd name="adj" fmla="val 98740"/>
              </a:avLst>
            </a:prstGeom>
            <a:solidFill>
              <a:srgbClr val="d42b1e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TextBox 9"/>
            <p:cNvSpPr/>
            <p:nvPr/>
          </p:nvSpPr>
          <p:spPr>
            <a:xfrm>
              <a:off x="5640840" y="4705200"/>
              <a:ext cx="56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2" name="Picture 321" descr=""/>
          <p:cNvPicPr/>
          <p:nvPr/>
        </p:nvPicPr>
        <p:blipFill>
          <a:blip r:embed="rId2"/>
          <a:stretch/>
        </p:blipFill>
        <p:spPr>
          <a:xfrm>
            <a:off x="938160" y="957240"/>
            <a:ext cx="7572600" cy="504720"/>
          </a:xfrm>
          <a:prstGeom prst="rect">
            <a:avLst/>
          </a:prstGeom>
          <a:ln w="0">
            <a:noFill/>
          </a:ln>
        </p:spPr>
      </p:pic>
      <p:grpSp>
        <p:nvGrpSpPr>
          <p:cNvPr id="723" name="组合 10"/>
          <p:cNvGrpSpPr/>
          <p:nvPr/>
        </p:nvGrpSpPr>
        <p:grpSpPr>
          <a:xfrm>
            <a:off x="4859280" y="4605120"/>
            <a:ext cx="2124000" cy="718920"/>
            <a:chOff x="4859280" y="4605120"/>
            <a:chExt cx="2124000" cy="718920"/>
          </a:xfrm>
        </p:grpSpPr>
        <p:sp>
          <p:nvSpPr>
            <p:cNvPr id="724" name="平行四边形 20"/>
            <p:cNvSpPr/>
            <p:nvPr/>
          </p:nvSpPr>
          <p:spPr>
            <a:xfrm flipV="1">
              <a:off x="4859280" y="4604760"/>
              <a:ext cx="2124000" cy="718920"/>
            </a:xfrm>
            <a:prstGeom prst="parallelogram">
              <a:avLst>
                <a:gd name="adj" fmla="val 98987"/>
              </a:avLst>
            </a:prstGeom>
            <a:solidFill>
              <a:srgbClr val="d42b1e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TextBox 9"/>
            <p:cNvSpPr/>
            <p:nvPr/>
          </p:nvSpPr>
          <p:spPr>
            <a:xfrm>
              <a:off x="5646960" y="4703760"/>
              <a:ext cx="56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组合 22"/>
          <p:cNvGrpSpPr/>
          <p:nvPr/>
        </p:nvGrpSpPr>
        <p:grpSpPr>
          <a:xfrm>
            <a:off x="5916600" y="2093760"/>
            <a:ext cx="1440000" cy="1440000"/>
            <a:chOff x="5916600" y="2093760"/>
            <a:chExt cx="1440000" cy="1440000"/>
          </a:xfrm>
        </p:grpSpPr>
        <p:sp>
          <p:nvSpPr>
            <p:cNvPr id="727" name="直角三角形 23"/>
            <p:cNvSpPr/>
            <p:nvPr/>
          </p:nvSpPr>
          <p:spPr>
            <a:xfrm rot="16200000">
              <a:off x="5916600" y="2093760"/>
              <a:ext cx="1440000" cy="1440000"/>
            </a:xfrm>
            <a:prstGeom prst="rtTriangle">
              <a:avLst/>
            </a:prstGeom>
            <a:solidFill>
              <a:srgbClr val="9148c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Box 9"/>
            <p:cNvSpPr/>
            <p:nvPr/>
          </p:nvSpPr>
          <p:spPr>
            <a:xfrm>
              <a:off x="6662880" y="2804400"/>
              <a:ext cx="57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0.0044 L -4.72222E-006 -0.21046 E">
                                      <p:cBhvr>
                                        <p:cTn id="15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5 -0.20884 L -0.39357 -0.20884 E">
                                      <p:cBhvr>
                                        <p:cTn id="19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98797E-006 L -0.39427 -2.98797E-006 E">
                                      <p:cBhvr>
                                        <p:cTn id="31" dur="2000" fill="hold"/>
                                        <p:tgtEl>
                                          <p:spTgt spid="7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427 -2.98797E-006 L -0.39427 -0.20837 E">
                                      <p:cBhvr>
                                        <p:cTn id="35" dur="2000" fill="hold"/>
                                        <p:tgtEl>
                                          <p:spTgt spid="7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876240" y="1720800"/>
          <a:ext cx="7559640" cy="468000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58560"/>
                <a:gridCol w="36036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32" name="图片 7" descr="1.png"/>
          <p:cNvPicPr/>
          <p:nvPr/>
        </p:nvPicPr>
        <p:blipFill>
          <a:blip r:embed="rId1"/>
          <a:stretch/>
        </p:blipFill>
        <p:spPr>
          <a:xfrm>
            <a:off x="1236600" y="3170160"/>
            <a:ext cx="2879640" cy="28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33" name="组合 13"/>
          <p:cNvGrpSpPr/>
          <p:nvPr/>
        </p:nvGrpSpPr>
        <p:grpSpPr>
          <a:xfrm>
            <a:off x="5916600" y="1736640"/>
            <a:ext cx="1440000" cy="1440000"/>
            <a:chOff x="5916600" y="1736640"/>
            <a:chExt cx="1440000" cy="1440000"/>
          </a:xfrm>
        </p:grpSpPr>
        <p:sp>
          <p:nvSpPr>
            <p:cNvPr id="734" name="直角三角形 11"/>
            <p:cNvSpPr/>
            <p:nvPr/>
          </p:nvSpPr>
          <p:spPr>
            <a:xfrm rot="16200000">
              <a:off x="5916600" y="1736640"/>
              <a:ext cx="1440000" cy="1440000"/>
            </a:xfrm>
            <a:prstGeom prst="rtTriangle">
              <a:avLst/>
            </a:prstGeom>
            <a:solidFill>
              <a:srgbClr val="9148c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TextBox 9"/>
            <p:cNvSpPr/>
            <p:nvPr/>
          </p:nvSpPr>
          <p:spPr>
            <a:xfrm>
              <a:off x="6662880" y="2447280"/>
              <a:ext cx="57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椭圆 20"/>
          <p:cNvSpPr/>
          <p:nvPr/>
        </p:nvSpPr>
        <p:spPr>
          <a:xfrm>
            <a:off x="7332840" y="3141720"/>
            <a:ext cx="712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组合 25"/>
          <p:cNvGrpSpPr/>
          <p:nvPr/>
        </p:nvGrpSpPr>
        <p:grpSpPr>
          <a:xfrm>
            <a:off x="5440320" y="1856520"/>
            <a:ext cx="1968480" cy="1914120"/>
            <a:chOff x="5440320" y="1856520"/>
            <a:chExt cx="1968480" cy="1914120"/>
          </a:xfrm>
        </p:grpSpPr>
        <p:grpSp>
          <p:nvGrpSpPr>
            <p:cNvPr id="738" name="组合 21"/>
            <p:cNvGrpSpPr/>
            <p:nvPr/>
          </p:nvGrpSpPr>
          <p:grpSpPr>
            <a:xfrm>
              <a:off x="5440320" y="1856520"/>
              <a:ext cx="1914120" cy="1914120"/>
              <a:chOff x="5440320" y="1856520"/>
              <a:chExt cx="1914120" cy="1914120"/>
            </a:xfrm>
          </p:grpSpPr>
          <p:sp>
            <p:nvSpPr>
              <p:cNvPr id="739" name="直角三角形 22"/>
              <p:cNvSpPr/>
              <p:nvPr/>
            </p:nvSpPr>
            <p:spPr>
              <a:xfrm rot="14700000">
                <a:off x="5677200" y="2093040"/>
                <a:ext cx="1440000" cy="1440720"/>
              </a:xfrm>
              <a:prstGeom prst="rtTriangle">
                <a:avLst/>
              </a:prstGeom>
              <a:solidFill>
                <a:srgbClr val="9148c8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TextBox 9"/>
              <p:cNvSpPr/>
              <p:nvPr/>
            </p:nvSpPr>
            <p:spPr>
              <a:xfrm rot="20100000">
                <a:off x="6499440" y="2648160"/>
                <a:ext cx="57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②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1" name="椭圆 24"/>
            <p:cNvSpPr/>
            <p:nvPr/>
          </p:nvSpPr>
          <p:spPr>
            <a:xfrm>
              <a:off x="7337520" y="3146400"/>
              <a:ext cx="71280" cy="712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组合 31"/>
          <p:cNvGrpSpPr/>
          <p:nvPr/>
        </p:nvGrpSpPr>
        <p:grpSpPr>
          <a:xfrm>
            <a:off x="5313960" y="2247840"/>
            <a:ext cx="2101680" cy="2029320"/>
            <a:chOff x="5313960" y="2247840"/>
            <a:chExt cx="2101680" cy="2029320"/>
          </a:xfrm>
        </p:grpSpPr>
        <p:grpSp>
          <p:nvGrpSpPr>
            <p:cNvPr id="743" name="组合 21"/>
            <p:cNvGrpSpPr/>
            <p:nvPr/>
          </p:nvGrpSpPr>
          <p:grpSpPr>
            <a:xfrm>
              <a:off x="5313960" y="2247840"/>
              <a:ext cx="2028960" cy="2029320"/>
              <a:chOff x="5313960" y="2247840"/>
              <a:chExt cx="2028960" cy="2029320"/>
            </a:xfrm>
          </p:grpSpPr>
          <p:sp>
            <p:nvSpPr>
              <p:cNvPr id="744" name="直角三角形 34"/>
              <p:cNvSpPr/>
              <p:nvPr/>
            </p:nvSpPr>
            <p:spPr>
              <a:xfrm rot="13200000">
                <a:off x="5608440" y="2541960"/>
                <a:ext cx="1440000" cy="1440720"/>
              </a:xfrm>
              <a:prstGeom prst="rtTriangle">
                <a:avLst/>
              </a:prstGeom>
              <a:solidFill>
                <a:srgbClr val="9148c8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TextBox 9"/>
              <p:cNvSpPr/>
              <p:nvPr/>
            </p:nvSpPr>
            <p:spPr>
              <a:xfrm rot="18600000">
                <a:off x="6437520" y="2926080"/>
                <a:ext cx="574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②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6" name="椭圆 33"/>
            <p:cNvSpPr/>
            <p:nvPr/>
          </p:nvSpPr>
          <p:spPr>
            <a:xfrm rot="20100000">
              <a:off x="7332480" y="3147480"/>
              <a:ext cx="71280" cy="712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组合 26"/>
          <p:cNvGrpSpPr/>
          <p:nvPr/>
        </p:nvGrpSpPr>
        <p:grpSpPr>
          <a:xfrm>
            <a:off x="5572080" y="2804760"/>
            <a:ext cx="1838880" cy="1761480"/>
            <a:chOff x="5572080" y="2804760"/>
            <a:chExt cx="1838880" cy="1761480"/>
          </a:xfrm>
        </p:grpSpPr>
        <p:grpSp>
          <p:nvGrpSpPr>
            <p:cNvPr id="748" name="组合 21"/>
            <p:cNvGrpSpPr/>
            <p:nvPr/>
          </p:nvGrpSpPr>
          <p:grpSpPr>
            <a:xfrm>
              <a:off x="5572080" y="2804760"/>
              <a:ext cx="1763280" cy="1761480"/>
              <a:chOff x="5572080" y="2804760"/>
              <a:chExt cx="1763280" cy="1761480"/>
            </a:xfrm>
          </p:grpSpPr>
          <p:sp>
            <p:nvSpPr>
              <p:cNvPr id="749" name="直角三角形 29"/>
              <p:cNvSpPr/>
              <p:nvPr/>
            </p:nvSpPr>
            <p:spPr>
              <a:xfrm rot="11700000">
                <a:off x="5733720" y="2966400"/>
                <a:ext cx="1440000" cy="1437840"/>
              </a:xfrm>
              <a:prstGeom prst="rtTriangle">
                <a:avLst/>
              </a:prstGeom>
              <a:solidFill>
                <a:srgbClr val="9148c8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TextBox 9"/>
              <p:cNvSpPr/>
              <p:nvPr/>
            </p:nvSpPr>
            <p:spPr>
              <a:xfrm rot="17100000">
                <a:off x="6491520" y="3192480"/>
                <a:ext cx="573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②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1" name="椭圆 28"/>
            <p:cNvSpPr/>
            <p:nvPr/>
          </p:nvSpPr>
          <p:spPr>
            <a:xfrm rot="18600000">
              <a:off x="7324920" y="3136320"/>
              <a:ext cx="71280" cy="712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组合 41"/>
          <p:cNvGrpSpPr/>
          <p:nvPr/>
        </p:nvGrpSpPr>
        <p:grpSpPr>
          <a:xfrm>
            <a:off x="5900040" y="3128400"/>
            <a:ext cx="1517400" cy="1495800"/>
            <a:chOff x="5900040" y="3128400"/>
            <a:chExt cx="1517400" cy="1495800"/>
          </a:xfrm>
        </p:grpSpPr>
        <p:grpSp>
          <p:nvGrpSpPr>
            <p:cNvPr id="753" name="组合 21"/>
            <p:cNvGrpSpPr/>
            <p:nvPr/>
          </p:nvGrpSpPr>
          <p:grpSpPr>
            <a:xfrm>
              <a:off x="5900040" y="3182040"/>
              <a:ext cx="1445400" cy="1442160"/>
              <a:chOff x="5900040" y="3182040"/>
              <a:chExt cx="1445400" cy="1442160"/>
            </a:xfrm>
          </p:grpSpPr>
          <p:sp>
            <p:nvSpPr>
              <p:cNvPr id="754" name="直角三角形 44"/>
              <p:cNvSpPr/>
              <p:nvPr/>
            </p:nvSpPr>
            <p:spPr>
              <a:xfrm rot="10813800">
                <a:off x="5902920" y="3184560"/>
                <a:ext cx="1439640" cy="1436400"/>
              </a:xfrm>
              <a:prstGeom prst="rtTriangle">
                <a:avLst/>
              </a:prstGeom>
              <a:solidFill>
                <a:srgbClr val="9148c8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TextBox 9"/>
              <p:cNvSpPr/>
              <p:nvPr/>
            </p:nvSpPr>
            <p:spPr>
              <a:xfrm rot="16213800">
                <a:off x="6588000" y="3333960"/>
                <a:ext cx="573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②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6" name="椭圆 43"/>
            <p:cNvSpPr/>
            <p:nvPr/>
          </p:nvSpPr>
          <p:spPr>
            <a:xfrm rot="17713800">
              <a:off x="7333920" y="3139920"/>
              <a:ext cx="71280" cy="712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7" name="Picture 322" descr=""/>
          <p:cNvPicPr/>
          <p:nvPr/>
        </p:nvPicPr>
        <p:blipFill>
          <a:blip r:embed="rId2"/>
          <a:stretch/>
        </p:blipFill>
        <p:spPr>
          <a:xfrm>
            <a:off x="976320" y="988920"/>
            <a:ext cx="709596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1.32285E-006 L -0.35174 1.32285E-006 E">
                                      <p:cBhvr>
                                        <p:cTn id="67" dur="2000" fill="hold"/>
                                        <p:tgtEl>
                                          <p:spTgt spid="7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0" name=""/>
          <p:cNvGraphicFramePr/>
          <p:nvPr/>
        </p:nvGraphicFramePr>
        <p:xfrm>
          <a:off x="876240" y="1720800"/>
          <a:ext cx="7559640" cy="468000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58560"/>
                <a:gridCol w="36036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1" name="图片 7" descr="1.png"/>
          <p:cNvPicPr/>
          <p:nvPr/>
        </p:nvPicPr>
        <p:blipFill>
          <a:blip r:embed="rId1"/>
          <a:stretch/>
        </p:blipFill>
        <p:spPr>
          <a:xfrm>
            <a:off x="1236600" y="3170160"/>
            <a:ext cx="2879640" cy="28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62" name="组合 31"/>
          <p:cNvGrpSpPr/>
          <p:nvPr/>
        </p:nvGrpSpPr>
        <p:grpSpPr>
          <a:xfrm>
            <a:off x="5916600" y="1736640"/>
            <a:ext cx="1487520" cy="1476360"/>
            <a:chOff x="5916600" y="1736640"/>
            <a:chExt cx="1487520" cy="1476360"/>
          </a:xfrm>
        </p:grpSpPr>
        <p:grpSp>
          <p:nvGrpSpPr>
            <p:cNvPr id="763" name="组合 13"/>
            <p:cNvGrpSpPr/>
            <p:nvPr/>
          </p:nvGrpSpPr>
          <p:grpSpPr>
            <a:xfrm>
              <a:off x="5916600" y="1736640"/>
              <a:ext cx="1439640" cy="1440000"/>
              <a:chOff x="5916600" y="1736640"/>
              <a:chExt cx="1439640" cy="1440000"/>
            </a:xfrm>
          </p:grpSpPr>
          <p:sp>
            <p:nvSpPr>
              <p:cNvPr id="764" name="直角三角形 11"/>
              <p:cNvSpPr/>
              <p:nvPr/>
            </p:nvSpPr>
            <p:spPr>
              <a:xfrm rot="16200000">
                <a:off x="5916240" y="1736640"/>
                <a:ext cx="1440000" cy="1439640"/>
              </a:xfrm>
              <a:prstGeom prst="rtTriangle">
                <a:avLst/>
              </a:prstGeom>
              <a:solidFill>
                <a:srgbClr val="9148c8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TextBox 9"/>
              <p:cNvSpPr/>
              <p:nvPr/>
            </p:nvSpPr>
            <p:spPr>
              <a:xfrm>
                <a:off x="6662160" y="2447280"/>
                <a:ext cx="57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②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6" name="椭圆 20"/>
            <p:cNvSpPr/>
            <p:nvPr/>
          </p:nvSpPr>
          <p:spPr>
            <a:xfrm>
              <a:off x="7332840" y="3141720"/>
              <a:ext cx="71280" cy="712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组合 25"/>
          <p:cNvGrpSpPr/>
          <p:nvPr/>
        </p:nvGrpSpPr>
        <p:grpSpPr>
          <a:xfrm>
            <a:off x="2224080" y="1856520"/>
            <a:ext cx="1968480" cy="1914120"/>
            <a:chOff x="2224080" y="1856520"/>
            <a:chExt cx="1968480" cy="1914120"/>
          </a:xfrm>
        </p:grpSpPr>
        <p:grpSp>
          <p:nvGrpSpPr>
            <p:cNvPr id="768" name="组合 21"/>
            <p:cNvGrpSpPr/>
            <p:nvPr/>
          </p:nvGrpSpPr>
          <p:grpSpPr>
            <a:xfrm>
              <a:off x="2224080" y="1856520"/>
              <a:ext cx="1914120" cy="1914120"/>
              <a:chOff x="2224080" y="1856520"/>
              <a:chExt cx="1914120" cy="1914120"/>
            </a:xfrm>
          </p:grpSpPr>
          <p:sp>
            <p:nvSpPr>
              <p:cNvPr id="769" name="直角三角形 22"/>
              <p:cNvSpPr/>
              <p:nvPr/>
            </p:nvSpPr>
            <p:spPr>
              <a:xfrm rot="14700000">
                <a:off x="2460960" y="2093040"/>
                <a:ext cx="1440000" cy="1440720"/>
              </a:xfrm>
              <a:prstGeom prst="rtTriangle">
                <a:avLst/>
              </a:prstGeom>
              <a:solidFill>
                <a:srgbClr val="9148c8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TextBox 9"/>
              <p:cNvSpPr/>
              <p:nvPr/>
            </p:nvSpPr>
            <p:spPr>
              <a:xfrm rot="20100000">
                <a:off x="3283200" y="2648160"/>
                <a:ext cx="57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②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" name="椭圆 24"/>
            <p:cNvSpPr/>
            <p:nvPr/>
          </p:nvSpPr>
          <p:spPr>
            <a:xfrm>
              <a:off x="4121280" y="3146400"/>
              <a:ext cx="71280" cy="712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组合 31"/>
          <p:cNvGrpSpPr/>
          <p:nvPr/>
        </p:nvGrpSpPr>
        <p:grpSpPr>
          <a:xfrm>
            <a:off x="2097720" y="2247840"/>
            <a:ext cx="2101680" cy="2029320"/>
            <a:chOff x="2097720" y="2247840"/>
            <a:chExt cx="2101680" cy="2029320"/>
          </a:xfrm>
        </p:grpSpPr>
        <p:grpSp>
          <p:nvGrpSpPr>
            <p:cNvPr id="773" name="组合 21"/>
            <p:cNvGrpSpPr/>
            <p:nvPr/>
          </p:nvGrpSpPr>
          <p:grpSpPr>
            <a:xfrm>
              <a:off x="2097720" y="2247840"/>
              <a:ext cx="2028960" cy="2029320"/>
              <a:chOff x="2097720" y="2247840"/>
              <a:chExt cx="2028960" cy="2029320"/>
            </a:xfrm>
          </p:grpSpPr>
          <p:sp>
            <p:nvSpPr>
              <p:cNvPr id="774" name="直角三角形 34"/>
              <p:cNvSpPr/>
              <p:nvPr/>
            </p:nvSpPr>
            <p:spPr>
              <a:xfrm rot="13200000">
                <a:off x="2392200" y="2541960"/>
                <a:ext cx="1440000" cy="1440720"/>
              </a:xfrm>
              <a:prstGeom prst="rtTriangle">
                <a:avLst/>
              </a:prstGeom>
              <a:solidFill>
                <a:srgbClr val="9148c8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TextBox 9"/>
              <p:cNvSpPr/>
              <p:nvPr/>
            </p:nvSpPr>
            <p:spPr>
              <a:xfrm rot="18600000">
                <a:off x="3221280" y="2926080"/>
                <a:ext cx="574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②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6" name="椭圆 33"/>
            <p:cNvSpPr/>
            <p:nvPr/>
          </p:nvSpPr>
          <p:spPr>
            <a:xfrm rot="20100000">
              <a:off x="4116240" y="3147480"/>
              <a:ext cx="71280" cy="712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组合 26"/>
          <p:cNvGrpSpPr/>
          <p:nvPr/>
        </p:nvGrpSpPr>
        <p:grpSpPr>
          <a:xfrm>
            <a:off x="2355840" y="2804760"/>
            <a:ext cx="1838880" cy="1761480"/>
            <a:chOff x="2355840" y="2804760"/>
            <a:chExt cx="1838880" cy="1761480"/>
          </a:xfrm>
        </p:grpSpPr>
        <p:grpSp>
          <p:nvGrpSpPr>
            <p:cNvPr id="778" name="组合 21"/>
            <p:cNvGrpSpPr/>
            <p:nvPr/>
          </p:nvGrpSpPr>
          <p:grpSpPr>
            <a:xfrm>
              <a:off x="2355840" y="2804760"/>
              <a:ext cx="1763280" cy="1761480"/>
              <a:chOff x="2355840" y="2804760"/>
              <a:chExt cx="1763280" cy="1761480"/>
            </a:xfrm>
          </p:grpSpPr>
          <p:sp>
            <p:nvSpPr>
              <p:cNvPr id="779" name="直角三角形 29"/>
              <p:cNvSpPr/>
              <p:nvPr/>
            </p:nvSpPr>
            <p:spPr>
              <a:xfrm rot="11700000">
                <a:off x="2517480" y="2966400"/>
                <a:ext cx="1440000" cy="1437840"/>
              </a:xfrm>
              <a:prstGeom prst="rtTriangle">
                <a:avLst/>
              </a:prstGeom>
              <a:solidFill>
                <a:srgbClr val="9148c8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TextBox 9"/>
              <p:cNvSpPr/>
              <p:nvPr/>
            </p:nvSpPr>
            <p:spPr>
              <a:xfrm rot="17100000">
                <a:off x="3275280" y="3192480"/>
                <a:ext cx="573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②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1" name="椭圆 28"/>
            <p:cNvSpPr/>
            <p:nvPr/>
          </p:nvSpPr>
          <p:spPr>
            <a:xfrm rot="18600000">
              <a:off x="4108680" y="3136320"/>
              <a:ext cx="71280" cy="712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组合 41"/>
          <p:cNvGrpSpPr/>
          <p:nvPr/>
        </p:nvGrpSpPr>
        <p:grpSpPr>
          <a:xfrm>
            <a:off x="2685600" y="3128400"/>
            <a:ext cx="1517400" cy="1495800"/>
            <a:chOff x="2685600" y="3128400"/>
            <a:chExt cx="1517400" cy="1495800"/>
          </a:xfrm>
        </p:grpSpPr>
        <p:grpSp>
          <p:nvGrpSpPr>
            <p:cNvPr id="783" name="组合 21"/>
            <p:cNvGrpSpPr/>
            <p:nvPr/>
          </p:nvGrpSpPr>
          <p:grpSpPr>
            <a:xfrm>
              <a:off x="2685600" y="3182040"/>
              <a:ext cx="1445760" cy="1442160"/>
              <a:chOff x="2685600" y="3182040"/>
              <a:chExt cx="1445760" cy="1442160"/>
            </a:xfrm>
          </p:grpSpPr>
          <p:sp>
            <p:nvSpPr>
              <p:cNvPr id="784" name="直角三角形 44"/>
              <p:cNvSpPr/>
              <p:nvPr/>
            </p:nvSpPr>
            <p:spPr>
              <a:xfrm rot="10813800">
                <a:off x="2688480" y="3184560"/>
                <a:ext cx="1440000" cy="1436400"/>
              </a:xfrm>
              <a:prstGeom prst="rtTriangle">
                <a:avLst/>
              </a:prstGeom>
              <a:solidFill>
                <a:srgbClr val="9148c8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TextBox 9"/>
              <p:cNvSpPr/>
              <p:nvPr/>
            </p:nvSpPr>
            <p:spPr>
              <a:xfrm rot="16213800">
                <a:off x="3373560" y="3333960"/>
                <a:ext cx="573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②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6" name="椭圆 43"/>
            <p:cNvSpPr/>
            <p:nvPr/>
          </p:nvSpPr>
          <p:spPr>
            <a:xfrm rot="17713800">
              <a:off x="4119480" y="3139920"/>
              <a:ext cx="71280" cy="712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7" name="Picture 322" descr=""/>
          <p:cNvPicPr/>
          <p:nvPr/>
        </p:nvPicPr>
        <p:blipFill>
          <a:blip r:embed="rId2"/>
          <a:stretch/>
        </p:blipFill>
        <p:spPr>
          <a:xfrm>
            <a:off x="976320" y="988920"/>
            <a:ext cx="709596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7037E-007 L -0.35434 3.7037E-007 E">
                                      <p:cBhvr>
                                        <p:cTn id="75" dur="2000" fill="hold"/>
                                        <p:tgtEl>
                                          <p:spTgt spid="7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直角三角形 9"/>
          <p:cNvSpPr/>
          <p:nvPr/>
        </p:nvSpPr>
        <p:spPr>
          <a:xfrm flipH="1">
            <a:off x="2426400" y="3068640"/>
            <a:ext cx="1584360" cy="792000"/>
          </a:xfrm>
          <a:prstGeom prst="rtTriangle">
            <a:avLst/>
          </a:prstGeom>
          <a:solidFill>
            <a:srgbClr val="f0af2c">
              <a:alpha val="50000"/>
            </a:srgbClr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1" name=""/>
          <p:cNvGraphicFramePr/>
          <p:nvPr/>
        </p:nvGraphicFramePr>
        <p:xfrm>
          <a:off x="1619280" y="2673360"/>
          <a:ext cx="5940360" cy="2771640"/>
        </p:xfrm>
        <a:graphic>
          <a:graphicData uri="http://schemas.openxmlformats.org/drawingml/2006/table">
            <a:tbl>
              <a:tblPr/>
              <a:tblGrid>
                <a:gridCol w="395280"/>
                <a:gridCol w="396720"/>
                <a:gridCol w="395280"/>
                <a:gridCol w="397080"/>
                <a:gridCol w="395280"/>
                <a:gridCol w="396720"/>
                <a:gridCol w="395280"/>
                <a:gridCol w="397080"/>
                <a:gridCol w="395280"/>
                <a:gridCol w="395280"/>
                <a:gridCol w="396720"/>
                <a:gridCol w="395280"/>
                <a:gridCol w="397080"/>
                <a:gridCol w="395280"/>
                <a:gridCol w="39672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75d1"/>
                      </a:solidFill>
                    </a:lnL>
                    <a:lnR w="5760">
                      <a:solidFill>
                        <a:srgbClr val="7575d1"/>
                      </a:solidFill>
                    </a:lnR>
                    <a:lnT w="5760">
                      <a:solidFill>
                        <a:srgbClr val="7575d1"/>
                      </a:solidFill>
                    </a:lnT>
                    <a:lnB w="5760">
                      <a:solidFill>
                        <a:srgbClr val="7575d1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2" name="Picture 135" descr=""/>
          <p:cNvPicPr/>
          <p:nvPr/>
        </p:nvPicPr>
        <p:blipFill>
          <a:blip r:embed="rId1"/>
          <a:stretch/>
        </p:blipFill>
        <p:spPr>
          <a:xfrm>
            <a:off x="652320" y="1197000"/>
            <a:ext cx="362160" cy="333360"/>
          </a:xfrm>
          <a:prstGeom prst="rect">
            <a:avLst/>
          </a:prstGeom>
          <a:ln w="0">
            <a:noFill/>
          </a:ln>
        </p:spPr>
      </p:pic>
      <p:sp>
        <p:nvSpPr>
          <p:cNvPr id="793" name="TextBox 7"/>
          <p:cNvSpPr/>
          <p:nvPr/>
        </p:nvSpPr>
        <p:spPr>
          <a:xfrm>
            <a:off x="998640" y="1023840"/>
            <a:ext cx="770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请将图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绕点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顺时针旋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得到图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再将图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向右平移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格，得到图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画一画，说说要注意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直角三角形 8"/>
          <p:cNvSpPr/>
          <p:nvPr/>
        </p:nvSpPr>
        <p:spPr>
          <a:xfrm flipH="1">
            <a:off x="2426400" y="3068640"/>
            <a:ext cx="1584360" cy="792000"/>
          </a:xfrm>
          <a:prstGeom prst="rtTriangle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直角三角形 10"/>
          <p:cNvSpPr/>
          <p:nvPr/>
        </p:nvSpPr>
        <p:spPr>
          <a:xfrm flipH="1" rot="5400000">
            <a:off x="2027880" y="4261320"/>
            <a:ext cx="1584360" cy="792000"/>
          </a:xfrm>
          <a:prstGeom prst="rtTriangle">
            <a:avLst/>
          </a:prstGeom>
          <a:solidFill>
            <a:srgbClr val="f0af2c">
              <a:alpha val="50000"/>
            </a:srgbClr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11"/>
          <p:cNvSpPr/>
          <p:nvPr/>
        </p:nvSpPr>
        <p:spPr>
          <a:xfrm>
            <a:off x="2066760" y="36050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12"/>
          <p:cNvSpPr/>
          <p:nvPr/>
        </p:nvSpPr>
        <p:spPr>
          <a:xfrm>
            <a:off x="3395520" y="33256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直角三角形 13"/>
          <p:cNvSpPr/>
          <p:nvPr/>
        </p:nvSpPr>
        <p:spPr>
          <a:xfrm flipH="1" rot="1500000">
            <a:off x="2531880" y="3435480"/>
            <a:ext cx="1584000" cy="792000"/>
          </a:xfrm>
          <a:prstGeom prst="rtTriangle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直角三角形 14"/>
          <p:cNvSpPr/>
          <p:nvPr/>
        </p:nvSpPr>
        <p:spPr>
          <a:xfrm flipH="1" rot="3000000">
            <a:off x="2446920" y="3807000"/>
            <a:ext cx="1584360" cy="792000"/>
          </a:xfrm>
          <a:prstGeom prst="rtTriangle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直角三角形 15"/>
          <p:cNvSpPr/>
          <p:nvPr/>
        </p:nvSpPr>
        <p:spPr>
          <a:xfrm flipH="1" rot="4500000">
            <a:off x="2223000" y="4127760"/>
            <a:ext cx="1584360" cy="792000"/>
          </a:xfrm>
          <a:prstGeom prst="rtTriangle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直角三角形 16"/>
          <p:cNvSpPr/>
          <p:nvPr/>
        </p:nvSpPr>
        <p:spPr>
          <a:xfrm flipH="1" rot="5400000">
            <a:off x="2027880" y="4261320"/>
            <a:ext cx="1584360" cy="792000"/>
          </a:xfrm>
          <a:prstGeom prst="rtTriangle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Box 17"/>
          <p:cNvSpPr/>
          <p:nvPr/>
        </p:nvSpPr>
        <p:spPr>
          <a:xfrm>
            <a:off x="2471760" y="460368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18"/>
          <p:cNvSpPr/>
          <p:nvPr/>
        </p:nvSpPr>
        <p:spPr>
          <a:xfrm>
            <a:off x="4067280" y="46036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直接连接符 20"/>
          <p:cNvSpPr/>
          <p:nvPr/>
        </p:nvSpPr>
        <p:spPr>
          <a:xfrm>
            <a:off x="2424240" y="3851280"/>
            <a:ext cx="158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直接连接符 21"/>
          <p:cNvSpPr/>
          <p:nvPr/>
        </p:nvSpPr>
        <p:spPr>
          <a:xfrm>
            <a:off x="2436480" y="3840480"/>
            <a:ext cx="1436040" cy="669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直接连接符 22"/>
          <p:cNvSpPr/>
          <p:nvPr/>
        </p:nvSpPr>
        <p:spPr>
          <a:xfrm>
            <a:off x="2439000" y="3866040"/>
            <a:ext cx="1018440" cy="1213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直接连接符 23"/>
          <p:cNvSpPr/>
          <p:nvPr/>
        </p:nvSpPr>
        <p:spPr>
          <a:xfrm>
            <a:off x="2411280" y="3857040"/>
            <a:ext cx="0" cy="158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直接连接符 24"/>
          <p:cNvSpPr/>
          <p:nvPr/>
        </p:nvSpPr>
        <p:spPr>
          <a:xfrm>
            <a:off x="2819520" y="3859920"/>
            <a:ext cx="0" cy="158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直接连接符 25"/>
          <p:cNvSpPr/>
          <p:nvPr/>
        </p:nvSpPr>
        <p:spPr>
          <a:xfrm>
            <a:off x="3203640" y="3859920"/>
            <a:ext cx="0" cy="158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直接连接符 26"/>
          <p:cNvSpPr/>
          <p:nvPr/>
        </p:nvSpPr>
        <p:spPr>
          <a:xfrm>
            <a:off x="3619440" y="3867840"/>
            <a:ext cx="0" cy="158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直接连接符 27"/>
          <p:cNvSpPr/>
          <p:nvPr/>
        </p:nvSpPr>
        <p:spPr>
          <a:xfrm>
            <a:off x="4011480" y="3859920"/>
            <a:ext cx="0" cy="158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7326 0 E">
                                      <p:cBhvr>
                                        <p:cTn id="129" dur="2000" fill="hold"/>
                                        <p:tgtEl>
                                          <p:spTgt spid="8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2" name=""/>
          <p:cNvGraphicFramePr/>
          <p:nvPr/>
        </p:nvGraphicFramePr>
        <p:xfrm>
          <a:off x="1692360" y="4091040"/>
          <a:ext cx="5940360" cy="216036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41080"/>
                <a:gridCol w="540000"/>
                <a:gridCol w="539640"/>
                <a:gridCol w="539640"/>
                <a:gridCol w="540000"/>
                <a:gridCol w="539640"/>
                <a:gridCol w="541440"/>
                <a:gridCol w="53964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13" name="组合 14"/>
          <p:cNvGrpSpPr/>
          <p:nvPr/>
        </p:nvGrpSpPr>
        <p:grpSpPr>
          <a:xfrm>
            <a:off x="4397400" y="4629240"/>
            <a:ext cx="3240000" cy="3247920"/>
            <a:chOff x="4397400" y="4629240"/>
            <a:chExt cx="3240000" cy="3247920"/>
          </a:xfrm>
        </p:grpSpPr>
        <p:sp>
          <p:nvSpPr>
            <p:cNvPr id="814" name="弧形 15"/>
            <p:cNvSpPr/>
            <p:nvPr/>
          </p:nvSpPr>
          <p:spPr>
            <a:xfrm flipH="1">
              <a:off x="4397400" y="4637160"/>
              <a:ext cx="3240000" cy="3240000"/>
            </a:xfrm>
            <a:custGeom>
              <a:avLst/>
              <a:gdLst>
                <a:gd name="textAreaLeft" fmla="*/ 1620360 w 3240000"/>
                <a:gd name="textAreaRight" fmla="*/ 3240720 w 3240000"/>
                <a:gd name="textAreaTop" fmla="*/ 0 h 3240000"/>
                <a:gd name="textAreaBottom" fmla="*/ 1620000 h 3240000"/>
              </a:gdLst>
              <a:ahLst/>
              <a:rect l="textAreaLeft" t="textAreaTop" r="textAreaRight" b="textAreaBottom"/>
              <a:pathLst>
                <a:path stroke="0" w="3240000" h="3240687">
                  <a:moveTo>
                    <a:pt x="1620002" y="0"/>
                  </a:moveTo>
                  <a:lnTo>
                    <a:pt x="1620002" y="0"/>
                  </a:lnTo>
                  <a:arcTo wR="1620000" hR="1620344" stAng="-5399996" swAng="5400004"/>
                  <a:lnTo>
                    <a:pt x="1620000" y="1620344"/>
                  </a:lnTo>
                  <a:close/>
                </a:path>
                <a:path fill="none" w="3240000" h="3240687">
                  <a:moveTo>
                    <a:pt x="1620002" y="0"/>
                  </a:moveTo>
                  <a:lnTo>
                    <a:pt x="1620002" y="0"/>
                  </a:lnTo>
                  <a:arcTo wR="1620000" hR="1620344" stAng="-5399996" swAng="5400004"/>
                </a:path>
              </a:pathLst>
            </a:custGeom>
            <a:noFill/>
            <a:ln w="3816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直接连接符 16"/>
            <p:cNvSpPr/>
            <p:nvPr/>
          </p:nvSpPr>
          <p:spPr>
            <a:xfrm>
              <a:off x="6019920" y="4629240"/>
              <a:ext cx="0" cy="161928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直接连接符 17"/>
            <p:cNvSpPr/>
            <p:nvPr/>
          </p:nvSpPr>
          <p:spPr>
            <a:xfrm>
              <a:off x="4400280" y="6245280"/>
              <a:ext cx="1620720" cy="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组合 24"/>
          <p:cNvGrpSpPr/>
          <p:nvPr/>
        </p:nvGrpSpPr>
        <p:grpSpPr>
          <a:xfrm>
            <a:off x="1687680" y="4632480"/>
            <a:ext cx="3240000" cy="3247920"/>
            <a:chOff x="1687680" y="4632480"/>
            <a:chExt cx="3240000" cy="3247920"/>
          </a:xfrm>
        </p:grpSpPr>
        <p:sp>
          <p:nvSpPr>
            <p:cNvPr id="818" name="弧形 25"/>
            <p:cNvSpPr/>
            <p:nvPr/>
          </p:nvSpPr>
          <p:spPr>
            <a:xfrm flipH="1">
              <a:off x="1687680" y="4640400"/>
              <a:ext cx="3240000" cy="3240000"/>
            </a:xfrm>
            <a:custGeom>
              <a:avLst/>
              <a:gdLst>
                <a:gd name="textAreaLeft" fmla="*/ 1620360 w 3240000"/>
                <a:gd name="textAreaRight" fmla="*/ 3240720 w 3240000"/>
                <a:gd name="textAreaTop" fmla="*/ 0 h 3240000"/>
                <a:gd name="textAreaBottom" fmla="*/ 1620000 h 3240000"/>
              </a:gdLst>
              <a:ahLst/>
              <a:rect l="textAreaLeft" t="textAreaTop" r="textAreaRight" b="textAreaBottom"/>
              <a:pathLst>
                <a:path stroke="0" w="3240000" h="3240687">
                  <a:moveTo>
                    <a:pt x="1620002" y="0"/>
                  </a:moveTo>
                  <a:lnTo>
                    <a:pt x="1620002" y="0"/>
                  </a:lnTo>
                  <a:arcTo wR="1620000" hR="1620344" stAng="-5399996" swAng="5400004"/>
                  <a:lnTo>
                    <a:pt x="1620000" y="1620344"/>
                  </a:lnTo>
                  <a:close/>
                </a:path>
                <a:path fill="none" w="3240000" h="3240687">
                  <a:moveTo>
                    <a:pt x="1620002" y="0"/>
                  </a:moveTo>
                  <a:lnTo>
                    <a:pt x="1620002" y="0"/>
                  </a:lnTo>
                  <a:arcTo wR="1620000" hR="1620344" stAng="-5399996" swAng="5400004"/>
                </a:path>
              </a:pathLst>
            </a:custGeom>
            <a:noFill/>
            <a:ln w="38160">
              <a:solidFill>
                <a:srgbClr val="1b9b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直接连接符 26"/>
            <p:cNvSpPr/>
            <p:nvPr/>
          </p:nvSpPr>
          <p:spPr>
            <a:xfrm>
              <a:off x="3310200" y="4632480"/>
              <a:ext cx="0" cy="1619280"/>
            </a:xfrm>
            <a:prstGeom prst="line">
              <a:avLst/>
            </a:prstGeom>
            <a:ln w="38160">
              <a:solidFill>
                <a:srgbClr val="1b9b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直接连接符 27"/>
            <p:cNvSpPr/>
            <p:nvPr/>
          </p:nvSpPr>
          <p:spPr>
            <a:xfrm>
              <a:off x="1690560" y="6248520"/>
              <a:ext cx="1620720" cy="0"/>
            </a:xfrm>
            <a:prstGeom prst="line">
              <a:avLst/>
            </a:prstGeom>
            <a:ln w="38160">
              <a:solidFill>
                <a:srgbClr val="1b9b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1" name="Picture 2" descr="10"/>
          <p:cNvPicPr/>
          <p:nvPr/>
        </p:nvPicPr>
        <p:blipFill>
          <a:blip r:embed="rId1"/>
          <a:stretch/>
        </p:blipFill>
        <p:spPr>
          <a:xfrm>
            <a:off x="993600" y="62064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822" name="TextBox 4"/>
          <p:cNvSpPr/>
          <p:nvPr/>
        </p:nvSpPr>
        <p:spPr>
          <a:xfrm>
            <a:off x="596880" y="1413000"/>
            <a:ext cx="81518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方格纸中图形的运动，并与同伴进行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何运动得到图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何运动得到图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还有什么办法将图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动得到图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组合 12"/>
          <p:cNvGrpSpPr/>
          <p:nvPr/>
        </p:nvGrpSpPr>
        <p:grpSpPr>
          <a:xfrm>
            <a:off x="1700280" y="4630680"/>
            <a:ext cx="3240000" cy="3247920"/>
            <a:chOff x="1700280" y="4630680"/>
            <a:chExt cx="3240000" cy="3247920"/>
          </a:xfrm>
        </p:grpSpPr>
        <p:sp>
          <p:nvSpPr>
            <p:cNvPr id="824" name="弧形 8"/>
            <p:cNvSpPr/>
            <p:nvPr/>
          </p:nvSpPr>
          <p:spPr>
            <a:xfrm flipH="1">
              <a:off x="1700280" y="4638600"/>
              <a:ext cx="3240000" cy="3240000"/>
            </a:xfrm>
            <a:custGeom>
              <a:avLst/>
              <a:gdLst>
                <a:gd name="textAreaLeft" fmla="*/ 1620360 w 3240000"/>
                <a:gd name="textAreaRight" fmla="*/ 3240720 w 3240000"/>
                <a:gd name="textAreaTop" fmla="*/ 0 h 3240000"/>
                <a:gd name="textAreaBottom" fmla="*/ 1620000 h 3240000"/>
              </a:gdLst>
              <a:ahLst/>
              <a:rect l="textAreaLeft" t="textAreaTop" r="textAreaRight" b="textAreaBottom"/>
              <a:pathLst>
                <a:path stroke="0" w="3240000" h="3240688">
                  <a:moveTo>
                    <a:pt x="1620002" y="0"/>
                  </a:moveTo>
                  <a:lnTo>
                    <a:pt x="1620002" y="0"/>
                  </a:lnTo>
                  <a:arcTo wR="1620000" hR="1620344" stAng="-5399996" swAng="5400004"/>
                  <a:lnTo>
                    <a:pt x="1620000" y="1620344"/>
                  </a:lnTo>
                  <a:close/>
                </a:path>
                <a:path fill="none" w="3240000" h="3240688">
                  <a:moveTo>
                    <a:pt x="1620002" y="0"/>
                  </a:moveTo>
                  <a:lnTo>
                    <a:pt x="1620002" y="0"/>
                  </a:lnTo>
                  <a:arcTo wR="1620000" hR="1620344" stAng="-5399996" swAng="5400004"/>
                </a:path>
              </a:pathLst>
            </a:custGeom>
            <a:noFill/>
            <a:ln w="3816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直接连接符 10"/>
            <p:cNvSpPr/>
            <p:nvPr/>
          </p:nvSpPr>
          <p:spPr>
            <a:xfrm>
              <a:off x="3322800" y="4630680"/>
              <a:ext cx="0" cy="161928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直接连接符 11"/>
            <p:cNvSpPr/>
            <p:nvPr/>
          </p:nvSpPr>
          <p:spPr>
            <a:xfrm>
              <a:off x="1703160" y="6246720"/>
              <a:ext cx="1620720" cy="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7" name="TextBox 13"/>
          <p:cNvSpPr/>
          <p:nvPr/>
        </p:nvSpPr>
        <p:spPr>
          <a:xfrm>
            <a:off x="2363760" y="51786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22"/>
          <p:cNvSpPr/>
          <p:nvPr/>
        </p:nvSpPr>
        <p:spPr>
          <a:xfrm>
            <a:off x="5003640" y="5157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23"/>
          <p:cNvSpPr/>
          <p:nvPr/>
        </p:nvSpPr>
        <p:spPr>
          <a:xfrm>
            <a:off x="6659640" y="51786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0" name="组合 28"/>
          <p:cNvGrpSpPr/>
          <p:nvPr/>
        </p:nvGrpSpPr>
        <p:grpSpPr>
          <a:xfrm>
            <a:off x="3866040" y="4108680"/>
            <a:ext cx="4305960" cy="4305600"/>
            <a:chOff x="3866040" y="4108680"/>
            <a:chExt cx="4305960" cy="4305600"/>
          </a:xfrm>
        </p:grpSpPr>
        <p:sp>
          <p:nvSpPr>
            <p:cNvPr id="831" name="弧形 29"/>
            <p:cNvSpPr/>
            <p:nvPr/>
          </p:nvSpPr>
          <p:spPr>
            <a:xfrm flipH="1" rot="1500000">
              <a:off x="4398480" y="4641480"/>
              <a:ext cx="3240000" cy="3240000"/>
            </a:xfrm>
            <a:custGeom>
              <a:avLst/>
              <a:gdLst>
                <a:gd name="textAreaLeft" fmla="*/ 1620360 w 3240000"/>
                <a:gd name="textAreaRight" fmla="*/ 3240720 w 3240000"/>
                <a:gd name="textAreaTop" fmla="*/ 0 h 3240000"/>
                <a:gd name="textAreaBottom" fmla="*/ 1620000 h 3240000"/>
              </a:gdLst>
              <a:ahLst/>
              <a:rect l="textAreaLeft" t="textAreaTop" r="textAreaRight" b="textAreaBottom"/>
              <a:pathLst>
                <a:path stroke="0" w="3240000" h="3240687">
                  <a:moveTo>
                    <a:pt x="1620002" y="0"/>
                  </a:moveTo>
                  <a:lnTo>
                    <a:pt x="1620002" y="0"/>
                  </a:lnTo>
                  <a:arcTo wR="1620000" hR="1620344" stAng="-5399996" swAng="5400004"/>
                  <a:lnTo>
                    <a:pt x="1620000" y="1620344"/>
                  </a:lnTo>
                  <a:close/>
                </a:path>
                <a:path fill="none" w="3240000" h="3240687">
                  <a:moveTo>
                    <a:pt x="1620002" y="0"/>
                  </a:moveTo>
                  <a:lnTo>
                    <a:pt x="1620002" y="0"/>
                  </a:lnTo>
                  <a:arcTo wR="1620000" hR="1620344" stAng="-5399996" swAng="5400004"/>
                </a:path>
              </a:pathLst>
            </a:custGeom>
            <a:noFill/>
            <a:ln w="38160">
              <a:solidFill>
                <a:srgbClr val="1b9b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直接连接符 30"/>
            <p:cNvSpPr/>
            <p:nvPr/>
          </p:nvSpPr>
          <p:spPr>
            <a:xfrm flipH="1">
              <a:off x="6025320" y="4787280"/>
              <a:ext cx="684360" cy="1467720"/>
            </a:xfrm>
            <a:prstGeom prst="line">
              <a:avLst/>
            </a:prstGeom>
            <a:ln w="38160">
              <a:solidFill>
                <a:srgbClr val="1b9b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直接连接符 31"/>
            <p:cNvSpPr/>
            <p:nvPr/>
          </p:nvSpPr>
          <p:spPr>
            <a:xfrm>
              <a:off x="4558680" y="5567400"/>
              <a:ext cx="1468800" cy="685080"/>
            </a:xfrm>
            <a:prstGeom prst="line">
              <a:avLst/>
            </a:prstGeom>
            <a:ln w="38160">
              <a:solidFill>
                <a:srgbClr val="1b9b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组合 33"/>
          <p:cNvGrpSpPr/>
          <p:nvPr/>
        </p:nvGrpSpPr>
        <p:grpSpPr>
          <a:xfrm>
            <a:off x="3734280" y="3981240"/>
            <a:ext cx="4568040" cy="4567320"/>
            <a:chOff x="3734280" y="3981240"/>
            <a:chExt cx="4568040" cy="4567320"/>
          </a:xfrm>
        </p:grpSpPr>
        <p:sp>
          <p:nvSpPr>
            <p:cNvPr id="835" name="弧形 34"/>
            <p:cNvSpPr/>
            <p:nvPr/>
          </p:nvSpPr>
          <p:spPr>
            <a:xfrm flipH="1" rot="3000000">
              <a:off x="4397400" y="4642560"/>
              <a:ext cx="3240360" cy="3243960"/>
            </a:xfrm>
            <a:custGeom>
              <a:avLst/>
              <a:gdLst>
                <a:gd name="textAreaLeft" fmla="*/ 1620360 w 3240360"/>
                <a:gd name="textAreaRight" fmla="*/ 3240720 w 3240360"/>
                <a:gd name="textAreaTop" fmla="*/ 0 h 3243960"/>
                <a:gd name="textAreaBottom" fmla="*/ 1622160 h 3243960"/>
              </a:gdLst>
              <a:ahLst/>
              <a:rect l="textAreaLeft" t="textAreaTop" r="textAreaRight" b="textAreaBottom"/>
              <a:pathLst>
                <a:path stroke="0" w="3240001" h="3240691">
                  <a:moveTo>
                    <a:pt x="1620002" y="0"/>
                  </a:moveTo>
                  <a:lnTo>
                    <a:pt x="1620002" y="0"/>
                  </a:lnTo>
                  <a:arcTo wR="1620001" hR="1620346" stAng="-5399996" swAng="5400004"/>
                  <a:lnTo>
                    <a:pt x="1620001" y="1620346"/>
                  </a:lnTo>
                  <a:close/>
                </a:path>
                <a:path fill="none" w="3240001" h="3240691">
                  <a:moveTo>
                    <a:pt x="1620002" y="0"/>
                  </a:moveTo>
                  <a:lnTo>
                    <a:pt x="1620002" y="0"/>
                  </a:lnTo>
                  <a:arcTo wR="1620001" hR="1620346" stAng="-5399996" swAng="5400004"/>
                </a:path>
              </a:pathLst>
            </a:custGeom>
            <a:noFill/>
            <a:ln w="38160">
              <a:solidFill>
                <a:srgbClr val="1b9b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直接连接符 35"/>
            <p:cNvSpPr/>
            <p:nvPr/>
          </p:nvSpPr>
          <p:spPr>
            <a:xfrm flipH="1">
              <a:off x="6024240" y="5220720"/>
              <a:ext cx="1242360" cy="1042200"/>
            </a:xfrm>
            <a:prstGeom prst="line">
              <a:avLst/>
            </a:prstGeom>
            <a:ln w="38160">
              <a:solidFill>
                <a:srgbClr val="1b9b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直接连接符 36"/>
            <p:cNvSpPr/>
            <p:nvPr/>
          </p:nvSpPr>
          <p:spPr>
            <a:xfrm>
              <a:off x="4989600" y="5016960"/>
              <a:ext cx="1041840" cy="1242000"/>
            </a:xfrm>
            <a:prstGeom prst="line">
              <a:avLst/>
            </a:prstGeom>
            <a:ln w="38160">
              <a:solidFill>
                <a:srgbClr val="1b9b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组合 37"/>
          <p:cNvGrpSpPr/>
          <p:nvPr/>
        </p:nvGrpSpPr>
        <p:grpSpPr>
          <a:xfrm>
            <a:off x="4026600" y="4281840"/>
            <a:ext cx="3968280" cy="3968280"/>
            <a:chOff x="4026600" y="4281840"/>
            <a:chExt cx="3968280" cy="3968280"/>
          </a:xfrm>
        </p:grpSpPr>
        <p:sp>
          <p:nvSpPr>
            <p:cNvPr id="839" name="弧形 38"/>
            <p:cNvSpPr/>
            <p:nvPr/>
          </p:nvSpPr>
          <p:spPr>
            <a:xfrm flipH="1" rot="4500000">
              <a:off x="4390200" y="4645440"/>
              <a:ext cx="3240000" cy="3240360"/>
            </a:xfrm>
            <a:custGeom>
              <a:avLst/>
              <a:gdLst>
                <a:gd name="textAreaLeft" fmla="*/ 1620360 w 3240000"/>
                <a:gd name="textAreaRight" fmla="*/ 3240720 w 3240000"/>
                <a:gd name="textAreaTop" fmla="*/ 0 h 3240360"/>
                <a:gd name="textAreaBottom" fmla="*/ 1620360 h 3240360"/>
              </a:gdLst>
              <a:ahLst/>
              <a:rect l="textAreaLeft" t="textAreaTop" r="textAreaRight" b="textAreaBottom"/>
              <a:pathLst>
                <a:path stroke="0" w="3240000" h="3240687">
                  <a:moveTo>
                    <a:pt x="1620002" y="0"/>
                  </a:moveTo>
                  <a:lnTo>
                    <a:pt x="1620002" y="0"/>
                  </a:lnTo>
                  <a:arcTo wR="1620000" hR="1620344" stAng="-5399996" swAng="5400004"/>
                  <a:lnTo>
                    <a:pt x="1620000" y="1620344"/>
                  </a:lnTo>
                  <a:close/>
                </a:path>
                <a:path fill="none" w="3240000" h="3240687">
                  <a:moveTo>
                    <a:pt x="1620002" y="0"/>
                  </a:moveTo>
                  <a:lnTo>
                    <a:pt x="1620002" y="0"/>
                  </a:lnTo>
                  <a:arcTo wR="1620000" hR="1620344" stAng="-5399996" swAng="5400004"/>
                </a:path>
              </a:pathLst>
            </a:custGeom>
            <a:noFill/>
            <a:ln w="38160">
              <a:solidFill>
                <a:srgbClr val="1b9b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直接连接符 39"/>
            <p:cNvSpPr/>
            <p:nvPr/>
          </p:nvSpPr>
          <p:spPr>
            <a:xfrm flipH="1">
              <a:off x="6020280" y="5847840"/>
              <a:ext cx="1564200" cy="419040"/>
            </a:xfrm>
            <a:prstGeom prst="line">
              <a:avLst/>
            </a:prstGeom>
            <a:ln w="38160">
              <a:solidFill>
                <a:srgbClr val="1b9b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直接连接符 40"/>
            <p:cNvSpPr/>
            <p:nvPr/>
          </p:nvSpPr>
          <p:spPr>
            <a:xfrm>
              <a:off x="5605200" y="4702320"/>
              <a:ext cx="419400" cy="1565280"/>
            </a:xfrm>
            <a:prstGeom prst="line">
              <a:avLst/>
            </a:prstGeom>
            <a:ln w="38160">
              <a:solidFill>
                <a:srgbClr val="1b9b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组合 41"/>
          <p:cNvGrpSpPr/>
          <p:nvPr/>
        </p:nvGrpSpPr>
        <p:grpSpPr>
          <a:xfrm>
            <a:off x="4385880" y="4626000"/>
            <a:ext cx="3249720" cy="3240000"/>
            <a:chOff x="4385880" y="4626000"/>
            <a:chExt cx="3249720" cy="3240000"/>
          </a:xfrm>
        </p:grpSpPr>
        <p:sp>
          <p:nvSpPr>
            <p:cNvPr id="843" name="弧形 42"/>
            <p:cNvSpPr/>
            <p:nvPr/>
          </p:nvSpPr>
          <p:spPr>
            <a:xfrm flipH="1" rot="5400000">
              <a:off x="4387680" y="4624200"/>
              <a:ext cx="3240000" cy="3243600"/>
            </a:xfrm>
            <a:custGeom>
              <a:avLst/>
              <a:gdLst>
                <a:gd name="textAreaLeft" fmla="*/ 1620360 w 3240000"/>
                <a:gd name="textAreaRight" fmla="*/ 3240720 w 3240000"/>
                <a:gd name="textAreaTop" fmla="*/ 0 h 3243600"/>
                <a:gd name="textAreaBottom" fmla="*/ 1621800 h 3243600"/>
              </a:gdLst>
              <a:ahLst/>
              <a:rect l="textAreaLeft" t="textAreaTop" r="textAreaRight" b="textAreaBottom"/>
              <a:pathLst>
                <a:path stroke="0" w="3240000" h="3240691">
                  <a:moveTo>
                    <a:pt x="1620002" y="0"/>
                  </a:moveTo>
                  <a:lnTo>
                    <a:pt x="1620002" y="0"/>
                  </a:lnTo>
                  <a:arcTo wR="1620000" hR="1620346" stAng="-5399996" swAng="5400004"/>
                  <a:lnTo>
                    <a:pt x="1620000" y="1620346"/>
                  </a:lnTo>
                  <a:close/>
                </a:path>
                <a:path fill="none" w="3240000" h="3240691">
                  <a:moveTo>
                    <a:pt x="1620002" y="0"/>
                  </a:moveTo>
                  <a:lnTo>
                    <a:pt x="1620002" y="0"/>
                  </a:lnTo>
                  <a:arcTo wR="1620000" hR="1620346" stAng="-5399996" swAng="5400004"/>
                </a:path>
              </a:pathLst>
            </a:custGeom>
            <a:noFill/>
            <a:ln w="3816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直接连接符 43"/>
            <p:cNvSpPr/>
            <p:nvPr/>
          </p:nvSpPr>
          <p:spPr>
            <a:xfrm flipH="1">
              <a:off x="6013800" y="6246720"/>
              <a:ext cx="1621800" cy="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直接连接符 44"/>
            <p:cNvSpPr/>
            <p:nvPr/>
          </p:nvSpPr>
          <p:spPr>
            <a:xfrm>
              <a:off x="6020280" y="4628880"/>
              <a:ext cx="0" cy="162072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04 0.00232 L 0.29636 0.00232 E">
                                      <p:cBhvr>
                                        <p:cTn id="175" dur="2000" fill="hold"/>
                                        <p:tgtEl>
                                          <p:spTgt spid="8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任意多边形 51"/>
          <p:cNvSpPr/>
          <p:nvPr/>
        </p:nvSpPr>
        <p:spPr>
          <a:xfrm>
            <a:off x="2540160" y="4005360"/>
            <a:ext cx="1137960" cy="722160"/>
          </a:xfrm>
          <a:custGeom>
            <a:avLst/>
            <a:gdLst/>
            <a:ahLst/>
            <a:rect l="l" t="t" r="r" b="b"/>
            <a:pathLst>
              <a:path w="1137684" h="723014">
                <a:moveTo>
                  <a:pt x="0" y="0"/>
                </a:moveTo>
                <a:lnTo>
                  <a:pt x="850605" y="0"/>
                </a:lnTo>
                <a:lnTo>
                  <a:pt x="1137684" y="372139"/>
                </a:lnTo>
                <a:lnTo>
                  <a:pt x="871870" y="723014"/>
                </a:lnTo>
                <a:lnTo>
                  <a:pt x="0" y="723014"/>
                </a:lnTo>
                <a:lnTo>
                  <a:pt x="584791" y="372139"/>
                </a:lnTo>
                <a:lnTo>
                  <a:pt x="0" y="0"/>
                </a:lnTo>
                <a:close/>
              </a:path>
            </a:pathLst>
          </a:custGeom>
          <a:solidFill>
            <a:srgbClr val="f89074"/>
          </a:solidFill>
          <a:ln w="255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2" descr="10"/>
          <p:cNvPicPr/>
          <p:nvPr/>
        </p:nvPicPr>
        <p:blipFill>
          <a:blip r:embed="rId1"/>
          <a:stretch/>
        </p:blipFill>
        <p:spPr>
          <a:xfrm>
            <a:off x="993600" y="62064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848" name="TextBox 4"/>
          <p:cNvSpPr/>
          <p:nvPr/>
        </p:nvSpPr>
        <p:spPr>
          <a:xfrm>
            <a:off x="596880" y="1413000"/>
            <a:ext cx="81518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一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向右平移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得到图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直线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对称轴，画出图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轴对称图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9" name=""/>
          <p:cNvGraphicFramePr/>
          <p:nvPr/>
        </p:nvGraphicFramePr>
        <p:xfrm>
          <a:off x="1979640" y="3645000"/>
          <a:ext cx="4535640" cy="2519280"/>
        </p:xfrm>
        <a:graphic>
          <a:graphicData uri="http://schemas.openxmlformats.org/drawingml/2006/table">
            <a:tbl>
              <a:tblPr/>
              <a:tblGrid>
                <a:gridCol w="566640"/>
                <a:gridCol w="566640"/>
                <a:gridCol w="567000"/>
                <a:gridCol w="568080"/>
                <a:gridCol w="567000"/>
                <a:gridCol w="566640"/>
                <a:gridCol w="566640"/>
                <a:gridCol w="56700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0" name="任意多边形 46"/>
          <p:cNvSpPr/>
          <p:nvPr/>
        </p:nvSpPr>
        <p:spPr>
          <a:xfrm>
            <a:off x="2544840" y="4005360"/>
            <a:ext cx="1138320" cy="722160"/>
          </a:xfrm>
          <a:custGeom>
            <a:avLst/>
            <a:gdLst/>
            <a:ahLst/>
            <a:rect l="l" t="t" r="r" b="b"/>
            <a:pathLst>
              <a:path w="1137684" h="723014">
                <a:moveTo>
                  <a:pt x="0" y="0"/>
                </a:moveTo>
                <a:lnTo>
                  <a:pt x="850605" y="0"/>
                </a:lnTo>
                <a:lnTo>
                  <a:pt x="1137684" y="372139"/>
                </a:lnTo>
                <a:lnTo>
                  <a:pt x="871870" y="723014"/>
                </a:lnTo>
                <a:lnTo>
                  <a:pt x="0" y="723014"/>
                </a:lnTo>
                <a:lnTo>
                  <a:pt x="584791" y="372139"/>
                </a:lnTo>
                <a:lnTo>
                  <a:pt x="0" y="0"/>
                </a:lnTo>
                <a:close/>
              </a:path>
            </a:pathLst>
          </a:custGeom>
          <a:solidFill>
            <a:srgbClr val="f8907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47"/>
          <p:cNvSpPr/>
          <p:nvPr/>
        </p:nvSpPr>
        <p:spPr>
          <a:xfrm>
            <a:off x="3151080" y="407988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直接连接符 49"/>
          <p:cNvSpPr/>
          <p:nvPr/>
        </p:nvSpPr>
        <p:spPr>
          <a:xfrm>
            <a:off x="1979640" y="4727520"/>
            <a:ext cx="4537080" cy="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50"/>
          <p:cNvSpPr/>
          <p:nvPr/>
        </p:nvSpPr>
        <p:spPr>
          <a:xfrm>
            <a:off x="2052720" y="46022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任意多边形 52"/>
          <p:cNvSpPr/>
          <p:nvPr/>
        </p:nvSpPr>
        <p:spPr>
          <a:xfrm>
            <a:off x="3114720" y="4005360"/>
            <a:ext cx="1138320" cy="722160"/>
          </a:xfrm>
          <a:custGeom>
            <a:avLst/>
            <a:gdLst/>
            <a:ahLst/>
            <a:rect l="l" t="t" r="r" b="b"/>
            <a:pathLst>
              <a:path w="1137684" h="723014">
                <a:moveTo>
                  <a:pt x="0" y="0"/>
                </a:moveTo>
                <a:lnTo>
                  <a:pt x="850605" y="0"/>
                </a:lnTo>
                <a:lnTo>
                  <a:pt x="1137684" y="372139"/>
                </a:lnTo>
                <a:lnTo>
                  <a:pt x="871870" y="723014"/>
                </a:lnTo>
                <a:lnTo>
                  <a:pt x="0" y="723014"/>
                </a:lnTo>
                <a:lnTo>
                  <a:pt x="584791" y="372139"/>
                </a:lnTo>
                <a:lnTo>
                  <a:pt x="0" y="0"/>
                </a:lnTo>
                <a:close/>
              </a:path>
            </a:pathLst>
          </a:custGeom>
          <a:solidFill>
            <a:srgbClr val="f8907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任意多边形 53"/>
          <p:cNvSpPr/>
          <p:nvPr/>
        </p:nvSpPr>
        <p:spPr>
          <a:xfrm>
            <a:off x="3666960" y="4005360"/>
            <a:ext cx="1138320" cy="722160"/>
          </a:xfrm>
          <a:custGeom>
            <a:avLst/>
            <a:gdLst/>
            <a:ahLst/>
            <a:rect l="l" t="t" r="r" b="b"/>
            <a:pathLst>
              <a:path w="1137684" h="723014">
                <a:moveTo>
                  <a:pt x="0" y="0"/>
                </a:moveTo>
                <a:lnTo>
                  <a:pt x="850605" y="0"/>
                </a:lnTo>
                <a:lnTo>
                  <a:pt x="1137684" y="372139"/>
                </a:lnTo>
                <a:lnTo>
                  <a:pt x="871870" y="723014"/>
                </a:lnTo>
                <a:lnTo>
                  <a:pt x="0" y="723014"/>
                </a:lnTo>
                <a:lnTo>
                  <a:pt x="584791" y="372139"/>
                </a:lnTo>
                <a:lnTo>
                  <a:pt x="0" y="0"/>
                </a:lnTo>
                <a:close/>
              </a:path>
            </a:pathLst>
          </a:custGeom>
          <a:solidFill>
            <a:srgbClr val="f8907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任意多边形 54"/>
          <p:cNvSpPr/>
          <p:nvPr/>
        </p:nvSpPr>
        <p:spPr>
          <a:xfrm>
            <a:off x="4241880" y="4005360"/>
            <a:ext cx="1138320" cy="722160"/>
          </a:xfrm>
          <a:custGeom>
            <a:avLst/>
            <a:gdLst/>
            <a:ahLst/>
            <a:rect l="l" t="t" r="r" b="b"/>
            <a:pathLst>
              <a:path w="1137684" h="723014">
                <a:moveTo>
                  <a:pt x="0" y="0"/>
                </a:moveTo>
                <a:lnTo>
                  <a:pt x="850605" y="0"/>
                </a:lnTo>
                <a:lnTo>
                  <a:pt x="1137684" y="372139"/>
                </a:lnTo>
                <a:lnTo>
                  <a:pt x="871870" y="723014"/>
                </a:lnTo>
                <a:lnTo>
                  <a:pt x="0" y="723014"/>
                </a:lnTo>
                <a:lnTo>
                  <a:pt x="584791" y="372139"/>
                </a:lnTo>
                <a:lnTo>
                  <a:pt x="0" y="0"/>
                </a:lnTo>
                <a:close/>
              </a:path>
            </a:pathLst>
          </a:custGeom>
          <a:solidFill>
            <a:srgbClr val="f8907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55"/>
          <p:cNvSpPr/>
          <p:nvPr/>
        </p:nvSpPr>
        <p:spPr>
          <a:xfrm>
            <a:off x="4805280" y="407988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椭圆 56"/>
          <p:cNvSpPr/>
          <p:nvPr/>
        </p:nvSpPr>
        <p:spPr>
          <a:xfrm>
            <a:off x="5346720" y="5048280"/>
            <a:ext cx="7128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椭圆 57"/>
          <p:cNvSpPr/>
          <p:nvPr/>
        </p:nvSpPr>
        <p:spPr>
          <a:xfrm>
            <a:off x="5078520" y="4691160"/>
            <a:ext cx="7308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椭圆 58"/>
          <p:cNvSpPr/>
          <p:nvPr/>
        </p:nvSpPr>
        <p:spPr>
          <a:xfrm>
            <a:off x="5078520" y="540216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椭圆 59"/>
          <p:cNvSpPr/>
          <p:nvPr/>
        </p:nvSpPr>
        <p:spPr>
          <a:xfrm>
            <a:off x="4214880" y="5398920"/>
            <a:ext cx="712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椭圆 60"/>
          <p:cNvSpPr/>
          <p:nvPr/>
        </p:nvSpPr>
        <p:spPr>
          <a:xfrm>
            <a:off x="4213080" y="4691160"/>
            <a:ext cx="7308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椭圆 61"/>
          <p:cNvSpPr/>
          <p:nvPr/>
        </p:nvSpPr>
        <p:spPr>
          <a:xfrm>
            <a:off x="4780080" y="5052960"/>
            <a:ext cx="712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直接连接符 63"/>
          <p:cNvSpPr/>
          <p:nvPr/>
        </p:nvSpPr>
        <p:spPr>
          <a:xfrm>
            <a:off x="5126040" y="4726080"/>
            <a:ext cx="26496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直接连接符 67"/>
          <p:cNvSpPr/>
          <p:nvPr/>
        </p:nvSpPr>
        <p:spPr>
          <a:xfrm flipH="1">
            <a:off x="5114520" y="5092560"/>
            <a:ext cx="28908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直接连接符 69"/>
          <p:cNvSpPr/>
          <p:nvPr/>
        </p:nvSpPr>
        <p:spPr>
          <a:xfrm flipH="1">
            <a:off x="4246200" y="5435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直接连接符 71"/>
          <p:cNvSpPr/>
          <p:nvPr/>
        </p:nvSpPr>
        <p:spPr>
          <a:xfrm flipV="1">
            <a:off x="4262400" y="5092560"/>
            <a:ext cx="539640" cy="3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直接连接符 73"/>
          <p:cNvSpPr/>
          <p:nvPr/>
        </p:nvSpPr>
        <p:spPr>
          <a:xfrm flipH="1" flipV="1">
            <a:off x="4282560" y="4751280"/>
            <a:ext cx="505080" cy="33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9" name="Picture 2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99360" y="599436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870" name="TextBox 25"/>
          <p:cNvSpPr/>
          <p:nvPr/>
        </p:nvSpPr>
        <p:spPr>
          <a:xfrm>
            <a:off x="4802040" y="475128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3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组合 36"/>
          <p:cNvGrpSpPr/>
          <p:nvPr/>
        </p:nvGrpSpPr>
        <p:grpSpPr>
          <a:xfrm>
            <a:off x="4346640" y="2276280"/>
            <a:ext cx="1439640" cy="1471320"/>
            <a:chOff x="4346640" y="2276280"/>
            <a:chExt cx="1439640" cy="1471320"/>
          </a:xfrm>
        </p:grpSpPr>
        <p:grpSp>
          <p:nvGrpSpPr>
            <p:cNvPr id="872" name="组合 25"/>
            <p:cNvGrpSpPr/>
            <p:nvPr/>
          </p:nvGrpSpPr>
          <p:grpSpPr>
            <a:xfrm>
              <a:off x="4346640" y="2276280"/>
              <a:ext cx="1439640" cy="1471320"/>
              <a:chOff x="4346640" y="2276280"/>
              <a:chExt cx="1439640" cy="1471320"/>
            </a:xfrm>
          </p:grpSpPr>
          <p:sp>
            <p:nvSpPr>
              <p:cNvPr id="873" name="矩形 41"/>
              <p:cNvSpPr/>
              <p:nvPr/>
            </p:nvSpPr>
            <p:spPr>
              <a:xfrm flipV="1">
                <a:off x="5066280" y="2991600"/>
                <a:ext cx="720000" cy="756000"/>
              </a:xfrm>
              <a:prstGeom prst="rect">
                <a:avLst/>
              </a:prstGeom>
              <a:solidFill>
                <a:srgbClr val="cece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弧形 43"/>
              <p:cNvSpPr/>
              <p:nvPr/>
            </p:nvSpPr>
            <p:spPr>
              <a:xfrm flipV="1">
                <a:off x="4346640" y="2276280"/>
                <a:ext cx="1439640" cy="1440000"/>
              </a:xfrm>
              <a:custGeom>
                <a:avLst/>
                <a:gdLst>
                  <a:gd name="textAreaLeft" fmla="*/ 720000 w 1439640"/>
                  <a:gd name="textAreaRight" fmla="*/ 1440000 w 1439640"/>
                  <a:gd name="textAreaTop" fmla="*/ 0 h 1440000"/>
                  <a:gd name="textAreaBottom" fmla="*/ 720000 h 1440000"/>
                </a:gdLst>
                <a:ahLst/>
                <a:rect l="textAreaLeft" t="textAreaTop" r="textAreaRight" b="textAreaBottom"/>
                <a:pathLst>
                  <a:path stroke="0" w="1440000" h="1440000">
                    <a:moveTo>
                      <a:pt x="720001" y="0"/>
                    </a:moveTo>
                    <a:lnTo>
                      <a:pt x="720001" y="0"/>
                    </a:lnTo>
                    <a:arcTo wR="720000" hR="720000" stAng="-5399995" swAng="5400005"/>
                    <a:lnTo>
                      <a:pt x="720000" y="720000"/>
                    </a:lnTo>
                    <a:close/>
                  </a:path>
                  <a:path fill="none" w="1440000" h="1440000">
                    <a:moveTo>
                      <a:pt x="720001" y="0"/>
                    </a:moveTo>
                    <a:lnTo>
                      <a:pt x="720001" y="0"/>
                    </a:lnTo>
                    <a:arcTo wR="720000" hR="720000" stAng="-5399995" swAng="5400005"/>
                  </a:path>
                </a:pathLst>
              </a:custGeom>
              <a:noFill/>
              <a:ln w="2844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弧形 38"/>
            <p:cNvSpPr/>
            <p:nvPr/>
          </p:nvSpPr>
          <p:spPr>
            <a:xfrm flipV="1">
              <a:off x="4746960" y="3077280"/>
              <a:ext cx="611640" cy="396000"/>
            </a:xfrm>
            <a:custGeom>
              <a:avLst/>
              <a:gdLst>
                <a:gd name="textAreaLeft" fmla="*/ 306000 w 611640"/>
                <a:gd name="textAreaRight" fmla="*/ 612000 w 611640"/>
                <a:gd name="textAreaTop" fmla="*/ 0 h 396000"/>
                <a:gd name="textAreaBottom" fmla="*/ 198000 h 396000"/>
              </a:gdLst>
              <a:ahLst/>
              <a:rect l="textAreaLeft" t="textAreaTop" r="textAreaRight" b="textAreaBottom"/>
              <a:pathLst>
                <a:path stroke="0" w="612000" h="396000">
                  <a:moveTo>
                    <a:pt x="306000" y="0"/>
                  </a:moveTo>
                  <a:lnTo>
                    <a:pt x="306000" y="0"/>
                  </a:lnTo>
                  <a:arcTo wR="306000" hR="198000" stAng="-5400000" swAng="5400011"/>
                  <a:lnTo>
                    <a:pt x="306000" y="198000"/>
                  </a:lnTo>
                  <a:close/>
                </a:path>
                <a:path fill="none" w="612000" h="396000">
                  <a:moveTo>
                    <a:pt x="306000" y="0"/>
                  </a:moveTo>
                  <a:lnTo>
                    <a:pt x="306000" y="0"/>
                  </a:lnTo>
                  <a:arcTo wR="306000" hR="198000" stAng="-5400000" swAng="5400011"/>
                </a:path>
              </a:pathLst>
            </a:custGeom>
            <a:noFill/>
            <a:ln w="28440">
              <a:solidFill>
                <a:srgbClr val="1b9b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6" name="组合 44"/>
          <p:cNvGrpSpPr/>
          <p:nvPr/>
        </p:nvGrpSpPr>
        <p:grpSpPr>
          <a:xfrm>
            <a:off x="7205760" y="3717720"/>
            <a:ext cx="1469880" cy="1439640"/>
            <a:chOff x="7205760" y="3717720"/>
            <a:chExt cx="1469880" cy="1439640"/>
          </a:xfrm>
        </p:grpSpPr>
        <p:grpSp>
          <p:nvGrpSpPr>
            <p:cNvPr id="877" name="组合 25"/>
            <p:cNvGrpSpPr/>
            <p:nvPr/>
          </p:nvGrpSpPr>
          <p:grpSpPr>
            <a:xfrm>
              <a:off x="7205760" y="3717720"/>
              <a:ext cx="1469880" cy="1439640"/>
              <a:chOff x="7205760" y="3717720"/>
              <a:chExt cx="1469880" cy="1439640"/>
            </a:xfrm>
          </p:grpSpPr>
          <p:sp>
            <p:nvSpPr>
              <p:cNvPr id="878" name="矩形 47"/>
              <p:cNvSpPr/>
              <p:nvPr/>
            </p:nvSpPr>
            <p:spPr>
              <a:xfrm flipH="1" flipV="1" rot="5400000">
                <a:off x="7223400" y="3700080"/>
                <a:ext cx="720000" cy="755280"/>
              </a:xfrm>
              <a:prstGeom prst="rect">
                <a:avLst/>
              </a:prstGeom>
              <a:solidFill>
                <a:srgbClr val="cece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弧形 48"/>
              <p:cNvSpPr/>
              <p:nvPr/>
            </p:nvSpPr>
            <p:spPr>
              <a:xfrm flipH="1" flipV="1" rot="5400000">
                <a:off x="7236360" y="3717720"/>
                <a:ext cx="1439640" cy="1438560"/>
              </a:xfrm>
              <a:custGeom>
                <a:avLst/>
                <a:gdLst>
                  <a:gd name="textAreaLeft" fmla="*/ 719640 w 1439640"/>
                  <a:gd name="textAreaRight" fmla="*/ 1439640 w 1439640"/>
                  <a:gd name="textAreaTop" fmla="*/ 0 h 1438560"/>
                  <a:gd name="textAreaBottom" fmla="*/ 719280 h 1438560"/>
                </a:gdLst>
                <a:ahLst/>
                <a:rect l="textAreaLeft" t="textAreaTop" r="textAreaRight" b="textAreaBottom"/>
                <a:pathLst>
                  <a:path stroke="0" w="1440000" h="1440000">
                    <a:moveTo>
                      <a:pt x="720001" y="0"/>
                    </a:moveTo>
                    <a:lnTo>
                      <a:pt x="720001" y="0"/>
                    </a:lnTo>
                    <a:arcTo wR="720000" hR="720000" stAng="-5399995" swAng="5400005"/>
                    <a:lnTo>
                      <a:pt x="720000" y="720000"/>
                    </a:lnTo>
                    <a:close/>
                  </a:path>
                  <a:path fill="none" w="1440000" h="1440000">
                    <a:moveTo>
                      <a:pt x="720001" y="0"/>
                    </a:moveTo>
                    <a:lnTo>
                      <a:pt x="720001" y="0"/>
                    </a:lnTo>
                    <a:arcTo wR="720000" hR="720000" stAng="-5399995" swAng="5400005"/>
                  </a:path>
                </a:pathLst>
              </a:custGeom>
              <a:noFill/>
              <a:ln w="2844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0" name="弧形 46"/>
            <p:cNvSpPr/>
            <p:nvPr/>
          </p:nvSpPr>
          <p:spPr>
            <a:xfrm flipH="1" flipV="1" rot="5400000">
              <a:off x="7371720" y="4253040"/>
              <a:ext cx="611640" cy="395640"/>
            </a:xfrm>
            <a:custGeom>
              <a:avLst/>
              <a:gdLst>
                <a:gd name="textAreaLeft" fmla="*/ 305640 w 611640"/>
                <a:gd name="textAreaRight" fmla="*/ 611640 w 611640"/>
                <a:gd name="textAreaTop" fmla="*/ -360 h 395640"/>
                <a:gd name="textAreaBottom" fmla="*/ 197640 h 395640"/>
              </a:gdLst>
              <a:ahLst/>
              <a:rect l="textAreaLeft" t="textAreaTop" r="textAreaRight" b="textAreaBottom"/>
              <a:pathLst>
                <a:path stroke="0" w="612000" h="396000">
                  <a:moveTo>
                    <a:pt x="306000" y="0"/>
                  </a:moveTo>
                  <a:lnTo>
                    <a:pt x="306000" y="0"/>
                  </a:lnTo>
                  <a:arcTo wR="306000" hR="198000" stAng="-5400000" swAng="5400011"/>
                  <a:lnTo>
                    <a:pt x="306000" y="198000"/>
                  </a:lnTo>
                  <a:close/>
                </a:path>
                <a:path fill="none" w="612000" h="396000">
                  <a:moveTo>
                    <a:pt x="306000" y="0"/>
                  </a:moveTo>
                  <a:lnTo>
                    <a:pt x="306000" y="0"/>
                  </a:lnTo>
                  <a:arcTo wR="306000" hR="198000" stAng="-5400000" swAng="5400011"/>
                </a:path>
              </a:pathLst>
            </a:custGeom>
            <a:noFill/>
            <a:ln w="28440">
              <a:solidFill>
                <a:srgbClr val="1b9b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组合 24"/>
          <p:cNvGrpSpPr/>
          <p:nvPr/>
        </p:nvGrpSpPr>
        <p:grpSpPr>
          <a:xfrm>
            <a:off x="5772240" y="2292120"/>
            <a:ext cx="1455480" cy="1439640"/>
            <a:chOff x="5772240" y="2292120"/>
            <a:chExt cx="1455480" cy="1439640"/>
          </a:xfrm>
        </p:grpSpPr>
        <p:grpSp>
          <p:nvGrpSpPr>
            <p:cNvPr id="882" name="组合 17"/>
            <p:cNvGrpSpPr/>
            <p:nvPr/>
          </p:nvGrpSpPr>
          <p:grpSpPr>
            <a:xfrm>
              <a:off x="5772240" y="2292480"/>
              <a:ext cx="756000" cy="720000"/>
              <a:chOff x="5772240" y="2292480"/>
              <a:chExt cx="756000" cy="720000"/>
            </a:xfrm>
          </p:grpSpPr>
          <p:sp>
            <p:nvSpPr>
              <p:cNvPr id="883" name="矩形 22"/>
              <p:cNvSpPr/>
              <p:nvPr/>
            </p:nvSpPr>
            <p:spPr>
              <a:xfrm rot="16200000">
                <a:off x="5790240" y="2274480"/>
                <a:ext cx="720000" cy="756000"/>
              </a:xfrm>
              <a:prstGeom prst="rect">
                <a:avLst/>
              </a:prstGeom>
              <a:solidFill>
                <a:srgbClr val="cece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椭圆 23"/>
              <p:cNvSpPr/>
              <p:nvPr/>
            </p:nvSpPr>
            <p:spPr>
              <a:xfrm rot="16200000">
                <a:off x="6073560" y="2704320"/>
                <a:ext cx="252000" cy="252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5" name="弧形 21"/>
            <p:cNvSpPr/>
            <p:nvPr/>
          </p:nvSpPr>
          <p:spPr>
            <a:xfrm rot="16200000">
              <a:off x="5787720" y="2291760"/>
              <a:ext cx="1439640" cy="1440000"/>
            </a:xfrm>
            <a:custGeom>
              <a:avLst/>
              <a:gdLst>
                <a:gd name="textAreaLeft" fmla="*/ 720000 w 1439640"/>
                <a:gd name="textAreaRight" fmla="*/ 1440000 w 1439640"/>
                <a:gd name="textAreaTop" fmla="*/ 0 h 1440000"/>
                <a:gd name="textAreaBottom" fmla="*/ 720000 h 1440000"/>
              </a:gdLst>
              <a:ahLst/>
              <a:rect l="textAreaLeft" t="textAreaTop" r="textAreaRight" b="textAreaBottom"/>
              <a:pathLst>
                <a:path stroke="0" w="1440000" h="1440000">
                  <a:moveTo>
                    <a:pt x="720001" y="0"/>
                  </a:moveTo>
                  <a:lnTo>
                    <a:pt x="720001" y="0"/>
                  </a:lnTo>
                  <a:arcTo wR="720000" hR="720000" stAng="-5399995" swAng="5400005"/>
                  <a:lnTo>
                    <a:pt x="720000" y="720000"/>
                  </a:lnTo>
                  <a:close/>
                </a:path>
                <a:path fill="none" w="1440000" h="1440000">
                  <a:moveTo>
                    <a:pt x="720001" y="0"/>
                  </a:moveTo>
                  <a:lnTo>
                    <a:pt x="720001" y="0"/>
                  </a:lnTo>
                  <a:arcTo wR="720000" hR="720000" stAng="-5399995" swAng="5400005"/>
                </a:path>
              </a:pathLst>
            </a:custGeom>
            <a:noFill/>
            <a:ln w="2844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组合 18"/>
          <p:cNvGrpSpPr/>
          <p:nvPr/>
        </p:nvGrpSpPr>
        <p:grpSpPr>
          <a:xfrm>
            <a:off x="5772240" y="2276640"/>
            <a:ext cx="1439640" cy="1455480"/>
            <a:chOff x="5772240" y="2276640"/>
            <a:chExt cx="1439640" cy="1455480"/>
          </a:xfrm>
        </p:grpSpPr>
        <p:grpSp>
          <p:nvGrpSpPr>
            <p:cNvPr id="887" name="组合 17"/>
            <p:cNvGrpSpPr/>
            <p:nvPr/>
          </p:nvGrpSpPr>
          <p:grpSpPr>
            <a:xfrm>
              <a:off x="6491880" y="2276640"/>
              <a:ext cx="720000" cy="756000"/>
              <a:chOff x="6491880" y="2276640"/>
              <a:chExt cx="720000" cy="756000"/>
            </a:xfrm>
          </p:grpSpPr>
          <p:sp>
            <p:nvSpPr>
              <p:cNvPr id="888" name="矩形 16"/>
              <p:cNvSpPr/>
              <p:nvPr/>
            </p:nvSpPr>
            <p:spPr>
              <a:xfrm>
                <a:off x="6491880" y="2276640"/>
                <a:ext cx="720000" cy="756000"/>
              </a:xfrm>
              <a:prstGeom prst="rect">
                <a:avLst/>
              </a:prstGeom>
              <a:solidFill>
                <a:srgbClr val="cece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椭圆 13"/>
              <p:cNvSpPr/>
              <p:nvPr/>
            </p:nvSpPr>
            <p:spPr>
              <a:xfrm>
                <a:off x="6687720" y="2704320"/>
                <a:ext cx="252000" cy="252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弧形 12"/>
            <p:cNvSpPr/>
            <p:nvPr/>
          </p:nvSpPr>
          <p:spPr>
            <a:xfrm>
              <a:off x="5772240" y="2292120"/>
              <a:ext cx="1439640" cy="1440000"/>
            </a:xfrm>
            <a:custGeom>
              <a:avLst/>
              <a:gdLst>
                <a:gd name="textAreaLeft" fmla="*/ 720000 w 1439640"/>
                <a:gd name="textAreaRight" fmla="*/ 1440000 w 1439640"/>
                <a:gd name="textAreaTop" fmla="*/ 0 h 1440000"/>
                <a:gd name="textAreaBottom" fmla="*/ 720000 h 1440000"/>
              </a:gdLst>
              <a:ahLst/>
              <a:rect l="textAreaLeft" t="textAreaTop" r="textAreaRight" b="textAreaBottom"/>
              <a:pathLst>
                <a:path stroke="0" w="1440000" h="1440000">
                  <a:moveTo>
                    <a:pt x="720001" y="0"/>
                  </a:moveTo>
                  <a:lnTo>
                    <a:pt x="720001" y="0"/>
                  </a:lnTo>
                  <a:arcTo wR="720000" hR="720000" stAng="-5399995" swAng="5400005"/>
                  <a:lnTo>
                    <a:pt x="720000" y="720000"/>
                  </a:lnTo>
                  <a:close/>
                </a:path>
                <a:path fill="none" w="1440000" h="1440000">
                  <a:moveTo>
                    <a:pt x="720001" y="0"/>
                  </a:moveTo>
                  <a:lnTo>
                    <a:pt x="720001" y="0"/>
                  </a:lnTo>
                  <a:arcTo wR="720000" hR="720000" stAng="-5399995" swAng="5400005"/>
                </a:path>
              </a:pathLst>
            </a:custGeom>
            <a:noFill/>
            <a:ln w="2844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1" name="图片 37" descr="14.png"/>
          <p:cNvPicPr/>
          <p:nvPr/>
        </p:nvPicPr>
        <p:blipFill>
          <a:blip r:embed="rId1"/>
          <a:stretch/>
        </p:blipFill>
        <p:spPr>
          <a:xfrm>
            <a:off x="1000080" y="579600"/>
            <a:ext cx="16128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2" name=""/>
          <p:cNvGraphicFramePr/>
          <p:nvPr/>
        </p:nvGraphicFramePr>
        <p:xfrm>
          <a:off x="5052960" y="1557360"/>
          <a:ext cx="2879640" cy="2879640"/>
        </p:xfrm>
        <a:graphic>
          <a:graphicData uri="http://schemas.openxmlformats.org/drawingml/2006/table">
            <a:tbl>
              <a:tblPr/>
              <a:tblGrid>
                <a:gridCol w="719280"/>
                <a:gridCol w="720720"/>
                <a:gridCol w="718920"/>
                <a:gridCol w="72072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93" name="组合 59"/>
          <p:cNvGrpSpPr/>
          <p:nvPr/>
        </p:nvGrpSpPr>
        <p:grpSpPr>
          <a:xfrm>
            <a:off x="2124000" y="2276280"/>
            <a:ext cx="1440000" cy="1471320"/>
            <a:chOff x="2124000" y="2276280"/>
            <a:chExt cx="1440000" cy="1471320"/>
          </a:xfrm>
        </p:grpSpPr>
        <p:grpSp>
          <p:nvGrpSpPr>
            <p:cNvPr id="894" name="组合 25"/>
            <p:cNvGrpSpPr/>
            <p:nvPr/>
          </p:nvGrpSpPr>
          <p:grpSpPr>
            <a:xfrm>
              <a:off x="2124000" y="2276280"/>
              <a:ext cx="1440000" cy="1471320"/>
              <a:chOff x="2124000" y="2276280"/>
              <a:chExt cx="1440000" cy="1471320"/>
            </a:xfrm>
          </p:grpSpPr>
          <p:sp>
            <p:nvSpPr>
              <p:cNvPr id="895" name="矩形 62"/>
              <p:cNvSpPr/>
              <p:nvPr/>
            </p:nvSpPr>
            <p:spPr>
              <a:xfrm flipH="1" flipV="1">
                <a:off x="2124000" y="2991600"/>
                <a:ext cx="720000" cy="756000"/>
              </a:xfrm>
              <a:prstGeom prst="rect">
                <a:avLst/>
              </a:prstGeom>
              <a:solidFill>
                <a:srgbClr val="cece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弧形 63"/>
              <p:cNvSpPr/>
              <p:nvPr/>
            </p:nvSpPr>
            <p:spPr>
              <a:xfrm flipH="1" flipV="1">
                <a:off x="2124000" y="2276280"/>
                <a:ext cx="1440000" cy="1440000"/>
              </a:xfrm>
              <a:custGeom>
                <a:avLst/>
                <a:gdLst>
                  <a:gd name="textAreaLeft" fmla="*/ 720360 w 1440000"/>
                  <a:gd name="textAreaRight" fmla="*/ 1440720 w 1440000"/>
                  <a:gd name="textAreaTop" fmla="*/ 0 h 1440000"/>
                  <a:gd name="textAreaBottom" fmla="*/ 720000 h 1440000"/>
                </a:gdLst>
                <a:ahLst/>
                <a:rect l="textAreaLeft" t="textAreaTop" r="textAreaRight" b="textAreaBottom"/>
                <a:pathLst>
                  <a:path stroke="0" w="1440000" h="1440000">
                    <a:moveTo>
                      <a:pt x="720001" y="0"/>
                    </a:moveTo>
                    <a:lnTo>
                      <a:pt x="720001" y="0"/>
                    </a:lnTo>
                    <a:arcTo wR="720000" hR="720000" stAng="-5399995" swAng="5400005"/>
                    <a:lnTo>
                      <a:pt x="720000" y="720000"/>
                    </a:lnTo>
                    <a:close/>
                  </a:path>
                  <a:path fill="none" w="1440000" h="1440000">
                    <a:moveTo>
                      <a:pt x="720001" y="0"/>
                    </a:moveTo>
                    <a:lnTo>
                      <a:pt x="720001" y="0"/>
                    </a:lnTo>
                    <a:arcTo wR="720000" hR="720000" stAng="-5399995" swAng="5400005"/>
                  </a:path>
                </a:pathLst>
              </a:custGeom>
              <a:noFill/>
              <a:ln w="2844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7" name="弧形 61"/>
            <p:cNvSpPr/>
            <p:nvPr/>
          </p:nvSpPr>
          <p:spPr>
            <a:xfrm flipH="1" flipV="1">
              <a:off x="2551320" y="3077280"/>
              <a:ext cx="612000" cy="396000"/>
            </a:xfrm>
            <a:custGeom>
              <a:avLst/>
              <a:gdLst>
                <a:gd name="textAreaLeft" fmla="*/ 306360 w 612000"/>
                <a:gd name="textAreaRight" fmla="*/ 612720 w 612000"/>
                <a:gd name="textAreaTop" fmla="*/ 0 h 396000"/>
                <a:gd name="textAreaBottom" fmla="*/ 198000 h 396000"/>
              </a:gdLst>
              <a:ahLst/>
              <a:rect l="textAreaLeft" t="textAreaTop" r="textAreaRight" b="textAreaBottom"/>
              <a:pathLst>
                <a:path stroke="0" w="612000" h="396000">
                  <a:moveTo>
                    <a:pt x="306000" y="0"/>
                  </a:moveTo>
                  <a:lnTo>
                    <a:pt x="306000" y="0"/>
                  </a:lnTo>
                  <a:arcTo wR="306000" hR="198000" stAng="-5400000" swAng="5400011"/>
                  <a:lnTo>
                    <a:pt x="306000" y="198000"/>
                  </a:lnTo>
                  <a:close/>
                </a:path>
                <a:path fill="none" w="612000" h="396000">
                  <a:moveTo>
                    <a:pt x="306000" y="0"/>
                  </a:moveTo>
                  <a:lnTo>
                    <a:pt x="306000" y="0"/>
                  </a:lnTo>
                  <a:arcTo wR="306000" hR="198000" stAng="-5400000" swAng="5400011"/>
                </a:path>
              </a:pathLst>
            </a:custGeom>
            <a:noFill/>
            <a:ln w="28440">
              <a:solidFill>
                <a:srgbClr val="1b9b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组合 64"/>
          <p:cNvGrpSpPr/>
          <p:nvPr/>
        </p:nvGrpSpPr>
        <p:grpSpPr>
          <a:xfrm>
            <a:off x="2108160" y="2276280"/>
            <a:ext cx="1440000" cy="1471320"/>
            <a:chOff x="2108160" y="2276280"/>
            <a:chExt cx="1440000" cy="1471320"/>
          </a:xfrm>
        </p:grpSpPr>
        <p:grpSp>
          <p:nvGrpSpPr>
            <p:cNvPr id="899" name="组合 25"/>
            <p:cNvGrpSpPr/>
            <p:nvPr/>
          </p:nvGrpSpPr>
          <p:grpSpPr>
            <a:xfrm>
              <a:off x="2108160" y="2276280"/>
              <a:ext cx="1440000" cy="1471320"/>
              <a:chOff x="2108160" y="2276280"/>
              <a:chExt cx="1440000" cy="1471320"/>
            </a:xfrm>
          </p:grpSpPr>
          <p:sp>
            <p:nvSpPr>
              <p:cNvPr id="900" name="矩形 67"/>
              <p:cNvSpPr/>
              <p:nvPr/>
            </p:nvSpPr>
            <p:spPr>
              <a:xfrm flipV="1">
                <a:off x="2828160" y="2991600"/>
                <a:ext cx="720000" cy="756000"/>
              </a:xfrm>
              <a:prstGeom prst="rect">
                <a:avLst/>
              </a:prstGeom>
              <a:solidFill>
                <a:srgbClr val="cece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弧形 68"/>
              <p:cNvSpPr/>
              <p:nvPr/>
            </p:nvSpPr>
            <p:spPr>
              <a:xfrm flipV="1">
                <a:off x="2108160" y="2276280"/>
                <a:ext cx="1440000" cy="1440000"/>
              </a:xfrm>
              <a:custGeom>
                <a:avLst/>
                <a:gdLst>
                  <a:gd name="textAreaLeft" fmla="*/ 720000 w 1440000"/>
                  <a:gd name="textAreaRight" fmla="*/ 1440360 w 1440000"/>
                  <a:gd name="textAreaTop" fmla="*/ 0 h 1440000"/>
                  <a:gd name="textAreaBottom" fmla="*/ 720000 h 1440000"/>
                </a:gdLst>
                <a:ahLst/>
                <a:rect l="textAreaLeft" t="textAreaTop" r="textAreaRight" b="textAreaBottom"/>
                <a:pathLst>
                  <a:path stroke="0" w="1440000" h="1440000">
                    <a:moveTo>
                      <a:pt x="720001" y="0"/>
                    </a:moveTo>
                    <a:lnTo>
                      <a:pt x="720001" y="0"/>
                    </a:lnTo>
                    <a:arcTo wR="720000" hR="720000" stAng="-5399995" swAng="5400005"/>
                    <a:lnTo>
                      <a:pt x="720000" y="720000"/>
                    </a:lnTo>
                    <a:close/>
                  </a:path>
                  <a:path fill="none" w="1440000" h="1440000">
                    <a:moveTo>
                      <a:pt x="720001" y="0"/>
                    </a:moveTo>
                    <a:lnTo>
                      <a:pt x="720001" y="0"/>
                    </a:lnTo>
                    <a:arcTo wR="720000" hR="720000" stAng="-5399995" swAng="5400005"/>
                  </a:path>
                </a:pathLst>
              </a:custGeom>
              <a:noFill/>
              <a:ln w="2844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2" name="弧形 66"/>
            <p:cNvSpPr/>
            <p:nvPr/>
          </p:nvSpPr>
          <p:spPr>
            <a:xfrm flipV="1">
              <a:off x="2508840" y="3077280"/>
              <a:ext cx="612000" cy="396000"/>
            </a:xfrm>
            <a:custGeom>
              <a:avLst/>
              <a:gdLst>
                <a:gd name="textAreaLeft" fmla="*/ 306000 w 612000"/>
                <a:gd name="textAreaRight" fmla="*/ 612360 w 612000"/>
                <a:gd name="textAreaTop" fmla="*/ 0 h 396000"/>
                <a:gd name="textAreaBottom" fmla="*/ 198000 h 396000"/>
              </a:gdLst>
              <a:ahLst/>
              <a:rect l="textAreaLeft" t="textAreaTop" r="textAreaRight" b="textAreaBottom"/>
              <a:pathLst>
                <a:path stroke="0" w="612000" h="396000">
                  <a:moveTo>
                    <a:pt x="306000" y="0"/>
                  </a:moveTo>
                  <a:lnTo>
                    <a:pt x="306000" y="0"/>
                  </a:lnTo>
                  <a:arcTo wR="306000" hR="198000" stAng="-5400000" swAng="5400011"/>
                  <a:lnTo>
                    <a:pt x="306000" y="198000"/>
                  </a:lnTo>
                  <a:close/>
                </a:path>
                <a:path fill="none" w="612000" h="396000">
                  <a:moveTo>
                    <a:pt x="306000" y="0"/>
                  </a:moveTo>
                  <a:lnTo>
                    <a:pt x="306000" y="0"/>
                  </a:lnTo>
                  <a:arcTo wR="306000" hR="198000" stAng="-5400000" swAng="5400011"/>
                </a:path>
              </a:pathLst>
            </a:custGeom>
            <a:noFill/>
            <a:ln w="28440">
              <a:solidFill>
                <a:srgbClr val="1b9b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3" name="组合 69"/>
          <p:cNvGrpSpPr/>
          <p:nvPr/>
        </p:nvGrpSpPr>
        <p:grpSpPr>
          <a:xfrm>
            <a:off x="2108160" y="2292120"/>
            <a:ext cx="1455840" cy="1439640"/>
            <a:chOff x="2108160" y="2292120"/>
            <a:chExt cx="1455840" cy="1439640"/>
          </a:xfrm>
        </p:grpSpPr>
        <p:grpSp>
          <p:nvGrpSpPr>
            <p:cNvPr id="904" name="组合 17"/>
            <p:cNvGrpSpPr/>
            <p:nvPr/>
          </p:nvGrpSpPr>
          <p:grpSpPr>
            <a:xfrm>
              <a:off x="2108160" y="2292480"/>
              <a:ext cx="756000" cy="720000"/>
              <a:chOff x="2108160" y="2292480"/>
              <a:chExt cx="756000" cy="720000"/>
            </a:xfrm>
          </p:grpSpPr>
          <p:sp>
            <p:nvSpPr>
              <p:cNvPr id="905" name="矩形 22"/>
              <p:cNvSpPr/>
              <p:nvPr/>
            </p:nvSpPr>
            <p:spPr>
              <a:xfrm rot="16200000">
                <a:off x="2126160" y="2274480"/>
                <a:ext cx="720000" cy="756000"/>
              </a:xfrm>
              <a:prstGeom prst="rect">
                <a:avLst/>
              </a:prstGeom>
              <a:solidFill>
                <a:srgbClr val="cece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椭圆 73"/>
              <p:cNvSpPr/>
              <p:nvPr/>
            </p:nvSpPr>
            <p:spPr>
              <a:xfrm rot="16200000">
                <a:off x="2409480" y="2704320"/>
                <a:ext cx="252000" cy="252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弧形 71"/>
            <p:cNvSpPr/>
            <p:nvPr/>
          </p:nvSpPr>
          <p:spPr>
            <a:xfrm rot="16200000">
              <a:off x="2124000" y="2291760"/>
              <a:ext cx="1439640" cy="1440360"/>
            </a:xfrm>
            <a:custGeom>
              <a:avLst/>
              <a:gdLst>
                <a:gd name="textAreaLeft" fmla="*/ 720000 w 1439640"/>
                <a:gd name="textAreaRight" fmla="*/ 1440000 w 1439640"/>
                <a:gd name="textAreaTop" fmla="*/ 0 h 1440360"/>
                <a:gd name="textAreaBottom" fmla="*/ 720360 h 1440360"/>
              </a:gdLst>
              <a:ahLst/>
              <a:rect l="textAreaLeft" t="textAreaTop" r="textAreaRight" b="textAreaBottom"/>
              <a:pathLst>
                <a:path stroke="0" w="1440000" h="1440000">
                  <a:moveTo>
                    <a:pt x="720001" y="0"/>
                  </a:moveTo>
                  <a:lnTo>
                    <a:pt x="720001" y="0"/>
                  </a:lnTo>
                  <a:arcTo wR="720000" hR="720000" stAng="-5399995" swAng="5400005"/>
                  <a:lnTo>
                    <a:pt x="720000" y="720000"/>
                  </a:lnTo>
                  <a:close/>
                </a:path>
                <a:path fill="none" w="1440000" h="1440000">
                  <a:moveTo>
                    <a:pt x="720001" y="0"/>
                  </a:moveTo>
                  <a:lnTo>
                    <a:pt x="720001" y="0"/>
                  </a:lnTo>
                  <a:arcTo wR="720000" hR="720000" stAng="-5399995" swAng="5400005"/>
                </a:path>
              </a:pathLst>
            </a:custGeom>
            <a:noFill/>
            <a:ln w="2844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组合 74"/>
          <p:cNvGrpSpPr/>
          <p:nvPr/>
        </p:nvGrpSpPr>
        <p:grpSpPr>
          <a:xfrm>
            <a:off x="2108160" y="2276640"/>
            <a:ext cx="1440000" cy="1455480"/>
            <a:chOff x="2108160" y="2276640"/>
            <a:chExt cx="1440000" cy="1455480"/>
          </a:xfrm>
        </p:grpSpPr>
        <p:grpSp>
          <p:nvGrpSpPr>
            <p:cNvPr id="909" name="组合 17"/>
            <p:cNvGrpSpPr/>
            <p:nvPr/>
          </p:nvGrpSpPr>
          <p:grpSpPr>
            <a:xfrm>
              <a:off x="2828160" y="2276640"/>
              <a:ext cx="720000" cy="756000"/>
              <a:chOff x="2828160" y="2276640"/>
              <a:chExt cx="720000" cy="756000"/>
            </a:xfrm>
          </p:grpSpPr>
          <p:sp>
            <p:nvSpPr>
              <p:cNvPr id="910" name="矩形 77"/>
              <p:cNvSpPr/>
              <p:nvPr/>
            </p:nvSpPr>
            <p:spPr>
              <a:xfrm>
                <a:off x="2828160" y="2276640"/>
                <a:ext cx="720000" cy="756000"/>
              </a:xfrm>
              <a:prstGeom prst="rect">
                <a:avLst/>
              </a:prstGeom>
              <a:solidFill>
                <a:srgbClr val="cece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椭圆 78"/>
              <p:cNvSpPr/>
              <p:nvPr/>
            </p:nvSpPr>
            <p:spPr>
              <a:xfrm>
                <a:off x="3024000" y="2704320"/>
                <a:ext cx="252000" cy="252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2" name="弧形 12"/>
            <p:cNvSpPr/>
            <p:nvPr/>
          </p:nvSpPr>
          <p:spPr>
            <a:xfrm>
              <a:off x="2108160" y="2292120"/>
              <a:ext cx="1440000" cy="1440000"/>
            </a:xfrm>
            <a:custGeom>
              <a:avLst/>
              <a:gdLst>
                <a:gd name="textAreaLeft" fmla="*/ 720000 w 1440000"/>
                <a:gd name="textAreaRight" fmla="*/ 1440360 w 1440000"/>
                <a:gd name="textAreaTop" fmla="*/ 0 h 1440000"/>
                <a:gd name="textAreaBottom" fmla="*/ 720000 h 1440000"/>
              </a:gdLst>
              <a:ahLst/>
              <a:rect l="textAreaLeft" t="textAreaTop" r="textAreaRight" b="textAreaBottom"/>
              <a:pathLst>
                <a:path stroke="0" w="1440000" h="1440000">
                  <a:moveTo>
                    <a:pt x="720001" y="0"/>
                  </a:moveTo>
                  <a:lnTo>
                    <a:pt x="720001" y="0"/>
                  </a:lnTo>
                  <a:arcTo wR="720000" hR="720000" stAng="-5399995" swAng="5400005"/>
                  <a:lnTo>
                    <a:pt x="720000" y="720000"/>
                  </a:lnTo>
                  <a:close/>
                </a:path>
                <a:path fill="none" w="1440000" h="1440000">
                  <a:moveTo>
                    <a:pt x="720001" y="0"/>
                  </a:moveTo>
                  <a:lnTo>
                    <a:pt x="720001" y="0"/>
                  </a:lnTo>
                  <a:arcTo wR="720000" hR="720000" stAng="-5399995" swAng="5400005"/>
                </a:path>
              </a:pathLst>
            </a:custGeom>
            <a:noFill/>
            <a:ln w="2844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13" name=""/>
          <p:cNvGraphicFramePr/>
          <p:nvPr/>
        </p:nvGraphicFramePr>
        <p:xfrm>
          <a:off x="1389240" y="1557360"/>
          <a:ext cx="2879640" cy="2879640"/>
        </p:xfrm>
        <a:graphic>
          <a:graphicData uri="http://schemas.openxmlformats.org/drawingml/2006/table">
            <a:tbl>
              <a:tblPr/>
              <a:tblGrid>
                <a:gridCol w="718920"/>
                <a:gridCol w="720720"/>
                <a:gridCol w="720720"/>
                <a:gridCol w="71928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4" name="TextBox 80"/>
          <p:cNvSpPr/>
          <p:nvPr/>
        </p:nvSpPr>
        <p:spPr>
          <a:xfrm>
            <a:off x="2292480" y="4468680"/>
            <a:ext cx="105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81"/>
          <p:cNvSpPr/>
          <p:nvPr/>
        </p:nvSpPr>
        <p:spPr>
          <a:xfrm>
            <a:off x="5969160" y="4437000"/>
            <a:ext cx="105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Picture 13" descr=""/>
          <p:cNvPicPr/>
          <p:nvPr/>
        </p:nvPicPr>
        <p:blipFill>
          <a:blip r:embed="rId2"/>
          <a:stretch/>
        </p:blipFill>
        <p:spPr>
          <a:xfrm>
            <a:off x="19080" y="5037120"/>
            <a:ext cx="7175520" cy="450720"/>
          </a:xfrm>
          <a:prstGeom prst="rect">
            <a:avLst/>
          </a:prstGeom>
          <a:ln w="0">
            <a:noFill/>
          </a:ln>
        </p:spPr>
      </p:pic>
      <p:sp>
        <p:nvSpPr>
          <p:cNvPr id="917" name="TextBox 82"/>
          <p:cNvSpPr/>
          <p:nvPr/>
        </p:nvSpPr>
        <p:spPr>
          <a:xfrm>
            <a:off x="5003640" y="2905200"/>
            <a:ext cx="4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Picture 14" descr=""/>
          <p:cNvPicPr/>
          <p:nvPr/>
        </p:nvPicPr>
        <p:blipFill>
          <a:blip r:embed="rId3"/>
          <a:stretch/>
        </p:blipFill>
        <p:spPr>
          <a:xfrm>
            <a:off x="34920" y="5541840"/>
            <a:ext cx="8732880" cy="432000"/>
          </a:xfrm>
          <a:prstGeom prst="rect">
            <a:avLst/>
          </a:prstGeom>
          <a:ln w="0">
            <a:noFill/>
          </a:ln>
        </p:spPr>
      </p:pic>
      <p:sp>
        <p:nvSpPr>
          <p:cNvPr id="919" name="TextBox 83"/>
          <p:cNvSpPr/>
          <p:nvPr/>
        </p:nvSpPr>
        <p:spPr>
          <a:xfrm>
            <a:off x="7551720" y="3986280"/>
            <a:ext cx="4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Box 84"/>
          <p:cNvSpPr/>
          <p:nvPr/>
        </p:nvSpPr>
        <p:spPr>
          <a:xfrm>
            <a:off x="5378400" y="2597040"/>
            <a:ext cx="4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Box 85"/>
          <p:cNvSpPr/>
          <p:nvPr/>
        </p:nvSpPr>
        <p:spPr>
          <a:xfrm>
            <a:off x="7139160" y="259704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2" name="Picture 15" descr=""/>
          <p:cNvPicPr/>
          <p:nvPr/>
        </p:nvPicPr>
        <p:blipFill>
          <a:blip r:embed="rId4"/>
          <a:stretch/>
        </p:blipFill>
        <p:spPr>
          <a:xfrm>
            <a:off x="17640" y="5989680"/>
            <a:ext cx="913428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3" name="组合 36"/>
          <p:cNvGrpSpPr/>
          <p:nvPr/>
        </p:nvGrpSpPr>
        <p:grpSpPr>
          <a:xfrm>
            <a:off x="4346640" y="2276280"/>
            <a:ext cx="1439640" cy="1471320"/>
            <a:chOff x="4346640" y="2276280"/>
            <a:chExt cx="1439640" cy="1471320"/>
          </a:xfrm>
        </p:grpSpPr>
        <p:grpSp>
          <p:nvGrpSpPr>
            <p:cNvPr id="924" name="组合 25"/>
            <p:cNvGrpSpPr/>
            <p:nvPr/>
          </p:nvGrpSpPr>
          <p:grpSpPr>
            <a:xfrm>
              <a:off x="4346640" y="2276280"/>
              <a:ext cx="1439640" cy="1471320"/>
              <a:chOff x="4346640" y="2276280"/>
              <a:chExt cx="1439640" cy="1471320"/>
            </a:xfrm>
          </p:grpSpPr>
          <p:sp>
            <p:nvSpPr>
              <p:cNvPr id="925" name="矩形 41"/>
              <p:cNvSpPr/>
              <p:nvPr/>
            </p:nvSpPr>
            <p:spPr>
              <a:xfrm flipV="1">
                <a:off x="5066280" y="2991600"/>
                <a:ext cx="720000" cy="756000"/>
              </a:xfrm>
              <a:prstGeom prst="rect">
                <a:avLst/>
              </a:prstGeom>
              <a:solidFill>
                <a:srgbClr val="cece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弧形 43"/>
              <p:cNvSpPr/>
              <p:nvPr/>
            </p:nvSpPr>
            <p:spPr>
              <a:xfrm flipV="1">
                <a:off x="4346640" y="2276280"/>
                <a:ext cx="1439640" cy="1440000"/>
              </a:xfrm>
              <a:custGeom>
                <a:avLst/>
                <a:gdLst>
                  <a:gd name="textAreaLeft" fmla="*/ 720000 w 1439640"/>
                  <a:gd name="textAreaRight" fmla="*/ 1440000 w 1439640"/>
                  <a:gd name="textAreaTop" fmla="*/ 0 h 1440000"/>
                  <a:gd name="textAreaBottom" fmla="*/ 720000 h 1440000"/>
                </a:gdLst>
                <a:ahLst/>
                <a:rect l="textAreaLeft" t="textAreaTop" r="textAreaRight" b="textAreaBottom"/>
                <a:pathLst>
                  <a:path stroke="0" w="1440000" h="1440000">
                    <a:moveTo>
                      <a:pt x="720001" y="0"/>
                    </a:moveTo>
                    <a:lnTo>
                      <a:pt x="720001" y="0"/>
                    </a:lnTo>
                    <a:arcTo wR="720000" hR="720000" stAng="-5399995" swAng="5400005"/>
                    <a:lnTo>
                      <a:pt x="720000" y="720000"/>
                    </a:lnTo>
                    <a:close/>
                  </a:path>
                  <a:path fill="none" w="1440000" h="1440000">
                    <a:moveTo>
                      <a:pt x="720001" y="0"/>
                    </a:moveTo>
                    <a:lnTo>
                      <a:pt x="720001" y="0"/>
                    </a:lnTo>
                    <a:arcTo wR="720000" hR="720000" stAng="-5399995" swAng="5400005"/>
                  </a:path>
                </a:pathLst>
              </a:custGeom>
              <a:noFill/>
              <a:ln w="2844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弧形 38"/>
            <p:cNvSpPr/>
            <p:nvPr/>
          </p:nvSpPr>
          <p:spPr>
            <a:xfrm flipV="1">
              <a:off x="4746960" y="3077280"/>
              <a:ext cx="611640" cy="396000"/>
            </a:xfrm>
            <a:custGeom>
              <a:avLst/>
              <a:gdLst>
                <a:gd name="textAreaLeft" fmla="*/ 306000 w 611640"/>
                <a:gd name="textAreaRight" fmla="*/ 612000 w 611640"/>
                <a:gd name="textAreaTop" fmla="*/ 0 h 396000"/>
                <a:gd name="textAreaBottom" fmla="*/ 198000 h 396000"/>
              </a:gdLst>
              <a:ahLst/>
              <a:rect l="textAreaLeft" t="textAreaTop" r="textAreaRight" b="textAreaBottom"/>
              <a:pathLst>
                <a:path stroke="0" w="612000" h="396000">
                  <a:moveTo>
                    <a:pt x="306000" y="0"/>
                  </a:moveTo>
                  <a:lnTo>
                    <a:pt x="306000" y="0"/>
                  </a:lnTo>
                  <a:arcTo wR="306000" hR="198000" stAng="-5400000" swAng="5400011"/>
                  <a:lnTo>
                    <a:pt x="306000" y="198000"/>
                  </a:lnTo>
                  <a:close/>
                </a:path>
                <a:path fill="none" w="612000" h="396000">
                  <a:moveTo>
                    <a:pt x="306000" y="0"/>
                  </a:moveTo>
                  <a:lnTo>
                    <a:pt x="306000" y="0"/>
                  </a:lnTo>
                  <a:arcTo wR="306000" hR="198000" stAng="-5400000" swAng="5400011"/>
                </a:path>
              </a:pathLst>
            </a:custGeom>
            <a:noFill/>
            <a:ln w="28440">
              <a:solidFill>
                <a:srgbClr val="1b9b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组合 24"/>
          <p:cNvGrpSpPr/>
          <p:nvPr/>
        </p:nvGrpSpPr>
        <p:grpSpPr>
          <a:xfrm>
            <a:off x="5772240" y="2292120"/>
            <a:ext cx="1455480" cy="1439640"/>
            <a:chOff x="5772240" y="2292120"/>
            <a:chExt cx="1455480" cy="1439640"/>
          </a:xfrm>
        </p:grpSpPr>
        <p:grpSp>
          <p:nvGrpSpPr>
            <p:cNvPr id="929" name="组合 17"/>
            <p:cNvGrpSpPr/>
            <p:nvPr/>
          </p:nvGrpSpPr>
          <p:grpSpPr>
            <a:xfrm>
              <a:off x="5772240" y="2292480"/>
              <a:ext cx="756000" cy="720000"/>
              <a:chOff x="5772240" y="2292480"/>
              <a:chExt cx="756000" cy="720000"/>
            </a:xfrm>
          </p:grpSpPr>
          <p:sp>
            <p:nvSpPr>
              <p:cNvPr id="930" name="矩形 22"/>
              <p:cNvSpPr/>
              <p:nvPr/>
            </p:nvSpPr>
            <p:spPr>
              <a:xfrm rot="16200000">
                <a:off x="5790240" y="2274480"/>
                <a:ext cx="720000" cy="756000"/>
              </a:xfrm>
              <a:prstGeom prst="rect">
                <a:avLst/>
              </a:prstGeom>
              <a:solidFill>
                <a:srgbClr val="cece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椭圆 23"/>
              <p:cNvSpPr/>
              <p:nvPr/>
            </p:nvSpPr>
            <p:spPr>
              <a:xfrm rot="16200000">
                <a:off x="6073560" y="2704320"/>
                <a:ext cx="252000" cy="252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2" name="弧形 21"/>
            <p:cNvSpPr/>
            <p:nvPr/>
          </p:nvSpPr>
          <p:spPr>
            <a:xfrm rot="16200000">
              <a:off x="5787720" y="2291760"/>
              <a:ext cx="1439640" cy="1440000"/>
            </a:xfrm>
            <a:custGeom>
              <a:avLst/>
              <a:gdLst>
                <a:gd name="textAreaLeft" fmla="*/ 720000 w 1439640"/>
                <a:gd name="textAreaRight" fmla="*/ 1440000 w 1439640"/>
                <a:gd name="textAreaTop" fmla="*/ 0 h 1440000"/>
                <a:gd name="textAreaBottom" fmla="*/ 720000 h 1440000"/>
              </a:gdLst>
              <a:ahLst/>
              <a:rect l="textAreaLeft" t="textAreaTop" r="textAreaRight" b="textAreaBottom"/>
              <a:pathLst>
                <a:path stroke="0" w="1440000" h="1440000">
                  <a:moveTo>
                    <a:pt x="720001" y="0"/>
                  </a:moveTo>
                  <a:lnTo>
                    <a:pt x="720001" y="0"/>
                  </a:lnTo>
                  <a:arcTo wR="720000" hR="720000" stAng="-5399995" swAng="5400005"/>
                  <a:lnTo>
                    <a:pt x="720000" y="720000"/>
                  </a:lnTo>
                  <a:close/>
                </a:path>
                <a:path fill="none" w="1440000" h="1440000">
                  <a:moveTo>
                    <a:pt x="720001" y="0"/>
                  </a:moveTo>
                  <a:lnTo>
                    <a:pt x="720001" y="0"/>
                  </a:lnTo>
                  <a:arcTo wR="720000" hR="720000" stAng="-5399995" swAng="5400005"/>
                </a:path>
              </a:pathLst>
            </a:custGeom>
            <a:noFill/>
            <a:ln w="2844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组合 18"/>
          <p:cNvGrpSpPr/>
          <p:nvPr/>
        </p:nvGrpSpPr>
        <p:grpSpPr>
          <a:xfrm>
            <a:off x="5772240" y="2276640"/>
            <a:ext cx="1439640" cy="1455480"/>
            <a:chOff x="5772240" y="2276640"/>
            <a:chExt cx="1439640" cy="1455480"/>
          </a:xfrm>
        </p:grpSpPr>
        <p:grpSp>
          <p:nvGrpSpPr>
            <p:cNvPr id="934" name="组合 17"/>
            <p:cNvGrpSpPr/>
            <p:nvPr/>
          </p:nvGrpSpPr>
          <p:grpSpPr>
            <a:xfrm>
              <a:off x="6491880" y="2276640"/>
              <a:ext cx="720000" cy="756000"/>
              <a:chOff x="6491880" y="2276640"/>
              <a:chExt cx="720000" cy="756000"/>
            </a:xfrm>
          </p:grpSpPr>
          <p:sp>
            <p:nvSpPr>
              <p:cNvPr id="935" name="矩形 16"/>
              <p:cNvSpPr/>
              <p:nvPr/>
            </p:nvSpPr>
            <p:spPr>
              <a:xfrm>
                <a:off x="6491880" y="2276640"/>
                <a:ext cx="720000" cy="756000"/>
              </a:xfrm>
              <a:prstGeom prst="rect">
                <a:avLst/>
              </a:prstGeom>
              <a:solidFill>
                <a:srgbClr val="cece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椭圆 13"/>
              <p:cNvSpPr/>
              <p:nvPr/>
            </p:nvSpPr>
            <p:spPr>
              <a:xfrm>
                <a:off x="6687720" y="2704320"/>
                <a:ext cx="252000" cy="252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弧形 12"/>
            <p:cNvSpPr/>
            <p:nvPr/>
          </p:nvSpPr>
          <p:spPr>
            <a:xfrm>
              <a:off x="5772240" y="2292120"/>
              <a:ext cx="1439640" cy="1440000"/>
            </a:xfrm>
            <a:custGeom>
              <a:avLst/>
              <a:gdLst>
                <a:gd name="textAreaLeft" fmla="*/ 720000 w 1439640"/>
                <a:gd name="textAreaRight" fmla="*/ 1440000 w 1439640"/>
                <a:gd name="textAreaTop" fmla="*/ 0 h 1440000"/>
                <a:gd name="textAreaBottom" fmla="*/ 720000 h 1440000"/>
              </a:gdLst>
              <a:ahLst/>
              <a:rect l="textAreaLeft" t="textAreaTop" r="textAreaRight" b="textAreaBottom"/>
              <a:pathLst>
                <a:path stroke="0" w="1440000" h="1440000">
                  <a:moveTo>
                    <a:pt x="720001" y="0"/>
                  </a:moveTo>
                  <a:lnTo>
                    <a:pt x="720001" y="0"/>
                  </a:lnTo>
                  <a:arcTo wR="720000" hR="720000" stAng="-5399995" swAng="5400005"/>
                  <a:lnTo>
                    <a:pt x="720000" y="720000"/>
                  </a:lnTo>
                  <a:close/>
                </a:path>
                <a:path fill="none" w="1440000" h="1440000">
                  <a:moveTo>
                    <a:pt x="720001" y="0"/>
                  </a:moveTo>
                  <a:lnTo>
                    <a:pt x="720001" y="0"/>
                  </a:lnTo>
                  <a:arcTo wR="720000" hR="720000" stAng="-5399995" swAng="5400005"/>
                </a:path>
              </a:pathLst>
            </a:custGeom>
            <a:noFill/>
            <a:ln w="2844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8" name="图片 37" descr="14.png"/>
          <p:cNvPicPr/>
          <p:nvPr/>
        </p:nvPicPr>
        <p:blipFill>
          <a:blip r:embed="rId1"/>
          <a:stretch/>
        </p:blipFill>
        <p:spPr>
          <a:xfrm>
            <a:off x="1000080" y="579600"/>
            <a:ext cx="1612800" cy="792000"/>
          </a:xfrm>
          <a:prstGeom prst="rect">
            <a:avLst/>
          </a:prstGeom>
          <a:ln w="0">
            <a:noFill/>
          </a:ln>
        </p:spPr>
      </p:pic>
      <p:grpSp>
        <p:nvGrpSpPr>
          <p:cNvPr id="939" name="组合 59"/>
          <p:cNvGrpSpPr/>
          <p:nvPr/>
        </p:nvGrpSpPr>
        <p:grpSpPr>
          <a:xfrm>
            <a:off x="2124000" y="2276280"/>
            <a:ext cx="1440000" cy="1471320"/>
            <a:chOff x="2124000" y="2276280"/>
            <a:chExt cx="1440000" cy="1471320"/>
          </a:xfrm>
        </p:grpSpPr>
        <p:grpSp>
          <p:nvGrpSpPr>
            <p:cNvPr id="940" name="组合 25"/>
            <p:cNvGrpSpPr/>
            <p:nvPr/>
          </p:nvGrpSpPr>
          <p:grpSpPr>
            <a:xfrm>
              <a:off x="2124000" y="2276280"/>
              <a:ext cx="1440000" cy="1471320"/>
              <a:chOff x="2124000" y="2276280"/>
              <a:chExt cx="1440000" cy="1471320"/>
            </a:xfrm>
          </p:grpSpPr>
          <p:sp>
            <p:nvSpPr>
              <p:cNvPr id="941" name="矩形 62"/>
              <p:cNvSpPr/>
              <p:nvPr/>
            </p:nvSpPr>
            <p:spPr>
              <a:xfrm flipH="1" flipV="1">
                <a:off x="2124000" y="2991600"/>
                <a:ext cx="720000" cy="756000"/>
              </a:xfrm>
              <a:prstGeom prst="rect">
                <a:avLst/>
              </a:prstGeom>
              <a:solidFill>
                <a:srgbClr val="cece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弧形 63"/>
              <p:cNvSpPr/>
              <p:nvPr/>
            </p:nvSpPr>
            <p:spPr>
              <a:xfrm flipH="1" flipV="1">
                <a:off x="2124000" y="2276280"/>
                <a:ext cx="1440000" cy="1440000"/>
              </a:xfrm>
              <a:custGeom>
                <a:avLst/>
                <a:gdLst>
                  <a:gd name="textAreaLeft" fmla="*/ 720360 w 1440000"/>
                  <a:gd name="textAreaRight" fmla="*/ 1440720 w 1440000"/>
                  <a:gd name="textAreaTop" fmla="*/ 0 h 1440000"/>
                  <a:gd name="textAreaBottom" fmla="*/ 720000 h 1440000"/>
                </a:gdLst>
                <a:ahLst/>
                <a:rect l="textAreaLeft" t="textAreaTop" r="textAreaRight" b="textAreaBottom"/>
                <a:pathLst>
                  <a:path stroke="0" w="1440000" h="1440000">
                    <a:moveTo>
                      <a:pt x="720001" y="0"/>
                    </a:moveTo>
                    <a:lnTo>
                      <a:pt x="720001" y="0"/>
                    </a:lnTo>
                    <a:arcTo wR="720000" hR="720000" stAng="-5399995" swAng="5400005"/>
                    <a:lnTo>
                      <a:pt x="720000" y="720000"/>
                    </a:lnTo>
                    <a:close/>
                  </a:path>
                  <a:path fill="none" w="1440000" h="1440000">
                    <a:moveTo>
                      <a:pt x="720001" y="0"/>
                    </a:moveTo>
                    <a:lnTo>
                      <a:pt x="720001" y="0"/>
                    </a:lnTo>
                    <a:arcTo wR="720000" hR="720000" stAng="-5399995" swAng="5400005"/>
                  </a:path>
                </a:pathLst>
              </a:custGeom>
              <a:noFill/>
              <a:ln w="2844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弧形 61"/>
            <p:cNvSpPr/>
            <p:nvPr/>
          </p:nvSpPr>
          <p:spPr>
            <a:xfrm flipH="1" flipV="1">
              <a:off x="2551320" y="3077280"/>
              <a:ext cx="612000" cy="396000"/>
            </a:xfrm>
            <a:custGeom>
              <a:avLst/>
              <a:gdLst>
                <a:gd name="textAreaLeft" fmla="*/ 306360 w 612000"/>
                <a:gd name="textAreaRight" fmla="*/ 612720 w 612000"/>
                <a:gd name="textAreaTop" fmla="*/ 0 h 396000"/>
                <a:gd name="textAreaBottom" fmla="*/ 198000 h 396000"/>
              </a:gdLst>
              <a:ahLst/>
              <a:rect l="textAreaLeft" t="textAreaTop" r="textAreaRight" b="textAreaBottom"/>
              <a:pathLst>
                <a:path stroke="0" w="612000" h="396000">
                  <a:moveTo>
                    <a:pt x="306000" y="0"/>
                  </a:moveTo>
                  <a:lnTo>
                    <a:pt x="306000" y="0"/>
                  </a:lnTo>
                  <a:arcTo wR="306000" hR="198000" stAng="-5400000" swAng="5400011"/>
                  <a:lnTo>
                    <a:pt x="306000" y="198000"/>
                  </a:lnTo>
                  <a:close/>
                </a:path>
                <a:path fill="none" w="612000" h="396000">
                  <a:moveTo>
                    <a:pt x="306000" y="0"/>
                  </a:moveTo>
                  <a:lnTo>
                    <a:pt x="306000" y="0"/>
                  </a:lnTo>
                  <a:arcTo wR="306000" hR="198000" stAng="-5400000" swAng="5400011"/>
                </a:path>
              </a:pathLst>
            </a:custGeom>
            <a:noFill/>
            <a:ln w="28440">
              <a:solidFill>
                <a:srgbClr val="1b9b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4" name="组合 64"/>
          <p:cNvGrpSpPr/>
          <p:nvPr/>
        </p:nvGrpSpPr>
        <p:grpSpPr>
          <a:xfrm>
            <a:off x="2108160" y="2276280"/>
            <a:ext cx="1440000" cy="1471320"/>
            <a:chOff x="2108160" y="2276280"/>
            <a:chExt cx="1440000" cy="1471320"/>
          </a:xfrm>
        </p:grpSpPr>
        <p:grpSp>
          <p:nvGrpSpPr>
            <p:cNvPr id="945" name="组合 25"/>
            <p:cNvGrpSpPr/>
            <p:nvPr/>
          </p:nvGrpSpPr>
          <p:grpSpPr>
            <a:xfrm>
              <a:off x="2108160" y="2276280"/>
              <a:ext cx="1440000" cy="1471320"/>
              <a:chOff x="2108160" y="2276280"/>
              <a:chExt cx="1440000" cy="1471320"/>
            </a:xfrm>
          </p:grpSpPr>
          <p:sp>
            <p:nvSpPr>
              <p:cNvPr id="946" name="矩形 67"/>
              <p:cNvSpPr/>
              <p:nvPr/>
            </p:nvSpPr>
            <p:spPr>
              <a:xfrm flipV="1">
                <a:off x="2828160" y="2991600"/>
                <a:ext cx="720000" cy="756000"/>
              </a:xfrm>
              <a:prstGeom prst="rect">
                <a:avLst/>
              </a:prstGeom>
              <a:solidFill>
                <a:srgbClr val="cece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弧形 68"/>
              <p:cNvSpPr/>
              <p:nvPr/>
            </p:nvSpPr>
            <p:spPr>
              <a:xfrm flipV="1">
                <a:off x="2108160" y="2276280"/>
                <a:ext cx="1440000" cy="1440000"/>
              </a:xfrm>
              <a:custGeom>
                <a:avLst/>
                <a:gdLst>
                  <a:gd name="textAreaLeft" fmla="*/ 720000 w 1440000"/>
                  <a:gd name="textAreaRight" fmla="*/ 1440360 w 1440000"/>
                  <a:gd name="textAreaTop" fmla="*/ 0 h 1440000"/>
                  <a:gd name="textAreaBottom" fmla="*/ 720000 h 1440000"/>
                </a:gdLst>
                <a:ahLst/>
                <a:rect l="textAreaLeft" t="textAreaTop" r="textAreaRight" b="textAreaBottom"/>
                <a:pathLst>
                  <a:path stroke="0" w="1440000" h="1440000">
                    <a:moveTo>
                      <a:pt x="720001" y="0"/>
                    </a:moveTo>
                    <a:lnTo>
                      <a:pt x="720001" y="0"/>
                    </a:lnTo>
                    <a:arcTo wR="720000" hR="720000" stAng="-5399995" swAng="5400005"/>
                    <a:lnTo>
                      <a:pt x="720000" y="720000"/>
                    </a:lnTo>
                    <a:close/>
                  </a:path>
                  <a:path fill="none" w="1440000" h="1440000">
                    <a:moveTo>
                      <a:pt x="720001" y="0"/>
                    </a:moveTo>
                    <a:lnTo>
                      <a:pt x="720001" y="0"/>
                    </a:lnTo>
                    <a:arcTo wR="720000" hR="720000" stAng="-5399995" swAng="5400005"/>
                  </a:path>
                </a:pathLst>
              </a:custGeom>
              <a:noFill/>
              <a:ln w="2844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8" name="弧形 66"/>
            <p:cNvSpPr/>
            <p:nvPr/>
          </p:nvSpPr>
          <p:spPr>
            <a:xfrm flipV="1">
              <a:off x="2508840" y="3077280"/>
              <a:ext cx="612000" cy="396000"/>
            </a:xfrm>
            <a:custGeom>
              <a:avLst/>
              <a:gdLst>
                <a:gd name="textAreaLeft" fmla="*/ 306000 w 612000"/>
                <a:gd name="textAreaRight" fmla="*/ 612360 w 612000"/>
                <a:gd name="textAreaTop" fmla="*/ 0 h 396000"/>
                <a:gd name="textAreaBottom" fmla="*/ 198000 h 396000"/>
              </a:gdLst>
              <a:ahLst/>
              <a:rect l="textAreaLeft" t="textAreaTop" r="textAreaRight" b="textAreaBottom"/>
              <a:pathLst>
                <a:path stroke="0" w="612000" h="396000">
                  <a:moveTo>
                    <a:pt x="306000" y="0"/>
                  </a:moveTo>
                  <a:lnTo>
                    <a:pt x="306000" y="0"/>
                  </a:lnTo>
                  <a:arcTo wR="306000" hR="198000" stAng="-5400000" swAng="5400011"/>
                  <a:lnTo>
                    <a:pt x="306000" y="198000"/>
                  </a:lnTo>
                  <a:close/>
                </a:path>
                <a:path fill="none" w="612000" h="396000">
                  <a:moveTo>
                    <a:pt x="306000" y="0"/>
                  </a:moveTo>
                  <a:lnTo>
                    <a:pt x="306000" y="0"/>
                  </a:lnTo>
                  <a:arcTo wR="306000" hR="198000" stAng="-5400000" swAng="5400011"/>
                </a:path>
              </a:pathLst>
            </a:custGeom>
            <a:noFill/>
            <a:ln w="28440">
              <a:solidFill>
                <a:srgbClr val="1b9b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组合 69"/>
          <p:cNvGrpSpPr/>
          <p:nvPr/>
        </p:nvGrpSpPr>
        <p:grpSpPr>
          <a:xfrm>
            <a:off x="2108160" y="2292120"/>
            <a:ext cx="1455840" cy="1439640"/>
            <a:chOff x="2108160" y="2292120"/>
            <a:chExt cx="1455840" cy="1439640"/>
          </a:xfrm>
        </p:grpSpPr>
        <p:grpSp>
          <p:nvGrpSpPr>
            <p:cNvPr id="950" name="组合 17"/>
            <p:cNvGrpSpPr/>
            <p:nvPr/>
          </p:nvGrpSpPr>
          <p:grpSpPr>
            <a:xfrm>
              <a:off x="2108160" y="2292480"/>
              <a:ext cx="756000" cy="720000"/>
              <a:chOff x="2108160" y="2292480"/>
              <a:chExt cx="756000" cy="720000"/>
            </a:xfrm>
          </p:grpSpPr>
          <p:sp>
            <p:nvSpPr>
              <p:cNvPr id="951" name="矩形 22"/>
              <p:cNvSpPr/>
              <p:nvPr/>
            </p:nvSpPr>
            <p:spPr>
              <a:xfrm rot="16200000">
                <a:off x="2126160" y="2274480"/>
                <a:ext cx="720000" cy="756000"/>
              </a:xfrm>
              <a:prstGeom prst="rect">
                <a:avLst/>
              </a:prstGeom>
              <a:solidFill>
                <a:srgbClr val="cece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椭圆 73"/>
              <p:cNvSpPr/>
              <p:nvPr/>
            </p:nvSpPr>
            <p:spPr>
              <a:xfrm rot="16200000">
                <a:off x="2409480" y="2704320"/>
                <a:ext cx="252000" cy="252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3" name="弧形 71"/>
            <p:cNvSpPr/>
            <p:nvPr/>
          </p:nvSpPr>
          <p:spPr>
            <a:xfrm rot="16200000">
              <a:off x="2124000" y="2291760"/>
              <a:ext cx="1439640" cy="1440360"/>
            </a:xfrm>
            <a:custGeom>
              <a:avLst/>
              <a:gdLst>
                <a:gd name="textAreaLeft" fmla="*/ 720000 w 1439640"/>
                <a:gd name="textAreaRight" fmla="*/ 1440000 w 1439640"/>
                <a:gd name="textAreaTop" fmla="*/ 0 h 1440360"/>
                <a:gd name="textAreaBottom" fmla="*/ 720360 h 1440360"/>
              </a:gdLst>
              <a:ahLst/>
              <a:rect l="textAreaLeft" t="textAreaTop" r="textAreaRight" b="textAreaBottom"/>
              <a:pathLst>
                <a:path stroke="0" w="1440000" h="1440000">
                  <a:moveTo>
                    <a:pt x="720001" y="0"/>
                  </a:moveTo>
                  <a:lnTo>
                    <a:pt x="720001" y="0"/>
                  </a:lnTo>
                  <a:arcTo wR="720000" hR="720000" stAng="-5399995" swAng="5400005"/>
                  <a:lnTo>
                    <a:pt x="720000" y="720000"/>
                  </a:lnTo>
                  <a:close/>
                </a:path>
                <a:path fill="none" w="1440000" h="1440000">
                  <a:moveTo>
                    <a:pt x="720001" y="0"/>
                  </a:moveTo>
                  <a:lnTo>
                    <a:pt x="720001" y="0"/>
                  </a:lnTo>
                  <a:arcTo wR="720000" hR="720000" stAng="-5399995" swAng="5400005"/>
                </a:path>
              </a:pathLst>
            </a:custGeom>
            <a:noFill/>
            <a:ln w="2844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组合 74"/>
          <p:cNvGrpSpPr/>
          <p:nvPr/>
        </p:nvGrpSpPr>
        <p:grpSpPr>
          <a:xfrm>
            <a:off x="2108160" y="2276640"/>
            <a:ext cx="1440000" cy="1455480"/>
            <a:chOff x="2108160" y="2276640"/>
            <a:chExt cx="1440000" cy="1455480"/>
          </a:xfrm>
        </p:grpSpPr>
        <p:grpSp>
          <p:nvGrpSpPr>
            <p:cNvPr id="955" name="组合 17"/>
            <p:cNvGrpSpPr/>
            <p:nvPr/>
          </p:nvGrpSpPr>
          <p:grpSpPr>
            <a:xfrm>
              <a:off x="2828160" y="2276640"/>
              <a:ext cx="720000" cy="756000"/>
              <a:chOff x="2828160" y="2276640"/>
              <a:chExt cx="720000" cy="756000"/>
            </a:xfrm>
          </p:grpSpPr>
          <p:sp>
            <p:nvSpPr>
              <p:cNvPr id="956" name="矩形 77"/>
              <p:cNvSpPr/>
              <p:nvPr/>
            </p:nvSpPr>
            <p:spPr>
              <a:xfrm>
                <a:off x="2828160" y="2276640"/>
                <a:ext cx="720000" cy="756000"/>
              </a:xfrm>
              <a:prstGeom prst="rect">
                <a:avLst/>
              </a:prstGeom>
              <a:solidFill>
                <a:srgbClr val="cece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椭圆 78"/>
              <p:cNvSpPr/>
              <p:nvPr/>
            </p:nvSpPr>
            <p:spPr>
              <a:xfrm>
                <a:off x="3024000" y="2704320"/>
                <a:ext cx="252000" cy="252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8" name="弧形 12"/>
            <p:cNvSpPr/>
            <p:nvPr/>
          </p:nvSpPr>
          <p:spPr>
            <a:xfrm>
              <a:off x="2108160" y="2292120"/>
              <a:ext cx="1440000" cy="1440000"/>
            </a:xfrm>
            <a:custGeom>
              <a:avLst/>
              <a:gdLst>
                <a:gd name="textAreaLeft" fmla="*/ 720000 w 1440000"/>
                <a:gd name="textAreaRight" fmla="*/ 1440360 w 1440000"/>
                <a:gd name="textAreaTop" fmla="*/ 0 h 1440000"/>
                <a:gd name="textAreaBottom" fmla="*/ 720000 h 1440000"/>
              </a:gdLst>
              <a:ahLst/>
              <a:rect l="textAreaLeft" t="textAreaTop" r="textAreaRight" b="textAreaBottom"/>
              <a:pathLst>
                <a:path stroke="0" w="1440000" h="1440000">
                  <a:moveTo>
                    <a:pt x="720001" y="0"/>
                  </a:moveTo>
                  <a:lnTo>
                    <a:pt x="720001" y="0"/>
                  </a:lnTo>
                  <a:arcTo wR="720000" hR="720000" stAng="-5399995" swAng="5400005"/>
                  <a:lnTo>
                    <a:pt x="720000" y="720000"/>
                  </a:lnTo>
                  <a:close/>
                </a:path>
                <a:path fill="none" w="1440000" h="1440000">
                  <a:moveTo>
                    <a:pt x="720001" y="0"/>
                  </a:moveTo>
                  <a:lnTo>
                    <a:pt x="720001" y="0"/>
                  </a:lnTo>
                  <a:arcTo wR="720000" hR="720000" stAng="-5399995" swAng="5400005"/>
                </a:path>
              </a:pathLst>
            </a:custGeom>
            <a:noFill/>
            <a:ln w="2844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59" name=""/>
          <p:cNvGraphicFramePr/>
          <p:nvPr/>
        </p:nvGraphicFramePr>
        <p:xfrm>
          <a:off x="1389240" y="1557360"/>
          <a:ext cx="2879640" cy="2879640"/>
        </p:xfrm>
        <a:graphic>
          <a:graphicData uri="http://schemas.openxmlformats.org/drawingml/2006/table">
            <a:tbl>
              <a:tblPr/>
              <a:tblGrid>
                <a:gridCol w="718920"/>
                <a:gridCol w="720720"/>
                <a:gridCol w="720720"/>
                <a:gridCol w="71928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0" name="TextBox 80"/>
          <p:cNvSpPr/>
          <p:nvPr/>
        </p:nvSpPr>
        <p:spPr>
          <a:xfrm>
            <a:off x="2292480" y="4468680"/>
            <a:ext cx="105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81"/>
          <p:cNvSpPr/>
          <p:nvPr/>
        </p:nvSpPr>
        <p:spPr>
          <a:xfrm>
            <a:off x="5969160" y="4437000"/>
            <a:ext cx="105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82"/>
          <p:cNvSpPr/>
          <p:nvPr/>
        </p:nvSpPr>
        <p:spPr>
          <a:xfrm>
            <a:off x="5003640" y="2905200"/>
            <a:ext cx="4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85"/>
          <p:cNvSpPr/>
          <p:nvPr/>
        </p:nvSpPr>
        <p:spPr>
          <a:xfrm>
            <a:off x="7139160" y="259704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4" name="图片 52" descr="4.png"/>
          <p:cNvPicPr/>
          <p:nvPr/>
        </p:nvPicPr>
        <p:blipFill>
          <a:blip r:embed="rId2"/>
          <a:stretch/>
        </p:blipFill>
        <p:spPr>
          <a:xfrm>
            <a:off x="2124000" y="4992840"/>
            <a:ext cx="4573800" cy="1585800"/>
          </a:xfrm>
          <a:prstGeom prst="rect">
            <a:avLst/>
          </a:prstGeom>
          <a:ln w="0">
            <a:noFill/>
          </a:ln>
        </p:spPr>
      </p:pic>
      <p:pic>
        <p:nvPicPr>
          <p:cNvPr id="965" name="图片 54" descr="5.png"/>
          <p:cNvPicPr/>
          <p:nvPr/>
        </p:nvPicPr>
        <p:blipFill>
          <a:blip r:embed="rId3"/>
          <a:stretch/>
        </p:blipFill>
        <p:spPr>
          <a:xfrm>
            <a:off x="2362320" y="5027760"/>
            <a:ext cx="4278240" cy="1647720"/>
          </a:xfrm>
          <a:prstGeom prst="rect">
            <a:avLst/>
          </a:prstGeom>
          <a:ln w="0">
            <a:noFill/>
          </a:ln>
        </p:spPr>
      </p:pic>
      <p:grpSp>
        <p:nvGrpSpPr>
          <p:cNvPr id="966" name="组合 55"/>
          <p:cNvGrpSpPr/>
          <p:nvPr/>
        </p:nvGrpSpPr>
        <p:grpSpPr>
          <a:xfrm>
            <a:off x="5456160" y="1774080"/>
            <a:ext cx="1941840" cy="1913400"/>
            <a:chOff x="5456160" y="1774080"/>
            <a:chExt cx="1941840" cy="1913400"/>
          </a:xfrm>
        </p:grpSpPr>
        <p:grpSp>
          <p:nvGrpSpPr>
            <p:cNvPr id="967" name="组合 44"/>
            <p:cNvGrpSpPr/>
            <p:nvPr/>
          </p:nvGrpSpPr>
          <p:grpSpPr>
            <a:xfrm>
              <a:off x="5456160" y="1774080"/>
              <a:ext cx="1941840" cy="1913400"/>
              <a:chOff x="5456160" y="1774080"/>
              <a:chExt cx="1941840" cy="1913400"/>
            </a:xfrm>
          </p:grpSpPr>
          <p:grpSp>
            <p:nvGrpSpPr>
              <p:cNvPr id="968" name="组合 25"/>
              <p:cNvGrpSpPr/>
              <p:nvPr/>
            </p:nvGrpSpPr>
            <p:grpSpPr>
              <a:xfrm>
                <a:off x="5456160" y="1774080"/>
                <a:ext cx="1941840" cy="1913400"/>
                <a:chOff x="5456160" y="1774080"/>
                <a:chExt cx="1941840" cy="1913400"/>
              </a:xfrm>
            </p:grpSpPr>
            <p:sp>
              <p:nvSpPr>
                <p:cNvPr id="969" name="矩形 60"/>
                <p:cNvSpPr/>
                <p:nvPr/>
              </p:nvSpPr>
              <p:spPr>
                <a:xfrm flipH="1" flipV="1" rot="3900000">
                  <a:off x="5590440" y="2184480"/>
                  <a:ext cx="720000" cy="756000"/>
                </a:xfrm>
                <a:prstGeom prst="rect">
                  <a:avLst/>
                </a:prstGeom>
                <a:solidFill>
                  <a:srgbClr val="cece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弧形 64"/>
                <p:cNvSpPr/>
                <p:nvPr/>
              </p:nvSpPr>
              <p:spPr>
                <a:xfrm flipH="1" flipV="1" rot="3900000">
                  <a:off x="5721120" y="2010240"/>
                  <a:ext cx="1439640" cy="1440360"/>
                </a:xfrm>
                <a:custGeom>
                  <a:avLst/>
                  <a:gdLst>
                    <a:gd name="textAreaLeft" fmla="*/ 719640 w 1439640"/>
                    <a:gd name="textAreaRight" fmla="*/ 1439640 w 1439640"/>
                    <a:gd name="textAreaTop" fmla="*/ 0 h 1440360"/>
                    <a:gd name="textAreaBottom" fmla="*/ 720360 h 1440360"/>
                  </a:gdLst>
                  <a:ahLst/>
                  <a:rect l="textAreaLeft" t="textAreaTop" r="textAreaRight" b="textAreaBottom"/>
                  <a:pathLst>
                    <a:path stroke="0" w="1440000" h="1440000">
                      <a:moveTo>
                        <a:pt x="720001" y="0"/>
                      </a:moveTo>
                      <a:lnTo>
                        <a:pt x="720001" y="0"/>
                      </a:lnTo>
                      <a:arcTo wR="720000" hR="720000" stAng="-5399995" swAng="5400005"/>
                      <a:lnTo>
                        <a:pt x="720000" y="720000"/>
                      </a:lnTo>
                      <a:close/>
                    </a:path>
                    <a:path fill="none" w="1440000" h="1440000">
                      <a:moveTo>
                        <a:pt x="720001" y="0"/>
                      </a:moveTo>
                      <a:lnTo>
                        <a:pt x="720001" y="0"/>
                      </a:lnTo>
                      <a:arcTo wR="720000" hR="720000" stAng="-5399995" swAng="5400005"/>
                    </a:path>
                  </a:pathLst>
                </a:custGeom>
                <a:noFill/>
                <a:ln w="28440">
                  <a:solidFill>
                    <a:srgbClr val="00b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1" name="弧形 59"/>
              <p:cNvSpPr/>
              <p:nvPr/>
            </p:nvSpPr>
            <p:spPr>
              <a:xfrm flipH="1" flipV="1" rot="3900000">
                <a:off x="5888160" y="2662200"/>
                <a:ext cx="611640" cy="396000"/>
              </a:xfrm>
              <a:custGeom>
                <a:avLst/>
                <a:gdLst>
                  <a:gd name="textAreaLeft" fmla="*/ 305640 w 611640"/>
                  <a:gd name="textAreaRight" fmla="*/ 611640 w 611640"/>
                  <a:gd name="textAreaTop" fmla="*/ 0 h 396000"/>
                  <a:gd name="textAreaBottom" fmla="*/ 198000 h 396000"/>
                </a:gdLst>
                <a:ahLst/>
                <a:rect l="textAreaLeft" t="textAreaTop" r="textAreaRight" b="textAreaBottom"/>
                <a:pathLst>
                  <a:path stroke="0" w="612000" h="396000">
                    <a:moveTo>
                      <a:pt x="306000" y="0"/>
                    </a:moveTo>
                    <a:lnTo>
                      <a:pt x="306000" y="0"/>
                    </a:lnTo>
                    <a:arcTo wR="306000" hR="198000" stAng="-5400000" swAng="5400011"/>
                    <a:lnTo>
                      <a:pt x="306000" y="198000"/>
                    </a:lnTo>
                    <a:close/>
                  </a:path>
                  <a:path fill="none" w="612000" h="396000">
                    <a:moveTo>
                      <a:pt x="306000" y="0"/>
                    </a:moveTo>
                    <a:lnTo>
                      <a:pt x="306000" y="0"/>
                    </a:lnTo>
                    <a:arcTo wR="306000" hR="198000" stAng="-5400000" swAng="5400011"/>
                  </a:path>
                </a:pathLst>
              </a:custGeom>
              <a:noFill/>
              <a:ln w="28440">
                <a:solidFill>
                  <a:srgbClr val="1b9b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2" name="TextBox 57"/>
            <p:cNvSpPr/>
            <p:nvPr/>
          </p:nvSpPr>
          <p:spPr>
            <a:xfrm rot="20100000">
              <a:off x="5972040" y="2373120"/>
              <a:ext cx="45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组合 65"/>
          <p:cNvGrpSpPr/>
          <p:nvPr/>
        </p:nvGrpSpPr>
        <p:grpSpPr>
          <a:xfrm>
            <a:off x="5187960" y="1436760"/>
            <a:ext cx="2048760" cy="2028600"/>
            <a:chOff x="5187960" y="1436760"/>
            <a:chExt cx="2048760" cy="2028600"/>
          </a:xfrm>
        </p:grpSpPr>
        <p:grpSp>
          <p:nvGrpSpPr>
            <p:cNvPr id="974" name="组合 44"/>
            <p:cNvGrpSpPr/>
            <p:nvPr/>
          </p:nvGrpSpPr>
          <p:grpSpPr>
            <a:xfrm>
              <a:off x="5187960" y="1436760"/>
              <a:ext cx="2048760" cy="2028600"/>
              <a:chOff x="5187960" y="1436760"/>
              <a:chExt cx="2048760" cy="2028600"/>
            </a:xfrm>
          </p:grpSpPr>
          <p:grpSp>
            <p:nvGrpSpPr>
              <p:cNvPr id="975" name="组合 25"/>
              <p:cNvGrpSpPr/>
              <p:nvPr/>
            </p:nvGrpSpPr>
            <p:grpSpPr>
              <a:xfrm>
                <a:off x="5187960" y="1436760"/>
                <a:ext cx="2048760" cy="2028600"/>
                <a:chOff x="5187960" y="1436760"/>
                <a:chExt cx="2048760" cy="2028600"/>
              </a:xfrm>
            </p:grpSpPr>
            <p:sp>
              <p:nvSpPr>
                <p:cNvPr id="976" name="矩形 86"/>
                <p:cNvSpPr/>
                <p:nvPr/>
              </p:nvSpPr>
              <p:spPr>
                <a:xfrm flipH="1" flipV="1" rot="2400000">
                  <a:off x="5346720" y="2127960"/>
                  <a:ext cx="720000" cy="756000"/>
                </a:xfrm>
                <a:prstGeom prst="rect">
                  <a:avLst/>
                </a:prstGeom>
                <a:solidFill>
                  <a:srgbClr val="cece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弧形 87"/>
                <p:cNvSpPr/>
                <p:nvPr/>
              </p:nvSpPr>
              <p:spPr>
                <a:xfrm flipH="1" flipV="1" rot="2400000">
                  <a:off x="5502240" y="1730520"/>
                  <a:ext cx="1439640" cy="1440360"/>
                </a:xfrm>
                <a:custGeom>
                  <a:avLst/>
                  <a:gdLst>
                    <a:gd name="textAreaLeft" fmla="*/ 719640 w 1439640"/>
                    <a:gd name="textAreaRight" fmla="*/ 1439640 w 1439640"/>
                    <a:gd name="textAreaTop" fmla="*/ 0 h 1440360"/>
                    <a:gd name="textAreaBottom" fmla="*/ 720360 h 1440360"/>
                  </a:gdLst>
                  <a:ahLst/>
                  <a:rect l="textAreaLeft" t="textAreaTop" r="textAreaRight" b="textAreaBottom"/>
                  <a:pathLst>
                    <a:path stroke="0" w="1440000" h="1440000">
                      <a:moveTo>
                        <a:pt x="720001" y="0"/>
                      </a:moveTo>
                      <a:lnTo>
                        <a:pt x="720001" y="0"/>
                      </a:lnTo>
                      <a:arcTo wR="720000" hR="720000" stAng="-5399995" swAng="5400005"/>
                      <a:lnTo>
                        <a:pt x="720000" y="720000"/>
                      </a:lnTo>
                      <a:close/>
                    </a:path>
                    <a:path fill="none" w="1440000" h="1440000">
                      <a:moveTo>
                        <a:pt x="720001" y="0"/>
                      </a:moveTo>
                      <a:lnTo>
                        <a:pt x="720001" y="0"/>
                      </a:lnTo>
                      <a:arcTo wR="720000" hR="720000" stAng="-5399995" swAng="5400005"/>
                    </a:path>
                  </a:pathLst>
                </a:custGeom>
                <a:noFill/>
                <a:ln w="28440">
                  <a:solidFill>
                    <a:srgbClr val="00b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8" name="弧形 75"/>
              <p:cNvSpPr/>
              <p:nvPr/>
            </p:nvSpPr>
            <p:spPr>
              <a:xfrm flipH="1" flipV="1" rot="2400000">
                <a:off x="5747040" y="2474640"/>
                <a:ext cx="611640" cy="396000"/>
              </a:xfrm>
              <a:custGeom>
                <a:avLst/>
                <a:gdLst>
                  <a:gd name="textAreaLeft" fmla="*/ 305640 w 611640"/>
                  <a:gd name="textAreaRight" fmla="*/ 611640 w 611640"/>
                  <a:gd name="textAreaTop" fmla="*/ 0 h 396000"/>
                  <a:gd name="textAreaBottom" fmla="*/ 198000 h 396000"/>
                </a:gdLst>
                <a:ahLst/>
                <a:rect l="textAreaLeft" t="textAreaTop" r="textAreaRight" b="textAreaBottom"/>
                <a:pathLst>
                  <a:path stroke="0" w="612000" h="396000">
                    <a:moveTo>
                      <a:pt x="306000" y="0"/>
                    </a:moveTo>
                    <a:lnTo>
                      <a:pt x="306000" y="0"/>
                    </a:lnTo>
                    <a:arcTo wR="306000" hR="198000" stAng="-5400000" swAng="5400011"/>
                    <a:lnTo>
                      <a:pt x="306000" y="198000"/>
                    </a:lnTo>
                    <a:close/>
                  </a:path>
                  <a:path fill="none" w="612000" h="396000">
                    <a:moveTo>
                      <a:pt x="306000" y="0"/>
                    </a:moveTo>
                    <a:lnTo>
                      <a:pt x="306000" y="0"/>
                    </a:lnTo>
                    <a:arcTo wR="306000" hR="198000" stAng="-5400000" swAng="5400011"/>
                  </a:path>
                </a:pathLst>
              </a:custGeom>
              <a:noFill/>
              <a:ln w="28440">
                <a:solidFill>
                  <a:srgbClr val="1b9b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9" name="TextBox 70"/>
            <p:cNvSpPr/>
            <p:nvPr/>
          </p:nvSpPr>
          <p:spPr>
            <a:xfrm rot="18600000">
              <a:off x="5735160" y="2205000"/>
              <a:ext cx="45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组合 88"/>
          <p:cNvGrpSpPr/>
          <p:nvPr/>
        </p:nvGrpSpPr>
        <p:grpSpPr>
          <a:xfrm>
            <a:off x="5115600" y="1437120"/>
            <a:ext cx="1771920" cy="1763640"/>
            <a:chOff x="5115600" y="1437120"/>
            <a:chExt cx="1771920" cy="1763640"/>
          </a:xfrm>
        </p:grpSpPr>
        <p:grpSp>
          <p:nvGrpSpPr>
            <p:cNvPr id="981" name="组合 44"/>
            <p:cNvGrpSpPr/>
            <p:nvPr/>
          </p:nvGrpSpPr>
          <p:grpSpPr>
            <a:xfrm>
              <a:off x="5115600" y="1437120"/>
              <a:ext cx="1771920" cy="1763640"/>
              <a:chOff x="5115600" y="1437120"/>
              <a:chExt cx="1771920" cy="1763640"/>
            </a:xfrm>
          </p:grpSpPr>
          <p:grpSp>
            <p:nvGrpSpPr>
              <p:cNvPr id="982" name="组合 25"/>
              <p:cNvGrpSpPr/>
              <p:nvPr/>
            </p:nvGrpSpPr>
            <p:grpSpPr>
              <a:xfrm>
                <a:off x="5115600" y="1437120"/>
                <a:ext cx="1771920" cy="1763640"/>
                <a:chOff x="5115600" y="1437120"/>
                <a:chExt cx="1771920" cy="1763640"/>
              </a:xfrm>
            </p:grpSpPr>
            <p:sp>
              <p:nvSpPr>
                <p:cNvPr id="983" name="矩形 93"/>
                <p:cNvSpPr/>
                <p:nvPr/>
              </p:nvSpPr>
              <p:spPr>
                <a:xfrm flipH="1" flipV="1" rot="900000">
                  <a:off x="5201280" y="2208240"/>
                  <a:ext cx="720000" cy="756000"/>
                </a:xfrm>
                <a:prstGeom prst="rect">
                  <a:avLst/>
                </a:prstGeom>
                <a:solidFill>
                  <a:srgbClr val="cece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弧形 94"/>
                <p:cNvSpPr/>
                <p:nvPr/>
              </p:nvSpPr>
              <p:spPr>
                <a:xfrm flipH="1" flipV="1" rot="900000">
                  <a:off x="5285160" y="1599120"/>
                  <a:ext cx="1440000" cy="1440000"/>
                </a:xfrm>
                <a:custGeom>
                  <a:avLst/>
                  <a:gdLst>
                    <a:gd name="textAreaLeft" fmla="*/ 720360 w 1440000"/>
                    <a:gd name="textAreaRight" fmla="*/ 1440720 w 1440000"/>
                    <a:gd name="textAreaTop" fmla="*/ 0 h 1440000"/>
                    <a:gd name="textAreaBottom" fmla="*/ 720000 h 1440000"/>
                  </a:gdLst>
                  <a:ahLst/>
                  <a:rect l="textAreaLeft" t="textAreaTop" r="textAreaRight" b="textAreaBottom"/>
                  <a:pathLst>
                    <a:path stroke="0" w="1440000" h="1440000">
                      <a:moveTo>
                        <a:pt x="720001" y="0"/>
                      </a:moveTo>
                      <a:lnTo>
                        <a:pt x="720001" y="0"/>
                      </a:lnTo>
                      <a:arcTo wR="720000" hR="720000" stAng="-5399995" swAng="5400005"/>
                      <a:lnTo>
                        <a:pt x="720000" y="720000"/>
                      </a:lnTo>
                      <a:close/>
                    </a:path>
                    <a:path fill="none" w="1440000" h="1440000">
                      <a:moveTo>
                        <a:pt x="720001" y="0"/>
                      </a:moveTo>
                      <a:lnTo>
                        <a:pt x="720001" y="0"/>
                      </a:lnTo>
                      <a:arcTo wR="720000" hR="720000" stAng="-5399995" swAng="5400005"/>
                    </a:path>
                  </a:pathLst>
                </a:custGeom>
                <a:noFill/>
                <a:ln w="28440">
                  <a:solidFill>
                    <a:srgbClr val="00b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5" name="弧形 92"/>
              <p:cNvSpPr/>
              <p:nvPr/>
            </p:nvSpPr>
            <p:spPr>
              <a:xfrm flipH="1" flipV="1" rot="900000">
                <a:off x="5639760" y="2393280"/>
                <a:ext cx="612000" cy="396000"/>
              </a:xfrm>
              <a:custGeom>
                <a:avLst/>
                <a:gdLst>
                  <a:gd name="textAreaLeft" fmla="*/ 306360 w 612000"/>
                  <a:gd name="textAreaRight" fmla="*/ 612720 w 612000"/>
                  <a:gd name="textAreaTop" fmla="*/ 0 h 396000"/>
                  <a:gd name="textAreaBottom" fmla="*/ 198000 h 396000"/>
                </a:gdLst>
                <a:ahLst/>
                <a:rect l="textAreaLeft" t="textAreaTop" r="textAreaRight" b="textAreaBottom"/>
                <a:pathLst>
                  <a:path stroke="0" w="612000" h="396000">
                    <a:moveTo>
                      <a:pt x="306000" y="0"/>
                    </a:moveTo>
                    <a:lnTo>
                      <a:pt x="306000" y="0"/>
                    </a:lnTo>
                    <a:arcTo wR="306000" hR="198000" stAng="-5400000" swAng="5400011"/>
                    <a:lnTo>
                      <a:pt x="306000" y="198000"/>
                    </a:lnTo>
                    <a:close/>
                  </a:path>
                  <a:path fill="none" w="612000" h="396000">
                    <a:moveTo>
                      <a:pt x="306000" y="0"/>
                    </a:moveTo>
                    <a:lnTo>
                      <a:pt x="306000" y="0"/>
                    </a:lnTo>
                    <a:arcTo wR="306000" hR="198000" stAng="-5400000" swAng="5400011"/>
                  </a:path>
                </a:pathLst>
              </a:custGeom>
              <a:noFill/>
              <a:ln w="28440">
                <a:solidFill>
                  <a:srgbClr val="1b9b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6" name="TextBox 90"/>
            <p:cNvSpPr/>
            <p:nvPr/>
          </p:nvSpPr>
          <p:spPr>
            <a:xfrm rot="17100000">
              <a:off x="5548320" y="2181960"/>
              <a:ext cx="45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7" name="组合 95"/>
          <p:cNvGrpSpPr/>
          <p:nvPr/>
        </p:nvGrpSpPr>
        <p:grpSpPr>
          <a:xfrm>
            <a:off x="5051160" y="1557360"/>
            <a:ext cx="1439640" cy="1471680"/>
            <a:chOff x="5051160" y="1557360"/>
            <a:chExt cx="1439640" cy="1471680"/>
          </a:xfrm>
        </p:grpSpPr>
        <p:grpSp>
          <p:nvGrpSpPr>
            <p:cNvPr id="988" name="组合 44"/>
            <p:cNvGrpSpPr/>
            <p:nvPr/>
          </p:nvGrpSpPr>
          <p:grpSpPr>
            <a:xfrm>
              <a:off x="5051160" y="1557360"/>
              <a:ext cx="1439640" cy="1471680"/>
              <a:chOff x="5051160" y="1557360"/>
              <a:chExt cx="1439640" cy="1471680"/>
            </a:xfrm>
          </p:grpSpPr>
          <p:grpSp>
            <p:nvGrpSpPr>
              <p:cNvPr id="989" name="组合 25"/>
              <p:cNvGrpSpPr/>
              <p:nvPr/>
            </p:nvGrpSpPr>
            <p:grpSpPr>
              <a:xfrm>
                <a:off x="5051160" y="1557360"/>
                <a:ext cx="1439640" cy="1471680"/>
                <a:chOff x="5051160" y="1557360"/>
                <a:chExt cx="1439640" cy="1471680"/>
              </a:xfrm>
            </p:grpSpPr>
            <p:sp>
              <p:nvSpPr>
                <p:cNvPr id="990" name="矩形 100"/>
                <p:cNvSpPr/>
                <p:nvPr/>
              </p:nvSpPr>
              <p:spPr>
                <a:xfrm flipH="1" flipV="1">
                  <a:off x="5051160" y="2273040"/>
                  <a:ext cx="720000" cy="756000"/>
                </a:xfrm>
                <a:prstGeom prst="rect">
                  <a:avLst/>
                </a:prstGeom>
                <a:solidFill>
                  <a:srgbClr val="cece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弧形 101"/>
                <p:cNvSpPr/>
                <p:nvPr/>
              </p:nvSpPr>
              <p:spPr>
                <a:xfrm flipH="1" flipV="1">
                  <a:off x="5050800" y="1557000"/>
                  <a:ext cx="1439640" cy="1440360"/>
                </a:xfrm>
                <a:custGeom>
                  <a:avLst/>
                  <a:gdLst>
                    <a:gd name="textAreaLeft" fmla="*/ 719640 w 1439640"/>
                    <a:gd name="textAreaRight" fmla="*/ 1439640 w 1439640"/>
                    <a:gd name="textAreaTop" fmla="*/ 0 h 1440360"/>
                    <a:gd name="textAreaBottom" fmla="*/ 720360 h 1440360"/>
                  </a:gdLst>
                  <a:ahLst/>
                  <a:rect l="textAreaLeft" t="textAreaTop" r="textAreaRight" b="textAreaBottom"/>
                  <a:pathLst>
                    <a:path stroke="0" w="1440000" h="1440000">
                      <a:moveTo>
                        <a:pt x="720001" y="0"/>
                      </a:moveTo>
                      <a:lnTo>
                        <a:pt x="720001" y="0"/>
                      </a:lnTo>
                      <a:arcTo wR="720000" hR="720000" stAng="-5399995" swAng="5400005"/>
                      <a:lnTo>
                        <a:pt x="720000" y="720000"/>
                      </a:lnTo>
                      <a:close/>
                    </a:path>
                    <a:path fill="none" w="1440000" h="1440000">
                      <a:moveTo>
                        <a:pt x="720001" y="0"/>
                      </a:moveTo>
                      <a:lnTo>
                        <a:pt x="720001" y="0"/>
                      </a:lnTo>
                      <a:arcTo wR="720000" hR="720000" stAng="-5399995" swAng="5400005"/>
                    </a:path>
                  </a:pathLst>
                </a:custGeom>
                <a:noFill/>
                <a:ln w="28440">
                  <a:solidFill>
                    <a:srgbClr val="00b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2" name="弧形 99"/>
              <p:cNvSpPr/>
              <p:nvPr/>
            </p:nvSpPr>
            <p:spPr>
              <a:xfrm flipH="1" flipV="1">
                <a:off x="5478480" y="2358360"/>
                <a:ext cx="611640" cy="396000"/>
              </a:xfrm>
              <a:custGeom>
                <a:avLst/>
                <a:gdLst>
                  <a:gd name="textAreaLeft" fmla="*/ 305640 w 611640"/>
                  <a:gd name="textAreaRight" fmla="*/ 611640 w 611640"/>
                  <a:gd name="textAreaTop" fmla="*/ 0 h 396000"/>
                  <a:gd name="textAreaBottom" fmla="*/ 198000 h 396000"/>
                </a:gdLst>
                <a:ahLst/>
                <a:rect l="textAreaLeft" t="textAreaTop" r="textAreaRight" b="textAreaBottom"/>
                <a:pathLst>
                  <a:path stroke="0" w="612000" h="396000">
                    <a:moveTo>
                      <a:pt x="306000" y="0"/>
                    </a:moveTo>
                    <a:lnTo>
                      <a:pt x="306000" y="0"/>
                    </a:lnTo>
                    <a:arcTo wR="306000" hR="198000" stAng="-5400000" swAng="5400011"/>
                    <a:lnTo>
                      <a:pt x="306000" y="198000"/>
                    </a:lnTo>
                    <a:close/>
                  </a:path>
                  <a:path fill="none" w="612000" h="396000">
                    <a:moveTo>
                      <a:pt x="306000" y="0"/>
                    </a:moveTo>
                    <a:lnTo>
                      <a:pt x="306000" y="0"/>
                    </a:lnTo>
                    <a:arcTo wR="306000" hR="198000" stAng="-5400000" swAng="5400011"/>
                  </a:path>
                </a:pathLst>
              </a:custGeom>
              <a:noFill/>
              <a:ln w="28440">
                <a:solidFill>
                  <a:srgbClr val="1b9b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3" name="TextBox 97"/>
            <p:cNvSpPr/>
            <p:nvPr/>
          </p:nvSpPr>
          <p:spPr>
            <a:xfrm rot="16200000">
              <a:off x="5353920" y="2196000"/>
              <a:ext cx="45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4" name="组合 53"/>
          <p:cNvGrpSpPr/>
          <p:nvPr/>
        </p:nvGrpSpPr>
        <p:grpSpPr>
          <a:xfrm>
            <a:off x="7205760" y="3717720"/>
            <a:ext cx="1469880" cy="1439640"/>
            <a:chOff x="7205760" y="3717720"/>
            <a:chExt cx="1469880" cy="1439640"/>
          </a:xfrm>
        </p:grpSpPr>
        <p:grpSp>
          <p:nvGrpSpPr>
            <p:cNvPr id="995" name="组合 44"/>
            <p:cNvGrpSpPr/>
            <p:nvPr/>
          </p:nvGrpSpPr>
          <p:grpSpPr>
            <a:xfrm>
              <a:off x="7205760" y="3717720"/>
              <a:ext cx="1469880" cy="1439640"/>
              <a:chOff x="7205760" y="3717720"/>
              <a:chExt cx="1469880" cy="1439640"/>
            </a:xfrm>
          </p:grpSpPr>
          <p:grpSp>
            <p:nvGrpSpPr>
              <p:cNvPr id="996" name="组合 25"/>
              <p:cNvGrpSpPr/>
              <p:nvPr/>
            </p:nvGrpSpPr>
            <p:grpSpPr>
              <a:xfrm>
                <a:off x="7205760" y="3717720"/>
                <a:ext cx="1469880" cy="1439640"/>
                <a:chOff x="7205760" y="3717720"/>
                <a:chExt cx="1469880" cy="1439640"/>
              </a:xfrm>
            </p:grpSpPr>
            <p:sp>
              <p:nvSpPr>
                <p:cNvPr id="997" name="矩形 47"/>
                <p:cNvSpPr/>
                <p:nvPr/>
              </p:nvSpPr>
              <p:spPr>
                <a:xfrm flipH="1" flipV="1" rot="5400000">
                  <a:off x="7223400" y="3700080"/>
                  <a:ext cx="720000" cy="755280"/>
                </a:xfrm>
                <a:prstGeom prst="rect">
                  <a:avLst/>
                </a:prstGeom>
                <a:solidFill>
                  <a:srgbClr val="cece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弧形 48"/>
                <p:cNvSpPr/>
                <p:nvPr/>
              </p:nvSpPr>
              <p:spPr>
                <a:xfrm flipH="1" flipV="1" rot="5400000">
                  <a:off x="7236360" y="3717720"/>
                  <a:ext cx="1439640" cy="1438560"/>
                </a:xfrm>
                <a:custGeom>
                  <a:avLst/>
                  <a:gdLst>
                    <a:gd name="textAreaLeft" fmla="*/ 719640 w 1439640"/>
                    <a:gd name="textAreaRight" fmla="*/ 1439640 w 1439640"/>
                    <a:gd name="textAreaTop" fmla="*/ 0 h 1438560"/>
                    <a:gd name="textAreaBottom" fmla="*/ 719280 h 1438560"/>
                  </a:gdLst>
                  <a:ahLst/>
                  <a:rect l="textAreaLeft" t="textAreaTop" r="textAreaRight" b="textAreaBottom"/>
                  <a:pathLst>
                    <a:path stroke="0" w="1440000" h="1440000">
                      <a:moveTo>
                        <a:pt x="720001" y="0"/>
                      </a:moveTo>
                      <a:lnTo>
                        <a:pt x="720001" y="0"/>
                      </a:lnTo>
                      <a:arcTo wR="720000" hR="720000" stAng="-5399995" swAng="5400005"/>
                      <a:lnTo>
                        <a:pt x="720000" y="720000"/>
                      </a:lnTo>
                      <a:close/>
                    </a:path>
                    <a:path fill="none" w="1440000" h="1440000">
                      <a:moveTo>
                        <a:pt x="720001" y="0"/>
                      </a:moveTo>
                      <a:lnTo>
                        <a:pt x="720001" y="0"/>
                      </a:lnTo>
                      <a:arcTo wR="720000" hR="720000" stAng="-5399995" swAng="5400005"/>
                    </a:path>
                  </a:pathLst>
                </a:custGeom>
                <a:noFill/>
                <a:ln w="28440">
                  <a:solidFill>
                    <a:srgbClr val="00b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9" name="弧形 46"/>
              <p:cNvSpPr/>
              <p:nvPr/>
            </p:nvSpPr>
            <p:spPr>
              <a:xfrm flipH="1" flipV="1" rot="5400000">
                <a:off x="7371720" y="4253040"/>
                <a:ext cx="611640" cy="395640"/>
              </a:xfrm>
              <a:custGeom>
                <a:avLst/>
                <a:gdLst>
                  <a:gd name="textAreaLeft" fmla="*/ 305640 w 611640"/>
                  <a:gd name="textAreaRight" fmla="*/ 611640 w 611640"/>
                  <a:gd name="textAreaTop" fmla="*/ -360 h 395640"/>
                  <a:gd name="textAreaBottom" fmla="*/ 197640 h 395640"/>
                </a:gdLst>
                <a:ahLst/>
                <a:rect l="textAreaLeft" t="textAreaTop" r="textAreaRight" b="textAreaBottom"/>
                <a:pathLst>
                  <a:path stroke="0" w="612000" h="396000">
                    <a:moveTo>
                      <a:pt x="306000" y="0"/>
                    </a:moveTo>
                    <a:lnTo>
                      <a:pt x="306000" y="0"/>
                    </a:lnTo>
                    <a:arcTo wR="306000" hR="198000" stAng="-5400000" swAng="5400011"/>
                    <a:lnTo>
                      <a:pt x="306000" y="198000"/>
                    </a:lnTo>
                    <a:close/>
                  </a:path>
                  <a:path fill="none" w="612000" h="396000">
                    <a:moveTo>
                      <a:pt x="306000" y="0"/>
                    </a:moveTo>
                    <a:lnTo>
                      <a:pt x="306000" y="0"/>
                    </a:lnTo>
                    <a:arcTo wR="306000" hR="198000" stAng="-5400000" swAng="5400011"/>
                  </a:path>
                </a:pathLst>
              </a:custGeom>
              <a:noFill/>
              <a:ln w="28440">
                <a:solidFill>
                  <a:srgbClr val="1b9b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0" name="TextBox 83"/>
            <p:cNvSpPr/>
            <p:nvPr/>
          </p:nvSpPr>
          <p:spPr>
            <a:xfrm>
              <a:off x="7551720" y="3986640"/>
              <a:ext cx="45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1" name="TextBox 84"/>
          <p:cNvSpPr/>
          <p:nvPr/>
        </p:nvSpPr>
        <p:spPr>
          <a:xfrm>
            <a:off x="5378400" y="2597040"/>
            <a:ext cx="4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2" name=""/>
          <p:cNvGraphicFramePr/>
          <p:nvPr/>
        </p:nvGraphicFramePr>
        <p:xfrm>
          <a:off x="5052960" y="1557360"/>
          <a:ext cx="2879640" cy="2879640"/>
        </p:xfrm>
        <a:graphic>
          <a:graphicData uri="http://schemas.openxmlformats.org/drawingml/2006/table">
            <a:tbl>
              <a:tblPr/>
              <a:tblGrid>
                <a:gridCol w="719280"/>
                <a:gridCol w="720720"/>
                <a:gridCol w="718920"/>
                <a:gridCol w="72072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3" name="直接连接符 110"/>
          <p:cNvSpPr/>
          <p:nvPr/>
        </p:nvSpPr>
        <p:spPr>
          <a:xfrm>
            <a:off x="4635360" y="6066000"/>
            <a:ext cx="432000" cy="396720"/>
          </a:xfrm>
          <a:prstGeom prst="line">
            <a:avLst/>
          </a:prstGeom>
          <a:ln cap="rnd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Box 111"/>
          <p:cNvSpPr/>
          <p:nvPr/>
        </p:nvSpPr>
        <p:spPr>
          <a:xfrm>
            <a:off x="6404040" y="554364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下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Box 112"/>
          <p:cNvSpPr/>
          <p:nvPr/>
        </p:nvSpPr>
        <p:spPr>
          <a:xfrm>
            <a:off x="7397640" y="554364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右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4.44444E-006 L 0.15573 4.44444E-006 E">
                                      <p:cBhvr>
                                        <p:cTn id="342" dur="2000" fill="hold"/>
                                        <p:tgtEl>
                                          <p:spTgt spid="9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3.7037E-007 L 0.15573 -3.7037E-007 E">
                                      <p:cBhvr>
                                        <p:cTn id="344" dur="2000" fill="hold"/>
                                        <p:tgtEl>
                                          <p:spTgt spid="9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7.40741E-007 L -0.00173 -0.20995 E">
                                      <p:cBhvr>
                                        <p:cTn id="358" dur="2000" fill="hold"/>
                                        <p:tgtEl>
                                          <p:spTgt spid="9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4 -0.20764 L -0.15521 -0.20764 E">
                                      <p:cBhvr>
                                        <p:cTn id="362" dur="2000" fill="hold"/>
                                        <p:tgtEl>
                                          <p:spTgt spid="9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3 7.40741E-007 L 0.00173 0.10486 E">
                                      <p:cBhvr>
                                        <p:cTn id="392" dur="2000" fill="hold"/>
                                        <p:tgtEl>
                                          <p:spTgt spid="9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10486 L 0.08038 0.10486 E">
                                      <p:cBhvr>
                                        <p:cTn id="396" dur="2000" fill="hold"/>
                                        <p:tgtEl>
                                          <p:spTgt spid="9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yh</cp:lastModifiedBy>
  <dcterms:modified xsi:type="dcterms:W3CDTF">2015-01-01T13:46:57Z</dcterms:modified>
  <cp:revision>26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8c3b000000000001024140</vt:lpwstr>
  </property>
</Properties>
</file>