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97B-4B59-4229-B224-5AB5D50F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75D-01B2-4A3F-873D-087E6A60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B02-A59D-43B4-A8E3-081D455E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50E-2F08-49A1-9A97-235D27C0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1C6-70DF-458A-B736-027E9177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52A-5D51-4D91-A10B-0FB26A01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EE5-156C-4E70-AEB8-95AA99A5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EDE-6639-4E22-93DA-3324B7F2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C51-CA72-4F3E-A188-AF953B67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D13-8220-4A02-A027-6DC57856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034-A802-4D0C-A45D-C2BED2A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F61-AA5D-44DC-8B85-1405080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7737-EADC-4D15-AAB4-739C9C42A3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93bOOOPIC99"/>
          <p:cNvPicPr/>
          <p:nvPr/>
        </p:nvPicPr>
        <p:blipFill>
          <a:blip r:embed="rId1"/>
          <a:stretch/>
        </p:blipFill>
        <p:spPr>
          <a:xfrm>
            <a:off x="-181080" y="-69840"/>
            <a:ext cx="9302760" cy="69786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2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1614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99"/>
          <p:cNvSpPr/>
          <p:nvPr/>
        </p:nvSpPr>
        <p:spPr>
          <a:xfrm>
            <a:off x="250920" y="549360"/>
            <a:ext cx="8547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准确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在实际生活中，为了计数的简便，可以把一个较大的数改写成以万或亿为单位的数。改写后的数是原数的准确数。 例如把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4300000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改写成以万做单位的数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430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；改写成 以亿做单位 的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543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亿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近似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根据实际需要，我们还可以把一个较大的数，省略某一位后面的尾数，用一个近似数来表示。 例如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2490015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省略亿后面的尾数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亿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四舍五入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要省略的尾数的最高位上的数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或者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，就把尾数去掉；如果尾数的最高位上的数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或者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，就把尾数舍去，并向它的前一位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例如：省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5900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后面的尾数约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。省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25097420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亿后面的尾数约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亿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428760" y="428760"/>
            <a:ext cx="871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在小学阶段你在哪些地方用到过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？说一说你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的认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14200" y="2714760"/>
            <a:ext cx="83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课本上用四幅图强调了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的意义请你也举一些例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395280" y="1341360"/>
            <a:ext cx="7572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问题四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倍数和因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说一说你整理的结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倍数，因数，质数，合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偶数，奇数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,5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的倍数的特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的倍数的特点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的倍数的特点，互质数。请举例说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14337"/>
          <p:cNvGrpSpPr/>
          <p:nvPr/>
        </p:nvGrpSpPr>
        <p:grpSpPr>
          <a:xfrm>
            <a:off x="900000" y="617400"/>
            <a:ext cx="5824440" cy="869040"/>
            <a:chOff x="900000" y="617400"/>
            <a:chExt cx="5824440" cy="869040"/>
          </a:xfrm>
        </p:grpSpPr>
        <p:sp>
          <p:nvSpPr>
            <p:cNvPr id="77" name="文本框 14338"/>
            <p:cNvSpPr/>
            <p:nvPr/>
          </p:nvSpPr>
          <p:spPr>
            <a:xfrm>
              <a:off x="900000" y="617400"/>
              <a:ext cx="5400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4339"/>
            <p:cNvSpPr/>
            <p:nvPr/>
          </p:nvSpPr>
          <p:spPr>
            <a:xfrm>
              <a:off x="4836960" y="90504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因数和倍数：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4340"/>
          <p:cNvSpPr/>
          <p:nvPr/>
        </p:nvSpPr>
        <p:spPr>
          <a:xfrm>
            <a:off x="2719080" y="1623240"/>
            <a:ext cx="8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990099"/>
                </a:solidFill>
                <a:latin typeface="仿宋_GB2312"/>
                <a:ea typeface="仿宋_GB2312"/>
              </a:rPr>
              <a:t>、非零自然数的两种分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4341"/>
          <p:cNvSpPr/>
          <p:nvPr/>
        </p:nvSpPr>
        <p:spPr>
          <a:xfrm>
            <a:off x="1042920" y="2349360"/>
            <a:ext cx="10828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宋体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宋体"/>
              </a:rPr>
              <a:t>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4342"/>
          <p:cNvGrpSpPr/>
          <p:nvPr/>
        </p:nvGrpSpPr>
        <p:grpSpPr>
          <a:xfrm>
            <a:off x="1979640" y="2421000"/>
            <a:ext cx="3570120" cy="1152360"/>
            <a:chOff x="1979640" y="2421000"/>
            <a:chExt cx="3570120" cy="1152360"/>
          </a:xfrm>
        </p:grpSpPr>
        <p:sp>
          <p:nvSpPr>
            <p:cNvPr id="82" name="右大括号 14343"/>
            <p:cNvSpPr/>
            <p:nvPr/>
          </p:nvSpPr>
          <p:spPr>
            <a:xfrm>
              <a:off x="1979640" y="2421000"/>
              <a:ext cx="144360" cy="115236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16200" y="10800"/>
                    <a:pt x="21600" y="10800"/>
                  </a:cubicBezTo>
                  <a:cubicBezTo>
                    <a:pt x="162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344"/>
            <p:cNvSpPr/>
            <p:nvPr/>
          </p:nvSpPr>
          <p:spPr>
            <a:xfrm>
              <a:off x="3064680" y="2692440"/>
              <a:ext cx="24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自然数（不包括</a:t>
              </a:r>
              <a:r>
                <a:rPr b="1" lang="en-US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0</a:t>
              </a: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）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4345"/>
          <p:cNvGrpSpPr/>
          <p:nvPr/>
        </p:nvGrpSpPr>
        <p:grpSpPr>
          <a:xfrm>
            <a:off x="5078520" y="2421000"/>
            <a:ext cx="1580760" cy="1306080"/>
            <a:chOff x="5078520" y="2421000"/>
            <a:chExt cx="1580760" cy="1306080"/>
          </a:xfrm>
        </p:grpSpPr>
        <p:sp>
          <p:nvSpPr>
            <p:cNvPr id="85" name="左大括号 14346"/>
            <p:cNvSpPr/>
            <p:nvPr/>
          </p:nvSpPr>
          <p:spPr>
            <a:xfrm>
              <a:off x="5078520" y="2492280"/>
              <a:ext cx="71280" cy="10821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28080 h 1082160"/>
                <a:gd name="textAreaBottom" fmla="*/ 1054080 h 108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4347"/>
            <p:cNvSpPr/>
            <p:nvPr/>
          </p:nvSpPr>
          <p:spPr>
            <a:xfrm>
              <a:off x="5219640" y="2421000"/>
              <a:ext cx="1439640" cy="13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质  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合  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14348"/>
          <p:cNvGrpSpPr/>
          <p:nvPr/>
        </p:nvGrpSpPr>
        <p:grpSpPr>
          <a:xfrm>
            <a:off x="1619280" y="3933720"/>
            <a:ext cx="2664720" cy="828000"/>
            <a:chOff x="1619280" y="3933720"/>
            <a:chExt cx="2664720" cy="828000"/>
          </a:xfrm>
        </p:grpSpPr>
        <p:sp>
          <p:nvSpPr>
            <p:cNvPr id="88" name="左大括号 14349"/>
            <p:cNvSpPr/>
            <p:nvPr/>
          </p:nvSpPr>
          <p:spPr>
            <a:xfrm>
              <a:off x="1619280" y="3982680"/>
              <a:ext cx="120600" cy="744480"/>
            </a:xfrm>
            <a:custGeom>
              <a:avLst/>
              <a:gdLst>
                <a:gd name="textAreaLeft" fmla="*/ 77040 w 120600"/>
                <a:gd name="textAreaRight" fmla="*/ 120960 w 120600"/>
                <a:gd name="textAreaTop" fmla="*/ 19080 h 744480"/>
                <a:gd name="textAreaBottom" fmla="*/ 725400 h 74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14350"/>
            <p:cNvSpPr/>
            <p:nvPr/>
          </p:nvSpPr>
          <p:spPr>
            <a:xfrm>
              <a:off x="1859760" y="3933720"/>
              <a:ext cx="242424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公因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质数  合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4351"/>
          <p:cNvGrpSpPr/>
          <p:nvPr/>
        </p:nvGrpSpPr>
        <p:grpSpPr>
          <a:xfrm>
            <a:off x="3059280" y="3784680"/>
            <a:ext cx="2805480" cy="520560"/>
            <a:chOff x="3059280" y="3784680"/>
            <a:chExt cx="2805480" cy="520560"/>
          </a:xfrm>
        </p:grpSpPr>
        <p:grpSp>
          <p:nvGrpSpPr>
            <p:cNvPr id="91" name=""/>
            <p:cNvGrpSpPr/>
            <p:nvPr/>
          </p:nvGrpSpPr>
          <p:grpSpPr>
            <a:xfrm>
              <a:off x="3059280" y="4077000"/>
              <a:ext cx="649080" cy="360"/>
              <a:chOff x="3059280" y="4077000"/>
              <a:chExt cx="649080" cy="360"/>
            </a:xfrm>
          </p:grpSpPr>
          <p:sp>
            <p:nvSpPr>
              <p:cNvPr id="92" name="直接连接符 14352"/>
              <p:cNvSpPr/>
              <p:nvPr/>
            </p:nvSpPr>
            <p:spPr>
              <a:xfrm>
                <a:off x="3059280" y="4077000"/>
                <a:ext cx="6490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3059280" y="4077000"/>
                <a:ext cx="64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矩形 14353"/>
            <p:cNvSpPr/>
            <p:nvPr/>
          </p:nvSpPr>
          <p:spPr>
            <a:xfrm>
              <a:off x="4403880" y="37846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最小公因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4354"/>
          <p:cNvGrpSpPr/>
          <p:nvPr/>
        </p:nvGrpSpPr>
        <p:grpSpPr>
          <a:xfrm>
            <a:off x="5651640" y="3789360"/>
            <a:ext cx="1775520" cy="520560"/>
            <a:chOff x="5651640" y="3789360"/>
            <a:chExt cx="1775520" cy="520560"/>
          </a:xfrm>
        </p:grpSpPr>
        <p:grpSp>
          <p:nvGrpSpPr>
            <p:cNvPr id="96" name=""/>
            <p:cNvGrpSpPr/>
            <p:nvPr/>
          </p:nvGrpSpPr>
          <p:grpSpPr>
            <a:xfrm>
              <a:off x="5651640" y="4077000"/>
              <a:ext cx="649080" cy="360"/>
              <a:chOff x="5651640" y="4077000"/>
              <a:chExt cx="649080" cy="360"/>
            </a:xfrm>
          </p:grpSpPr>
          <p:sp>
            <p:nvSpPr>
              <p:cNvPr id="97" name="直接连接符 14355"/>
              <p:cNvSpPr/>
              <p:nvPr/>
            </p:nvSpPr>
            <p:spPr>
              <a:xfrm>
                <a:off x="5651640" y="4077000"/>
                <a:ext cx="6490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651640" y="4077000"/>
                <a:ext cx="64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矩形 14356"/>
            <p:cNvSpPr/>
            <p:nvPr/>
          </p:nvSpPr>
          <p:spPr>
            <a:xfrm>
              <a:off x="660636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约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4357"/>
          <p:cNvSpPr/>
          <p:nvPr/>
        </p:nvSpPr>
        <p:spPr>
          <a:xfrm>
            <a:off x="6537240" y="42199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仿宋_GB2312"/>
                <a:ea typeface="仿宋_GB2312"/>
              </a:rPr>
              <a:t>（了解分解质因数、互质数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4358"/>
          <p:cNvGrpSpPr/>
          <p:nvPr/>
        </p:nvGrpSpPr>
        <p:grpSpPr>
          <a:xfrm>
            <a:off x="324000" y="3645000"/>
            <a:ext cx="1512720" cy="2104920"/>
            <a:chOff x="324000" y="3645000"/>
            <a:chExt cx="1512720" cy="2104920"/>
          </a:xfrm>
        </p:grpSpPr>
        <p:sp>
          <p:nvSpPr>
            <p:cNvPr id="102" name="文本框 14359"/>
            <p:cNvSpPr/>
            <p:nvPr/>
          </p:nvSpPr>
          <p:spPr>
            <a:xfrm>
              <a:off x="324000" y="3645000"/>
              <a:ext cx="10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14360"/>
            <p:cNvSpPr/>
            <p:nvPr/>
          </p:nvSpPr>
          <p:spPr>
            <a:xfrm>
              <a:off x="755640" y="40766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因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4361"/>
            <p:cNvSpPr/>
            <p:nvPr/>
          </p:nvSpPr>
          <p:spPr>
            <a:xfrm>
              <a:off x="755640" y="52293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倍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4362"/>
          <p:cNvGrpSpPr/>
          <p:nvPr/>
        </p:nvGrpSpPr>
        <p:grpSpPr>
          <a:xfrm>
            <a:off x="1619280" y="5157720"/>
            <a:ext cx="4247280" cy="828000"/>
            <a:chOff x="1619280" y="5157720"/>
            <a:chExt cx="4247280" cy="828000"/>
          </a:xfrm>
        </p:grpSpPr>
        <p:sp>
          <p:nvSpPr>
            <p:cNvPr id="106" name="左大括号 14363"/>
            <p:cNvSpPr/>
            <p:nvPr/>
          </p:nvSpPr>
          <p:spPr>
            <a:xfrm>
              <a:off x="1619280" y="5206680"/>
              <a:ext cx="191880" cy="743760"/>
            </a:xfrm>
            <a:custGeom>
              <a:avLst/>
              <a:gdLst>
                <a:gd name="textAreaLeft" fmla="*/ 122760 w 191880"/>
                <a:gd name="textAreaRight" fmla="*/ 192240 w 191880"/>
                <a:gd name="textAreaTop" fmla="*/ 19080 h 743760"/>
                <a:gd name="textAreaBottom" fmla="*/ 724680 h 74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4364"/>
            <p:cNvSpPr/>
            <p:nvPr/>
          </p:nvSpPr>
          <p:spPr>
            <a:xfrm>
              <a:off x="2002680" y="5157720"/>
              <a:ext cx="386388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公倍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、</a:t>
              </a:r>
              <a:r>
                <a:rPr b="1" lang="en-US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3</a:t>
              </a: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、</a:t>
              </a:r>
              <a:r>
                <a:rPr b="1" lang="en-US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5</a:t>
              </a:r>
              <a:r>
                <a:rPr b="1" lang="zh-CN" sz="2800" spc="-1" strike="noStrike">
                  <a:solidFill>
                    <a:srgbClr val="990099"/>
                  </a:solidFill>
                  <a:latin typeface="Arial"/>
                  <a:ea typeface="宋体"/>
                </a:rPr>
                <a:t>的倍数的特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4365"/>
          <p:cNvGrpSpPr/>
          <p:nvPr/>
        </p:nvGrpSpPr>
        <p:grpSpPr>
          <a:xfrm>
            <a:off x="3232080" y="4984920"/>
            <a:ext cx="2777400" cy="520560"/>
            <a:chOff x="3232080" y="4984920"/>
            <a:chExt cx="2777400" cy="520560"/>
          </a:xfrm>
        </p:grpSpPr>
        <p:grpSp>
          <p:nvGrpSpPr>
            <p:cNvPr id="109" name=""/>
            <p:cNvGrpSpPr/>
            <p:nvPr/>
          </p:nvGrpSpPr>
          <p:grpSpPr>
            <a:xfrm>
              <a:off x="3232080" y="5286600"/>
              <a:ext cx="649440" cy="360"/>
              <a:chOff x="3232080" y="5286600"/>
              <a:chExt cx="649440" cy="360"/>
            </a:xfrm>
          </p:grpSpPr>
          <p:sp>
            <p:nvSpPr>
              <p:cNvPr id="110" name="直接连接符 14366"/>
              <p:cNvSpPr/>
              <p:nvPr/>
            </p:nvSpPr>
            <p:spPr>
              <a:xfrm>
                <a:off x="3232080" y="5286600"/>
                <a:ext cx="64944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3232080" y="5286600"/>
                <a:ext cx="649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矩形 14367"/>
            <p:cNvSpPr/>
            <p:nvPr/>
          </p:nvSpPr>
          <p:spPr>
            <a:xfrm>
              <a:off x="4548600" y="4984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最大公倍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4368"/>
          <p:cNvGrpSpPr/>
          <p:nvPr/>
        </p:nvGrpSpPr>
        <p:grpSpPr>
          <a:xfrm>
            <a:off x="5796000" y="4942080"/>
            <a:ext cx="1774080" cy="520560"/>
            <a:chOff x="5796000" y="4942080"/>
            <a:chExt cx="1774080" cy="520560"/>
          </a:xfrm>
        </p:grpSpPr>
        <p:grpSp>
          <p:nvGrpSpPr>
            <p:cNvPr id="114" name=""/>
            <p:cNvGrpSpPr/>
            <p:nvPr/>
          </p:nvGrpSpPr>
          <p:grpSpPr>
            <a:xfrm>
              <a:off x="5796000" y="5301000"/>
              <a:ext cx="648360" cy="360"/>
              <a:chOff x="5796000" y="5301000"/>
              <a:chExt cx="648360" cy="360"/>
            </a:xfrm>
          </p:grpSpPr>
          <p:sp>
            <p:nvSpPr>
              <p:cNvPr id="115" name="直接连接符 14369"/>
              <p:cNvSpPr/>
              <p:nvPr/>
            </p:nvSpPr>
            <p:spPr>
              <a:xfrm>
                <a:off x="5796000" y="5301000"/>
                <a:ext cx="64836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5796000" y="5301000"/>
                <a:ext cx="64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矩形 14370"/>
            <p:cNvSpPr/>
            <p:nvPr/>
          </p:nvSpPr>
          <p:spPr>
            <a:xfrm>
              <a:off x="6749280" y="49420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通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4371"/>
          <p:cNvGrpSpPr/>
          <p:nvPr/>
        </p:nvGrpSpPr>
        <p:grpSpPr>
          <a:xfrm>
            <a:off x="5651640" y="5429880"/>
            <a:ext cx="3024000" cy="520560"/>
            <a:chOff x="5651640" y="5429880"/>
            <a:chExt cx="3024000" cy="520560"/>
          </a:xfrm>
        </p:grpSpPr>
        <p:grpSp>
          <p:nvGrpSpPr>
            <p:cNvPr id="119" name=""/>
            <p:cNvGrpSpPr/>
            <p:nvPr/>
          </p:nvGrpSpPr>
          <p:grpSpPr>
            <a:xfrm>
              <a:off x="5651640" y="5734080"/>
              <a:ext cx="649080" cy="360"/>
              <a:chOff x="5651640" y="5734080"/>
              <a:chExt cx="649080" cy="360"/>
            </a:xfrm>
          </p:grpSpPr>
          <p:sp>
            <p:nvSpPr>
              <p:cNvPr id="120" name="直接连接符 14372"/>
              <p:cNvSpPr/>
              <p:nvPr/>
            </p:nvSpPr>
            <p:spPr>
              <a:xfrm>
                <a:off x="5651640" y="5734080"/>
                <a:ext cx="6490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5651640" y="5734080"/>
                <a:ext cx="64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矩形 14373"/>
            <p:cNvSpPr/>
            <p:nvPr/>
          </p:nvSpPr>
          <p:spPr>
            <a:xfrm>
              <a:off x="6229440" y="5429880"/>
              <a:ext cx="24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偶数、奇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0" y="214200"/>
            <a:ext cx="90010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综合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一．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我国普通小学在校生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8645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，读作：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，其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位上，万位上的数是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，改写成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作单位，并保留两位小数约是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亿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填一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世界最高峰珠穆朗玛峰约八千八百四十四点四三米。这个数写作：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4440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44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4044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从小到大顺序填入下面的括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＜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  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34920" y="-68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第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界世界博览会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日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在中国上海市举行。总投资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5000000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元人民币，截止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日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时，世博园累计参观人数已达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0773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5000000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元改写成以“亿元”为单位的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是（             ）亿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横线上的数读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              )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省略万位后面的尾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约为（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一个数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个亿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个千万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个万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个百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组成，这个数写作（             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读作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5.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15.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中，正数有（        ），负数有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3905280" y="1928880"/>
            <a:ext cx="4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29" name="矩形 1"/>
          <p:cNvSpPr/>
          <p:nvPr/>
        </p:nvSpPr>
        <p:spPr>
          <a:xfrm>
            <a:off x="0" y="214200"/>
            <a:ext cx="88995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60606000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是一个（  ）位数从左到右第二个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在（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位上，第三个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表示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个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  ),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这个数读作（         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自然数的基本单位是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   ),93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由（  ）个单位组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最小的四位数（    ）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最大的五位数是（    ）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4920" y="3067560"/>
            <a:ext cx="8839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、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个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个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组成一个六位数，只读一个零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有（         ），读两个零的有（        ）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一个零也不读的（        ）。其中最大的一个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是（      ），最小的一个数是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    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两数相差（       ）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、最大的七位数是（     ），它的最高位是（  ）位，一个整数的最高位是亿位，这个数是（  ）位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32" name="矩形 1"/>
          <p:cNvSpPr/>
          <p:nvPr/>
        </p:nvSpPr>
        <p:spPr>
          <a:xfrm>
            <a:off x="0" y="428760"/>
            <a:ext cx="9144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从右边算起，第五位是（ ）位，计数单位是（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一个数的十万位是最小的合数，万位是最小的质数，千位是最大的一位数，十位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其余各个数位上的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这个数是（       ），把这个数改写为以万为单位的数是（    ），四舍五入到万位的数是（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0" y="757800"/>
            <a:ext cx="91440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倍数与因数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在自然数的范围内，最小的质数是（   ），最小的合数是（   ），最小的奇数是（   ），最小的偶数是（   ），最小的自然数是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互质的最小合数是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（   ）的最大因数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，最小的倍数是（   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与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是互质的，它们的最大公因数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36" name="矩形 1"/>
          <p:cNvSpPr/>
          <p:nvPr/>
        </p:nvSpPr>
        <p:spPr>
          <a:xfrm>
            <a:off x="0" y="0"/>
            <a:ext cx="87868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如果自然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除以自然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，商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，那么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和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的最小公倍数是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在一位数中，只有公因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的两个合数是（  ）和（   ）或（   ）和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既是奇数又是合数的最小数是（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的最大公因数是（         ）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5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的最小公倍数是（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635796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8143920" y="16430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214280" y="25718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2786040" y="24289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4286160" y="24289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 flipV="1" rot="5400000">
            <a:off x="2553840" y="1017000"/>
            <a:ext cx="606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34920" y="404640"/>
            <a:ext cx="914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问题一：说一说下列各题中各个数的具体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，第一届奥运会于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896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年在希腊雅典举行，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008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年在北京举行的是第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届奥运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，长江是中国第一大河，流经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个省、市、自治区。全长约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6300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千米，流域面积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多万平方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0" y="0"/>
            <a:ext cx="9144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都是自然数，且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a=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，那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的最小公倍数是（     ），最大公因数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三个连续的自然数的和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，这三个数的最小公倍数是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一个三角形的三条边分别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米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米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米，要给它的三边上栽上树（三个顶点都栽），且每相邻两棵树间距都相等，最少需要（      ）棵树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提示：先考虑相邻两棵树间的距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785880" y="78588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4071960" y="6429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71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48" name="矩形 1"/>
          <p:cNvSpPr/>
          <p:nvPr/>
        </p:nvSpPr>
        <p:spPr>
          <a:xfrm>
            <a:off x="0" y="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的倍数的最大两位数是（     ），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的倍数又含有因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的最小三位数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一个三位数，既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的倍数，又有因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，这个三位数最大是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两个数的最大公因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最小公倍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且知其中一个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另一个为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有两个质数，它们的和与差都是质数，则这两个质数是（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50" name="矩形 1"/>
          <p:cNvSpPr/>
          <p:nvPr/>
        </p:nvSpPr>
        <p:spPr>
          <a:xfrm>
            <a:off x="0" y="0"/>
            <a:ext cx="9144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以内的质数有（  ）个，奇数有（  ）个，合数有（   ）个，偶数有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如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最大因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最小倍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+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和的所有因数有（   ）个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-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差的所有因数有（   ）个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×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积的所有因数有（  ）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一筐苹果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个，三个三个的数，五个五个的数，七个七个的数恰好都数完，这筐苹果最多有（    ）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最小公倍数是最大公因数的（  ）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52" name="矩形 1"/>
          <p:cNvSpPr/>
          <p:nvPr/>
        </p:nvSpPr>
        <p:spPr>
          <a:xfrm>
            <a:off x="0" y="0"/>
            <a:ext cx="8929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三个连续偶数的和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这三个数的最大公倍数是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连续三个自然数的和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这三个数的最小公倍数是（   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个质数的最小公倍数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个质数是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两个的最大公因数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最小公倍数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其中一个数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另一个是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"/>
          <p:cNvSpPr/>
          <p:nvPr/>
        </p:nvSpPr>
        <p:spPr>
          <a:xfrm>
            <a:off x="0" y="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有两个质数，它们的和与差都是质数，则这两个质数是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已知两个互质数的最小公倍数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这两个质数是（     ）和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是非零的自然数，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n=m+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的最大公因数是（    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最小公倍数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是星期二，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是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3500280" y="385776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572240" y="37148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4287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路汽车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分钟发一次车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路汽车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分钟发一次车，这两路车同时发车后，至少再过（   ）分钟又同时发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79280" y="765000"/>
            <a:ext cx="90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拉萨的区号为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891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，面积约为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1662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平方千米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年人口约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2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万。目前，北京西站至拉萨的火车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27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次每日开行，全程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064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千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79280" y="3789360"/>
            <a:ext cx="885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以上的数可以分为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序数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基数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两类。序数即表示顺序的数。形如第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9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届里面的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9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428760" y="50004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问题二：整数的数位顺序表以及整数的读法与写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2920" y="2714760"/>
          <a:ext cx="8715240" cy="3500280"/>
        </p:xfrm>
        <a:graphic>
          <a:graphicData uri="http://schemas.openxmlformats.org/drawingml/2006/table">
            <a:tbl>
              <a:tblPr/>
              <a:tblGrid>
                <a:gridCol w="1486080"/>
                <a:gridCol w="466560"/>
                <a:gridCol w="649440"/>
                <a:gridCol w="569880"/>
                <a:gridCol w="730080"/>
                <a:gridCol w="569880"/>
                <a:gridCol w="568440"/>
                <a:gridCol w="487440"/>
                <a:gridCol w="569880"/>
                <a:gridCol w="487440"/>
                <a:gridCol w="487080"/>
                <a:gridCol w="487440"/>
                <a:gridCol w="512640"/>
                <a:gridCol w="642960"/>
              </a:tblGrid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数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亿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万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个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2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亿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百亿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亿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亿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百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百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计数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千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百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十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千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百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十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"/>
          <p:cNvSpPr/>
          <p:nvPr/>
        </p:nvSpPr>
        <p:spPr>
          <a:xfrm>
            <a:off x="480960" y="1764720"/>
            <a:ext cx="33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数数位顺序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0" y="214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、读出下列各数，并选择一个数说一说每一个数字所表示的意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43645        3030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2570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小结：读数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整数的读法：从高位到低位，一级一级地读。读亿级、万级时，先按照个级的读法去读，再在后面加一个“亿”或“万”字。每一级末尾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都不读出来，其它数位连续有几个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都只读一个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285840" y="500040"/>
            <a:ext cx="857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，写出下列各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六十五万四千三百零六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三亿五千零六十万九千零八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0" y="3857760"/>
            <a:ext cx="89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小结：写数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整数的写法：从高位到低位，一级一级地写，哪一个数位上一个单位也没有，就在那个数位上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0" y="28584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问题三：整数的大小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0" y="1357200"/>
            <a:ext cx="8715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，把下列各数按从小到大的顺序排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 001 000       125 683 000      6780 000    10 011 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14200" y="3571920"/>
            <a:ext cx="838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小结：整数大小比较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比较整数的大小，位数多的那个数就大，如果位数相同，就看最高位，最高位上的数大，那个数就大；最高位上的数相同，就看下一位，哪一位上的数大那个数就大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0" y="404640"/>
            <a:ext cx="86439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问题四：数的改写以及如何取近似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，把下列各数改写成以“万”或“亿”为单位的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全国陆地面积约为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 600 00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平方千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我国人口总数约为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 200 000 00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08000" y="3789360"/>
            <a:ext cx="878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小结：把整数改写成以“万”或“亿”       为单位时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改写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“万”为单位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，改写成“亿”为单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4" descr="1794b9ee06d6cd3506b7c49d40d60870_副本"/>
          <p:cNvPicPr/>
          <p:nvPr/>
        </p:nvPicPr>
        <p:blipFill>
          <a:blip r:embed="rId1"/>
          <a:stretch/>
        </p:blipFill>
        <p:spPr>
          <a:xfrm>
            <a:off x="-14400" y="-36360"/>
            <a:ext cx="9136080" cy="6845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682560" y="1701720"/>
            <a:ext cx="75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回答以下问题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，准确数与近似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，取近似数的一般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682560" y="36450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怎样的情况下使用约等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01:06:30Z</dcterms:created>
  <dc:creator>Administrator</dc:creator>
  <dc:description/>
  <dc:language>en-US</dc:language>
  <cp:lastModifiedBy>lenovo</cp:lastModifiedBy>
  <dcterms:modified xsi:type="dcterms:W3CDTF">2016-05-03T00:36:2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