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13.png" ContentType="image/png"/>
  <Override PartName="/ppt/media/image8.gif" ContentType="image/gif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175-A52A-4B18-AB8E-078CD4FD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DD9-D10D-40DC-B1E9-A8279701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CAF-4F15-40C7-84AC-DC94B2F3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A0B-016D-453A-B2AE-0792BACC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921-1FF1-42F9-B171-F6D68BCA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9B0-7A80-40F4-BAD3-B4899485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6D7-2638-4C68-9A5F-6362ED98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7FA-F45B-4F0D-AEA8-A285DF1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0EF-ACF0-47FD-A38B-34A354FB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2BA-5927-49ED-837C-CE49DFA4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705-59BA-49D5-A5BA-0BE2787B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A9A-06E1-4571-A8C3-18470E6C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4AA8-0A56-4217-8A8C-0E68A88939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160" y="189000"/>
            <a:ext cx="8799480" cy="6394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547120" cy="5327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50920" y="260280"/>
            <a:ext cx="607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北师大版六年级数学下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1916280"/>
            <a:ext cx="6264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解决问题的策略　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9320 w 1332000"/>
              <a:gd name="textAreaRight" fmla="*/ 1282680 w 133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02" y="1400"/>
                </a:lnTo>
                <a:lnTo>
                  <a:pt x="1400" y="140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02" y="20200"/>
                </a:lnTo>
                <a:lnTo>
                  <a:pt x="36202" y="140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2" y="2020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2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2" h="21600">
                <a:moveTo>
                  <a:pt x="11794" y="3794"/>
                </a:moveTo>
                <a:lnTo>
                  <a:pt x="13457" y="3794"/>
                </a:lnTo>
                <a:lnTo>
                  <a:pt x="13457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2855880"/>
            <a:ext cx="425916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体、正方体的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底面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1341360"/>
            <a:ext cx="1727280" cy="863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1413000"/>
            <a:ext cx="720720" cy="720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1341360"/>
            <a:ext cx="576360" cy="863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360" y="1773360"/>
            <a:ext cx="8636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980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1344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7416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17800" y="54936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=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73280" y="1042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29080" y="62064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=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651280" y="2924280"/>
            <a:ext cx="248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猜想圆柱体的体积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式，并验证你的猜想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724360" y="5013360"/>
            <a:ext cx="2592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5760" y="4694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从特例开始寻找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8512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一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同学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乒乓球比赛，如果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同学之间都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场比赛，一个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赛多少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8472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4720" y="407664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74872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84720" y="2997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84720" y="3573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84720" y="1916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84720" y="2492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3564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5964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956720" y="1341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69040" y="148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加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90240" y="148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68160" y="14130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各点之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连线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110800" y="134136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比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场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544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5164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5164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58800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32720" y="1989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72360" y="1700280"/>
            <a:ext cx="35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4544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940360" y="263700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8720" y="2440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1745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45440" y="30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80000" y="3068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96000" y="3068640"/>
            <a:ext cx="288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940000" y="3068640"/>
            <a:ext cx="14436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580000" y="3068640"/>
            <a:ext cx="50472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61800" y="299736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+2+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74520" y="30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02160" y="357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81800" y="357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880" y="3573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37640" y="3592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24480" y="4716360"/>
            <a:ext cx="55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+8+7+6+5+4+3+2+1=45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8709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运用逻辑推理来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1125360"/>
            <a:ext cx="7921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一位法官在审理一起盗窃案时，对涉案的张华、李军、陈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名嫌疑犯进行了审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张华：是李军偷的。李军：不是我偷的。陈涛：不是我偷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经调查，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名嫌疑人中只有一个人说了实话。请问：盗窃犯是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3284640"/>
            <a:ext cx="792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解答：假设张华是盗窃犯，那么李军和陈涛说的话都是实话，这与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名嫌疑人中只有一人说了实话”相矛盾，所以张华不是盗窃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假设李军是盗窃犯，那么张华和陈涛说的都是实话，这与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名嫌疑人中只有一人说了实话”相矛盾，所以李军不是盗窃犯。假设陈涛是盗窃犯，那么只有李军说的是实话，这与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中宋"/>
              </a:rPr>
              <a:t>名嫌疑人中只有一人说了实话”相符合，因此盗窃犯是陈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练一练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观察下面的两个图形，想一想，要求右边图形的周长，怎样计算比较简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64720" cy="30765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8"/>
          <p:cNvSpPr/>
          <p:nvPr/>
        </p:nvSpPr>
        <p:spPr>
          <a:xfrm>
            <a:off x="1187280" y="2708280"/>
            <a:ext cx="280836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5148360" y="2708280"/>
            <a:ext cx="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5148360" y="443700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1"/>
          <p:cNvSpPr/>
          <p:nvPr/>
        </p:nvSpPr>
        <p:spPr>
          <a:xfrm>
            <a:off x="7020000" y="357336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2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3"/>
          <p:cNvSpPr/>
          <p:nvPr/>
        </p:nvSpPr>
        <p:spPr>
          <a:xfrm>
            <a:off x="5940360" y="2708280"/>
            <a:ext cx="0" cy="86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"/>
          <p:cNvSpPr/>
          <p:nvPr/>
        </p:nvSpPr>
        <p:spPr>
          <a:xfrm>
            <a:off x="5148360" y="270828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5940360" y="357336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7020000" y="407664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7"/>
          <p:cNvSpPr/>
          <p:nvPr/>
        </p:nvSpPr>
        <p:spPr>
          <a:xfrm>
            <a:off x="0" y="4869000"/>
            <a:ext cx="88200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571680" y="53690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个小方格的边长是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c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右边图形的周长是多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练一练</a:t>
            </a:r>
            <a:br>
              <a:rPr sz="4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计算下面图形的周长，怎样计算简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64720" cy="30765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1187280" y="2708280"/>
            <a:ext cx="280836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148360" y="2708280"/>
            <a:ext cx="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5148360" y="443700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7020000" y="3541680"/>
            <a:ext cx="0" cy="5032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>
            <a:off x="5940360" y="2708280"/>
            <a:ext cx="0" cy="8650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5148360" y="270828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5940360" y="3573360"/>
            <a:ext cx="107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2"/>
          <p:cNvSpPr/>
          <p:nvPr/>
        </p:nvSpPr>
        <p:spPr>
          <a:xfrm>
            <a:off x="7020000" y="4076640"/>
            <a:ext cx="936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3157560" y="532620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3+5)×2=16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0.22049 0.00023 E">
                                      <p:cBhvr>
                                        <p:cTn id="12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10243 0.00532 E">
                                      <p:cBhvr>
                                        <p:cTn id="16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1481E-006 L -0.00399 -0.12615 E">
                                      <p:cBhvr>
                                        <p:cTn id="20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-0.00399 -0.19953 E">
                                      <p:cBhvr>
                                        <p:cTn id="24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用分数表示各图中的涂色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2"/>
          <p:cNvGrpSpPr/>
          <p:nvPr/>
        </p:nvGrpSpPr>
        <p:grpSpPr>
          <a:xfrm>
            <a:off x="779400" y="2421000"/>
            <a:ext cx="7561440" cy="3308760"/>
            <a:chOff x="779400" y="2421000"/>
            <a:chExt cx="7561440" cy="3308760"/>
          </a:xfrm>
        </p:grpSpPr>
        <p:pic>
          <p:nvPicPr>
            <p:cNvPr id="470" name="Picture 9" descr=""/>
            <p:cNvPicPr/>
            <p:nvPr/>
          </p:nvPicPr>
          <p:blipFill>
            <a:blip r:embed="rId1"/>
            <a:stretch/>
          </p:blipFill>
          <p:spPr>
            <a:xfrm>
              <a:off x="779400" y="2421000"/>
              <a:ext cx="2005200" cy="21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0" descr=""/>
            <p:cNvPicPr/>
            <p:nvPr/>
          </p:nvPicPr>
          <p:blipFill>
            <a:blip r:embed="rId2"/>
            <a:stretch/>
          </p:blipFill>
          <p:spPr>
            <a:xfrm>
              <a:off x="6467400" y="2570040"/>
              <a:ext cx="1873440" cy="19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11" descr=""/>
            <p:cNvPicPr/>
            <p:nvPr/>
          </p:nvPicPr>
          <p:blipFill>
            <a:blip r:embed="rId3"/>
            <a:stretch/>
          </p:blipFill>
          <p:spPr>
            <a:xfrm>
              <a:off x="3371760" y="2795760"/>
              <a:ext cx="2521080" cy="13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3" name="Group 14"/>
            <p:cNvGrpSpPr/>
            <p:nvPr/>
          </p:nvGrpSpPr>
          <p:grpSpPr>
            <a:xfrm>
              <a:off x="1406160" y="4904280"/>
              <a:ext cx="851400" cy="825480"/>
              <a:chOff x="1406160" y="4904280"/>
              <a:chExt cx="851400" cy="825480"/>
            </a:xfrm>
          </p:grpSpPr>
          <p:sp>
            <p:nvSpPr>
              <p:cNvPr id="474" name="Text Box 12"/>
              <p:cNvSpPr/>
              <p:nvPr/>
            </p:nvSpPr>
            <p:spPr>
              <a:xfrm>
                <a:off x="1406160" y="4904280"/>
                <a:ext cx="85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3"/>
              <p:cNvSpPr/>
              <p:nvPr/>
            </p:nvSpPr>
            <p:spPr>
              <a:xfrm>
                <a:off x="1500120" y="535536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5"/>
            <p:cNvGrpSpPr/>
            <p:nvPr/>
          </p:nvGrpSpPr>
          <p:grpSpPr>
            <a:xfrm>
              <a:off x="4214520" y="4828320"/>
              <a:ext cx="851400" cy="825480"/>
              <a:chOff x="4214520" y="4828320"/>
              <a:chExt cx="851400" cy="825480"/>
            </a:xfrm>
          </p:grpSpPr>
          <p:sp>
            <p:nvSpPr>
              <p:cNvPr id="477" name="Text Box 16"/>
              <p:cNvSpPr/>
              <p:nvPr/>
            </p:nvSpPr>
            <p:spPr>
              <a:xfrm>
                <a:off x="4214520" y="4828320"/>
                <a:ext cx="85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7"/>
              <p:cNvSpPr/>
              <p:nvPr/>
            </p:nvSpPr>
            <p:spPr>
              <a:xfrm>
                <a:off x="4308480" y="527940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8"/>
            <p:cNvGrpSpPr/>
            <p:nvPr/>
          </p:nvGrpSpPr>
          <p:grpSpPr>
            <a:xfrm>
              <a:off x="6879960" y="4828320"/>
              <a:ext cx="851400" cy="825480"/>
              <a:chOff x="6879960" y="4828320"/>
              <a:chExt cx="851400" cy="825480"/>
            </a:xfrm>
          </p:grpSpPr>
          <p:sp>
            <p:nvSpPr>
              <p:cNvPr id="480" name="Text Box 19"/>
              <p:cNvSpPr/>
              <p:nvPr/>
            </p:nvSpPr>
            <p:spPr>
              <a:xfrm>
                <a:off x="6879960" y="4828320"/>
                <a:ext cx="851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Verdana"/>
                    <a:ea typeface="黑体"/>
                  </a:rPr>
                  <a:t>（　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20"/>
              <p:cNvSpPr/>
              <p:nvPr/>
            </p:nvSpPr>
            <p:spPr>
              <a:xfrm>
                <a:off x="6973920" y="527940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2" name="Picture 25" descr=""/>
          <p:cNvPicPr/>
          <p:nvPr/>
        </p:nvPicPr>
        <p:blipFill>
          <a:blip r:embed="rId4"/>
          <a:stretch/>
        </p:blipFill>
        <p:spPr>
          <a:xfrm>
            <a:off x="755640" y="2492280"/>
            <a:ext cx="1994040" cy="2049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6" descr=""/>
          <p:cNvPicPr/>
          <p:nvPr/>
        </p:nvPicPr>
        <p:blipFill>
          <a:blip r:embed="rId5"/>
          <a:stretch/>
        </p:blipFill>
        <p:spPr>
          <a:xfrm>
            <a:off x="771480" y="2484360"/>
            <a:ext cx="1989360" cy="2016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9" descr=""/>
          <p:cNvPicPr/>
          <p:nvPr/>
        </p:nvPicPr>
        <p:blipFill>
          <a:blip r:embed="rId6"/>
          <a:stretch/>
        </p:blipFill>
        <p:spPr>
          <a:xfrm>
            <a:off x="4659480" y="2813040"/>
            <a:ext cx="1223640" cy="1295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7" descr=""/>
          <p:cNvPicPr/>
          <p:nvPr/>
        </p:nvPicPr>
        <p:blipFill>
          <a:blip r:embed="rId7"/>
          <a:stretch/>
        </p:blipFill>
        <p:spPr>
          <a:xfrm>
            <a:off x="755640" y="2460600"/>
            <a:ext cx="2030400" cy="2087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8" descr=""/>
          <p:cNvPicPr/>
          <p:nvPr/>
        </p:nvPicPr>
        <p:blipFill>
          <a:blip r:embed="rId8"/>
          <a:stretch/>
        </p:blipFill>
        <p:spPr>
          <a:xfrm>
            <a:off x="3387600" y="2797200"/>
            <a:ext cx="2519640" cy="1355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9" descr=""/>
          <p:cNvPicPr/>
          <p:nvPr/>
        </p:nvPicPr>
        <p:blipFill>
          <a:blip r:embed="rId9"/>
          <a:stretch/>
        </p:blipFill>
        <p:spPr>
          <a:xfrm>
            <a:off x="1403280" y="5013360"/>
            <a:ext cx="708120" cy="720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0" descr=""/>
          <p:cNvPicPr/>
          <p:nvPr/>
        </p:nvPicPr>
        <p:blipFill>
          <a:blip r:embed="rId10"/>
          <a:stretch/>
        </p:blipFill>
        <p:spPr>
          <a:xfrm>
            <a:off x="4284720" y="494172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3.7037E-007 L -0.13333 3.7037E-007 E">
                                      <p:cBhvr>
                                        <p:cTn id="58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6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4824360" cy="468792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9"/>
          <p:cNvSpPr/>
          <p:nvPr/>
        </p:nvSpPr>
        <p:spPr>
          <a:xfrm flipH="1" rot="10800000">
            <a:off x="5251320" y="2060280"/>
            <a:ext cx="1121040" cy="331164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0"/>
          <p:cNvSpPr/>
          <p:nvPr/>
        </p:nvSpPr>
        <p:spPr>
          <a:xfrm flipH="1" rot="16200000">
            <a:off x="2966040" y="3144960"/>
            <a:ext cx="1120680" cy="3384360"/>
          </a:xfrm>
          <a:prstGeom prst="rtTriangle">
            <a:avLst/>
          </a:prstGeom>
          <a:solidFill>
            <a:srgbClr val="0000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/>
          <p:cNvSpPr/>
          <p:nvPr/>
        </p:nvSpPr>
        <p:spPr>
          <a:xfrm flipH="1" rot="5400000">
            <a:off x="4111560" y="-200160"/>
            <a:ext cx="1136880" cy="3384720"/>
          </a:xfrm>
          <a:prstGeom prst="rtTriangle">
            <a:avLst/>
          </a:prstGeom>
          <a:solidFill>
            <a:srgbClr val="33cc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 flipH="1">
            <a:off x="1803240" y="981000"/>
            <a:ext cx="1152720" cy="331164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1795320" y="765000"/>
            <a:ext cx="4635720" cy="4680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2" descr=""/>
          <p:cNvPicPr/>
          <p:nvPr/>
        </p:nvPicPr>
        <p:blipFill>
          <a:blip r:embed="rId3"/>
          <a:stretch/>
        </p:blipFill>
        <p:spPr>
          <a:xfrm>
            <a:off x="7164360" y="1413000"/>
            <a:ext cx="1009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27 0.06296 L 0.37361 0.16806 E">
                                      <p:cBhvr>
                                        <p:cTn id="72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0115 L -0.12205 0.49236 E">
                                      <p:cBhvr>
                                        <p:cTn id="76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计算下面图形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4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2737080" cy="271296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22"/>
          <p:cNvGrpSpPr/>
          <p:nvPr/>
        </p:nvGrpSpPr>
        <p:grpSpPr>
          <a:xfrm>
            <a:off x="1115640" y="2421000"/>
            <a:ext cx="2592000" cy="2447640"/>
            <a:chOff x="1115640" y="2421000"/>
            <a:chExt cx="2592000" cy="2447640"/>
          </a:xfrm>
        </p:grpSpPr>
        <p:sp>
          <p:nvSpPr>
            <p:cNvPr id="500" name="Line 15"/>
            <p:cNvSpPr/>
            <p:nvPr/>
          </p:nvSpPr>
          <p:spPr>
            <a:xfrm flipV="1">
              <a:off x="2446560" y="2421000"/>
              <a:ext cx="0" cy="9072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8"/>
            <p:cNvSpPr/>
            <p:nvPr/>
          </p:nvSpPr>
          <p:spPr>
            <a:xfrm flipH="1">
              <a:off x="1115640" y="3600000"/>
              <a:ext cx="9831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9"/>
            <p:cNvSpPr/>
            <p:nvPr/>
          </p:nvSpPr>
          <p:spPr>
            <a:xfrm>
              <a:off x="2814840" y="3600000"/>
              <a:ext cx="892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0"/>
            <p:cNvSpPr/>
            <p:nvPr/>
          </p:nvSpPr>
          <p:spPr>
            <a:xfrm>
              <a:off x="2456280" y="3871440"/>
              <a:ext cx="0" cy="9972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1"/>
            <p:cNvSpPr/>
            <p:nvPr/>
          </p:nvSpPr>
          <p:spPr>
            <a:xfrm>
              <a:off x="2030760" y="3236040"/>
              <a:ext cx="79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1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Picture 25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29052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0"/>
          <p:cNvGrpSpPr/>
          <p:nvPr/>
        </p:nvGrpSpPr>
        <p:grpSpPr>
          <a:xfrm>
            <a:off x="2268000" y="981000"/>
            <a:ext cx="4391280" cy="4464000"/>
            <a:chOff x="2268000" y="981000"/>
            <a:chExt cx="4391280" cy="4464000"/>
          </a:xfrm>
        </p:grpSpPr>
        <p:sp>
          <p:nvSpPr>
            <p:cNvPr id="507" name="Line 6"/>
            <p:cNvSpPr/>
            <p:nvPr/>
          </p:nvSpPr>
          <p:spPr>
            <a:xfrm flipV="1">
              <a:off x="4346280" y="981000"/>
              <a:ext cx="0" cy="17272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7"/>
            <p:cNvSpPr/>
            <p:nvPr/>
          </p:nvSpPr>
          <p:spPr>
            <a:xfrm flipH="1">
              <a:off x="2268000" y="3213000"/>
              <a:ext cx="1630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8"/>
            <p:cNvSpPr/>
            <p:nvPr/>
          </p:nvSpPr>
          <p:spPr>
            <a:xfrm>
              <a:off x="5178960" y="3213000"/>
              <a:ext cx="148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4416840" y="3860640"/>
              <a:ext cx="0" cy="15843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0"/>
            <p:cNvSpPr/>
            <p:nvPr/>
          </p:nvSpPr>
          <p:spPr>
            <a:xfrm>
              <a:off x="3894840" y="2781360"/>
              <a:ext cx="109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Verdana"/>
                </a:rPr>
                <a:t>1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21"/>
          <p:cNvGrpSpPr/>
          <p:nvPr/>
        </p:nvGrpSpPr>
        <p:grpSpPr>
          <a:xfrm>
            <a:off x="5292720" y="981000"/>
            <a:ext cx="0" cy="4535640"/>
            <a:chOff x="5292720" y="981000"/>
            <a:chExt cx="0" cy="4535640"/>
          </a:xfrm>
        </p:grpSpPr>
        <p:sp>
          <p:nvSpPr>
            <p:cNvPr id="513" name="Line 11"/>
            <p:cNvSpPr/>
            <p:nvPr/>
          </p:nvSpPr>
          <p:spPr>
            <a:xfrm>
              <a:off x="5292720" y="981000"/>
              <a:ext cx="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5292720" y="4005360"/>
              <a:ext cx="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2"/>
          <p:cNvGrpSpPr/>
          <p:nvPr/>
        </p:nvGrpSpPr>
        <p:grpSpPr>
          <a:xfrm>
            <a:off x="3780000" y="981000"/>
            <a:ext cx="0" cy="4535640"/>
            <a:chOff x="3780000" y="981000"/>
            <a:chExt cx="0" cy="4535640"/>
          </a:xfrm>
        </p:grpSpPr>
        <p:sp>
          <p:nvSpPr>
            <p:cNvPr id="516" name="Line 12"/>
            <p:cNvSpPr/>
            <p:nvPr/>
          </p:nvSpPr>
          <p:spPr>
            <a:xfrm>
              <a:off x="3780000" y="4005360"/>
              <a:ext cx="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4"/>
            <p:cNvSpPr/>
            <p:nvPr/>
          </p:nvSpPr>
          <p:spPr>
            <a:xfrm>
              <a:off x="3780000" y="981000"/>
              <a:ext cx="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32"/>
          <p:cNvGrpSpPr/>
          <p:nvPr/>
        </p:nvGrpSpPr>
        <p:grpSpPr>
          <a:xfrm>
            <a:off x="2268000" y="2492280"/>
            <a:ext cx="4464720" cy="0"/>
            <a:chOff x="2268000" y="2492280"/>
            <a:chExt cx="4464720" cy="0"/>
          </a:xfrm>
        </p:grpSpPr>
        <p:sp>
          <p:nvSpPr>
            <p:cNvPr id="519" name="Line 16"/>
            <p:cNvSpPr/>
            <p:nvPr/>
          </p:nvSpPr>
          <p:spPr>
            <a:xfrm flipH="1">
              <a:off x="2268000" y="2492280"/>
              <a:ext cx="151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 flipH="1">
              <a:off x="5292720" y="2492280"/>
              <a:ext cx="144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3"/>
          <p:cNvGrpSpPr/>
          <p:nvPr/>
        </p:nvGrpSpPr>
        <p:grpSpPr>
          <a:xfrm>
            <a:off x="2268000" y="4005360"/>
            <a:ext cx="4464720" cy="0"/>
            <a:chOff x="2268000" y="4005360"/>
            <a:chExt cx="4464720" cy="0"/>
          </a:xfrm>
        </p:grpSpPr>
        <p:sp>
          <p:nvSpPr>
            <p:cNvPr id="522" name="Line 17"/>
            <p:cNvSpPr/>
            <p:nvPr/>
          </p:nvSpPr>
          <p:spPr>
            <a:xfrm flipH="1">
              <a:off x="2268000" y="4005360"/>
              <a:ext cx="151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H="1">
              <a:off x="5292720" y="4005360"/>
              <a:ext cx="144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Line 26"/>
          <p:cNvSpPr/>
          <p:nvPr/>
        </p:nvSpPr>
        <p:spPr>
          <a:xfrm flipH="1">
            <a:off x="3780000" y="551664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7"/>
          <p:cNvSpPr/>
          <p:nvPr/>
        </p:nvSpPr>
        <p:spPr>
          <a:xfrm flipH="1">
            <a:off x="3780000" y="98100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6732720" y="2492280"/>
            <a:ext cx="0" cy="151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9"/>
          <p:cNvSpPr/>
          <p:nvPr/>
        </p:nvSpPr>
        <p:spPr>
          <a:xfrm>
            <a:off x="2268360" y="2492280"/>
            <a:ext cx="0" cy="151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4"/>
          <p:cNvSpPr/>
          <p:nvPr/>
        </p:nvSpPr>
        <p:spPr>
          <a:xfrm>
            <a:off x="3168000" y="5877000"/>
            <a:ext cx="28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1×4=4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0.15746 -0.00509 E">
                                      <p:cBhvr>
                                        <p:cTn id="92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2.5E-006 -0.22037 E">
                                      <p:cBhvr>
                                        <p:cTn id="96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1042 L 2.5E-006 0.2206 E">
                                      <p:cBhvr>
                                        <p:cTn id="100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-0.16528 0.00533 E">
                                      <p:cBhvr>
                                        <p:cTn id="104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759640" cy="4437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5761080" cy="4411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"/>
          <p:cNvPicPr/>
          <p:nvPr/>
        </p:nvPicPr>
        <p:blipFill>
          <a:blip r:embed="rId3"/>
          <a:stretch/>
        </p:blipFill>
        <p:spPr>
          <a:xfrm>
            <a:off x="1515960" y="3284640"/>
            <a:ext cx="2951280" cy="14079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0"/>
          <p:cNvSpPr/>
          <p:nvPr/>
        </p:nvSpPr>
        <p:spPr>
          <a:xfrm>
            <a:off x="0" y="479736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黑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π×4÷2=12.56(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红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π×4=12.56(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1547640" y="209520"/>
            <a:ext cx="5832720" cy="44658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922560" y="4869000"/>
            <a:ext cx="52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红的长度与黑的长度相等都是圆周长的一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以整个图形的周长就是外面大圆的周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π×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=25.12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0.31111 0.00232 E">
                                      <p:cBhvr>
                                        <p:cTn id="11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870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一、引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在解决问题时，使用一定的策略是非常重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8920" y="29973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见的解决问题的策略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276640"/>
            <a:ext cx="35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二、知识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716280"/>
            <a:ext cx="1943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969840" y="529992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114560" y="5227560"/>
            <a:ext cx="57600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690560" y="4795560"/>
            <a:ext cx="7164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62200" y="4579920"/>
            <a:ext cx="360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22560" y="436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22560" y="4076640"/>
            <a:ext cx="217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49960" y="587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画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2360" y="3716280"/>
            <a:ext cx="20160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52720" y="400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400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437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400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5272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52720" y="530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73440" y="400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47840" y="40244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24880" y="58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列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716280"/>
            <a:ext cx="1943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37480" y="529992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905840" y="400356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82560" y="5227560"/>
            <a:ext cx="576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258920" y="4795560"/>
            <a:ext cx="712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330200" y="4579920"/>
            <a:ext cx="360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90560" y="436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90560" y="4076640"/>
            <a:ext cx="217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3716280"/>
            <a:ext cx="20160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3716280"/>
            <a:ext cx="201636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45760" y="3933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48360" y="46800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55120" y="580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猜想与尝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459640" y="393228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51640" y="3932280"/>
            <a:ext cx="730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51640" y="4005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414972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235640" y="479736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4797360"/>
            <a:ext cx="289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522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4797360"/>
            <a:ext cx="649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956360" y="4797360"/>
            <a:ext cx="360360" cy="4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236000" y="4797360"/>
            <a:ext cx="1081080" cy="4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89280" y="5075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0320" y="58053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从特例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寻找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31924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4000320" cy="765360"/>
          </a:xfrm>
          <a:prstGeom prst="rect">
            <a:avLst/>
          </a:prstGeom>
          <a:ln w="0">
            <a:noFill/>
          </a:ln>
        </p:spPr>
      </p:pic>
      <p:grpSp>
        <p:nvGrpSpPr>
          <p:cNvPr id="537" name="Group 4"/>
          <p:cNvGrpSpPr/>
          <p:nvPr/>
        </p:nvGrpSpPr>
        <p:grpSpPr>
          <a:xfrm>
            <a:off x="4211640" y="2997360"/>
            <a:ext cx="4794120" cy="2433600"/>
            <a:chOff x="4211640" y="2997360"/>
            <a:chExt cx="4794120" cy="2433600"/>
          </a:xfrm>
        </p:grpSpPr>
        <p:sp>
          <p:nvSpPr>
            <p:cNvPr id="538" name="AutoShape 5"/>
            <p:cNvSpPr/>
            <p:nvPr/>
          </p:nvSpPr>
          <p:spPr>
            <a:xfrm>
              <a:off x="4211640" y="2997360"/>
              <a:ext cx="3745080" cy="1728720"/>
            </a:xfrm>
            <a:prstGeom prst="cloudCallout">
              <a:avLst>
                <a:gd name="adj1" fmla="val 51949"/>
                <a:gd name="adj2" fmla="val 515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4716360" y="3284640"/>
              <a:ext cx="331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经典粗黑简"/>
                </a:rPr>
                <a:t>可以把原式转化成怎样的算式计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7" descr=""/>
            <p:cNvPicPr/>
            <p:nvPr/>
          </p:nvPicPr>
          <p:blipFill>
            <a:blip r:embed="rId2"/>
            <a:stretch/>
          </p:blipFill>
          <p:spPr>
            <a:xfrm>
              <a:off x="8028000" y="4149720"/>
              <a:ext cx="977760" cy="12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9"/>
          <p:cNvSpPr/>
          <p:nvPr/>
        </p:nvSpPr>
        <p:spPr>
          <a:xfrm>
            <a:off x="395280" y="2997360"/>
            <a:ext cx="3529080" cy="352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0"/>
          <p:cNvGrpSpPr/>
          <p:nvPr/>
        </p:nvGrpSpPr>
        <p:grpSpPr>
          <a:xfrm>
            <a:off x="395280" y="2997360"/>
            <a:ext cx="1800360" cy="3527280"/>
            <a:chOff x="395280" y="2997360"/>
            <a:chExt cx="1800360" cy="3527280"/>
          </a:xfrm>
        </p:grpSpPr>
        <p:sp>
          <p:nvSpPr>
            <p:cNvPr id="543" name="Rectangle 11"/>
            <p:cNvSpPr/>
            <p:nvPr/>
          </p:nvSpPr>
          <p:spPr>
            <a:xfrm>
              <a:off x="395280" y="2997360"/>
              <a:ext cx="1800360" cy="3527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4292640"/>
              <a:ext cx="53352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Group 13"/>
          <p:cNvGrpSpPr/>
          <p:nvPr/>
        </p:nvGrpSpPr>
        <p:grpSpPr>
          <a:xfrm>
            <a:off x="2195640" y="2997360"/>
            <a:ext cx="1728720" cy="1800000"/>
            <a:chOff x="2195640" y="2997360"/>
            <a:chExt cx="1728720" cy="1800000"/>
          </a:xfrm>
        </p:grpSpPr>
        <p:sp>
          <p:nvSpPr>
            <p:cNvPr id="546" name="Rectangle 14"/>
            <p:cNvSpPr/>
            <p:nvPr/>
          </p:nvSpPr>
          <p:spPr>
            <a:xfrm>
              <a:off x="2195640" y="2997360"/>
              <a:ext cx="1728720" cy="1800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Picture 15" descr=""/>
            <p:cNvPicPr/>
            <p:nvPr/>
          </p:nvPicPr>
          <p:blipFill>
            <a:blip r:embed="rId4"/>
            <a:stretch/>
          </p:blipFill>
          <p:spPr>
            <a:xfrm>
              <a:off x="2700360" y="3500280"/>
              <a:ext cx="45576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8" name="Group 16"/>
          <p:cNvGrpSpPr/>
          <p:nvPr/>
        </p:nvGrpSpPr>
        <p:grpSpPr>
          <a:xfrm>
            <a:off x="2195640" y="4797360"/>
            <a:ext cx="863640" cy="1727280"/>
            <a:chOff x="2195640" y="4797360"/>
            <a:chExt cx="863640" cy="1727280"/>
          </a:xfrm>
        </p:grpSpPr>
        <p:sp>
          <p:nvSpPr>
            <p:cNvPr id="549" name="Rectangle 17"/>
            <p:cNvSpPr/>
            <p:nvPr/>
          </p:nvSpPr>
          <p:spPr>
            <a:xfrm>
              <a:off x="2195640" y="4797360"/>
              <a:ext cx="863640" cy="1727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Picture 18" descr=""/>
            <p:cNvPicPr/>
            <p:nvPr/>
          </p:nvPicPr>
          <p:blipFill>
            <a:blip r:embed="rId5"/>
            <a:stretch/>
          </p:blipFill>
          <p:spPr>
            <a:xfrm>
              <a:off x="2411280" y="5300640"/>
              <a:ext cx="433440" cy="64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19"/>
          <p:cNvGrpSpPr/>
          <p:nvPr/>
        </p:nvGrpSpPr>
        <p:grpSpPr>
          <a:xfrm>
            <a:off x="3059280" y="4797360"/>
            <a:ext cx="865080" cy="863640"/>
            <a:chOff x="3059280" y="4797360"/>
            <a:chExt cx="865080" cy="863640"/>
          </a:xfrm>
        </p:grpSpPr>
        <p:sp>
          <p:nvSpPr>
            <p:cNvPr id="552" name="Rectangle 20"/>
            <p:cNvSpPr/>
            <p:nvPr/>
          </p:nvSpPr>
          <p:spPr>
            <a:xfrm>
              <a:off x="3059280" y="4797360"/>
              <a:ext cx="865080" cy="863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Picture 21" descr=""/>
            <p:cNvPicPr/>
            <p:nvPr/>
          </p:nvPicPr>
          <p:blipFill>
            <a:blip r:embed="rId6"/>
            <a:stretch/>
          </p:blipFill>
          <p:spPr>
            <a:xfrm>
              <a:off x="3276720" y="4941720"/>
              <a:ext cx="4460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9"/>
          <p:cNvGrpSpPr/>
          <p:nvPr/>
        </p:nvGrpSpPr>
        <p:grpSpPr>
          <a:xfrm>
            <a:off x="1042920" y="4292640"/>
            <a:ext cx="7129440" cy="576360"/>
            <a:chOff x="1042920" y="4292640"/>
            <a:chExt cx="7129440" cy="576360"/>
          </a:xfrm>
        </p:grpSpPr>
        <p:sp>
          <p:nvSpPr>
            <p:cNvPr id="555" name="AutoShape 28"/>
            <p:cNvSpPr/>
            <p:nvPr/>
          </p:nvSpPr>
          <p:spPr>
            <a:xfrm>
              <a:off x="6804000" y="4292640"/>
              <a:ext cx="1368360" cy="576360"/>
            </a:xfrm>
            <a:prstGeom prst="downArrowCallout">
              <a:avLst>
                <a:gd name="adj1" fmla="val 59359"/>
                <a:gd name="adj2" fmla="val 59354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27"/>
            <p:cNvSpPr/>
            <p:nvPr/>
          </p:nvSpPr>
          <p:spPr>
            <a:xfrm>
              <a:off x="4859280" y="4292640"/>
              <a:ext cx="1368360" cy="576360"/>
            </a:xfrm>
            <a:prstGeom prst="downArrowCallout">
              <a:avLst>
                <a:gd name="adj1" fmla="val 59359"/>
                <a:gd name="adj2" fmla="val 59354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6"/>
            <p:cNvSpPr/>
            <p:nvPr/>
          </p:nvSpPr>
          <p:spPr>
            <a:xfrm>
              <a:off x="2987640" y="4292640"/>
              <a:ext cx="1368360" cy="576360"/>
            </a:xfrm>
            <a:prstGeom prst="downArrowCallout">
              <a:avLst>
                <a:gd name="adj1" fmla="val 59359"/>
                <a:gd name="adj2" fmla="val 59354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5"/>
            <p:cNvSpPr/>
            <p:nvPr/>
          </p:nvSpPr>
          <p:spPr>
            <a:xfrm>
              <a:off x="1042920" y="4292640"/>
              <a:ext cx="1368360" cy="576360"/>
            </a:xfrm>
            <a:prstGeom prst="downArrowCallout">
              <a:avLst>
                <a:gd name="adj1" fmla="val 59359"/>
                <a:gd name="adj2" fmla="val 59354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0716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支足球队参加比赛，比赛以单场淘汰制进行。一共要进行多少场比赛后才能产生冠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632720" cy="379440"/>
          </a:xfrm>
          <a:prstGeom prst="rect">
            <a:avLst/>
          </a:prstGeom>
          <a:ln w="0">
            <a:noFill/>
          </a:ln>
        </p:spPr>
      </p:pic>
      <p:sp>
        <p:nvSpPr>
          <p:cNvPr id="562" name="AutoShape 13"/>
          <p:cNvSpPr/>
          <p:nvPr/>
        </p:nvSpPr>
        <p:spPr>
          <a:xfrm>
            <a:off x="826920" y="3645000"/>
            <a:ext cx="865440" cy="431640"/>
          </a:xfrm>
          <a:prstGeom prst="downArrowCallout">
            <a:avLst>
              <a:gd name="adj1" fmla="val 50130"/>
              <a:gd name="adj2" fmla="val 50125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23"/>
          <p:cNvGrpSpPr/>
          <p:nvPr/>
        </p:nvGrpSpPr>
        <p:grpSpPr>
          <a:xfrm>
            <a:off x="1763640" y="3716280"/>
            <a:ext cx="6553440" cy="432000"/>
            <a:chOff x="1763640" y="3716280"/>
            <a:chExt cx="6553440" cy="432000"/>
          </a:xfrm>
        </p:grpSpPr>
        <p:sp>
          <p:nvSpPr>
            <p:cNvPr id="564" name="AutoShape 7"/>
            <p:cNvSpPr/>
            <p:nvPr/>
          </p:nvSpPr>
          <p:spPr>
            <a:xfrm>
              <a:off x="2771640" y="3716280"/>
              <a:ext cx="865440" cy="432000"/>
            </a:xfrm>
            <a:prstGeom prst="downArrowCallout">
              <a:avLst>
                <a:gd name="adj1" fmla="val 50088"/>
                <a:gd name="adj2" fmla="val 5008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8"/>
            <p:cNvSpPr/>
            <p:nvPr/>
          </p:nvSpPr>
          <p:spPr>
            <a:xfrm>
              <a:off x="1763640" y="3716280"/>
              <a:ext cx="865440" cy="432000"/>
            </a:xfrm>
            <a:prstGeom prst="downArrowCallout">
              <a:avLst>
                <a:gd name="adj1" fmla="val 50088"/>
                <a:gd name="adj2" fmla="val 5008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9"/>
            <p:cNvSpPr/>
            <p:nvPr/>
          </p:nvSpPr>
          <p:spPr>
            <a:xfrm>
              <a:off x="6516720" y="3716280"/>
              <a:ext cx="865080" cy="432000"/>
            </a:xfrm>
            <a:prstGeom prst="downArrowCallout">
              <a:avLst>
                <a:gd name="adj1" fmla="val 50067"/>
                <a:gd name="adj2" fmla="val 5006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10"/>
            <p:cNvSpPr/>
            <p:nvPr/>
          </p:nvSpPr>
          <p:spPr>
            <a:xfrm>
              <a:off x="3708360" y="3716280"/>
              <a:ext cx="865080" cy="432000"/>
            </a:xfrm>
            <a:prstGeom prst="downArrowCallout">
              <a:avLst>
                <a:gd name="adj1" fmla="val 50067"/>
                <a:gd name="adj2" fmla="val 5006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1"/>
            <p:cNvSpPr/>
            <p:nvPr/>
          </p:nvSpPr>
          <p:spPr>
            <a:xfrm>
              <a:off x="4643280" y="3716280"/>
              <a:ext cx="865440" cy="432000"/>
            </a:xfrm>
            <a:prstGeom prst="downArrowCallout">
              <a:avLst>
                <a:gd name="adj1" fmla="val 50088"/>
                <a:gd name="adj2" fmla="val 5008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2"/>
            <p:cNvSpPr/>
            <p:nvPr/>
          </p:nvSpPr>
          <p:spPr>
            <a:xfrm>
              <a:off x="5580000" y="3716280"/>
              <a:ext cx="865080" cy="432000"/>
            </a:xfrm>
            <a:prstGeom prst="downArrowCallout">
              <a:avLst>
                <a:gd name="adj1" fmla="val 50067"/>
                <a:gd name="adj2" fmla="val 5006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4"/>
            <p:cNvSpPr/>
            <p:nvPr/>
          </p:nvSpPr>
          <p:spPr>
            <a:xfrm>
              <a:off x="7451640" y="3716280"/>
              <a:ext cx="865440" cy="432000"/>
            </a:xfrm>
            <a:prstGeom prst="downArrowCallout">
              <a:avLst>
                <a:gd name="adj1" fmla="val 50088"/>
                <a:gd name="adj2" fmla="val 50083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4"/>
          <p:cNvGrpSpPr/>
          <p:nvPr/>
        </p:nvGrpSpPr>
        <p:grpSpPr>
          <a:xfrm>
            <a:off x="1116000" y="4292640"/>
            <a:ext cx="6912000" cy="287280"/>
            <a:chOff x="1116000" y="4292640"/>
            <a:chExt cx="6912000" cy="287280"/>
          </a:xfrm>
        </p:grpSpPr>
        <p:sp>
          <p:nvSpPr>
            <p:cNvPr id="572" name="Oval 15"/>
            <p:cNvSpPr/>
            <p:nvPr/>
          </p:nvSpPr>
          <p:spPr>
            <a:xfrm>
              <a:off x="111600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6"/>
            <p:cNvSpPr/>
            <p:nvPr/>
          </p:nvSpPr>
          <p:spPr>
            <a:xfrm>
              <a:off x="2050920" y="429264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7"/>
            <p:cNvSpPr/>
            <p:nvPr/>
          </p:nvSpPr>
          <p:spPr>
            <a:xfrm>
              <a:off x="298764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8"/>
            <p:cNvSpPr/>
            <p:nvPr/>
          </p:nvSpPr>
          <p:spPr>
            <a:xfrm>
              <a:off x="399564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9"/>
            <p:cNvSpPr/>
            <p:nvPr/>
          </p:nvSpPr>
          <p:spPr>
            <a:xfrm>
              <a:off x="493236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0"/>
            <p:cNvSpPr/>
            <p:nvPr/>
          </p:nvSpPr>
          <p:spPr>
            <a:xfrm>
              <a:off x="594036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1"/>
            <p:cNvSpPr/>
            <p:nvPr/>
          </p:nvSpPr>
          <p:spPr>
            <a:xfrm>
              <a:off x="687708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2"/>
            <p:cNvSpPr/>
            <p:nvPr/>
          </p:nvSpPr>
          <p:spPr>
            <a:xfrm>
              <a:off x="7740720" y="4292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34"/>
          <p:cNvGrpSpPr/>
          <p:nvPr/>
        </p:nvGrpSpPr>
        <p:grpSpPr>
          <a:xfrm>
            <a:off x="1547640" y="4869000"/>
            <a:ext cx="6121440" cy="360360"/>
            <a:chOff x="1547640" y="4869000"/>
            <a:chExt cx="6121440" cy="360360"/>
          </a:xfrm>
        </p:grpSpPr>
        <p:sp>
          <p:nvSpPr>
            <p:cNvPr id="581" name="Oval 30"/>
            <p:cNvSpPr/>
            <p:nvPr/>
          </p:nvSpPr>
          <p:spPr>
            <a:xfrm>
              <a:off x="1547640" y="4869000"/>
              <a:ext cx="360360" cy="360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3492360" y="4869000"/>
              <a:ext cx="360360" cy="360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2"/>
            <p:cNvSpPr/>
            <p:nvPr/>
          </p:nvSpPr>
          <p:spPr>
            <a:xfrm>
              <a:off x="5364000" y="4869000"/>
              <a:ext cx="360360" cy="360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3"/>
            <p:cNvSpPr/>
            <p:nvPr/>
          </p:nvSpPr>
          <p:spPr>
            <a:xfrm>
              <a:off x="7308720" y="4869000"/>
              <a:ext cx="360360" cy="360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WordArt 45"/>
          <p:cNvSpPr txBox="1"/>
          <p:nvPr/>
        </p:nvSpPr>
        <p:spPr>
          <a:xfrm>
            <a:off x="8532720" y="4221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粗黑简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经典粗黑简"/>
              <a:ea typeface="经典粗黑简"/>
            </a:endParaRPr>
          </a:p>
        </p:txBody>
      </p:sp>
      <p:sp>
        <p:nvSpPr>
          <p:cNvPr id="586" name="WordArt 46"/>
          <p:cNvSpPr txBox="1"/>
          <p:nvPr/>
        </p:nvSpPr>
        <p:spPr>
          <a:xfrm>
            <a:off x="8532720" y="4797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粗黑简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经典粗黑简"/>
              <a:ea typeface="经典粗黑简"/>
            </a:endParaRPr>
          </a:p>
        </p:txBody>
      </p:sp>
      <p:grpSp>
        <p:nvGrpSpPr>
          <p:cNvPr id="587" name="Group 49"/>
          <p:cNvGrpSpPr/>
          <p:nvPr/>
        </p:nvGrpSpPr>
        <p:grpSpPr>
          <a:xfrm>
            <a:off x="1763640" y="5157720"/>
            <a:ext cx="6997680" cy="744480"/>
            <a:chOff x="1763640" y="5157720"/>
            <a:chExt cx="6997680" cy="744480"/>
          </a:xfrm>
        </p:grpSpPr>
        <p:sp>
          <p:nvSpPr>
            <p:cNvPr id="588" name="Line 35"/>
            <p:cNvSpPr/>
            <p:nvPr/>
          </p:nvSpPr>
          <p:spPr>
            <a:xfrm>
              <a:off x="176364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6"/>
            <p:cNvSpPr/>
            <p:nvPr/>
          </p:nvSpPr>
          <p:spPr>
            <a:xfrm flipV="1">
              <a:off x="2627280" y="5229360"/>
              <a:ext cx="1008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7"/>
            <p:cNvSpPr/>
            <p:nvPr/>
          </p:nvSpPr>
          <p:spPr>
            <a:xfrm>
              <a:off x="565164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8"/>
            <p:cNvSpPr/>
            <p:nvPr/>
          </p:nvSpPr>
          <p:spPr>
            <a:xfrm flipV="1">
              <a:off x="6443640" y="5229360"/>
              <a:ext cx="1008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2411280" y="5516640"/>
              <a:ext cx="43200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6300720" y="5516640"/>
              <a:ext cx="43200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WordArt 47"/>
            <p:cNvSpPr txBox="1"/>
            <p:nvPr/>
          </p:nvSpPr>
          <p:spPr>
            <a:xfrm>
              <a:off x="8532720" y="54450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经典粗黑简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粗黑简"/>
                <a:ea typeface="经典粗黑简"/>
              </a:endParaRPr>
            </a:p>
          </p:txBody>
        </p:sp>
      </p:grpSp>
      <p:grpSp>
        <p:nvGrpSpPr>
          <p:cNvPr id="595" name="Group 50"/>
          <p:cNvGrpSpPr/>
          <p:nvPr/>
        </p:nvGrpSpPr>
        <p:grpSpPr>
          <a:xfrm>
            <a:off x="2768400" y="5776200"/>
            <a:ext cx="5978880" cy="749880"/>
            <a:chOff x="2768400" y="5776200"/>
            <a:chExt cx="5978880" cy="749880"/>
          </a:xfrm>
        </p:grpSpPr>
        <p:sp>
          <p:nvSpPr>
            <p:cNvPr id="596" name="AutoShape 41"/>
            <p:cNvSpPr/>
            <p:nvPr/>
          </p:nvSpPr>
          <p:spPr>
            <a:xfrm flipV="1" rot="16254600">
              <a:off x="4327200" y="4248360"/>
              <a:ext cx="427320" cy="3538800"/>
            </a:xfrm>
            <a:custGeom>
              <a:avLst/>
              <a:gdLst>
                <a:gd name="textAreaLeft" fmla="*/ 273240 w 427320"/>
                <a:gd name="textAreaRight" fmla="*/ 427680 w 427320"/>
                <a:gd name="textAreaTop" fmla="*/ 92160 h 3538800"/>
                <a:gd name="textAreaBottom" fmla="*/ 3446640 h 353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04"/>
                  </a:lnTo>
                  <a:cubicBezTo>
                    <a:pt x="10800" y="9804"/>
                    <a:pt x="5400" y="10704"/>
                    <a:pt x="0" y="10704"/>
                  </a:cubicBezTo>
                  <a:cubicBezTo>
                    <a:pt x="5400" y="10704"/>
                    <a:pt x="10800" y="11604"/>
                    <a:pt x="10800" y="1250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44"/>
            <p:cNvSpPr/>
            <p:nvPr/>
          </p:nvSpPr>
          <p:spPr>
            <a:xfrm>
              <a:off x="4356000" y="6165720"/>
              <a:ext cx="432000" cy="360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WordArt 48"/>
            <p:cNvSpPr txBox="1"/>
            <p:nvPr/>
          </p:nvSpPr>
          <p:spPr>
            <a:xfrm>
              <a:off x="8604360" y="6021360"/>
              <a:ext cx="142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经典粗黑简"/>
                </a:rPr>
                <a:t>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粗黑简"/>
                <a:ea typeface="经典粗黑简"/>
              </a:endParaRPr>
            </a:p>
          </p:txBody>
        </p:sp>
      </p:grpSp>
      <p:sp>
        <p:nvSpPr>
          <p:cNvPr id="599" name="Text Box 51"/>
          <p:cNvSpPr/>
          <p:nvPr/>
        </p:nvSpPr>
        <p:spPr>
          <a:xfrm>
            <a:off x="2552400" y="2637000"/>
            <a:ext cx="424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8+4+2+1=15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（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足球队参加比赛，比赛以单场淘汰制进行。一共要进行多少场比赛后才能产生冠军？（要淘汰多少支球队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826920" y="3573360"/>
            <a:ext cx="64818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16-1=15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场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468360" y="5013360"/>
            <a:ext cx="86756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球队参加比赛，产生冠军要比赛多少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Litebulb"/>
          <p:cNvSpPr/>
          <p:nvPr/>
        </p:nvSpPr>
        <p:spPr>
          <a:xfrm rot="10800000">
            <a:off x="5148360" y="1773000"/>
            <a:ext cx="3814560" cy="4824360"/>
          </a:xfrm>
          <a:prstGeom prst="pie">
            <a:avLst/>
          </a:prstGeom>
          <a:solidFill>
            <a:srgbClr val="ffff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一次，爱迪生把一只灯泡交给他的助手阿普顿，让他计算一下这只灯泡的容积是多少。阿普顿是普林顿大学数学系高材生，又在德国深造了一年，数学素养相当不错。他拿着这只梨形的灯泡，打量了好半天，又特地找来皮尺，上下量了尺寸，画出了各种示意图，还列出了一道又一道的算式。一个钟头过去了。爱迪生着急了，跑来问他算出来了没有。“正算到一半。”阿普顿慌忙回答，豆大的汗珠从他的额角上滚了下来。“才算到一半？”爱迪生十分诧异，走近一看，哎呀，在阿普顿的面前，好几张白纸上写满了密密麻麻的算式。“何必这么复杂呢？”爱迪生微笑着说，“你把这只灯泡装满水，再把水倒在量杯里，量杯量出来的水的体积，就是我们所需要的容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哦！”阿普顿恍然大悟。他飞快地跑进实验室，不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，没有经过任何运算，就把灯泡的容积准确地求出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324000" y="333360"/>
            <a:ext cx="835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8000"/>
                </a:solidFill>
                <a:latin typeface="Verdana"/>
                <a:ea typeface="黑体"/>
              </a:rPr>
              <a:t>用</a:t>
            </a:r>
            <a:r>
              <a:rPr b="1" lang="zh-CN" sz="6600" spc="-1" strike="noStrike">
                <a:solidFill>
                  <a:srgbClr val="ff0000"/>
                </a:solidFill>
                <a:latin typeface="Verdana"/>
                <a:ea typeface="黑体"/>
              </a:rPr>
              <a:t>转化</a:t>
            </a:r>
            <a:r>
              <a:rPr b="1" lang="zh-CN" sz="5000" spc="-1" strike="noStrike">
                <a:solidFill>
                  <a:srgbClr val="008000"/>
                </a:solidFill>
                <a:latin typeface="Verdana"/>
                <a:ea typeface="黑体"/>
              </a:rPr>
              <a:t>的策略解决问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812000" y="602136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5029" y="10800"/>
                </a:moveTo>
                <a:lnTo>
                  <a:pt x="25534" y="3794"/>
                </a:lnTo>
                <a:lnTo>
                  <a:pt x="25534" y="17806"/>
                </a:lnTo>
                <a:close/>
              </a:path>
              <a:path fill="darken" w="37055" h="21600">
                <a:moveTo>
                  <a:pt x="11521" y="3794"/>
                </a:moveTo>
                <a:lnTo>
                  <a:pt x="13183" y="3794"/>
                </a:lnTo>
                <a:lnTo>
                  <a:pt x="13183" y="17806"/>
                </a:lnTo>
                <a:lnTo>
                  <a:pt x="11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画图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64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是我校周五的菜谱，小明想挑选一晕菜和一素菜，你知道一共有几种配菜方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2492280"/>
            <a:ext cx="2663640" cy="3673440"/>
          </a:xfrm>
          <a:prstGeom prst="rect">
            <a:avLst/>
          </a:prstGeom>
          <a:solidFill>
            <a:srgbClr val="dcde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2565360"/>
            <a:ext cx="13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星期五菜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1800" y="307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荤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1480" y="3141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肉丸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2320" y="429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4240" y="427356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豆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冬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4760" y="1989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们可以通过画图列举出所有搭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73240" y="2556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3984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39840" y="3794040"/>
            <a:ext cx="9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7.gif (7651 字节)"/>
          <p:cNvPicPr/>
          <p:nvPr/>
        </p:nvPicPr>
        <p:blipFill>
          <a:blip r:embed="rId1"/>
          <a:stretch/>
        </p:blipFill>
        <p:spPr>
          <a:xfrm>
            <a:off x="380880" y="3429000"/>
            <a:ext cx="2455920" cy="2446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3640" y="3357720"/>
            <a:ext cx="2282760" cy="2241360"/>
          </a:xfrm>
          <a:prstGeom prst="wedgeEllipseCallout">
            <a:avLst>
              <a:gd name="adj1" fmla="val -65925"/>
              <a:gd name="adj2" fmla="val 35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3933720"/>
            <a:ext cx="23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相信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能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数的认识我们也是从图画上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4869000"/>
            <a:ext cx="8229600" cy="15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数的运算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×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14800" y="442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图有助于我们的直观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852640"/>
            <a:ext cx="144360" cy="14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205000"/>
            <a:ext cx="216000" cy="1511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242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234900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256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332000" y="2491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708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332000" y="263700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299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32000" y="2923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31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32000" y="3068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3284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342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3429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357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3200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2205000"/>
            <a:ext cx="1440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2349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249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26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27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9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306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128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50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11280" y="2133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21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1337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850920" y="3500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50920" y="213372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50920" y="2276640"/>
            <a:ext cx="730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0920" y="242100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851280" y="256500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51280" y="270792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51280" y="285228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51280" y="299736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51280" y="314172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851280" y="3284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51280" y="342900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700360" y="2133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842920" y="213372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987280" y="2133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131640" y="2133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720" y="2133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419640" y="2133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564000" y="2133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708000" y="2133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56000" y="2133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1916280"/>
            <a:ext cx="1873440" cy="1873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492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2637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2781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2924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3068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3213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64000" y="3357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4000" y="3500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3645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732720" y="1989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732720" y="2133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732720" y="2276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732720" y="24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732720" y="2565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732720" y="270828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732720" y="285264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804000" y="2997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32720" y="3141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508720" y="191592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5164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51640" y="1915920"/>
            <a:ext cx="43308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9600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796000" y="191592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940360" y="191592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191592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764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236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672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227640" y="191592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372360" y="191592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516720" y="191592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659640" y="1915920"/>
            <a:ext cx="4334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198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24360" y="2060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51640" y="213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80000" y="2205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22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234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23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227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48360" y="220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0000" y="2205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21337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436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92428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2924280"/>
            <a:ext cx="6490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2997360"/>
            <a:ext cx="86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960" y="3837960"/>
            <a:ext cx="5461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【一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0556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2480" y="393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58640" y="400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2720" y="39337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38320" y="2482920"/>
            <a:ext cx="99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5661000"/>
            <a:ext cx="648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566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566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19640" y="5661000"/>
            <a:ext cx="215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5877000"/>
            <a:ext cx="64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630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87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587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566100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5661000"/>
            <a:ext cx="216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87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3640" y="609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3640" y="63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8360" y="6093000"/>
            <a:ext cx="576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916360" y="4797360"/>
            <a:ext cx="342720" cy="676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780000" y="4797360"/>
            <a:ext cx="352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变化的量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141300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443700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3789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3213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2637000"/>
            <a:ext cx="32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213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88000" y="15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472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272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7672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2436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9308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740720" y="1557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62840" y="4383000"/>
            <a:ext cx="38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     2     3     4      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440" y="436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69800" y="3645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42880" y="2997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22000" y="2440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95080" y="1863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42880" y="1341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90520" y="92880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50440" y="4083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解放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73240" y="40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商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87640" y="2133720"/>
            <a:ext cx="647640" cy="23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35640" y="2133720"/>
            <a:ext cx="1297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32720" y="2133720"/>
            <a:ext cx="647640" cy="23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92080" y="1628640"/>
            <a:ext cx="231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说一说公共汽车从解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路站到商场站之间，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驶的时间与速度之间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画图能帮助我们分析问题中的数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2637000"/>
            <a:ext cx="35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400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67640" y="256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40360" y="407664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40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532720" y="4005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67640" y="3789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67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532720" y="3789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8172360" y="36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48280" y="312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第一天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67640" y="2708280"/>
            <a:ext cx="0" cy="100800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9400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3600" y="378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40360" y="429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40360" y="443700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8532720" y="4365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0072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12720" y="454824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76600" y="1216080"/>
            <a:ext cx="3076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十届动物车展中，第一天的成交量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辆，第二天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交量比第一天增加了     ，第二天的成交量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24000" y="4848120"/>
            <a:ext cx="2232000" cy="14828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14280" cy="6382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028000" y="2997360"/>
            <a:ext cx="31428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列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组织了足球、航模和电脑兴趣小组，淘气，笑笑和小明分别参加了其中一种。笑笑不喜欢踢足球，小明不是电脑兴趣小组的，淘气喜欢航模。画一表来帮忙把信息记录下来，并进行整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2852640"/>
            <a:ext cx="763272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3860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335772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436572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328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8436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58280" y="29383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足   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77880" y="29383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航    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92080" y="29242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电   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80520" y="34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淘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09240" y="400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笑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60000" y="4514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66920" y="3789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表是小明体重的变化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32842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说一说小明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周岁前体重是如何随年龄增长而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1413000"/>
            <a:ext cx="79214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2276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3200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1964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6728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4364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5040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240" y="2492280"/>
            <a:ext cx="9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体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千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6800" y="1633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生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98240" y="162864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50600" y="162864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01520" y="170028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54240" y="170028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41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90960" y="1700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70160" y="249228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5440" y="249228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94360" y="244008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45280" y="244008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61440" y="249228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77280" y="244008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46320" y="390060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列表可以帮助我们整理信息，进行推理，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帮助我们分析两个量之间的关系，寻找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猜想与尝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鸡兔同笼，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腿，鸡、兔各有多少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24922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5013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60436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37162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3141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1280" y="43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764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4836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708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81680" y="2637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13680" y="26352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80000" y="2708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85680" y="2637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05440" y="321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0544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0472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90000" y="315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1052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89280" y="4456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3800" y="321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2652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53080" y="450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53800" y="3236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453800" y="38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451640" y="450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95560" y="508464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把事情发生的各种可能逐个罗列，并用某种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式进行整理，从而得到问题的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09T03:07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