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277E-4B4B-4E5C-88FB-ABD5280B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F8E4-77D5-42B1-ACEF-24BB351B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8221-D8E7-4F8E-BCE0-5720EE43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04DD-C09A-4DD6-A854-684CEB33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2C2-5267-4FB6-833E-B7212202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821A-209E-4D8B-810F-A077E8A3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B298-35D0-44B4-98FD-71E95CF5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348-4EF4-4381-8E99-19473DAF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111E-33BC-4C5B-A39D-E0980068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363-8876-41C1-9B96-AF1C0745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EC88-C778-4570-BE39-AC95C5F5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362-36A4-4F7A-B473-E1946A04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D2DA-AD67-4242-AD27-435BF417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124D-CE0F-46DA-AD88-9681D8BF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062F-3073-47C1-961E-F7D04FFE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2BDA-0A7E-47C5-9BFF-91020EC6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572D-F593-4473-8805-AA6BD089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CC8B-3371-45D1-809D-BAA79F9F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AA4F-36A0-4D78-A19D-D7FF7C7E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2F55-5E50-4A94-874D-1D9D6FF3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F17F-CCBA-4663-B7B8-E9779FF6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46D1-39EA-4AFE-9CC6-BF1038A3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32FE-57F1-4DA8-BF88-171E4936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5B00-CBD7-4560-A488-E8954DDC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3F663-D46B-44A9-84E7-8B854F6B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F1B76-FA6B-45C5-9DF5-6902ED6A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F8BF0-C16C-4C9E-9C74-4A9C5548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C219F-E8DD-4C95-8AEA-9E835B00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E8B7F-0F31-4C20-BA66-033BC14B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DDE21-26F7-48B1-864B-4F42A365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F9EF1-3E33-48FA-B906-0520E71B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E1F8D-1BEB-4813-A610-CD467320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C7A3A-36FC-4D3F-B453-60E97C18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81F5E-2702-42FA-9AAB-40DDDA55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5A45B-9688-4A33-8B57-EE52AA37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6E966-4303-498A-BECD-AD60D6F2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5" name="图片 23" descr="1.png"/>
          <p:cNvPicPr/>
          <p:nvPr/>
        </p:nvPicPr>
        <p:blipFill>
          <a:blip r:embed="rId4"/>
          <a:stretch/>
        </p:blipFill>
        <p:spPr>
          <a:xfrm>
            <a:off x="220680" y="0"/>
            <a:ext cx="1614600" cy="17971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8A9F-2E20-48C6-B6EA-EFC62B828D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0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0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2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84D9-9B74-4D75-ABF2-84BC0A7F5AC5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9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9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1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968F-01ED-4703-A2ED-373410B545F3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19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2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126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3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0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3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207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4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28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36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3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48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6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3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4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3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7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4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5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6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2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5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hyperlink" Target="http://www.lspjy.com/" TargetMode="External"/><Relationship Id="rId6" Type="http://schemas.openxmlformats.org/officeDocument/2006/relationships/hyperlink" Target="http://www.lspjy.com/" TargetMode="External"/><Relationship Id="rId7" Type="http://schemas.openxmlformats.org/officeDocument/2006/relationships/hyperlink" Target="http://www.lspjy.com/" TargetMode="External"/><Relationship Id="rId8" Type="http://schemas.openxmlformats.org/officeDocument/2006/relationships/hyperlink" Target="http://www.lspjy.com/" TargetMode="External"/><Relationship Id="rId9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 Box 4"/>
          <p:cNvSpPr/>
          <p:nvPr/>
        </p:nvSpPr>
        <p:spPr>
          <a:xfrm>
            <a:off x="611280" y="64296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下册 第四单元 正比例与反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图片 88" descr="1.png"/>
          <p:cNvPicPr/>
          <p:nvPr/>
        </p:nvPicPr>
        <p:blipFill>
          <a:blip r:embed="rId1"/>
          <a:stretch/>
        </p:blipFill>
        <p:spPr>
          <a:xfrm>
            <a:off x="1547640" y="2133720"/>
            <a:ext cx="616428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Picture 2" descr="10"/>
          <p:cNvPicPr/>
          <p:nvPr/>
        </p:nvPicPr>
        <p:blipFill>
          <a:blip r:embed="rId1"/>
          <a:stretch/>
        </p:blipFill>
        <p:spPr>
          <a:xfrm>
            <a:off x="1033560" y="47628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1134" name="TextBox 4"/>
          <p:cNvSpPr/>
          <p:nvPr/>
        </p:nvSpPr>
        <p:spPr>
          <a:xfrm>
            <a:off x="492120" y="1192320"/>
            <a:ext cx="8151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某地的一位学生发现蟋蟀叫的次数与气温之间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如下的近似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图片 7" descr="7.png"/>
          <p:cNvPicPr/>
          <p:nvPr/>
        </p:nvPicPr>
        <p:blipFill>
          <a:blip r:embed="rId2"/>
          <a:stretch/>
        </p:blipFill>
        <p:spPr>
          <a:xfrm>
            <a:off x="66600" y="4179960"/>
            <a:ext cx="4799160" cy="2887560"/>
          </a:xfrm>
          <a:prstGeom prst="rect">
            <a:avLst/>
          </a:prstGeom>
          <a:ln w="0">
            <a:noFill/>
          </a:ln>
        </p:spPr>
      </p:pic>
      <p:pic>
        <p:nvPicPr>
          <p:cNvPr id="1136" name="图片 8" descr="8.png"/>
          <p:cNvPicPr/>
          <p:nvPr/>
        </p:nvPicPr>
        <p:blipFill>
          <a:blip r:embed="rId3"/>
          <a:stretch/>
        </p:blipFill>
        <p:spPr>
          <a:xfrm>
            <a:off x="5027760" y="1990800"/>
            <a:ext cx="4116240" cy="2373120"/>
          </a:xfrm>
          <a:prstGeom prst="rect">
            <a:avLst/>
          </a:prstGeom>
          <a:ln w="0">
            <a:noFill/>
          </a:ln>
        </p:spPr>
      </p:pic>
      <p:pic>
        <p:nvPicPr>
          <p:cNvPr id="1137" name="图片 9" descr="9.png"/>
          <p:cNvPicPr/>
          <p:nvPr/>
        </p:nvPicPr>
        <p:blipFill>
          <a:blip r:embed="rId4"/>
          <a:stretch/>
        </p:blipFill>
        <p:spPr>
          <a:xfrm>
            <a:off x="7620120" y="4465800"/>
            <a:ext cx="1152360" cy="17064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8"/>
          <p:cNvSpPr/>
          <p:nvPr/>
        </p:nvSpPr>
        <p:spPr>
          <a:xfrm>
            <a:off x="39960" y="4800600"/>
            <a:ext cx="5691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5a5c6c"/>
                </a:solidFill>
                <a:latin typeface="Arial"/>
              </a:rPr>
              <a:t>绿色圃中小学教育网</a:t>
            </a:r>
            <a:r>
              <a:rPr b="0" lang="en-US" sz="200" spc="-1" strike="noStrike" u="sng">
                <a:solidFill>
                  <a:srgbClr val="a3c145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200" spc="-1" strike="noStrike" u="sng">
                <a:solidFill>
                  <a:srgbClr val="a3c145"/>
                </a:solidFill>
                <a:uFillTx/>
                <a:latin typeface="Arial"/>
                <a:hlinkClick r:id="rId6"/>
              </a:rPr>
              <a:t>www.lspjy.com</a:t>
            </a:r>
            <a:r>
              <a:rPr b="0" lang="en-US" sz="200" spc="-1" strike="noStrike">
                <a:solidFill>
                  <a:srgbClr val="5a5c6c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9"/>
          <p:cNvSpPr/>
          <p:nvPr/>
        </p:nvSpPr>
        <p:spPr>
          <a:xfrm>
            <a:off x="255960" y="5016600"/>
            <a:ext cx="5691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5a5c6c"/>
                </a:solidFill>
                <a:latin typeface="Arial"/>
              </a:rPr>
              <a:t>绿色圃中小学教育网</a:t>
            </a:r>
            <a:r>
              <a:rPr b="0" lang="en-US" sz="200" spc="-1" strike="noStrike" u="sng">
                <a:solidFill>
                  <a:srgbClr val="a3c145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200" spc="-1" strike="noStrike" u="sng">
                <a:solidFill>
                  <a:srgbClr val="a3c145"/>
                </a:solidFill>
                <a:uFillTx/>
                <a:latin typeface="Arial"/>
                <a:hlinkClick r:id="rId8"/>
              </a:rPr>
              <a:t>www.lspjy.com</a:t>
            </a:r>
            <a:r>
              <a:rPr b="0" lang="en-US" sz="200" spc="-1" strike="noStrike">
                <a:solidFill>
                  <a:srgbClr val="5a5c6c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865760" y="4923000"/>
            <a:ext cx="377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÷7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92120" y="2325600"/>
            <a:ext cx="4373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⑴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果蟋蟀叫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次，气温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⑵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果蟋蟀叫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次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⑶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这里的两个变化的量与前面又有什么不同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851280" y="26028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生活中用数量关系式表示的相互依存的变化的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1"/>
          <a:stretch/>
        </p:blipFill>
        <p:spPr>
          <a:xfrm>
            <a:off x="-181080" y="46080"/>
            <a:ext cx="9325080" cy="69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9" name=""/>
          <p:cNvSpPr/>
          <p:nvPr/>
        </p:nvSpPr>
        <p:spPr>
          <a:xfrm>
            <a:off x="684360" y="7509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南美州的蝴蝶煽一下翅膀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通过种种因素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就可能引起亚洲地区的一阵台风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这就是是蝴蝶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考点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判断两个变化的量，是不是相关联的变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小朋友每天吃饭的次数和小朋友的性别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速度一定，火车所跑的路程和时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天中，每个时刻的温度与相对应的时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同学们的考试成绩和同学们的年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声音在空气中传播的速度与温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考点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连一连，把相互依存的变化的量连起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路程                 正方形周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边长                 购买数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总价                 行驶时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气温                 收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销量                 时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蜡烛长度           燃烧时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考点三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说一说，一个量是怎样随着另一个量变化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种故事书，每本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元，买书总价与买的书本总数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个长方形的面积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平方厘米，长方行的长于宽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金箍棒的长度与重量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汽车匀速行驶中，行驶的时间与位移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"/>
          <p:cNvSpPr/>
          <p:nvPr/>
        </p:nvSpPr>
        <p:spPr>
          <a:xfrm>
            <a:off x="0" y="5950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1.3.4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变化方向一致，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的变化方向相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9" name="Picture 29" descr=""/>
          <p:cNvPicPr/>
          <p:nvPr/>
        </p:nvPicPr>
        <p:blipFill>
          <a:blip r:embed="rId1"/>
          <a:stretch/>
        </p:blipFill>
        <p:spPr>
          <a:xfrm>
            <a:off x="509760" y="141444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1160" name="TextBox 29"/>
          <p:cNvSpPr/>
          <p:nvPr/>
        </p:nvSpPr>
        <p:spPr>
          <a:xfrm>
            <a:off x="1028880" y="1414440"/>
            <a:ext cx="69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大自然和日常生活中有很多变化的量。你还能找出一个量随着另一个量变化而变化的例子吗？与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556000" y="333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考点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课堂小结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通过观察表格，读图，列关系式，举例的方法，我们可以发现一个量随另一个变化而变化，这些量就是变化的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两个变化的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今天我们研究的两个量都是相关联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其中一个变量 随着另一个变量的变化而变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它们之间的变化都具有一定的关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会用自己的语音描述两个变量之间的关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32036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ahoma"/>
              </a:rPr>
              <a:t>教学目标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结合具体情景，认识变化的量，并通过尝试，使学生用自己的语音去描述，其中一个变量是怎样随着另一个变量变化的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通过举例与交流活动，体会生活中存在大量相互依存的变量，体会生活与数学的紧密联系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知道列表或者画图都是表示变量之间关系常用的方法，积累表征变量的数学活动经验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培养学生初步的综合能力，概括能力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Picture 29" descr=""/>
          <p:cNvPicPr/>
          <p:nvPr/>
        </p:nvPicPr>
        <p:blipFill>
          <a:blip r:embed="rId1"/>
          <a:stretch/>
        </p:blipFill>
        <p:spPr>
          <a:xfrm>
            <a:off x="684360" y="689040"/>
            <a:ext cx="647640" cy="579240"/>
          </a:xfrm>
          <a:prstGeom prst="rect">
            <a:avLst/>
          </a:prstGeom>
          <a:ln w="0">
            <a:noFill/>
          </a:ln>
        </p:spPr>
      </p:pic>
      <p:sp>
        <p:nvSpPr>
          <p:cNvPr id="1095" name="TextBox 29"/>
          <p:cNvSpPr/>
          <p:nvPr/>
        </p:nvSpPr>
        <p:spPr>
          <a:xfrm>
            <a:off x="1566720" y="601560"/>
            <a:ext cx="69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妙想小朋友刚出生时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5kg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岁时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岁时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kg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岁时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1kg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Picture 30" descr=""/>
          <p:cNvPicPr/>
          <p:nvPr/>
        </p:nvPicPr>
        <p:blipFill>
          <a:blip r:embed="rId2"/>
          <a:stretch/>
        </p:blipFill>
        <p:spPr>
          <a:xfrm>
            <a:off x="368280" y="1424160"/>
            <a:ext cx="6940440" cy="150012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31" descr=""/>
          <p:cNvPicPr/>
          <p:nvPr/>
        </p:nvPicPr>
        <p:blipFill>
          <a:blip r:embed="rId3"/>
          <a:stretch/>
        </p:blipFill>
        <p:spPr>
          <a:xfrm>
            <a:off x="368280" y="2924280"/>
            <a:ext cx="5068800" cy="3933720"/>
          </a:xfrm>
          <a:prstGeom prst="rect">
            <a:avLst/>
          </a:prstGeom>
          <a:ln w="0">
            <a:noFill/>
          </a:ln>
        </p:spPr>
      </p:pic>
      <p:sp>
        <p:nvSpPr>
          <p:cNvPr id="1098" name="TextBox 32"/>
          <p:cNvSpPr/>
          <p:nvPr/>
        </p:nvSpPr>
        <p:spPr>
          <a:xfrm>
            <a:off x="5842080" y="3213000"/>
            <a:ext cx="2933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观察表格和图，想一想哪些量在发生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210360" y="5286240"/>
            <a:ext cx="2197080" cy="52056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年龄和体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Picture 30" descr=""/>
          <p:cNvPicPr/>
          <p:nvPr/>
        </p:nvPicPr>
        <p:blipFill>
          <a:blip r:embed="rId1"/>
          <a:stretch/>
        </p:blipFill>
        <p:spPr>
          <a:xfrm>
            <a:off x="63360" y="160200"/>
            <a:ext cx="5661000" cy="163368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31" descr=""/>
          <p:cNvPicPr/>
          <p:nvPr/>
        </p:nvPicPr>
        <p:blipFill>
          <a:blip r:embed="rId2"/>
          <a:stretch/>
        </p:blipFill>
        <p:spPr>
          <a:xfrm>
            <a:off x="368280" y="1916280"/>
            <a:ext cx="5068800" cy="4324320"/>
          </a:xfrm>
          <a:prstGeom prst="rect">
            <a:avLst/>
          </a:prstGeom>
          <a:ln w="0">
            <a:noFill/>
          </a:ln>
        </p:spPr>
      </p:pic>
      <p:sp>
        <p:nvSpPr>
          <p:cNvPr id="1104" name="TextBox 32"/>
          <p:cNvSpPr/>
          <p:nvPr/>
        </p:nvSpPr>
        <p:spPr>
          <a:xfrm>
            <a:off x="6156360" y="404640"/>
            <a:ext cx="2448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观察表格和图，妙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岁前的体重是如何随年龄增长而变化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724360" y="3586320"/>
            <a:ext cx="3168720" cy="180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妙想的体重随年龄的增长而增加，出生到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岁是体重的增长高峰，说明这个阶段是孩子成长的重要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/>
          </p:nvPr>
        </p:nvSpPr>
        <p:spPr>
          <a:xfrm>
            <a:off x="301680" y="333000"/>
            <a:ext cx="8540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体重会一直随着年龄的增长而变化吗？这说明什么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"/>
          <p:cNvSpPr/>
          <p:nvPr/>
        </p:nvSpPr>
        <p:spPr>
          <a:xfrm>
            <a:off x="971640" y="19162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体重和年龄是一组相关联的量，但是体重的增长是随着人的生长规律而确定的，年龄和体重只是生活中特定时期相互依存的变化的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187280" y="450864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04b_21"/>
                <a:ea typeface="楷体"/>
              </a:rPr>
              <a:t>合理饮食，适当控制体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Picture 2" descr="10"/>
          <p:cNvPicPr/>
          <p:nvPr/>
        </p:nvPicPr>
        <p:blipFill>
          <a:blip r:embed="rId1"/>
          <a:stretch/>
        </p:blipFill>
        <p:spPr>
          <a:xfrm>
            <a:off x="981000" y="67320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1110" name="TextBox 4"/>
          <p:cNvSpPr/>
          <p:nvPr/>
        </p:nvSpPr>
        <p:spPr>
          <a:xfrm>
            <a:off x="492120" y="1413000"/>
            <a:ext cx="8151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圆柱的底面积等于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，圆柱的体积和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变化情况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Picture 7" descr=""/>
          <p:cNvPicPr/>
          <p:nvPr/>
        </p:nvPicPr>
        <p:blipFill>
          <a:blip r:embed="rId2"/>
          <a:stretch/>
        </p:blipFill>
        <p:spPr>
          <a:xfrm>
            <a:off x="360360" y="2728800"/>
            <a:ext cx="8532720" cy="1173240"/>
          </a:xfrm>
          <a:prstGeom prst="rect">
            <a:avLst/>
          </a:prstGeom>
          <a:ln w="0">
            <a:noFill/>
          </a:ln>
        </p:spPr>
      </p:pic>
      <p:sp>
        <p:nvSpPr>
          <p:cNvPr id="1112" name="TextBox 4"/>
          <p:cNvSpPr/>
          <p:nvPr/>
        </p:nvSpPr>
        <p:spPr>
          <a:xfrm>
            <a:off x="684360" y="3902040"/>
            <a:ext cx="8151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结合上表的数据，说一说圆柱的体积与高之间的变化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981000" y="5300640"/>
            <a:ext cx="524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92120" y="5114880"/>
            <a:ext cx="8344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发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﹙      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随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﹙      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增加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发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﹙      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随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﹙      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减少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92120" y="6237360"/>
            <a:ext cx="53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变化方向一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8" name="Picture 29" descr=""/>
          <p:cNvPicPr/>
          <p:nvPr/>
        </p:nvPicPr>
        <p:blipFill>
          <a:blip r:embed="rId1"/>
          <a:stretch/>
        </p:blipFill>
        <p:spPr>
          <a:xfrm>
            <a:off x="1170000" y="68904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29"/>
          <p:cNvSpPr/>
          <p:nvPr/>
        </p:nvSpPr>
        <p:spPr>
          <a:xfrm>
            <a:off x="1555920" y="601560"/>
            <a:ext cx="69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骆驼被称为“沙漠之舟”，它的体温随时间的变化而发生较大的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32"/>
          <p:cNvSpPr/>
          <p:nvPr/>
        </p:nvSpPr>
        <p:spPr>
          <a:xfrm>
            <a:off x="396720" y="4724280"/>
            <a:ext cx="84963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⑴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天中，骆驼体温最高是多少？最低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⑵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天中，什么时间范围内骆驼的体温在上升？什么时间范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内骆驼的体温在下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⑶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第二天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时骆驼的体温与前一天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时的体温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图片 8" descr="4.png"/>
          <p:cNvPicPr/>
          <p:nvPr/>
        </p:nvPicPr>
        <p:blipFill>
          <a:blip r:embed="rId2"/>
          <a:stretch/>
        </p:blipFill>
        <p:spPr>
          <a:xfrm>
            <a:off x="2268360" y="1612800"/>
            <a:ext cx="6624720" cy="3111480"/>
          </a:xfrm>
          <a:prstGeom prst="rect">
            <a:avLst/>
          </a:prstGeom>
          <a:ln w="0">
            <a:noFill/>
          </a:ln>
        </p:spPr>
      </p:pic>
      <p:pic>
        <p:nvPicPr>
          <p:cNvPr id="1122" name="图片 9" descr="5.png"/>
          <p:cNvPicPr/>
          <p:nvPr/>
        </p:nvPicPr>
        <p:blipFill>
          <a:blip r:embed="rId3"/>
          <a:stretch/>
        </p:blipFill>
        <p:spPr>
          <a:xfrm>
            <a:off x="63360" y="1612800"/>
            <a:ext cx="22050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/>
          </p:nvPr>
        </p:nvSpPr>
        <p:spPr>
          <a:xfrm>
            <a:off x="0" y="3141360"/>
            <a:ext cx="854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﹙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4﹚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天，在什么时间范围内骆驼的体温在上升？在什么时间范围内骆驼的体温在下降？第二天呢？第十天呢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﹙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5﹚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每天骆驼的体温总是怎样变化的，说一说，并用手势表示一下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"/>
          <p:cNvSpPr/>
          <p:nvPr/>
        </p:nvSpPr>
        <p:spPr>
          <a:xfrm>
            <a:off x="755640" y="3141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01680" y="5084640"/>
            <a:ext cx="76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想一想，这里相互依存的变化量有什么异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6" name="图片 8" descr="4.png"/>
          <p:cNvPicPr/>
          <p:nvPr/>
        </p:nvPicPr>
        <p:blipFill>
          <a:blip r:embed="rId1"/>
          <a:stretch/>
        </p:blipFill>
        <p:spPr>
          <a:xfrm>
            <a:off x="755640" y="30240"/>
            <a:ext cx="7201080" cy="311148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0" y="56037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年龄和体重是生活中特定时期相互依存的变化的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骆驼的体温和时间是生活中周期性重复出现的变化的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Picture 2" descr="10"/>
          <p:cNvPicPr/>
          <p:nvPr/>
        </p:nvPicPr>
        <p:blipFill>
          <a:blip r:embed="rId1"/>
          <a:stretch/>
        </p:blipFill>
        <p:spPr>
          <a:xfrm>
            <a:off x="179280" y="1764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2" descr=""/>
          <p:cNvPicPr/>
          <p:nvPr/>
        </p:nvPicPr>
        <p:blipFill>
          <a:blip r:embed="rId2"/>
          <a:stretch/>
        </p:blipFill>
        <p:spPr>
          <a:xfrm>
            <a:off x="2114640" y="1884240"/>
            <a:ext cx="4335480" cy="4327560"/>
          </a:xfrm>
          <a:prstGeom prst="rect">
            <a:avLst/>
          </a:prstGeom>
          <a:ln w="0">
            <a:noFill/>
          </a:ln>
        </p:spPr>
      </p:pic>
      <p:sp>
        <p:nvSpPr>
          <p:cNvPr id="1130" name="TextBox 4"/>
          <p:cNvSpPr/>
          <p:nvPr/>
        </p:nvSpPr>
        <p:spPr>
          <a:xfrm>
            <a:off x="179280" y="689040"/>
            <a:ext cx="8713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你见过摩天轮吗？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所在座舱的高度的变化情况可以用下图来表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3"/>
          <a:stretch/>
        </p:blipFill>
        <p:spPr>
          <a:xfrm>
            <a:off x="1405080" y="1811160"/>
            <a:ext cx="5759280" cy="2910240"/>
          </a:xfrm>
          <a:prstGeom prst="rect">
            <a:avLst/>
          </a:prstGeom>
          <a:ln w="0">
            <a:noFill/>
          </a:ln>
        </p:spPr>
      </p:pic>
      <p:sp>
        <p:nvSpPr>
          <p:cNvPr id="1132" name="TextBox 12"/>
          <p:cNvSpPr/>
          <p:nvPr/>
        </p:nvSpPr>
        <p:spPr>
          <a:xfrm>
            <a:off x="396720" y="4724280"/>
            <a:ext cx="84963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⑴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转动过程中，到达的最高点是多少米？最低点时多少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⑵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转动第一圈的过程中，什么时间范围内高度在增加？什么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间范围内高度在降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⑶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到达最高点后，下一次再到达最高点需要经过几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数学备课大师 www.eywedu.net【全免费】</dc:creator>
  <dc:description>数学备课大师 www.eywedu.net【全免费】</dc:description>
  <dc:language>en-US</dc:language>
  <cp:lastModifiedBy>微软用户</cp:lastModifiedBy>
  <dcterms:modified xsi:type="dcterms:W3CDTF">2016-03-27T17:37:01Z</dcterms:modified>
  <cp:revision>39</cp:revision>
  <dc:subject/>
  <dc:title>数学备课大师 www.eywedu.net【全免费】</dc:title>
</cp:coreProperties>
</file>