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D7BFA-0754-4468-8D94-61F6E27E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9327F-2CF3-44C1-B081-97D485F1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915EE-B8B4-4F6C-A28B-D83F2851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0B257-FB9F-48A6-9325-BBA0F30E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BFEFA-1353-478C-A9FB-F51B43BC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32854-2FAF-4BC7-BAA7-AF35CF9B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7C29B-4D31-40F8-B379-95F2C398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6970F-8130-4155-8599-E3D49324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2A974-6398-49BE-9A85-DE6579D3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04467-2D8E-4A42-B83B-08658A99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1990F-87B4-4A21-A190-E766B9BE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FE546-1D31-4C0E-A184-820D6DAD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92A8D-7223-4210-9CC4-2DC735A8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4F2E4-877E-40BB-9A17-664B16AC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95E20-D418-4070-832F-4D00E6E9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92A2D-0D01-4ECF-BA75-E754F4FD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34F62-3B2B-4DB9-90CC-07F4144D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BE78E-C556-46CC-907A-A538A2FF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EA781-7392-4C0B-9C5B-39CD8CF9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5EF7A-A04E-45B3-BEA3-4736ADF0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3CF46-3DDD-4DD2-B776-AE0BB012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64DFC-84BA-45AC-827D-D5F79F9B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4313E-C785-46C6-870D-DD88077B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31773-5F9D-4AF1-8056-EC62BE2C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5C805-1375-49D3-9846-6F48E95C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DBD74-D16D-4D7A-A137-C91DF19C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634F2-4FFF-419C-B34C-B6FABC5A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012DF-739E-4DA9-93DD-71399674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51AA0-A40C-42A4-B4FB-1BF0DED7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CAAC2-08F7-48DC-A4F6-7593D37D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AE1D-86BC-4BDD-AE18-884B7D1B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2E986-02C6-4EAD-951F-9FD3AA28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7BB5B-3485-43F0-92B5-AC0759C3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7B982-A23E-4833-8122-342E8AD6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92D97-7D80-42AC-91DB-5968AF81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7399F-FBC9-461B-861F-8F0A8F81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CA14F-6E70-4351-A1F9-476145E8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9236E-D33E-4F77-A8AD-1D1CF63E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6AC85-F234-4E34-9E46-B024C6E3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1BA8C-1FA6-402E-A925-329412EC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89EB3-3988-4225-A836-9487C329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2C04-FFAB-4A83-88EC-E30BF010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D069D-C612-44D9-ADB8-97EFD2F3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5F0C6-2530-4BDF-985A-0F80AC3E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C6A96-5ABA-482A-87E4-14D63492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56764-C88E-4916-B2C9-37CD1F77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9E149-7F9A-4715-B765-3AE385BA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32349-636B-4C5A-84F6-33BCB6D5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5C5EA-8C1D-4924-9D50-B7D12662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FC269-12AF-4430-816E-110D7992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5580B-CC6D-4BDE-83B4-070DC43A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1BB7C-8675-4839-B297-4768BDD0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67F-08AF-4CAD-8BAB-0D9FE408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6EB45-790E-479F-BE86-DF8A2FAF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CEEDB-5231-4C1D-83FE-649334DE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D4689-D029-4017-A453-ACDEC2C3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0CD9C-52D4-4033-BCC6-92D5FCB4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5FF2B-D055-460E-98D5-76F5581A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0EE81-7DE1-4EC9-AFB6-004B62FE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885C5-6713-4DF4-8F47-C5D242B3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D339C-2723-42BC-A347-BBC416CA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B6D669-932E-4309-A308-F75365AE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A555F-88DC-49B6-A977-FD3F9BE7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7CDC-6C64-4D29-9694-0B925B78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2B470B-C785-4461-82AF-D92F3C10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873AF-264D-4543-8F7B-BECC2C01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7DDB8-522E-45FD-A88A-4B6AD336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2EA653-3AA0-49DB-9D3B-858FEA2C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B3C0A-E2F5-4651-A6F5-4453E7AD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075C5-119C-4404-867B-596DAEEA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BB759-E811-4559-B189-3A31D1D5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BC467-B675-474F-865B-53CFBD32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80D5EF-9839-48C9-8143-A1E99B08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3240D-93F7-4D1C-8978-F5C23D41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A44-9282-4B7C-B9FD-50C3CA68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BE58A-44C0-49CA-A653-62BC872B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41287-38A2-4DF9-BF82-2503A235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49918-4A30-4AB6-98A2-15B63644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78561-2D64-4887-B989-BD91FC68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BE219E-F003-4E59-92AC-99925FDD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E3D032-24B7-4BC5-B744-035C3CE3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45221-D5CB-4DCF-8E9D-2E376C4C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8442E1-40C4-4280-8893-3197C8CB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B92A02-DFCF-4483-BD85-56964AAB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27492-049B-47F4-969A-8C013BC2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E9C-B888-4C13-B551-0CD6D35C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FD20AD-45F1-4C17-BA14-F0BCB736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001D0E-095D-44D6-BF03-23537BB6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7ED39D-2F9E-4FE3-BC52-C343AE70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6DFF69-2398-4CC9-8471-C375D2CC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F71770-7629-4406-AE72-DCF6F85C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742C06-104B-491C-A37D-060A5744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623DB0-69CC-437A-B149-3E9A88E6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1D34E6-C2C4-4C2C-9972-DE33CC81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C2ED6E-9D92-4C1D-8496-8F83A12E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118482-2F0A-485E-B7B0-298293A2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84A-93EC-49A0-B974-51A351C3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CA7081-EF9C-4E33-948F-77EE72BE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7F945C-BDFE-4B8A-A179-1609291E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4EBC05-6402-464D-B6AF-C8488569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3BD398-345A-4D42-AD38-8A0F12A9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F13915-AC21-4B19-9765-67123C43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C6BCD5-B7F1-43D7-8E68-52E5EF74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511706-7AEF-4EA1-A612-D87F92F7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0FCAD2-98BF-4762-A46C-B317EF9B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67A4D9-62D9-45A8-AD27-D05ABF8B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95F77F-B191-42A7-B7BC-AFE603E2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229-0EDD-4A7E-B46D-7F1EFF6D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EBED2A-DB59-4C87-AE13-33D8DBAD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61BDBE-682C-4E94-9685-3E6E1BFF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83E520-7C06-4DAA-ACF1-9240F02E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749A25-DC67-49F3-A5AB-123E4609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B8CA91-2307-4B1B-AB8E-D5E83165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BF10E6-C6A3-419E-996A-055ED4D7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B1560F-2958-462D-94FD-D955EC5F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F57AE4-2032-4D63-A20E-FF033749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16957E-E498-457E-BE39-C9F7983F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4A604C-5851-4D3C-86D2-3A0F9DBF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47AA-6F62-4117-8122-F5B02FA8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7F8A6B-BFEA-40CD-A10A-8D9AF41E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827F0B-BB57-4BC7-B2E5-ED2C7589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E89679-2C23-4B6E-8181-6F90B351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60AAE4-6688-42E1-8370-29CA57E2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C13DC5-B84B-4EF0-B9B3-7F1C346C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55E00A-07ED-43AA-A5D2-88FBEE02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FEEAEC-1CD2-48E5-B3C8-B3C5C141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8E7723-F7F6-475D-B33D-6C52D2AF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A41BF6-A49E-4A06-A86D-C8DEBBD0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17411F-20F9-467D-8698-5E29D086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D155-04D6-47D4-A2EA-59534CC2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06CDB8-C6F1-4E90-BC5F-25B6B055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FF2EBA-531C-446F-AFF6-F70796AF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4DB5B2-537A-4D53-A674-19737355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EE9024-AB8E-426C-BFC5-C3E5F806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9CA9D5-3BF9-4AFD-B4A1-76A8181D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BE0D4A-C286-437E-B211-FA396E2F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4A783E-BAE1-491B-9A12-5742BF6B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491789-3031-4DB2-A95A-E416802C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244D04-CB6F-4521-8704-4ED276DB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2CFFFE-330B-48FE-9CC3-D7A7E21E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A11-9387-4BD6-96D7-DC876504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220F78-D16B-483E-B970-1E7F3858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98075E-58FE-4326-B592-E30902B4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A7AC27-78A4-40C2-A5BC-C07F685E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4E32F9-FDCA-4FBE-AD58-2905E77E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C34A04-FB38-4805-BA3F-54FE4BF6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777C97-D1C9-41A9-A5E1-4C8FC1F6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D3ED1C-7A0C-4F19-98C5-7663B1CC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6346A7-FA9E-424A-B5AD-D9452FB7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EEECD1-BEC0-4FAA-A23F-106E58D5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FFED3C-0B88-4BA8-BE85-DCD34785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16B-F1A0-4F7E-B6CE-D85D9B46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2EF74F-9B1D-405E-9105-96A0A866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802AEF-2A9B-45F8-8CBA-00A25DB7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A034F6-A629-427A-9413-74F4F08E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FA4068-018D-421A-AEC4-7344E518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9EF232-4B7C-4BF7-AEA4-E6F30B2F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0BF1FE-EF8B-4A44-8A77-751876C1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F288D0-643E-4E2E-BA4B-32A2708D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6ADDB2-2BAE-4061-88C2-53810A48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566756-5FE3-459F-89DD-356871EC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89A8EF-AA92-4885-B9F7-07A32974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C506-5018-4AD1-A3DB-71846186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C10181-5610-4EA4-9C21-FD17C861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A712E1-013E-4A92-A424-4C44CCA5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8FADBB-9F52-47E9-A05A-2FBC0406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574F51-3CC8-4838-8DEF-10531738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5537E8-E8F5-4136-BDA3-DE5EEDBE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7E389B-B8BF-4E92-B2CC-EA00C21A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871B04-7FAB-47B8-BDAA-138853EC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0E00B7-0565-4399-8618-4A3161C4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B59A65-4844-4D58-A3DA-DA6ECE78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CE27A0-6B15-49D9-97FD-4B933888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A5EF-F7E9-4D69-A765-959B82DC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28A01E-8D68-40A0-BB0B-5F26CF3F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D781AF-D85A-4889-9327-58B84974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97A140-BCCF-4298-975B-392A35F3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1A44F6-4620-4604-BA55-C8F217C3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FED8AB-B988-4CB4-86F3-69893CDB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D38DC0-87F0-4BEB-82F7-715E0764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B4A765-6B47-4449-A732-B728F89E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04AC3F-D1C3-4C11-8D1F-6109B9E4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7ECC51-5032-45E5-9F33-27D0E831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F79999-7F73-4796-8B5D-180413E6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E75B-53A2-4484-A69F-6CCDC181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EB940D-F399-4CA4-ACBF-42425FAD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AE6604-E949-464F-9461-757980F0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DAF4AC-00A1-4BC1-A42A-C39D2D96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11C893-C04E-40FF-872D-0A589C85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7D819C-CB7F-4DF1-98E8-A9963EC3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109F22-CB35-47A6-A15E-797E5AF0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5E937E-BAF5-4732-9F62-662B4E97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6B5F0E-33CF-4AC2-9F0C-FDBBB628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859E38-E56A-4C80-BDA7-17526A4F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ECCF42-783E-452A-868D-9D5054B7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5243-7A6F-40DE-BD45-CECCEB60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30A84E-3E9E-4EC9-856E-CCDA6494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5C7705-5261-4E29-82EF-1D7D877E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E75D22-F365-40D4-B217-76217B43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88E34A-D924-43EF-8724-3E48BFA5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2D8D1E-51B8-4E1E-A5A1-8C3A840C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6DF513-ACF7-4B6E-B4BE-7EBC4509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1B6548-EFAF-4FAA-9BD2-DF76253C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025EA3-71FD-49A5-82F9-A909BC07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4EFA06-A979-4DFF-AC88-F69F5839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66BC-0D79-4F77-AEBC-C5005E98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8A08-9951-4473-BBE2-431DB75B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AD45-2649-4FF0-A232-055C13D6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52BC-03C8-46B0-A887-8940E16A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0DDC-E557-40F0-B736-100C8046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2106-4732-443D-8937-B6FD9814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BBCC-544C-40C6-A651-F115A582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7294-6814-4C7B-A340-84FEEBD7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A140F-7868-4591-B13B-C62C0695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9766F-466E-47C3-9FAE-F11B5B4C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FB3C8-12FE-4275-B192-DD94F7B7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F5D51-F038-47CE-B7FE-F0189F2C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60103-B712-4037-A993-3BF4B5E9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6E264-BE2F-4ACB-BD14-58A971C4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7AF38-8962-48D9-B8C6-5A6966C9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D078D-2C02-4AF2-9103-BDC5D830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B5348-9356-41E5-A387-00338887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9BC45-08B2-4810-937B-2C8C5B44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BE2A4-FB47-4471-B1B8-AA2F1269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020D3-E04D-42B2-968C-75161EBC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A2E40-69C5-4CEA-88BD-8C353300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96A5E-F342-4921-8AEC-5D1F1CBC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55F38-AA1B-4B4F-B83E-5A84BB74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56B6D-0C1D-43A7-ADDB-27C813D4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DEA7C-2CFE-4D64-9955-307B14ED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8A25F-1EB9-49D7-8390-1D5AA236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EBF46-45E7-4023-8D9C-6E35E678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03DA1-67AF-4D82-8811-828EB832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3197D-7DC4-463C-883B-18733764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5E771-4DA6-44E2-B49F-1CE640A1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3F3CF-B63D-416F-A48E-65041C18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DE6E2-F39C-4BBC-A22A-34560C9D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16762-2DF8-461B-9A34-28DEDB71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E8930-7491-47F1-A5B3-AB550E60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D3EC0-B77D-4221-9714-A1474E27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140D7-BD7E-429B-B434-25244798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A5FFE-0684-4790-8461-68099C2A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6191F-0AC0-479A-8A4C-C0EB1B1A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3E3CF-18EA-48A1-AA55-412D7D10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9B75E-EE5F-42E3-80BF-3A36B7EE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337D0-C760-483C-B5CA-F353A74E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D40F8-40CA-458C-BC66-0BB3B0A3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C6566-4959-4D7D-98E6-5B6791CA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4166C-FE1C-4D26-B029-1894445F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263E7-9F6D-45B5-A2D3-E8E7B5E1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7D90D-D76E-426E-B383-52BAEE90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3F5ED-744F-48F3-8784-4EBB5055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5ABFC-8AEA-4589-BEFB-FF129EA5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8D7F0-AB3A-4303-B497-C04726BD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202BA-7774-4954-AE5B-DF1056D1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9D41C-7D5A-4243-ABE8-5FC7C38F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FA1E7-22B1-49DC-91E0-EA6245F6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BE367-69CB-4FAD-9684-03D736A0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17CAB-2708-4C7E-993E-C10AB433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BBBAA-B81E-4F79-8F76-E4243176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46CB0-F38F-4FA9-9A90-371A86A5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0AEA9-D208-4F02-AAD0-4C68129C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87B8F-C4D7-4F8E-A596-05A0AA55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141AC-F1DF-4F30-A3D4-A4190338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6DD76-3AC0-40FF-8ABB-9820EC43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0BB8C-33AF-4D8B-BFB6-DE94C41A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44E2D-714F-4957-9B0B-68C69296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37C61-4172-42FE-B382-D25DAAAD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EFF9B-2C01-41BC-A0FE-818BAE59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3BA90-55C6-42EE-B7A5-36418280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6FB5A-A263-4FDF-BC89-9015D680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CE230-7464-4B68-8C11-F1776C2C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DF3FC-2BE6-4807-9B7B-9BDFD78B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0732B-2EEA-4FED-B1B1-019F7935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1010D-4502-4475-A116-BA8F7729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FA1CA-CE9D-425C-A91E-F3246A6A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3D82-B70B-4022-AE67-55C690784483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8CEA-C003-4529-A05E-6DC2B222DCC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032D-7D96-475A-A5EB-15E43EF76321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5F64-2073-49E3-9343-1AA337B295B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63E6-846F-482B-858F-CE5D4F11A90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6449-6B4C-47A4-941F-93872D2A296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89A5-A61F-4FD8-A9DE-93E09CE097C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331B-327F-4D25-ACAA-2240C3152DE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B6AA-D732-443B-BEA3-A641282AF0C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1E22-43A5-47BE-AF9A-D4D523FAFF3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2885-71A9-4396-BD87-FB2078706E1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F925-0B27-410A-BC69-72BA6F5C4CB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C5FC-5E3A-4D9B-8DB1-2BC9F21BBC1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6F2D-0003-4078-8731-95D6D59C636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82FC-8F06-44DA-85C5-A4D86FE9F90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58E9-37F4-4A75-BF46-32020C60FEE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F1CB-034F-4483-855C-3FD65F36D9E3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B230-CCFD-478A-A59C-D3B56BFDE6B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76F7-0DDD-4913-83CE-F760C533BC2F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29C0-AB0F-494C-9B67-49BFDA155EDF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1418-9423-4094-B38E-CFE0BB16C988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C225-D9D8-434D-8858-19F5DCD0B66A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A728-8ED7-497C-9D66-25529549C89B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2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3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5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6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7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89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六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0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标题 1"/>
          <p:cNvSpPr/>
          <p:nvPr/>
        </p:nvSpPr>
        <p:spPr>
          <a:xfrm>
            <a:off x="523800" y="1814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百分数的综合应用</a:t>
            </a:r>
            <a:r>
              <a:rPr b="0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0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endParaRPr b="1" lang="en-US" sz="5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4"/>
          <p:cNvSpPr/>
          <p:nvPr/>
        </p:nvSpPr>
        <p:spPr>
          <a:xfrm>
            <a:off x="4386240" y="1574640"/>
            <a:ext cx="426240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1  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欢乐农家游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百分数（二）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矩形 10"/>
          <p:cNvSpPr/>
          <p:nvPr/>
        </p:nvSpPr>
        <p:spPr>
          <a:xfrm>
            <a:off x="954000" y="143820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如果开始三天比最后三天多运送砂石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吨，那么这批砂石料共有多少吨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4" name="矩形 4"/>
          <p:cNvSpPr/>
          <p:nvPr/>
        </p:nvSpPr>
        <p:spPr>
          <a:xfrm>
            <a:off x="1663560" y="2997360"/>
            <a:ext cx="65088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：设这批砂石料共有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吨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0%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%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5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%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5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50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这批砂石料共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5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吨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26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27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28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29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0" name="矩形 19"/>
          <p:cNvSpPr/>
          <p:nvPr/>
        </p:nvSpPr>
        <p:spPr>
          <a:xfrm>
            <a:off x="963720" y="113184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、某家电商场卖出了两台电视机，售价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一台是新型号，赚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另一台是旧型号，赔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卖出这两台电视机，该商场是赚了还是赔了？赚了或赔了多少元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1" name="矩形 4"/>
          <p:cNvSpPr/>
          <p:nvPr/>
        </p:nvSpPr>
        <p:spPr>
          <a:xfrm>
            <a:off x="1673280" y="3176640"/>
            <a:ext cx="65088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新型号成本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60÷(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%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旧型号成本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60÷(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%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60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92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9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该商场赔了，赔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82600" y="1916280"/>
            <a:ext cx="716940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列除法算式解决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解决有关成数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解决含有多个百分数的实际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963720" y="1521000"/>
            <a:ext cx="7216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、养殖场鸭比鸡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鸭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，鸡有多少只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画线段图分析：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4" name="Picture 13" descr=""/>
          <p:cNvPicPr/>
          <p:nvPr/>
        </p:nvPicPr>
        <p:blipFill>
          <a:blip r:embed="rId2"/>
          <a:stretch/>
        </p:blipFill>
        <p:spPr>
          <a:xfrm>
            <a:off x="2370240" y="3429000"/>
            <a:ext cx="403848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Box 1"/>
          <p:cNvSpPr/>
          <p:nvPr/>
        </p:nvSpPr>
        <p:spPr>
          <a:xfrm>
            <a:off x="934920" y="1989000"/>
            <a:ext cx="72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由图可知题中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看成单位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要求单位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只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÷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得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只数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列式计算：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6" name="矩形 2"/>
          <p:cNvSpPr/>
          <p:nvPr/>
        </p:nvSpPr>
        <p:spPr>
          <a:xfrm>
            <a:off x="3635280" y="2013120"/>
            <a:ext cx="14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鸡的只数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7" name="矩形 3"/>
          <p:cNvSpPr/>
          <p:nvPr/>
        </p:nvSpPr>
        <p:spPr>
          <a:xfrm>
            <a:off x="3560760" y="2554200"/>
            <a:ext cx="3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鸭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8" name="矩形 4"/>
          <p:cNvSpPr/>
          <p:nvPr/>
        </p:nvSpPr>
        <p:spPr>
          <a:xfrm>
            <a:off x="5724360" y="255600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5%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9" name="矩形 5"/>
          <p:cNvSpPr/>
          <p:nvPr/>
        </p:nvSpPr>
        <p:spPr>
          <a:xfrm>
            <a:off x="1800360" y="3137040"/>
            <a:ext cx="37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鸡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0" name="矩形 6"/>
          <p:cNvSpPr/>
          <p:nvPr/>
        </p:nvSpPr>
        <p:spPr>
          <a:xfrm>
            <a:off x="2376360" y="4437000"/>
            <a:ext cx="45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500÷(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5%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矩形 10"/>
          <p:cNvSpPr/>
          <p:nvPr/>
        </p:nvSpPr>
        <p:spPr>
          <a:xfrm>
            <a:off x="954000" y="1268280"/>
            <a:ext cx="721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、朱庄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玉米、大豆的产量情况如下表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2" name="矩形 4"/>
          <p:cNvSpPr/>
          <p:nvPr/>
        </p:nvSpPr>
        <p:spPr>
          <a:xfrm>
            <a:off x="1528920" y="4900680"/>
            <a:ext cx="650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3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80)÷3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二成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1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年玉米的产量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年减少二成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1727280" y="2398680"/>
          <a:ext cx="5689440" cy="1860480"/>
        </p:xfrm>
        <a:graphic>
          <a:graphicData uri="http://schemas.openxmlformats.org/drawingml/2006/table">
            <a:tbl>
              <a:tblPr/>
              <a:tblGrid>
                <a:gridCol w="3033720"/>
                <a:gridCol w="885960"/>
                <a:gridCol w="884160"/>
                <a:gridCol w="885600"/>
              </a:tblGrid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时间产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万吨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)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种类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01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年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01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年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016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年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玉米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35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8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大豆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？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？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4" name="矩形 2"/>
          <p:cNvSpPr/>
          <p:nvPr/>
        </p:nvSpPr>
        <p:spPr>
          <a:xfrm>
            <a:off x="1698480" y="434196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玉米的产量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减少几成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矩形 1"/>
          <p:cNvSpPr/>
          <p:nvPr/>
        </p:nvSpPr>
        <p:spPr>
          <a:xfrm>
            <a:off x="971640" y="1311120"/>
            <a:ext cx="72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446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大豆的产量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增加五成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大豆的产量是多少万吨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712800" indent="-446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712800" indent="-446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712800" indent="-446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712800" indent="-446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712800" indent="-446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712800" indent="-446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712800" indent="-446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712800" indent="-446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712800" indent="-446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6" name="矩形 2"/>
          <p:cNvSpPr/>
          <p:nvPr/>
        </p:nvSpPr>
        <p:spPr>
          <a:xfrm>
            <a:off x="1287360" y="2565360"/>
            <a:ext cx="70214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：设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年大豆的产量是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万吨。五成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%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%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1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4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年大豆的产量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万吨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矩形 1"/>
          <p:cNvSpPr/>
          <p:nvPr/>
        </p:nvSpPr>
        <p:spPr>
          <a:xfrm>
            <a:off x="1187280" y="2698920"/>
            <a:ext cx="72723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：设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1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年大豆的产量是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万吨。二成五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5%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5%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4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2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1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年大豆的产量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万吨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8" name="矩形 2"/>
          <p:cNvSpPr/>
          <p:nvPr/>
        </p:nvSpPr>
        <p:spPr>
          <a:xfrm>
            <a:off x="971640" y="12682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446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玉米比大豆少产二成五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大豆的产量是多少万吨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矩形 10"/>
          <p:cNvSpPr/>
          <p:nvPr/>
        </p:nvSpPr>
        <p:spPr>
          <a:xfrm>
            <a:off x="954000" y="146844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、实验小学六年级学生参加体育小组的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，比参加美术小组的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参加美术小组的人数比参加音乐小组的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参加音乐小组的有多少人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0" name="矩形 4"/>
          <p:cNvSpPr/>
          <p:nvPr/>
        </p:nvSpPr>
        <p:spPr>
          <a:xfrm>
            <a:off x="1547640" y="3681360"/>
            <a:ext cx="650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4÷(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%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÷(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%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参加音乐小组的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矩形 10"/>
          <p:cNvSpPr/>
          <p:nvPr/>
        </p:nvSpPr>
        <p:spPr>
          <a:xfrm>
            <a:off x="963720" y="116064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、建筑工地要运送一批砂石料，开始三天运送了这批砂石料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最后三天运送了这批砂石料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已知开始三天与最后三天运送的砂石料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吨，这批砂石料共有多少吨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2" name="矩形 4"/>
          <p:cNvSpPr/>
          <p:nvPr/>
        </p:nvSpPr>
        <p:spPr>
          <a:xfrm>
            <a:off x="1547640" y="3789360"/>
            <a:ext cx="65088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：设这批砂石料共有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吨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0%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%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5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这批砂石料共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吨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/>
  <dc:description/>
  <dc:language>en-US</dc:language>
  <cp:lastModifiedBy>相忘于江湖</cp:lastModifiedBy>
  <dcterms:modified xsi:type="dcterms:W3CDTF">2018-01-07T08:20:25Z</dcterms:modified>
  <cp:revision>1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