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8B63B-0469-42CA-BD4A-5D10D06C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A687B-0868-4DCC-AFCC-660527E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2FF78-5E01-41A8-94C0-19BE36DE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5C10E-BF02-4095-BE49-469F65B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8E80C-0659-4CC9-B712-50ADB9D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E2848-E0E9-44AF-AABE-E23E3F3B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8040-B676-46B5-B785-6A157EBD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2B09-FEE1-4FBA-B95A-FDECE9F7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9D9F7-D5B1-4435-82E6-05DDC8B9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61EA1-DE79-414F-B3F5-323C8453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0342E-B8B2-4577-A426-7A31755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B0E1C-6EDC-40A5-BE74-8BDC52C9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1E0A-CF90-45B8-BC89-940CA67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DCF5-4221-4B6A-A4EA-007AF8C9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0CDD5-B787-4044-AC9A-B886AAC3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F9C52-1D55-4E45-B79C-ED87172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4A3D0-9326-4656-A4C6-16AD8A4E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D9F8-6D78-447B-9F17-34582E7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586D-5D63-459F-8C62-E7F7D8C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BA6D0-A029-4615-BAE6-28BFC9C6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8C6A-C176-4203-90DD-5C42301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8EEB3-91F6-4C76-ADE3-76144145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8066B-C335-49CA-A9A2-3D5814D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4C4CF-BBD1-41E6-BF96-319C6377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E5BC9-74B6-4672-A8CE-182314C7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492B-B880-40DA-891F-6C42457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58D1B-58F0-4ED5-B8B3-666ABFD9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AC69F-1698-42CA-910E-006C549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451DD-1593-45DA-8EE3-695259E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0602F-41CB-406C-A9B0-199DDD3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E0A-C249-4F37-A3EF-32CE91CF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41FAD-074C-449C-9981-5F2944A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A295D-0385-452E-ADCE-FD78B282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7F462-1F91-49CA-BDC9-4D0DA42B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7BEB-ABCE-4569-806E-C95C06A9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9E1A0-824D-4EEA-9936-F943D31A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6B61E-CAFD-47AF-B37E-3BEB73A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9D6AC-E727-4B7D-943F-45FC8285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00833-1463-4146-A19E-24C2D736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9AEB-7EA2-42EA-A601-ADF30A48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12CF7-0BD8-4F79-B39A-E227A73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53D-36BA-42EC-8651-279E9AE8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FF122-486A-41D3-A5DE-C102CA5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ED330-216F-4A1E-9CF0-6AAA60B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2D5FA-C6A8-4584-A041-B0467E8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C5E72-F125-4F44-847B-74B81815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3C45A-BF6E-4A8B-A9DE-3019E8D3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5F580-D45D-45DA-97AE-810CAE22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661EE-D999-4393-B954-38BED5B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D9272-3FF8-4E89-A504-AD7E535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C77B3-E300-4C04-AE70-E2B965C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C0D85-3D36-4D29-AD58-58DC63EC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311-BA7B-47BD-BAEE-B0E64E7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BB60D-B31E-4251-91C4-76EFD201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BA63D-D7FB-41C1-A6D7-DCBCC02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9819C-66B3-4D27-9B46-EEAE1AB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208DD-0A1E-4FEE-91E9-BF131CA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5B7A0-75C4-4417-83BA-9F4084C0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E2694-2605-4EBC-8F3D-7DA9A226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DA6D7-1F88-4890-A727-1C63BC8C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D1A84-EEA9-48D7-8A64-E0D3C77A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821C1-1394-420E-AE1E-B609AA7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D7EA3-198B-4D0F-ADA7-2F93A62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F1F-BEB7-41E1-882A-C4CEE396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5A474-E4D5-4F61-8194-12B41FE7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7E77A-240A-4A41-A7AA-76E40001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DB3A1-BB59-41B8-A1BE-3216F8D8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227B5-1636-42AF-8BD0-4C7DA17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06F67-1199-4B23-8C29-9466649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E46DA-3C48-4035-9AC5-A601722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2E79B-EE25-4F78-8548-C92ECB1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79BB3-F073-4D7A-BCDC-591C8D67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6BE6E-074D-483A-917E-6C294812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4DC29-7E8A-4831-A030-A45A7E22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49E-9726-4FB1-8F40-102B3C09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D319D-78C2-4983-B938-933E613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CC4DD-43A8-4EEA-A848-BF0A95C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D48FE-A770-4255-A932-A99FD5AD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2763B-E103-402A-B3FC-6A5A770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FFD10-22A2-473D-A48B-AE5F2FA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B144D-53D5-45D1-8F01-EB0B2B35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3194A-A7CD-4EFF-AA39-0776C9C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529AC-66DE-44AA-A8D9-A26429E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487FF-7E0E-4DF8-ADBA-9ECB00F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EC4EE-4420-4F25-9C3C-ACD07B7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747-FC84-4ED2-9E5B-13D0B40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FF993-FD18-4061-A6EC-0BD15927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EAA79-EB51-4F4A-B152-87C49C34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BE314-03E9-4CBD-91DA-C15A43FD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3A343-660A-4C3C-8193-BA6C2F99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208FE-8602-4384-9BD8-519331C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CFCA8-7B2D-48BF-B603-3B03823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B14E8-78A4-4AEF-9AD4-DF3385CF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DAB79-F5B8-4A6E-AB87-75D372C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CE785-E563-4099-B8BE-4A652B41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7A27E-7EAB-4562-B85B-8BCA5A6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2BA-21E4-4594-8C0B-6BF30C6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2A6AF-B4E7-4D10-AC7F-472B0538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47ABB-3DCC-4B7B-AA65-EF5F83F8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158AD-238A-4B37-9E1A-E5B55A7D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CCD8B-ABEB-4471-91F2-B259BA2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231A9-C6F8-4194-AE81-27DE7FCA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3A036-63D0-41D4-B524-5232585B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385D1-6FB8-4A87-B40A-979EEA4D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76E29-47D7-4A47-B194-BC92EF4F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764CB-1C57-4924-83D4-AA08197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25CDC-9D5B-4E67-A6BB-084F852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48B-C5D9-4D68-801D-168504B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3C1DF-AC62-4006-B9E3-65BC25B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A34A0-A31F-4F72-AE04-304F0D4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446F3-F259-4B6C-B261-FED8AC16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AAC41-07E5-47E8-AE58-4966188A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5C2D0-9186-4818-869B-45A89D79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88A2A-8296-4C3E-96A5-73580100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B81DC-B203-46C7-BFEB-67334F28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FEC39-580D-434A-91FC-A4CDC03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F9AC2-95A8-4727-A37C-8ADEA3F7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99B40-7622-4436-A8EC-7F617088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7E3-48BB-481F-B223-694ACA8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7F458-B332-4306-B34D-6CD0C290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2C519-9104-42A4-BE8E-F8951A0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D8563-AD20-4F08-9E7E-B96F864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EC0C1-3A28-467E-B8FB-BFF8615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2ECF3-5AB4-4CE6-A1B3-B0EAC10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1A0FE-1490-47CB-BD21-2AE90ACB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3D887-FE08-4CA5-B3F9-C14BC26E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A6F72-58E1-41DC-B6F2-89D7F164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83782-83D7-438B-B080-24E4EA26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560A5-0298-442F-B0AD-487BA72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49A-93BB-46AD-A5B4-CEB1BAC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D5BE9-8BB1-4351-8568-18C9AF81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E595F-7C12-4D91-8F10-258BCEFA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5A7A6-D24B-496F-9757-DBB36A7C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0828B-8720-48AB-A1FA-DC3F4E3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86832-9318-4D4B-B809-983DD91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4DD6F-43C0-498A-B1F8-3BE5EDA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D8E11-4BAA-445F-B379-BAB2F09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94574-A710-4D0E-A758-078116AC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22058-52F5-4273-8F07-5429A346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225A5-BC0E-4F75-B31B-BA283D2C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049-622E-4B3F-8F2B-63C904DD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32D44-DD17-41C1-B1F7-75C5C89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2542A-8AC5-403F-9936-63518871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1203A-B732-423B-90DD-755A9095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AC8BD-01B7-4C0C-AE78-E02DC8E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1C4DA-D725-432A-931B-E7F2D6B4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30C9B-2D40-42B9-B672-11051EFA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05088-8057-4217-AF6C-B7D04DB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5FF47-848E-4928-9F2E-1E1B58A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9E39C-BBF0-423C-B5F0-EFD82B80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EAFDC-A00B-4F68-AED6-858C3139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8DF-8BAF-4559-90B0-5C2FD385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08126-C18E-4ACC-8D83-F20F78DA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5CFB3-A679-4AB1-9034-4BC353C2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BEFEF-E44C-4908-84FC-C34AA83F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1501E-070D-4E61-A92B-82000ED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84A18-5F58-4AB9-BC8A-0046FC1A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825A1-9B24-4297-962D-A1A5FAE9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7A24E-FED2-4D54-A105-E2CFA6E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7093A-7A62-4CB3-9212-691CC15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0DF36-A5C6-4FAF-9509-AA88BB1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39C9F-BDB5-45BA-A9A7-CA81FCBA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7165-FA26-4377-AE30-E8A3F1EA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EF5CF-FC02-4014-85E0-AA84DC7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94E65-C1A3-40AC-8D4A-E432FE68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2F5BB-5FA0-47BF-9C70-74A480E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06518-A7E8-4058-9B22-1188BE00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51C8F-6707-4061-A3EB-322697D6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9F2DA-8B6D-4C75-BDB0-E856A09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FEC6E-53F7-4268-BEF7-F87B6F4A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7445B-9C4B-401F-92EB-F3FF0DF4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10FF1-5B2E-4E64-A73B-B2C46D0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0B8F6-9A3E-4329-AF2D-CDA301A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CCD-627F-421E-87E4-5FB04B24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593E3-0F96-4877-98CB-AC36E5B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2A277-7CD6-43D7-9816-53676AD7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A5E5B-28C7-4930-8109-81E5E5AE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7F53A-8DD7-4F4C-A31A-BA0E592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9A35C-5BE2-43C6-AE77-E85CB77B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81343-BDCC-4372-908B-9C97EFE5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16657-2076-4DB3-90F8-9A7791A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DDBEE-8CB1-4B05-8590-2E4FB90B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93A7B8-EFFB-4BAB-BEE6-0B0FE82A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266F7-7176-436D-AC78-0F4D9AA2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08B9-D765-46B9-A1B3-AA530E3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773398-6933-422A-A1A6-61468CA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F61098-4D25-4352-9060-659E2EBB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282350-947E-4621-851F-1413E92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12059-18B0-4F43-BD26-3339EDF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F9F9BC-1A06-4FEC-9D71-09B99EC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FCD80A-6B49-451F-A904-604FFFD0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813FD4-DC4C-4C35-9C3D-F7F867CF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AFCFE-99CA-4786-8698-671F394C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B821B-61C4-45F2-8AC7-F40AB88C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6C54D-7BBE-4E69-8DAA-34FD649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E2C-7934-4A9F-BE2C-CDBD05A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1F34E7-8890-4F51-A2A9-FAEBF79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A4B32E-012C-4974-A467-9FF45513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5C8225-48A9-4B6A-99B6-E49DD48C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10EC14-DFC5-49F4-9659-CF5A308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1827C3-63A2-4503-9655-1860E98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779C8-6910-4B40-A300-EDE884A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BB628-5E20-4DC4-A1D9-ED7AE42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C9421E-2E27-45A2-9C53-F2432986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ACC54E-6A1B-4AB0-B429-B2084D1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ECF9-7E6E-4BD7-AF7D-30247B69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816-128E-454D-9569-C5E345F4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3E4D-3C6E-4828-B252-DB228EE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7C1B-7CB9-4369-9B13-BE6B02A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3667-0CC1-4297-94B4-A8C9B2A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5BB-5456-4574-8D3E-F24FEB4E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E97-742A-4181-83C6-D8ECF170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AF74-CF22-437A-9A08-D534D286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582C-1E7B-4775-9309-E4B2113D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1F2F-9173-40A0-942B-36DC1F1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6194-1F8A-4601-BEB4-0334B537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BFB5-409B-499B-9E2A-ABAC6559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77CA-0E67-4402-AB08-FF017EC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A505-C8AC-4069-A6D3-C21AEC12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8C12-1294-450E-B273-9071C3D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7806-3DD6-4F73-9927-185981A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EF0F-D464-449B-AEEA-F0498E5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92EF-DEAF-4622-9563-10107B2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7985-6CDD-478D-8F32-0DE8E1AA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8336-9C4A-406E-9A89-416376A3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B69C-49E1-4677-87BD-81543E3C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35E4-C598-4291-8E24-B3FEDCB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39A5-0D39-4D96-BC04-87350E8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F1DB-5666-4D4D-ACF1-302C6DDA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928F-9001-4456-B66A-A480EA7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13B5-BFBE-4CB6-BC15-01A2CC0F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2B50B-4BDF-4AE4-8BC3-C93E6B6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FB03-4189-4397-869D-82E0008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96AE-7CFC-45CA-A48E-FC870C2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79B9-8684-4F1C-9EFE-E2DC5938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88F2-8D4F-4BF5-B8BE-AC4DFC2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8E5A-C329-49E5-B603-93FBC63F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92D4-824C-4731-B88B-A80B0DBA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F985-6479-4182-8F78-86DFF2DB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6DC8-89AE-47CD-BEDF-9B452D9E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6D82-3EF3-47EA-BC6B-C70D500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EB8B6-1AA2-4D91-8D69-417F88E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AA882-936B-4E6C-B186-6E15180A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7F3E-3C53-47DA-9468-D37036E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9F7FB-90BE-460A-BD8D-A407903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1A847-C62D-4B93-A93A-DAC4E49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65430-3EAD-46B7-B7CA-FE97EC4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79BD-0165-4D0F-A5F4-44C8B5AA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7238-0DF1-4E88-9CD0-7A4C8B91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00CD-95B5-45A8-8E67-A51842C3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3332D-C210-4FEF-881B-798FF93C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E97C-6AB6-4583-88CC-A43D9492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F2CA-3B84-4EDD-9868-B6A6689C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5302-304F-4968-98A3-05322892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F286-D279-4585-89B2-26C5E70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CA6C-7E0D-4B01-A4A2-A8C9525B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E441-BCD3-4455-9D4D-B302D57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75DA2-F47A-440F-825F-AC8EA03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0F56-4DD0-411D-9B66-0F8D579F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7E8A-C1AC-4AA8-A6B2-11D12955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C1391-A63A-45C6-9E02-BA2AE4BA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94AB-6656-42E2-B38F-95C820F9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84DD-95BC-4488-A194-989EAB90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DE9FD-2123-4B76-AC62-D9EF39BE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97C1-9F3E-4B20-8698-8F2E063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24E5-6974-4383-9003-30BA9C0A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893B-59F4-4928-9756-524695CC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107F-F788-4DB3-8EE3-F07E3A1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95B4-3A04-41CA-B7D9-AC49A89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A914-8314-4768-8C39-A84135DA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CA4A-8FE1-4ED7-99CA-47B5F59A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3E57-1376-40BB-A7B7-3E9CCF7D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9F16-2364-4F2F-8096-271308FF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2A163-ABE7-4935-B105-FD80A3D9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68E94-1426-4108-8489-BEAB73B9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6BB8C-1BDE-472A-8DCC-17025E4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BAC5-12E5-4022-B90C-A9C553018EA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349D-9010-498D-9443-2064BBF415D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335C-E18C-410E-8CE6-69454E9F984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D01-25B9-4608-B8CE-34B338FB826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DBE6-1FA8-4213-B6EA-DF626714D4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0AE8-253D-4CC2-9B14-17EDC7D3CE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C91A-64EE-4141-BCA1-2C15C12B44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0E16-6BEA-4C62-BAB7-6772FC5638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0BB9-5C9C-4D1D-B694-E701B03A3B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C64-5A7F-42C5-B68F-6CDE45CD1C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5524-7C5C-42AD-B105-A7513887A5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4A9-A5AE-4136-97E9-9FD121C5A8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A54-DD87-4378-818C-302E79A692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DFCF-6449-4FA4-A143-DA302359A5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D85B-3688-43D6-BB38-C94BE4C780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7B5-1806-4CD4-BBEC-9F50EE0952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2020-22A9-473A-A342-BB7ECE2B2DE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65AF-88BC-477F-9F90-B803CA165CA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E59-EED3-45F5-A07D-9F714AA2557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DBD-A115-4918-8BCB-BFAF6CDE684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8FE-475C-4A8D-A83F-A619C34A8AA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3E40-ABAD-4791-ACB2-46202D1EF5C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FC00-F327-4CDE-A1EE-D0A4086B3CA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7034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百分数的综合应用（一）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386240" y="1574640"/>
            <a:ext cx="42624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欢乐农家游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百分数（二）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4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5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6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7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8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一新楼盘销售规定：该小区住宅的平均价为每平方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但每层价格不同，具体如下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1692360" y="3465360"/>
          <a:ext cx="6480000" cy="144000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1079280"/>
                <a:gridCol w="1079640"/>
                <a:gridCol w="1081080"/>
                <a:gridCol w="107928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一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二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三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四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五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六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均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10"/>
          <p:cNvSpPr/>
          <p:nvPr/>
        </p:nvSpPr>
        <p:spPr>
          <a:xfrm>
            <a:off x="966960" y="112536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小明的爸爸打算在该小区购买一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的四楼住宅，需要花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购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住宅的人中，付款最高与最低相差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1663560" y="2268360"/>
            <a:ext cx="65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0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%)×1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56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需要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56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1677960" y="4160880"/>
            <a:ext cx="650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0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%)×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28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0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%)×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416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28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41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6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付款最高与最低相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6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题目中含有两个或多个百分率，求对应数量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单位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的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综合运用知识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521000"/>
            <a:ext cx="72165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将正确算式前的字母填在括号里。粮油店里有一桶油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，第一天售出总数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第二天售出总数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第一天售出多少千克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第二天售出多少千克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两天共售出多少千克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第二天比第一天少售出多少千克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还剩下多少千克油没售出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4"/>
          <p:cNvSpPr/>
          <p:nvPr/>
        </p:nvSpPr>
        <p:spPr>
          <a:xfrm>
            <a:off x="4348080" y="2552760"/>
            <a:ext cx="42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　　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矩形 4"/>
          <p:cNvSpPr/>
          <p:nvPr/>
        </p:nvSpPr>
        <p:spPr>
          <a:xfrm>
            <a:off x="4405320" y="29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4"/>
          <p:cNvSpPr/>
          <p:nvPr/>
        </p:nvSpPr>
        <p:spPr>
          <a:xfrm>
            <a:off x="4392720" y="3497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4"/>
          <p:cNvSpPr/>
          <p:nvPr/>
        </p:nvSpPr>
        <p:spPr>
          <a:xfrm>
            <a:off x="5616720" y="3897360"/>
            <a:ext cx="6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4"/>
          <p:cNvSpPr/>
          <p:nvPr/>
        </p:nvSpPr>
        <p:spPr>
          <a:xfrm>
            <a:off x="4861080" y="439740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1187280" y="4786200"/>
            <a:ext cx="71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×(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%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×(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%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×2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×(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%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×15%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0"/>
          <p:cNvSpPr/>
          <p:nvPr/>
        </p:nvSpPr>
        <p:spPr>
          <a:xfrm>
            <a:off x="954000" y="148428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小明看一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的故事书，第一天看了全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第二天看了全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两天共看了多少页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第二天比第一天多看了多少页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4"/>
          <p:cNvSpPr/>
          <p:nvPr/>
        </p:nvSpPr>
        <p:spPr>
          <a:xfrm>
            <a:off x="1376280" y="310500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×(2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两天共看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页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1528920" y="490068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×(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第二天比第一天多看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页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10"/>
          <p:cNvSpPr/>
          <p:nvPr/>
        </p:nvSpPr>
        <p:spPr>
          <a:xfrm>
            <a:off x="954000" y="146844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我来解答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路队修一条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的路，第一天修了全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第二天修了余下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第二天修了多少千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4"/>
          <p:cNvSpPr/>
          <p:nvPr/>
        </p:nvSpPr>
        <p:spPr>
          <a:xfrm>
            <a:off x="1547640" y="368136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%)×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.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第二天修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0"/>
          <p:cNvSpPr/>
          <p:nvPr/>
        </p:nvSpPr>
        <p:spPr>
          <a:xfrm>
            <a:off x="954000" y="152100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同学们到某小区进行实地调查，小区总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平方米，其中空地面积约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绿化面积比空地面积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空地面积约有多少万平方米？绿化面积约有多少万平方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4"/>
          <p:cNvSpPr/>
          <p:nvPr/>
        </p:nvSpPr>
        <p:spPr>
          <a:xfrm>
            <a:off x="1547640" y="3681360"/>
            <a:ext cx="65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×5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空地面积约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平方米，绿化面积约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平方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0"/>
          <p:cNvSpPr/>
          <p:nvPr/>
        </p:nvSpPr>
        <p:spPr>
          <a:xfrm>
            <a:off x="954000" y="143820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种健身跑步机，原来每台的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先涨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售，后来根据市场情况又降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售。现在每台健身跑步机的售价是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4"/>
          <p:cNvSpPr/>
          <p:nvPr/>
        </p:nvSpPr>
        <p:spPr>
          <a:xfrm>
            <a:off x="1663560" y="3681360"/>
            <a:ext cx="65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0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2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现在每台健身跑步机的售价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0"/>
          <p:cNvSpPr/>
          <p:nvPr/>
        </p:nvSpPr>
        <p:spPr>
          <a:xfrm>
            <a:off x="949320" y="119700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六年级同学参加美术和科技两种兴趣小组，参加美术组的人数占全年级人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参加科技组的人数占全年级人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已知全年级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且每人都参加了兴趣小组。两种兴趣小组都参加的有多少人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4"/>
          <p:cNvSpPr/>
          <p:nvPr/>
        </p:nvSpPr>
        <p:spPr>
          <a:xfrm>
            <a:off x="1432080" y="39895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0×8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0×7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2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0×(80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两种兴趣小组都参加的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0"/>
          <p:cNvSpPr/>
          <p:nvPr/>
        </p:nvSpPr>
        <p:spPr>
          <a:xfrm>
            <a:off x="961920" y="130500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一个长方体的长、宽、高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。如果把它的长减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高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宽不变，那么所得图形的体积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4"/>
          <p:cNvSpPr/>
          <p:nvPr/>
        </p:nvSpPr>
        <p:spPr>
          <a:xfrm>
            <a:off x="1538280" y="328464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×8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所得图形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分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1:1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