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15EED-8370-4B5F-94B6-14E96692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44382-4966-40BB-B63C-598DF29B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D8E10-AA8E-4BB0-8F1E-DDA643CF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8DA75-25C7-4E06-96C7-7498BB15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86E6A-7BFA-48BA-BD50-F471E68F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94F51-666E-4642-AD9D-66269F1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93B38-E9AA-4A43-9D35-DC4C5468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55787-90C2-43B0-9DB8-03822551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CB47F-21CE-45D4-895B-49AB7A83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560A8-9973-42DC-BAB2-A4E58926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679A6-4146-43A5-AAF1-45A8807E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A4673-5A98-447E-8E49-6ECF120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43E86-02B2-4F9F-A6EC-1798D693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3B786-BC42-46A6-8680-7BB2DBFB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3AAC9-589E-4B0A-AE6C-D57C7EE6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651CF-F528-49DA-A14C-90791A42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095FA-6C91-4CDD-BDCD-12474BD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7003F-563F-41AE-A48B-1A9278E3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88508-EE4B-47B2-9D03-2EB7D2C0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FCDB7-74BC-4490-9A09-D9FF35D0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C13BC-0599-4518-9A1D-6F5900BB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CBC82-021F-4D14-B5DF-4D37568F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A4D48-FB30-4221-BEAE-83E3EE26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86FE1-F3ED-4F7B-ACFA-4466DB84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3A3FB-EC44-404C-9D9E-A82381FD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95B63-7C73-4619-B914-18FDC021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56BB3-034B-483C-BF54-7AE2ACC2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88C72-8DF9-444A-BB97-0DE3347E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14C79-A504-424E-A76F-720B31B5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2AE9A-6B32-46F8-8048-CA2577CC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CA4B-BF94-44C3-9BD3-D656F3A0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D5773-B61E-48A2-91EF-69918355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AE926-65F1-49C1-8690-EF201B00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B3DB2-C80A-43B7-A8A6-22C3B45D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09396-2265-4CE2-8C2A-0A5F74FD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52883-942A-4143-8998-CBC54E58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A640D-3415-43F4-8E5E-AFB936CC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89DFB-4B50-461E-B9CC-F3C6E6CF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C6869-6AE0-4BEA-BDEB-C4A5FC47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278C9-8B5A-4E07-B9F0-FC05D766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33971-3C5F-4A3A-8AF7-CC3E5A09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9F21-FB02-4D28-9E06-8E8F72F5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7B1AB-6D78-4384-9B68-C4655AA8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8BAAA-A136-4735-9AC5-474AB10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1C96E-F66E-425F-9678-260A9E21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58564-E723-4901-8F91-4DA7BF2B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3E7AE-EE33-4B17-8143-2A09E48C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36CA3-8F8E-419D-A01F-7F21FD33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D0E05-2466-4D3E-A04F-6EBD253B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094C7-8E68-4C75-9B8C-1527AD67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DB283-4525-4052-BA09-FA404DF5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84615-5CF9-4009-AAA8-B0DB789C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5E2-B62B-4D0D-9FB4-E358BAEC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8F164-B7AC-41DE-845B-EA84BF54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CCF7A-7A19-46B2-AA1C-A389D9B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3A7F8-F4D3-4E5A-BD6E-F932DF2D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BF96D-011C-4B91-A31D-842CBCC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9493A-1C0A-4374-AF66-7EF54311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0DC54-D70E-485E-A0D6-DA7B756D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04199-8CEE-4824-A350-4EAAACE0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03E8F-3D00-4635-A8C1-D1BD97AB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178B6-B192-4919-991C-56857B34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E4428-3295-4A0C-BA10-4BE0FE08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461-1D9D-4B67-B04C-E6B9D21B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B37B0-D5CA-4D4A-BA7B-FCA23CEB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6032D-F986-449C-A01F-2D94D990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E341B-916F-408E-B72A-E7D4A754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8E4A7-1855-4351-A857-850FD6D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97CBF-D79B-47C5-99EC-75E417E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B1FB4-1032-487D-A27A-A028AEE8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62629-6FE4-473B-87BB-12395C9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483B9-BA5D-4D28-9F50-5E140329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1003F-CAF8-4055-A0F5-2CDFF58E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4AB35-6197-4FEA-A52D-521850B6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519-F831-45C9-AF13-BF73722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9475F-C4FD-47D6-AC14-9DCCDEB3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BDBB5-E150-438C-8470-BB142F1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716A2-E56E-479D-A78D-7271ECAA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BD15C-F944-4681-A421-C42B7712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5BEDF-3769-40E9-BDA4-5090333B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B6575-4581-445B-B9E8-FED6539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D3EC8-4225-4371-8944-665E57B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6A3B4-7480-4B6A-AD54-14562140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338B0-1FB6-4603-B910-AAD7E3CC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A639C-D264-4473-9877-69A26A88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356-5535-4030-95FC-549BC455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4FB2C-A377-4A35-97E0-F864CA16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A6DA4-CFBC-4B0C-A510-B806CF5E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580B39-5FF9-43CF-B98E-5C308DC0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D2B1A-E25E-4B9C-A91E-90FAE51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1531C-0AB4-41B5-AB93-E0368796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3C06B-6B1F-4F17-A279-D91AD078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0486B-2345-49F9-AEDE-765E65E8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C572AC-EDCE-4C0A-8E6F-E9368B1D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62D35-9098-4EA7-8B2A-EAE133EA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1208E-2B23-472E-8644-A4C5A2F0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D5F-7FB2-4247-9D48-0111347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9BD64-D9AD-4A4E-8AF1-4D474778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4CCD0-6502-4647-A8DE-8F3A9B72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4388E-CF55-4037-BA98-01A02473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192712-74B0-4119-9AB8-7E614EF9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D7986-D219-4BE5-90F9-F7DBDE46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C9DD8-7C06-4B59-9CC3-AC36EB59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5AB8E-9C22-48C3-9C63-A8AA44FE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A0974-2586-4FFA-BF50-A6FF72DD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FA2B1B-5504-4F41-B259-10F1D884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3EAC3-E183-4965-8291-8FC7F923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598-2352-4083-B9CF-7264E74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66D16-3EBD-4B92-B6E9-DBD0058F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783BA-92ED-47FB-86AA-C42667B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2796F-1BC0-4ECA-8B58-C8585692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04211-9223-4542-9637-770B7ABC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D7DA0-577E-49A3-B2AB-4B5F91E8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8955D-999C-4890-A084-97A6E778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2348B-9776-4AED-A613-20C6A786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B81F6-A884-4223-B5ED-E82117B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282D40-F649-4CEC-B5CB-5AE43A76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E7BD1-E05B-42E8-BB4E-7B175280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8E3-3EDE-46A8-9696-DC775D10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20810-FBCE-4EF1-8E85-B7B77D4A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A10E4C-1366-4A9C-B6F0-F10BDF95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425FDB-2538-4882-9600-D36DB7E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EDCF9-4609-425E-B68C-9D6B1680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EB05A-9FAA-4C89-BD29-936B1BF2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ECBD8-A949-4ED1-83C7-1AA893D8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923690-346B-469D-948D-EBCBAE5E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A516A-A7B2-4BAB-85A5-14961406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2F63F-8630-47E4-9F5A-7FE97F6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559CB-CBFC-41ED-8B9E-448BA029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017-A853-4F57-922D-5580D3D9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ACF260-86A2-48BD-B0EC-F94A759D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F29D29-F7F1-455E-92A7-D7F3EDC5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F7796B-17F9-42F3-AD26-FBB74972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8CBBF4-C210-4334-A1A8-8F7CA0CC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689C8-2DB2-45C5-9F3B-AE8BEB2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299EB2-8BDA-4596-8C9D-ECB1A21D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83A3F4-B7F4-4825-94D7-368792A0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89EB23-BCC3-4110-8A3A-09285180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E9B34-BAB2-4430-8712-674DBC63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DD1385-0048-4E57-826B-11F05B1A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109-5F27-4077-B2CB-E8D68102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BC8FA-6C7B-445A-906F-FD55BF6A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98E31-51EC-4BE3-9E54-921D3EA6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188F3-AD05-4CB8-A258-ACACAB03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B1EA7-49C9-421F-977A-C6CA9B5B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43970-F6F6-426C-8E11-035FB8C2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0FB7E-E438-48DF-8E03-9E8CE183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F7A39-A809-4B2B-AF29-68212204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8BF46-E9DC-416D-ABC7-B5FF52F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CEA8F-EC22-4E06-9466-8DE84F7E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3EFCA-1161-4B38-B0F1-88883B1B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D0F-DD81-4069-B4FA-F045D66D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F7FB0-15C3-49A1-B091-2492F37D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B4FD6-902E-4BDF-8051-A0FB3504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6D007-F65F-4688-BAAA-C98B95F2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A9119-3B36-46F0-8634-791EF63C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6095E-8300-467D-BF45-8E2EC10F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FA5E8E-7BD6-49BD-9B18-66B34B93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8E7CC-8A2D-455A-837A-75DE9568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8084C-9072-4FB7-9A62-7E984B2D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F69693-BCD3-4215-801F-2073F33D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4FE65-3389-4BE3-900A-9C6C39CB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1BA7-ED80-4111-9C64-BC36CBDD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979645-A2D0-4EF1-89AB-F9390B07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2E836-03C5-4156-834D-9F103C3C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216560-BD87-47AF-A74F-443D26F1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AB80C3-1AD4-484A-A315-6C0056C3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38734-F7C3-4C25-AAEC-626789FD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BBD930-948F-4389-9A44-612EB859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D02460-EE93-4AA1-8029-E1955FF3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2D3CF7-D1ED-4F52-B81F-B230CBF5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11A82D-35F9-4C06-A449-89FA9B73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05CF1C-B367-42D5-8B05-B6C84874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F708-BB3E-4191-8419-3B007F83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652EF4-DB44-4F50-A206-FDFAF1BF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6E8CA4-9128-4813-9B7F-9592B51A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1EC4A9-F7CF-4AF1-933B-478ACF8E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4F1F13-80E8-4C24-8C64-3BDB1767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5575CE-6DA4-4521-B42A-0887AD0A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7EB390-0F04-4C2B-8470-22934654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FA740E-148C-470F-922E-DD3D613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479117-9CCA-4613-82D7-AB3A269A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123B72-6B93-4230-9790-4B5E4DE9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3EE069-88F4-4409-87E8-3541468F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3A33-998A-42F0-AD45-42831821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101222-407B-4CC9-8445-0B4AE2A2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3ADBB7-E6D3-4F49-81A9-4A8A01D0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BFF616-A9AA-473D-9558-BCF0FC7B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AE6D92-0CA4-44E9-AA6D-A612F55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EE313F-4635-4A2E-ACE3-424FEFCB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A342DC-0F7D-4703-AF40-06436F18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23E1DC-0C38-4FDF-8701-88582994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3EF170-0D42-48EE-A085-EFD0431C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C7014B-AA53-4704-BAAE-7D94944D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0B3E65-D179-4C6F-A06F-B0354625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D64A-875A-48DE-9B45-85EC550F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A8C3F6-E94E-40EF-803D-932D5636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11A527-35BD-44E9-B96B-C7B5DBA0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B92A6C-702E-4D2B-ADB2-AA385D56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C84C1B-C3B1-4CD1-953C-EB390B88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9FC10C-4971-4F93-9959-8573F442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FFDB6B-DC06-4EA5-A56D-261E140B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61F98F-F686-4A45-8ABB-275F1E74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F68D85-B167-4A14-84F6-5FC73A8C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B19F1D-058B-4AC8-B926-344677A9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920D-1867-44AD-8936-ADA8798D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20B8-FC26-4C1D-AB97-4C9F2816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9435-EEE9-4E53-8574-267CC3A0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B7D8-4C3D-403D-8D79-D98573E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A192-142B-472E-AD7B-5934B3E7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94DE-2A40-42C4-BA53-778E7C4F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D5F5-5F84-4E5A-9D7B-8BD588B4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0028-723B-455C-979A-3241F1E0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3FA60-B6BA-46C5-A2DD-59433F88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DD2A-0EB9-483B-BE18-D45111A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4969-DBD9-4EE8-AD06-89BCC3FA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4CC89-18B5-40AA-8FD2-F3839A57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ED304-D61B-40FB-9560-D4D45E55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04E7B-8C06-41F9-BC2F-33402AC8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7249-4472-4F3F-AFAC-37AB785B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6001E-61ED-45D5-B3DF-BB53F51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4AF9-FE7E-4D8D-93CE-7F31179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6038-A244-4D55-90D7-85018D66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A013-2D37-4168-88B8-1A8146B5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A7B8-136A-47DC-BBB1-9F142ABE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0561D-F854-4977-88B3-084193B9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42B3-807B-44A8-BCB3-859411CE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E201C-364D-42D6-83A0-A2EB4108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584FD-9D86-4DCE-90C3-76F12C7C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C6A2-EA25-4987-979C-8F38198D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A76F0-0808-4F7A-9B15-E3B9D8DA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B8CC1-51ED-4B62-981C-38B1099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4A815-A5A6-49E0-AE2E-B4493351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11F7-FEF7-4D8B-92A5-9D05ABC9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71D61-8C0C-4B03-A76B-A8BAF459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F847A-01FE-421C-B311-BF0B272F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3357-BC4A-4577-8AAE-D2DBDAC7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35818-1295-4065-9E20-B68273D9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3E54-03CE-4F95-8A29-DF45270F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BB3C4-DBAC-4ACC-BCE1-B3AB97E8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99157-2450-4FC1-930E-2D18AB05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A6816-1001-48E2-B2F5-86EECBAD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68D74-E1D5-4280-BC2A-ADED3972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B2F32-C878-4725-A830-0657E0D5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2F151-292E-480A-9168-9D53CF39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486BB-B778-4225-BE76-ADD910DA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39AD-8D8C-43A7-B0DF-2253895B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E7CA8-0CB9-437F-8719-B373C1C2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80A49-FA42-4442-9925-8E2E405B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1F58-F26D-4B0C-8DF6-4E05750A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48579-F718-4C67-90CF-D577BCE5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6E0FD-13D4-416B-B8FA-028A6485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34E6D-135A-41D7-8748-2D55EF92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446D1-51EE-41E9-A658-9F77701B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F79C-7843-426E-9B45-1093FC04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DD678-8CA7-4FC4-8F31-BAE45133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EB338-5878-46C8-A155-3FC97DC6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04D26-079C-4F0C-BCBA-CE3E8DA8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A9E3A-DE13-491E-9207-CA81541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B27D-1C13-4DBB-8713-88F4C7F9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1CC30-498E-487C-976A-B20F5012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FB430-A8D7-4E1E-89C4-5E917BE7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96B54-DFD3-4D07-880A-794EAB11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D0946-BC46-43E0-9C39-DC40F7E9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1811-2AB0-4632-8400-BA33E563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383CD-88F9-4007-80E4-65AF010A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DF5A5-5234-4430-BF17-2AEA607C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394DF-31D8-44BF-989F-702BFE8A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99200-FC41-4963-9F65-145430BE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F0F27-828B-4970-9AC9-FF0B2CBC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E4014-9FD3-4C57-875F-CCC7C0BA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5F535-B205-473C-9BB3-5C9E4B22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65821-9653-444B-8338-68C71D48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FB7C5-1697-4087-81EA-0C55595D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47D4F-4F26-4236-9E89-E6F891E4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1DAEC-438A-4665-82F0-4D831F4D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B9FC-5FB9-4A01-95AC-24CB5FCAE9F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67AB-05FE-45F2-ABC7-CA14547BECB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1A70-6421-42FA-934E-5122D9AFAA2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0353-2E95-4308-A0E7-A3F6A4D330A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A857-425E-41D6-8200-DFFC4D5A45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8F56-8D19-4ABD-B356-592206DCEE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F773-5A6D-4C96-AEFD-714F4A9311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84E3-5895-4884-816D-5E31CA97F36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B53A-2015-4DCA-8D79-DD924DBF91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575A-0606-4F22-BB01-BD99829514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4EAD-3F23-4DC0-9000-4D9EBCDF5F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2611-C81F-4B6A-9020-8F968460CB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43C3-90BA-4B6A-9FAF-CF05124F0B1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F62F-7AE4-4DEB-B783-CA7942F2183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D15A-3B85-4611-A8ED-AB39BAF428A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578B-AEE1-4589-9E7D-EF28CFD577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890D-834C-46F3-9D47-AE6A5648CB7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ECCB-0E07-498A-A896-9837AD6F255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C212-D9D2-498B-A4BA-CC409684C47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CB2D-5653-460F-AA77-A602B532C78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B1D3-45CB-44D5-A505-BBC047DC947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D232-A182-4F8C-ADFE-70327DC2B2E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35E2-62AF-4B20-A4F5-415C5AC35DE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2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3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5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6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7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89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六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0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标题 1"/>
          <p:cNvSpPr/>
          <p:nvPr/>
        </p:nvSpPr>
        <p:spPr>
          <a:xfrm>
            <a:off x="500040" y="18144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反比例的意义</a:t>
            </a:r>
            <a:endParaRPr b="1" lang="en-US" sz="5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4067280" y="1574640"/>
            <a:ext cx="46512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3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啤酒生产中的数学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比例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41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42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43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44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5" name="矩形 19"/>
          <p:cNvSpPr/>
          <p:nvPr/>
        </p:nvSpPr>
        <p:spPr>
          <a:xfrm>
            <a:off x="963720" y="123336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某酒店为迎接宾客，重新为酒店大厅铺地板砖。设计了以下几种铺设方案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981000" y="2455920"/>
          <a:ext cx="7201080" cy="1441440"/>
        </p:xfrm>
        <a:graphic>
          <a:graphicData uri="http://schemas.openxmlformats.org/drawingml/2006/table">
            <a:tbl>
              <a:tblPr/>
              <a:tblGrid>
                <a:gridCol w="2708280"/>
                <a:gridCol w="747720"/>
                <a:gridCol w="757080"/>
                <a:gridCol w="755640"/>
                <a:gridCol w="755640"/>
                <a:gridCol w="792360"/>
                <a:gridCol w="68436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每块地板砖的面积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m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的块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7" name="Picture 9" descr="xjt18"/>
          <p:cNvPicPr/>
          <p:nvPr/>
        </p:nvPicPr>
        <p:blipFill>
          <a:blip r:embed="rId2"/>
          <a:stretch/>
        </p:blipFill>
        <p:spPr>
          <a:xfrm>
            <a:off x="2525760" y="4184640"/>
            <a:ext cx="4092480" cy="209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矩形 1"/>
          <p:cNvSpPr/>
          <p:nvPr/>
        </p:nvSpPr>
        <p:spPr>
          <a:xfrm>
            <a:off x="1008000" y="141300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每块地板砖的面积和需要的块数成什么比例？为什么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9" name="矩形 2"/>
          <p:cNvSpPr/>
          <p:nvPr/>
        </p:nvSpPr>
        <p:spPr>
          <a:xfrm>
            <a:off x="1008000" y="386064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根据上图请你估计一下，如果每块地板砖的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8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大约需要多少块地板砖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0" name="矩形 1"/>
          <p:cNvSpPr/>
          <p:nvPr/>
        </p:nvSpPr>
        <p:spPr>
          <a:xfrm>
            <a:off x="1332000" y="1989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因为每块地板砖的面积和需要的块数的乘积一定，所以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1" name="矩形 2"/>
          <p:cNvSpPr/>
          <p:nvPr/>
        </p:nvSpPr>
        <p:spPr>
          <a:xfrm>
            <a:off x="3402000" y="503388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大约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7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块地板砖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916280"/>
            <a:ext cx="7169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判断两种量是否成反比例并说明理由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根据反比例关系填表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生活中有关反比例关系的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63720" y="1422360"/>
            <a:ext cx="71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判断下面每题中的两种量是不是成反比例，并说明理由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苹果的总质量一定，每袋的质量和袋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12"/>
          <p:cNvSpPr/>
          <p:nvPr/>
        </p:nvSpPr>
        <p:spPr>
          <a:xfrm>
            <a:off x="1560600" y="526428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反比例。因为分数的值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母＝分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所以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5" name="矩形 13"/>
          <p:cNvSpPr/>
          <p:nvPr/>
        </p:nvSpPr>
        <p:spPr>
          <a:xfrm>
            <a:off x="1411200" y="3094200"/>
            <a:ext cx="66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每袋的质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袋数＝苹果的总质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所以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矩形 1"/>
          <p:cNvSpPr/>
          <p:nvPr/>
        </p:nvSpPr>
        <p:spPr>
          <a:xfrm>
            <a:off x="1020600" y="461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分子一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分数的值和分母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矩形 1"/>
          <p:cNvSpPr/>
          <p:nvPr/>
        </p:nvSpPr>
        <p:spPr>
          <a:xfrm>
            <a:off x="1079640" y="1405080"/>
            <a:ext cx="58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非零自然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其倒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矩形 7"/>
          <p:cNvSpPr/>
          <p:nvPr/>
        </p:nvSpPr>
        <p:spPr>
          <a:xfrm>
            <a:off x="1706400" y="2050920"/>
            <a:ext cx="61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非零自然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与其倒数的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所以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矩形 1"/>
          <p:cNvSpPr/>
          <p:nvPr/>
        </p:nvSpPr>
        <p:spPr>
          <a:xfrm>
            <a:off x="1085760" y="380520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圆锥的体积一定，底面积和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0" name="矩形 7"/>
          <p:cNvSpPr/>
          <p:nvPr/>
        </p:nvSpPr>
        <p:spPr>
          <a:xfrm>
            <a:off x="1706400" y="4329000"/>
            <a:ext cx="60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为底面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高＝圆锥的体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×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所以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TextBox 1"/>
          <p:cNvSpPr/>
          <p:nvPr/>
        </p:nvSpPr>
        <p:spPr>
          <a:xfrm>
            <a:off x="971640" y="137628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反比例关系，请完成下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2" name="矩形 3"/>
          <p:cNvSpPr/>
          <p:nvPr/>
        </p:nvSpPr>
        <p:spPr>
          <a:xfrm>
            <a:off x="3922560" y="27082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3" name="矩形 4"/>
          <p:cNvSpPr/>
          <p:nvPr/>
        </p:nvSpPr>
        <p:spPr>
          <a:xfrm>
            <a:off x="5292720" y="27082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014" name=""/>
          <p:cNvGraphicFramePr/>
          <p:nvPr/>
        </p:nvGraphicFramePr>
        <p:xfrm>
          <a:off x="1692360" y="2763720"/>
          <a:ext cx="5759280" cy="1278000"/>
        </p:xfrm>
        <a:graphic>
          <a:graphicData uri="http://schemas.openxmlformats.org/drawingml/2006/table">
            <a:tbl>
              <a:tblPr/>
              <a:tblGrid>
                <a:gridCol w="755640"/>
                <a:gridCol w="684360"/>
                <a:gridCol w="718920"/>
                <a:gridCol w="720720"/>
                <a:gridCol w="720720"/>
                <a:gridCol w="719280"/>
                <a:gridCol w="718920"/>
                <a:gridCol w="720720"/>
              </a:tblGrid>
              <a:tr h="638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5" name="矩形 5"/>
          <p:cNvSpPr/>
          <p:nvPr/>
        </p:nvSpPr>
        <p:spPr>
          <a:xfrm>
            <a:off x="6875640" y="2708280"/>
            <a:ext cx="4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6" name="矩形 6"/>
          <p:cNvSpPr/>
          <p:nvPr/>
        </p:nvSpPr>
        <p:spPr>
          <a:xfrm>
            <a:off x="3132000" y="3392640"/>
            <a:ext cx="6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7" name="矩形 7"/>
          <p:cNvSpPr/>
          <p:nvPr/>
        </p:nvSpPr>
        <p:spPr>
          <a:xfrm>
            <a:off x="4572000" y="3398760"/>
            <a:ext cx="6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8" name="矩形 8"/>
          <p:cNvSpPr/>
          <p:nvPr/>
        </p:nvSpPr>
        <p:spPr>
          <a:xfrm>
            <a:off x="6048360" y="34322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矩形 10"/>
          <p:cNvSpPr/>
          <p:nvPr/>
        </p:nvSpPr>
        <p:spPr>
          <a:xfrm>
            <a:off x="954000" y="1268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甲、乙两地公路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，四辆不同的汽车行驶在这条路上的平均速度如下表：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4"/>
          <p:cNvSpPr/>
          <p:nvPr/>
        </p:nvSpPr>
        <p:spPr>
          <a:xfrm>
            <a:off x="4597560" y="422100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021" name=""/>
          <p:cNvGraphicFramePr/>
          <p:nvPr/>
        </p:nvGraphicFramePr>
        <p:xfrm>
          <a:off x="1763640" y="3213000"/>
          <a:ext cx="5837400" cy="1695600"/>
        </p:xfrm>
        <a:graphic>
          <a:graphicData uri="http://schemas.openxmlformats.org/drawingml/2006/table">
            <a:tbl>
              <a:tblPr/>
              <a:tblGrid>
                <a:gridCol w="2808360"/>
                <a:gridCol w="792000"/>
                <a:gridCol w="755640"/>
                <a:gridCol w="720720"/>
                <a:gridCol w="760680"/>
              </a:tblGrid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平均速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千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时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2" name="矩形 2"/>
          <p:cNvSpPr/>
          <p:nvPr/>
        </p:nvSpPr>
        <p:spPr>
          <a:xfrm>
            <a:off x="2400480" y="512136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把上表补充完整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3" name="矩形 5"/>
          <p:cNvSpPr/>
          <p:nvPr/>
        </p:nvSpPr>
        <p:spPr>
          <a:xfrm>
            <a:off x="5327640" y="423216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4" name="矩形 6"/>
          <p:cNvSpPr/>
          <p:nvPr/>
        </p:nvSpPr>
        <p:spPr>
          <a:xfrm>
            <a:off x="6156360" y="423216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5" name="矩形 7"/>
          <p:cNvSpPr/>
          <p:nvPr/>
        </p:nvSpPr>
        <p:spPr>
          <a:xfrm>
            <a:off x="7020000" y="422100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矩形 10"/>
          <p:cNvSpPr/>
          <p:nvPr/>
        </p:nvSpPr>
        <p:spPr>
          <a:xfrm>
            <a:off x="954000" y="1268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汽车行驶的平均速度和时间成什么比例？为什么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1332000" y="18781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反比例。因为汽车行驶的平均速度和时间的乘积一定，所以平均速度和时间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1800360" y="458460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0÷1.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这辆汽车的平均速度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9" name="矩形 1"/>
          <p:cNvSpPr/>
          <p:nvPr/>
        </p:nvSpPr>
        <p:spPr>
          <a:xfrm>
            <a:off x="963720" y="3382920"/>
            <a:ext cx="72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一辆汽车从甲地出发，经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到达乙地，这辆汽车的平均速度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矩形 10"/>
          <p:cNvSpPr/>
          <p:nvPr/>
        </p:nvSpPr>
        <p:spPr>
          <a:xfrm>
            <a:off x="963720" y="1160640"/>
            <a:ext cx="72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某运输公司要将一批建筑材料运往建筑工地。车辆的载重量与所需车辆的数量如下表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1" name="矩形 8"/>
          <p:cNvSpPr/>
          <p:nvPr/>
        </p:nvSpPr>
        <p:spPr>
          <a:xfrm>
            <a:off x="2303640" y="5192640"/>
            <a:ext cx="45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运送的这批建筑材料的总数用字母表示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039760" y="2313000"/>
          <a:ext cx="5460840" cy="1270080"/>
        </p:xfrm>
        <a:graphic>
          <a:graphicData uri="http://schemas.openxmlformats.org/drawingml/2006/table">
            <a:tbl>
              <a:tblPr/>
              <a:tblGrid>
                <a:gridCol w="2244600"/>
                <a:gridCol w="893880"/>
                <a:gridCol w="820800"/>
                <a:gridCol w="720720"/>
                <a:gridCol w="780840"/>
              </a:tblGrid>
              <a:tr h="657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载重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吨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辆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微软雅黑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3" name="矩形 2"/>
          <p:cNvSpPr/>
          <p:nvPr/>
        </p:nvSpPr>
        <p:spPr>
          <a:xfrm>
            <a:off x="1170000" y="36082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上表填完整。如果汽车的载重量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，所需汽车的辆数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。那么运送的这批建筑材料的总数用字母表示是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6004080" y="293364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6759720" y="2293920"/>
            <a:ext cx="7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矩形 1"/>
          <p:cNvSpPr/>
          <p:nvPr/>
        </p:nvSpPr>
        <p:spPr>
          <a:xfrm>
            <a:off x="903240" y="209700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反比例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7" name="矩形 2"/>
          <p:cNvSpPr/>
          <p:nvPr/>
        </p:nvSpPr>
        <p:spPr>
          <a:xfrm>
            <a:off x="960480" y="78912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712800" indent="-446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  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什么比例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1658880" y="4421160"/>
            <a:ext cx="58356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×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0÷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需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辆汽车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936720" y="32209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636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这批建筑材料用载重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吨的汽车一次运完。需要多少辆汽车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8:22:26Z</dcterms:modified>
  <cp:revision>1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