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FE1A-0973-40AE-9A12-D58CEF5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3A975-4E9E-456A-AECD-3F5053C6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630D-8ECE-43F6-9526-31E54B1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390B0-0B5C-4AA2-A0DA-EFE90F9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C62EE-B7B1-4F3A-9D59-E7C56BE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28A1-4A86-4A14-B4F5-99D07BA6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F287-68A5-4A29-A126-14774628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745AD-C6A5-4992-BA96-C3A6FC6C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E3052-2F5F-4DF4-A6DC-4AE280C3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3F357-A6E1-4604-BE16-FA219602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D3234-BAB9-49A7-B8D7-4B35DAD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6C51-D52E-4A3F-8CE2-4DD2227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AA4AD-9CE5-49F6-8FDC-85E18FF4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7F8D0-E407-4743-A735-F7F04031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5C75D-8C99-4335-A638-F123F86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74B48-A85D-4A3F-A4D7-16E7E80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AD378-8EAB-46D4-BA87-E868822C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35CA2-2773-470A-A6E9-7E12772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9EF33-805B-4442-BE1D-639615F6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552F-7460-4EF5-AD1A-AA198DEB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26D9E-13EE-4A87-A803-B3D79D3D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7180A-60DA-4F3D-B82A-2B41ADB0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870F2-C22A-4A2B-9B70-0AEBF95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013F2-981C-4F62-A390-9C6385B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45E9C-7A20-4626-9BCE-E71BE1D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5B86A-E4F4-4F82-8660-77BA8B4E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87314-E39B-44A4-9754-0A7E68A7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AF57F-4D5F-442B-9D6D-EDACDD04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2DAA9-62C9-4265-A256-381C902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1BE51-29F8-407F-807F-A9F9B4C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240-71D1-4EBF-943C-132FB7A7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57AA-F333-4D8F-BC5F-F6A781EF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E5284-1120-4251-BD66-C03BEC6A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5D5C9-0C3D-4DE6-AA31-9C62E274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6A0F5-0EF4-4431-8AE0-532B040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DDE0C-E882-4189-8C4E-A522B879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AEBB8-2210-4542-AF08-EED1F7B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7883C-66C8-45D5-A166-CA59473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CA65D-D0E1-4EDE-957F-EA8F9901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D7B8C-3EF6-4527-AD57-97065DEC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D9AA0-F877-4B2E-A728-569BAEF7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645-113B-4219-8590-4C7E7317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340FE-6EF2-4930-A636-0A93542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D4C42-1AD3-45BA-B109-B626469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54267-BE64-4106-A2DF-86D640A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1A9EF-316B-4A37-B361-68E1D381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ABDBC-74BD-44CB-98C5-52152644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F62C3-E4DD-4A21-899C-4BCDB6D2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53F78-6160-469C-8563-94BE1A4F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87553-81CD-497B-A823-FDE72DB5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411F6-6714-4D30-8E62-D2D64E78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51789-F70E-4BCC-B267-8BAAFEED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D91-4334-447A-B0EA-243E200E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32CA6-9B29-414E-B9FB-2B16A2A5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306C5-848A-4E90-95D9-CA1A350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9D99E-0F0E-445C-8064-1D98C06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7BF03-83B0-403A-BA30-861A0F0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508AD-6AB6-41C5-920E-02381893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2E8AC-3835-4D15-8836-CF66F426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2F37C-9F40-49A0-BC35-EE0E38C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858E0-D0BA-4CFD-9EC5-206B1681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ED95A-499C-482B-978C-346AB553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D541F-CF06-4786-9226-2F7AAC6A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156-792E-45C5-800B-B10AB30B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EEC2F-BE4F-48B6-B0AD-163C9E1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1A366-E7D1-4C95-82AC-5AFFA1F1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847BB-9168-4057-923F-C478F029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68128-A8DE-4EC8-A9EE-7FA5743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030B4-273C-4D01-AB25-83B3030B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3FE86-0AB7-453F-9A6F-D67B2194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48392-8514-400E-A17A-BE5962B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B527F-8E19-48AF-A11B-FBD38A9C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7DF99-BF57-44AD-8AF1-29585327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B8B24-2D79-485D-B446-C535006B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71F-B69D-44DD-9ED7-AB467C11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283FC-9256-46E7-A1D3-B6B5E1E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C5C16-6624-41E7-8EA7-764548ED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A10CF-9DCA-443F-9BB6-FBD41B0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6381D-2356-459C-818B-61E0E6AA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7F02E-42E3-4B92-8778-381F452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8C195-6349-4611-A950-5D518CE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01072-C323-44AD-826B-4CF1DCD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C1B02-CB3A-448C-AF5E-DB9D0AF3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A0DCD-4069-4606-9307-EAA1292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C7054-D196-46A6-86A1-E8172F1A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010-C286-4B17-8259-F94CED32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ADAC4-128C-498D-82FF-65FFC070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CDFD6-ADF1-406B-AC20-EB534457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194B5-B8F5-4D34-B8F6-6209F5B6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8BDB4-9521-49DC-A1A3-BAE7EFD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8588C-52A3-4473-9193-28ED268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2CA0D-FB48-4745-9963-6531A46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8AD13-7008-4BCD-A1A9-8F9BF81C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2354F-362F-4A0F-A280-F998819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60391-F381-4DFF-971B-8761A97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5D430-C9C1-4ED0-8537-A3D5E505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2CD-3A9F-433D-8AE5-E261C0B7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3EF8A-82A3-4414-98FC-6B1CA6FB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93FEE-2AF9-4856-AD05-7DBD2417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BEFC1-282F-4C1A-80E0-FBFCDA1F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B6F23-FA1C-4F72-87C6-CADE2FF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D183C-E6DF-4D7E-95DA-E83AAEEF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E9FC2-7B21-4BC9-BB8D-BA52AFDE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F20A4-7096-473D-B053-5526DEF5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14A1F-DC62-43D3-9672-AA0570CD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5134E-DD9F-4C9A-A00D-F3670D6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8B6C4-C1E8-4C70-A1DB-4AA9A47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D71-D4A3-47C7-A328-E5696D8E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8C13D-6CBD-4598-A635-3696FE7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33FD7-5849-4B70-8D7D-4C5FDDF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8FBC6-BE23-4979-B261-96383955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C99EA-BDC6-47AB-91A5-9A5560C1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E7909-14D2-4580-89D8-13FB4EBD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DDE46-9F9E-4BD1-A05F-039A652B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DD7C8-C846-4419-984E-99B011F1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622D1-84A3-42B8-9DC9-1FDC09A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09D57-45EB-4217-A3EA-4AE390E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22D4D-690E-472E-BCF1-1AD4BEFC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026-6A7C-4DD4-A8B9-93D34434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7348F-B393-4F5E-92E8-9F86CDAD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8E018-0756-4BC3-9C79-8F3662CF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B5285-7404-4E0E-9F63-F8E125CE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9228E-98EF-4861-9F92-DA6111AA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213C7-E649-4BFB-B4B7-B6EA629C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171D3-30AF-45A7-8CC8-FA09EF5D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3498B-842E-4B39-8D1B-2A31C3A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FA530-C0BA-4205-A423-3DA42BB7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CA3D4-46DB-4AB9-AD1D-6165B7E3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BAB5E-6CB8-4C5F-9547-61CB398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E03-376B-4458-8764-2FCF41F1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33D980-1A8B-479B-804E-EC1F062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6FF71-1BBD-442E-A1B2-1A2A428E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E192A-FD0B-4546-8F01-3896B7AD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E97C9-7002-4323-BBA3-AC92D03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C29DB-672A-4BB5-B304-7C5384C3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5CF58-55DC-4679-8695-3F89282A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99DEB-8C41-4326-8963-A08E3E4A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145F4-B3F6-42B6-9DE1-FD101FAF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41291-5CE2-42E8-A988-36A959C0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8F89C-5D53-45B1-9698-4A02A017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2FB-9A36-4840-A852-2E47D715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BAFFA-E000-422F-B50E-CD2C838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364CB-351B-45F5-B1A5-4BA9834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294CE-9410-4169-B0F6-B4F1B35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6A0A9-C5BE-4D3E-842C-9DB47B2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B959C-0509-4C56-A99B-CD53A2B1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571C0-5570-48B4-9E48-F0431500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1B756-A9DE-4C7A-84BF-F6230349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FDAB9-9A46-4F02-B421-517581A6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20253-6C93-46B6-A50A-DDCB997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D14C5-D7D1-47B0-BF7C-F1D99629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FFC-E189-46B1-8346-26F12846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74E57-C58B-44C0-B4A6-9034B198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2192A-5967-4EA1-8D49-B972B7A3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E7A40-C359-461E-AC79-AE2BE424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0F42F-E4EA-4634-95BC-019284E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EA255-8604-424D-BD85-C5BC045F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A06DD-5630-4635-825F-85FBA32C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2B9673-B289-4C28-A961-CD702A66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8B1C7-3F43-4B95-808A-8FA5627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5EEE6-747D-4810-9F4C-9F63ACB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69226-05F3-40DF-BC87-0DB8777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B2E8-02CE-4B8A-A9C4-B50C04EF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90124-70C9-41BE-BC59-5D6F4EDD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AB31B-7BBE-4DA7-9837-5AF0149F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688849-23B7-482F-B8DB-CC12D048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41B99-2E01-4815-9F4F-41309055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723AF-217E-4CC4-B88E-7DE53D57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C5DE7-BB28-4C84-A454-261BFAAC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1CFB0-4A6E-4216-AB72-61EAC08C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08D41F-DEF3-4385-9DAF-1353C326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4725D-2532-4B90-8FA0-4AC9FDE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A9E5A-8314-42A8-B505-5FF40A4A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DFE0-E9C5-4E1B-ABA0-A3DF384F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1F0627-278C-4DEC-AC7D-323B157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C8CEC-6D02-42CF-A263-7AC99A18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DA667-7D00-4F12-B35E-9ABE0777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4D304-E3B0-49ED-AAC3-BB22F924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BEAA6-3AB1-4AFA-A2EA-C0DF7F02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54AB9B-6573-4DDE-A23D-24006BA7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08078-9525-4879-A05B-3E4E84F1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6D423-786B-4E57-B7FA-8A07F6EB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0515A5-4149-438B-A252-D1A8D9AE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A5750D-BDB7-4B3C-8F59-D76784B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2AF-7AB9-4923-B897-D96BF487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4C4ED5-8C8D-4D0E-88FF-C0C5C317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46E619-BA20-41AD-A5DA-728EF2D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2F63D-84C4-4838-B510-68D17D6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8E6DBB-77CA-44ED-9A12-CD0FD6E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DF05A7-0C15-47E9-8304-2C95E29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263A0-159F-41C4-9096-0EF98AAF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305911-593C-42E6-8BD3-BEB31109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86D8A-E8D9-495E-A021-ADC50C47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929571-9FCB-4ECA-B0A4-7D157371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1BD592-D5E7-456F-9866-4E0C342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06D-3857-4E33-B66B-DCB2B0F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B183CC-380B-4A91-9CE7-DF5A44FC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001F1D-B4BF-430F-9083-9E51A0B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BC50FB-2AD0-45E5-9910-3B8A189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391BEB-2C5C-47E4-8A43-B9B7E3A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5B3442-5FF7-4EC3-9956-A7BDEB2E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C442F2-BF4E-495E-BF21-46E9D63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E2C507-D31A-435F-B7DD-00C3C9E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2C7E57-F23A-450F-A758-CA06AAD2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E86860-596F-4049-992C-72EBFD29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B9C0-F103-4235-8CAA-81C2A2D3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1F3B-5275-42A6-89AB-C05AEAA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A610-1645-4CC7-83EE-E847B60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EF33-FF8C-46F4-960C-48B58EE6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60F0-AA2C-470B-8307-44CC7DD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7145-CA11-41A9-A5A1-02426272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D1F6-8CE7-4646-BCF3-AA3B005F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43B-9F03-435A-BF91-2F4A1A7B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7BA2-2AC1-42B2-AD2A-645AFF0C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67E1-5338-44C3-AA45-5CCBF00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FD43-F5BF-4307-84BE-B64BC9BE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647C-2BA4-45FD-A9E7-42C97F26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11B3-5750-43EA-A9CC-EFAFD0C3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AFCD-05FE-4B32-B3DA-9DD01206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B395-3FD7-4295-98D4-F15C1863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EBDB-602C-4105-98F0-2856070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3036-CDD4-406A-A3F9-7DF55CF0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CB51-9922-417C-B1E5-EB7CE389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B295-9B43-48AC-B002-00AC6330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C3C6-58CE-4B78-AE74-F082E2F1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D6BF-8DF2-4BA2-88FA-C03DDE9E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71C90-A5A0-4839-B212-CB6908C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6A3D-F440-4674-9356-4E8817C6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E70F-2B22-40A5-A6A4-4E30344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1528-EB78-43FC-954C-D1DB8B1F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2E2F-5EB4-46BA-B199-640E5059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C851-675C-4F3F-94C2-751C0D6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11FD-049E-48F5-9854-4DC4739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A049-D064-4C09-9E0C-D9453CB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8C79-0E19-4483-B181-78C98B99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23E2-5644-44A4-AE7F-64C753A9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64AC-A0CA-4952-9FAA-64AC5F85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22FA4-9242-47C1-B6E7-6D967A2F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BC623-859D-4E2E-A898-2B2A7376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9F7C-E32E-409B-B655-0DE31E9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6769-42B4-419E-9355-2B5CC8B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A5BC-FA2D-4A53-836D-C6D2F82A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F09A-6C67-4BF5-9CF1-9F6303FD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8BCE-53D4-4925-9F3E-8191251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97FD-F853-4E83-90DB-0C0385A9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B5E2-005B-4161-BC3D-3B45481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F866-2C26-4E3A-B5BE-77969021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7C61-4C83-4463-B8DC-B91BF9B0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97AC-F1EF-43A3-9A8D-CA30B4F1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6CC4-EB47-4FCE-BC44-4C1659F9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BCAB-5C5D-493A-9CE3-72D640B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AA648-BF75-44D5-AC6A-89A241E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F5103-B428-4202-9E23-9C8E528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08B6-9B6B-4600-89AF-3767AD2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9A049-3B37-4D79-A04D-D1EADF6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64309-3686-43C2-956F-2BA0A94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1465-183F-4B78-865C-E367DA9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EA2A-AC74-4D24-9691-B2E50A26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D3B8C-A122-4122-8370-93931C6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F8949-D2A4-4EDD-8123-BD34B294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9854-8BB4-4993-BFAF-61D72C73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F017-8082-423F-AD7E-15CDFB3D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0C76-28FF-449F-BF0F-1A9ED67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A051-3641-4BD2-A308-ADA529B1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FAF97-C1DD-472E-92FE-5BA572E9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96AAE-2E02-4EC0-A738-116A813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C39C-2198-4D1F-922C-BE131B4C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C9CA4-726C-4527-BD0C-3B70A89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DF4AF-25BE-4D85-95D7-50DB5170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47C2A-3D10-4A06-A69E-35466F1B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5B67-428D-4194-836C-A1763793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B989-F436-4072-9D39-15926D28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80FDB-B2AF-4EAF-AC5F-31740018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AB58C-69E6-4E39-90F6-20D71AF5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73360-5AF0-437D-B8AD-8E069811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E8DD2-BB3B-4BEC-BB97-F738D632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C901-D3A5-4A37-B49C-6DFBF078484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FAFB-94F0-483F-B3C6-FF1054D8DD9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E88D-D027-4CC3-95F4-413BC82F016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01D9-22F6-4ED0-9C51-C7799652C91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1A8F-2EE0-445E-9895-B2ED4F04FA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3402-AFC2-401A-966E-2BC992420C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B49D-1992-4F0F-AD13-76D3829750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3B24-1E20-4C09-A6C5-8E75F46B44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CCD2-82AD-4282-BDD6-5AFC4B4A29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885-E874-4CCF-AAA2-99B79F55BD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F7B-4A20-4C50-A20A-22597F9486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AFCF-B2B9-4598-862D-B2117657BB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51A-7199-4FEC-AD7F-4DE267D325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CCB-6476-440D-9B48-B8C05BE254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405-1637-485F-84C4-88673C4979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64D-C9DC-430D-ABD6-91431CB773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ABF4-FADB-4EF9-AB36-D36C6783EDD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A4CD-7D7F-41AC-89EB-C8E9AF6C63B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8CE-0B9E-4205-B5EA-AFFA801751B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F03-4D1B-4763-89E9-14495148024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D56-5AFB-446B-80DF-77D3B73F9D1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09A2-1574-4D0E-BBA4-35FD38BFE7D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3631-204A-4F28-89F3-1E3E285F4B7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971640" y="1959120"/>
            <a:ext cx="7200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实际距离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5724360" y="1566720"/>
            <a:ext cx="36007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4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快乐足球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比例尺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矩形 1"/>
          <p:cNvSpPr/>
          <p:nvPr/>
        </p:nvSpPr>
        <p:spPr>
          <a:xfrm>
            <a:off x="755640" y="126828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在比例尺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图上，量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地相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如果甲、乙两车分别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地同时出发，相向而行，甲车每小时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 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乙车每小时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2 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几小时后两车相遇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1" name="对象 3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898560" cy="613080"/>
          </a:xfrm>
          <a:prstGeom prst="rect">
            <a:avLst/>
          </a:prstGeom>
          <a:ln w="0">
            <a:noFill/>
          </a:ln>
        </p:spPr>
      </p:pic>
      <p:grpSp>
        <p:nvGrpSpPr>
          <p:cNvPr id="1032" name="组合 5"/>
          <p:cNvGrpSpPr/>
          <p:nvPr/>
        </p:nvGrpSpPr>
        <p:grpSpPr>
          <a:xfrm>
            <a:off x="1295280" y="3716280"/>
            <a:ext cx="7021800" cy="1811160"/>
            <a:chOff x="1295280" y="3716280"/>
            <a:chExt cx="7021800" cy="1811160"/>
          </a:xfrm>
        </p:grpSpPr>
        <p:sp>
          <p:nvSpPr>
            <p:cNvPr id="1033" name="矩形 2"/>
            <p:cNvSpPr/>
            <p:nvPr/>
          </p:nvSpPr>
          <p:spPr>
            <a:xfrm>
              <a:off x="1295280" y="3787560"/>
              <a:ext cx="7021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÷ 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0000000(cm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00 km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00÷(4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2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小时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小时后两车相遇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4" name="对象 4" descr=""/>
            <p:cNvPicPr/>
            <p:nvPr/>
          </p:nvPicPr>
          <p:blipFill>
            <a:blip r:embed="rId2"/>
            <a:stretch/>
          </p:blipFill>
          <p:spPr>
            <a:xfrm>
              <a:off x="2807280" y="3716280"/>
              <a:ext cx="1057320" cy="72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36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37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38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39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0" name="矩形 19"/>
          <p:cNvSpPr/>
          <p:nvPr/>
        </p:nvSpPr>
        <p:spPr>
          <a:xfrm>
            <a:off x="963720" y="1109520"/>
            <a:ext cx="721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下面是小明周末坐出租车去展览馆的路线图。已知出租车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以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按起步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计算，以后每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车费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。请你按图中提供的信息算一算：小明付的车费是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1" name="Picture 9" descr="XT10"/>
          <p:cNvPicPr/>
          <p:nvPr/>
        </p:nvPicPr>
        <p:blipFill>
          <a:blip r:embed="rId2"/>
          <a:stretch/>
        </p:blipFill>
        <p:spPr>
          <a:xfrm>
            <a:off x="6119640" y="3321000"/>
            <a:ext cx="19274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042" name="组合 8"/>
          <p:cNvGrpSpPr/>
          <p:nvPr/>
        </p:nvGrpSpPr>
        <p:grpSpPr>
          <a:xfrm>
            <a:off x="1420920" y="4417920"/>
            <a:ext cx="6508800" cy="1903320"/>
            <a:chOff x="1420920" y="4417920"/>
            <a:chExt cx="6508800" cy="1903320"/>
          </a:xfrm>
        </p:grpSpPr>
        <p:sp>
          <p:nvSpPr>
            <p:cNvPr id="1043" name="矩形 4"/>
            <p:cNvSpPr/>
            <p:nvPr/>
          </p:nvSpPr>
          <p:spPr>
            <a:xfrm>
              <a:off x="1420920" y="4428720"/>
              <a:ext cx="650880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)÷ 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800000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千米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1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)×1.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4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元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小明付的车费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元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4" name="对象 3" descr=""/>
            <p:cNvPicPr/>
            <p:nvPr/>
          </p:nvPicPr>
          <p:blipFill>
            <a:blip r:embed="rId3"/>
            <a:stretch/>
          </p:blipFill>
          <p:spPr>
            <a:xfrm>
              <a:off x="3061440" y="4417920"/>
              <a:ext cx="92232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求图形的实际面积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比例尺未知的情况下求实际距离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生活中有关求实际距离的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521000"/>
            <a:ext cx="70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在一幅比例尺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平面图上量得一间长方形教室的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这间教室的图上面积与实际面积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对象 1" descr=""/>
          <p:cNvPicPr/>
          <p:nvPr/>
        </p:nvPicPr>
        <p:blipFill>
          <a:blip r:embed="rId2"/>
          <a:stretch/>
        </p:blipFill>
        <p:spPr>
          <a:xfrm>
            <a:off x="3887640" y="1530360"/>
            <a:ext cx="439920" cy="611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4"/>
          <p:cNvGrpSpPr/>
          <p:nvPr/>
        </p:nvGrpSpPr>
        <p:grpSpPr>
          <a:xfrm>
            <a:off x="1379520" y="3429000"/>
            <a:ext cx="6518160" cy="2288520"/>
            <a:chOff x="1379520" y="3429000"/>
            <a:chExt cx="6518160" cy="2288520"/>
          </a:xfrm>
        </p:grpSpPr>
        <p:sp>
          <p:nvSpPr>
            <p:cNvPr id="1006" name="矩形 12"/>
            <p:cNvSpPr/>
            <p:nvPr/>
          </p:nvSpPr>
          <p:spPr>
            <a:xfrm>
              <a:off x="1379520" y="3429000"/>
              <a:ext cx="6518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÷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500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÷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00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×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5×1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50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间教室的图上面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厘米，实际面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5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07" name="对象 2" descr=""/>
            <p:cNvPicPr/>
            <p:nvPr/>
          </p:nvPicPr>
          <p:blipFill>
            <a:blip r:embed="rId3"/>
            <a:stretch/>
          </p:blipFill>
          <p:spPr>
            <a:xfrm>
              <a:off x="3305160" y="3429000"/>
              <a:ext cx="43992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对象 3" descr=""/>
            <p:cNvPicPr/>
            <p:nvPr/>
          </p:nvPicPr>
          <p:blipFill>
            <a:blip r:embed="rId4"/>
            <a:stretch/>
          </p:blipFill>
          <p:spPr>
            <a:xfrm>
              <a:off x="3305160" y="4005000"/>
              <a:ext cx="439920" cy="61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矩形 1"/>
          <p:cNvSpPr/>
          <p:nvPr/>
        </p:nvSpPr>
        <p:spPr>
          <a:xfrm>
            <a:off x="1044720" y="14130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写出图上面积和实际面积的比，并与比例尺进行比较，你发现了什么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1871640" y="292428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上面积和实际面积的比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∶25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发现：面积的比是比例尺的平方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1"/>
          <p:cNvSpPr/>
          <p:nvPr/>
        </p:nvSpPr>
        <p:spPr>
          <a:xfrm>
            <a:off x="880920" y="12682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在比例尺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∶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纸上量得一个圆形花坛的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这个花坛的实际面积是多少平方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2" name="组合 2"/>
          <p:cNvGrpSpPr/>
          <p:nvPr/>
        </p:nvGrpSpPr>
        <p:grpSpPr>
          <a:xfrm>
            <a:off x="2401920" y="3213000"/>
            <a:ext cx="4597200" cy="1739880"/>
            <a:chOff x="2401920" y="3213000"/>
            <a:chExt cx="4597200" cy="1739880"/>
          </a:xfrm>
        </p:grpSpPr>
        <p:sp>
          <p:nvSpPr>
            <p:cNvPr id="1013" name="矩形 6"/>
            <p:cNvSpPr/>
            <p:nvPr/>
          </p:nvSpPr>
          <p:spPr>
            <a:xfrm>
              <a:off x="2401920" y="3213000"/>
              <a:ext cx="4597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÷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000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60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.1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826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个花坛的实际面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82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14" name="对象 1" descr=""/>
            <p:cNvPicPr/>
            <p:nvPr/>
          </p:nvPicPr>
          <p:blipFill>
            <a:blip r:embed="rId1"/>
            <a:stretch/>
          </p:blipFill>
          <p:spPr>
            <a:xfrm>
              <a:off x="3419640" y="3218760"/>
              <a:ext cx="49140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矩形 10"/>
          <p:cNvSpPr/>
          <p:nvPr/>
        </p:nvSpPr>
        <p:spPr>
          <a:xfrm>
            <a:off x="954000" y="1268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甲零件实际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，画在图纸上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；在同一张图纸上，乙零件的长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乙零件的实际长度是多少毫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6" name="组合 2"/>
          <p:cNvGrpSpPr/>
          <p:nvPr/>
        </p:nvGrpSpPr>
        <p:grpSpPr>
          <a:xfrm>
            <a:off x="1663560" y="3465360"/>
            <a:ext cx="6508800" cy="1739880"/>
            <a:chOff x="1663560" y="3465360"/>
            <a:chExt cx="6508800" cy="1739880"/>
          </a:xfrm>
        </p:grpSpPr>
        <p:sp>
          <p:nvSpPr>
            <p:cNvPr id="1017" name="矩形 4"/>
            <p:cNvSpPr/>
            <p:nvPr/>
          </p:nvSpPr>
          <p:spPr>
            <a:xfrm>
              <a:off x="1663560" y="3465360"/>
              <a:ext cx="6508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0 ∶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 ∶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÷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毫米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乙零件的实际长度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毫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18" name="对象 1" descr=""/>
            <p:cNvPicPr/>
            <p:nvPr/>
          </p:nvPicPr>
          <p:blipFill>
            <a:blip r:embed="rId1"/>
            <a:stretch/>
          </p:blipFill>
          <p:spPr>
            <a:xfrm>
              <a:off x="3239640" y="4001400"/>
              <a:ext cx="24732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"/>
          <p:cNvSpPr/>
          <p:nvPr/>
        </p:nvSpPr>
        <p:spPr>
          <a:xfrm>
            <a:off x="719280" y="1268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在一幅比例尺是                                 的地图上，量得甲、乙两地之间的距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王老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甲地开车驶往乙地，如果每小时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他能赶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乙地召开的会议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2"/>
          <p:cNvSpPr/>
          <p:nvPr/>
        </p:nvSpPr>
        <p:spPr>
          <a:xfrm>
            <a:off x="1943280" y="4130640"/>
            <a:ext cx="57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2×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0÷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时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他能赶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乙地召开的会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1" name="Picture 4" descr="T45"/>
          <p:cNvPicPr/>
          <p:nvPr/>
        </p:nvPicPr>
        <p:blipFill>
          <a:blip r:embed="rId1"/>
          <a:stretch/>
        </p:blipFill>
        <p:spPr>
          <a:xfrm>
            <a:off x="4103640" y="1449360"/>
            <a:ext cx="2643120" cy="3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矩形 1"/>
          <p:cNvSpPr/>
          <p:nvPr/>
        </p:nvSpPr>
        <p:spPr>
          <a:xfrm>
            <a:off x="880920" y="4653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请把图中的线段比例尺改写成数值比例尺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2"/>
          <p:cNvSpPr/>
          <p:nvPr/>
        </p:nvSpPr>
        <p:spPr>
          <a:xfrm>
            <a:off x="2556000" y="5337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∶2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4" name="Picture 2" descr="T46"/>
          <p:cNvPicPr/>
          <p:nvPr/>
        </p:nvPicPr>
        <p:blipFill>
          <a:blip r:embed="rId1"/>
          <a:stretch/>
        </p:blipFill>
        <p:spPr>
          <a:xfrm>
            <a:off x="1432080" y="1881360"/>
            <a:ext cx="6099120" cy="26636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1222200" y="1449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1"/>
          <p:cNvSpPr/>
          <p:nvPr/>
        </p:nvSpPr>
        <p:spPr>
          <a:xfrm>
            <a:off x="820800" y="3306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小明每分钟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他从家到汽车站要走多少分钟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7" name="矩形 2"/>
          <p:cNvSpPr/>
          <p:nvPr/>
        </p:nvSpPr>
        <p:spPr>
          <a:xfrm>
            <a:off x="1360440" y="1628640"/>
            <a:ext cx="70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题图上量得小明家到学校的距离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5×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小明家到学校的实际距离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38080" y="1089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小明家到学校的实际距离是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344600" y="443700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题图上量得小明家到汽车站的距离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×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0÷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他从家到汽车站要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钟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3:03Z</dcterms:modified>
  <cp:revision>1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