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95FF9-AA5A-4A5D-A468-F2BC018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D690-AE5F-4C8C-9ABF-4C58BBF5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FFD5-CD2A-490F-8CD0-B8C9B3F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9657-C5ED-4AA5-8A8A-55066D0D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3988-A339-47EC-BE7C-185CC64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B694-FFAA-45F6-8FD4-6B9CC74C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E33D3-CE80-4C42-81DA-6979816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D97C3-4619-4AE8-B483-4403E5D2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C9C03-29C2-4A80-9F62-0DFF4ACF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9626D-A2BA-40E5-A01A-C7912AC4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A01B6-6D2C-40C2-B792-EB7B35AF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17B70-8FFA-4226-BF7F-AF10FA26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97F0F-0A39-4A39-BFB6-B2E9F1DC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C9CCA-B284-4BE0-A74E-09A7409B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2374C-5705-4134-9386-15254497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F1ED2-590C-4D87-A393-BD875A3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C4FD8-3205-4ABB-9328-EF6C9F0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CFE25-18AA-4312-A8B9-AAE864E1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CE5C-E6B1-4BE2-9A34-EC9F433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31047-282F-4307-8E4B-96BB73D6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42B3D-C085-4CA8-BDC6-81C62B23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E4B0C-12B0-439A-AF63-1D9C27C6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B95EC-6051-404C-861F-EB621DD4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DD07-5686-486C-A251-7363FC42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CA143-4D35-4BB9-8D9B-2649367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FB964-3208-486C-961E-15EB5B3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9EFDF-F5D9-4030-B3C2-635B503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2ADC4-3FD1-4442-B7AD-0C06DB50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A10DC-59DA-46FA-9FB8-C7A0FA80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D4544-85FA-4758-A676-F2576FF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BA3-5FB7-4FA1-8CCC-2C023CFC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8AFA-89B1-466A-833A-3A0ABE9E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910CF-AD2A-4562-965B-7FE85032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1FCC4-50A3-4AD5-B5C1-6E574309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F030A-B8A0-4DDD-8AE3-C428F3F4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E63BF-AEA5-4635-ADDC-5C6FDB6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54228-64BB-4A10-BE0F-97CD860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87420-75F6-47B8-9971-7F18F847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0DED5-0DB7-4D49-A5C4-E445FDAF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91DBE-D8E2-4735-A62C-7C99E3C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50CA7-A875-445A-B0FE-09D71CE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4CB-6B05-4537-8019-5918CB11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68428-7461-401B-942C-B99D974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A5B36-116A-4FF1-B19A-8E1ABB75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68054-5F90-4379-9A4E-156660FD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DEA96-9D5A-462C-8D62-960CE825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C5ABB-2E8E-49D0-9CC5-B28D8558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0A2B8-86CE-4851-8848-F6BF4CD5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D8135-F7E1-4D25-B487-57429D4D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B2D31-98B4-49CF-8880-E2E7F635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19018-474A-47D3-AED2-E57D91AE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6DD69-55C5-4DDA-845D-179DBBB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E10-5712-4691-84A6-7BEDC1EB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C5EDE-7C0C-43D4-81DF-8441B056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E0261-E8E8-432D-A97D-0B72023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4AB6D-A1E8-48D8-966B-99DC310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305ED-3591-438D-B231-95A996A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41860-439B-472F-B2B5-FB9D8F76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58E86-0101-4354-B8C7-8E6A1891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CCB60-8D2A-4A95-808A-2411473E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403FA-7670-4CF4-9C3D-5E9057F4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294AA-9944-4ADE-AEBF-10E78D31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39303-E50D-4E7E-9827-0CF8A4B4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7BD-A272-4A25-A833-FDE7613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BA10D-5CF1-4CA4-94E3-181666F6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DBF3B-844E-410D-B756-537341AB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977DA-88D1-4558-BE70-EA80C21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69641-76F7-471F-BAC9-4AA7C2C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DF880-B0AD-4434-B020-F72CDD9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CFCD6-172A-40C3-B142-ED90371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CA580-80F2-4254-BF75-985DC95A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3D5C5-3805-464F-B020-498B8A3E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98049-B74A-4279-B812-699F50C0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70FCF-74FA-495F-A807-5AF1CC5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993-A531-4261-BB1C-F07CAFC0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7B32D-4DE9-41BE-A4EF-28606078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68775-3738-44E4-8B63-8DE11FD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7A22C-E3EE-47F2-B91C-8D3A63B8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18CDC-C331-49E3-92E1-9E370F99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4E28D-98C3-4B81-A57D-539808F1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DD2A6-977E-433C-8819-FA00442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CA224-8385-482D-8BEB-FA16CA4A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C9BBF-0E77-456F-A55C-3F12569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08B17-D9D8-4CE0-A3C1-786E1A51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50834-E9C2-457B-9955-F8B2AF20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82B-E128-4A1B-991D-5AB1B4FA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D6DA8-A347-461C-A6FD-33CCDB5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D42A5-9B3A-45F5-B993-B5E0C057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12087-06CB-4376-B185-16607AFA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F68C9-FC8B-4C27-88AF-F05F90EA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6B2E9-3127-42B9-8DD1-CF5AA9A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7DB97-24FB-494B-80A4-E11BB54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762B1-BCFF-4490-B43A-62B010BC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97B38-C670-4DEA-A9AB-551132D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DB9BF-C7F3-486C-8205-A18F2798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E4D69-510C-4145-A253-FFAB9C4E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1BE-5666-4696-865F-459C3E5A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3847C-FC2B-4B9A-84B9-E8B3A638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81242-327D-4DCE-9C0D-E15C104A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61182-3DD3-4551-B4FD-896CBF5C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88B7F-F246-4E7B-B588-2D25079C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0C528-F9BA-4A7D-B797-722E073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2FF31-DF4E-45B5-BC86-D6A7DF24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5E5CC-5446-4948-BDAC-84E9DC80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656D4-B6D7-4F5F-B043-2430BB0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27B32-1423-4E6B-9015-D0CB9BE2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D7EB2-B8B2-4AA4-80B8-034DB8C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CA6-2AEE-49D7-B135-8053537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F4F50-39FB-49C6-AB7E-83BB2A3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E4AB9-7CE3-40EA-A27E-84DC58F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E6FF7-2433-4812-B9B3-45CBB03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A9D30-D336-4E0F-B975-27268ADA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E2455-F77E-40D7-A72A-2ADE24E5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493F3-4990-4E18-B795-C2AE60BB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7F360-A92E-41B2-AC34-31DDDF6F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8AF78-0DBA-49BD-994C-D67E6F66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EA682-6016-46C6-84F5-CE59320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0646F-270E-497D-B5C3-5051F03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D5B-DCA0-4AA8-8C7B-F8AC9E9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DF52A-F33B-4479-841D-CAF2E28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50528-0A28-465A-943A-FE5E7C5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40A8E-2E21-4C8F-8654-AB77D9F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E395E-F9FD-47CA-B5B7-E48CB87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212849-E5B0-4D0A-8594-E559E95A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53E7D-2215-468A-93A5-ADF804E3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6DE60-4404-4AF4-92F7-1EAF9C60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467D83-F37E-40AC-8C8D-2E11DF7B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51512-D7BD-4D45-AA84-C2BE0584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43557-CFFD-43BD-93E0-1C74798E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016-FD1A-4853-B117-239BB9E0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E5620-BF25-48A3-B6F2-E6B8543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4575A-495D-434A-A3BC-B67E1B49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44E75-0482-4D05-8C29-31E70855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4DA64-CB92-45C0-93C9-49B80163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0915C-0618-4751-BE42-1ED361DF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23458-0E9D-4CD7-8491-588FCA2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3DF0A-9B0F-43F4-8EF1-6AC47C1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6C15C-9820-4BB6-BC29-F9D7957D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8ADB8-815E-4852-8914-3733F3FC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A91EF-50D8-408A-B712-5BED9665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1A9-F3A4-46C3-8051-7F600CA2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45A42-3851-4FEC-BF2B-169CBC9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FC7BF-B7E5-4F25-B7C0-F3C41C53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1540B-E896-480B-9C66-F2A9603B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D5FDF-D7E0-4D8F-920E-68B2FBBC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D8686-163A-4B4D-A6B8-4E4CB685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D572A-51DF-43F0-A735-97A92747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50219-49B5-4218-8684-DE27B50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154E2-D129-414C-82B0-F756477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66979-622E-410E-A6FD-2E99CA9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4AF16-A492-4DBD-BDD1-9B15D801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820-D9F6-474D-92C8-FC37FDF1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2F18F-9283-4FE3-AD4F-232B988E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5F34F-DE0E-4151-92C2-E78D43EA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5E6FF-48F1-419D-947B-A6EB99F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863D3-A838-47CF-AEE5-3E66ACCB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1C891-2E61-4047-9E52-AC892E26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0BF62-7394-4B6C-BAC3-D0C963EB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754B7-7793-42A0-A161-0C35492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3520B-1D9A-4DBC-9D73-124E0E1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A6892-D218-4E68-8390-093ACEC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2EDCA6-D58C-4EE9-9BB4-509E4296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0F0A-649D-48E5-BB4C-6B0F21BD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D060B-47D9-4D1F-9E8D-1F65894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F08FA-1BEF-42DD-9A8A-820F82C4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CF35F-A6E9-42F0-A4E2-7AB81B06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F6C1A-984C-45DE-856E-C30C1CC9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E04C8-BB0B-4858-AD99-6ABBB623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2C47A-2D45-4317-B9A0-B640CB03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B4618-0765-412D-ADCF-F507BC00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BF1C36-391D-4F19-B818-8CA48A9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0305A-9D23-42F0-9061-3CE8006D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F8449-4B17-4594-9CCA-56F6E1F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CF5C-E031-44E6-9342-AD2037CF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EEB3D-BB08-468D-BC2B-6B6E535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B6AA8-C3BB-4CBA-9EC1-77AF360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04BC22-1DA4-451E-82E3-FBD8D34E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8E21FE-9654-43D3-9F79-0A597D00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03A31-FFFD-4D94-ABE7-1049B072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8E3DF1-0990-4D5A-B290-0A814A69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401FC5-4C46-4CAB-9D76-70ED3246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A79A5F-3FA1-45D1-BA01-2DC65C66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2EE0B-C972-4F4E-98D7-96FF839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AC7C9-7BFC-4E82-BA5C-B84D610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EE0C-25F3-4377-937E-5BFB865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904B83-3954-40B0-B89B-9162E8E7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03AAA3-FE11-4357-84F7-1706ADA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E1EBB2-45C9-44D2-9D38-07482E5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501DE1-2FFB-4739-BB84-4076F7F3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BB0C75-5FA7-4906-96DB-AA89F89B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6C5113-B0F1-4431-8F46-6DE7A5CF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62A73-46BC-4BEF-BA16-CD5BFBB4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BA638-5B29-46BE-BA17-4E74A754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4C29D8-DD53-4DD9-BDC5-EB8E09AA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1F4ACF-9B3C-4DEA-8F73-04BD6CC3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5B55-C96F-4EF5-85C1-2D71CC14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390723-FD0D-43CD-BC4A-FB49330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E26A0-235E-424E-9344-1E51E5AD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228FB2-CAD5-40ED-AC12-28F12D1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1A631C-14F9-45ED-8992-93B7FB0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AAE45-85B8-4CEC-9DDF-2728883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9B4845-C52A-4482-A6A9-F694F8B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AA8533-6057-4AC0-8772-EFB5127C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D1638-F04B-4743-B835-D45E18A4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46C9CC-0434-4919-89D4-EB7EFA1A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2017-B2C3-444F-9211-7DC22BF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971-A5CC-4FC7-AB9A-EEC22829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28EB-18E8-459A-9175-5A5FE28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65EC-5204-47F1-A2B5-1F6786F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FA20-A859-4A42-B100-8E5F04A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C68F-7C52-4B46-87D4-D01243DA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CF3E-20AC-4E6F-9B46-09468950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7FB-4253-400D-9776-28E5C5A7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2510-471F-460D-8B5D-22C9C19C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FE8C-8366-4142-BD41-59442623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7561-43D0-45BD-880A-089233C4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5BC3-5FCA-42EC-9419-B2B2A1FB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9F85-EB5E-464F-9C37-EEDDCCD0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712A-F0E6-4F55-96CD-D22493B7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C15A-6A84-44CF-B3BE-EB3F6CD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D962-D931-40D9-853D-B67157E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5225-26B5-41DA-B96F-9CCE3BE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2D36-DD5D-4502-BBFD-49BC88AC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DE13-831B-4F44-9CF9-0701B07B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06E8-9E95-417B-BDC4-909D5386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72DA-237A-45B7-8AAC-FB955762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3850-3B4E-4133-B388-81E0EE97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61CE1-DE2B-4E6C-8B30-76C10F2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7C2B-1D0D-401C-9BA5-E0C777E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5A84-E0AF-4C98-8F55-2EE1281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D247-F33D-4BAD-876C-AE6E1D53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786B-3F01-4455-8E38-1056B05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C1FD-DC73-4620-9876-2D25168A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029A7-B9DC-45AA-B83F-A0F43D1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C4B5-881A-4DB6-8644-3E1B1B6B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85AA-4A65-4A60-A8FB-FD244834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C358-A15B-4BE9-886F-B9C6C51E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ED03-63F7-4CD5-A076-EFD58E2C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40C4-0CF2-40EC-9A31-F473FCF7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DEB4-2094-42D8-837D-79B222D2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7B2C9-1D4D-4B82-89F7-0026F630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F23CF-03B5-4494-91F9-0914C8AB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6D4B-C05B-4F39-81E1-4D878E9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FE93D-C443-442D-BA07-1782FC7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3FE0D-FC8F-49CF-8F15-0968DC8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0EA5-1929-4E9F-855D-FDF7E93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F6BA6-B4ED-4303-A63A-B2C1D934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BD1C-7EB4-4F8A-8A33-047A29C8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D990-B86E-45FB-B480-C0D68A31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5FBC-646F-465C-A980-FA66A22C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B7C49-1110-4933-AD00-CE0ECB3D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04771-9AB9-4545-8F88-97A799C9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E5D1D-26C3-4899-96D4-87B9E9CE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D8EA7-B0C5-43F2-B113-79212EFC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1D80-015B-4F61-A63D-AFA46E7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FE76-83EE-4115-A5E2-BE7E970E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E9C7E-7E0F-4E85-8E70-9092CDC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09AE-1B3C-4FCB-AEC7-5E5DC4C4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54BC1-2DAC-49F6-A731-4200300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DA0D3-413F-4745-8D2B-AFED4FE5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D7CB3-2742-4CF5-89D9-AFB907BD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ABA3E-AC2B-4E22-AC91-D10A4EEE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CA164-07D3-4779-B072-C29E22EE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21E25-BD4F-42CA-B487-87DAAF79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B0B04-D74A-4152-A39F-182CA96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64CCD-0AB4-4DDD-970A-8653737F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9C487-632D-479B-A7A1-C2639D8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AF46-FD86-4654-B5B4-BDCF33D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B75B-5FAF-48DD-A565-F20E1184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38EF-7C46-4D85-B06F-7BD9818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F97A-4263-44D1-8709-AD3B91F3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6BD0-760B-481D-91FF-297BEA5A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E5CD9-61DF-4EEA-B498-0F5E7E70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7B19-7C9D-4132-9BCC-AF0038DB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F633B-6AA7-4808-A581-2EFFDF2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D794-70B2-4173-AA8C-C849FA21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AA12-CCA2-4065-B5CC-57D8CCB0AC9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32FE-4178-4EF9-842C-0813EB1B2C6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3683-AA71-4061-B187-D1FB7B59BD3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AFE7-CA7E-4BCC-A7E3-C8E644B6C79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375-8A02-4D74-8A17-50F3E48452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F862-ABF1-438F-9106-6A3D5C9F27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58FC-5FFC-4A32-80E1-12AFF1F7BF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6BB-2312-481A-AB42-A2F4D2FE5C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79C-586B-483E-ADAC-5D830A5F25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E1DB-D0C5-4DB5-9A74-450258F73C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33C-10AE-44A6-BA07-7D3C17D0B4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0225-1113-4304-808F-BBF605A9616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EA6D-BE58-4BC4-9963-8955EF9ACB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9CC4-1161-4547-B8E5-2D4093FADE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EFF5-D9C9-46E7-A901-E3ACBFB00C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4B3-6348-46D8-A01A-ECC7F08346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8D2D-4371-45FF-8649-FB9E5B01A92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1578-EFFC-404F-A46F-2D767E6D5C7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39EE-A848-4A00-9046-EFE41BFE3E3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8B53-A831-455E-BC8D-B49E8B00B4F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E2F7-A98A-4294-8333-F271EB54067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0A44-89DC-4EF0-8061-A92958C3CCD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7688-7C7E-462E-A792-4CB5200D9ED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971640" y="1959120"/>
            <a:ext cx="7200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比例解决实际问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067280" y="1574640"/>
            <a:ext cx="46512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啤酒生产中的数学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比例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矩形 10"/>
          <p:cNvSpPr/>
          <p:nvPr/>
        </p:nvSpPr>
        <p:spPr>
          <a:xfrm>
            <a:off x="971640" y="1484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买文艺书花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如果买同样数量的连环画，需要花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4"/>
          <p:cNvSpPr/>
          <p:nvPr/>
        </p:nvSpPr>
        <p:spPr>
          <a:xfrm>
            <a:off x="1455840" y="2960640"/>
            <a:ext cx="65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需要花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∶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80 ∶3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2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答：需要花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10"/>
          <p:cNvSpPr/>
          <p:nvPr/>
        </p:nvSpPr>
        <p:spPr>
          <a:xfrm>
            <a:off x="971640" y="1233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学校用方砖铺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间会议室地面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7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米，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方砖。如果再用同样的方砖铺另一间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米的会议室，需多少块方砖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26" name="组合 4"/>
          <p:cNvGrpSpPr/>
          <p:nvPr/>
        </p:nvGrpSpPr>
        <p:grpSpPr>
          <a:xfrm>
            <a:off x="1187280" y="3541680"/>
            <a:ext cx="6508800" cy="2837160"/>
            <a:chOff x="1187280" y="3541680"/>
            <a:chExt cx="6508800" cy="2837160"/>
          </a:xfrm>
        </p:grpSpPr>
        <p:sp>
          <p:nvSpPr>
            <p:cNvPr id="1027" name="矩形 4"/>
            <p:cNvSpPr/>
            <p:nvPr/>
          </p:nvSpPr>
          <p:spPr>
            <a:xfrm>
              <a:off x="1187280" y="3541680"/>
              <a:ext cx="6508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解：设需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块方砖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57.6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4×360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00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答：需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块方砖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8" name="对象 1" descr=""/>
            <p:cNvPicPr/>
            <p:nvPr/>
          </p:nvPicPr>
          <p:blipFill>
            <a:blip r:embed="rId1"/>
            <a:stretch/>
          </p:blipFill>
          <p:spPr>
            <a:xfrm>
              <a:off x="3707640" y="4083840"/>
              <a:ext cx="49716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对象 2" descr=""/>
            <p:cNvPicPr/>
            <p:nvPr/>
          </p:nvPicPr>
          <p:blipFill>
            <a:blip r:embed="rId2"/>
            <a:stretch/>
          </p:blipFill>
          <p:spPr>
            <a:xfrm>
              <a:off x="4715640" y="4083840"/>
              <a:ext cx="325080" cy="61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矩形 2"/>
          <p:cNvSpPr/>
          <p:nvPr/>
        </p:nvSpPr>
        <p:spPr>
          <a:xfrm>
            <a:off x="961920" y="137628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间教室铺地面，如果用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的方砖铺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块，若改用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的方砖铺，需要多少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1317600" y="3222720"/>
            <a:ext cx="65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需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块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×6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×4×36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块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33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34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35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36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7" name="矩形 19"/>
          <p:cNvSpPr/>
          <p:nvPr/>
        </p:nvSpPr>
        <p:spPr>
          <a:xfrm>
            <a:off x="963720" y="123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甲、乙、丙三人进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赛跑，当甲到达终点时，乙还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丙还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。假设他们的速度保持不变，当乙到达终点时，丙离终点还有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8" name="矩形 4"/>
          <p:cNvSpPr/>
          <p:nvPr/>
        </p:nvSpPr>
        <p:spPr>
          <a:xfrm>
            <a:off x="2879640" y="3357720"/>
            <a:ext cx="3978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丙离终点还有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丙离终点还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9" name="对象 1" descr=""/>
          <p:cNvPicPr/>
          <p:nvPr/>
        </p:nvPicPr>
        <p:blipFill>
          <a:blip r:embed="rId2"/>
          <a:stretch/>
        </p:blipFill>
        <p:spPr>
          <a:xfrm>
            <a:off x="4032360" y="4005360"/>
            <a:ext cx="689040" cy="612720"/>
          </a:xfrm>
          <a:prstGeom prst="rect">
            <a:avLst/>
          </a:prstGeom>
          <a:ln w="0">
            <a:noFill/>
          </a:ln>
        </p:spPr>
      </p:pic>
      <p:pic>
        <p:nvPicPr>
          <p:cNvPr id="1040" name="对象 2" descr=""/>
          <p:cNvPicPr/>
          <p:nvPr/>
        </p:nvPicPr>
        <p:blipFill>
          <a:blip r:embed="rId3"/>
          <a:stretch/>
        </p:blipFill>
        <p:spPr>
          <a:xfrm>
            <a:off x="5111640" y="4010040"/>
            <a:ext cx="87948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改变或增加信息后的灵活应用练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根据图像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灵活运用正、反比例知识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268280"/>
            <a:ext cx="71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现在火车的速度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2"/>
          <p:cNvSpPr/>
          <p:nvPr/>
        </p:nvSpPr>
        <p:spPr>
          <a:xfrm>
            <a:off x="1914480" y="4073400"/>
            <a:ext cx="533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现在火车的速度是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×1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现在火车的速度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5" name="Picture 12" descr="T31"/>
          <p:cNvPicPr/>
          <p:nvPr/>
        </p:nvPicPr>
        <p:blipFill>
          <a:blip r:embed="rId2"/>
          <a:stretch/>
        </p:blipFill>
        <p:spPr>
          <a:xfrm>
            <a:off x="1727280" y="1906560"/>
            <a:ext cx="591192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Box 1"/>
          <p:cNvSpPr/>
          <p:nvPr/>
        </p:nvSpPr>
        <p:spPr>
          <a:xfrm>
            <a:off x="1008000" y="1266840"/>
            <a:ext cx="69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猎豹是陆地上奔跑速度最快的动物之一。若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跑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照这样的速度，再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，它一共能跑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4"/>
          <p:cNvSpPr/>
          <p:nvPr/>
        </p:nvSpPr>
        <p:spPr>
          <a:xfrm>
            <a:off x="2357280" y="318780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它一共能跑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∶(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 ∶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2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它一共能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发电厂运来一批煤，计划每天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用完，实际每天节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煤，实际比计划多用多少天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4"/>
          <p:cNvSpPr/>
          <p:nvPr/>
        </p:nvSpPr>
        <p:spPr>
          <a:xfrm>
            <a:off x="1258920" y="3213000"/>
            <a:ext cx="66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实际比计划多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×(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×2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实际比计划多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"/>
          <p:cNvSpPr/>
          <p:nvPr/>
        </p:nvSpPr>
        <p:spPr>
          <a:xfrm>
            <a:off x="971640" y="13302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71892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下图中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李师傅加工的零件个数和时间的关系。请根据下图回答下列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1" name="Picture 30" descr="XJT19"/>
          <p:cNvPicPr/>
          <p:nvPr/>
        </p:nvPicPr>
        <p:blipFill>
          <a:blip r:embed="rId1"/>
          <a:stretch/>
        </p:blipFill>
        <p:spPr>
          <a:xfrm>
            <a:off x="2060640" y="2744640"/>
            <a:ext cx="50227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"/>
          <p:cNvSpPr/>
          <p:nvPr/>
        </p:nvSpPr>
        <p:spPr>
          <a:xfrm>
            <a:off x="1800360" y="231300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李师傅工作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时。加工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零件。两者成正比例关系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2"/>
          <p:cNvSpPr/>
          <p:nvPr/>
        </p:nvSpPr>
        <p:spPr>
          <a:xfrm>
            <a:off x="976320" y="549360"/>
            <a:ext cx="712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李师傅工作了多长时间？加工了多少个零件？两者成什么比例关系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3"/>
          <p:cNvSpPr/>
          <p:nvPr/>
        </p:nvSpPr>
        <p:spPr>
          <a:xfrm>
            <a:off x="1652760" y="4473720"/>
            <a:ext cx="58370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÷2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加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零件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5" name="矩形 4"/>
          <p:cNvSpPr/>
          <p:nvPr/>
        </p:nvSpPr>
        <p:spPr>
          <a:xfrm>
            <a:off x="1011240" y="3716280"/>
            <a:ext cx="71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李师傅若加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，加工多少个零件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矩形 2"/>
          <p:cNvSpPr/>
          <p:nvPr/>
        </p:nvSpPr>
        <p:spPr>
          <a:xfrm>
            <a:off x="992160" y="1449360"/>
            <a:ext cx="71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李师傅如果加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零件，需用几小时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7" name="组合 6"/>
          <p:cNvGrpSpPr/>
          <p:nvPr/>
        </p:nvGrpSpPr>
        <p:grpSpPr>
          <a:xfrm>
            <a:off x="1763640" y="2421000"/>
            <a:ext cx="4429080" cy="2517480"/>
            <a:chOff x="1763640" y="2421000"/>
            <a:chExt cx="4429080" cy="2517480"/>
          </a:xfrm>
        </p:grpSpPr>
        <p:sp>
          <p:nvSpPr>
            <p:cNvPr id="1018" name="矩形 1"/>
            <p:cNvSpPr/>
            <p:nvPr/>
          </p:nvSpPr>
          <p:spPr>
            <a:xfrm>
              <a:off x="1763640" y="2421000"/>
              <a:ext cx="44290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解：设需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小时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　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需用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小时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19" name="对象 4" descr=""/>
            <p:cNvPicPr/>
            <p:nvPr/>
          </p:nvPicPr>
          <p:blipFill>
            <a:blip r:embed="rId1"/>
            <a:stretch/>
          </p:blipFill>
          <p:spPr>
            <a:xfrm>
              <a:off x="3383640" y="3066120"/>
              <a:ext cx="34416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对象 5" descr=""/>
            <p:cNvPicPr/>
            <p:nvPr/>
          </p:nvPicPr>
          <p:blipFill>
            <a:blip r:embed="rId2"/>
            <a:stretch/>
          </p:blipFill>
          <p:spPr>
            <a:xfrm>
              <a:off x="4139640" y="3066120"/>
              <a:ext cx="325080" cy="61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10"/>
          <p:cNvSpPr/>
          <p:nvPr/>
        </p:nvSpPr>
        <p:spPr>
          <a:xfrm>
            <a:off x="971640" y="123336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解决问题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比例解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班要用班费购买图书，更新班里图书角的图书。文艺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一本，连环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一本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班费正好可买连环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，那么用这些钱可买文艺书多少本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4"/>
          <p:cNvSpPr/>
          <p:nvPr/>
        </p:nvSpPr>
        <p:spPr>
          <a:xfrm>
            <a:off x="1440000" y="4005360"/>
            <a:ext cx="650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用这些钱可买文艺书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8×4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用这些钱可买文艺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本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7:56Z</dcterms:modified>
  <cp:revision>1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