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himes.wav" ContentType="audio/x-wav"/>
  <Override PartName="/ppt/media/image16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23.wmf" ContentType="image/x-wmf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B001-81B3-452C-B2E7-68454D0F8BE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5D7D-34F6-4135-95FF-A20F4B7646E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0E79-DB25-428F-AF9B-062B27BF327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C06F-9041-4C4C-80BF-94EBEB8E462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A541-7D2E-4953-957C-7A609927E0B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BDB2-1989-43CE-A7FB-9B9078429E2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1994-E66C-4727-92FF-23D460D73AE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36BC-81D5-4A91-B3F5-FA6C68F0AA2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C599-7E0B-4C8E-AE10-69E946CF2F2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ACCF-AAC2-488C-AA3A-AA14D506C48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FAA4-190D-49FF-9F4C-764B132ECD7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7FA4-D613-4268-A0F6-127FE4A7701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7A0B-9BAC-4E71-B498-4BAD3D62ABD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4B4C-E6A7-41AE-8508-3A534BFC7BB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5328-688B-4DFE-806B-2AA54937A0D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7E0-E4E3-48B4-8044-C5DFCD4F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55C-D6DB-4795-A7E8-0D5FEEB2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5E9-4DC1-457B-A254-56324216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8C7-9139-4162-97C0-EAD42758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C34-E5A9-4201-9B21-3C2883F4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E9D-8039-4FF4-BC43-B55031CA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EF4-91D6-4B09-928C-77746C10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56E-DDBD-461F-8470-45A27739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8C0-E03B-418B-BBFE-AB7829BA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18C-AA4C-494E-998C-7B8E926F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9C9-7D31-47B5-B0EE-D94EB1D7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9DE-A733-4745-8D20-34EA5C64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F1D3-39DE-4C8F-8EE6-BFB5B7A49B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2054160" y="1155600"/>
            <a:ext cx="70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2.1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圆柱和圆锥的认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线连接符 21"/>
          <p:cNvSpPr/>
          <p:nvPr/>
        </p:nvSpPr>
        <p:spPr>
          <a:xfrm>
            <a:off x="2270160" y="1990800"/>
            <a:ext cx="5398920" cy="6984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7"/>
          <p:cNvSpPr/>
          <p:nvPr/>
        </p:nvSpPr>
        <p:spPr>
          <a:xfrm>
            <a:off x="612720" y="1844640"/>
            <a:ext cx="784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判断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同圆柱一样，也有无数条相等的高。（ 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84360" y="2637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错解分析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题错在没有理解圆柱和圆锥的特点。圆柱上、下两个底面是平行的，无论从哪一个底面的哪一点向对面作垂线，长度都是相等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底面之间的距离是相等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圆柱有无数条相等的高；圆锥从顶点向底面所作的垂线只有一条，所以圆锥只有一条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738036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14340"/>
          <p:cNvGrpSpPr/>
          <p:nvPr/>
        </p:nvGrpSpPr>
        <p:grpSpPr>
          <a:xfrm>
            <a:off x="466560" y="981000"/>
            <a:ext cx="2071800" cy="654120"/>
            <a:chOff x="466560" y="981000"/>
            <a:chExt cx="2071800" cy="654120"/>
          </a:xfrm>
        </p:grpSpPr>
        <p:sp>
          <p:nvSpPr>
            <p:cNvPr id="197" name="同侧圆角矩形 4"/>
            <p:cNvSpPr/>
            <p:nvPr/>
          </p:nvSpPr>
          <p:spPr>
            <a:xfrm>
              <a:off x="466560" y="981000"/>
              <a:ext cx="2000880" cy="51660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线连接符 21"/>
            <p:cNvSpPr/>
            <p:nvPr/>
          </p:nvSpPr>
          <p:spPr>
            <a:xfrm flipV="1">
              <a:off x="466560" y="1629360"/>
              <a:ext cx="2071800" cy="576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5867280" y="4869000"/>
            <a:ext cx="2779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7"/>
          <p:cNvSpPr/>
          <p:nvPr/>
        </p:nvSpPr>
        <p:spPr>
          <a:xfrm>
            <a:off x="684360" y="1628640"/>
            <a:ext cx="784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判断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同圆柱一样，也有无数条相等的高。（ 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755640" y="2635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错解改正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温馨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只有一条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738036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682560" y="1484280"/>
            <a:ext cx="187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27"/>
          <p:cNvGrpSpPr/>
          <p:nvPr/>
        </p:nvGrpSpPr>
        <p:grpSpPr>
          <a:xfrm>
            <a:off x="971640" y="3429000"/>
            <a:ext cx="3571920" cy="1881720"/>
            <a:chOff x="971640" y="3429000"/>
            <a:chExt cx="3571920" cy="1881720"/>
          </a:xfrm>
        </p:grpSpPr>
        <p:sp>
          <p:nvSpPr>
            <p:cNvPr id="205" name="Rectangle 8"/>
            <p:cNvSpPr/>
            <p:nvPr/>
          </p:nvSpPr>
          <p:spPr>
            <a:xfrm>
              <a:off x="1908360" y="3429000"/>
              <a:ext cx="2635200" cy="1512720"/>
            </a:xfrm>
            <a:prstGeom prst="rect">
              <a:avLst/>
            </a:prstGeom>
            <a:solidFill>
              <a:srgbClr val="99cc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0"/>
            <p:cNvSpPr/>
            <p:nvPr/>
          </p:nvSpPr>
          <p:spPr>
            <a:xfrm>
              <a:off x="2309760" y="4911840"/>
              <a:ext cx="17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底面周长</a:t>
              </a:r>
              <a:r>
                <a:rPr b="1" lang="en-US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2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2"/>
            <p:cNvSpPr/>
            <p:nvPr/>
          </p:nvSpPr>
          <p:spPr>
            <a:xfrm>
              <a:off x="971640" y="37893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高</a:t>
              </a:r>
              <a:r>
                <a:rPr b="1" lang="en-US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1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8"/>
          <p:cNvGrpSpPr/>
          <p:nvPr/>
        </p:nvGrpSpPr>
        <p:grpSpPr>
          <a:xfrm>
            <a:off x="5364000" y="2852640"/>
            <a:ext cx="2448000" cy="3340440"/>
            <a:chOff x="5364000" y="2852640"/>
            <a:chExt cx="2448000" cy="3340440"/>
          </a:xfrm>
        </p:grpSpPr>
        <p:sp>
          <p:nvSpPr>
            <p:cNvPr id="209" name="Text Box 11"/>
            <p:cNvSpPr/>
            <p:nvPr/>
          </p:nvSpPr>
          <p:spPr>
            <a:xfrm>
              <a:off x="5435280" y="5489280"/>
              <a:ext cx="144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底面周长</a:t>
              </a:r>
              <a:r>
                <a:rPr b="1" lang="en-US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1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6802200" y="3799440"/>
              <a:ext cx="100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高</a:t>
              </a:r>
              <a:r>
                <a:rPr b="1" lang="en-US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2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6"/>
            <p:cNvSpPr/>
            <p:nvPr/>
          </p:nvSpPr>
          <p:spPr>
            <a:xfrm rot="5400000">
              <a:off x="4808520" y="3408120"/>
              <a:ext cx="2623680" cy="1512720"/>
            </a:xfrm>
            <a:prstGeom prst="rect">
              <a:avLst/>
            </a:prstGeom>
            <a:solidFill>
              <a:srgbClr val="99cc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"/>
          <p:cNvSpPr/>
          <p:nvPr/>
        </p:nvSpPr>
        <p:spPr>
          <a:xfrm>
            <a:off x="971640" y="1484280"/>
            <a:ext cx="784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一张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、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长方形纸卷成一个圆柱形纸筒，纸筒的底面周长和高各是多少？先自己卷一卷，再与同学交流一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738036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16396"/>
          <p:cNvGrpSpPr/>
          <p:nvPr/>
        </p:nvGrpSpPr>
        <p:grpSpPr>
          <a:xfrm>
            <a:off x="466560" y="838080"/>
            <a:ext cx="2071800" cy="651960"/>
            <a:chOff x="466560" y="838080"/>
            <a:chExt cx="2071800" cy="651960"/>
          </a:xfrm>
        </p:grpSpPr>
        <p:sp>
          <p:nvSpPr>
            <p:cNvPr id="215" name="同侧圆角矩形 1"/>
            <p:cNvSpPr/>
            <p:nvPr/>
          </p:nvSpPr>
          <p:spPr>
            <a:xfrm>
              <a:off x="466560" y="838080"/>
              <a:ext cx="2000880" cy="51552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线连接符 21"/>
            <p:cNvSpPr/>
            <p:nvPr/>
          </p:nvSpPr>
          <p:spPr>
            <a:xfrm flipV="1">
              <a:off x="466560" y="1484640"/>
              <a:ext cx="2071800" cy="540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9"/>
          <p:cNvSpPr/>
          <p:nvPr/>
        </p:nvSpPr>
        <p:spPr>
          <a:xfrm>
            <a:off x="1835280" y="2852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0 + 20)×4 + 20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900000" y="1268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芳给爷爷买了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日蛋糕（如图）。捆扎这个蛋糕盒所用的彩带至少有多长？（打结处大约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彩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496800" y="12826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"/>
          <p:cNvPicPr/>
          <p:nvPr/>
        </p:nvPicPr>
        <p:blipFill>
          <a:blip r:embed="rId1"/>
          <a:stretch/>
        </p:blipFill>
        <p:spPr>
          <a:xfrm>
            <a:off x="5796000" y="2276640"/>
            <a:ext cx="2508120" cy="1709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9"/>
          <p:cNvSpPr/>
          <p:nvPr/>
        </p:nvSpPr>
        <p:spPr>
          <a:xfrm>
            <a:off x="1619280" y="3573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60×4+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633680" y="42069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d6081c"/>
                </a:solidFill>
                <a:latin typeface="楷体_GB2312"/>
                <a:ea typeface="楷体_GB2312"/>
              </a:rPr>
              <a:t>2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474920" y="5300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少需要彩带</a:t>
            </a:r>
            <a:r>
              <a:rPr b="1" lang="en-US" sz="2400" spc="-1" strike="noStrike">
                <a:solidFill>
                  <a:srgbClr val="d6081c"/>
                </a:solidFill>
                <a:latin typeface="楷体_GB2312"/>
                <a:ea typeface="楷体_GB2312"/>
              </a:rPr>
              <a:t>2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738036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0"/>
          <p:cNvSpPr/>
          <p:nvPr/>
        </p:nvSpPr>
        <p:spPr>
          <a:xfrm>
            <a:off x="900000" y="1989000"/>
            <a:ext cx="6912000" cy="1511280"/>
          </a:xfrm>
          <a:prstGeom prst="rect">
            <a:avLst/>
          </a:prstGeom>
          <a:solidFill>
            <a:srgbClr val="ff66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20"/>
          <p:cNvSpPr/>
          <p:nvPr/>
        </p:nvSpPr>
        <p:spPr>
          <a:xfrm>
            <a:off x="1673280" y="217332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柱的两个圆面叫作</a:t>
            </a:r>
            <a:r>
              <a:rPr b="1" lang="zh-CN" sz="2400" spc="-1" strike="noStrike">
                <a:solidFill>
                  <a:srgbClr val="d6081c"/>
                </a:solidFill>
                <a:latin typeface="Arial"/>
                <a:ea typeface="楷体_GB2312"/>
              </a:rPr>
              <a:t>底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0"/>
          <p:cNvSpPr/>
          <p:nvPr/>
        </p:nvSpPr>
        <p:spPr>
          <a:xfrm>
            <a:off x="5280120" y="218916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曲面叫作</a:t>
            </a:r>
            <a:r>
              <a:rPr b="1" lang="zh-CN" sz="2400" spc="-1" strike="noStrike">
                <a:solidFill>
                  <a:srgbClr val="d6081c"/>
                </a:solidFill>
                <a:latin typeface="Arial"/>
                <a:ea typeface="楷体_GB2312"/>
              </a:rPr>
              <a:t>侧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31"/>
          <p:cNvSpPr/>
          <p:nvPr/>
        </p:nvSpPr>
        <p:spPr>
          <a:xfrm>
            <a:off x="1044720" y="2709720"/>
            <a:ext cx="43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底面之间的距离叫作</a:t>
            </a:r>
            <a:r>
              <a:rPr b="1" lang="zh-CN" sz="2400" spc="-1" strike="noStrike">
                <a:solidFill>
                  <a:srgbClr val="d6081c"/>
                </a:solidFill>
                <a:latin typeface="Arial"/>
                <a:ea typeface="楷体_GB2312"/>
              </a:rPr>
              <a:t>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900000" y="3645000"/>
            <a:ext cx="6983640" cy="2376360"/>
          </a:xfrm>
          <a:prstGeom prst="rect">
            <a:avLst/>
          </a:prstGeom>
          <a:solidFill>
            <a:srgbClr val="ff66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8"/>
          <p:cNvSpPr/>
          <p:nvPr/>
        </p:nvSpPr>
        <p:spPr>
          <a:xfrm>
            <a:off x="1157400" y="3735360"/>
            <a:ext cx="37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锥的底面是一个圆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1"/>
          <p:cNvSpPr/>
          <p:nvPr/>
        </p:nvSpPr>
        <p:spPr>
          <a:xfrm>
            <a:off x="4427640" y="3718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锥的侧面是一个曲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1187280" y="4365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圆锥的顶点到底面圆心的距离是圆锥的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3"/>
          <p:cNvSpPr/>
          <p:nvPr/>
        </p:nvSpPr>
        <p:spPr>
          <a:xfrm>
            <a:off x="1187280" y="501336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锥只有一条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18442"/>
          <p:cNvGrpSpPr/>
          <p:nvPr/>
        </p:nvGrpSpPr>
        <p:grpSpPr>
          <a:xfrm>
            <a:off x="612720" y="909720"/>
            <a:ext cx="2071800" cy="651600"/>
            <a:chOff x="612720" y="909720"/>
            <a:chExt cx="2071800" cy="651600"/>
          </a:xfrm>
        </p:grpSpPr>
        <p:sp>
          <p:nvSpPr>
            <p:cNvPr id="235" name="同侧圆角矩形 2"/>
            <p:cNvSpPr/>
            <p:nvPr/>
          </p:nvSpPr>
          <p:spPr>
            <a:xfrm>
              <a:off x="612720" y="909720"/>
              <a:ext cx="2000880" cy="51516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课堂小结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线连接符 21"/>
            <p:cNvSpPr/>
            <p:nvPr/>
          </p:nvSpPr>
          <p:spPr>
            <a:xfrm flipV="1">
              <a:off x="612720" y="1555920"/>
              <a:ext cx="2071800" cy="540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828720" y="1844640"/>
            <a:ext cx="7927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在观察、操作、交流等活动中感知和发现圆柱、圆锥特征，知道圆柱和圆锥的底面、侧面和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在活动中进一步积累认识立体图形的学习经验，增强空间观念，发展数学思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进一步体验立体图形与生活的关系，感受立体图形的学习价值，提高学习数学的兴趣和学好数学的信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0"/>
          <p:cNvGrpSpPr/>
          <p:nvPr/>
        </p:nvGrpSpPr>
        <p:grpSpPr>
          <a:xfrm>
            <a:off x="324000" y="981000"/>
            <a:ext cx="2257200" cy="571680"/>
            <a:chOff x="324000" y="981000"/>
            <a:chExt cx="2257200" cy="571680"/>
          </a:xfrm>
        </p:grpSpPr>
        <p:sp>
          <p:nvSpPr>
            <p:cNvPr id="55" name="直线连接符 21"/>
            <p:cNvSpPr/>
            <p:nvPr/>
          </p:nvSpPr>
          <p:spPr>
            <a:xfrm flipV="1">
              <a:off x="324000" y="1546920"/>
              <a:ext cx="2257200" cy="576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同侧圆角矩形 23"/>
            <p:cNvSpPr/>
            <p:nvPr/>
          </p:nvSpPr>
          <p:spPr>
            <a:xfrm>
              <a:off x="508680" y="981000"/>
              <a:ext cx="2001240" cy="51732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88000" y="4869000"/>
            <a:ext cx="2121120" cy="1482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738036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6"/>
          <p:cNvSpPr/>
          <p:nvPr/>
        </p:nvSpPr>
        <p:spPr>
          <a:xfrm>
            <a:off x="900000" y="537228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1"/>
          <a:srcRect l="8820" t="10005" r="10273" b="4106"/>
          <a:stretch/>
        </p:blipFill>
        <p:spPr>
          <a:xfrm>
            <a:off x="1044720" y="1989000"/>
            <a:ext cx="6699240" cy="3222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738036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7172"/>
          <p:cNvGrpSpPr/>
          <p:nvPr/>
        </p:nvGrpSpPr>
        <p:grpSpPr>
          <a:xfrm>
            <a:off x="468360" y="981000"/>
            <a:ext cx="2071800" cy="662040"/>
            <a:chOff x="468360" y="981000"/>
            <a:chExt cx="2071800" cy="662040"/>
          </a:xfrm>
        </p:grpSpPr>
        <p:sp>
          <p:nvSpPr>
            <p:cNvPr id="63" name="同侧圆角矩形 1"/>
            <p:cNvSpPr/>
            <p:nvPr/>
          </p:nvSpPr>
          <p:spPr>
            <a:xfrm>
              <a:off x="468360" y="981000"/>
              <a:ext cx="2000880" cy="51660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线连接符 21"/>
            <p:cNvSpPr/>
            <p:nvPr/>
          </p:nvSpPr>
          <p:spPr>
            <a:xfrm flipV="1">
              <a:off x="468360" y="1637280"/>
              <a:ext cx="2071800" cy="576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3060720" y="825480"/>
            <a:ext cx="2006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5" descr=""/>
          <p:cNvPicPr/>
          <p:nvPr/>
        </p:nvPicPr>
        <p:blipFill>
          <a:blip r:embed="rId1"/>
          <a:srcRect l="59526" t="65008" r="28613" b="4087"/>
          <a:stretch/>
        </p:blipFill>
        <p:spPr>
          <a:xfrm>
            <a:off x="5219640" y="2851200"/>
            <a:ext cx="1008000" cy="115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"/>
          <p:cNvPicPr/>
          <p:nvPr/>
        </p:nvPicPr>
        <p:blipFill>
          <a:blip r:embed="rId2"/>
          <a:srcRect l="42562" t="57237" r="46419" b="4087"/>
          <a:stretch/>
        </p:blipFill>
        <p:spPr>
          <a:xfrm>
            <a:off x="3780000" y="2567160"/>
            <a:ext cx="936360" cy="143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"/>
          <p:cNvPicPr/>
          <p:nvPr/>
        </p:nvPicPr>
        <p:blipFill>
          <a:blip r:embed="rId3"/>
          <a:srcRect l="20941" t="68837" r="62527" b="2132"/>
          <a:stretch/>
        </p:blipFill>
        <p:spPr>
          <a:xfrm>
            <a:off x="1979640" y="3027240"/>
            <a:ext cx="1405080" cy="108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468360" y="1819440"/>
            <a:ext cx="431640" cy="3711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6"/>
          <p:cNvSpPr/>
          <p:nvPr/>
        </p:nvSpPr>
        <p:spPr>
          <a:xfrm>
            <a:off x="793800" y="175896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左边的物体是什么形状的？它们有哪些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5"/>
          <a:srcRect l="18832" t="10792" r="23546" b="50533"/>
          <a:stretch/>
        </p:blipFill>
        <p:spPr>
          <a:xfrm>
            <a:off x="1763640" y="2565360"/>
            <a:ext cx="4896000" cy="1440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6"/>
          <p:cNvSpPr/>
          <p:nvPr/>
        </p:nvSpPr>
        <p:spPr>
          <a:xfrm>
            <a:off x="755640" y="213192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左边的物体是圆柱形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2627280" y="407844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4284720" y="40338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5796000" y="407844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738036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8204"/>
          <p:cNvGrpSpPr/>
          <p:nvPr/>
        </p:nvGrpSpPr>
        <p:grpSpPr>
          <a:xfrm>
            <a:off x="444600" y="896760"/>
            <a:ext cx="2093760" cy="675000"/>
            <a:chOff x="444600" y="896760"/>
            <a:chExt cx="2093760" cy="675000"/>
          </a:xfrm>
        </p:grpSpPr>
        <p:grpSp>
          <p:nvGrpSpPr>
            <p:cNvPr id="78" name="组合 5"/>
            <p:cNvGrpSpPr/>
            <p:nvPr/>
          </p:nvGrpSpPr>
          <p:grpSpPr>
            <a:xfrm>
              <a:off x="466560" y="909360"/>
              <a:ext cx="2071800" cy="662400"/>
              <a:chOff x="466560" y="909360"/>
              <a:chExt cx="2071800" cy="662400"/>
            </a:xfrm>
          </p:grpSpPr>
          <p:sp>
            <p:nvSpPr>
              <p:cNvPr id="79" name="直线连接符 21"/>
              <p:cNvSpPr/>
              <p:nvPr/>
            </p:nvSpPr>
            <p:spPr>
              <a:xfrm flipV="1">
                <a:off x="466560" y="1566000"/>
                <a:ext cx="2071800" cy="576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同侧圆角矩形 7"/>
              <p:cNvSpPr/>
              <p:nvPr/>
            </p:nvSpPr>
            <p:spPr>
              <a:xfrm>
                <a:off x="466560" y="909360"/>
                <a:ext cx="2000880" cy="516960"/>
              </a:xfrm>
              <a:custGeom>
                <a:avLst/>
                <a:gdLst>
                  <a:gd name="textAreaLeft" fmla="*/ 0 w 2000880"/>
                  <a:gd name="textAreaRight" fmla="*/ 2001240 w 200088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2000609" h="516419">
                    <a:moveTo>
                      <a:pt x="86071" y="0"/>
                    </a:moveTo>
                    <a:lnTo>
                      <a:pt x="1914537" y="0"/>
                    </a:lnTo>
                    <a:cubicBezTo>
                      <a:pt x="1962073" y="0"/>
                      <a:pt x="2000608" y="38535"/>
                      <a:pt x="2000608" y="86071"/>
                    </a:cubicBezTo>
                    <a:lnTo>
                      <a:pt x="2000609" y="516419"/>
                    </a:lnTo>
                    <a:lnTo>
                      <a:pt x="0" y="516419"/>
                    </a:lnTo>
                    <a:lnTo>
                      <a:pt x="0" y="86071"/>
                    </a:lnTo>
                    <a:cubicBezTo>
                      <a:pt x="0" y="38535"/>
                      <a:pt x="38535" y="0"/>
                      <a:pt x="8607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6e4ff"/>
                  </a:gs>
                  <a:gs pos="100000">
                    <a:srgbClr val="e6f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同侧圆角矩形 9"/>
            <p:cNvSpPr/>
            <p:nvPr/>
          </p:nvSpPr>
          <p:spPr>
            <a:xfrm>
              <a:off x="444600" y="896760"/>
              <a:ext cx="2000520" cy="51660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3" descr="F:\七彩课堂插图板式封面\排版用图标、页眉页脚\标题图（终-排版用）共29个\析字乐园.jpg"/>
          <p:cNvPicPr/>
          <p:nvPr/>
        </p:nvPicPr>
        <p:blipFill>
          <a:blip r:embed="rId6"/>
          <a:stretch/>
        </p:blipFill>
        <p:spPr>
          <a:xfrm>
            <a:off x="6372360" y="4510080"/>
            <a:ext cx="25207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2705 L -0.0059 0.27977 E">
                                      <p:cBhvr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2543 L 0.004 0.28347 E">
                                      <p:cBhvr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5272 L 0.00017 0.31514 E">
                                      <p:cBhvr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0"/>
          <p:cNvSpPr/>
          <p:nvPr/>
        </p:nvSpPr>
        <p:spPr>
          <a:xfrm>
            <a:off x="1042920" y="4438800"/>
            <a:ext cx="6912000" cy="1511280"/>
          </a:xfrm>
          <a:prstGeom prst="rect">
            <a:avLst/>
          </a:prstGeom>
          <a:solidFill>
            <a:srgbClr val="ff66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16" descr="图片3副本_副本"/>
          <p:cNvPicPr/>
          <p:nvPr/>
        </p:nvPicPr>
        <p:blipFill>
          <a:blip r:embed="rId1"/>
          <a:stretch/>
        </p:blipFill>
        <p:spPr>
          <a:xfrm>
            <a:off x="1619280" y="1844640"/>
            <a:ext cx="1800360" cy="25210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61"/>
          <p:cNvSpPr/>
          <p:nvPr/>
        </p:nvSpPr>
        <p:spPr>
          <a:xfrm>
            <a:off x="1679400" y="2030400"/>
            <a:ext cx="1690920" cy="2160720"/>
          </a:xfrm>
          <a:prstGeom prst="can">
            <a:avLst>
              <a:gd name="adj" fmla="val 2674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12"/>
          <p:cNvGrpSpPr/>
          <p:nvPr/>
        </p:nvGrpSpPr>
        <p:grpSpPr>
          <a:xfrm>
            <a:off x="1679400" y="2025720"/>
            <a:ext cx="1728720" cy="2160360"/>
            <a:chOff x="1679400" y="2025720"/>
            <a:chExt cx="1728720" cy="2160360"/>
          </a:xfrm>
        </p:grpSpPr>
        <p:sp>
          <p:nvSpPr>
            <p:cNvPr id="87" name="AutoShape 162"/>
            <p:cNvSpPr/>
            <p:nvPr/>
          </p:nvSpPr>
          <p:spPr>
            <a:xfrm>
              <a:off x="1679400" y="2025720"/>
              <a:ext cx="1728720" cy="2160360"/>
            </a:xfrm>
            <a:prstGeom prst="can">
              <a:avLst>
                <a:gd name="adj" fmla="val 26736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63"/>
            <p:cNvSpPr/>
            <p:nvPr/>
          </p:nvSpPr>
          <p:spPr>
            <a:xfrm>
              <a:off x="1719000" y="3663720"/>
              <a:ext cx="1654200" cy="5220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Oval 166"/>
          <p:cNvSpPr/>
          <p:nvPr/>
        </p:nvSpPr>
        <p:spPr>
          <a:xfrm>
            <a:off x="1695600" y="3641760"/>
            <a:ext cx="1706400" cy="55548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8"/>
          <p:cNvSpPr/>
          <p:nvPr/>
        </p:nvSpPr>
        <p:spPr>
          <a:xfrm>
            <a:off x="1695600" y="2038320"/>
            <a:ext cx="1706400" cy="5554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5"/>
          <p:cNvSpPr/>
          <p:nvPr/>
        </p:nvSpPr>
        <p:spPr>
          <a:xfrm>
            <a:off x="2255760" y="1979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底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6"/>
          <p:cNvSpPr/>
          <p:nvPr/>
        </p:nvSpPr>
        <p:spPr>
          <a:xfrm>
            <a:off x="2268360" y="38275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底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7"/>
          <p:cNvSpPr/>
          <p:nvPr/>
        </p:nvSpPr>
        <p:spPr>
          <a:xfrm>
            <a:off x="1377720" y="2824200"/>
            <a:ext cx="729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侧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0"/>
          <p:cNvSpPr/>
          <p:nvPr/>
        </p:nvSpPr>
        <p:spPr>
          <a:xfrm>
            <a:off x="1816200" y="462276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柱的两个圆面叫作</a:t>
            </a:r>
            <a:r>
              <a:rPr b="1" lang="zh-CN" sz="2400" spc="-1" strike="noStrike">
                <a:solidFill>
                  <a:srgbClr val="d6081c"/>
                </a:solidFill>
                <a:latin typeface="Arial"/>
                <a:ea typeface="楷体_GB2312"/>
              </a:rPr>
              <a:t>底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21"/>
          <p:cNvSpPr/>
          <p:nvPr/>
        </p:nvSpPr>
        <p:spPr>
          <a:xfrm>
            <a:off x="1692360" y="2035080"/>
            <a:ext cx="1706400" cy="555840"/>
          </a:xfrm>
          <a:prstGeom prst="ellipse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5"/>
          <p:cNvSpPr/>
          <p:nvPr/>
        </p:nvSpPr>
        <p:spPr>
          <a:xfrm>
            <a:off x="4859280" y="1916280"/>
            <a:ext cx="35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柱的上、下两个面都是圆，并且大小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2"/>
          <p:cNvSpPr/>
          <p:nvPr/>
        </p:nvSpPr>
        <p:spPr>
          <a:xfrm>
            <a:off x="1692360" y="2349360"/>
            <a:ext cx="1727280" cy="184320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843200"/>
              <a:gd name="textAreaBottom" fmla="*/ 1843560 h 1843200"/>
            </a:gdLst>
            <a:ahLst/>
            <a:rect l="textAreaLeft" t="textAreaTop" r="textAreaRight" b="textAreaBottom"/>
            <a:pathLst>
              <a:path w="1983" h="2647">
                <a:moveTo>
                  <a:pt x="0" y="0"/>
                </a:moveTo>
                <a:cubicBezTo>
                  <a:pt x="75" y="108"/>
                  <a:pt x="78" y="108"/>
                  <a:pt x="168" y="165"/>
                </a:cubicBezTo>
                <a:cubicBezTo>
                  <a:pt x="207" y="183"/>
                  <a:pt x="239" y="200"/>
                  <a:pt x="276" y="216"/>
                </a:cubicBezTo>
                <a:cubicBezTo>
                  <a:pt x="299" y="226"/>
                  <a:pt x="318" y="231"/>
                  <a:pt x="348" y="240"/>
                </a:cubicBezTo>
                <a:cubicBezTo>
                  <a:pt x="360" y="248"/>
                  <a:pt x="380" y="252"/>
                  <a:pt x="393" y="258"/>
                </a:cubicBezTo>
                <a:cubicBezTo>
                  <a:pt x="423" y="266"/>
                  <a:pt x="483" y="287"/>
                  <a:pt x="528" y="297"/>
                </a:cubicBezTo>
                <a:cubicBezTo>
                  <a:pt x="573" y="307"/>
                  <a:pt x="601" y="312"/>
                  <a:pt x="663" y="318"/>
                </a:cubicBezTo>
                <a:cubicBezTo>
                  <a:pt x="753" y="324"/>
                  <a:pt x="822" y="327"/>
                  <a:pt x="903" y="336"/>
                </a:cubicBezTo>
                <a:cubicBezTo>
                  <a:pt x="983" y="337"/>
                  <a:pt x="1062" y="333"/>
                  <a:pt x="1149" y="327"/>
                </a:cubicBezTo>
                <a:cubicBezTo>
                  <a:pt x="1236" y="321"/>
                  <a:pt x="1358" y="310"/>
                  <a:pt x="1428" y="300"/>
                </a:cubicBezTo>
                <a:cubicBezTo>
                  <a:pt x="1461" y="291"/>
                  <a:pt x="1542" y="279"/>
                  <a:pt x="1572" y="264"/>
                </a:cubicBezTo>
                <a:cubicBezTo>
                  <a:pt x="1590" y="258"/>
                  <a:pt x="1602" y="258"/>
                  <a:pt x="1620" y="252"/>
                </a:cubicBezTo>
                <a:cubicBezTo>
                  <a:pt x="1647" y="244"/>
                  <a:pt x="1671" y="234"/>
                  <a:pt x="1692" y="228"/>
                </a:cubicBezTo>
                <a:cubicBezTo>
                  <a:pt x="1725" y="217"/>
                  <a:pt x="1800" y="186"/>
                  <a:pt x="1830" y="168"/>
                </a:cubicBezTo>
                <a:cubicBezTo>
                  <a:pt x="1857" y="150"/>
                  <a:pt x="1896" y="123"/>
                  <a:pt x="1896" y="123"/>
                </a:cubicBezTo>
                <a:cubicBezTo>
                  <a:pt x="1904" y="111"/>
                  <a:pt x="1925" y="97"/>
                  <a:pt x="1935" y="87"/>
                </a:cubicBezTo>
                <a:cubicBezTo>
                  <a:pt x="1978" y="44"/>
                  <a:pt x="1968" y="94"/>
                  <a:pt x="1968" y="48"/>
                </a:cubicBezTo>
                <a:cubicBezTo>
                  <a:pt x="1972" y="812"/>
                  <a:pt x="1980" y="1576"/>
                  <a:pt x="1980" y="2340"/>
                </a:cubicBezTo>
                <a:cubicBezTo>
                  <a:pt x="1983" y="2364"/>
                  <a:pt x="1974" y="2361"/>
                  <a:pt x="1938" y="2391"/>
                </a:cubicBezTo>
                <a:cubicBezTo>
                  <a:pt x="1902" y="2430"/>
                  <a:pt x="1883" y="2429"/>
                  <a:pt x="1836" y="2460"/>
                </a:cubicBezTo>
                <a:cubicBezTo>
                  <a:pt x="1828" y="2472"/>
                  <a:pt x="1819" y="2474"/>
                  <a:pt x="1806" y="2481"/>
                </a:cubicBezTo>
                <a:cubicBezTo>
                  <a:pt x="1788" y="2491"/>
                  <a:pt x="1772" y="2503"/>
                  <a:pt x="1752" y="2508"/>
                </a:cubicBezTo>
                <a:cubicBezTo>
                  <a:pt x="1752" y="2508"/>
                  <a:pt x="1674" y="2544"/>
                  <a:pt x="1656" y="2550"/>
                </a:cubicBezTo>
                <a:cubicBezTo>
                  <a:pt x="1592" y="2567"/>
                  <a:pt x="1466" y="2602"/>
                  <a:pt x="1374" y="2616"/>
                </a:cubicBezTo>
                <a:cubicBezTo>
                  <a:pt x="1282" y="2630"/>
                  <a:pt x="1198" y="2632"/>
                  <a:pt x="1101" y="2634"/>
                </a:cubicBezTo>
                <a:cubicBezTo>
                  <a:pt x="959" y="2647"/>
                  <a:pt x="894" y="2638"/>
                  <a:pt x="789" y="2631"/>
                </a:cubicBezTo>
                <a:cubicBezTo>
                  <a:pt x="684" y="2624"/>
                  <a:pt x="554" y="2608"/>
                  <a:pt x="468" y="2592"/>
                </a:cubicBezTo>
                <a:cubicBezTo>
                  <a:pt x="398" y="2579"/>
                  <a:pt x="338" y="2555"/>
                  <a:pt x="270" y="2532"/>
                </a:cubicBezTo>
                <a:cubicBezTo>
                  <a:pt x="240" y="2511"/>
                  <a:pt x="219" y="2506"/>
                  <a:pt x="195" y="2490"/>
                </a:cubicBezTo>
                <a:cubicBezTo>
                  <a:pt x="183" y="2482"/>
                  <a:pt x="165" y="2475"/>
                  <a:pt x="165" y="2475"/>
                </a:cubicBezTo>
                <a:cubicBezTo>
                  <a:pt x="156" y="2468"/>
                  <a:pt x="152" y="2467"/>
                  <a:pt x="138" y="2457"/>
                </a:cubicBezTo>
                <a:cubicBezTo>
                  <a:pt x="124" y="2447"/>
                  <a:pt x="92" y="2426"/>
                  <a:pt x="78" y="2415"/>
                </a:cubicBezTo>
                <a:cubicBezTo>
                  <a:pt x="64" y="2404"/>
                  <a:pt x="63" y="2396"/>
                  <a:pt x="54" y="2388"/>
                </a:cubicBezTo>
                <a:cubicBezTo>
                  <a:pt x="42" y="2380"/>
                  <a:pt x="24" y="2364"/>
                  <a:pt x="24" y="2364"/>
                </a:cubicBezTo>
                <a:cubicBezTo>
                  <a:pt x="16" y="2352"/>
                  <a:pt x="0" y="2328"/>
                  <a:pt x="0" y="2328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9"/>
          <p:cNvSpPr/>
          <p:nvPr/>
        </p:nvSpPr>
        <p:spPr>
          <a:xfrm>
            <a:off x="5858640" y="3139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柱有一个曲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0"/>
          <p:cNvSpPr/>
          <p:nvPr/>
        </p:nvSpPr>
        <p:spPr>
          <a:xfrm>
            <a:off x="5423040" y="463860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曲面叫作</a:t>
            </a:r>
            <a:r>
              <a:rPr b="1" lang="zh-CN" sz="2400" spc="-1" strike="noStrike">
                <a:solidFill>
                  <a:srgbClr val="d6081c"/>
                </a:solidFill>
                <a:latin typeface="Arial"/>
                <a:ea typeface="楷体_GB2312"/>
              </a:rPr>
              <a:t>侧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11"/>
          <p:cNvGrpSpPr/>
          <p:nvPr/>
        </p:nvGrpSpPr>
        <p:grpSpPr>
          <a:xfrm>
            <a:off x="1692360" y="2004840"/>
            <a:ext cx="2206080" cy="2044080"/>
            <a:chOff x="1692360" y="2004840"/>
            <a:chExt cx="2206080" cy="2044080"/>
          </a:xfrm>
        </p:grpSpPr>
        <p:sp>
          <p:nvSpPr>
            <p:cNvPr id="101" name="Text Box 185"/>
            <p:cNvSpPr/>
            <p:nvPr/>
          </p:nvSpPr>
          <p:spPr>
            <a:xfrm>
              <a:off x="2390400" y="3597120"/>
              <a:ext cx="5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10"/>
            <p:cNvGrpSpPr/>
            <p:nvPr/>
          </p:nvGrpSpPr>
          <p:grpSpPr>
            <a:xfrm>
              <a:off x="1692360" y="2004840"/>
              <a:ext cx="2206080" cy="2044080"/>
              <a:chOff x="1692360" y="2004840"/>
              <a:chExt cx="2206080" cy="2044080"/>
            </a:xfrm>
          </p:grpSpPr>
          <p:sp>
            <p:nvSpPr>
              <p:cNvPr id="103" name="Text Box 186"/>
              <p:cNvSpPr/>
              <p:nvPr/>
            </p:nvSpPr>
            <p:spPr>
              <a:xfrm>
                <a:off x="2408040" y="2220840"/>
                <a:ext cx="69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O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宋体"/>
                    <a:ea typeface="楷体_GB2312"/>
                  </a:rPr>
                  <a:t>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209"/>
              <p:cNvGrpSpPr/>
              <p:nvPr/>
            </p:nvGrpSpPr>
            <p:grpSpPr>
              <a:xfrm>
                <a:off x="1692360" y="2004840"/>
                <a:ext cx="2206080" cy="2044080"/>
                <a:chOff x="1692360" y="2004840"/>
                <a:chExt cx="2206080" cy="2044080"/>
              </a:xfrm>
            </p:grpSpPr>
            <p:sp>
              <p:nvSpPr>
                <p:cNvPr id="105" name="Line 180"/>
                <p:cNvSpPr/>
                <p:nvPr/>
              </p:nvSpPr>
              <p:spPr>
                <a:xfrm>
                  <a:off x="1692360" y="2317680"/>
                  <a:ext cx="1728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81"/>
                <p:cNvSpPr/>
                <p:nvPr/>
              </p:nvSpPr>
              <p:spPr>
                <a:xfrm>
                  <a:off x="1692360" y="3914640"/>
                  <a:ext cx="1728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Group 208"/>
                <p:cNvGrpSpPr/>
                <p:nvPr/>
              </p:nvGrpSpPr>
              <p:grpSpPr>
                <a:xfrm>
                  <a:off x="2222280" y="2004840"/>
                  <a:ext cx="653400" cy="2044080"/>
                  <a:chOff x="2222280" y="2004840"/>
                  <a:chExt cx="653400" cy="2044080"/>
                </a:xfrm>
              </p:grpSpPr>
              <p:sp>
                <p:nvSpPr>
                  <p:cNvPr id="108" name="Text Box 183"/>
                  <p:cNvSpPr/>
                  <p:nvPr/>
                </p:nvSpPr>
                <p:spPr>
                  <a:xfrm>
                    <a:off x="2226600" y="2004840"/>
                    <a:ext cx="649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Text Box 184"/>
                  <p:cNvSpPr/>
                  <p:nvPr/>
                </p:nvSpPr>
                <p:spPr>
                  <a:xfrm>
                    <a:off x="2222280" y="3589200"/>
                    <a:ext cx="649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187"/>
                  <p:cNvSpPr/>
                  <p:nvPr/>
                </p:nvSpPr>
                <p:spPr>
                  <a:xfrm>
                    <a:off x="2539440" y="2360520"/>
                    <a:ext cx="0" cy="1587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" name="Line 189"/>
                <p:cNvSpPr/>
                <p:nvPr/>
              </p:nvSpPr>
              <p:spPr>
                <a:xfrm>
                  <a:off x="3373200" y="2312640"/>
                  <a:ext cx="28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90"/>
                <p:cNvSpPr/>
                <p:nvPr/>
              </p:nvSpPr>
              <p:spPr>
                <a:xfrm>
                  <a:off x="3423960" y="3909960"/>
                  <a:ext cx="28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91"/>
                <p:cNvSpPr/>
                <p:nvPr/>
              </p:nvSpPr>
              <p:spPr>
                <a:xfrm>
                  <a:off x="3563640" y="341460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92"/>
                <p:cNvSpPr/>
                <p:nvPr/>
              </p:nvSpPr>
              <p:spPr>
                <a:xfrm flipV="1">
                  <a:off x="3576240" y="2325240"/>
                  <a:ext cx="4680" cy="53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Text Box 193"/>
                <p:cNvSpPr/>
                <p:nvPr/>
              </p:nvSpPr>
              <p:spPr>
                <a:xfrm>
                  <a:off x="3322440" y="2885760"/>
                  <a:ext cx="57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6" name="Rectangle 231"/>
          <p:cNvSpPr/>
          <p:nvPr/>
        </p:nvSpPr>
        <p:spPr>
          <a:xfrm>
            <a:off x="1187280" y="5159520"/>
            <a:ext cx="43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底面之间的距离叫作</a:t>
            </a:r>
            <a:r>
              <a:rPr b="1" lang="zh-CN" sz="2400" spc="-1" strike="noStrike">
                <a:solidFill>
                  <a:srgbClr val="d6081c"/>
                </a:solidFill>
                <a:latin typeface="Arial"/>
                <a:ea typeface="楷体_GB2312"/>
              </a:rPr>
              <a:t>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6"/>
          <p:cNvSpPr/>
          <p:nvPr/>
        </p:nvSpPr>
        <p:spPr>
          <a:xfrm>
            <a:off x="539640" y="1341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楷体_GB2312"/>
              </a:rPr>
              <a:t>圆柱有哪些特征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9"/>
          <p:cNvSpPr/>
          <p:nvPr/>
        </p:nvSpPr>
        <p:spPr>
          <a:xfrm>
            <a:off x="6085800" y="3789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柱有无数条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738036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-0.00017 2.96296E-006 L 0.00035 0.23541 E">
                                      <p:cBhvr>
                                        <p:cTn id="7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.00035 0.23541 L 1.38889E-006 0.00046 E">
                                      <p:cBhvr>
                                        <p:cTn id="7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1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1"/>
          <a:srcRect l="80786" t="46226" r="7691" b="15278"/>
          <a:stretch/>
        </p:blipFill>
        <p:spPr>
          <a:xfrm>
            <a:off x="5364000" y="2708280"/>
            <a:ext cx="648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2" descr=""/>
          <p:cNvPicPr/>
          <p:nvPr/>
        </p:nvPicPr>
        <p:blipFill>
          <a:blip r:embed="rId2"/>
          <a:srcRect l="57721" t="50046" r="29457" b="17240"/>
          <a:stretch/>
        </p:blipFill>
        <p:spPr>
          <a:xfrm>
            <a:off x="4067280" y="2838600"/>
            <a:ext cx="72072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3"/>
          <a:srcRect l="32079" t="55867" r="52548" b="15278"/>
          <a:stretch/>
        </p:blipFill>
        <p:spPr>
          <a:xfrm>
            <a:off x="2627280" y="2997360"/>
            <a:ext cx="863640" cy="107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4"/>
          <a:srcRect l="80786" t="5768" r="6419" b="59555"/>
          <a:stretch/>
        </p:blipFill>
        <p:spPr>
          <a:xfrm>
            <a:off x="5392800" y="2738520"/>
            <a:ext cx="71892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"/>
          <p:cNvPicPr/>
          <p:nvPr/>
        </p:nvPicPr>
        <p:blipFill>
          <a:blip r:embed="rId5"/>
          <a:srcRect l="57721" t="9640" r="28186" b="59555"/>
          <a:stretch/>
        </p:blipFill>
        <p:spPr>
          <a:xfrm>
            <a:off x="4054320" y="2852640"/>
            <a:ext cx="79236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"/>
          <p:cNvPicPr/>
          <p:nvPr/>
        </p:nvPicPr>
        <p:blipFill>
          <a:blip r:embed="rId6"/>
          <a:srcRect l="32079" t="15409" r="52548" b="57646"/>
          <a:stretch/>
        </p:blipFill>
        <p:spPr>
          <a:xfrm>
            <a:off x="2612880" y="299736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7"/>
          <a:stretch/>
        </p:blipFill>
        <p:spPr>
          <a:xfrm>
            <a:off x="468360" y="1317600"/>
            <a:ext cx="431640" cy="370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6"/>
          <p:cNvSpPr/>
          <p:nvPr/>
        </p:nvSpPr>
        <p:spPr>
          <a:xfrm>
            <a:off x="793800" y="125568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右边的物体是什么形状的？它们有哪些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826920" y="191628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右边的物体是圆锥形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059280" y="4076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384800" y="410544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5665680" y="413532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38036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0532 L 1.38889E-006 0.29365 E">
                                      <p:cBhvr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0833 L -0.00469 0.29271 E">
                                      <p:cBhvr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208 L -0.00243 0.29179 E">
                                      <p:cBhvr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3"/>
          <p:cNvSpPr/>
          <p:nvPr/>
        </p:nvSpPr>
        <p:spPr>
          <a:xfrm>
            <a:off x="4933800" y="2133720"/>
            <a:ext cx="3673800" cy="3168360"/>
          </a:xfrm>
          <a:prstGeom prst="rect">
            <a:avLst/>
          </a:prstGeom>
          <a:solidFill>
            <a:srgbClr val="ff66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6"/>
          <p:cNvGrpSpPr/>
          <p:nvPr/>
        </p:nvGrpSpPr>
        <p:grpSpPr>
          <a:xfrm>
            <a:off x="1332000" y="1916280"/>
            <a:ext cx="2822400" cy="3152160"/>
            <a:chOff x="1332000" y="1916280"/>
            <a:chExt cx="2822400" cy="3152160"/>
          </a:xfrm>
        </p:grpSpPr>
        <p:grpSp>
          <p:nvGrpSpPr>
            <p:cNvPr id="135" name="Group 55"/>
            <p:cNvGrpSpPr/>
            <p:nvPr/>
          </p:nvGrpSpPr>
          <p:grpSpPr>
            <a:xfrm>
              <a:off x="1344240" y="1916280"/>
              <a:ext cx="2495880" cy="2999520"/>
              <a:chOff x="1344240" y="1916280"/>
              <a:chExt cx="2495880" cy="2999520"/>
            </a:xfrm>
          </p:grpSpPr>
          <p:grpSp>
            <p:nvGrpSpPr>
              <p:cNvPr id="136" name="Group 48"/>
              <p:cNvGrpSpPr/>
              <p:nvPr/>
            </p:nvGrpSpPr>
            <p:grpSpPr>
              <a:xfrm>
                <a:off x="1344240" y="1916280"/>
                <a:ext cx="2495880" cy="2689920"/>
                <a:chOff x="1344240" y="1916280"/>
                <a:chExt cx="2495880" cy="2689920"/>
              </a:xfrm>
            </p:grpSpPr>
            <p:sp>
              <p:nvSpPr>
                <p:cNvPr id="137" name="Line 7"/>
                <p:cNvSpPr/>
                <p:nvPr/>
              </p:nvSpPr>
              <p:spPr>
                <a:xfrm flipH="1">
                  <a:off x="1344240" y="1916280"/>
                  <a:ext cx="1257480" cy="2680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8"/>
                <p:cNvSpPr/>
                <p:nvPr/>
              </p:nvSpPr>
              <p:spPr>
                <a:xfrm>
                  <a:off x="2593800" y="1944360"/>
                  <a:ext cx="1246320" cy="266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Oval 9"/>
              <p:cNvSpPr/>
              <p:nvPr/>
            </p:nvSpPr>
            <p:spPr>
              <a:xfrm>
                <a:off x="1365120" y="4278240"/>
                <a:ext cx="2448000" cy="637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33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0" name="Picture 53" descr=""/>
            <p:cNvPicPr/>
            <p:nvPr/>
          </p:nvPicPr>
          <p:blipFill>
            <a:blip r:embed="rId1"/>
            <a:stretch/>
          </p:blipFill>
          <p:spPr>
            <a:xfrm>
              <a:off x="1332000" y="4563720"/>
              <a:ext cx="282240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Oval 13"/>
          <p:cNvSpPr/>
          <p:nvPr/>
        </p:nvSpPr>
        <p:spPr>
          <a:xfrm>
            <a:off x="1366920" y="4280040"/>
            <a:ext cx="2448000" cy="61740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030400" y="45594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底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64"/>
          <p:cNvGrpSpPr/>
          <p:nvPr/>
        </p:nvGrpSpPr>
        <p:grpSpPr>
          <a:xfrm>
            <a:off x="2583000" y="1928880"/>
            <a:ext cx="1957320" cy="2697120"/>
            <a:chOff x="2583000" y="1928880"/>
            <a:chExt cx="1957320" cy="2697120"/>
          </a:xfrm>
        </p:grpSpPr>
        <p:sp>
          <p:nvSpPr>
            <p:cNvPr id="144" name="Line 25"/>
            <p:cNvSpPr/>
            <p:nvPr/>
          </p:nvSpPr>
          <p:spPr>
            <a:xfrm>
              <a:off x="3840480" y="46054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2583000" y="1928880"/>
              <a:ext cx="180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4187880" y="3691080"/>
              <a:ext cx="0" cy="9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 flipV="1">
              <a:off x="4187880" y="1933200"/>
              <a:ext cx="0" cy="10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1"/>
            <p:cNvSpPr/>
            <p:nvPr/>
          </p:nvSpPr>
          <p:spPr>
            <a:xfrm>
              <a:off x="3819600" y="30672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73"/>
          <p:cNvGrpSpPr/>
          <p:nvPr/>
        </p:nvGrpSpPr>
        <p:grpSpPr>
          <a:xfrm>
            <a:off x="2316240" y="1920960"/>
            <a:ext cx="574560" cy="2810880"/>
            <a:chOff x="2316240" y="1920960"/>
            <a:chExt cx="574560" cy="2810880"/>
          </a:xfrm>
        </p:grpSpPr>
        <p:sp>
          <p:nvSpPr>
            <p:cNvPr id="150" name="Line 23"/>
            <p:cNvSpPr/>
            <p:nvPr/>
          </p:nvSpPr>
          <p:spPr>
            <a:xfrm>
              <a:off x="2589120" y="1920960"/>
              <a:ext cx="9720" cy="2689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2"/>
            <p:cNvSpPr/>
            <p:nvPr/>
          </p:nvSpPr>
          <p:spPr>
            <a:xfrm>
              <a:off x="2316240" y="42721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46"/>
          <p:cNvSpPr/>
          <p:nvPr/>
        </p:nvSpPr>
        <p:spPr>
          <a:xfrm>
            <a:off x="2411280" y="4272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6"/>
          <p:cNvGrpSpPr/>
          <p:nvPr/>
        </p:nvGrpSpPr>
        <p:grpSpPr>
          <a:xfrm>
            <a:off x="1370160" y="4071960"/>
            <a:ext cx="2447640" cy="1252080"/>
            <a:chOff x="1370160" y="4071960"/>
            <a:chExt cx="2447640" cy="1252080"/>
          </a:xfrm>
        </p:grpSpPr>
        <p:sp>
          <p:nvSpPr>
            <p:cNvPr id="154" name="Line 20"/>
            <p:cNvSpPr/>
            <p:nvPr/>
          </p:nvSpPr>
          <p:spPr>
            <a:xfrm>
              <a:off x="1370160" y="459252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0"/>
            <p:cNvSpPr/>
            <p:nvPr/>
          </p:nvSpPr>
          <p:spPr>
            <a:xfrm>
              <a:off x="2201760" y="4071960"/>
              <a:ext cx="5756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4000" spc="-1" strike="noStrike">
                  <a:solidFill>
                    <a:srgbClr val="de0000"/>
                  </a:solidFill>
                  <a:latin typeface="Arial"/>
                </a:rPr>
                <a:t>.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78"/>
          <p:cNvSpPr/>
          <p:nvPr/>
        </p:nvSpPr>
        <p:spPr>
          <a:xfrm>
            <a:off x="5191200" y="2224080"/>
            <a:ext cx="37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锥的底面是一个圆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9"/>
          <p:cNvSpPr/>
          <p:nvPr/>
        </p:nvSpPr>
        <p:spPr>
          <a:xfrm>
            <a:off x="-388800" y="-1079640"/>
            <a:ext cx="6026040" cy="6002640"/>
          </a:xfrm>
          <a:custGeom>
            <a:avLst/>
            <a:gdLst>
              <a:gd name="textAreaLeft" fmla="*/ 0 w 6026040"/>
              <a:gd name="textAreaRight" fmla="*/ 6026400 w 6026040"/>
              <a:gd name="textAreaTop" fmla="*/ 0 h 6002640"/>
              <a:gd name="textAreaBottom" fmla="*/ 6003000 h 6002640"/>
            </a:gdLst>
            <a:ahLst/>
            <a:rect l="textAreaLeft" t="textAreaTop" r="textAreaRight" b="textAreaBottom"/>
            <a:pathLst>
              <a:path w="21600" h="21600">
                <a:moveTo>
                  <a:pt x="10847" y="10905"/>
                </a:moveTo>
                <a:cubicBezTo>
                  <a:pt x="10832" y="10912"/>
                  <a:pt x="10816" y="10915"/>
                  <a:pt x="10800" y="10916"/>
                </a:cubicBezTo>
                <a:cubicBezTo>
                  <a:pt x="10783" y="10916"/>
                  <a:pt x="10767" y="10912"/>
                  <a:pt x="10752" y="10905"/>
                </a:cubicBezTo>
                <a:lnTo>
                  <a:pt x="6344" y="20638"/>
                </a:lnTo>
                <a:cubicBezTo>
                  <a:pt x="7744" y="21272"/>
                  <a:pt x="9263" y="21600"/>
                  <a:pt x="10800" y="21600"/>
                </a:cubicBezTo>
                <a:cubicBezTo>
                  <a:pt x="12336" y="21599"/>
                  <a:pt x="13855" y="21272"/>
                  <a:pt x="15255" y="20638"/>
                </a:cubicBezTo>
                <a:lnTo>
                  <a:pt x="10847" y="10905"/>
                </a:lnTo>
                <a:close/>
              </a:path>
            </a:pathLst>
          </a:custGeom>
          <a:solidFill>
            <a:srgbClr val="ff00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1"/>
          <p:cNvSpPr/>
          <p:nvPr/>
        </p:nvSpPr>
        <p:spPr>
          <a:xfrm>
            <a:off x="5141880" y="283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锥的侧面是一个曲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3"/>
          <p:cNvSpPr/>
          <p:nvPr/>
        </p:nvSpPr>
        <p:spPr>
          <a:xfrm>
            <a:off x="5148360" y="32860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圆锥的顶点到底面圆心的距离是圆锥的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611280" y="1268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锥有哪些特征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3"/>
          <p:cNvSpPr/>
          <p:nvPr/>
        </p:nvSpPr>
        <p:spPr>
          <a:xfrm>
            <a:off x="5146560" y="4437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锥只有一条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38036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7"/>
          <p:cNvSpPr/>
          <p:nvPr/>
        </p:nvSpPr>
        <p:spPr>
          <a:xfrm>
            <a:off x="539640" y="1628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物体中，哪些是圆柱形的？哪些是圆锥形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"/>
          <p:cNvPicPr/>
          <p:nvPr/>
        </p:nvPicPr>
        <p:blipFill>
          <a:blip r:embed="rId1"/>
          <a:stretch/>
        </p:blipFill>
        <p:spPr>
          <a:xfrm>
            <a:off x="1500120" y="2133720"/>
            <a:ext cx="839880" cy="11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799920" cy="863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"/>
          <p:cNvPicPr/>
          <p:nvPr/>
        </p:nvPicPr>
        <p:blipFill>
          <a:blip r:embed="rId3"/>
          <a:stretch/>
        </p:blipFill>
        <p:spPr>
          <a:xfrm>
            <a:off x="3780000" y="2205000"/>
            <a:ext cx="750600" cy="100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"/>
          <p:cNvPicPr/>
          <p:nvPr/>
        </p:nvPicPr>
        <p:blipFill>
          <a:blip r:embed="rId4"/>
          <a:stretch/>
        </p:blipFill>
        <p:spPr>
          <a:xfrm>
            <a:off x="4859280" y="2276640"/>
            <a:ext cx="1225440" cy="769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"/>
          <p:cNvPicPr/>
          <p:nvPr/>
        </p:nvPicPr>
        <p:blipFill>
          <a:blip r:embed="rId5"/>
          <a:stretch/>
        </p:blipFill>
        <p:spPr>
          <a:xfrm>
            <a:off x="6300720" y="2205000"/>
            <a:ext cx="1008000" cy="91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"/>
          <p:cNvPicPr/>
          <p:nvPr/>
        </p:nvPicPr>
        <p:blipFill>
          <a:blip r:embed="rId6"/>
          <a:stretch/>
        </p:blipFill>
        <p:spPr>
          <a:xfrm>
            <a:off x="1189080" y="4076640"/>
            <a:ext cx="1366920" cy="873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"/>
          <p:cNvPicPr/>
          <p:nvPr/>
        </p:nvPicPr>
        <p:blipFill>
          <a:blip r:embed="rId7"/>
          <a:stretch/>
        </p:blipFill>
        <p:spPr>
          <a:xfrm>
            <a:off x="2916360" y="4149720"/>
            <a:ext cx="1079280" cy="86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3" descr=""/>
          <p:cNvPicPr/>
          <p:nvPr/>
        </p:nvPicPr>
        <p:blipFill>
          <a:blip r:embed="rId8"/>
          <a:stretch/>
        </p:blipFill>
        <p:spPr>
          <a:xfrm>
            <a:off x="4500720" y="4005360"/>
            <a:ext cx="1150920" cy="1093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4" descr=""/>
          <p:cNvPicPr/>
          <p:nvPr/>
        </p:nvPicPr>
        <p:blipFill>
          <a:blip r:embed="rId9"/>
          <a:stretch/>
        </p:blipFill>
        <p:spPr>
          <a:xfrm>
            <a:off x="5867280" y="4057560"/>
            <a:ext cx="1368720" cy="811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5"/>
          <p:cNvSpPr/>
          <p:nvPr/>
        </p:nvSpPr>
        <p:spPr>
          <a:xfrm>
            <a:off x="1474920" y="3284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3765600" y="3284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6370560" y="3284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6143760" y="51325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614680" y="3284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1474920" y="5084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4643280" y="513252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2"/>
          <p:cNvSpPr/>
          <p:nvPr/>
        </p:nvSpPr>
        <p:spPr>
          <a:xfrm>
            <a:off x="5076720" y="335772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3"/>
          <p:cNvSpPr/>
          <p:nvPr/>
        </p:nvSpPr>
        <p:spPr>
          <a:xfrm>
            <a:off x="3276720" y="522936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738036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12309"/>
          <p:cNvGrpSpPr/>
          <p:nvPr/>
        </p:nvGrpSpPr>
        <p:grpSpPr>
          <a:xfrm>
            <a:off x="468360" y="836640"/>
            <a:ext cx="2071800" cy="651600"/>
            <a:chOff x="468360" y="836640"/>
            <a:chExt cx="2071800" cy="651600"/>
          </a:xfrm>
        </p:grpSpPr>
        <p:sp>
          <p:nvSpPr>
            <p:cNvPr id="184" name="同侧圆角矩形 4"/>
            <p:cNvSpPr/>
            <p:nvPr/>
          </p:nvSpPr>
          <p:spPr>
            <a:xfrm>
              <a:off x="468360" y="836640"/>
              <a:ext cx="2000880" cy="51516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线连接符 21"/>
            <p:cNvSpPr/>
            <p:nvPr/>
          </p:nvSpPr>
          <p:spPr>
            <a:xfrm flipV="1">
              <a:off x="468360" y="1482840"/>
              <a:ext cx="2071800" cy="540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539640" y="1341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一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770200" y="3247920"/>
            <a:ext cx="1368360" cy="1511280"/>
          </a:xfrm>
          <a:prstGeom prst="line">
            <a:avLst/>
          </a:prstGeom>
          <a:ln w="381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2625840" y="3247920"/>
            <a:ext cx="3382920" cy="1224000"/>
          </a:xfrm>
          <a:prstGeom prst="line">
            <a:avLst/>
          </a:prstGeom>
          <a:ln w="381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4425840" y="3247920"/>
            <a:ext cx="1225800" cy="1295640"/>
          </a:xfrm>
          <a:prstGeom prst="line">
            <a:avLst/>
          </a:prstGeom>
          <a:ln w="381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1424160" y="1681200"/>
            <a:ext cx="5832360" cy="2111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1660680" y="4421160"/>
            <a:ext cx="4968720" cy="11685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6"/>
          <p:cNvSpPr/>
          <p:nvPr/>
        </p:nvSpPr>
        <p:spPr>
          <a:xfrm>
            <a:off x="738036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08:42:53Z</dcterms:created>
  <dc:creator/>
  <dc:description/>
  <cp:keywords/>
  <dc:language>en-US</dc:language>
  <cp:lastModifiedBy/>
  <dcterms:modified xsi:type="dcterms:W3CDTF">2017-02-16T08:43:03Z</dcterms:modified>
  <cp:revision>1</cp:revision>
  <dc:subject/>
  <dc:title/>
</cp:coreProperties>
</file>