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73694-3B28-48DE-B2D0-B57541FB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C5FE7-D79C-4BDE-B62F-16BB8085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23D31-F258-4392-8328-2E60FE00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8D222-9ED8-4CAA-B79A-4B721703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21A38-6229-4ACA-AE38-56E5BDF2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416DB-CE56-4D7D-AF72-64DA5C52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45F96-35D5-4768-A493-FDA3CD44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73D2C-CF75-493F-9618-37629336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9E25C-3821-47D0-B50F-D08771A3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27E33-174B-445E-9414-3E824F6F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FF2AC-5819-4A91-9D70-A9CF738D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53980-8DC6-4E01-87B6-A8DE5D75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10ABB-9E24-40B1-B25F-9E4CDE9D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96792-2269-4E84-AC5C-25C8B554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478E7-723E-400A-BF17-B867F26B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A85BF-78E5-46D8-AA0D-979EB9A7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9BA40-26D9-4D88-84FB-3EB3A52E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DD98C-A745-4E4F-858B-09683BB5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82BA2-1D2C-4410-B6E6-031B829B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B6E25-55A2-455A-A133-5FCD871B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271D9-9EE0-4776-88F1-12AB2655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2B45C-1390-4B4D-9D55-02EA228E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ABB9C-8E47-4CC2-851C-A6517209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77C9C-2088-4DDE-8862-46E25BAC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E2D04-3C46-49FE-BDEA-443A5ED7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2131B-6010-43ED-A086-8E9D0F97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B8CD4-37AD-43EE-B983-AAF776D4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30616-F031-4389-B45E-36AADD05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7624F-444B-47EA-B247-CEBF4B2B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5C962-5350-4060-871A-1B422D4D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8040-B9C3-440F-AACE-3E0B1F7E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365CD-96A7-4414-869B-7EBA21D0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02281-842C-46C4-8874-4DF0AEFF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704AC-1BFB-4EB2-B137-A109A93A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8826D-B216-46EB-B758-C7877654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68AE9-6268-450D-B63A-E227F796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7ED63-5EAE-4216-972F-1E83547A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8FCD3-5B38-49D3-82B8-6E9EA040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069D2-9C87-4539-B14F-CF68B4AF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3449F-1582-4F24-9B8F-91D7E230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C88AA-1757-4C9E-B9D7-817BCFC0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704B-9D7B-44F7-AA82-951874F9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A9E9A-2B8F-4393-A6D2-41362AEB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91B8B-0BC7-4A6D-9D61-3BE9EF81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63C24-D215-477E-BC7B-30CB8C5A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17571-13F2-473B-AC4C-F21419D1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90A1B-70F4-427C-B3FB-AB4922A6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BFE2B-9C9E-4524-81AA-517CE2AE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3B3B1-3844-4681-951C-DABEB684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87B52-A254-4BF8-8F69-9E0D52F1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0A17D-E219-4B90-B220-4570C4C4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43013-5182-4BA6-B6B7-26BA1C2E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FBD2-1B49-4EC6-AD4A-DCC2DFAA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837C2D-264B-4710-AE00-7E0E29B1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502C2-9BB4-4F0C-B196-6F6EF2E9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2864A-A625-4D7C-BD43-D99206D2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E2A27-7A6F-434B-8B2E-91D81FA8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66A77-F255-49CA-987D-21286909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FEB29-4314-4097-B4ED-C99D0E20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A7132-127D-490E-A074-2EBF5641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69B05-25F6-4300-AC70-700F6A7A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51588-7EA8-4C85-96CA-C13615CA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8A3972-D57C-4F57-8DA4-6118D01C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37B-2392-4AA7-B075-ED00CE64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4EA5D7-C4FA-41C4-9E24-6CBADA26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9AD2E8-0684-47D3-AD66-B4F9A437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DD6AD-E0E3-40B2-A363-38153D11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2175C-7B61-438B-B855-33B239F6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1B404-42F7-49FE-97E1-ACC9E89A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48355F-A4A7-4FB5-8CF2-58536B81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EF5614-1F09-4A1C-98BB-FDC501D9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BC369-6B0B-4A8F-903A-000E2ED6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54681-F93F-473C-B832-09195B4F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996104-7297-4919-B8EF-777F5B93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92F0-5914-4BA1-ADBE-8A5512DF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4AAEFF-7E3C-4A0A-B5FE-3382D9E1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DC710B-39EA-427F-BB3C-0FB3489A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FE1CD5-553E-48F2-A1F6-40E03F4F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4DEC40-3ABC-4B43-A6CB-B44C31BB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59589C-E8FA-4366-B727-373D43E8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C353F6-B963-40F2-AA56-644C07CD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C21E24-8F70-4C6B-9A72-03CD613D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6D36E-8EAD-4377-9298-8AD5B284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44920D-CF8E-4DCA-88C3-FF6481C1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6A3239-50C8-4D46-870E-61282C59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C65E-9431-43A5-BAB2-C1A4CCB2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ACE357-724E-4BBD-AC8E-2E530439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F38BBE-EEC7-455D-A7D5-1AC1B388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A3166D-372E-41A4-9EDA-B8A8979C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929986-73CF-4D28-B12A-DB01027E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2B4599-8F19-44DB-AC2C-97E79D42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D801D7-78DF-4B4B-B4C9-67174119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B616A6-77AD-49EC-9143-4971A24A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3AED05-F11D-4D57-84EE-CEEE0173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4D3E7F-BFD4-43C9-8E99-4057B296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6B1E3F-0F90-4C85-96AA-9403A887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544E-ED7D-49BC-B234-9AFE56EE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0FA278-2FA8-44E3-95CB-1FA5D228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BA201-B0A1-475B-9FE8-C3AF7033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F99255-481D-4415-A965-75EE916D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1851FA-65B8-4D4F-92D3-BA3D89A4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E6D39F-9E87-486A-9358-82D68F97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736465-B2C3-4CF8-92E2-5726A741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4EC17-B3BF-4D43-8CD3-43115947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1DE26B-30A2-444B-93D8-B4C03DCB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439698-D94C-4407-949A-3AFB6F33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A098E6-AB06-4F98-A2CB-DA96E899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787A-93EE-4155-A389-A22E7D6A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943881-9034-401C-BBD7-8666CE53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1719B0-F7B7-42BF-B51A-709C25A6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FA7CE2-E9F8-468F-86AF-1E91E56C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45DC63-2C1F-45E7-939D-1FA1DF0F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1F4109-4D30-4950-850A-46A6C173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950260-0794-4277-98C3-46AEB917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C9CC8A-BEC3-4F10-B19B-932950D4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C41F70-160D-45E5-AED4-4622533F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890A20-9619-4467-9DC7-2E861F9B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051E58-963B-4F30-BDFC-33C08B98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CC3B-DB5C-46D4-9E11-3A914C8F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F682D8-A905-4000-B88B-2993A030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87B2A5-E164-4FE5-974C-B33DFBAE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AFC6D6-153E-43B3-913E-CEE1A487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7ADD57-775D-4B64-BDB6-A9379909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477580-17AC-4AF6-BEBF-099B9AC9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90D5BA-87F6-4096-9DB5-C12F5263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6B0D8B-9970-4AF1-990A-D91DF23B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54E357-6671-4161-B312-77E602BE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9CC975-8180-4632-AAB1-50EDF8E8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551553-D7F8-421D-A29A-769322F2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991-CC9C-4DC8-AB99-69249D5D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CE1DE6-B366-42EF-B42E-1E4B51B4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54A741-5B09-4C28-9033-60AF0171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D4A3A4-4B2F-4AB4-ADF8-D36741C3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7EBA8B-32DC-4893-97E5-6EC32C5C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0A8E60-4327-4E3F-8A7B-CFAE32E4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55C83F-4C11-4CF8-BD5C-060B7185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A7C93B-F729-45C3-AB97-27209F3D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4AE4E9-4823-4A2D-889E-0ED49031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CC0AA9-4A4A-465F-BD6C-C95286B2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8702D5-1E46-49A2-9367-600AAE35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939D-2061-4732-B5B7-47481E3F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83E9BC-FA21-452F-9E6B-6D1CE01E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E3F199-3E02-46D0-8123-74CAD248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F0E298-ED10-4706-B96E-5A831AD6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4B221D-4684-420A-A023-2966CC48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913629-A04F-433A-B54F-55E2EACF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7759E8-03C2-45AE-9E34-4298B7A7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FA6207-48A7-4AF2-90FB-FA993F28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EB5527-74C2-4C69-8819-EB5B6FAD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42BD08-5895-455E-AAFD-C651DCBE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421F8E-0C8B-46D7-A6D9-9A3A230D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4442-7947-4F31-831A-E4DCB5ED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DB939B-3431-47B3-9D75-F92B1648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5E472C-417B-41C1-A49D-2D89A92D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5A130A-A704-48B7-8264-C4BC1BEE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5CFC2A-1B13-4BFA-A97F-25A9AD8A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878009-0E91-40F0-A328-AF854BF2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9341F2-9E18-4E1E-A4FC-23CBAB2D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C7E52B-EAA8-4D37-94C2-8BA1CC6E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C45520-8864-4093-9472-C7F463F9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CA2C58-85F6-4501-8210-632A66FD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3894F3-B9EC-4233-8579-02A5E996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0A1C-BDDB-4AF9-83D1-4C343D18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ED6A20-673D-469C-BEBB-BA6442A2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9FD495-4A6F-4549-86C0-086001B3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6A1C8D-06A3-439D-B625-CAB22E04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A4FA7B-A8AD-407D-97FF-8B2BD1A4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B129E1-622E-47B3-B5AD-7E6DD882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7289D4-9C08-4F94-8E19-455D4EC3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1325DE-B92B-4633-94C9-517174DC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EC11F2-220E-436F-B337-ED260425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0793A0-500C-4D0F-A81F-70F1046C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89BD5E-CDE0-49BE-A0CC-B29610B4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9248-D9DC-49D1-9958-69377185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7B7565-53BA-483A-86B2-ADBFB9F1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A3F0D3-D57C-4762-AF4E-91725BEA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32DEC3-446E-42B1-BF72-3A84CF73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450BDC-7BA0-432A-B430-7F47FE86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AC16CF-594E-4749-8E09-7AE89B88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308DBE-07F4-4AA8-B1EB-3A735912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B1E3A1-8B9F-4551-904C-918742E5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F321B6-5FBB-481C-BDE9-A708842C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6FB5E9-32CC-4BAD-A76A-59DCACF1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61CADE-A1FD-4B88-BECB-86C28567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0E16-6887-4B4A-9507-9FC602CF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1F964B-1675-4F11-ADB6-F861CD52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0CBBCE-0D40-4EAB-9330-34EC10C0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9E9BCA-CB41-4FCC-AB58-33C729AC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DCF24F-BE95-4497-B77D-0DA3F285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ADEA29-2D6E-4ADE-960E-51C8B692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89245B-016E-42D4-8EBC-1DFD0370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B5181D-0744-494C-914C-7F3AFF87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84B944-B9E4-4190-8C1C-42A9AC10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1B9CEB-EBD5-4D26-A580-7C4BB23F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FA7F0D-30B0-4BDF-8FAB-CFAEBBE6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6435-798B-49A9-ACF1-9B57DC4D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477B45-A3A1-44F5-8269-C22449B5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E0752E-F161-4396-ABBB-BAFCA71C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69E541-1E09-4D69-8EE7-09B2DB73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BAA8F1-588F-46C9-B79D-D2211D7A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50E671-A079-4AF6-B98F-DC8B549F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2B5965-B2E6-442C-ADC6-8D03E71C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E961E9-ED96-4B38-AE6C-88D6817E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48ED74-10CE-44E0-891B-49A05A22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5B669C-4DA3-484E-AB6E-F07DBB8C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37F0-0297-4F29-A194-A1B2FD4D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3886-DE74-4F69-8E40-12FF2BE1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CB67-F619-44B0-958B-16AA01D1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08F9-FC0C-4544-82FE-A0607594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0077-9771-44C0-A08F-F21893E1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A102-A8D5-4CE6-81BB-6B102F88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3AA7-3D6F-4447-B9A3-A05A0DDB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D41D-9A48-4E54-8BDC-44137BFC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6485C-9A93-4203-B53B-64DD3823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1A5D2-B185-48BC-932F-EAF998AB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2BEFD-241F-4697-8506-B3A25165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6635A-AE7E-4F41-9550-41FE55AD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67437-0EE9-4693-900F-32D1EC21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D4175-6709-4221-A3C5-1865E3AA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F055C-25ED-4788-81D1-221A43C1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C1093-7A12-4F1C-B489-5B096E11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8C45E-1ABF-4300-988D-4F92B3EC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944C2-6C75-4D88-B987-A6B0D10E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9A773-40FF-484B-A365-346DB21C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812B0-172F-4ED0-B1F1-42915594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E4DF6-B0C9-4C5E-B99B-82DA5C66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0CA50-22E6-45DE-8195-27839EE1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7ED43-69B5-4E9A-A5CC-E8479269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1FEB5-9A3A-4EE6-B26D-DD96D006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6ED02-A8FF-4758-AEEF-C8802020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3B23D-3D85-4E0A-96AC-86C2AAA8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F6805-B734-4C70-AC5E-AFF57944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978C8-7784-45B8-92AD-5B84AD6F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A6A75-865A-4FA6-8374-B2FF69B4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A01BF-AA19-405F-960E-290CA874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89511-BA96-45C7-BD3F-5581163F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C9692-21DB-436F-B433-CFB6BF16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7CC67-2449-4488-AB07-4BE34722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BA1F0-A9D8-4FB4-9118-8F83126C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E74C7-FC9B-41BD-8C88-17F2C2AF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57810-C635-4E20-8F91-4CF8B2F1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A5EC8-8F5B-4818-B508-B5F34CC9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05C26-28C0-4D1C-BBF7-FA75A8C9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481FB-BC8E-435D-8CE0-B0C3F6C7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167D5-4B0C-4155-AF91-3150D02F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741B7-706D-415D-BD57-DCFFE81A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2AA33-3AF2-4C5D-A5AB-65742416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2AE06-EB4C-407B-9C79-E3CD467F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EB430-E501-4057-9C05-CFA4AFC7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EE68E-62A0-406F-A40C-8E183DE4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CCD50-D34F-4EF2-81C5-69B6C020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CB07A-373A-4768-B703-A59F02B2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31956-90A4-4674-A6E5-BF44200D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7E76B-623D-4761-A81B-24F33E4A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7FA31-30B5-45CF-8D76-3289BEED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827D6-3506-46D3-BA32-53C3FE61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66613-EB91-40FC-A726-219097F6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21081-EA52-4CB8-BBFB-85F7A1FE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EB534-390A-4D1E-A962-C8074915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87A95-4F0B-469D-B555-6D5447D1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FAD43-7A91-4D8C-AC68-4F41E83D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AC691-F54F-485E-8670-41441A23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23EAB-570B-4D74-8FD7-2140E459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F89A9-AF5B-44D4-882E-8AFFB56A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29EB7-1D58-4C7B-9890-0506E04E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941B4-F0AA-46E3-BED1-942C0559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F7DFF-0A62-4287-B260-883AFD9C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EEF24-CA3C-41E6-A9B4-BAE62E4B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1C80A-5DFE-445F-8C43-11AA4F8C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45865-A47D-43B9-8417-0DBC884F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BA5A2-A966-4B4B-8DD6-0F236282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FB779-17C3-4969-A02D-5B28D441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2F979-8836-4A2C-A00F-F44C0B89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D0BF2-A4E1-4F49-8B39-18389011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2BE29-C999-4175-964F-6D4E8194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A68A4-F224-40D9-B1CC-38B27879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3F8F-915A-4BDA-B565-374361681F57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B85F-970F-4D54-8B7C-1C9AE012870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0F32-0CCE-4CBB-A518-E718C7B4D66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1D44-9AAB-4D71-A502-6A4E8DB055D3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C258-2EFF-430C-B1F7-FA4E9164ACA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B362-D065-401C-A107-EFAD095118A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50E0-34B3-4F55-BE60-2EDEB234926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9102-3249-4806-AD4F-0A3F25F1CB7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010C-3887-4989-B0B4-81705744279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3C90-C11C-4EBC-ADD8-F924304EF3E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BD61-D84D-4A7D-B7C5-10557BC1490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E4ED-19AC-4DA6-9A69-50987A94C67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0E4F-B4E9-4521-A1AA-2F908597129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555B-9EA0-4D2B-912C-4BE82C32428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18B7-FB65-4E25-A4F4-50BDF8C4B88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0F44-971A-4559-86B7-EEC0A495396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947B-55BE-42A6-B609-34B4CA5E5509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3CC7-6332-471F-961B-7B10537557A1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EA76-8F61-4265-AF28-B75CEB0C4A85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3D9B-7697-42B8-AB8C-6098811C2B2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CF9A-8A67-482F-A2AF-8822E435F4A3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C188-C117-4885-94F8-8DA87837894D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F1A3-2B33-4923-81D2-FD7D54093AAD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标题 1"/>
          <p:cNvSpPr/>
          <p:nvPr/>
        </p:nvSpPr>
        <p:spPr>
          <a:xfrm>
            <a:off x="971640" y="1959120"/>
            <a:ext cx="7200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圆锥的体积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82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3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4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6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7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8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90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六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4"/>
          <p:cNvSpPr/>
          <p:nvPr/>
        </p:nvSpPr>
        <p:spPr>
          <a:xfrm>
            <a:off x="4067280" y="1574640"/>
            <a:ext cx="465120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2  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冰淇淋盒有多大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圆柱和圆锥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矩形 10"/>
          <p:cNvSpPr/>
          <p:nvPr/>
        </p:nvSpPr>
        <p:spPr>
          <a:xfrm>
            <a:off x="961920" y="126828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、把一圆锥沿着底面直径切割成相同的两部分，结果表面积增加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厘米，已知圆锥的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，那么圆锥的体积是多少立方厘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30" name="组合 2"/>
          <p:cNvGrpSpPr/>
          <p:nvPr/>
        </p:nvGrpSpPr>
        <p:grpSpPr>
          <a:xfrm>
            <a:off x="1619280" y="3429000"/>
            <a:ext cx="6281640" cy="1739880"/>
            <a:chOff x="1619280" y="3429000"/>
            <a:chExt cx="6281640" cy="1739880"/>
          </a:xfrm>
        </p:grpSpPr>
        <p:sp>
          <p:nvSpPr>
            <p:cNvPr id="1031" name="矩形 4"/>
            <p:cNvSpPr/>
            <p:nvPr/>
          </p:nvSpPr>
          <p:spPr>
            <a:xfrm>
              <a:off x="1619280" y="3429000"/>
              <a:ext cx="6281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8÷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9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平方厘米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　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9×2÷6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厘米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.14×(3÷2)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×6×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4.13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立方厘米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圆锥的体积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4.13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立方厘米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32" name="对象 1" descr=""/>
            <p:cNvPicPr/>
            <p:nvPr/>
          </p:nvPicPr>
          <p:blipFill>
            <a:blip r:embed="rId1"/>
            <a:stretch/>
          </p:blipFill>
          <p:spPr>
            <a:xfrm>
              <a:off x="4616640" y="3945960"/>
              <a:ext cx="270360" cy="720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矩形 10"/>
          <p:cNvSpPr/>
          <p:nvPr/>
        </p:nvSpPr>
        <p:spPr>
          <a:xfrm>
            <a:off x="954000" y="123336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、生活中的数学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个圆锥形麦堆，底面周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1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，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。如果每立方米麦子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克，这堆麦子约重多少吨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数保留一位小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34" name="组合 1"/>
          <p:cNvGrpSpPr/>
          <p:nvPr/>
        </p:nvGrpSpPr>
        <p:grpSpPr>
          <a:xfrm>
            <a:off x="1530360" y="3691080"/>
            <a:ext cx="6488280" cy="2288520"/>
            <a:chOff x="1530360" y="3691080"/>
            <a:chExt cx="6488280" cy="2288520"/>
          </a:xfrm>
        </p:grpSpPr>
        <p:sp>
          <p:nvSpPr>
            <p:cNvPr id="1035" name="矩形 4"/>
            <p:cNvSpPr/>
            <p:nvPr/>
          </p:nvSpPr>
          <p:spPr>
            <a:xfrm>
              <a:off x="1530360" y="3691080"/>
              <a:ext cx="6488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1.4÷3.14÷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5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米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　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.14×5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78.5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平方米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×78.5×1.5×75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9437.5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千克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9437.5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千克≈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9.4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吨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这堆麦子约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9.4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吨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36" name="对象 1" descr=""/>
            <p:cNvPicPr/>
            <p:nvPr/>
          </p:nvPicPr>
          <p:blipFill>
            <a:blip r:embed="rId1"/>
            <a:stretch/>
          </p:blipFill>
          <p:spPr>
            <a:xfrm>
              <a:off x="2465640" y="4230720"/>
              <a:ext cx="270360" cy="720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矩形 10"/>
          <p:cNvSpPr/>
          <p:nvPr/>
        </p:nvSpPr>
        <p:spPr>
          <a:xfrm>
            <a:off x="960480" y="125748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某技工准备做下面一个零件，求这个零件的体积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单位：厘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38" name="Picture 2" descr="YA16K"/>
          <p:cNvPicPr/>
          <p:nvPr/>
        </p:nvPicPr>
        <p:blipFill>
          <a:blip r:embed="rId1"/>
          <a:stretch/>
        </p:blipFill>
        <p:spPr>
          <a:xfrm>
            <a:off x="7056360" y="1968480"/>
            <a:ext cx="863640" cy="2549520"/>
          </a:xfrm>
          <a:prstGeom prst="rect">
            <a:avLst/>
          </a:prstGeom>
          <a:ln w="0">
            <a:noFill/>
          </a:ln>
        </p:spPr>
      </p:pic>
      <p:grpSp>
        <p:nvGrpSpPr>
          <p:cNvPr id="1039" name="组合 1"/>
          <p:cNvGrpSpPr/>
          <p:nvPr/>
        </p:nvGrpSpPr>
        <p:grpSpPr>
          <a:xfrm>
            <a:off x="1511280" y="3218040"/>
            <a:ext cx="5545080" cy="1761480"/>
            <a:chOff x="1511280" y="3218040"/>
            <a:chExt cx="5545080" cy="1761480"/>
          </a:xfrm>
        </p:grpSpPr>
        <p:sp>
          <p:nvSpPr>
            <p:cNvPr id="1040" name="矩形 4"/>
            <p:cNvSpPr/>
            <p:nvPr/>
          </p:nvSpPr>
          <p:spPr>
            <a:xfrm>
              <a:off x="1511280" y="3239640"/>
              <a:ext cx="5545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.14×(4÷2)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×6×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.14×(4÷2)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×8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25.6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立方厘米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这个零件的体积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25.6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立方厘米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41" name="对象 1" descr=""/>
            <p:cNvPicPr/>
            <p:nvPr/>
          </p:nvPicPr>
          <p:blipFill>
            <a:blip r:embed="rId2"/>
            <a:stretch/>
          </p:blipFill>
          <p:spPr>
            <a:xfrm>
              <a:off x="4148640" y="3218040"/>
              <a:ext cx="270360" cy="720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2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43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44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45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46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7" name="矩形 19"/>
          <p:cNvSpPr/>
          <p:nvPr/>
        </p:nvSpPr>
        <p:spPr>
          <a:xfrm>
            <a:off x="963720" y="123336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50000"/>
              </a:lnSpc>
              <a:tabLst>
                <a:tab algn="l" pos="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一、如图所示的直角三角形的两条直角边的长度分别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以每条直角边所在的直线为轴各旋转一周，都可以得到一个圆锥，哪个圆锥的体积大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48" name="Picture 9" descr="XT7"/>
          <p:cNvPicPr/>
          <p:nvPr/>
        </p:nvPicPr>
        <p:blipFill>
          <a:blip r:embed="rId2"/>
          <a:stretch/>
        </p:blipFill>
        <p:spPr>
          <a:xfrm>
            <a:off x="6546960" y="2824200"/>
            <a:ext cx="148104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049" name="组合 1"/>
          <p:cNvGrpSpPr/>
          <p:nvPr/>
        </p:nvGrpSpPr>
        <p:grpSpPr>
          <a:xfrm>
            <a:off x="1150920" y="3432240"/>
            <a:ext cx="6508800" cy="2883240"/>
            <a:chOff x="1150920" y="3432240"/>
            <a:chExt cx="6508800" cy="2883240"/>
          </a:xfrm>
        </p:grpSpPr>
        <p:sp>
          <p:nvSpPr>
            <p:cNvPr id="1050" name="矩形 4"/>
            <p:cNvSpPr/>
            <p:nvPr/>
          </p:nvSpPr>
          <p:spPr>
            <a:xfrm>
              <a:off x="1150920" y="3432240"/>
              <a:ext cx="6508800" cy="28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×3.14×4×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7.68(cm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3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4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×3.14×3×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50.24(cm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3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以长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cm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的直角边所在的直线为  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   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轴旋转一周得到的圆锥体积大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51" name="对象 1" descr=""/>
            <p:cNvPicPr/>
            <p:nvPr/>
          </p:nvPicPr>
          <p:blipFill>
            <a:blip r:embed="rId3"/>
            <a:stretch/>
          </p:blipFill>
          <p:spPr>
            <a:xfrm>
              <a:off x="4387320" y="3475440"/>
              <a:ext cx="27036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对象 1" descr=""/>
            <p:cNvPicPr/>
            <p:nvPr/>
          </p:nvPicPr>
          <p:blipFill>
            <a:blip r:embed="rId4"/>
            <a:stretch/>
          </p:blipFill>
          <p:spPr>
            <a:xfrm>
              <a:off x="4411440" y="4332240"/>
              <a:ext cx="270360" cy="720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177920" y="1665360"/>
            <a:ext cx="71690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8200" indent="-80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利用圆柱、圆锥体积之间的关系解决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8200" indent="-80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圆锥底面半径或高扩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缩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导致体积的变化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8200" indent="-80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利用圆锥的体积求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8200" indent="-80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利用等积法解决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8200" indent="-80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解决有关圆锥切、削的体积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8200" indent="-80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圆锥体积的实际生活运用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984240" y="1341360"/>
            <a:ext cx="7151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、动脑想，仔细填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等底等高的圆柱和圆锥，体积之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立方分米，那么圆柱的体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立方分米，圆锥的体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立方分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圆锥的体积比和它等底等高的圆柱的体积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立方米，这个圆柱的体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圆锥的体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4" name="TextBox 12"/>
          <p:cNvSpPr/>
          <p:nvPr/>
        </p:nvSpPr>
        <p:spPr>
          <a:xfrm>
            <a:off x="5089680" y="256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5" name="TextBox 13"/>
          <p:cNvSpPr/>
          <p:nvPr/>
        </p:nvSpPr>
        <p:spPr>
          <a:xfrm>
            <a:off x="3164040" y="3095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6" name="TextBox 9"/>
          <p:cNvSpPr/>
          <p:nvPr/>
        </p:nvSpPr>
        <p:spPr>
          <a:xfrm>
            <a:off x="5733000" y="4251240"/>
            <a:ext cx="11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.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立方米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7" name="TextBox 11"/>
          <p:cNvSpPr/>
          <p:nvPr/>
        </p:nvSpPr>
        <p:spPr>
          <a:xfrm>
            <a:off x="3213360" y="4778280"/>
            <a:ext cx="11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.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立方米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矩形 10"/>
          <p:cNvSpPr/>
          <p:nvPr/>
        </p:nvSpPr>
        <p:spPr>
          <a:xfrm>
            <a:off x="984240" y="1341360"/>
            <a:ext cx="715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个圆锥比与它等底等体积的圆柱的高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，这个圆锥的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个圆柱与一个圆锥底面积的比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∶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高的比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∶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体积比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9" name="TextBox 12"/>
          <p:cNvSpPr/>
          <p:nvPr/>
        </p:nvSpPr>
        <p:spPr>
          <a:xfrm>
            <a:off x="4209120" y="207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0" name="TextBox 13"/>
          <p:cNvSpPr/>
          <p:nvPr/>
        </p:nvSpPr>
        <p:spPr>
          <a:xfrm>
            <a:off x="4530240" y="3105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 ∶2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Box 1"/>
          <p:cNvSpPr/>
          <p:nvPr/>
        </p:nvSpPr>
        <p:spPr>
          <a:xfrm>
            <a:off x="880920" y="1303200"/>
            <a:ext cx="73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、选一选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圆锥的高扩大到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倍，底面周长不变，圆锥的体积就扩大到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倍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倍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不确定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个圆锥的底面积缩小到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高不变，它的体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缩小到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扩大到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不变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缩小到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2" name="对象 2" descr=""/>
          <p:cNvPicPr/>
          <p:nvPr/>
        </p:nvPicPr>
        <p:blipFill>
          <a:blip r:embed="rId1"/>
          <a:stretch/>
        </p:blipFill>
        <p:spPr>
          <a:xfrm>
            <a:off x="5940360" y="3968640"/>
            <a:ext cx="247680" cy="720720"/>
          </a:xfrm>
          <a:prstGeom prst="rect">
            <a:avLst/>
          </a:prstGeom>
          <a:ln w="0">
            <a:noFill/>
          </a:ln>
        </p:spPr>
      </p:pic>
      <p:sp>
        <p:nvSpPr>
          <p:cNvPr id="1013" name="TextBox 6"/>
          <p:cNvSpPr/>
          <p:nvPr/>
        </p:nvSpPr>
        <p:spPr>
          <a:xfrm>
            <a:off x="5151960" y="245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4" name="TextBox 7"/>
          <p:cNvSpPr/>
          <p:nvPr/>
        </p:nvSpPr>
        <p:spPr>
          <a:xfrm>
            <a:off x="2703240" y="46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5" name="对象 1" descr=""/>
          <p:cNvPicPr/>
          <p:nvPr/>
        </p:nvPicPr>
        <p:blipFill>
          <a:blip r:embed="rId2"/>
          <a:stretch/>
        </p:blipFill>
        <p:spPr>
          <a:xfrm>
            <a:off x="4032360" y="5114880"/>
            <a:ext cx="247680" cy="720720"/>
          </a:xfrm>
          <a:prstGeom prst="rect">
            <a:avLst/>
          </a:prstGeom>
          <a:ln w="0">
            <a:noFill/>
          </a:ln>
        </p:spPr>
      </p:pic>
      <p:pic>
        <p:nvPicPr>
          <p:cNvPr id="1016" name="对象 2" descr=""/>
          <p:cNvPicPr/>
          <p:nvPr/>
        </p:nvPicPr>
        <p:blipFill>
          <a:blip r:embed="rId3"/>
          <a:stretch/>
        </p:blipFill>
        <p:spPr>
          <a:xfrm>
            <a:off x="7332840" y="5618160"/>
            <a:ext cx="26964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矩形 1"/>
          <p:cNvSpPr/>
          <p:nvPr/>
        </p:nvSpPr>
        <p:spPr>
          <a:xfrm>
            <a:off x="824040" y="130500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636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、把一个圆锥形钢块放入某一装满水的容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钢块完全浸没水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结果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.5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升的水溢出，已知圆锥形钢块的底面直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米，圆锥形钢块的高是多少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8" name="矩形 2"/>
          <p:cNvSpPr/>
          <p:nvPr/>
        </p:nvSpPr>
        <p:spPr>
          <a:xfrm>
            <a:off x="2054160" y="3789360"/>
            <a:ext cx="503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.5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升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.5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立方分米　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14×(4÷2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.5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平方分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×12.56÷12.5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圆锥形钢块的高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矩形 1"/>
          <p:cNvSpPr/>
          <p:nvPr/>
        </p:nvSpPr>
        <p:spPr>
          <a:xfrm>
            <a:off x="1619280" y="3681360"/>
            <a:ext cx="6537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×8×8×3÷6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4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这个圆锥形零件的高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0" name="矩形 2"/>
          <p:cNvSpPr/>
          <p:nvPr/>
        </p:nvSpPr>
        <p:spPr>
          <a:xfrm>
            <a:off x="971640" y="127944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、解决问题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把一个棱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米的正方体钢块熔铸成一个底面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分米的圆锥形零件，这个圆锥形零件的高是多少分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矩形 2"/>
          <p:cNvSpPr/>
          <p:nvPr/>
        </p:nvSpPr>
        <p:spPr>
          <a:xfrm>
            <a:off x="971640" y="127944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把底面直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、高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的圆柱形酒瓶内装满酒，倒入底面直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、高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的圆锥形酒杯内，能倒满多少杯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22" name="组合 4"/>
          <p:cNvGrpSpPr/>
          <p:nvPr/>
        </p:nvGrpSpPr>
        <p:grpSpPr>
          <a:xfrm>
            <a:off x="971640" y="3176640"/>
            <a:ext cx="7380360" cy="1303920"/>
            <a:chOff x="971640" y="3176640"/>
            <a:chExt cx="7380360" cy="1303920"/>
          </a:xfrm>
        </p:grpSpPr>
        <p:sp>
          <p:nvSpPr>
            <p:cNvPr id="1023" name="矩形 1"/>
            <p:cNvSpPr/>
            <p:nvPr/>
          </p:nvSpPr>
          <p:spPr>
            <a:xfrm>
              <a:off x="971640" y="3213000"/>
              <a:ext cx="738036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(10÷2)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×3.14×24÷[(6÷2)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×3.14×5×   ]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40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能倒满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4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杯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24" name="对象 3" descr=""/>
            <p:cNvPicPr/>
            <p:nvPr/>
          </p:nvPicPr>
          <p:blipFill>
            <a:blip r:embed="rId1"/>
            <a:stretch/>
          </p:blipFill>
          <p:spPr>
            <a:xfrm>
              <a:off x="6624360" y="3176640"/>
              <a:ext cx="270000" cy="720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矩形 10"/>
          <p:cNvSpPr/>
          <p:nvPr/>
        </p:nvSpPr>
        <p:spPr>
          <a:xfrm>
            <a:off x="947880" y="130500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、把一个棱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米的正方体削成一个最大的圆锥，这个圆锥的体积是多少立方分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26" name="组合 3"/>
          <p:cNvGrpSpPr/>
          <p:nvPr/>
        </p:nvGrpSpPr>
        <p:grpSpPr>
          <a:xfrm>
            <a:off x="1403280" y="2889360"/>
            <a:ext cx="6477120" cy="1922760"/>
            <a:chOff x="1403280" y="2889360"/>
            <a:chExt cx="6477120" cy="1922760"/>
          </a:xfrm>
        </p:grpSpPr>
        <p:sp>
          <p:nvSpPr>
            <p:cNvPr id="1027" name="矩形 4"/>
            <p:cNvSpPr/>
            <p:nvPr/>
          </p:nvSpPr>
          <p:spPr>
            <a:xfrm>
              <a:off x="1403280" y="2889360"/>
              <a:ext cx="64771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(6÷2)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×3.14×6×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56.52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立方分米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这个圆锥的体积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56.5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立方分米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28" name="对象 1" descr=""/>
            <p:cNvPicPr/>
            <p:nvPr/>
          </p:nvPicPr>
          <p:blipFill>
            <a:blip r:embed="rId1"/>
            <a:stretch/>
          </p:blipFill>
          <p:spPr>
            <a:xfrm>
              <a:off x="4555440" y="2889360"/>
              <a:ext cx="270000" cy="719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/>
  <dc:description/>
  <dc:language>en-US</dc:language>
  <cp:lastModifiedBy>相忘于江湖</cp:lastModifiedBy>
  <dcterms:modified xsi:type="dcterms:W3CDTF">2018-01-07T08:28:33Z</dcterms:modified>
  <cp:revision>1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