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B8B-02D6-4AD9-AC4F-AA5E8183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768-2DE4-4268-8887-D775FBE2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8BA-60B5-429D-A12A-4D34DED6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B40-B181-4B07-81C8-321B457E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E72-0A92-405D-B736-794F7DA6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75A-FFB9-4914-8BBE-A0B7710C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6B2-5098-4490-B625-EE3D7001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15F-E0D7-4AF9-8AC2-1CDE2236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7E8-AD53-4F0D-8BF0-DB0C4CF9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EB4-C2FD-4360-8143-6B47673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483-62D5-41FE-A34F-55C9BBF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593-E799-4310-B09F-464E47F6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91CB-DC8F-463D-BAF2-1EEFA7E4F94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121932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校儿童剧团中有五年级学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四年级学生比五年级学生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五年级学生比三年级学生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554480" y="22860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四年级学生有多少人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554480" y="39625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三年级学生有多少人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133720" y="281952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1.25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50532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四年级学生有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133720" y="4448160"/>
            <a:ext cx="38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三年级学生有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911760" y="532116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4267080" y="5702400"/>
            <a:ext cx="20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3809880" y="6172200"/>
            <a:ext cx="39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三年级学生有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676600" y="4876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80880" y="1114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762120" y="121932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是李叔叔家这两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果品的产量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23720" y="176688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今年核桃的产量比去年减少了几成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82680" y="1114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6" descr=""/>
          <p:cNvPicPr/>
          <p:nvPr/>
        </p:nvPicPr>
        <p:blipFill>
          <a:blip r:embed="rId2"/>
          <a:srcRect l="18106" t="21107" r="5658" b="40898"/>
          <a:stretch/>
        </p:blipFill>
        <p:spPr>
          <a:xfrm>
            <a:off x="3505320" y="1752480"/>
            <a:ext cx="5029200" cy="1131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258200" y="380988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今年板栗的产量比去年增加了几成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3440" y="51814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还能提出什么问题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290988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100 = 20÷10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542916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10000" y="33526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今年核桃的产量比去年减少了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81160" y="434340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60-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400 = 60÷40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457960" y="43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成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905640" y="4800600"/>
            <a:ext cx="35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今年板栗的产量比去年增加了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成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5127480" y="51958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年大枣的产量比去年增加了几成？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18960" y="564840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-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00 = 50÷20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5495760" y="5662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成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764880" y="60958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今年大枣的产量比去年增加了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成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0"/>
          <p:cNvSpPr/>
          <p:nvPr/>
        </p:nvSpPr>
        <p:spPr>
          <a:xfrm>
            <a:off x="533520" y="58341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533520" y="617220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这些信息，你能提出什么问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4456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7200" y="2057400"/>
            <a:ext cx="5791320" cy="35812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27"/>
          <p:cNvSpPr/>
          <p:nvPr/>
        </p:nvSpPr>
        <p:spPr>
          <a:xfrm>
            <a:off x="3809880" y="3657600"/>
            <a:ext cx="2667240" cy="1219320"/>
          </a:xfrm>
          <a:prstGeom prst="wedgeEllipseCallout">
            <a:avLst>
              <a:gd name="adj1" fmla="val -48629"/>
              <a:gd name="adj2" fmla="val 29949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年产石榴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，比去年增产二成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0"/>
          <p:cNvSpPr/>
          <p:nvPr/>
        </p:nvSpPr>
        <p:spPr>
          <a:xfrm>
            <a:off x="6124680" y="2576520"/>
            <a:ext cx="25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年产石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1"/>
          <p:cNvSpPr/>
          <p:nvPr/>
        </p:nvSpPr>
        <p:spPr>
          <a:xfrm>
            <a:off x="6048360" y="3119400"/>
            <a:ext cx="30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去年增产二成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0"/>
          <p:cNvSpPr/>
          <p:nvPr/>
        </p:nvSpPr>
        <p:spPr>
          <a:xfrm>
            <a:off x="63151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年产石榴多少吨？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962520" y="35812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4724280" y="41911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3962520" y="41911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9"/>
          <p:cNvSpPr/>
          <p:nvPr/>
        </p:nvSpPr>
        <p:spPr>
          <a:xfrm>
            <a:off x="6095880" y="31240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0"/>
          <p:cNvSpPr/>
          <p:nvPr/>
        </p:nvSpPr>
        <p:spPr>
          <a:xfrm>
            <a:off x="8229600" y="288144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0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1371600" cy="7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423720" cy="380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6"/>
          <p:cNvSpPr/>
          <p:nvPr/>
        </p:nvSpPr>
        <p:spPr>
          <a:xfrm>
            <a:off x="1535040" y="130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年产石榴多少吨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>
            <a:off x="5958000" y="528624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 flipH="1">
            <a:off x="5943240" y="4267080"/>
            <a:ext cx="19080" cy="1432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9"/>
          <p:cNvSpPr/>
          <p:nvPr/>
        </p:nvSpPr>
        <p:spPr>
          <a:xfrm>
            <a:off x="1445760" y="4295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0"/>
          <p:cNvSpPr/>
          <p:nvPr/>
        </p:nvSpPr>
        <p:spPr>
          <a:xfrm>
            <a:off x="1461600" y="5051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1"/>
          <p:cNvSpPr/>
          <p:nvPr/>
        </p:nvSpPr>
        <p:spPr>
          <a:xfrm>
            <a:off x="2344680" y="5410080"/>
            <a:ext cx="359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2"/>
          <p:cNvSpPr/>
          <p:nvPr/>
        </p:nvSpPr>
        <p:spPr>
          <a:xfrm>
            <a:off x="2340000" y="53481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3"/>
          <p:cNvSpPr/>
          <p:nvPr/>
        </p:nvSpPr>
        <p:spPr>
          <a:xfrm rot="16200000">
            <a:off x="4081320" y="2652120"/>
            <a:ext cx="152280" cy="3581280"/>
          </a:xfrm>
          <a:custGeom>
            <a:avLst/>
            <a:gdLst>
              <a:gd name="textAreaLeft" fmla="*/ 0 w 152280"/>
              <a:gd name="textAreaRight" fmla="*/ 55080 w 152280"/>
              <a:gd name="textAreaTop" fmla="*/ 88560 h 3581280"/>
              <a:gd name="textAreaBottom" fmla="*/ 3492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7"/>
                  <a:pt x="10800" y="1713"/>
                </a:cubicBezTo>
                <a:lnTo>
                  <a:pt x="10800" y="8828"/>
                </a:lnTo>
                <a:cubicBezTo>
                  <a:pt x="10800" y="9685"/>
                  <a:pt x="16200" y="10541"/>
                  <a:pt x="21600" y="10541"/>
                </a:cubicBezTo>
                <a:cubicBezTo>
                  <a:pt x="16200" y="10541"/>
                  <a:pt x="10800" y="11398"/>
                  <a:pt x="10800" y="12254"/>
                </a:cubicBezTo>
                <a:lnTo>
                  <a:pt x="10800" y="19887"/>
                </a:lnTo>
                <a:cubicBezTo>
                  <a:pt x="10800" y="20744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3773520" y="397188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5"/>
          <p:cNvSpPr/>
          <p:nvPr/>
        </p:nvSpPr>
        <p:spPr>
          <a:xfrm rot="16200000">
            <a:off x="4460760" y="3024000"/>
            <a:ext cx="162000" cy="4343400"/>
          </a:xfrm>
          <a:custGeom>
            <a:avLst/>
            <a:gdLst>
              <a:gd name="textAreaLeft" fmla="*/ 0 w 162000"/>
              <a:gd name="textAreaRight" fmla="*/ 58320 w 1620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4154400" y="4753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7"/>
          <p:cNvSpPr/>
          <p:nvPr/>
        </p:nvSpPr>
        <p:spPr>
          <a:xfrm rot="5400000">
            <a:off x="6279120" y="5150520"/>
            <a:ext cx="228600" cy="900000"/>
          </a:xfrm>
          <a:custGeom>
            <a:avLst/>
            <a:gdLst>
              <a:gd name="textAreaLeft" fmla="*/ 0 w 228600"/>
              <a:gd name="textAreaRight" fmla="*/ 82440 w 22860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328840" y="463860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2340000" y="456264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0"/>
          <p:cNvSpPr/>
          <p:nvPr/>
        </p:nvSpPr>
        <p:spPr>
          <a:xfrm>
            <a:off x="5943600" y="45720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1"/>
          <p:cNvSpPr/>
          <p:nvPr/>
        </p:nvSpPr>
        <p:spPr>
          <a:xfrm>
            <a:off x="5943600" y="5410080"/>
            <a:ext cx="900000" cy="1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6858000" y="53341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4"/>
          <p:cNvSpPr/>
          <p:nvPr/>
        </p:nvSpPr>
        <p:spPr>
          <a:xfrm>
            <a:off x="5638680" y="579132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去年增长</a:t>
            </a: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3" descr="蓝色按钮"/>
          <p:cNvPicPr/>
          <p:nvPr/>
        </p:nvPicPr>
        <p:blipFill>
          <a:blip r:embed="rId3"/>
          <a:stretch/>
        </p:blipFill>
        <p:spPr>
          <a:xfrm>
            <a:off x="2241720" y="628668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4"/>
          <p:cNvSpPr/>
          <p:nvPr/>
        </p:nvSpPr>
        <p:spPr>
          <a:xfrm>
            <a:off x="1981080" y="5987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4" descr="蓝色按钮"/>
          <p:cNvPicPr/>
          <p:nvPr/>
        </p:nvPicPr>
        <p:blipFill>
          <a:blip r:embed="rId4"/>
          <a:stretch/>
        </p:blipFill>
        <p:spPr>
          <a:xfrm>
            <a:off x="449280" y="62974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5"/>
          <p:cNvSpPr/>
          <p:nvPr/>
        </p:nvSpPr>
        <p:spPr>
          <a:xfrm>
            <a:off x="419040" y="6083280"/>
            <a:ext cx="7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7" descr="蓝色按钮"/>
          <p:cNvPicPr/>
          <p:nvPr/>
        </p:nvPicPr>
        <p:blipFill>
          <a:blip r:embed="rId5"/>
          <a:stretch/>
        </p:blipFill>
        <p:spPr>
          <a:xfrm>
            <a:off x="1349280" y="62974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8"/>
          <p:cNvSpPr/>
          <p:nvPr/>
        </p:nvSpPr>
        <p:spPr>
          <a:xfrm>
            <a:off x="1300320" y="6083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990720" y="1828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弄清“二成五”是什么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990720" y="2362320"/>
            <a:ext cx="777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分之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写成百分数就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990720" y="2895480"/>
            <a:ext cx="7543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成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分之二点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写成百分数就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914400" y="3581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画图整理条件和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4"/>
          <p:cNvSpPr/>
          <p:nvPr/>
        </p:nvSpPr>
        <p:spPr>
          <a:xfrm>
            <a:off x="1447920" y="3657600"/>
            <a:ext cx="722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去年的产量 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 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年比去年多的产量 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年的产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5"/>
          <p:cNvSpPr/>
          <p:nvPr/>
        </p:nvSpPr>
        <p:spPr>
          <a:xfrm>
            <a:off x="3122280" y="41911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去年产石榴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6"/>
          <p:cNvSpPr/>
          <p:nvPr/>
        </p:nvSpPr>
        <p:spPr>
          <a:xfrm>
            <a:off x="3276720" y="4724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5%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3700440" y="510552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5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4172040" y="5481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0"/>
          <p:cNvSpPr/>
          <p:nvPr/>
        </p:nvSpPr>
        <p:spPr>
          <a:xfrm>
            <a:off x="2590920" y="600084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去年产石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81"/>
          <p:cNvGrpSpPr/>
          <p:nvPr/>
        </p:nvGrpSpPr>
        <p:grpSpPr>
          <a:xfrm>
            <a:off x="449280" y="6083280"/>
            <a:ext cx="431640" cy="641520"/>
            <a:chOff x="449280" y="6083280"/>
            <a:chExt cx="431640" cy="641520"/>
          </a:xfrm>
        </p:grpSpPr>
        <p:pic>
          <p:nvPicPr>
            <p:cNvPr id="97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480"/>
              <a:ext cx="43164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35"/>
            <p:cNvSpPr/>
            <p:nvPr/>
          </p:nvSpPr>
          <p:spPr>
            <a:xfrm>
              <a:off x="481680" y="60832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3"/>
          <a:stretch/>
        </p:blipFill>
        <p:spPr>
          <a:xfrm>
            <a:off x="719280" y="132228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0"/>
          <p:cNvSpPr/>
          <p:nvPr/>
        </p:nvSpPr>
        <p:spPr>
          <a:xfrm>
            <a:off x="1687320" y="130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年产石榴多少吨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7"/>
          <p:cNvSpPr/>
          <p:nvPr/>
        </p:nvSpPr>
        <p:spPr>
          <a:xfrm>
            <a:off x="6222960" y="299088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8"/>
          <p:cNvSpPr/>
          <p:nvPr/>
        </p:nvSpPr>
        <p:spPr>
          <a:xfrm flipH="1">
            <a:off x="6229080" y="1987560"/>
            <a:ext cx="19080" cy="1432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1708560" y="2000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0"/>
          <p:cNvSpPr/>
          <p:nvPr/>
        </p:nvSpPr>
        <p:spPr>
          <a:xfrm>
            <a:off x="1724400" y="275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1"/>
          <p:cNvSpPr/>
          <p:nvPr/>
        </p:nvSpPr>
        <p:spPr>
          <a:xfrm>
            <a:off x="2593800" y="311472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2"/>
          <p:cNvSpPr/>
          <p:nvPr/>
        </p:nvSpPr>
        <p:spPr>
          <a:xfrm>
            <a:off x="2604960" y="30528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3"/>
          <p:cNvSpPr/>
          <p:nvPr/>
        </p:nvSpPr>
        <p:spPr>
          <a:xfrm rot="16200000">
            <a:off x="4346640" y="356760"/>
            <a:ext cx="152280" cy="3581640"/>
          </a:xfrm>
          <a:custGeom>
            <a:avLst/>
            <a:gdLst>
              <a:gd name="textAreaLeft" fmla="*/ 0 w 152280"/>
              <a:gd name="textAreaRight" fmla="*/ 55080 w 152280"/>
              <a:gd name="textAreaTop" fmla="*/ 88560 h 3581640"/>
              <a:gd name="textAreaBottom" fmla="*/ 349308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7"/>
                  <a:pt x="10800" y="1713"/>
                </a:cubicBezTo>
                <a:lnTo>
                  <a:pt x="10800" y="8828"/>
                </a:lnTo>
                <a:cubicBezTo>
                  <a:pt x="10800" y="9685"/>
                  <a:pt x="16200" y="10541"/>
                  <a:pt x="21600" y="10541"/>
                </a:cubicBezTo>
                <a:cubicBezTo>
                  <a:pt x="16200" y="10541"/>
                  <a:pt x="10800" y="11398"/>
                  <a:pt x="10800" y="12254"/>
                </a:cubicBezTo>
                <a:lnTo>
                  <a:pt x="10800" y="19887"/>
                </a:lnTo>
                <a:cubicBezTo>
                  <a:pt x="10800" y="20744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4"/>
          <p:cNvSpPr/>
          <p:nvPr/>
        </p:nvSpPr>
        <p:spPr>
          <a:xfrm>
            <a:off x="4038480" y="167652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5"/>
          <p:cNvSpPr/>
          <p:nvPr/>
        </p:nvSpPr>
        <p:spPr>
          <a:xfrm rot="16200000">
            <a:off x="4726080" y="728280"/>
            <a:ext cx="161640" cy="4343400"/>
          </a:xfrm>
          <a:custGeom>
            <a:avLst/>
            <a:gdLst>
              <a:gd name="textAreaLeft" fmla="*/ 0 w 161640"/>
              <a:gd name="textAreaRight" fmla="*/ 58320 w 16164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6"/>
          <p:cNvSpPr/>
          <p:nvPr/>
        </p:nvSpPr>
        <p:spPr>
          <a:xfrm>
            <a:off x="4419720" y="24573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 rot="5400000">
            <a:off x="6548040" y="2894040"/>
            <a:ext cx="168120" cy="787320"/>
          </a:xfrm>
          <a:custGeom>
            <a:avLst/>
            <a:gdLst>
              <a:gd name="textAreaLeft" fmla="*/ 0 w 168120"/>
              <a:gd name="textAreaRight" fmla="*/ 60840 w 168120"/>
              <a:gd name="textAreaTop" fmla="*/ 20520 h 787320"/>
              <a:gd name="textAreaBottom" fmla="*/ 766800 h 78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8"/>
          <p:cNvSpPr/>
          <p:nvPr/>
        </p:nvSpPr>
        <p:spPr>
          <a:xfrm>
            <a:off x="2593800" y="234324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9"/>
          <p:cNvSpPr/>
          <p:nvPr/>
        </p:nvSpPr>
        <p:spPr>
          <a:xfrm>
            <a:off x="2604960" y="226692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0"/>
          <p:cNvSpPr/>
          <p:nvPr/>
        </p:nvSpPr>
        <p:spPr>
          <a:xfrm>
            <a:off x="6248520" y="22813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1"/>
          <p:cNvSpPr/>
          <p:nvPr/>
        </p:nvSpPr>
        <p:spPr>
          <a:xfrm>
            <a:off x="6226200" y="3114720"/>
            <a:ext cx="79992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2"/>
          <p:cNvSpPr/>
          <p:nvPr/>
        </p:nvSpPr>
        <p:spPr>
          <a:xfrm>
            <a:off x="7039080" y="306720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4"/>
          <p:cNvSpPr/>
          <p:nvPr/>
        </p:nvSpPr>
        <p:spPr>
          <a:xfrm>
            <a:off x="5738760" y="335772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去年增长</a:t>
            </a: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4114800" y="1693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3914640" y="1585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5"/>
          <p:cNvSpPr/>
          <p:nvPr/>
        </p:nvSpPr>
        <p:spPr>
          <a:xfrm>
            <a:off x="3122280" y="41148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去年产石榴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6"/>
          <p:cNvSpPr/>
          <p:nvPr/>
        </p:nvSpPr>
        <p:spPr>
          <a:xfrm>
            <a:off x="2943360" y="4648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8"/>
          <p:cNvSpPr/>
          <p:nvPr/>
        </p:nvSpPr>
        <p:spPr>
          <a:xfrm>
            <a:off x="3700440" y="510552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5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9"/>
          <p:cNvSpPr/>
          <p:nvPr/>
        </p:nvSpPr>
        <p:spPr>
          <a:xfrm>
            <a:off x="4172040" y="55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0"/>
          <p:cNvSpPr/>
          <p:nvPr/>
        </p:nvSpPr>
        <p:spPr>
          <a:xfrm>
            <a:off x="2590920" y="600084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去年产石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81"/>
          <p:cNvGrpSpPr/>
          <p:nvPr/>
        </p:nvGrpSpPr>
        <p:grpSpPr>
          <a:xfrm>
            <a:off x="449280" y="6083280"/>
            <a:ext cx="431640" cy="641520"/>
            <a:chOff x="449280" y="6083280"/>
            <a:chExt cx="431640" cy="641520"/>
          </a:xfrm>
        </p:grpSpPr>
        <p:pic>
          <p:nvPicPr>
            <p:cNvPr id="128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480"/>
              <a:ext cx="43164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35"/>
            <p:cNvSpPr/>
            <p:nvPr/>
          </p:nvSpPr>
          <p:spPr>
            <a:xfrm>
              <a:off x="481680" y="60832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3"/>
          <a:stretch/>
        </p:blipFill>
        <p:spPr>
          <a:xfrm>
            <a:off x="719280" y="132228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0"/>
          <p:cNvSpPr/>
          <p:nvPr/>
        </p:nvSpPr>
        <p:spPr>
          <a:xfrm>
            <a:off x="1687320" y="130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年产石榴多少吨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7"/>
          <p:cNvSpPr/>
          <p:nvPr/>
        </p:nvSpPr>
        <p:spPr>
          <a:xfrm>
            <a:off x="6222960" y="299088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8"/>
          <p:cNvSpPr/>
          <p:nvPr/>
        </p:nvSpPr>
        <p:spPr>
          <a:xfrm flipH="1">
            <a:off x="6229080" y="1987560"/>
            <a:ext cx="19080" cy="1432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1708560" y="2000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724400" y="275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1"/>
          <p:cNvSpPr/>
          <p:nvPr/>
        </p:nvSpPr>
        <p:spPr>
          <a:xfrm>
            <a:off x="2593800" y="311472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2"/>
          <p:cNvSpPr/>
          <p:nvPr/>
        </p:nvSpPr>
        <p:spPr>
          <a:xfrm>
            <a:off x="2604960" y="30528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3"/>
          <p:cNvSpPr/>
          <p:nvPr/>
        </p:nvSpPr>
        <p:spPr>
          <a:xfrm rot="16200000">
            <a:off x="4346640" y="356760"/>
            <a:ext cx="152280" cy="3581640"/>
          </a:xfrm>
          <a:custGeom>
            <a:avLst/>
            <a:gdLst>
              <a:gd name="textAreaLeft" fmla="*/ 0 w 152280"/>
              <a:gd name="textAreaRight" fmla="*/ 55080 w 152280"/>
              <a:gd name="textAreaTop" fmla="*/ 88560 h 3581640"/>
              <a:gd name="textAreaBottom" fmla="*/ 349308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7"/>
                  <a:pt x="10800" y="1713"/>
                </a:cubicBezTo>
                <a:lnTo>
                  <a:pt x="10800" y="8828"/>
                </a:lnTo>
                <a:cubicBezTo>
                  <a:pt x="10800" y="9685"/>
                  <a:pt x="16200" y="10541"/>
                  <a:pt x="21600" y="10541"/>
                </a:cubicBezTo>
                <a:cubicBezTo>
                  <a:pt x="16200" y="10541"/>
                  <a:pt x="10800" y="11398"/>
                  <a:pt x="10800" y="12254"/>
                </a:cubicBezTo>
                <a:lnTo>
                  <a:pt x="10800" y="19887"/>
                </a:lnTo>
                <a:cubicBezTo>
                  <a:pt x="10800" y="20744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4038480" y="167652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5"/>
          <p:cNvSpPr/>
          <p:nvPr/>
        </p:nvSpPr>
        <p:spPr>
          <a:xfrm rot="16200000">
            <a:off x="4726080" y="728280"/>
            <a:ext cx="161640" cy="4343400"/>
          </a:xfrm>
          <a:custGeom>
            <a:avLst/>
            <a:gdLst>
              <a:gd name="textAreaLeft" fmla="*/ 0 w 161640"/>
              <a:gd name="textAreaRight" fmla="*/ 58320 w 16164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419720" y="24573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7"/>
          <p:cNvSpPr/>
          <p:nvPr/>
        </p:nvSpPr>
        <p:spPr>
          <a:xfrm rot="5400000">
            <a:off x="6548040" y="2894040"/>
            <a:ext cx="168120" cy="787320"/>
          </a:xfrm>
          <a:custGeom>
            <a:avLst/>
            <a:gdLst>
              <a:gd name="textAreaLeft" fmla="*/ 0 w 168120"/>
              <a:gd name="textAreaRight" fmla="*/ 60840 w 168120"/>
              <a:gd name="textAreaTop" fmla="*/ 20520 h 787320"/>
              <a:gd name="textAreaBottom" fmla="*/ 766800 h 78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2593800" y="234324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9"/>
          <p:cNvSpPr/>
          <p:nvPr/>
        </p:nvSpPr>
        <p:spPr>
          <a:xfrm>
            <a:off x="2604960" y="226692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6248520" y="22813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6226200" y="3114720"/>
            <a:ext cx="79992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2"/>
          <p:cNvSpPr/>
          <p:nvPr/>
        </p:nvSpPr>
        <p:spPr>
          <a:xfrm>
            <a:off x="7039080" y="306720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5738760" y="335772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去年增长</a:t>
            </a: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4"/>
          <p:cNvSpPr/>
          <p:nvPr/>
        </p:nvSpPr>
        <p:spPr>
          <a:xfrm>
            <a:off x="4114800" y="1693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3914640" y="1585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2297160" y="3641760"/>
            <a:ext cx="59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去年的产量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+25%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年的产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试一试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12952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列式计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714760" y="3505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儿子的身高是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6"/>
          <p:cNvSpPr/>
          <p:nvPr/>
        </p:nvSpPr>
        <p:spPr>
          <a:xfrm>
            <a:off x="3386160" y="4114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8"/>
          <p:cNvSpPr/>
          <p:nvPr/>
        </p:nvSpPr>
        <p:spPr>
          <a:xfrm>
            <a:off x="4356000" y="472428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1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9"/>
          <p:cNvSpPr/>
          <p:nvPr/>
        </p:nvSpPr>
        <p:spPr>
          <a:xfrm>
            <a:off x="4662360" y="5257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1905120" y="1828800"/>
            <a:ext cx="4724280" cy="1490400"/>
            <a:chOff x="1905120" y="1828800"/>
            <a:chExt cx="4724280" cy="1490400"/>
          </a:xfrm>
        </p:grpSpPr>
        <p:pic>
          <p:nvPicPr>
            <p:cNvPr id="161" name="Picture 7" descr=""/>
            <p:cNvPicPr/>
            <p:nvPr/>
          </p:nvPicPr>
          <p:blipFill>
            <a:blip r:embed="rId2"/>
            <a:srcRect l="50690" t="16481" r="3793" b="-0"/>
            <a:stretch/>
          </p:blipFill>
          <p:spPr>
            <a:xfrm>
              <a:off x="1905120" y="1962360"/>
              <a:ext cx="4724280" cy="13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15"/>
            <p:cNvSpPr/>
            <p:nvPr/>
          </p:nvSpPr>
          <p:spPr>
            <a:xfrm>
              <a:off x="1905120" y="1828800"/>
              <a:ext cx="899640" cy="26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1001160" y="2454120"/>
            <a:ext cx="63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成        五成        四成五        十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748160" y="137160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列成数改写成百分数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分数改写成成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87240" y="3657600"/>
            <a:ext cx="78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         10%         75%           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536840" y="2502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340080" y="247644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562720" y="24764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7340760" y="2457360"/>
            <a:ext cx="14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23880" y="3657600"/>
            <a:ext cx="17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三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276720" y="3637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一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5220720" y="36432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七成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7430400" y="36432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七成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685800" y="129528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足球赛举办方决定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门票免费送给学生，免费送出的门票数占足球场座位总数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个足球场共有多少个座位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905120" y="320040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这个足球场共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座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371600" y="2438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足球场座位总数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 5% =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免费送出的门票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943360" y="4343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629160" y="4876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905120" y="5486400"/>
            <a:ext cx="49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足球场共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座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28954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 5% = 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9840" y="12049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38080" y="1295280"/>
            <a:ext cx="7772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星村去年的棉花产量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，今年比去年增产两成，今年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棉花产量是多少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6120" y="266688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 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38280" y="4876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今年的棉花产量是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39840" y="12049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657440" y="388620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676520" y="327672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 ×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14:05Z</dcterms:created>
  <dc:creator/>
  <dc:description/>
  <dc:language>en-US</dc:language>
  <cp:lastModifiedBy>微软用户</cp:lastModifiedBy>
  <dcterms:modified xsi:type="dcterms:W3CDTF">2015-11-17T07:15:15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