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9.jpeg" ContentType="image/jpeg"/>
  <Override PartName="/ppt/media/image26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9.wmf" ContentType="image/x-wmf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66D-645D-4B93-8A0A-B6DF121E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3DA-3C91-41CA-954E-4BBAC109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9AE-ACBA-49FC-A027-746D0342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C62-824E-41BF-8301-F9B40E87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462-6786-43E9-8D58-F6E916A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4AB-BEDD-4C5A-871A-15F5430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B9B-5D06-4A9C-BCFE-FCED9AD4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3D-F615-4FE0-9CB2-1B9060F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D57-7592-493E-8CA8-D261BD73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FC7-4331-4BF3-A76C-6F2E871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11A-B744-41F4-B434-1A264FF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77E-BF4D-4240-9E56-47CBAE2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161-4926-4493-A264-C6C48A2935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3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10.jpeg"/><Relationship Id="rId8" Type="http://schemas.openxmlformats.org/officeDocument/2006/relationships/image" Target="../media/image37.jpeg"/><Relationship Id="rId9" Type="http://schemas.openxmlformats.org/officeDocument/2006/relationships/image" Target="../media/image38.pn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7.jpeg"/><Relationship Id="rId13" Type="http://schemas.openxmlformats.org/officeDocument/2006/relationships/image" Target="../media/image38.png"/><Relationship Id="rId14" Type="http://schemas.openxmlformats.org/officeDocument/2006/relationships/image" Target="../media/image37.jpe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651120" y="4656240"/>
            <a:ext cx="44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×10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708360" y="41241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 × 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5080" y="4206960"/>
            <a:ext cx="428400" cy="772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574640" y="4303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41720" y="4206960"/>
            <a:ext cx="560160" cy="780840"/>
          </a:xfrm>
          <a:prstGeom prst="rect">
            <a:avLst/>
          </a:prstGeom>
          <a:ln w="0">
            <a:noFill/>
          </a:ln>
        </p:spPr>
      </p:pic>
      <p:cxnSp>
        <p:nvCxnSpPr>
          <p:cNvPr id="182" name="直接箭头连接符 15"/>
          <p:cNvCxnSpPr/>
          <p:nvPr/>
        </p:nvCxnSpPr>
        <p:spPr>
          <a:xfrm flipV="1">
            <a:off x="1695240" y="4357440"/>
            <a:ext cx="572040" cy="42912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83" name="直接箭头连接符 19"/>
          <p:cNvCxnSpPr/>
          <p:nvPr/>
        </p:nvCxnSpPr>
        <p:spPr>
          <a:xfrm flipH="1" flipV="1">
            <a:off x="1766880" y="4357080"/>
            <a:ext cx="581400" cy="43884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84" name="Text Box 8"/>
          <p:cNvSpPr/>
          <p:nvPr/>
        </p:nvSpPr>
        <p:spPr>
          <a:xfrm>
            <a:off x="757080" y="20350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 : 2 = 60 : 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592440" y="2338560"/>
            <a:ext cx="44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× 6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635280" y="177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 × 3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66560" y="134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举例验证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57080" y="30430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: 7 = 20 :14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637080" y="342900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× 2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0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693960" y="28926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×14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0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AutoShape 23"/>
          <p:cNvSpPr/>
          <p:nvPr/>
        </p:nvSpPr>
        <p:spPr>
          <a:xfrm>
            <a:off x="3564000" y="1989000"/>
            <a:ext cx="144360" cy="64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AutoShape 24"/>
          <p:cNvSpPr/>
          <p:nvPr/>
        </p:nvSpPr>
        <p:spPr>
          <a:xfrm>
            <a:off x="3564000" y="3068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3564000" y="429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838880" y="5013360"/>
            <a:ext cx="66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755640" y="5516640"/>
            <a:ext cx="7345440" cy="532800"/>
          </a:xfrm>
          <a:prstGeom prst="rect">
            <a:avLst/>
          </a:prstGeom>
          <a:solidFill>
            <a:srgbClr val="ff66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比例里，两个外项的积等于两个内项的积。这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比例的基本性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1"/>
          <p:cNvSpPr/>
          <p:nvPr/>
        </p:nvSpPr>
        <p:spPr>
          <a:xfrm>
            <a:off x="596880" y="14000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求出下面比例中的未知项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071800" y="22860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: 25 = 4 : χ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30480" y="3125880"/>
            <a:ext cx="58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5 × 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547640" y="37209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700360" y="43084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692360" y="5229360"/>
            <a:ext cx="5616360" cy="89820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比例中的未知项，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解比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5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819440" y="2205000"/>
            <a:ext cx="334800" cy="857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663480" cy="823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724800" y="2205000"/>
            <a:ext cx="336240" cy="863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4438080" y="71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4479840" y="1312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979640" y="22766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785880" y="140004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537160" y="2309760"/>
            <a:ext cx="7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700360" y="2205000"/>
            <a:ext cx="334800" cy="85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"/>
          <p:cNvSpPr/>
          <p:nvPr/>
        </p:nvSpPr>
        <p:spPr>
          <a:xfrm>
            <a:off x="5651640" y="22827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187280" y="34034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5×9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244520" y="4000680"/>
            <a:ext cx="21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45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4816440" y="323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4951440" y="4005360"/>
            <a:ext cx="15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283360" y="4773600"/>
            <a:ext cx="1089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6589440" y="32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21"/>
          <p:cNvSpPr/>
          <p:nvPr/>
        </p:nvSpPr>
        <p:spPr>
          <a:xfrm flipV="1">
            <a:off x="4859280" y="450504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2771640" y="4508640"/>
            <a:ext cx="790560" cy="833040"/>
            <a:chOff x="2771640" y="4508640"/>
            <a:chExt cx="790560" cy="833040"/>
          </a:xfrm>
        </p:grpSpPr>
        <p:sp>
          <p:nvSpPr>
            <p:cNvPr id="226" name="Text Box 24"/>
            <p:cNvSpPr/>
            <p:nvPr/>
          </p:nvSpPr>
          <p:spPr>
            <a:xfrm>
              <a:off x="2771640" y="4508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Text Box 25"/>
            <p:cNvSpPr/>
            <p:nvPr/>
          </p:nvSpPr>
          <p:spPr>
            <a:xfrm>
              <a:off x="2842920" y="482112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Line 26"/>
            <p:cNvSpPr/>
            <p:nvPr/>
          </p:nvSpPr>
          <p:spPr>
            <a:xfrm>
              <a:off x="2842920" y="493992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9" name="Group 27"/>
          <p:cNvGrpSpPr/>
          <p:nvPr/>
        </p:nvGrpSpPr>
        <p:grpSpPr>
          <a:xfrm>
            <a:off x="6222960" y="3068640"/>
            <a:ext cx="739800" cy="833400"/>
            <a:chOff x="6222960" y="3068640"/>
            <a:chExt cx="739800" cy="833400"/>
          </a:xfrm>
        </p:grpSpPr>
        <p:sp>
          <p:nvSpPr>
            <p:cNvPr id="230" name="Text Box 28"/>
            <p:cNvSpPr/>
            <p:nvPr/>
          </p:nvSpPr>
          <p:spPr>
            <a:xfrm>
              <a:off x="6222960" y="30686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1" name="Text Box 29"/>
            <p:cNvSpPr/>
            <p:nvPr/>
          </p:nvSpPr>
          <p:spPr>
            <a:xfrm>
              <a:off x="6243480" y="33814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6243480" y="3500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3" name="Group 31"/>
          <p:cNvGrpSpPr/>
          <p:nvPr/>
        </p:nvGrpSpPr>
        <p:grpSpPr>
          <a:xfrm>
            <a:off x="6959520" y="3068640"/>
            <a:ext cx="736560" cy="833400"/>
            <a:chOff x="6959520" y="3068640"/>
            <a:chExt cx="736560" cy="833400"/>
          </a:xfrm>
        </p:grpSpPr>
        <p:sp>
          <p:nvSpPr>
            <p:cNvPr id="234" name="Text Box 32"/>
            <p:cNvSpPr/>
            <p:nvPr/>
          </p:nvSpPr>
          <p:spPr>
            <a:xfrm>
              <a:off x="6977160" y="306864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6959520" y="33814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6972120" y="3500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7" name="Group 35"/>
          <p:cNvGrpSpPr/>
          <p:nvPr/>
        </p:nvGrpSpPr>
        <p:grpSpPr>
          <a:xfrm>
            <a:off x="6156360" y="3789360"/>
            <a:ext cx="722160" cy="858600"/>
            <a:chOff x="6156360" y="3789360"/>
            <a:chExt cx="722160" cy="858600"/>
          </a:xfrm>
        </p:grpSpPr>
        <p:sp>
          <p:nvSpPr>
            <p:cNvPr id="238" name="Text Box 36"/>
            <p:cNvSpPr/>
            <p:nvPr/>
          </p:nvSpPr>
          <p:spPr>
            <a:xfrm>
              <a:off x="6156360" y="378936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37"/>
            <p:cNvSpPr/>
            <p:nvPr/>
          </p:nvSpPr>
          <p:spPr>
            <a:xfrm>
              <a:off x="6159600" y="41274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6159600" y="42465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1" name="Group 39"/>
          <p:cNvGrpSpPr/>
          <p:nvPr/>
        </p:nvGrpSpPr>
        <p:grpSpPr>
          <a:xfrm>
            <a:off x="6300720" y="4653000"/>
            <a:ext cx="723960" cy="833400"/>
            <a:chOff x="6300720" y="4653000"/>
            <a:chExt cx="723960" cy="833400"/>
          </a:xfrm>
        </p:grpSpPr>
        <p:sp>
          <p:nvSpPr>
            <p:cNvPr id="242" name="Text Box 40"/>
            <p:cNvSpPr/>
            <p:nvPr/>
          </p:nvSpPr>
          <p:spPr>
            <a:xfrm>
              <a:off x="6305400" y="4653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6300720" y="496584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Line 42"/>
            <p:cNvSpPr/>
            <p:nvPr/>
          </p:nvSpPr>
          <p:spPr>
            <a:xfrm>
              <a:off x="6300720" y="508464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5" name="Rectangle 43"/>
          <p:cNvSpPr/>
          <p:nvPr/>
        </p:nvSpPr>
        <p:spPr>
          <a:xfrm>
            <a:off x="2195640" y="46530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964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1"/>
          <p:cNvSpPr/>
          <p:nvPr/>
        </p:nvSpPr>
        <p:spPr>
          <a:xfrm>
            <a:off x="903240" y="1341360"/>
            <a:ext cx="74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一个比例中，两个内项都是质数，它们的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900000" y="18446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外项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个外项是多少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2268360" y="2708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÷ 4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2195640" y="3645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另一个外项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539640" y="134136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90400" y="19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因数组成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612720" y="4221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比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比，并组成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197080" y="25146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2 = 4:8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2195640" y="2924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4 = 2:8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195640" y="32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:2 = 4:1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195640" y="36846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1 = 8:4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4500720" y="36925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:4 = 2:1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500720" y="3284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:1 = 8:2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4529160" y="292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8 = 1:4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4498920" y="2525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:8 = 1:2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539640" y="134136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90400" y="19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因数组成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12720" y="4221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比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比，并组成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197080" y="25146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2 = 4:8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195640" y="2924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4 = 2:8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195640" y="32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:2 = 4:1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195640" y="36846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1 = 8:4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500720" y="36925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:4 = 2:1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4500720" y="3284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:1 = 8:2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529160" y="292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8 = 1:4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498920" y="2525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:8 = 1:2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2103480" y="515628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3264120" y="513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4167360" y="515772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692360" y="5157720"/>
            <a:ext cx="428400" cy="50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556000" y="5157720"/>
            <a:ext cx="428400" cy="506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428760" cy="506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4500720" y="5157720"/>
            <a:ext cx="430200" cy="5065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26" descr="03111.JPG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1495440" y="3714840"/>
            <a:ext cx="879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3"/>
          <p:cNvGrpSpPr/>
          <p:nvPr/>
        </p:nvGrpSpPr>
        <p:grpSpPr>
          <a:xfrm>
            <a:off x="2281320" y="2571840"/>
            <a:ext cx="571680" cy="1357200"/>
            <a:chOff x="2281320" y="2571840"/>
            <a:chExt cx="571680" cy="1357200"/>
          </a:xfrm>
        </p:grpSpPr>
        <p:pic>
          <p:nvPicPr>
            <p:cNvPr id="288" name="组合 56" descr=""/>
            <p:cNvPicPr/>
            <p:nvPr/>
          </p:nvPicPr>
          <p:blipFill>
            <a:blip r:embed="rId2"/>
            <a:stretch/>
          </p:blipFill>
          <p:spPr>
            <a:xfrm rot="21599400">
              <a:off x="2281320" y="2571480"/>
              <a:ext cx="5713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Rectangle 11"/>
            <p:cNvSpPr/>
            <p:nvPr/>
          </p:nvSpPr>
          <p:spPr>
            <a:xfrm rot="258000">
              <a:off x="2431440" y="2853000"/>
              <a:ext cx="22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1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"/>
          <p:cNvSpPr/>
          <p:nvPr/>
        </p:nvSpPr>
        <p:spPr>
          <a:xfrm>
            <a:off x="539640" y="1341360"/>
            <a:ext cx="80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数能组成比例吗？请把组成的比例写下来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3944880" y="5516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怎样判断比较简单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4" name="Picture 36" descr="03020副本"/>
          <p:cNvPicPr/>
          <p:nvPr/>
        </p:nvPicPr>
        <p:blipFill>
          <a:blip r:embed="rId4">
            <a:lum contrast="34000"/>
          </a:blip>
          <a:stretch/>
        </p:blipFill>
        <p:spPr>
          <a:xfrm>
            <a:off x="10144080" y="3071880"/>
            <a:ext cx="897120" cy="8110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1"/>
          <p:cNvGrpSpPr/>
          <p:nvPr/>
        </p:nvGrpSpPr>
        <p:grpSpPr>
          <a:xfrm>
            <a:off x="2314080" y="3071880"/>
            <a:ext cx="895680" cy="1500120"/>
            <a:chOff x="2314080" y="3071880"/>
            <a:chExt cx="895680" cy="1500120"/>
          </a:xfrm>
        </p:grpSpPr>
        <p:pic>
          <p:nvPicPr>
            <p:cNvPr id="296" name="组合 41" descr=""/>
            <p:cNvPicPr/>
            <p:nvPr/>
          </p:nvPicPr>
          <p:blipFill>
            <a:blip r:embed="rId5"/>
            <a:stretch/>
          </p:blipFill>
          <p:spPr>
            <a:xfrm rot="21599400">
              <a:off x="2423880" y="3071520"/>
              <a:ext cx="7855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11"/>
            <p:cNvSpPr/>
            <p:nvPr/>
          </p:nvSpPr>
          <p:spPr>
            <a:xfrm rot="1573800">
              <a:off x="2529000" y="3384360"/>
              <a:ext cx="405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1420200" y="2784600"/>
            <a:ext cx="928440" cy="1643040"/>
            <a:chOff x="1420200" y="2784600"/>
            <a:chExt cx="928440" cy="1643040"/>
          </a:xfrm>
        </p:grpSpPr>
        <p:pic>
          <p:nvPicPr>
            <p:cNvPr id="299" name="组合 53" descr=""/>
            <p:cNvPicPr/>
            <p:nvPr/>
          </p:nvPicPr>
          <p:blipFill>
            <a:blip r:embed="rId6"/>
            <a:stretch/>
          </p:blipFill>
          <p:spPr>
            <a:xfrm>
              <a:off x="1420200" y="2784600"/>
              <a:ext cx="92844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11"/>
            <p:cNvSpPr/>
            <p:nvPr/>
          </p:nvSpPr>
          <p:spPr>
            <a:xfrm flipH="1" rot="20679600">
              <a:off x="1621800" y="3156480"/>
              <a:ext cx="591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0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1" name="Rectangle 11"/>
          <p:cNvSpPr/>
          <p:nvPr/>
        </p:nvSpPr>
        <p:spPr>
          <a:xfrm>
            <a:off x="3860640" y="2997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3=20: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4130640" y="55166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是怎么判断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3" name="Group 19"/>
          <p:cNvGrpSpPr/>
          <p:nvPr/>
        </p:nvGrpSpPr>
        <p:grpSpPr>
          <a:xfrm>
            <a:off x="2066760" y="3143160"/>
            <a:ext cx="571680" cy="1357560"/>
            <a:chOff x="2066760" y="3143160"/>
            <a:chExt cx="571680" cy="1357560"/>
          </a:xfrm>
        </p:grpSpPr>
        <p:pic>
          <p:nvPicPr>
            <p:cNvPr id="304" name="组合 50" descr=""/>
            <p:cNvPicPr/>
            <p:nvPr/>
          </p:nvPicPr>
          <p:blipFill>
            <a:blip r:embed="rId7"/>
            <a:stretch/>
          </p:blipFill>
          <p:spPr>
            <a:xfrm>
              <a:off x="2066760" y="3143160"/>
              <a:ext cx="57168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1"/>
            <p:cNvSpPr/>
            <p:nvPr/>
          </p:nvSpPr>
          <p:spPr>
            <a:xfrm>
              <a:off x="2206440" y="3369960"/>
              <a:ext cx="2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6" name="Rectangle 11"/>
          <p:cNvSpPr/>
          <p:nvPr/>
        </p:nvSpPr>
        <p:spPr>
          <a:xfrm>
            <a:off x="3863880" y="3486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20=3: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848040" y="3929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:3=20: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848040" y="43736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:2=30: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813280" y="2997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:30=2: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5792760" y="3492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:30=2: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5789520" y="394812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:2=30: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776920" y="4376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:20=3: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3" name="Group 29"/>
          <p:cNvGrpSpPr/>
          <p:nvPr/>
        </p:nvGrpSpPr>
        <p:grpSpPr>
          <a:xfrm>
            <a:off x="2281320" y="2560680"/>
            <a:ext cx="571680" cy="1357200"/>
            <a:chOff x="2281320" y="2560680"/>
            <a:chExt cx="571680" cy="1357200"/>
          </a:xfrm>
        </p:grpSpPr>
        <p:pic>
          <p:nvPicPr>
            <p:cNvPr id="314" name="组合 56" descr=""/>
            <p:cNvPicPr/>
            <p:nvPr/>
          </p:nvPicPr>
          <p:blipFill>
            <a:blip r:embed="rId8"/>
            <a:stretch/>
          </p:blipFill>
          <p:spPr>
            <a:xfrm rot="21599400">
              <a:off x="2281320" y="2560320"/>
              <a:ext cx="5713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11"/>
            <p:cNvSpPr/>
            <p:nvPr/>
          </p:nvSpPr>
          <p:spPr>
            <a:xfrm rot="258000">
              <a:off x="2431440" y="2842560"/>
              <a:ext cx="22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6" name="Group 32"/>
          <p:cNvGrpSpPr/>
          <p:nvPr/>
        </p:nvGrpSpPr>
        <p:grpSpPr>
          <a:xfrm>
            <a:off x="2098440" y="3060720"/>
            <a:ext cx="1111320" cy="1853640"/>
            <a:chOff x="2098440" y="3060720"/>
            <a:chExt cx="1111320" cy="1853640"/>
          </a:xfrm>
        </p:grpSpPr>
        <p:pic>
          <p:nvPicPr>
            <p:cNvPr id="317" name="组合 41" descr=""/>
            <p:cNvPicPr/>
            <p:nvPr/>
          </p:nvPicPr>
          <p:blipFill>
            <a:blip r:embed="rId9"/>
            <a:stretch/>
          </p:blipFill>
          <p:spPr>
            <a:xfrm rot="21599400">
              <a:off x="2423880" y="3060360"/>
              <a:ext cx="7855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11"/>
            <p:cNvSpPr/>
            <p:nvPr/>
          </p:nvSpPr>
          <p:spPr>
            <a:xfrm rot="1573800">
              <a:off x="2421360" y="3348720"/>
              <a:ext cx="40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9" name="Group 35"/>
          <p:cNvGrpSpPr/>
          <p:nvPr/>
        </p:nvGrpSpPr>
        <p:grpSpPr>
          <a:xfrm>
            <a:off x="1420200" y="2773440"/>
            <a:ext cx="1053720" cy="1971000"/>
            <a:chOff x="1420200" y="2773440"/>
            <a:chExt cx="1053720" cy="1971000"/>
          </a:xfrm>
        </p:grpSpPr>
        <p:pic>
          <p:nvPicPr>
            <p:cNvPr id="320" name="组合 53" descr=""/>
            <p:cNvPicPr/>
            <p:nvPr/>
          </p:nvPicPr>
          <p:blipFill>
            <a:blip r:embed="rId10"/>
            <a:stretch/>
          </p:blipFill>
          <p:spPr>
            <a:xfrm>
              <a:off x="1420200" y="2773440"/>
              <a:ext cx="92844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11"/>
            <p:cNvSpPr/>
            <p:nvPr/>
          </p:nvSpPr>
          <p:spPr>
            <a:xfrm flipH="1" rot="20679600">
              <a:off x="1686600" y="3137400"/>
              <a:ext cx="591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.3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2" name="Group 38"/>
          <p:cNvGrpSpPr/>
          <p:nvPr/>
        </p:nvGrpSpPr>
        <p:grpSpPr>
          <a:xfrm>
            <a:off x="2066760" y="3132000"/>
            <a:ext cx="571680" cy="1357560"/>
            <a:chOff x="2066760" y="3132000"/>
            <a:chExt cx="571680" cy="1357560"/>
          </a:xfrm>
        </p:grpSpPr>
        <p:pic>
          <p:nvPicPr>
            <p:cNvPr id="323" name="组合 50" descr=""/>
            <p:cNvPicPr/>
            <p:nvPr/>
          </p:nvPicPr>
          <p:blipFill>
            <a:blip r:embed="rId11"/>
            <a:stretch/>
          </p:blipFill>
          <p:spPr>
            <a:xfrm>
              <a:off x="2066760" y="3132000"/>
              <a:ext cx="57168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11"/>
            <p:cNvSpPr/>
            <p:nvPr/>
          </p:nvSpPr>
          <p:spPr>
            <a:xfrm>
              <a:off x="2206440" y="3359520"/>
              <a:ext cx="2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5" name="Rectangle 11"/>
          <p:cNvSpPr/>
          <p:nvPr/>
        </p:nvSpPr>
        <p:spPr>
          <a:xfrm>
            <a:off x="4348080" y="304308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×0.3 ≠0.4×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3753000" y="551664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怎样改就组成比例了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59112E-006 C -0.00192 -0.01989 0.00017 -0.00972 -0.00747 -0.02984 C -0.01164 -0.04094 -0.01303 -0.05944 -0.01494 -0.07147 C -0.01633 -0.08002 -0.01789 -0.09737 -0.01789 -0.09737 C -0.01893 -0.12003 -0.01893 -0.13853 -0.02535 -0.15912 C -0.0257 -0.16027 -0.02761 -0.16975 -0.02831 -0.17091 C -0.03195 -0.17808 -0.03282 -0.17577 -0.03733 -0.18085 C -0.0422 -0.1864 -0.04445 -0.19011 -0.0507 -0.19288 C -0.05452 -0.19774 -0.05886 -0.2019 -0.06268 -0.20699 C -0.06511 -0.21023 -0.07015 -0.21693 -0.07015 -0.21693 C -0.07171 -0.22364 -0.07327 -0.22965 -0.07449 -0.23659 C -0.07397 -0.2618 -0.07397 -0.28701 -0.0731 -0.31221 C -0.07223 -0.33442 -0.07067 -0.36078 -0.08351 -0.37766 C -0.08803 -0.39501 -0.09758 -0.41351 -0.10435 -0.42947 C -0.10886 -0.44011 -0.11129 -0.45236 -0.11789 -0.46115 C -0.11945 -0.47017 -0.12206 -0.47179 -0.12535 -0.47919 C -0.12761 -0.48428 -0.12883 -0.49006 -0.13126 -0.49492 C -0.13334 -0.49885 -0.13733 -0.50694 -0.13733 -0.50694 C -0.13785 -0.50902 -0.13803 -0.5111 -0.13872 -0.51295 C -0.13942 -0.51504 -0.14098 -0.51665 -0.14167 -0.51874 C -0.14428 -0.52776 -0.14237 -0.53562 -0.14775 -0.54279 C -0.14983 -0.56291 -0.14723 -0.58187 -0.14914 -0.60245 C -0.14966 -0.60824 -0.15174 -0.60916 -0.15365 -0.61425 C -0.15765 -0.62489 -0.16963 -0.65542 -0.17605 -0.66397 C -0.17657 -0.66605 -0.17761 -0.66998 -0.17761 -0.66998 E">
                                      <p:cBhvr>
                                        <p:cTn id="547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28307E-006 C -0.01458 -0.0562 0.00121 -0.14685 0.03871 -0.18501 C 0.04201 -0.19334 0.04375 -0.19958 0.05069 -0.20282 C 0.06111 -0.2167 0.07135 -0.2308 0.08212 -0.24445 C 0.08785 -0.25208 0.09132 -0.26295 0.09705 -0.27058 C 0.09878 -0.28076 0.10312 -0.28955 0.10746 -0.29833 C 0.10798 -0.30088 0.10798 -0.30389 0.10885 -0.3062 C 0.10955 -0.30782 0.11146 -0.30828 0.11198 -0.31013 C 0.11302 -0.31314 0.11285 -0.31684 0.11337 -0.32007 C 0.11493 -0.32909 0.11458 -0.32354 0.11788 -0.3321 C 0.11979 -0.33696 0.11962 -0.34066 0.12083 -0.34598 C 0.12292 -0.35523 0.12517 -0.36332 0.1283 -0.37188 C 0.12986 -0.38136 0.13108 -0.38714 0.13437 -0.3957 C 0.13785 -0.42484 0.14097 -0.45398 0.14479 -0.48312 C 0.14531 -0.51434 0.13264 -0.59019 0.16267 -0.61633 C 0.16476 -0.62488 0.16736 -0.62303 0.17014 -0.6302 E">
                                      <p:cBhvr>
                                        <p:cTn id="549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02498E-006 C 0.00225 -0.0111 0.00729 -0.01942 0.01058 -0.02983 C 0.01683 -0.04879 0.02413 -0.06799 0.03281 -0.08533 C 0.03333 -0.08811 0.0335 -0.09088 0.03437 -0.09343 C 0.03611 -0.09898 0.04027 -0.10939 0.04027 -0.10939 C 0.04201 -0.12026 0.04479 -0.13344 0.05086 -0.14107 C 0.05416 -0.15217 0.05711 -0.1635 0.05972 -0.17483 C 0.06319 -0.20629 0.06545 -0.23936 0.05833 -0.27035 C 0.05503 -0.29903 0.04565 -0.32493 0.04183 -0.35407 C 0.0427 -0.37141 0.04218 -0.39639 0.0493 -0.4135 C 0.05173 -0.41952 0.05433 -0.4253 0.05676 -0.43131 C 0.0585 -0.43547 0.06076 -0.4394 0.06267 -0.44334 C 0.06371 -0.44542 0.06579 -0.44935 0.06579 -0.44935 C 0.0684 -0.45952 0.07117 -0.46554 0.07465 -0.47502 C 0.07864 -0.50647 0.07899 -0.503 0.07465 -0.55666 C 0.07413 -0.56406 0.06128 -0.57053 0.06128 -0.57053 C 0.05295 -0.58742 0.06527 -0.61702 0.07326 -0.63228 C 0.07742 -0.6487 0.07447 -0.64061 0.08211 -0.6561 C 0.08385 -0.65957 0.08333 -0.66443 0.08506 -0.6679 C 0.08611 -0.66998 0.08715 -0.67183 0.08819 -0.67391 C 0.09218 -0.69149 0.08628 -0.66767 0.09253 -0.68594 C 0.09496 -0.6931 0.09565 -0.70282 0.09861 -0.70976 C 0.10486 -0.72456 0.10451 -0.71646 0.10451 -0.72363 E">
                                      <p:cBhvr>
                                        <p:cTn id="551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8622E-006 C -0.00052 -0.0067 -0.00087 -0.01341 -0.00156 -0.01989 C -0.00174 -0.02197 -0.00278 -0.02382 -0.00295 -0.0259 C -0.00451 -0.04255 -0.0033 -0.06151 -0.00747 -0.0777 C -0.0092 -0.09366 -0.01059 -0.10962 -0.01337 -0.12534 C -0.01458 -0.14084 -0.01528 -0.14916 -0.01945 -0.16304 C -0.02066 -0.18755 -0.02257 -0.21184 -0.02379 -0.23658 C -0.02292 -0.28191 -0.02465 -0.33002 -0.00903 -0.37187 C -0.00625 -0.38968 -0.00278 -0.40749 2.77778E-006 -0.42553 C -0.00139 -0.49352 -0.00017 -0.52798 -0.02083 -0.58441 C -0.0224 -0.59505 -0.02396 -0.60522 -0.0283 -0.61447 C -0.02951 -0.62026 -0.02986 -0.62303 -0.03125 -0.62835 C -0.03229 -0.63228 -0.03438 -0.64038 -0.03438 -0.64038 C -0.03698 -0.66628 -0.03976 -0.69727 -0.0283 -0.7197 C -0.02656 -0.7271 -0.0283 -0.72479 -0.02379 -0.72779 E">
                                      <p:cBhvr>
                                        <p:cTn id="553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自主练习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2068560" y="220356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:9=16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4011480" y="219564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900000" y="5373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个答案？你是怎样想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矩形 19"/>
          <p:cNvSpPr/>
          <p:nvPr/>
        </p:nvSpPr>
        <p:spPr>
          <a:xfrm rot="5400000">
            <a:off x="3639960" y="48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矩形 20"/>
          <p:cNvSpPr/>
          <p:nvPr/>
        </p:nvSpPr>
        <p:spPr>
          <a:xfrm rot="5400000">
            <a:off x="4863960" y="4885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4" name="Picture 13" descr="昆虫"/>
          <p:cNvPicPr/>
          <p:nvPr/>
        </p:nvPicPr>
        <p:blipFill>
          <a:blip r:embed="rId2"/>
          <a:srcRect l="0" t="0" r="0" b="4010"/>
          <a:stretch/>
        </p:blipFill>
        <p:spPr>
          <a:xfrm>
            <a:off x="4084560" y="1916280"/>
            <a:ext cx="935280" cy="863280"/>
          </a:xfrm>
          <a:prstGeom prst="rect">
            <a:avLst/>
          </a:prstGeom>
          <a:ln w="0">
            <a:noFill/>
          </a:ln>
        </p:spPr>
      </p:pic>
      <p:sp>
        <p:nvSpPr>
          <p:cNvPr id="335" name="矩形 33"/>
          <p:cNvSpPr/>
          <p:nvPr/>
        </p:nvSpPr>
        <p:spPr>
          <a:xfrm>
            <a:off x="-781200" y="5286240"/>
            <a:ext cx="78120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矩形 36"/>
          <p:cNvSpPr/>
          <p:nvPr/>
        </p:nvSpPr>
        <p:spPr>
          <a:xfrm>
            <a:off x="214200" y="607212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矩形 40"/>
          <p:cNvSpPr/>
          <p:nvPr/>
        </p:nvSpPr>
        <p:spPr>
          <a:xfrm>
            <a:off x="2043000" y="602928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8" name="Group 13"/>
          <p:cNvGrpSpPr/>
          <p:nvPr/>
        </p:nvGrpSpPr>
        <p:grpSpPr>
          <a:xfrm>
            <a:off x="314280" y="5929200"/>
            <a:ext cx="614520" cy="714600"/>
            <a:chOff x="314280" y="5929200"/>
            <a:chExt cx="614520" cy="714600"/>
          </a:xfrm>
        </p:grpSpPr>
        <p:sp>
          <p:nvSpPr>
            <p:cNvPr id="339" name="Text Box 38"/>
            <p:cNvSpPr/>
            <p:nvPr/>
          </p:nvSpPr>
          <p:spPr>
            <a:xfrm>
              <a:off x="314280" y="59292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40" name="Picture 23" descr="蜜蜂2_副本"/>
            <p:cNvPicPr/>
            <p:nvPr/>
          </p:nvPicPr>
          <p:blipFill>
            <a:blip r:embed="rId3"/>
            <a:stretch/>
          </p:blipFill>
          <p:spPr>
            <a:xfrm>
              <a:off x="536760" y="6149160"/>
              <a:ext cx="39204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6"/>
          <p:cNvGrpSpPr/>
          <p:nvPr/>
        </p:nvGrpSpPr>
        <p:grpSpPr>
          <a:xfrm>
            <a:off x="2231280" y="6000840"/>
            <a:ext cx="764280" cy="685800"/>
            <a:chOff x="2231280" y="6000840"/>
            <a:chExt cx="764280" cy="685800"/>
          </a:xfrm>
        </p:grpSpPr>
        <p:sp>
          <p:nvSpPr>
            <p:cNvPr id="342" name="Text Box 47"/>
            <p:cNvSpPr/>
            <p:nvPr/>
          </p:nvSpPr>
          <p:spPr>
            <a:xfrm>
              <a:off x="2231280" y="600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43" name="Picture 23" descr="蜜蜂2_副本"/>
            <p:cNvPicPr/>
            <p:nvPr/>
          </p:nvPicPr>
          <p:blipFill>
            <a:blip r:embed="rId4"/>
            <a:stretch/>
          </p:blipFill>
          <p:spPr>
            <a:xfrm>
              <a:off x="2349720" y="6196320"/>
              <a:ext cx="6458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19"/>
          <p:cNvGrpSpPr/>
          <p:nvPr/>
        </p:nvGrpSpPr>
        <p:grpSpPr>
          <a:xfrm>
            <a:off x="110880" y="5985000"/>
            <a:ext cx="856800" cy="730080"/>
            <a:chOff x="110880" y="5985000"/>
            <a:chExt cx="856800" cy="730080"/>
          </a:xfrm>
        </p:grpSpPr>
        <p:pic>
          <p:nvPicPr>
            <p:cNvPr id="345" name="Picture 37" descr="蓝色按钮"/>
            <p:cNvPicPr/>
            <p:nvPr/>
          </p:nvPicPr>
          <p:blipFill>
            <a:blip r:embed="rId5"/>
            <a:stretch/>
          </p:blipFill>
          <p:spPr>
            <a:xfrm>
              <a:off x="44928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38"/>
            <p:cNvSpPr/>
            <p:nvPr/>
          </p:nvSpPr>
          <p:spPr>
            <a:xfrm>
              <a:off x="110880" y="5985000"/>
              <a:ext cx="85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47" name="Group 22"/>
          <p:cNvGrpSpPr/>
          <p:nvPr/>
        </p:nvGrpSpPr>
        <p:grpSpPr>
          <a:xfrm>
            <a:off x="2011320" y="5996160"/>
            <a:ext cx="729000" cy="717480"/>
            <a:chOff x="2011320" y="5996160"/>
            <a:chExt cx="729000" cy="717480"/>
          </a:xfrm>
        </p:grpSpPr>
        <p:pic>
          <p:nvPicPr>
            <p:cNvPr id="348" name="Picture 46" descr="蓝色按钮"/>
            <p:cNvPicPr/>
            <p:nvPr/>
          </p:nvPicPr>
          <p:blipFill>
            <a:blip r:embed="rId6"/>
            <a:stretch/>
          </p:blipFill>
          <p:spPr>
            <a:xfrm>
              <a:off x="2249640" y="628200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7"/>
            <p:cNvSpPr/>
            <p:nvPr/>
          </p:nvSpPr>
          <p:spPr>
            <a:xfrm>
              <a:off x="2011320" y="5996160"/>
              <a:ext cx="7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0" name="Group 25"/>
          <p:cNvGrpSpPr/>
          <p:nvPr/>
        </p:nvGrpSpPr>
        <p:grpSpPr>
          <a:xfrm>
            <a:off x="1124640" y="6046920"/>
            <a:ext cx="729000" cy="668160"/>
            <a:chOff x="1124640" y="6046920"/>
            <a:chExt cx="729000" cy="668160"/>
          </a:xfrm>
        </p:grpSpPr>
        <p:pic>
          <p:nvPicPr>
            <p:cNvPr id="351" name="Picture 40" descr="蓝色按钮"/>
            <p:cNvPicPr/>
            <p:nvPr/>
          </p:nvPicPr>
          <p:blipFill>
            <a:blip r:embed="rId7"/>
            <a:stretch/>
          </p:blipFill>
          <p:spPr>
            <a:xfrm>
              <a:off x="134928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41"/>
            <p:cNvSpPr/>
            <p:nvPr/>
          </p:nvSpPr>
          <p:spPr>
            <a:xfrm>
              <a:off x="1124640" y="6046920"/>
              <a:ext cx="7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53" name="Text Box 4"/>
          <p:cNvSpPr/>
          <p:nvPr/>
        </p:nvSpPr>
        <p:spPr>
          <a:xfrm>
            <a:off x="676440" y="143820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一猜：小动物盖住的数是几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4" name="Group 29"/>
          <p:cNvGrpSpPr/>
          <p:nvPr/>
        </p:nvGrpSpPr>
        <p:grpSpPr>
          <a:xfrm>
            <a:off x="1238400" y="2203560"/>
            <a:ext cx="6357960" cy="668160"/>
            <a:chOff x="1238400" y="2203560"/>
            <a:chExt cx="6357960" cy="668160"/>
          </a:xfrm>
        </p:grpSpPr>
        <p:sp>
          <p:nvSpPr>
            <p:cNvPr id="355" name="TextBox 14"/>
            <p:cNvSpPr/>
            <p:nvPr/>
          </p:nvSpPr>
          <p:spPr>
            <a:xfrm>
              <a:off x="1238400" y="220356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8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6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: 20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56" name="Picture 23" descr="蜜蜂2_副本"/>
            <p:cNvPicPr/>
            <p:nvPr/>
          </p:nvPicPr>
          <p:blipFill>
            <a:blip r:embed="rId8"/>
            <a:stretch/>
          </p:blipFill>
          <p:spPr>
            <a:xfrm>
              <a:off x="3483000" y="2224080"/>
              <a:ext cx="5889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4" descr="03058"/>
            <p:cNvPicPr/>
            <p:nvPr/>
          </p:nvPicPr>
          <p:blipFill>
            <a:blip r:embed="rId9">
              <a:lum bright="6000"/>
            </a:blip>
            <a:stretch/>
          </p:blipFill>
          <p:spPr>
            <a:xfrm>
              <a:off x="4550040" y="2325960"/>
              <a:ext cx="920520" cy="49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TextBox 14"/>
          <p:cNvSpPr/>
          <p:nvPr/>
        </p:nvSpPr>
        <p:spPr>
          <a:xfrm>
            <a:off x="1225440" y="42750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: 20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9" name="Picture 23" descr="蜜蜂2_副本"/>
          <p:cNvPicPr/>
          <p:nvPr/>
        </p:nvPicPr>
        <p:blipFill>
          <a:blip r:embed="rId10"/>
          <a:stretch/>
        </p:blipFill>
        <p:spPr>
          <a:xfrm>
            <a:off x="3470400" y="4224240"/>
            <a:ext cx="588960" cy="647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4" descr="03058"/>
          <p:cNvPicPr/>
          <p:nvPr/>
        </p:nvPicPr>
        <p:blipFill>
          <a:blip r:embed="rId11">
            <a:lum bright="6000"/>
          </a:blip>
          <a:stretch/>
        </p:blipFill>
        <p:spPr>
          <a:xfrm>
            <a:off x="4435560" y="4346640"/>
            <a:ext cx="920520" cy="495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1233360" y="36399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: 20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2" name="Picture 23" descr="蜜蜂2_副本"/>
          <p:cNvPicPr/>
          <p:nvPr/>
        </p:nvPicPr>
        <p:blipFill>
          <a:blip r:embed="rId12"/>
          <a:stretch/>
        </p:blipFill>
        <p:spPr>
          <a:xfrm>
            <a:off x="3524400" y="363996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03058"/>
          <p:cNvPicPr/>
          <p:nvPr/>
        </p:nvPicPr>
        <p:blipFill>
          <a:blip r:embed="rId13">
            <a:lum bright="6000"/>
          </a:blip>
          <a:stretch/>
        </p:blipFill>
        <p:spPr>
          <a:xfrm>
            <a:off x="4532400" y="3713040"/>
            <a:ext cx="920520" cy="4953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4"/>
          <p:cNvSpPr/>
          <p:nvPr/>
        </p:nvSpPr>
        <p:spPr>
          <a:xfrm>
            <a:off x="1233360" y="29163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: 20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5" name="Picture 23" descr="蜜蜂2_副本"/>
          <p:cNvPicPr/>
          <p:nvPr/>
        </p:nvPicPr>
        <p:blipFill>
          <a:blip r:embed="rId14"/>
          <a:stretch/>
        </p:blipFill>
        <p:spPr>
          <a:xfrm>
            <a:off x="3478320" y="2936880"/>
            <a:ext cx="58896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03058"/>
          <p:cNvPicPr/>
          <p:nvPr/>
        </p:nvPicPr>
        <p:blipFill>
          <a:blip r:embed="rId15">
            <a:lum bright="6000"/>
          </a:blip>
          <a:stretch/>
        </p:blipFill>
        <p:spPr>
          <a:xfrm>
            <a:off x="4545000" y="3038400"/>
            <a:ext cx="920880" cy="4953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2"/>
          <p:cNvSpPr/>
          <p:nvPr/>
        </p:nvSpPr>
        <p:spPr>
          <a:xfrm>
            <a:off x="324000" y="5734080"/>
            <a:ext cx="720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Rectangle 43"/>
          <p:cNvSpPr/>
          <p:nvPr/>
        </p:nvSpPr>
        <p:spPr>
          <a:xfrm>
            <a:off x="1187280" y="5734080"/>
            <a:ext cx="7207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Rectangle 44"/>
          <p:cNvSpPr/>
          <p:nvPr/>
        </p:nvSpPr>
        <p:spPr>
          <a:xfrm>
            <a:off x="2124000" y="6021360"/>
            <a:ext cx="719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C 0.00886 -0.02338 0.01858 -0.04537 0.03056 -0.06667 C 0.03403 -0.07292 0.03889 -0.08079 0.04445 -0.08333 C 0.04896 -0.09236 0.04531 -0.0868 0.05417 -0.09444 C 0.05834 -0.09815 0.06667 -0.10555 0.06667 -0.10555 C 0.07309 -0.11852 0.08559 -0.11759 0.09584 -0.12222 C 0.1757 -0.12014 0.21285 -0.11898 0.30139 -0.12037 C 0.32136 -0.12708 0.33993 -0.14213 0.35417 -0.16111 C 0.3592 -0.16782 0.36163 -0.17708 0.36528 -0.18518 C 0.36979 -0.19514 0.36858 -0.19005 0.37361 -0.19815 C 0.37882 -0.20648 0.38386 -0.21574 0.38889 -0.22407 C 0.39097 -0.22755 0.39254 -0.23148 0.39445 -0.23518 C 0.40191 -0.25023 0.42188 -0.26204 0.43472 -0.26481 C 0.44323 -0.26944 0.45209 -0.27199 0.46111 -0.27407 C 0.47865 -0.27338 0.49636 -0.27384 0.51389 -0.27222 C 0.52101 -0.27153 0.52761 -0.26782 0.53472 -0.26667 C 0.54653 -0.26134 0.56146 -0.26227 0.57361 -0.26111 C 0.58316 -0.25694 0.59115 -0.25486 0.60139 -0.2537 C 0.61893 -0.25162 0.61806 -0.25926 0.61806 -0.24815 E">
                                      <p:cBhvr>
                                        <p:cTn id="62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7037E-007 C 0.0033 -0.03056 0.00174 -0.06412 0.0125 -0.09259 C 0.01511 -0.10995 0.02205 -0.12153 0.02778 -0.13704 C 0.03316 -0.15139 0.03855 -0.16505 0.04584 -0.17778 C 0.04775 -0.18796 0.05452 -0.19375 0.05973 -0.20185 C 0.06858 -0.21574 0.07049 -0.22107 0.07917 -0.23148 C 0.09601 -0.25162 0.07657 -0.22732 0.09306 -0.24445 C 0.10261 -0.2544 0.09619 -0.25486 0.11112 -0.26482 C 0.11546 -0.26783 0.12171 -0.27153 0.125 -0.27593 C 0.12744 -0.27917 0.13004 -0.28333 0.13334 -0.28519 C 0.1408 -0.28935 0.15035 -0.29005 0.15834 -0.29259 C 0.17171 -0.29676 0.18386 -0.3044 0.19723 -0.30741 C 0.21962 -0.32014 0.19549 -0.30764 0.21528 -0.31482 C 0.22639 -0.31875 0.23577 -0.32708 0.24723 -0.32963 C 0.26303 -0.34653 0.28403 -0.36343 0.29723 -0.38333 C 0.30365 -0.39306 0.30556 -0.40556 0.3125 -0.41482 C 0.31424 -0.42662 0.32049 -0.43542 0.325 -0.4463 C 0.3316 -0.46227 0.33889 -0.47593 0.34723 -0.49074 C 0.34983 -0.49537 0.36459 -0.50787 0.36667 -0.50926 C 0.37188 -0.51273 0.37657 -0.51736 0.38195 -0.52037 C 0.39775 -0.5294 0.41667 -0.53148 0.43334 -0.53333 C 0.46424 -0.5537 0.52622 -0.54745 0.55278 -0.54792 C 0.56007 -0.54977 0.56632 -0.55347 0.57362 -0.55556 C 0.57987 -0.55972 0.58855 -0.56482 0.59445 -0.57037 C 0.6007 -0.57639 0.59619 -0.57593 0.6 -0.57593 E">
                                      <p:cBhvr>
                                        <p:cTn id="67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5.18519E-006 C -0.02274 -0.0611 -0.00122 -0.000920000000000004 -0.00399 -0.18703 C -0.00486 -0.24791 -0.03247 -0.32615 -0.07761 -0.34629 C -0.08316 -0.35207 -0.08854 -0.35601 -0.09445 -0.3611 C -0.09913 -0.37059 -0.11077 -0.37684 -0.11788 -0.38332 C -0.12327 -0.38795 -0.12813 -0.39351 -0.13333 -0.39814 C -0.14688 -0.40971 -0.14531 -0.40601 -0.15538 -0.41851 C -0.16337 -0.42823 -0.17795 -0.44837 -0.18316 -0.4611 C -0.1875 -0.47152 -0.19097 -0.48587 -0.19844 -0.49258 C -0.21059 -0.5192 -0.22882 -0.53957 -0.25 -0.55346 C -0.25938 -0.55994 -0.2559 -0.55531 -0.26389 -0.55925 C -0.29097 -0.57291 -0.31702 -0.58564 -0.34583 -0.59258 C -0.35729 -0.59536 -0.3691 -0.59721 -0.38038 -0.59999 C -0.3842 -0.60092 -0.38767 -0.60369 -0.39149 -0.60369 C -0.42153 -0.60369 -0.45174 -0.60369 -0.48177 -0.60369 E">
                                      <p:cBhvr>
                                        <p:cTn id="677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92593E-006 C -0.0033 -0.00879 -0.00642 -0.01736 -0.00972 -0.02592 C -0.01181 -0.03171 -0.01285 -0.03888 -0.01528 -0.04444 C -0.02049 -0.05648 -0.02674 -0.06782 -0.03194 -0.07962 C -0.03802 -0.09328 -0.04288 -0.10717 -0.05139 -0.11851 C -0.05434 -0.13055 -0.05035 -0.11782 -0.05694 -0.12777 C -0.06285 -0.13657 -0.06753 -0.14745 -0.07222 -0.1574 C -0.08646 -0.18773 -0.10052 -0.21782 -0.1125 -0.24999 C -0.11684 -0.278 -0.13038 -0.30532 -0.13906 -0.33148 C -0.14392 -0.34675 -0.14948 -0.36226 -0.15417 -0.37777 C -0.15642 -0.38541 -0.15816 -0.39467 -0.16111 -0.40185 C -0.16267 -0.40578 -0.1658 -0.40879 -0.16667 -0.41296 C -0.16788 -0.41805 -0.16997 -0.42523 -0.17222 -0.42962 C -0.18212 -0.44861 -0.19323 -0.46111 -0.20694 -0.47407 C -0.21528 -0.48194 -0.22378 -0.49143 -0.23194 -0.49999 C -0.23455 -0.50277 -0.23854 -0.50185 -0.24167 -0.5037 C -0.25451 -0.51111 -0.26806 -0.51805 -0.28194 -0.52037 C -0.28924 -0.52523 -0.29323 -0.52615 -0.30139 -0.52777 C -0.31128 -0.53217 -0.3217 -0.53611 -0.33194 -0.53888 C -0.33906 -0.54513 -0.3441 -0.54722 -0.35278 -0.54999 C -0.36059 -0.55254 -0.36684 -0.55902 -0.375 -0.56111 C -0.38212 -0.56597 -0.38108 -0.56967 -0.38906 -0.57222 C -0.39705 -0.57939 -0.40538 -0.58518 -0.41389 -0.59074 C -0.41944 -0.59444 -0.42344 -0.5993 -0.42917 -0.60185 C -0.43993 -0.6162 -0.45451 -0.62037 -0.46944 -0.62037 E">
                                      <p:cBhvr>
                                        <p:cTn id="69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6.2963E-006 C 0.00277 -0.00556 0.00381 -0.01158 0.00694 -0.01667 C 0.01093 -0.02315 0.01544 -0.02894 0.01944 -0.03519 C 0.02048 -0.03681 0.021 -0.03936 0.02222 -0.04075 C 0.03194 -0.05209 0.04357 -0.05996 0.05277 -0.07223 C 0.05729 -0.07825 0.06006 -0.08426 0.06527 -0.08889 C 0.07951 -0.12061 0.11024 -0.14376 0.1361 -0.15371 C 0.14531 -0.16181 0.15659 -0.1669 0.16666 -0.17223 C 0.17413 -0.17616 0.17951 -0.18311 0.1861 -0.18889 C 0.1934 -0.19538 0.19548 -0.19954 0.20277 -0.20926 C 0.20468 -0.21181 0.20833 -0.21667 0.20833 -0.21667 C 0.21215 -0.22917 0.21388 -0.24237 0.21944 -0.25371 C 0.2243 -0.27987 0.22308 -0.30672 0.22638 -0.33334 C 0.2276 -0.35394 0.22916 -0.37223 0.2361 -0.39075 C 0.24409 -0.46482 0.28402 -0.5051 0.3361 -0.52593 C 0.35503 -0.54491 0.37586 -0.55417 0.3986 -0.56297 C 0.41805 -0.57061 0.43715 -0.57871 0.45694 -0.58519 C 0.46718 -0.58866 0.47569 -0.59422 0.4861 -0.5963 C 0.4934 -0.60116 0.50069 -0.60255 0.50833 -0.60556 C 0.52083 -0.61065 0.53159 -0.61343 0.54444 -0.61667 C 0.55381 -0.61899 0.56284 -0.62362 0.57222 -0.62593 C 0.59218 -0.63079 0.61354 -0.63403 0.63194 -0.6463 C 0.63489 -0.65232 0.63298 -0.65186 0.6361 -0.65186 E">
                                      <p:cBhvr>
                                        <p:cTn id="694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C -0.00608 -0.01227 -0.0118 -0.02986 -0.02083 -0.03889 C -0.0243 -0.04236 -0.0283 -0.04514 -0.03194 -0.04815 C -0.03507 -0.05069 -0.03715 -0.05509 -0.04028 -0.05741 C -0.04288 -0.05926 -0.04601 -0.05949 -0.04861 -0.06111 C -0.05434 -0.06458 -0.06024 -0.0713 -0.06528 -0.07593 C -0.08212 -0.09143 -0.09618 -0.11181 -0.11389 -0.12593 C -0.125 -0.1456 -0.13993 -0.15856 -0.15 -0.17963 C -0.1566 -0.19306 -0.15851 -0.20972 -0.16406 -0.22407 C -0.16823 -0.25255 -0.16545 -0.29028 -0.15694 -0.31852 C -0.15173 -0.33611 -0.15173 -0.3287 -0.14861 -0.34444 C -0.14653 -0.35579 -0.14444 -0.36667 -0.14184 -0.37778 C -0.14028 -0.3838 -0.1375 -0.3963 -0.1375 -0.3963 C -0.13802 -0.4044 -0.13785 -0.4125 -0.13889 -0.42037 C -0.13993 -0.42731 -0.14792 -0.4331 -0.15139 -0.43704 C -0.16163 -0.44861 -0.17066 -0.45718 -0.18212 -0.46667 C -0.18455 -0.46875 -0.18663 -0.47153 -0.18889 -0.47407 C -0.19045 -0.47569 -0.19149 -0.47824 -0.19305 -0.47963 C -0.19896 -0.48495 -0.20226 -0.48518 -0.20833 -0.48889 C -0.22083 -0.49653 -0.23333 -0.50347 -0.24583 -0.51111 C -0.26684 -0.52384 -0.28837 -0.53634 -0.30972 -0.54815 C -0.31996 -0.55393 -0.32864 -0.56296 -0.33889 -0.56852 C -0.34792 -0.58056 -0.33715 -0.56829 -0.35 -0.57593 C -0.35226 -0.57708 -0.35364 -0.57986 -0.35555 -0.58148 C -0.36337 -0.58819 -0.37153 -0.59329 -0.37917 -0.6 C -0.38333 -0.6037 -0.38767 -0.60718 -0.39167 -0.61111 C -0.39948 -0.61898 -0.39184 -0.61481 -0.40139 -0.62222 C -0.4118 -0.63009 -0.42239 -0.63912 -0.43333 -0.6463 C -0.43785 -0.65532 -0.44375 -0.65856 -0.45139 -0.66111 C -0.46024 -0.66898 -0.47049 -0.66829 -0.47917 -0.67593 C -0.48455 -0.67361 -0.48229 -0.67546 -0.48611 -0.67037 E">
                                      <p:cBhvr>
                                        <p:cTn id="709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C -0.00642 -0.03426 -0.00035 -0.06759 0.01389 -0.0963 C 0.01823 -0.10486 0.02049 -0.10347 0.02639 -0.10926 C 0.03437 -0.11736 0.03993 -0.12315 0.05 -0.12593 C 0.06771 -0.13773 0.08611 -0.14213 0.10555 -0.14444 C 0.11858 -0.14792 0.13125 -0.15185 0.14444 -0.1537 C 0.15156 -0.15602 0.16198 -0.1581 0.16805 -0.16296 C 0.1743 -0.16806 0.17899 -0.17361 0.18611 -0.17593 C 0.1993 -0.1875 0.20955 -0.19977 0.22083 -0.21482 C 0.22951 -0.22639 0.23698 -0.25301 0.24167 -0.26852 C 0.24271 -0.27917 0.24323 -0.28982 0.24583 -0.3 C 0.24635 -0.34074 0.24635 -0.38148 0.24722 -0.42222 C 0.24792 -0.45903 0.25764 -0.48634 0.27222 -0.51667 C 0.27639 -0.52523 0.28385 -0.54167 0.29028 -0.54444 C 0.29601 -0.54699 0.29792 -0.55185 0.30278 -0.55556 C 0.30712 -0.5588 0.31233 -0.55972 0.31667 -0.56296 C 0.32604 -0.57014 0.33003 -0.575 0.34028 -0.57778 C 0.34913 -0.58357 0.35833 -0.58681 0.36805 -0.58889 C 0.3783 -0.59583 0.38889 -0.59699 0.4 -0.6 C 0.40781 -0.60694 0.41858 -0.60764 0.42778 -0.60926 C 0.44549 -0.61713 0.43594 -0.61435 0.45694 -0.61667 C 0.46302 -0.62199 0.46632 -0.62199 0.47361 -0.62407 C 0.48646 -0.62778 0.49809 -0.63634 0.51111 -0.63889 C 0.52378 -0.64444 0.53698 -0.64745 0.55 -0.65185 C 0.55382 -0.65532 0.55868 -0.65579 0.5625 -0.65926 C 0.56389 -0.66042 0.5651 -0.66204 0.56667 -0.66296 C 0.57292 -0.66644 0.57101 -0.66296 0.57639 -0.66667 C 0.57882 -0.66829 0.5809 -0.6706 0.58333 -0.67222 E">
                                      <p:cBhvr>
                                        <p:cTn id="71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1"/>
          <p:cNvSpPr/>
          <p:nvPr/>
        </p:nvSpPr>
        <p:spPr>
          <a:xfrm>
            <a:off x="971640" y="141300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AutoShape 15"/>
          <p:cNvSpPr/>
          <p:nvPr/>
        </p:nvSpPr>
        <p:spPr>
          <a:xfrm>
            <a:off x="2058840" y="1460520"/>
            <a:ext cx="433440" cy="43164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4" name="AutoShape 16"/>
          <p:cNvSpPr/>
          <p:nvPr/>
        </p:nvSpPr>
        <p:spPr>
          <a:xfrm>
            <a:off x="2854440" y="1467000"/>
            <a:ext cx="431640" cy="43164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AutoShape 17"/>
          <p:cNvSpPr/>
          <p:nvPr/>
        </p:nvSpPr>
        <p:spPr>
          <a:xfrm>
            <a:off x="3660840" y="1468440"/>
            <a:ext cx="433440" cy="43164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AutoShape 18"/>
          <p:cNvSpPr/>
          <p:nvPr/>
        </p:nvSpPr>
        <p:spPr>
          <a:xfrm>
            <a:off x="4498920" y="1459080"/>
            <a:ext cx="432000" cy="431640"/>
          </a:xfrm>
          <a:prstGeom prst="flowChartConnec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2301840" y="1405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3143160" y="1428840"/>
            <a:ext cx="64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3929040" y="13809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2057400" y="146988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AutoShape 20"/>
          <p:cNvSpPr/>
          <p:nvPr/>
        </p:nvSpPr>
        <p:spPr>
          <a:xfrm>
            <a:off x="2857680" y="146988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AutoShape 21"/>
          <p:cNvSpPr/>
          <p:nvPr/>
        </p:nvSpPr>
        <p:spPr>
          <a:xfrm>
            <a:off x="3657600" y="146700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AutoShape 22"/>
          <p:cNvSpPr/>
          <p:nvPr/>
        </p:nvSpPr>
        <p:spPr>
          <a:xfrm>
            <a:off x="4500720" y="1459080"/>
            <a:ext cx="43308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371680" y="253836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AutoShape 19"/>
          <p:cNvSpPr/>
          <p:nvPr/>
        </p:nvSpPr>
        <p:spPr>
          <a:xfrm>
            <a:off x="2057400" y="254160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AutoShape 20"/>
          <p:cNvSpPr/>
          <p:nvPr/>
        </p:nvSpPr>
        <p:spPr>
          <a:xfrm>
            <a:off x="4500720" y="255420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7" name="AutoShape 21"/>
          <p:cNvSpPr/>
          <p:nvPr/>
        </p:nvSpPr>
        <p:spPr>
          <a:xfrm>
            <a:off x="2840040" y="255420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8" name="AutoShape 22"/>
          <p:cNvSpPr/>
          <p:nvPr/>
        </p:nvSpPr>
        <p:spPr>
          <a:xfrm>
            <a:off x="3624120" y="255744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284120" y="255276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0" name="AutoShape 19"/>
          <p:cNvSpPr/>
          <p:nvPr/>
        </p:nvSpPr>
        <p:spPr>
          <a:xfrm>
            <a:off x="1035000" y="255420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3414600" y="256860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2" name="AutoShape 21"/>
          <p:cNvSpPr/>
          <p:nvPr/>
        </p:nvSpPr>
        <p:spPr>
          <a:xfrm>
            <a:off x="1754280" y="256860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3" name="AutoShape 22"/>
          <p:cNvSpPr/>
          <p:nvPr/>
        </p:nvSpPr>
        <p:spPr>
          <a:xfrm>
            <a:off x="2567160" y="2571840"/>
            <a:ext cx="43308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278000" y="256536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1028880" y="2571840"/>
            <a:ext cx="43308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3408480" y="258444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1747800" y="258444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2560680" y="258768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197000" y="25653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AutoShape 19"/>
          <p:cNvSpPr/>
          <p:nvPr/>
        </p:nvSpPr>
        <p:spPr>
          <a:xfrm>
            <a:off x="1028880" y="2571840"/>
            <a:ext cx="43308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08480" y="258444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AutoShape 21"/>
          <p:cNvSpPr/>
          <p:nvPr/>
        </p:nvSpPr>
        <p:spPr>
          <a:xfrm>
            <a:off x="1747800" y="258444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AutoShape 22"/>
          <p:cNvSpPr/>
          <p:nvPr/>
        </p:nvSpPr>
        <p:spPr>
          <a:xfrm>
            <a:off x="2560680" y="258768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278000" y="400356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AutoShape 19"/>
          <p:cNvSpPr/>
          <p:nvPr/>
        </p:nvSpPr>
        <p:spPr>
          <a:xfrm>
            <a:off x="1035000" y="402120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AutoShape 20"/>
          <p:cNvSpPr/>
          <p:nvPr/>
        </p:nvSpPr>
        <p:spPr>
          <a:xfrm>
            <a:off x="3408480" y="402120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7" name="AutoShape 21"/>
          <p:cNvSpPr/>
          <p:nvPr/>
        </p:nvSpPr>
        <p:spPr>
          <a:xfrm>
            <a:off x="1747800" y="402120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8" name="AutoShape 22"/>
          <p:cNvSpPr/>
          <p:nvPr/>
        </p:nvSpPr>
        <p:spPr>
          <a:xfrm>
            <a:off x="2575080" y="4024440"/>
            <a:ext cx="43308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1279440" y="25401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AutoShape 19"/>
          <p:cNvSpPr/>
          <p:nvPr/>
        </p:nvSpPr>
        <p:spPr>
          <a:xfrm>
            <a:off x="1035000" y="256536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1" name="AutoShape 20"/>
          <p:cNvSpPr/>
          <p:nvPr/>
        </p:nvSpPr>
        <p:spPr>
          <a:xfrm>
            <a:off x="3408480" y="257796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2" name="AutoShape 21"/>
          <p:cNvSpPr/>
          <p:nvPr/>
        </p:nvSpPr>
        <p:spPr>
          <a:xfrm>
            <a:off x="1747800" y="2577960"/>
            <a:ext cx="43200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3" name="AutoShape 22"/>
          <p:cNvSpPr/>
          <p:nvPr/>
        </p:nvSpPr>
        <p:spPr>
          <a:xfrm>
            <a:off x="2560680" y="258120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279440" y="478296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5" name="AutoShape 19"/>
          <p:cNvSpPr/>
          <p:nvPr/>
        </p:nvSpPr>
        <p:spPr>
          <a:xfrm>
            <a:off x="1035000" y="478620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6" name="AutoShape 20"/>
          <p:cNvSpPr/>
          <p:nvPr/>
        </p:nvSpPr>
        <p:spPr>
          <a:xfrm>
            <a:off x="3408480" y="479916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7" name="AutoShape 21"/>
          <p:cNvSpPr/>
          <p:nvPr/>
        </p:nvSpPr>
        <p:spPr>
          <a:xfrm>
            <a:off x="1747800" y="479916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2560680" y="480204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392800" y="25830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0" name="AutoShape 19"/>
          <p:cNvSpPr/>
          <p:nvPr/>
        </p:nvSpPr>
        <p:spPr>
          <a:xfrm>
            <a:off x="5078520" y="258588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7389720" y="2598840"/>
            <a:ext cx="43200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2" name="AutoShape 21"/>
          <p:cNvSpPr/>
          <p:nvPr/>
        </p:nvSpPr>
        <p:spPr>
          <a:xfrm>
            <a:off x="5861160" y="2598840"/>
            <a:ext cx="4316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3" name="AutoShape 22"/>
          <p:cNvSpPr/>
          <p:nvPr/>
        </p:nvSpPr>
        <p:spPr>
          <a:xfrm>
            <a:off x="6645240" y="260208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5396040" y="330984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5081760" y="3313080"/>
            <a:ext cx="43308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7392960" y="3325680"/>
            <a:ext cx="43200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5864400" y="332568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6648480" y="332892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5383080" y="403848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0" name="AutoShape 19"/>
          <p:cNvSpPr/>
          <p:nvPr/>
        </p:nvSpPr>
        <p:spPr>
          <a:xfrm>
            <a:off x="5068800" y="4041720"/>
            <a:ext cx="4334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1" name="AutoShape 20"/>
          <p:cNvSpPr/>
          <p:nvPr/>
        </p:nvSpPr>
        <p:spPr>
          <a:xfrm>
            <a:off x="7380360" y="405432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2" name="AutoShape 21"/>
          <p:cNvSpPr/>
          <p:nvPr/>
        </p:nvSpPr>
        <p:spPr>
          <a:xfrm>
            <a:off x="5851440" y="4054320"/>
            <a:ext cx="43200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AutoShape 22"/>
          <p:cNvSpPr/>
          <p:nvPr/>
        </p:nvSpPr>
        <p:spPr>
          <a:xfrm>
            <a:off x="6635880" y="4057560"/>
            <a:ext cx="43308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5383080" y="479736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=    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AutoShape 19"/>
          <p:cNvSpPr/>
          <p:nvPr/>
        </p:nvSpPr>
        <p:spPr>
          <a:xfrm>
            <a:off x="5068800" y="4800600"/>
            <a:ext cx="433440" cy="43164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AutoShape 20"/>
          <p:cNvSpPr/>
          <p:nvPr/>
        </p:nvSpPr>
        <p:spPr>
          <a:xfrm>
            <a:off x="7380360" y="4813200"/>
            <a:ext cx="43164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7" name="AutoShape 21"/>
          <p:cNvSpPr/>
          <p:nvPr/>
        </p:nvSpPr>
        <p:spPr>
          <a:xfrm>
            <a:off x="5851440" y="4813200"/>
            <a:ext cx="43200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8" name="AutoShape 22"/>
          <p:cNvSpPr/>
          <p:nvPr/>
        </p:nvSpPr>
        <p:spPr>
          <a:xfrm>
            <a:off x="6635880" y="4816440"/>
            <a:ext cx="433080" cy="432000"/>
          </a:xfrm>
          <a:prstGeom prst="flowChartConnector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9" name="右箭头 136"/>
          <p:cNvSpPr/>
          <p:nvPr/>
        </p:nvSpPr>
        <p:spPr>
          <a:xfrm>
            <a:off x="4081320" y="274464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0" name="右箭头 137"/>
          <p:cNvSpPr/>
          <p:nvPr/>
        </p:nvSpPr>
        <p:spPr>
          <a:xfrm>
            <a:off x="4010040" y="2673360"/>
            <a:ext cx="500040" cy="71280"/>
          </a:xfrm>
          <a:prstGeom prst="rightArrow">
            <a:avLst>
              <a:gd name="adj1" fmla="val 50000"/>
              <a:gd name="adj2" fmla="val 501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1" name="燕尾形箭头 139"/>
          <p:cNvSpPr/>
          <p:nvPr/>
        </p:nvSpPr>
        <p:spPr>
          <a:xfrm>
            <a:off x="5286240" y="2428920"/>
            <a:ext cx="714600" cy="357120"/>
          </a:xfrm>
          <a:custGeom>
            <a:avLst/>
            <a:gdLst>
              <a:gd name="textAreaLeft" fmla="*/ 89280 w 714600"/>
              <a:gd name="textAreaRight" fmla="*/ 625320 w 7146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2" name="环形箭头 140"/>
          <p:cNvSpPr/>
          <p:nvPr/>
        </p:nvSpPr>
        <p:spPr>
          <a:xfrm>
            <a:off x="6357960" y="2000160"/>
            <a:ext cx="857160" cy="714600"/>
          </a:xfrm>
          <a:custGeom>
            <a:avLst/>
            <a:gdLst>
              <a:gd name="textAreaLeft" fmla="*/ 156960 w 857160"/>
              <a:gd name="textAreaRight" fmla="*/ 700200 w 857160"/>
              <a:gd name="textAreaTop" fmla="*/ 136080 h 714600"/>
              <a:gd name="textAreaBottom" fmla="*/ 578520 h 714600"/>
            </a:gdLst>
            <a:ahLst/>
            <a:rect l="textAreaLeft" t="textAreaTop" r="textAreaRight" b="textAreaBottom"/>
            <a:pathLst>
              <a:path w="857250" h="714375">
                <a:moveTo>
                  <a:pt x="44648" y="357187"/>
                </a:moveTo>
                <a:lnTo>
                  <a:pt x="44648" y="357187"/>
                </a:lnTo>
                <a:cubicBezTo>
                  <a:pt x="44648" y="184576"/>
                  <a:pt x="216560" y="44648"/>
                  <a:pt x="428625" y="44648"/>
                </a:cubicBezTo>
                <a:cubicBezTo>
                  <a:pt x="589857" y="44648"/>
                  <a:pt x="733917" y="126634"/>
                  <a:pt x="789267" y="249894"/>
                </a:cubicBezTo>
                <a:lnTo>
                  <a:pt x="828845" y="249894"/>
                </a:lnTo>
                <a:lnTo>
                  <a:pt x="767953" y="357188"/>
                </a:lnTo>
                <a:lnTo>
                  <a:pt x="650252" y="249894"/>
                </a:lnTo>
                <a:lnTo>
                  <a:pt x="687039" y="249894"/>
                </a:lnTo>
                <a:lnTo>
                  <a:pt x="687039" y="249893"/>
                </a:lnTo>
                <a:cubicBezTo>
                  <a:pt x="635313" y="178394"/>
                  <a:pt x="536249" y="133945"/>
                  <a:pt x="428625" y="133945"/>
                </a:cubicBezTo>
                <a:cubicBezTo>
                  <a:pt x="265877" y="133945"/>
                  <a:pt x="133945" y="233893"/>
                  <a:pt x="133945" y="357187"/>
                </a:cubicBezTo>
                <a:lnTo>
                  <a:pt x="44648" y="35718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3" name="右箭头 141"/>
          <p:cNvSpPr/>
          <p:nvPr/>
        </p:nvSpPr>
        <p:spPr>
          <a:xfrm>
            <a:off x="4095720" y="26463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4" name="右箭头 142"/>
          <p:cNvSpPr/>
          <p:nvPr/>
        </p:nvSpPr>
        <p:spPr>
          <a:xfrm>
            <a:off x="4081320" y="338760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5" name="右箭头 143"/>
          <p:cNvSpPr/>
          <p:nvPr/>
        </p:nvSpPr>
        <p:spPr>
          <a:xfrm>
            <a:off x="4081320" y="410220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6" name="右箭头 144"/>
          <p:cNvSpPr/>
          <p:nvPr/>
        </p:nvSpPr>
        <p:spPr>
          <a:xfrm>
            <a:off x="4081320" y="488808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6 E">
                                      <p:cBhvr>
                                        <p:cTn id="730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7956E-006 L 0.17969 0.15957 E">
                                      <p:cBhvr>
                                        <p:cTn id="732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8575E-006 L -0.08906 0.16004 E">
                                      <p:cBhvr>
                                        <p:cTn id="744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5097E-006 L -0.09462 0.16119 E">
                                      <p:cBhvr>
                                        <p:cTn id="746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 E">
                                      <p:cBhvr>
                                        <p:cTn id="770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 E">
                                      <p:cBhvr>
                                        <p:cTn id="772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 E">
                                      <p:cBhvr>
                                        <p:cTn id="774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 E">
                                      <p:cBhvr>
                                        <p:cTn id="776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 E">
                                      <p:cBhvr>
                                        <p:cTn id="77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 E">
                                      <p:cBhvr>
                                        <p:cTn id="82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 E">
                                      <p:cBhvr>
                                        <p:cTn id="823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 E">
                                      <p:cBhvr>
                                        <p:cTn id="825" dur="1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 E">
                                      <p:cBhvr>
                                        <p:cTn id="827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5 E">
                                      <p:cBhvr>
                                        <p:cTn id="829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1043 L 0.02465 0.15056 C 0.02986 0.16119 0.0375 0.16721 0.04566 0.16721 C 0.05486 0.16721 0.06215 0.16119 0.06736 0.15056 L 0.09219 0.1043 E">
                                      <p:cBhvr>
                                        <p:cTn id="845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10384 L -0.02187 0.15495 C -0.02691 0.16652 -0.03437 0.17299 -0.04201 0.17299 C -0.05087 0.17299 -0.05781 0.16652 -0.06285 0.15495 L -0.08628 0.10384 E">
                                      <p:cBhvr>
                                        <p:cTn id="847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862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864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86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868" dur="1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1 E">
                                      <p:cBhvr>
                                        <p:cTn id="870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L 0.07205 0.05759 C 0.08715 0.071 0.10989 0.0784 0.1335 0.0784 C 0.16041 0.0784 0.18194 0.071 0.19705 0.05759 L 0.26927 -0.00092 E">
                                      <p:cBhvr>
                                        <p:cTn id="896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115 L -0.07135 0.05134 C -0.08629 0.06314 -0.10851 0.06985 -0.13178 0.06985 C -0.15834 0.06985 -0.17952 0.06314 -0.19445 0.05134 L -0.26563 -0.00115 E">
                                      <p:cBhvr>
                                        <p:cTn id="898" dur="1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16 E">
                                      <p:cBhvr>
                                        <p:cTn id="912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16 E">
                                      <p:cBhvr>
                                        <p:cTn id="914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16 E">
                                      <p:cBhvr>
                                        <p:cTn id="91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16 E">
                                      <p:cBhvr>
                                        <p:cTn id="918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16 E">
                                      <p:cBhvr>
                                        <p:cTn id="920" dur="1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73821E-006 L 0.02152 0.03446 C 0.02604 0.04232 0.03281 0.04695 0.03975 0.04695 C 0.04774 0.04695 0.05416 0.04232 0.05868 0.03446 L 0.08038 -2.73821E-006 E">
                                      <p:cBhvr>
                                        <p:cTn id="945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555 L -0.02257 0.03423 C -0.02743 0.04325 -0.03455 0.0488 -0.04184 0.0488 C -0.05035 0.0488 -0.05695 0.04325 -0.06163 0.03423 L -0.08403 -0.00555 E">
                                      <p:cBhvr>
                                        <p:cTn id="947" dur="1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3821E-006 L 0.02621 0.03446 C 0.0316 0.04232 0.03993 0.04695 0.04844 0.04695 C 0.05833 0.04695 0.06614 0.04232 0.07153 0.03446 L 0.09792 -2.73821E-006 E">
                                      <p:cBhvr>
                                        <p:cTn id="951" dur="1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0046 L -0.02274 0.03099 C -0.02812 0.03792 -0.03576 0.04209 -0.04392 0.04209 C -0.05312 0.04209 -0.06041 0.03792 -0.0658 0.03099 L -0.09028 0.00046 E">
                                      <p:cBhvr>
                                        <p:cTn id="953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0"/>
          <p:cNvSpPr/>
          <p:nvPr/>
        </p:nvSpPr>
        <p:spPr>
          <a:xfrm>
            <a:off x="539640" y="551808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468360" y="836640"/>
            <a:ext cx="32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468360" y="587700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到这些比例，你能提出什么问题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9" name="Picture 28" descr="D:\信息窗2副本.jpg"/>
          <p:cNvPicPr/>
          <p:nvPr/>
        </p:nvPicPr>
        <p:blipFill>
          <a:blip r:embed="rId2"/>
          <a:stretch/>
        </p:blipFill>
        <p:spPr>
          <a:xfrm>
            <a:off x="469800" y="1241280"/>
            <a:ext cx="5959440" cy="3532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0"/>
          <p:cNvSpPr/>
          <p:nvPr/>
        </p:nvSpPr>
        <p:spPr>
          <a:xfrm>
            <a:off x="428760" y="3873600"/>
            <a:ext cx="32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一辆货车两天运输酒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414360" y="4210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花情况如右表。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825720" y="3654360"/>
            <a:ext cx="2460960" cy="1068480"/>
            <a:chOff x="3825720" y="3654360"/>
            <a:chExt cx="2460960" cy="1068480"/>
          </a:xfrm>
        </p:grpSpPr>
        <p:sp>
          <p:nvSpPr>
            <p:cNvPr id="53" name="矩形 38"/>
            <p:cNvSpPr/>
            <p:nvPr/>
          </p:nvSpPr>
          <p:spPr>
            <a:xfrm>
              <a:off x="3825720" y="3654360"/>
              <a:ext cx="2443680" cy="10684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4" name="直接连接符 39"/>
            <p:cNvSpPr/>
            <p:nvPr/>
          </p:nvSpPr>
          <p:spPr>
            <a:xfrm>
              <a:off x="3825720" y="3997080"/>
              <a:ext cx="244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5" name="直接连接符 40"/>
            <p:cNvSpPr/>
            <p:nvPr/>
          </p:nvSpPr>
          <p:spPr>
            <a:xfrm>
              <a:off x="3825720" y="4370400"/>
              <a:ext cx="244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" name="直接连接符 41"/>
            <p:cNvSpPr/>
            <p:nvPr/>
          </p:nvSpPr>
          <p:spPr>
            <a:xfrm flipH="1">
              <a:off x="4965840" y="3654360"/>
              <a:ext cx="1440" cy="10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7" name="直接连接符 42"/>
            <p:cNvSpPr/>
            <p:nvPr/>
          </p:nvSpPr>
          <p:spPr>
            <a:xfrm flipH="1">
              <a:off x="5616720" y="3654360"/>
              <a:ext cx="1440" cy="10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" name="Text Box 30"/>
            <p:cNvSpPr/>
            <p:nvPr/>
          </p:nvSpPr>
          <p:spPr>
            <a:xfrm>
              <a:off x="3873240" y="40021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输次数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" name="Text Box 30"/>
            <p:cNvSpPr/>
            <p:nvPr/>
          </p:nvSpPr>
          <p:spPr>
            <a:xfrm>
              <a:off x="3825720" y="4357800"/>
              <a:ext cx="12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输量（吨）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" name="Text Box 30"/>
            <p:cNvSpPr/>
            <p:nvPr/>
          </p:nvSpPr>
          <p:spPr>
            <a:xfrm>
              <a:off x="4929120" y="367956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一天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" name="Text Box 30"/>
            <p:cNvSpPr/>
            <p:nvPr/>
          </p:nvSpPr>
          <p:spPr>
            <a:xfrm>
              <a:off x="5570640" y="367632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天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4968720" y="402120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     5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" name="Text Box 30"/>
            <p:cNvSpPr/>
            <p:nvPr/>
          </p:nvSpPr>
          <p:spPr>
            <a:xfrm>
              <a:off x="4956120" y="434988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    3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4" name="矩形 52"/>
          <p:cNvSpPr/>
          <p:nvPr/>
        </p:nvSpPr>
        <p:spPr>
          <a:xfrm>
            <a:off x="5000760" y="442908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矩形 53"/>
          <p:cNvSpPr/>
          <p:nvPr/>
        </p:nvSpPr>
        <p:spPr>
          <a:xfrm>
            <a:off x="5648400" y="403848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矩形 54"/>
          <p:cNvSpPr/>
          <p:nvPr/>
        </p:nvSpPr>
        <p:spPr>
          <a:xfrm>
            <a:off x="5572080" y="2786040"/>
            <a:ext cx="57168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矩形 55"/>
          <p:cNvSpPr/>
          <p:nvPr/>
        </p:nvSpPr>
        <p:spPr>
          <a:xfrm>
            <a:off x="5643720" y="4403880"/>
            <a:ext cx="571320" cy="28548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8" name="矩形 57" descr=""/>
          <p:cNvPicPr/>
          <p:nvPr/>
        </p:nvPicPr>
        <p:blipFill>
          <a:blip r:embed="rId3"/>
          <a:stretch/>
        </p:blipFill>
        <p:spPr>
          <a:xfrm>
            <a:off x="5200560" y="1762200"/>
            <a:ext cx="992160" cy="718920"/>
          </a:xfrm>
          <a:prstGeom prst="rect">
            <a:avLst/>
          </a:prstGeom>
          <a:ln w="0">
            <a:noFill/>
          </a:ln>
        </p:spPr>
      </p:pic>
      <p:pic>
        <p:nvPicPr>
          <p:cNvPr id="69" name="矩形 58" descr=""/>
          <p:cNvPicPr/>
          <p:nvPr/>
        </p:nvPicPr>
        <p:blipFill>
          <a:blip r:embed="rId4"/>
          <a:stretch/>
        </p:blipFill>
        <p:spPr>
          <a:xfrm>
            <a:off x="5694480" y="1828800"/>
            <a:ext cx="755640" cy="554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8"/>
          <p:cNvSpPr/>
          <p:nvPr/>
        </p:nvSpPr>
        <p:spPr>
          <a:xfrm>
            <a:off x="6383160" y="120024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天运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矩形 59"/>
          <p:cNvSpPr/>
          <p:nvPr/>
        </p:nvSpPr>
        <p:spPr>
          <a:xfrm>
            <a:off x="6715080" y="1714680"/>
            <a:ext cx="208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6357960" y="235728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运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6286680" y="1685880"/>
            <a:ext cx="18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505560" y="2857680"/>
            <a:ext cx="14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矩形 66"/>
          <p:cNvSpPr/>
          <p:nvPr/>
        </p:nvSpPr>
        <p:spPr>
          <a:xfrm>
            <a:off x="5016600" y="404640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300720" y="3543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写出哪些比例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642960" y="235908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:3=30: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356000" y="249228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:30=3: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63480" y="421632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:18=5:30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367160" y="421632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:18=5:3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580000" y="1197000"/>
            <a:ext cx="2460600" cy="1068480"/>
            <a:chOff x="5580000" y="1197000"/>
            <a:chExt cx="2460600" cy="1068480"/>
          </a:xfrm>
        </p:grpSpPr>
        <p:sp>
          <p:nvSpPr>
            <p:cNvPr id="84" name="矩形 38"/>
            <p:cNvSpPr/>
            <p:nvPr/>
          </p:nvSpPr>
          <p:spPr>
            <a:xfrm>
              <a:off x="5580000" y="1197000"/>
              <a:ext cx="2443320" cy="10684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" name="直接连接符 39"/>
            <p:cNvSpPr/>
            <p:nvPr/>
          </p:nvSpPr>
          <p:spPr>
            <a:xfrm>
              <a:off x="5580000" y="1539720"/>
              <a:ext cx="244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6" name="直接连接符 40"/>
            <p:cNvSpPr/>
            <p:nvPr/>
          </p:nvSpPr>
          <p:spPr>
            <a:xfrm>
              <a:off x="5580000" y="1913040"/>
              <a:ext cx="244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7" name="直接连接符 41"/>
            <p:cNvSpPr/>
            <p:nvPr/>
          </p:nvSpPr>
          <p:spPr>
            <a:xfrm flipH="1">
              <a:off x="6719760" y="1197000"/>
              <a:ext cx="1440" cy="10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" name="直接连接符 42"/>
            <p:cNvSpPr/>
            <p:nvPr/>
          </p:nvSpPr>
          <p:spPr>
            <a:xfrm flipH="1">
              <a:off x="7370640" y="1197000"/>
              <a:ext cx="1440" cy="10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Text Box 30"/>
            <p:cNvSpPr/>
            <p:nvPr/>
          </p:nvSpPr>
          <p:spPr>
            <a:xfrm>
              <a:off x="5627520" y="1544760"/>
              <a:ext cx="107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输次数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5580000" y="1900440"/>
              <a:ext cx="125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输量（吨）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6683400" y="122220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一天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7324560" y="121896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天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Text Box 30"/>
            <p:cNvSpPr/>
            <p:nvPr/>
          </p:nvSpPr>
          <p:spPr>
            <a:xfrm>
              <a:off x="6723000" y="156384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     5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Text Box 30"/>
            <p:cNvSpPr/>
            <p:nvPr/>
          </p:nvSpPr>
          <p:spPr>
            <a:xfrm>
              <a:off x="6710400" y="189252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    30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5" name="Rectangle 11"/>
          <p:cNvSpPr/>
          <p:nvPr/>
        </p:nvSpPr>
        <p:spPr>
          <a:xfrm>
            <a:off x="1042920" y="134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写出哪些比例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43" descr="1G]2HL]YS)ZT`8_OHVINRVH"/>
          <p:cNvPicPr/>
          <p:nvPr/>
        </p:nvPicPr>
        <p:blipFill>
          <a:blip r:embed="rId2"/>
          <a:stretch/>
        </p:blipFill>
        <p:spPr>
          <a:xfrm>
            <a:off x="527040" y="1413000"/>
            <a:ext cx="44460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蓝色按钮"/>
          <p:cNvPicPr/>
          <p:nvPr/>
        </p:nvPicPr>
        <p:blipFill>
          <a:blip r:embed="rId3"/>
          <a:stretch/>
        </p:blipFill>
        <p:spPr>
          <a:xfrm>
            <a:off x="458640" y="6264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216360" y="6035760"/>
            <a:ext cx="6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8:3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Picture 37" descr="蓝色按钮"/>
          <p:cNvPicPr/>
          <p:nvPr/>
        </p:nvPicPr>
        <p:blipFill>
          <a:blip r:embed="rId4"/>
          <a:stretch/>
        </p:blipFill>
        <p:spPr>
          <a:xfrm>
            <a:off x="1332000" y="6237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8"/>
          <p:cNvSpPr/>
          <p:nvPr/>
        </p:nvSpPr>
        <p:spPr>
          <a:xfrm>
            <a:off x="1906920" y="5950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18:30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1" name="Picture 40" descr="蓝色按钮"/>
          <p:cNvPicPr/>
          <p:nvPr/>
        </p:nvPicPr>
        <p:blipFill>
          <a:blip r:embed="rId5"/>
          <a:stretch/>
        </p:blipFill>
        <p:spPr>
          <a:xfrm>
            <a:off x="2195640" y="6237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1"/>
          <p:cNvSpPr/>
          <p:nvPr/>
        </p:nvSpPr>
        <p:spPr>
          <a:xfrm>
            <a:off x="1258920" y="602784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3:18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3" name="Picture 40" descr="蓝色按钮"/>
          <p:cNvPicPr/>
          <p:nvPr/>
        </p:nvPicPr>
        <p:blipFill>
          <a:blip r:embed="rId6"/>
          <a:stretch/>
        </p:blipFill>
        <p:spPr>
          <a:xfrm>
            <a:off x="3132000" y="6237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1"/>
          <p:cNvSpPr/>
          <p:nvPr/>
        </p:nvSpPr>
        <p:spPr>
          <a:xfrm>
            <a:off x="3058920" y="599904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30:18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395280" y="614052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58"/>
          <p:cNvSpPr/>
          <p:nvPr/>
        </p:nvSpPr>
        <p:spPr>
          <a:xfrm>
            <a:off x="2340000" y="5013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62"/>
          <p:cNvSpPr/>
          <p:nvPr/>
        </p:nvSpPr>
        <p:spPr>
          <a:xfrm>
            <a:off x="1258920" y="6093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3132000" y="616572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Rectangle 68"/>
          <p:cNvSpPr/>
          <p:nvPr/>
        </p:nvSpPr>
        <p:spPr>
          <a:xfrm>
            <a:off x="2124000" y="6093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0" descr="蓝色按钮"/>
          <p:cNvPicPr/>
          <p:nvPr/>
        </p:nvPicPr>
        <p:blipFill>
          <a:blip r:embed="rId2"/>
          <a:stretch/>
        </p:blipFill>
        <p:spPr>
          <a:xfrm>
            <a:off x="468360" y="63007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1"/>
          <p:cNvSpPr/>
          <p:nvPr/>
        </p:nvSpPr>
        <p:spPr>
          <a:xfrm>
            <a:off x="462960" y="60642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4" name="Picture 40" descr="蓝色按钮"/>
          <p:cNvPicPr/>
          <p:nvPr/>
        </p:nvPicPr>
        <p:blipFill>
          <a:blip r:embed="rId3"/>
          <a:stretch/>
        </p:blipFill>
        <p:spPr>
          <a:xfrm>
            <a:off x="1368360" y="6299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1"/>
          <p:cNvSpPr/>
          <p:nvPr/>
        </p:nvSpPr>
        <p:spPr>
          <a:xfrm>
            <a:off x="1377360" y="60642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差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6" name="Picture 40" descr="蓝色按钮"/>
          <p:cNvPicPr/>
          <p:nvPr/>
        </p:nvPicPr>
        <p:blipFill>
          <a:blip r:embed="rId4"/>
          <a:stretch/>
        </p:blipFill>
        <p:spPr>
          <a:xfrm>
            <a:off x="2268360" y="6299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1"/>
          <p:cNvSpPr/>
          <p:nvPr/>
        </p:nvSpPr>
        <p:spPr>
          <a:xfrm>
            <a:off x="2280600" y="605628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积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8" name="Picture 40" descr="蓝色按钮"/>
          <p:cNvPicPr/>
          <p:nvPr/>
        </p:nvPicPr>
        <p:blipFill>
          <a:blip r:embed="rId5"/>
          <a:stretch/>
        </p:blipFill>
        <p:spPr>
          <a:xfrm>
            <a:off x="3168720" y="629928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1"/>
          <p:cNvSpPr/>
          <p:nvPr/>
        </p:nvSpPr>
        <p:spPr>
          <a:xfrm>
            <a:off x="3141000" y="6064200"/>
            <a:ext cx="3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商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6"/>
          <a:stretch/>
        </p:blipFill>
        <p:spPr>
          <a:xfrm>
            <a:off x="539640" y="13701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826920" y="134136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比例里，两个外项与两个内项之间有什么关系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26920" y="3429000"/>
            <a:ext cx="72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以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:3=30:5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来研究，也可以自己举例来研究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55640" y="2349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算出两个外项和两个内项的和、差、积、商，看看从中能发现什么规律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Picture 40" descr="蓝色按钮"/>
          <p:cNvPicPr/>
          <p:nvPr/>
        </p:nvPicPr>
        <p:blipFill>
          <a:blip r:embed="rId7"/>
          <a:stretch/>
        </p:blipFill>
        <p:spPr>
          <a:xfrm>
            <a:off x="3995640" y="62866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1"/>
          <p:cNvSpPr/>
          <p:nvPr/>
        </p:nvSpPr>
        <p:spPr>
          <a:xfrm>
            <a:off x="3965040" y="6051600"/>
            <a:ext cx="4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11280" y="1413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两个内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583000" y="335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和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+ 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583000" y="422100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和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+ 3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116000" y="50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和与两个内项的和之间没有发现规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556000" y="234936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8 : 3  =  30 : 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3" name="Group 26"/>
          <p:cNvGrpSpPr/>
          <p:nvPr/>
        </p:nvGrpSpPr>
        <p:grpSpPr>
          <a:xfrm>
            <a:off x="37440" y="5994360"/>
            <a:ext cx="966960" cy="738360"/>
            <a:chOff x="37440" y="5994360"/>
            <a:chExt cx="966960" cy="738360"/>
          </a:xfrm>
        </p:grpSpPr>
        <p:pic>
          <p:nvPicPr>
            <p:cNvPr id="134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8920" y="63007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7"/>
            <p:cNvSpPr/>
            <p:nvPr/>
          </p:nvSpPr>
          <p:spPr>
            <a:xfrm>
              <a:off x="37440" y="5994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11280" y="1413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两个内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2567160" y="335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差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- 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544840" y="421020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差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- 3 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27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556000" y="234936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8 : 3  =  30 : 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37440" y="5994360"/>
            <a:ext cx="966960" cy="738360"/>
            <a:chOff x="37440" y="5994360"/>
            <a:chExt cx="966960" cy="738360"/>
          </a:xfrm>
        </p:grpSpPr>
        <p:pic>
          <p:nvPicPr>
            <p:cNvPr id="143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8920" y="63007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7"/>
            <p:cNvSpPr/>
            <p:nvPr/>
          </p:nvSpPr>
          <p:spPr>
            <a:xfrm>
              <a:off x="37440" y="5994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1116000" y="50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差与两个内项的差之间没有发现规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11280" y="1413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两个内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2532240" y="335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× 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554200" y="422100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和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× 30 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9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56000" y="234936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8 : 3  =  30 : 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37440" y="5994360"/>
            <a:ext cx="966960" cy="738360"/>
            <a:chOff x="37440" y="5994360"/>
            <a:chExt cx="966960" cy="738360"/>
          </a:xfrm>
        </p:grpSpPr>
        <p:pic>
          <p:nvPicPr>
            <p:cNvPr id="153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8920" y="63007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37"/>
            <p:cNvSpPr/>
            <p:nvPr/>
          </p:nvSpPr>
          <p:spPr>
            <a:xfrm>
              <a:off x="37440" y="5994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5" name="Rectangle 11"/>
          <p:cNvSpPr/>
          <p:nvPr/>
        </p:nvSpPr>
        <p:spPr>
          <a:xfrm>
            <a:off x="1116000" y="50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积等于两个内项的积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11280" y="1413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两个内项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2627280" y="3357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外项的商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÷ 5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484360" y="422100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内项的商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 3 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56000" y="234936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8 : 3  =  30 : 5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37440" y="5994360"/>
            <a:ext cx="966960" cy="738360"/>
            <a:chOff x="37440" y="5994360"/>
            <a:chExt cx="966960" cy="738360"/>
          </a:xfrm>
        </p:grpSpPr>
        <p:pic>
          <p:nvPicPr>
            <p:cNvPr id="163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8920" y="63007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37"/>
            <p:cNvSpPr/>
            <p:nvPr/>
          </p:nvSpPr>
          <p:spPr>
            <a:xfrm>
              <a:off x="37440" y="5994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1116000" y="50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外项的商与两个内项的商之间没有发现规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612720" y="12254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回顾刚才的研究，可以得出一个什么结论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44400" y="5616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比例里，两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外项的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于两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内项的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39720" y="6103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不是一个规律呢？我们来验证一下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600720" cy="19270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72" name="Picture 15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3459240" cy="19368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73" name="Picture 16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3611880" cy="1944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74" name="Picture 17" descr=""/>
          <p:cNvPicPr/>
          <p:nvPr/>
        </p:nvPicPr>
        <p:blipFill>
          <a:blip r:embed="rId5"/>
          <a:stretch/>
        </p:blipFill>
        <p:spPr>
          <a:xfrm>
            <a:off x="4427640" y="3645000"/>
            <a:ext cx="3457440" cy="1960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8:48:30Z</dcterms:created>
  <dc:creator>Administrator</dc:creator>
  <dc:description/>
  <cp:keywords>青岛版数学</cp:keywords>
  <dc:language>en-US</dc:language>
  <cp:lastModifiedBy>微软用户</cp:lastModifiedBy>
  <dcterms:modified xsi:type="dcterms:W3CDTF">2015-11-23T02:32:27Z</dcterms:modified>
  <cp:revision>481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