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E2A-BD5C-4445-B47E-42B4B175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765-1247-4778-9B9B-95F7237F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5F6EF-D47C-4CEA-BF71-CC363168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B22AB-ABA1-4E67-9C4F-E865C9EC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BE61A-671E-4B17-9AEF-1F9739F0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1B635-3703-4025-9133-C1C0F486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30DBC-DFD6-4446-B7B9-F2A2031C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FCC5F-3787-4162-B741-93E34008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DEC18-5836-4A24-A403-247B8A7E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37ADB-7C8E-49F1-8BC1-224AAEED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04C80-53FC-4F1A-85C5-44F95322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1C5CD-8F0A-436A-B336-72A51CA5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C36-FADE-4321-8125-81C6AF1C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5EC52-F0B2-4E2B-A991-0E4F2BE8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3686C-15F3-4C1A-9ECE-2094C5F9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848F6-C4F7-484C-9D3F-808C74DE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D1FC6-D0D6-488E-BDE7-F1994C49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990B9-A79B-4D3E-B4BE-633B0003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9BEB5-BD8F-45C3-BD86-BDC0E823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694E1-0A4A-4792-9306-39E335E4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C9561-5326-40E8-B672-A32433E7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69AD5-9507-48E7-B312-DA9BA9FD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7C1D6-DC5A-4840-9801-128A9883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43B-5975-404A-9C5D-D282A114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11C51-4F66-495B-9129-1425734C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ED91F-ECE4-4665-A547-7D5E208E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1BD18-C9FB-4839-9138-E6FA745E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DCE59-928E-4189-A9A1-99C90FF3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8ADB3-3D6E-4A01-B328-1EF669D5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D4109-73ED-4E77-95BB-5DF7AE24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749BB-9CA6-4A39-95FD-F79BFE1C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2CAE1-F270-41CB-B9AD-225416CD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B4BB6-C595-4958-8882-9853D9E6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09E22-BAC5-4BEB-83BB-F65CB192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C16E-733B-45D2-8A22-CA5AB512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0BA33-CE8A-4F13-AD34-4C6C6D60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8CB20-ABA9-4331-96E3-E1CD0D76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91D40-FB5F-4D1E-96E7-4B31091E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18A51-2D53-4D8F-962A-35553B28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BBC9D-6834-48D4-9522-0FC5974F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78ED9-75AE-46EF-8BEA-6EF7A07B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03C62-3CC3-47CE-85C1-4B2A6337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A3010-10C2-4882-AB22-207F9E80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FBAAE-4B43-4FAA-A44C-B5223F9A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E61AF-37D4-4A16-9BA2-926D0B13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47EE-07C9-4FB4-9B26-80783F6A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937F7-48C1-4C60-9B8D-41B2A02D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078C4-5D02-4FB7-A002-D6D0583E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01459-6841-47B8-8E34-11E5E3BA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68031-B894-49EB-B943-0EF2AB0B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FD06B-5843-4594-9AA6-CBB4B807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54C5-202B-4ED8-BA69-CBB070DD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961D-C335-4F54-8E68-7D65500C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21EB-ECEA-4FDC-BDC2-2581C7BE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D171-CD86-4CF0-8F91-5C67D59D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75AC-903D-43B3-B49E-E1CA2F04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FFD-5A89-4FE0-9B75-F965756B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F950-8153-419A-9B40-F0CBC698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55ED-0D9A-45FA-82BD-7499ABBD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9B3D-DAB0-465C-8FF9-0873E873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E7CA-A196-42F1-977F-8C1BC409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D832-D94F-4AFC-896F-3A05DA2F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0D9A8-67B8-4B61-AEC7-DAF1A5D6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61BB-5F86-4B98-8925-E7730645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EB29A-58ED-4033-AA2A-7E5EDC2D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5309-67C6-4B78-AD2A-53150AF6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7D87-93E1-45B7-963B-5D44ECC0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E6B-083B-4045-AD2E-97B84419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1F8C-2623-4146-AD94-4E3A387E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C64D-EEB8-49B2-8F1A-B8369FAA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FEC8E-4FAC-403A-8883-E6EF30DE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A3A50-5647-4000-A829-9EF6061E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9CCA-B3A2-48AE-AFDB-CBB78BE9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0F6F7-2BD9-4C7C-8975-87CE393B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114E-3672-4C6D-8C04-6AB8DD6F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98618-455D-42FA-87D8-21C0F4A1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727D-0B89-4DE0-A563-BE9BAF13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E76E3-40AC-429E-A204-448577FF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B23-12B3-4CB6-95E2-1E3BA0AA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11B0B-6FC1-42CE-B134-FC2AEB38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16F37-D48D-4F08-BA80-FDFFC6B6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CCAF6-618F-4AC4-8A70-E904E261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ACD2-BC3C-419F-A491-330B2B48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567F-C074-46EE-BDE2-32927F6E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9B08B-B444-48DF-9BF1-7F3B442C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A4252-2A4A-47C8-BDB8-E04723A7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85D8-D08B-443B-B8C8-468BCCBB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3A0BC-821B-4270-941C-77288CC6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23888-D1B0-4DB5-91E2-C72689EE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7C7-55DD-46AC-BBFF-83CF6AFE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B3B0D-1989-4D35-AE3F-204D4BBE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1DB80-4CCB-4173-BFF2-8090A1F9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DD26F-7C59-4AEE-B5B8-D0419980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8537E-7128-49D6-A883-935B2151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A8A96-3B96-4A52-9003-3DE601CC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4B75E-6BFD-49E1-ABF4-98F37040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A1685-10CF-49E1-B186-0C8DA16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5926C-B43B-4890-860D-C538F919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3F54A-F2E2-474B-89A8-03E5C5FE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97BA3-D1DF-4E19-BF7E-D06F5B1C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0AC-8617-4801-960B-49D0B256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31B73-4BF4-4070-9C4D-E4F2E694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814B0-C0DC-4531-9B1F-6979D6DD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3AE39-CB99-4518-B154-F41A5387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1AB5B-822E-43F8-BB16-1DF468D4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274E3-9B08-41E2-8C9C-60C89C28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BB24F-8F8A-4A1F-8C1F-48932C1F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8F165-9C68-4E96-89AE-A679D1D6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B296A-A967-413E-AAAD-3331FAEF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DFC17-803C-4F41-B393-A2E278B1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3FE0D-5765-482E-A19B-D6FF5C8F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E9C-6086-4717-8188-C57C8AC3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09128-1928-476B-9ECE-94C651D9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80C84-0CFD-459F-BB32-E76E4ACC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C682C-78CB-4945-80E7-B08EFE9F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FECF7-FC47-4135-B4F5-49402862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09973-9FCB-472E-B729-1B970B03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0B379-DDE1-4C0F-953E-0E56E3DC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18162-6046-4729-9569-4B744624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E75CB-93EC-474B-BBFF-F3F15346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EDECC-6131-4B0B-8379-0250C105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06BA8-871E-4ADF-854C-F6F72CA3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FEA-559A-4F42-9FBD-5DB530B3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6B27E-7BF2-4920-848C-1EE7047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8FE30-246E-4A93-9DE7-D992A21A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2FDFB-9CC1-4DDD-80A7-7553798F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40C22-6F2E-4301-A7E1-66377005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B7AAF-3865-43F7-B5F3-F5A5673C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1707E-ACF6-4204-953B-3E052335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2F30D-2F43-4037-AF96-1287FD04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E0992-AB1F-49CB-95EE-41A62149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EADCD-E3D7-4A3D-83F6-180ADEF3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79494-8EDC-4282-B127-5C0FF8BD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558-D2D0-41FF-B630-FB10B4E6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92FBA-7CDF-4456-A278-8919AE3A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FAB3C-313F-4A76-A3F6-0DC04D85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DD694-2CA6-4D60-A908-A444190D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616D9-0F10-401F-9457-3B5D1B61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6C526-CD69-45D3-9143-FA6D32A0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AA349-D491-4B60-8C1F-1CB0CA05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ED234-CC65-4838-9E84-DF9D1B5C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AB03E-E0F7-437E-815D-912D508E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85880-B7A2-4D0F-8206-0CEC4F3A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5038A-2A2F-4027-A5A0-AE1B1E5B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E085-6974-4C96-8273-055C1495B5D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5C8E-9283-4BE9-B5E2-2701905028EF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B4C3-9321-45EC-A251-DF10A87AEC5E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EB2D-FCEC-44EF-A511-129E335A8D72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974A-764E-4710-9736-7523028C41A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A106-F170-4335-BC94-7DB1F4C3EC6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4002-155A-453D-8158-DEB538FBE4D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B402-7246-4C0F-9033-2A478048404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1561-0EB9-424F-AF0D-69FA6813085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1D23-F18F-4319-95B8-A259DC8F6568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A019-CD2B-4BD7-8601-627BF555D44A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3824-CE09-484C-9061-DFAE1F27C40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6"/>
          <p:cNvSpPr/>
          <p:nvPr/>
        </p:nvSpPr>
        <p:spPr>
          <a:xfrm>
            <a:off x="1143000" y="2565360"/>
            <a:ext cx="645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比例及比例的基本性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1332000" y="494172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WordArt 8" descr=""/>
          <p:cNvPicPr/>
          <p:nvPr/>
        </p:nvPicPr>
        <p:blipFill>
          <a:blip r:embed="rId1"/>
          <a:stretch/>
        </p:blipFill>
        <p:spPr>
          <a:xfrm>
            <a:off x="1822320" y="969840"/>
            <a:ext cx="5565960" cy="11034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2"/>
          <p:cNvPicPr/>
          <p:nvPr/>
        </p:nvPicPr>
        <p:blipFill>
          <a:blip r:embed="rId2"/>
          <a:stretch/>
        </p:blipFill>
        <p:spPr>
          <a:xfrm>
            <a:off x="0" y="404640"/>
            <a:ext cx="1238400" cy="18338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10"/>
          <p:cNvSpPr/>
          <p:nvPr/>
        </p:nvSpPr>
        <p:spPr>
          <a:xfrm>
            <a:off x="1187280" y="2852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学期我们学过了有关比的知识，说说你对比都有了哪些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"/>
          <p:cNvSpPr/>
          <p:nvPr/>
        </p:nvSpPr>
        <p:spPr>
          <a:xfrm>
            <a:off x="1332000" y="155736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0"/>
          <p:cNvSpPr/>
          <p:nvPr/>
        </p:nvSpPr>
        <p:spPr>
          <a:xfrm>
            <a:off x="468360" y="21398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话：同学们，你们知道青岛都有哪些产品非常有名？（学生根据自己的了解回答）青岛啤酒享誉世界各地，这节课，我们将一起去探索啤酒生产中的数学（出示情境图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7"/>
          <p:cNvSpPr/>
          <p:nvPr/>
        </p:nvSpPr>
        <p:spPr>
          <a:xfrm>
            <a:off x="6877080" y="404640"/>
            <a:ext cx="2014560" cy="1152720"/>
          </a:xfrm>
          <a:prstGeom prst="cloudCallout">
            <a:avLst>
              <a:gd name="adj1" fmla="val -18240"/>
              <a:gd name="adj2" fmla="val 101379"/>
            </a:avLst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8"/>
          <p:cNvSpPr/>
          <p:nvPr/>
        </p:nvSpPr>
        <p:spPr>
          <a:xfrm>
            <a:off x="7904880" y="40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动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9"/>
          <p:cNvSpPr/>
          <p:nvPr/>
        </p:nvSpPr>
        <p:spPr>
          <a:xfrm>
            <a:off x="7308720" y="981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是最棒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1" descr="2"/>
          <p:cNvPicPr/>
          <p:nvPr/>
        </p:nvPicPr>
        <p:blipFill>
          <a:blip r:embed="rId1"/>
          <a:stretch/>
        </p:blipFill>
        <p:spPr>
          <a:xfrm>
            <a:off x="0" y="404640"/>
            <a:ext cx="1238400" cy="1833840"/>
          </a:xfrm>
          <a:prstGeom prst="rect">
            <a:avLst/>
          </a:prstGeom>
          <a:ln w="0">
            <a:noFill/>
          </a:ln>
        </p:spPr>
      </p:pic>
      <p:pic>
        <p:nvPicPr>
          <p:cNvPr id="560" name="WordArt 32" descr=""/>
          <p:cNvPicPr/>
          <p:nvPr/>
        </p:nvPicPr>
        <p:blipFill>
          <a:blip r:embed="rId2"/>
          <a:stretch/>
        </p:blipFill>
        <p:spPr>
          <a:xfrm>
            <a:off x="1463760" y="895320"/>
            <a:ext cx="527832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59990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一辆货车运输大麦芽情况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042920" y="3141720"/>
          <a:ext cx="6265800" cy="2303280"/>
        </p:xfrm>
        <a:graphic>
          <a:graphicData uri="http://schemas.openxmlformats.org/drawingml/2006/table">
            <a:tbl>
              <a:tblPr/>
              <a:tblGrid>
                <a:gridCol w="1716120"/>
                <a:gridCol w="1219320"/>
                <a:gridCol w="33303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运输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运输量（吨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178920" y="134100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学生可能出现以下的问题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货车第一天的运输量与运输次数的比是多少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货车第二天的运输量与运输次数的比是多少？（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2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货车第二天的运输量与第一天运输量的比是多少？（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2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92170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Franklin Gothic Medium"/>
              </a:rPr>
              <a:t>（</a:t>
            </a:r>
            <a:r>
              <a:rPr b="0" lang="en-US" sz="3600" spc="-1" strike="noStrike">
                <a:solidFill>
                  <a:srgbClr val="2f2f2f"/>
                </a:solidFill>
                <a:latin typeface="Franklin Gothic Medium"/>
              </a:rPr>
              <a:t>1</a:t>
            </a:r>
            <a:r>
              <a:rPr b="0" lang="zh-CN" sz="3600" spc="-1" strike="noStrike">
                <a:solidFill>
                  <a:srgbClr val="2f2f2f"/>
                </a:solidFill>
                <a:latin typeface="Franklin Gothic Medium"/>
              </a:rPr>
              <a:t>）认识比例及各部分名称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2f2f2f"/>
                </a:solidFill>
                <a:latin typeface="Franklin Gothic Medium"/>
              </a:rPr>
              <a:t>（</a:t>
            </a:r>
            <a:r>
              <a:rPr b="0" lang="en-US" sz="3600" spc="-1" strike="noStrike">
                <a:solidFill>
                  <a:srgbClr val="2f2f2f"/>
                </a:solidFill>
                <a:latin typeface="Franklin Gothic Medium"/>
              </a:rPr>
              <a:t>2</a:t>
            </a:r>
            <a:r>
              <a:rPr b="0" lang="zh-CN" sz="3600" spc="-1" strike="noStrike">
                <a:solidFill>
                  <a:srgbClr val="2f2f2f"/>
                </a:solidFill>
                <a:latin typeface="Franklin Gothic Medium"/>
              </a:rPr>
              <a:t>）判断下面每组中两个比能否组成比例？</a:t>
            </a:r>
            <a:br>
              <a:rPr sz="3600"/>
            </a:br>
            <a:r>
              <a:rPr b="0" lang="zh-CN" sz="3600" spc="-1" strike="noStrike">
                <a:solidFill>
                  <a:srgbClr val="2f2f2f"/>
                </a:solidFill>
                <a:latin typeface="Franklin Gothic Medium"/>
              </a:rPr>
              <a:t>  </a:t>
            </a:r>
            <a:r>
              <a:rPr b="0" lang="en-US" sz="3600" spc="-1" strike="noStrike">
                <a:solidFill>
                  <a:srgbClr val="2f2f2f"/>
                </a:solidFill>
                <a:latin typeface="Franklin Gothic Medium"/>
              </a:rPr>
              <a:t>1/3∶ 1/4</a:t>
            </a:r>
            <a:r>
              <a:rPr b="0" lang="zh-CN" sz="3600" spc="-1" strike="noStrike">
                <a:solidFill>
                  <a:srgbClr val="2f2f2f"/>
                </a:solidFill>
                <a:latin typeface="Franklin Gothic Medium"/>
              </a:rPr>
              <a:t>和</a:t>
            </a:r>
            <a:r>
              <a:rPr b="0" lang="en-US" sz="3600" spc="-1" strike="noStrike">
                <a:solidFill>
                  <a:srgbClr val="2f2f2f"/>
                </a:solidFill>
                <a:latin typeface="Franklin Gothic Medium"/>
              </a:rPr>
              <a:t>12∶9            16∶2</a:t>
            </a:r>
            <a:r>
              <a:rPr b="0" lang="zh-CN" sz="3600" spc="-1" strike="noStrike">
                <a:solidFill>
                  <a:srgbClr val="2f2f2f"/>
                </a:solidFill>
                <a:latin typeface="Franklin Gothic Medium"/>
              </a:rPr>
              <a:t>和</a:t>
            </a:r>
            <a:r>
              <a:rPr b="0" lang="en-US" sz="3600" spc="-1" strike="noStrike">
                <a:solidFill>
                  <a:srgbClr val="2f2f2f"/>
                </a:solidFill>
                <a:latin typeface="Franklin Gothic Medium"/>
              </a:rPr>
              <a:t>32∶4   </a:t>
            </a:r>
            <a:br>
              <a:rPr sz="3600"/>
            </a:br>
            <a:r>
              <a:rPr b="0" lang="en-US" sz="3600" spc="-1" strike="noStrike">
                <a:solidFill>
                  <a:srgbClr val="2f2f2f"/>
                </a:solidFill>
                <a:latin typeface="Franklin Gothic Medium"/>
              </a:rPr>
              <a:t>   7∶4</a:t>
            </a:r>
            <a:r>
              <a:rPr b="0" lang="zh-CN" sz="3600" spc="-1" strike="noStrike">
                <a:solidFill>
                  <a:srgbClr val="2f2f2f"/>
                </a:solidFill>
                <a:latin typeface="Franklin Gothic Medium"/>
              </a:rPr>
              <a:t>和</a:t>
            </a:r>
            <a:r>
              <a:rPr b="0" lang="en-US" sz="3600" spc="-1" strike="noStrike">
                <a:solidFill>
                  <a:srgbClr val="2f2f2f"/>
                </a:solidFill>
                <a:latin typeface="Franklin Gothic Medium"/>
              </a:rPr>
              <a:t>5∶3                    80∶2</a:t>
            </a:r>
            <a:r>
              <a:rPr b="0" lang="zh-CN" sz="3600" spc="-1" strike="noStrike">
                <a:solidFill>
                  <a:srgbClr val="2f2f2f"/>
                </a:solidFill>
                <a:latin typeface="Franklin Gothic Medium"/>
              </a:rPr>
              <a:t>和</a:t>
            </a:r>
            <a:r>
              <a:rPr b="0" lang="en-US" sz="3600" spc="-1" strike="noStrike">
                <a:solidFill>
                  <a:srgbClr val="2f2f2f"/>
                </a:solidFill>
                <a:latin typeface="Franklin Gothic Medium"/>
              </a:rPr>
              <a:t>200∶5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565" name="WordArt 4" descr=""/>
          <p:cNvPicPr/>
          <p:nvPr/>
        </p:nvPicPr>
        <p:blipFill>
          <a:blip r:embed="rId1"/>
          <a:stretch/>
        </p:blipFill>
        <p:spPr>
          <a:xfrm>
            <a:off x="311040" y="755640"/>
            <a:ext cx="72486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4"/>
          <p:cNvSpPr/>
          <p:nvPr/>
        </p:nvSpPr>
        <p:spPr>
          <a:xfrm>
            <a:off x="1440000" y="2604960"/>
            <a:ext cx="70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示两个比相等地的式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叫做比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f2f"/>
                </a:solidFill>
                <a:latin typeface="Franklin Gothic Medium"/>
              </a:rPr>
              <a:t>学生先独立思考，再小组交流，探究规律。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78920" y="1268280"/>
            <a:ext cx="85410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出示研究方案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观察比例的两个内项与两个外项，用算一算的方法，找同学说一说，你发现了什么。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是不是每一个比例的两个外项与两个内项都具有这种规律，请你再举出这样的例子来。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通过以上研究，你发现了什么？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"/>
          <p:cNvSpPr/>
          <p:nvPr/>
        </p:nvSpPr>
        <p:spPr>
          <a:xfrm>
            <a:off x="2556000" y="19321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在比例里，两个内项的积等于两个外项的积，这叫做比例的基本性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280" y="2060640"/>
            <a:ext cx="8001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f2f"/>
                </a:solidFill>
                <a:latin typeface="Franklin Gothic Medium"/>
              </a:rPr>
              <a:t>（</a:t>
            </a:r>
            <a:r>
              <a:rPr b="0" lang="en-US" sz="3200" spc="-1" strike="noStrike">
                <a:solidFill>
                  <a:srgbClr val="2f2f2f"/>
                </a:solidFill>
                <a:latin typeface="Franklin Gothic Medium"/>
              </a:rPr>
              <a:t>1</a:t>
            </a:r>
            <a:r>
              <a:rPr b="0" lang="zh-CN" sz="3200" spc="-1" strike="noStrike">
                <a:solidFill>
                  <a:srgbClr val="2f2f2f"/>
                </a:solidFill>
                <a:latin typeface="Franklin Gothic Medium"/>
              </a:rPr>
              <a:t>）比例的基本性质有什么应用？ </a:t>
            </a:r>
            <a:br>
              <a:rPr sz="3200"/>
            </a:br>
            <a:r>
              <a:rPr b="0" lang="zh-CN" sz="3200" spc="-1" strike="noStrike">
                <a:solidFill>
                  <a:srgbClr val="2f2f2f"/>
                </a:solidFill>
                <a:latin typeface="Franklin Gothic Medium"/>
              </a:rPr>
              <a:t>（</a:t>
            </a:r>
            <a:r>
              <a:rPr b="0" lang="en-US" sz="3200" spc="-1" strike="noStrike">
                <a:solidFill>
                  <a:srgbClr val="2f2f2f"/>
                </a:solidFill>
                <a:latin typeface="Franklin Gothic Medium"/>
              </a:rPr>
              <a:t>2</a:t>
            </a:r>
            <a:r>
              <a:rPr b="0" lang="zh-CN" sz="3200" spc="-1" strike="noStrike">
                <a:solidFill>
                  <a:srgbClr val="2f2f2f"/>
                </a:solidFill>
                <a:latin typeface="Franklin Gothic Medium"/>
              </a:rPr>
              <a:t>）试一试：</a:t>
            </a:r>
            <a:r>
              <a:rPr b="0" lang="en-US" sz="3200" spc="-1" strike="noStrike">
                <a:solidFill>
                  <a:srgbClr val="2f2f2f"/>
                </a:solidFill>
                <a:latin typeface="Franklin Gothic Medium"/>
              </a:rPr>
              <a:t>40 </a:t>
            </a:r>
            <a:r>
              <a:rPr b="0" lang="zh-CN" sz="3200" spc="-1" strike="noStrike">
                <a:solidFill>
                  <a:srgbClr val="2f2f2f"/>
                </a:solidFill>
                <a:latin typeface="Franklin Gothic Medium"/>
              </a:rPr>
              <a:t>：</a:t>
            </a:r>
            <a:r>
              <a:rPr b="0" lang="en-US" sz="3200" spc="-1" strike="noStrike">
                <a:solidFill>
                  <a:srgbClr val="2f2f2f"/>
                </a:solidFill>
                <a:latin typeface="Franklin Gothic Medium"/>
              </a:rPr>
              <a:t>2 = 60 </a:t>
            </a:r>
            <a:r>
              <a:rPr b="0" lang="zh-CN" sz="3200" spc="-1" strike="noStrike">
                <a:solidFill>
                  <a:srgbClr val="2f2f2f"/>
                </a:solidFill>
                <a:latin typeface="Franklin Gothic Medium"/>
              </a:rPr>
              <a:t>：</a:t>
            </a:r>
            <a:r>
              <a:rPr b="0" lang="en-US" sz="3200" spc="-1" strike="noStrike">
                <a:solidFill>
                  <a:srgbClr val="2f2f2f"/>
                </a:solidFill>
                <a:latin typeface="Franklin Gothic Medium"/>
              </a:rPr>
              <a:t>3</a:t>
            </a:r>
            <a:br>
              <a:rPr sz="3200"/>
            </a:br>
            <a:r>
              <a:rPr b="0" lang="en-US" sz="3200" spc="-1" strike="noStrike">
                <a:solidFill>
                  <a:srgbClr val="2f2f2f"/>
                </a:solidFill>
                <a:latin typeface="Franklin Gothic Medium"/>
              </a:rPr>
              <a:t>   a</a:t>
            </a:r>
            <a:r>
              <a:rPr b="0" lang="zh-CN" sz="3200" spc="-1" strike="noStrike">
                <a:solidFill>
                  <a:srgbClr val="2f2f2f"/>
                </a:solidFill>
                <a:latin typeface="Franklin Gothic Medium"/>
              </a:rPr>
              <a:t>、先假设这两个比能组成比例 </a:t>
            </a:r>
            <a:br>
              <a:rPr sz="3200"/>
            </a:br>
            <a:r>
              <a:rPr b="0" lang="zh-CN" sz="3200" spc="-1" strike="noStrike">
                <a:solidFill>
                  <a:srgbClr val="2f2f2f"/>
                </a:solidFill>
                <a:latin typeface="Franklin Gothic Medium"/>
              </a:rPr>
              <a:t>   </a:t>
            </a:r>
            <a:r>
              <a:rPr b="0" lang="en-US" sz="3200" spc="-1" strike="noStrike">
                <a:solidFill>
                  <a:srgbClr val="2f2f2f"/>
                </a:solidFill>
                <a:latin typeface="Franklin Gothic Medium"/>
              </a:rPr>
              <a:t>b</a:t>
            </a:r>
            <a:r>
              <a:rPr b="0" lang="zh-CN" sz="3200" spc="-1" strike="noStrike">
                <a:solidFill>
                  <a:srgbClr val="2f2f2f"/>
                </a:solidFill>
                <a:latin typeface="Franklin Gothic Medium"/>
              </a:rPr>
              <a:t>、说出写出的比例的内项和外项分别是几，再分别算出外项和内项的积。 </a:t>
            </a:r>
            <a:br>
              <a:rPr sz="3200"/>
            </a:br>
            <a:r>
              <a:rPr b="0" lang="zh-CN" sz="3200" spc="-1" strike="noStrike">
                <a:solidFill>
                  <a:srgbClr val="2f2f2f"/>
                </a:solidFill>
                <a:latin typeface="Franklin Gothic Medium"/>
              </a:rPr>
              <a:t>   </a:t>
            </a:r>
            <a:r>
              <a:rPr b="0" lang="en-US" sz="3200" spc="-1" strike="noStrike">
                <a:solidFill>
                  <a:srgbClr val="2f2f2f"/>
                </a:solidFill>
                <a:latin typeface="Franklin Gothic Medium"/>
              </a:rPr>
              <a:t>c</a:t>
            </a:r>
            <a:r>
              <a:rPr b="0" lang="zh-CN" sz="3200" spc="-1" strike="noStrike">
                <a:solidFill>
                  <a:srgbClr val="2f2f2f"/>
                </a:solidFill>
                <a:latin typeface="Franklin Gothic Medium"/>
              </a:rPr>
              <a:t>、根据比例的基本性质判断组成的比例是否正确。</a:t>
            </a:r>
            <a:r>
              <a:rPr b="0" lang="zh-CN" sz="4000" spc="-1" strike="noStrike">
                <a:solidFill>
                  <a:srgbClr val="2f2f2f"/>
                </a:solidFill>
                <a:latin typeface="Franklin Gothic Medium"/>
              </a:rPr>
              <a:t> 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571" name="WordArt 4" descr=""/>
          <p:cNvPicPr/>
          <p:nvPr/>
        </p:nvPicPr>
        <p:blipFill>
          <a:blip r:embed="rId1"/>
          <a:stretch/>
        </p:blipFill>
        <p:spPr>
          <a:xfrm>
            <a:off x="384120" y="755640"/>
            <a:ext cx="635796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24000" y="1341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练习巩固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、连线：自主练习第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、填空：自主练习第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、自主练习第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题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:1=4: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（  ）  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.4:2=(  ):3    1/2:1/3=3(  )                12:(  )=(  ):5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4"/>
          <p:cNvSpPr/>
          <p:nvPr/>
        </p:nvSpPr>
        <p:spPr>
          <a:xfrm>
            <a:off x="1908000" y="1773360"/>
            <a:ext cx="54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1258920" y="2133720"/>
            <a:ext cx="5257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、说教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二、说教法学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三、说教学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同桌俩互相说说自己在这节课都有哪些收获？（同桌互说后，师随意挑选多个同学说出他们在这一节课的收获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74" name="WordArt 4" descr=""/>
          <p:cNvPicPr/>
          <p:nvPr/>
        </p:nvPicPr>
        <p:blipFill>
          <a:blip r:embed="rId1"/>
          <a:stretch/>
        </p:blipFill>
        <p:spPr>
          <a:xfrm>
            <a:off x="285840" y="596880"/>
            <a:ext cx="85723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WordArt 9" descr=""/>
          <p:cNvPicPr/>
          <p:nvPr/>
        </p:nvPicPr>
        <p:blipFill>
          <a:blip r:embed="rId1"/>
          <a:stretch/>
        </p:blipFill>
        <p:spPr>
          <a:xfrm>
            <a:off x="3529080" y="2700360"/>
            <a:ext cx="27194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4"/>
          <p:cNvSpPr/>
          <p:nvPr/>
        </p:nvSpPr>
        <p:spPr>
          <a:xfrm>
            <a:off x="7308720" y="260280"/>
            <a:ext cx="1656000" cy="865080"/>
          </a:xfrm>
          <a:prstGeom prst="cloudCallout">
            <a:avLst>
              <a:gd name="adj1" fmla="val -100527"/>
              <a:gd name="adj2" fmla="val 61194"/>
            </a:avLst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7854480" y="307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动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250920" y="1268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下列两个比之间的哪些       能填“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 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7"/>
          <p:cNvSpPr/>
          <p:nvPr/>
        </p:nvSpPr>
        <p:spPr>
          <a:xfrm>
            <a:off x="5651640" y="1413000"/>
            <a:ext cx="35856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28"/>
          <p:cNvGrpSpPr/>
          <p:nvPr/>
        </p:nvGrpSpPr>
        <p:grpSpPr>
          <a:xfrm>
            <a:off x="684360" y="3141720"/>
            <a:ext cx="8135640" cy="1728000"/>
            <a:chOff x="684360" y="3141720"/>
            <a:chExt cx="8135640" cy="1728000"/>
          </a:xfrm>
        </p:grpSpPr>
        <p:sp>
          <p:nvSpPr>
            <p:cNvPr id="581" name="Text Box 8"/>
            <p:cNvSpPr/>
            <p:nvPr/>
          </p:nvSpPr>
          <p:spPr>
            <a:xfrm>
              <a:off x="684360" y="3141720"/>
              <a:ext cx="813564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：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2         3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：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6       0.5:0.2            5:2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1.5:3        15:3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1"/>
            <p:cNvSpPr/>
            <p:nvPr/>
          </p:nvSpPr>
          <p:spPr>
            <a:xfrm>
              <a:off x="2197080" y="3357360"/>
              <a:ext cx="358920" cy="358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2"/>
            <p:cNvSpPr/>
            <p:nvPr/>
          </p:nvSpPr>
          <p:spPr>
            <a:xfrm>
              <a:off x="6518160" y="3286080"/>
              <a:ext cx="358920" cy="358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3"/>
            <p:cNvSpPr/>
            <p:nvPr/>
          </p:nvSpPr>
          <p:spPr>
            <a:xfrm>
              <a:off x="2197080" y="4149720"/>
              <a:ext cx="358920" cy="358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4"/>
            <p:cNvSpPr/>
            <p:nvPr/>
          </p:nvSpPr>
          <p:spPr>
            <a:xfrm>
              <a:off x="6518160" y="4151160"/>
              <a:ext cx="358920" cy="358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26"/>
            <p:cNvGrpSpPr/>
            <p:nvPr/>
          </p:nvGrpSpPr>
          <p:grpSpPr>
            <a:xfrm>
              <a:off x="4572000" y="3717720"/>
              <a:ext cx="1309680" cy="1145880"/>
              <a:chOff x="4572000" y="3717720"/>
              <a:chExt cx="1309680" cy="1145880"/>
            </a:xfrm>
          </p:grpSpPr>
          <p:sp>
            <p:nvSpPr>
              <p:cNvPr id="587" name="Text Box 20"/>
              <p:cNvSpPr/>
              <p:nvPr/>
            </p:nvSpPr>
            <p:spPr>
              <a:xfrm>
                <a:off x="5294160" y="3933720"/>
                <a:ext cx="587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Arial"/>
                  </a:rPr>
                  <a:t>: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8" name="Group 23"/>
              <p:cNvGrpSpPr/>
              <p:nvPr/>
            </p:nvGrpSpPr>
            <p:grpSpPr>
              <a:xfrm>
                <a:off x="4572000" y="3717720"/>
                <a:ext cx="792000" cy="1145880"/>
                <a:chOff x="4572000" y="3717720"/>
                <a:chExt cx="792000" cy="1145880"/>
              </a:xfrm>
            </p:grpSpPr>
            <p:sp>
              <p:nvSpPr>
                <p:cNvPr id="589" name="Text Box 15"/>
                <p:cNvSpPr/>
                <p:nvPr/>
              </p:nvSpPr>
              <p:spPr>
                <a:xfrm>
                  <a:off x="4716360" y="3717720"/>
                  <a:ext cx="4334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Text Box 16"/>
                <p:cNvSpPr/>
                <p:nvPr/>
              </p:nvSpPr>
              <p:spPr>
                <a:xfrm>
                  <a:off x="4717800" y="4221000"/>
                  <a:ext cx="435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ff"/>
                      </a:solidFill>
                      <a:latin typeface="Arial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1"/>
                <p:cNvSpPr/>
                <p:nvPr/>
              </p:nvSpPr>
              <p:spPr>
                <a:xfrm>
                  <a:off x="4572000" y="4294080"/>
                  <a:ext cx="7920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" name="Group 27"/>
            <p:cNvGrpSpPr/>
            <p:nvPr/>
          </p:nvGrpSpPr>
          <p:grpSpPr>
            <a:xfrm>
              <a:off x="7148520" y="3724200"/>
              <a:ext cx="1309320" cy="1145520"/>
              <a:chOff x="7148520" y="3724200"/>
              <a:chExt cx="1309320" cy="1145520"/>
            </a:xfrm>
          </p:grpSpPr>
          <p:grpSp>
            <p:nvGrpSpPr>
              <p:cNvPr id="593" name="Group 24"/>
              <p:cNvGrpSpPr/>
              <p:nvPr/>
            </p:nvGrpSpPr>
            <p:grpSpPr>
              <a:xfrm>
                <a:off x="7148520" y="3724200"/>
                <a:ext cx="792000" cy="1145520"/>
                <a:chOff x="7148520" y="3724200"/>
                <a:chExt cx="792000" cy="1145520"/>
              </a:xfrm>
            </p:grpSpPr>
            <p:sp>
              <p:nvSpPr>
                <p:cNvPr id="594" name="Text Box 17"/>
                <p:cNvSpPr/>
                <p:nvPr/>
              </p:nvSpPr>
              <p:spPr>
                <a:xfrm>
                  <a:off x="7293960" y="4227120"/>
                  <a:ext cx="435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ff"/>
                      </a:solidFill>
                      <a:latin typeface="Arial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Text Box 19"/>
                <p:cNvSpPr/>
                <p:nvPr/>
              </p:nvSpPr>
              <p:spPr>
                <a:xfrm>
                  <a:off x="7291080" y="3724200"/>
                  <a:ext cx="433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2"/>
                <p:cNvSpPr/>
                <p:nvPr/>
              </p:nvSpPr>
              <p:spPr>
                <a:xfrm>
                  <a:off x="7148520" y="4300200"/>
                  <a:ext cx="7920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Text Box 25"/>
              <p:cNvSpPr/>
              <p:nvPr/>
            </p:nvSpPr>
            <p:spPr>
              <a:xfrm>
                <a:off x="7870320" y="3933720"/>
                <a:ext cx="587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Arial"/>
                  </a:rPr>
                  <a:t>: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Text Box 29"/>
          <p:cNvSpPr/>
          <p:nvPr/>
        </p:nvSpPr>
        <p:spPr>
          <a:xfrm>
            <a:off x="7970760" y="614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一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WordArt 31"/>
          <p:cNvSpPr txBox="1"/>
          <p:nvPr/>
        </p:nvSpPr>
        <p:spPr>
          <a:xfrm>
            <a:off x="684360" y="333360"/>
            <a:ext cx="1419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4"/>
          <p:cNvSpPr/>
          <p:nvPr/>
        </p:nvSpPr>
        <p:spPr>
          <a:xfrm>
            <a:off x="1547640" y="213372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为什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5:3        15:3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讨论判断两个比是不是能组成比例的关键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"/>
          <p:cNvSpPr/>
          <p:nvPr/>
        </p:nvSpPr>
        <p:spPr>
          <a:xfrm>
            <a:off x="5148360" y="2708280"/>
            <a:ext cx="503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5181840" y="2637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2209680" y="54936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比和比例有什么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838080" y="1541520"/>
            <a:ext cx="755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比是表示两个数相除，是一个式子，只有两个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762120" y="348624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比例是表示两个比相等的式子，是一个等式，有四个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5" descr="MCj04405690000[1]"/>
          <p:cNvPicPr/>
          <p:nvPr/>
        </p:nvPicPr>
        <p:blipFill>
          <a:blip r:embed="rId1"/>
          <a:stretch/>
        </p:blipFill>
        <p:spPr>
          <a:xfrm>
            <a:off x="684360" y="4608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26"/>
          <p:cNvSpPr/>
          <p:nvPr/>
        </p:nvSpPr>
        <p:spPr>
          <a:xfrm>
            <a:off x="179280" y="5300640"/>
            <a:ext cx="3095640" cy="1368360"/>
          </a:xfrm>
          <a:prstGeom prst="cloudCallout">
            <a:avLst>
              <a:gd name="adj1" fmla="val 32972"/>
              <a:gd name="adj2" fmla="val -74824"/>
            </a:avLst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3067560" y="91440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80 ∶ 2   =   200 ∶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3124080" y="1479600"/>
            <a:ext cx="3505320" cy="1295280"/>
            <a:chOff x="3124080" y="1479600"/>
            <a:chExt cx="3505320" cy="1295280"/>
          </a:xfrm>
        </p:grpSpPr>
        <p:sp>
          <p:nvSpPr>
            <p:cNvPr id="610" name="Line 4"/>
            <p:cNvSpPr/>
            <p:nvPr/>
          </p:nvSpPr>
          <p:spPr>
            <a:xfrm flipV="1">
              <a:off x="3124080" y="1479600"/>
              <a:ext cx="0" cy="129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5"/>
            <p:cNvSpPr/>
            <p:nvPr/>
          </p:nvSpPr>
          <p:spPr>
            <a:xfrm flipV="1">
              <a:off x="6629400" y="1479600"/>
              <a:ext cx="0" cy="129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Text Box 6"/>
          <p:cNvSpPr/>
          <p:nvPr/>
        </p:nvSpPr>
        <p:spPr>
          <a:xfrm>
            <a:off x="4584240" y="2484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外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7"/>
          <p:cNvGrpSpPr/>
          <p:nvPr/>
        </p:nvGrpSpPr>
        <p:grpSpPr>
          <a:xfrm>
            <a:off x="4191120" y="1479240"/>
            <a:ext cx="1371600" cy="762120"/>
            <a:chOff x="4191120" y="1479240"/>
            <a:chExt cx="1371600" cy="762120"/>
          </a:xfrm>
        </p:grpSpPr>
        <p:sp>
          <p:nvSpPr>
            <p:cNvPr id="614" name="Line 8"/>
            <p:cNvSpPr/>
            <p:nvPr/>
          </p:nvSpPr>
          <p:spPr>
            <a:xfrm flipV="1">
              <a:off x="4191120" y="1479240"/>
              <a:ext cx="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"/>
            <p:cNvSpPr/>
            <p:nvPr/>
          </p:nvSpPr>
          <p:spPr>
            <a:xfrm flipV="1">
              <a:off x="5562720" y="1479240"/>
              <a:ext cx="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"/>
          <p:cNvGrpSpPr/>
          <p:nvPr/>
        </p:nvGrpSpPr>
        <p:grpSpPr>
          <a:xfrm>
            <a:off x="4191120" y="2241720"/>
            <a:ext cx="1371600" cy="0"/>
            <a:chOff x="4191120" y="2241720"/>
            <a:chExt cx="1371600" cy="0"/>
          </a:xfrm>
        </p:grpSpPr>
        <p:sp>
          <p:nvSpPr>
            <p:cNvPr id="617" name="Line 11"/>
            <p:cNvSpPr/>
            <p:nvPr/>
          </p:nvSpPr>
          <p:spPr>
            <a:xfrm>
              <a:off x="4191120" y="2241720"/>
              <a:ext cx="304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2"/>
            <p:cNvSpPr/>
            <p:nvPr/>
          </p:nvSpPr>
          <p:spPr>
            <a:xfrm>
              <a:off x="5257800" y="2241720"/>
              <a:ext cx="304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Text Box 13"/>
          <p:cNvSpPr/>
          <p:nvPr/>
        </p:nvSpPr>
        <p:spPr>
          <a:xfrm>
            <a:off x="4584240" y="1936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内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14"/>
          <p:cNvGrpSpPr/>
          <p:nvPr/>
        </p:nvGrpSpPr>
        <p:grpSpPr>
          <a:xfrm>
            <a:off x="3124080" y="2774880"/>
            <a:ext cx="3505320" cy="0"/>
            <a:chOff x="3124080" y="2774880"/>
            <a:chExt cx="3505320" cy="0"/>
          </a:xfrm>
        </p:grpSpPr>
        <p:sp>
          <p:nvSpPr>
            <p:cNvPr id="621" name="Line 15"/>
            <p:cNvSpPr/>
            <p:nvPr/>
          </p:nvSpPr>
          <p:spPr>
            <a:xfrm>
              <a:off x="3124080" y="2774880"/>
              <a:ext cx="129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6"/>
            <p:cNvSpPr/>
            <p:nvPr/>
          </p:nvSpPr>
          <p:spPr>
            <a:xfrm>
              <a:off x="5334120" y="2774880"/>
              <a:ext cx="1295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Text Box 17"/>
          <p:cNvSpPr/>
          <p:nvPr/>
        </p:nvSpPr>
        <p:spPr>
          <a:xfrm>
            <a:off x="2697840" y="3933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内项积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8"/>
          <p:cNvSpPr/>
          <p:nvPr/>
        </p:nvSpPr>
        <p:spPr>
          <a:xfrm>
            <a:off x="4413960" y="398772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 × 20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2697840" y="3244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外项积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20"/>
          <p:cNvSpPr/>
          <p:nvPr/>
        </p:nvSpPr>
        <p:spPr>
          <a:xfrm>
            <a:off x="4380840" y="3294000"/>
            <a:ext cx="24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80 × 5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＝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1"/>
          <p:cNvSpPr/>
          <p:nvPr/>
        </p:nvSpPr>
        <p:spPr>
          <a:xfrm>
            <a:off x="3096360" y="4581360"/>
            <a:ext cx="31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 × 20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＝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80 × 5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2f2f2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23"/>
          <p:cNvSpPr/>
          <p:nvPr/>
        </p:nvSpPr>
        <p:spPr>
          <a:xfrm rot="5382600">
            <a:off x="1125360" y="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5"/>
          <p:cNvSpPr/>
          <p:nvPr/>
        </p:nvSpPr>
        <p:spPr>
          <a:xfrm>
            <a:off x="539640" y="5734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发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4"/>
          <p:cNvSpPr/>
          <p:nvPr/>
        </p:nvSpPr>
        <p:spPr>
          <a:xfrm>
            <a:off x="2124000" y="299736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539640" y="2652840"/>
            <a:ext cx="813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1)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交换两个外项的位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比例还成立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2)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交换两个内项的位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比例还成立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3)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交换其中一个外项和一个内项的位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比例还成立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4)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两个外项和两个内项分别交换位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比例还成立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2630880" y="47628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80 ∶ 2   =   200 ∶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7"/>
          <p:cNvGrpSpPr/>
          <p:nvPr/>
        </p:nvGrpSpPr>
        <p:grpSpPr>
          <a:xfrm>
            <a:off x="2687760" y="1041480"/>
            <a:ext cx="3504960" cy="1295280"/>
            <a:chOff x="2687760" y="1041480"/>
            <a:chExt cx="3504960" cy="1295280"/>
          </a:xfrm>
        </p:grpSpPr>
        <p:sp>
          <p:nvSpPr>
            <p:cNvPr id="635" name="Line 8"/>
            <p:cNvSpPr/>
            <p:nvPr/>
          </p:nvSpPr>
          <p:spPr>
            <a:xfrm flipV="1">
              <a:off x="2687760" y="1041480"/>
              <a:ext cx="0" cy="129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9"/>
            <p:cNvSpPr/>
            <p:nvPr/>
          </p:nvSpPr>
          <p:spPr>
            <a:xfrm flipV="1">
              <a:off x="6192720" y="1041480"/>
              <a:ext cx="0" cy="129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Text Box 10"/>
          <p:cNvSpPr/>
          <p:nvPr/>
        </p:nvSpPr>
        <p:spPr>
          <a:xfrm>
            <a:off x="4147560" y="2046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外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1"/>
          <p:cNvGrpSpPr/>
          <p:nvPr/>
        </p:nvGrpSpPr>
        <p:grpSpPr>
          <a:xfrm>
            <a:off x="3754440" y="1041480"/>
            <a:ext cx="1371600" cy="761760"/>
            <a:chOff x="3754440" y="1041480"/>
            <a:chExt cx="1371600" cy="761760"/>
          </a:xfrm>
        </p:grpSpPr>
        <p:sp>
          <p:nvSpPr>
            <p:cNvPr id="639" name="Line 12"/>
            <p:cNvSpPr/>
            <p:nvPr/>
          </p:nvSpPr>
          <p:spPr>
            <a:xfrm flipV="1">
              <a:off x="3754440" y="1041480"/>
              <a:ext cx="0" cy="761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3"/>
            <p:cNvSpPr/>
            <p:nvPr/>
          </p:nvSpPr>
          <p:spPr>
            <a:xfrm flipV="1">
              <a:off x="5126040" y="1041480"/>
              <a:ext cx="0" cy="761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14"/>
          <p:cNvGrpSpPr/>
          <p:nvPr/>
        </p:nvGrpSpPr>
        <p:grpSpPr>
          <a:xfrm>
            <a:off x="3754440" y="1803240"/>
            <a:ext cx="1371600" cy="0"/>
            <a:chOff x="3754440" y="1803240"/>
            <a:chExt cx="1371600" cy="0"/>
          </a:xfrm>
        </p:grpSpPr>
        <p:sp>
          <p:nvSpPr>
            <p:cNvPr id="642" name="Line 15"/>
            <p:cNvSpPr/>
            <p:nvPr/>
          </p:nvSpPr>
          <p:spPr>
            <a:xfrm>
              <a:off x="3754440" y="1803240"/>
              <a:ext cx="304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6"/>
            <p:cNvSpPr/>
            <p:nvPr/>
          </p:nvSpPr>
          <p:spPr>
            <a:xfrm>
              <a:off x="4821120" y="1803240"/>
              <a:ext cx="304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Text Box 17"/>
          <p:cNvSpPr/>
          <p:nvPr/>
        </p:nvSpPr>
        <p:spPr>
          <a:xfrm>
            <a:off x="4147560" y="1498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内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18"/>
          <p:cNvGrpSpPr/>
          <p:nvPr/>
        </p:nvGrpSpPr>
        <p:grpSpPr>
          <a:xfrm>
            <a:off x="2687760" y="2349360"/>
            <a:ext cx="3504600" cy="0"/>
            <a:chOff x="2687760" y="2349360"/>
            <a:chExt cx="3504600" cy="0"/>
          </a:xfrm>
        </p:grpSpPr>
        <p:sp>
          <p:nvSpPr>
            <p:cNvPr id="646" name="Line 19"/>
            <p:cNvSpPr/>
            <p:nvPr/>
          </p:nvSpPr>
          <p:spPr>
            <a:xfrm>
              <a:off x="2687760" y="2349360"/>
              <a:ext cx="1295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20"/>
            <p:cNvSpPr/>
            <p:nvPr/>
          </p:nvSpPr>
          <p:spPr>
            <a:xfrm>
              <a:off x="4897440" y="2349360"/>
              <a:ext cx="1294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5"/>
          <p:cNvSpPr/>
          <p:nvPr/>
        </p:nvSpPr>
        <p:spPr>
          <a:xfrm>
            <a:off x="179280" y="1762200"/>
            <a:ext cx="874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: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判断下面每组中的两个比能不能组成比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把能组成比例的写出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)  6:  10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 : 15     (2)20 : 5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 :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3)  1 / 2:  1 / 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 : 4  (4)0.6 : 0.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 / 4: 1 / 4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395280" y="458136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出比值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两个比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并组成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出比值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/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两个比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并组成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10" descr="2"/>
          <p:cNvPicPr/>
          <p:nvPr/>
        </p:nvPicPr>
        <p:blipFill>
          <a:blip r:embed="rId1"/>
          <a:stretch/>
        </p:blipFill>
        <p:spPr>
          <a:xfrm>
            <a:off x="93600" y="44280"/>
            <a:ext cx="1238400" cy="1833840"/>
          </a:xfrm>
          <a:prstGeom prst="rect">
            <a:avLst/>
          </a:prstGeom>
          <a:ln w="0">
            <a:noFill/>
          </a:ln>
        </p:spPr>
      </p:pic>
      <p:pic>
        <p:nvPicPr>
          <p:cNvPr id="651" name="WordArt 11" descr=""/>
          <p:cNvPicPr/>
          <p:nvPr/>
        </p:nvPicPr>
        <p:blipFill>
          <a:blip r:embed="rId2"/>
          <a:stretch/>
        </p:blipFill>
        <p:spPr>
          <a:xfrm>
            <a:off x="1536840" y="682560"/>
            <a:ext cx="534492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4"/>
          <p:cNvSpPr/>
          <p:nvPr/>
        </p:nvSpPr>
        <p:spPr>
          <a:xfrm>
            <a:off x="684360" y="1773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给出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4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0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四个数让学生组成不同的比例（不要求写全，但写成比的形式和分数形式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5"/>
          <p:cNvSpPr/>
          <p:nvPr/>
        </p:nvSpPr>
        <p:spPr>
          <a:xfrm>
            <a:off x="611280" y="2349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规则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请每位同学都想好一个比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告诉老师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1979640" y="32846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的三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老师能很快说出另外一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684360" y="40053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探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1835280" y="4149720"/>
            <a:ext cx="58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什么老师能很快说出缺少的项呢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能发现其中的奥秘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9"/>
          <p:cNvSpPr/>
          <p:nvPr/>
        </p:nvSpPr>
        <p:spPr>
          <a:xfrm>
            <a:off x="3203640" y="0"/>
            <a:ext cx="2736720" cy="1125360"/>
          </a:xfrm>
          <a:prstGeom prst="cloudCallout">
            <a:avLst>
              <a:gd name="adj1" fmla="val -91648"/>
              <a:gd name="adj2" fmla="val 29268"/>
            </a:avLst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4254120" y="4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动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WordArt 4"/>
          <p:cNvSpPr txBox="1"/>
          <p:nvPr/>
        </p:nvSpPr>
        <p:spPr>
          <a:xfrm>
            <a:off x="3635280" y="573120"/>
            <a:ext cx="165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补项游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0" name="Picture 12" descr="2"/>
          <p:cNvPicPr/>
          <p:nvPr/>
        </p:nvPicPr>
        <p:blipFill>
          <a:blip r:embed="rId1"/>
          <a:stretch/>
        </p:blipFill>
        <p:spPr>
          <a:xfrm>
            <a:off x="684360" y="260280"/>
            <a:ext cx="12380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5"/>
          <p:cNvSpPr/>
          <p:nvPr/>
        </p:nvSpPr>
        <p:spPr>
          <a:xfrm>
            <a:off x="755640" y="256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说教学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179280" y="32097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义务教育课 程标准实验教科书（青岛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六年级下册第三单元第一课时比例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WordArt 7"/>
          <p:cNvSpPr txBox="1"/>
          <p:nvPr/>
        </p:nvSpPr>
        <p:spPr>
          <a:xfrm>
            <a:off x="250920" y="765000"/>
            <a:ext cx="431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一、说教材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WordArt 5" descr=""/>
          <p:cNvPicPr/>
          <p:nvPr/>
        </p:nvPicPr>
        <p:blipFill>
          <a:blip r:embed="rId1"/>
          <a:stretch/>
        </p:blipFill>
        <p:spPr>
          <a:xfrm>
            <a:off x="1682640" y="536400"/>
            <a:ext cx="5052960" cy="13226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2"/>
          <p:cNvPicPr/>
          <p:nvPr/>
        </p:nvPicPr>
        <p:blipFill>
          <a:blip r:embed="rId2"/>
          <a:stretch/>
        </p:blipFill>
        <p:spPr>
          <a:xfrm>
            <a:off x="179280" y="227160"/>
            <a:ext cx="1238400" cy="183348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8"/>
          <p:cNvSpPr/>
          <p:nvPr/>
        </p:nvSpPr>
        <p:spPr>
          <a:xfrm>
            <a:off x="2463840" y="2100240"/>
            <a:ext cx="441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这节课你学到了什么知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两个比能不能组成比例，可以用哪些方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9"/>
          <p:cNvSpPr/>
          <p:nvPr/>
        </p:nvSpPr>
        <p:spPr>
          <a:xfrm>
            <a:off x="1114560" y="2276640"/>
            <a:ext cx="936360" cy="1368360"/>
          </a:xfrm>
          <a:prstGeom prst="cloudCallout">
            <a:avLst>
              <a:gd name="adj1" fmla="val -38476"/>
              <a:gd name="adj2" fmla="val -107425"/>
            </a:avLst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学会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AutoShape 6"/>
          <p:cNvSpPr/>
          <p:nvPr/>
        </p:nvSpPr>
        <p:spPr>
          <a:xfrm>
            <a:off x="479520" y="3130560"/>
            <a:ext cx="333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5"/>
          <p:cNvSpPr/>
          <p:nvPr/>
        </p:nvSpPr>
        <p:spPr>
          <a:xfrm>
            <a:off x="479520" y="3887640"/>
            <a:ext cx="390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250920" y="2852640"/>
            <a:ext cx="85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根据 </a:t>
            </a:r>
            <a:r>
              <a:rPr b="1" lang="en-US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  ×  b   =   c × d ,</a:t>
            </a:r>
            <a:r>
              <a:rPr b="1" lang="zh-CN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你能组成几个不同的比例来</a:t>
            </a:r>
            <a:r>
              <a:rPr b="1" lang="en-US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?  </a:t>
            </a:r>
            <a:r>
              <a:rPr b="1" lang="zh-CN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以小组为单位进行交流</a:t>
            </a:r>
            <a:r>
              <a:rPr b="1" lang="en-US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看哪个小组组成的比例最多</a:t>
            </a:r>
            <a:r>
              <a:rPr b="1" lang="en-US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2" descr="2"/>
          <p:cNvPicPr/>
          <p:nvPr/>
        </p:nvPicPr>
        <p:blipFill>
          <a:blip r:embed="rId1"/>
          <a:stretch/>
        </p:blipFill>
        <p:spPr>
          <a:xfrm>
            <a:off x="0" y="404640"/>
            <a:ext cx="1238400" cy="1833840"/>
          </a:xfrm>
          <a:prstGeom prst="rect">
            <a:avLst/>
          </a:prstGeom>
          <a:ln w="0">
            <a:noFill/>
          </a:ln>
        </p:spPr>
      </p:pic>
      <p:pic>
        <p:nvPicPr>
          <p:cNvPr id="669" name="WordArt 13" descr=""/>
          <p:cNvPicPr/>
          <p:nvPr/>
        </p:nvPicPr>
        <p:blipFill>
          <a:blip r:embed="rId2"/>
          <a:stretch/>
        </p:blipFill>
        <p:spPr>
          <a:xfrm>
            <a:off x="1536840" y="895320"/>
            <a:ext cx="6070320" cy="11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2411280" y="170028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比例的意义和基本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539640" y="321300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2=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5=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4"/>
          <p:cNvSpPr/>
          <p:nvPr/>
        </p:nvSpPr>
        <p:spPr>
          <a:xfrm>
            <a:off x="2771640" y="3357720"/>
            <a:ext cx="71640" cy="1008000"/>
          </a:xfrm>
          <a:custGeom>
            <a:avLst/>
            <a:gdLst>
              <a:gd name="textAreaLeft" fmla="*/ 0 w 71640"/>
              <a:gd name="textAreaRight" fmla="*/ 25920 w 71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916360" y="3860640"/>
            <a:ext cx="28728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203640" y="37861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80:2 =200: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7"/>
          <p:cNvSpPr/>
          <p:nvPr/>
        </p:nvSpPr>
        <p:spPr>
          <a:xfrm>
            <a:off x="5796000" y="3860640"/>
            <a:ext cx="28872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6588000" y="3357720"/>
            <a:ext cx="21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80×5=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010"/>
                </a:solidFill>
                <a:latin typeface="Arial"/>
              </a:rPr>
              <a:t>200×2=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324000" y="48099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两个比相等的式子，叫做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0"/>
          <p:cNvSpPr/>
          <p:nvPr/>
        </p:nvSpPr>
        <p:spPr>
          <a:xfrm>
            <a:off x="4654440" y="4724280"/>
            <a:ext cx="43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比例里，两个外项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积等于两个内项的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1"/>
          <p:cNvSpPr/>
          <p:nvPr/>
        </p:nvSpPr>
        <p:spPr>
          <a:xfrm flipH="1">
            <a:off x="2987640" y="4508640"/>
            <a:ext cx="1224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WordArt 12"/>
          <p:cNvSpPr txBox="1"/>
          <p:nvPr/>
        </p:nvSpPr>
        <p:spPr>
          <a:xfrm>
            <a:off x="324000" y="476280"/>
            <a:ext cx="4176720" cy="116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彩云"/>
              </a:rPr>
              <a:t>四、说板书设计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81" name="Freeform 13"/>
          <p:cNvSpPr/>
          <p:nvPr/>
        </p:nvSpPr>
        <p:spPr>
          <a:xfrm>
            <a:off x="3419640" y="4292640"/>
            <a:ext cx="1873080" cy="1443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14"/>
          <p:cNvGrpSpPr/>
          <p:nvPr/>
        </p:nvGrpSpPr>
        <p:grpSpPr>
          <a:xfrm>
            <a:off x="3565440" y="2824200"/>
            <a:ext cx="2158560" cy="1110960"/>
            <a:chOff x="3565440" y="2824200"/>
            <a:chExt cx="2158560" cy="1110960"/>
          </a:xfrm>
        </p:grpSpPr>
        <p:sp>
          <p:nvSpPr>
            <p:cNvPr id="683" name="Text Box 15"/>
            <p:cNvSpPr/>
            <p:nvPr/>
          </p:nvSpPr>
          <p:spPr>
            <a:xfrm>
              <a:off x="3565440" y="283860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16"/>
            <p:cNvSpPr/>
            <p:nvPr/>
          </p:nvSpPr>
          <p:spPr>
            <a:xfrm>
              <a:off x="3638160" y="3343320"/>
              <a:ext cx="72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7"/>
            <p:cNvSpPr/>
            <p:nvPr/>
          </p:nvSpPr>
          <p:spPr>
            <a:xfrm>
              <a:off x="4140000" y="2982960"/>
              <a:ext cx="6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8"/>
            <p:cNvSpPr/>
            <p:nvPr/>
          </p:nvSpPr>
          <p:spPr>
            <a:xfrm>
              <a:off x="4716000" y="282420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9"/>
            <p:cNvSpPr/>
            <p:nvPr/>
          </p:nvSpPr>
          <p:spPr>
            <a:xfrm>
              <a:off x="4932000" y="341460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20"/>
            <p:cNvSpPr/>
            <p:nvPr/>
          </p:nvSpPr>
          <p:spPr>
            <a:xfrm>
              <a:off x="3565440" y="3343320"/>
              <a:ext cx="574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21"/>
            <p:cNvSpPr/>
            <p:nvPr/>
          </p:nvSpPr>
          <p:spPr>
            <a:xfrm>
              <a:off x="4716000" y="3343320"/>
              <a:ext cx="718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AutoShape 22"/>
          <p:cNvSpPr/>
          <p:nvPr/>
        </p:nvSpPr>
        <p:spPr>
          <a:xfrm>
            <a:off x="5580000" y="3284640"/>
            <a:ext cx="71640" cy="1152360"/>
          </a:xfrm>
          <a:custGeom>
            <a:avLst/>
            <a:gdLst>
              <a:gd name="textAreaLeft" fmla="*/ 0 w 71640"/>
              <a:gd name="textAreaRight" fmla="*/ 25920 w 716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3"/>
          <p:cNvSpPr/>
          <p:nvPr/>
        </p:nvSpPr>
        <p:spPr>
          <a:xfrm>
            <a:off x="6227640" y="3573360"/>
            <a:ext cx="287640" cy="792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5905"/>
                </a:lnTo>
                <a:cubicBezTo>
                  <a:pt x="10800" y="6805"/>
                  <a:pt x="5400" y="7705"/>
                  <a:pt x="0" y="7705"/>
                </a:cubicBezTo>
                <a:cubicBezTo>
                  <a:pt x="5400" y="7705"/>
                  <a:pt x="10800" y="8605"/>
                  <a:pt x="10800" y="95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4"/>
          <p:cNvSpPr/>
          <p:nvPr/>
        </p:nvSpPr>
        <p:spPr>
          <a:xfrm>
            <a:off x="3203640" y="3284640"/>
            <a:ext cx="73080" cy="1081080"/>
          </a:xfrm>
          <a:custGeom>
            <a:avLst/>
            <a:gdLst>
              <a:gd name="textAreaLeft" fmla="*/ 46800 w 73080"/>
              <a:gd name="textAreaRight" fmla="*/ 73440 w 73080"/>
              <a:gd name="textAreaTop" fmla="*/ 28440 h 1081080"/>
              <a:gd name="textAreaBottom" fmla="*/ 105264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8"/>
                </a:cubicBezTo>
                <a:lnTo>
                  <a:pt x="10800" y="10013"/>
                </a:lnTo>
                <a:cubicBezTo>
                  <a:pt x="10800" y="10922"/>
                  <a:pt x="5400" y="11831"/>
                  <a:pt x="0" y="11831"/>
                </a:cubicBezTo>
                <a:cubicBezTo>
                  <a:pt x="5400" y="11831"/>
                  <a:pt x="10800" y="12740"/>
                  <a:pt x="10800" y="13649"/>
                </a:cubicBezTo>
                <a:lnTo>
                  <a:pt x="10800" y="19782"/>
                </a:lnTo>
                <a:cubicBezTo>
                  <a:pt x="10800" y="2069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AutoShape 6"/>
          <p:cNvSpPr/>
          <p:nvPr/>
        </p:nvSpPr>
        <p:spPr>
          <a:xfrm rot="498000">
            <a:off x="1547280" y="1267920"/>
            <a:ext cx="5616720" cy="3384720"/>
          </a:xfrm>
          <a:prstGeom prst="cloudCallout">
            <a:avLst>
              <a:gd name="adj1" fmla="val -29055"/>
              <a:gd name="adj2" fmla="val 34708"/>
            </a:avLst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WordArt 5"/>
          <p:cNvSpPr txBox="1"/>
          <p:nvPr/>
        </p:nvSpPr>
        <p:spPr>
          <a:xfrm>
            <a:off x="2036880" y="2421000"/>
            <a:ext cx="44798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彩云"/>
              </a:rPr>
              <a:t>五、说学习评价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彩云"/>
              </a:rPr>
              <a:t>       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4"/>
          <p:cNvSpPr txBox="1"/>
          <p:nvPr/>
        </p:nvSpPr>
        <p:spPr>
          <a:xfrm>
            <a:off x="250920" y="1125360"/>
            <a:ext cx="431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一、说教材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684360" y="2852640"/>
            <a:ext cx="73436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教材的地位及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部分内容是在学生学过比的知识的基础上进行教学的，是前面“比的知识”的深化，是后面学习解比例知识的基础。它起着承前启后的作用，是进行正、反比例教学的关键，是利用比例知识解决实际问题的先决条件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484360" y="292428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826920" y="4005360"/>
            <a:ext cx="28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6"/>
          <p:cNvSpPr/>
          <p:nvPr/>
        </p:nvSpPr>
        <p:spPr>
          <a:xfrm>
            <a:off x="684360" y="2268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知识与能力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]:</a:t>
            </a:r>
            <a:r>
              <a:rPr b="0" lang="zh-CN" sz="2400" spc="-1" strike="noStrike">
                <a:solidFill>
                  <a:srgbClr val="201763"/>
                </a:solidFill>
                <a:latin typeface="Arial"/>
              </a:rPr>
              <a:t>在具体情境中，理解比例的意义和基本性质，会应用比例的基本性质正确判断两个比能否组成比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611280" y="3573360"/>
            <a:ext cx="813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过程与方法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]:</a:t>
            </a:r>
            <a:r>
              <a:rPr b="0" lang="zh-CN" sz="2400" spc="-1" strike="noStrike">
                <a:solidFill>
                  <a:srgbClr val="201763"/>
                </a:solidFill>
                <a:latin typeface="Arial"/>
              </a:rPr>
              <a:t>在探索比例的意义和基本性质的过程中进一步发展合情推理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647640" y="4778280"/>
            <a:ext cx="8317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情感、态度与价值观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]:</a:t>
            </a:r>
            <a:r>
              <a:rPr b="0" lang="zh-CN" sz="2400" spc="-1" strike="noStrike">
                <a:solidFill>
                  <a:srgbClr val="201763"/>
                </a:solidFill>
                <a:latin typeface="Arial"/>
              </a:rPr>
              <a:t>通过自主学习，让学生经历探究的过程，体验成功的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1332000" y="98100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2489760" y="144288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、教学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12"/>
          <p:cNvSpPr txBox="1"/>
          <p:nvPr/>
        </p:nvSpPr>
        <p:spPr>
          <a:xfrm>
            <a:off x="250920" y="476280"/>
            <a:ext cx="395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一、说教材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5"/>
          <p:cNvSpPr/>
          <p:nvPr/>
        </p:nvSpPr>
        <p:spPr>
          <a:xfrm>
            <a:off x="757080" y="1371600"/>
            <a:ext cx="53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教学重、难点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: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755640" y="48276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611280" y="2693880"/>
            <a:ext cx="8497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重点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使学生理解比例的意义和基本性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学会用两种方法判断 两个比 能否组成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755640" y="4508640"/>
            <a:ext cx="76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难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应用比例的意义和基本性质判断两个比能否成比例，并能正确的组成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WordArt 9"/>
          <p:cNvSpPr txBox="1"/>
          <p:nvPr/>
        </p:nvSpPr>
        <p:spPr>
          <a:xfrm>
            <a:off x="250920" y="260280"/>
            <a:ext cx="395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一、说教材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5"/>
          <p:cNvSpPr/>
          <p:nvPr/>
        </p:nvSpPr>
        <p:spPr>
          <a:xfrm>
            <a:off x="1763640" y="220500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1116000" y="2598840"/>
            <a:ext cx="6840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教学准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多媒体课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WordArt 7"/>
          <p:cNvSpPr txBox="1"/>
          <p:nvPr/>
        </p:nvSpPr>
        <p:spPr>
          <a:xfrm>
            <a:off x="250920" y="907920"/>
            <a:ext cx="431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一、说教材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4"/>
          <p:cNvSpPr/>
          <p:nvPr/>
        </p:nvSpPr>
        <p:spPr>
          <a:xfrm>
            <a:off x="826920" y="2585880"/>
            <a:ext cx="626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引导发现、自主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计算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-----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比较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概括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WordArt 6"/>
          <p:cNvSpPr txBox="1"/>
          <p:nvPr/>
        </p:nvSpPr>
        <p:spPr>
          <a:xfrm>
            <a:off x="1908000" y="692280"/>
            <a:ext cx="496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二、说教法、学法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5"/>
          <p:cNvSpPr/>
          <p:nvPr/>
        </p:nvSpPr>
        <p:spPr>
          <a:xfrm>
            <a:off x="1330200" y="1916280"/>
            <a:ext cx="71294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整体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复习导入        引发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创设情境        激发兴趣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自主探究        获取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实践应用        巩固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总结反思        深化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6"/>
          <p:cNvSpPr txBox="1"/>
          <p:nvPr/>
        </p:nvSpPr>
        <p:spPr>
          <a:xfrm>
            <a:off x="3274920" y="333360"/>
            <a:ext cx="532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彩云"/>
              </a:rPr>
              <a:t>三、说教学流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0:43:42Z</dcterms:created>
  <dc:creator>微软用户</dc:creator>
  <dc:description/>
  <dc:language>en-US</dc:language>
  <cp:lastModifiedBy>dreamsummit</cp:lastModifiedBy>
  <dcterms:modified xsi:type="dcterms:W3CDTF">2015-02-09T06:34:16Z</dcterms:modified>
  <cp:revision>96</cp:revision>
  <dc:subject/>
  <dc:title>幻灯片 1</dc:title>
</cp:coreProperties>
</file>